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gif" ContentType="image/gif"/>
  <Override PartName="/ppt/media/image14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20.jpeg" ContentType="image/jpeg"/>
  <Override PartName="/ppt/media/image17.png" ContentType="image/png"/>
  <Override PartName="/ppt/media/image16.jpeg" ContentType="image/jpeg"/>
  <Override PartName="/ppt/media/image15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18.gif" ContentType="image/gif"/>
  <Override PartName="/ppt/media/image13.jpeg" ContentType="image/jpeg"/>
  <Override PartName="/ppt/media/image19.jpeg" ContentType="image/jpeg"/>
  <Override PartName="/ppt/media/image6.wmf" ContentType="image/x-wmf"/>
  <Override PartName="/ppt/media/image1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013A-D7F9-49CF-89CD-7EF10EC7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F3C2-0132-407A-A41F-5041681C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D3FD-57AC-473D-AA54-257BA59A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49EE-1603-44F8-89CD-BD7FB3AAA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F869-5460-4906-924A-6666E2DA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C28D-A48A-4D2E-8909-83AD1127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1E05-BC72-462B-A2E0-7020B37A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E523-7761-4C9E-9389-09320C43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4CFC-F9CD-43F5-BC2A-16A31179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A067-270B-4E1B-A61E-54275A26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87FC-6336-4CCB-A3DC-B6FDE1B4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0D19-F1C2-4746-8B4A-3BC9C8CD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FE96-39DF-4D11-A20B-F5AEDCB3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C957-E06F-4A0C-8F48-5A68FAD5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99C6-1437-482D-81CA-38F57944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4F1E-9796-4DCB-B373-9A364308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D96E-9590-4007-9719-0B2351271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94662-F397-4E78-B04D-A624FA11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7641B-9566-42D4-A85E-DC04C6B3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E6C9F-070D-46BB-96D9-FBCF7731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86381-D653-4714-A94B-B33B279E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C4297-047D-4378-A3D5-EA305127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8D34-38E7-4EE2-BFBF-B242B520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15A47-CE18-49F8-8FA1-8B9A5D60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96E7B-EBCC-4C93-85F9-A30E54AA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80604-31D2-48B1-8731-8F96CE9C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2DB1F-C391-47CA-8B26-17CAF058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2241E-A5F2-4C51-87C1-FC570A6F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3AD8C-AAEC-4775-A0EA-2898E7AA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FFB69-F70B-439D-9790-C82577989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9D24B-C478-4F87-A5E5-660137AA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EAD04-0AFB-409C-9D5F-10322B22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C0C96-5B15-485C-AF28-3572896F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242D-AB1F-4B11-8414-7B3C4FC8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32611-3F53-4854-BA6D-3C0354DA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68067-3379-4FDD-91A4-509612E5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D81C4-3C17-443C-98E9-AD52EC0A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892A1-5E48-4432-BF73-A368FEF9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9FA46-BD0E-4289-92E7-50440725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EFF38-56F3-46CA-BC17-218110CD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08531-E6DA-44B1-839D-340F2B06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14D65-C0FD-452B-A656-251328E42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3D545-FBF9-4A16-83AC-4DE6D432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E80E0-D613-4490-BCE3-0B606CA4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50FF-CEE0-4E40-8AA9-48FA9CE8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2337D-7E67-465F-95BF-FE10FBFD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2EC7C-75C1-454F-97DB-65B60167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4B392-D9C8-442A-A2BB-AF398E4F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A04C0-0E69-484D-80CB-9DB9B9E3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57370-A94F-403B-B49D-B3FDE109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1CE63-7C18-49DB-B830-40B57D17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BEA80-4DF3-4DFF-B29D-02F98792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CFF4B-8923-4540-A159-BD3B9645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2315C-79A5-40B4-A30F-BA438A1B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8BC7A-9704-40F0-820A-4246C6448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AD58-E759-4A82-9A0E-8B07EB8E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0A6C1-406F-4899-87B6-7CFB7A32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501BE-749A-4CF5-8D66-20109B73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CA6CA-C456-4A95-BC5C-5FBD7DC8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2B68A-82CF-4175-9FE0-6B8A0EB8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76548-487B-44B5-8387-2232791C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B9ED6-F073-4F1D-BCFC-533BF7D8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1543E-A403-4676-93C3-F04A6AA1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0C412-62E3-40D0-AEAA-7E7BBBB6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D699C-4097-4D6A-AE89-4F7E7B97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D4AE6-8B27-4A89-AF0A-D040DBEA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BF47-04D8-40D5-9CC6-26087ADC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8907B-B40E-4E56-A9CE-1EDA1C1E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6DC83-1277-4E8B-A6DC-CA6EEF34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DE65B-DB94-4336-BA09-AD748523B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DD0EA-DAB5-4C89-BE56-D5A21EC80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38CF1-0626-4366-B06C-DA6FB4E6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34074-67B9-413D-9F27-4DD034EE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03181-F80B-421C-B0D4-1A132C8C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ECB0D-B6FA-434A-88CF-862AA487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B36D6-6655-4544-A9FE-146F66EE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452DF-E746-4617-B8C8-2094E547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7687-910A-49DB-96D0-EB601854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1512F-81D5-4CED-B219-7CED834B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086A5-C386-4977-B8EA-2B4B6172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ED4B9-166E-43CD-A8E2-E151114A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2D965-A852-42CC-BAEF-960CB441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1C093-36DE-4C99-9544-F6E11120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DCC0-76F6-4C6D-800F-450BFCC4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B723-CAC4-495D-A73D-333099CF92D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4311-3B92-46A7-AABB-BC93DAECB15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70F8-36E9-49A6-BF5C-414C869BCDC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62C4-7530-40AA-8C68-15E5DD826CC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8527-856C-4428-8F77-281EBEA85E6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CF95-AD1D-4750-A809-1D5DEB2D119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9D73-71C3-4468-B26B-E398476AA82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a8a14"/>
                </a:solidFill>
                <a:latin typeface="Corbel"/>
              </a:rPr>
              <a:t>Внеурочная деятельность </a:t>
            </a:r>
            <a:r>
              <a:rPr b="1" i="1" lang="ru-RU" sz="3600" spc="-1" strike="noStrike">
                <a:solidFill>
                  <a:srgbClr val="00b050"/>
                </a:solidFill>
                <a:latin typeface="Corbel"/>
              </a:rPr>
              <a:t>«Узоры из цифр» </a:t>
            </a:r>
            <a:r>
              <a:rPr b="1" i="1" lang="ru-RU" sz="3600" spc="-1" strike="noStrike">
                <a:solidFill>
                  <a:srgbClr val="aa8a14"/>
                </a:solidFill>
                <a:latin typeface="Corbel"/>
              </a:rPr>
              <a:t>по </a:t>
            </a:r>
            <a:br>
              <a:rPr sz="3600"/>
            </a:br>
            <a:r>
              <a:rPr b="1" i="1" lang="ru-RU" sz="3600" spc="-1" strike="noStrike">
                <a:solidFill>
                  <a:srgbClr val="aa8a14"/>
                </a:solidFill>
                <a:latin typeface="Corbel"/>
              </a:rPr>
              <a:t>математике и дизайну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395280" y="3429000"/>
            <a:ext cx="3456000" cy="2952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rbel"/>
              </a:rPr>
              <a:t>Презентацию подготовила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Шнайдер Каролина Николаевн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C:\Users\Каролина\Desktop\karandash3.png"/>
          <p:cNvPicPr/>
          <p:nvPr/>
        </p:nvPicPr>
        <p:blipFill>
          <a:blip r:embed="rId1"/>
          <a:stretch/>
        </p:blipFill>
        <p:spPr>
          <a:xfrm>
            <a:off x="6012000" y="1341360"/>
            <a:ext cx="22795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6" descr="плющ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WordArt 7"/>
          <p:cNvSpPr txBox="1"/>
          <p:nvPr/>
        </p:nvSpPr>
        <p:spPr>
          <a:xfrm>
            <a:off x="2700360" y="692280"/>
            <a:ext cx="3959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гад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5" name="Rectangle 9"/>
          <p:cNvSpPr/>
          <p:nvPr/>
        </p:nvSpPr>
        <p:spPr>
          <a:xfrm>
            <a:off x="1403280" y="2134080"/>
            <a:ext cx="6481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mic Sans MS"/>
              </a:rPr>
              <a:t>Проживают в трудной книжке хитроумные братиш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mic Sans MS"/>
              </a:rPr>
              <a:t>Десять их, но братья эти сосчитают все на све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Comic Sans MS"/>
              </a:rPr>
              <a:t>Когда и как появились цифры?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7" name="Picture 8" descr=""/>
          <p:cNvPicPr/>
          <p:nvPr/>
        </p:nvPicPr>
        <p:blipFill>
          <a:blip r:embed="rId1"/>
          <a:stretch/>
        </p:blipFill>
        <p:spPr>
          <a:xfrm>
            <a:off x="6227640" y="907920"/>
            <a:ext cx="2590920" cy="187344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328" name="TextBox 6"/>
          <p:cNvSpPr/>
          <p:nvPr/>
        </p:nvSpPr>
        <p:spPr>
          <a:xfrm>
            <a:off x="971640" y="1557360"/>
            <a:ext cx="51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Сначала люди научились узнавать число предметов или животных, делая особые зарубки на счетных палочках, вести сч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1" descr=""/>
          <p:cNvPicPr/>
          <p:nvPr/>
        </p:nvPicPr>
        <p:blipFill>
          <a:blip r:embed="rId2"/>
          <a:stretch/>
        </p:blipFill>
        <p:spPr>
          <a:xfrm>
            <a:off x="395280" y="4292640"/>
            <a:ext cx="3024360" cy="192096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330" name="TextBox 8"/>
          <p:cNvSpPr/>
          <p:nvPr/>
        </p:nvSpPr>
        <p:spPr>
          <a:xfrm>
            <a:off x="3564000" y="4221000"/>
            <a:ext cx="48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Перуанские инки вели счет животных и урожая, завязывая узелки на ремешках или шнурках. Эти узелки назывались кип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260280"/>
            <a:ext cx="7499520" cy="598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После счета по зарубкам люди изобрели особые символы, названные цифрами. Они стали применяться для обозначения различных количеств каких-либо предметов. Разные цивилизации создавали свои собственные цифры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Picture 7" descr=""/>
          <p:cNvPicPr/>
          <p:nvPr/>
        </p:nvPicPr>
        <p:blipFill>
          <a:blip r:embed="rId1"/>
          <a:stretch/>
        </p:blipFill>
        <p:spPr>
          <a:xfrm>
            <a:off x="1116000" y="3357720"/>
            <a:ext cx="7705800" cy="3311280"/>
          </a:xfrm>
          <a:prstGeom prst="rect">
            <a:avLst/>
          </a:prstGeom>
          <a:ln w="38160">
            <a:solidFill>
              <a:srgbClr val="ff66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3848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rbel"/>
              </a:rPr>
              <a:t>Используя любые крупные цифры, или уже приготовленные узоры мы их вставляем в окошко (круглое, квадратное, треугольное, прямоугольное) и предлагаем узнать узор какой цифры спрятался 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orbel"/>
              </a:rPr>
              <a:t>Если ребенок затрудняется, мы спросим у него , а можно ли предпринять какие-то действия для того чтобы узнать данную цифру.(Передвинуть окошко в право, в лево и т.д.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rbel"/>
              </a:rPr>
              <a:t>В данной игре ребенок не только развивает пространственное мышление и внимание, но выстраивает алгоритм последующих действий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Picture 7" descr="DSC00699"/>
          <p:cNvPicPr/>
          <p:nvPr/>
        </p:nvPicPr>
        <p:blipFill>
          <a:blip r:embed="rId1"/>
          <a:stretch/>
        </p:blipFill>
        <p:spPr>
          <a:xfrm>
            <a:off x="4724280" y="1600200"/>
            <a:ext cx="3886200" cy="21859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2" descr=""/>
          <p:cNvPicPr/>
          <p:nvPr/>
        </p:nvPicPr>
        <p:blipFill>
          <a:blip r:embed="rId2"/>
          <a:stretch/>
        </p:blipFill>
        <p:spPr>
          <a:xfrm>
            <a:off x="395280" y="0"/>
            <a:ext cx="1219320" cy="961920"/>
          </a:xfrm>
          <a:prstGeom prst="rect">
            <a:avLst/>
          </a:prstGeom>
          <a:ln w="0">
            <a:noFill/>
          </a:ln>
        </p:spPr>
      </p:pic>
      <p:sp>
        <p:nvSpPr>
          <p:cNvPr id="338" name="WordArt 9"/>
          <p:cNvSpPr txBox="1"/>
          <p:nvPr/>
        </p:nvSpPr>
        <p:spPr>
          <a:xfrm>
            <a:off x="0" y="765000"/>
            <a:ext cx="835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latin typeface="Impact"/>
              </a:rPr>
              <a:t>Какая цифра выглянула в окошко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f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0" name="Picture 8" descr="DSC00697"/>
          <p:cNvPicPr/>
          <p:nvPr/>
        </p:nvPicPr>
        <p:blipFill>
          <a:blip r:embed="rId1"/>
          <a:stretch/>
        </p:blipFill>
        <p:spPr>
          <a:xfrm>
            <a:off x="611280" y="2205000"/>
            <a:ext cx="4038480" cy="20890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140440" y="2017440"/>
            <a:ext cx="3814560" cy="52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rbel"/>
              </a:rPr>
              <a:t>Увлекательным задание могут стать пространственные загадки.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rbel"/>
              </a:rPr>
              <a:t>В каждом из узоров спрятана цифра. Дети должны не только увидеть ее, но и доказать, что это именно он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rbel"/>
              </a:rPr>
              <a:t>Аналогичные узоры дети выполняют самостоятельно, сложив лист бумаги по вертикали и горизонтали. На получившейся четверти листа нарисуйте контур цифры и вырежете. Разверните получившейся узор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rbel"/>
              </a:rPr>
              <a:t>Игра развивает пространственное  и образное мышление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rbel"/>
              </a:rPr>
              <a:t>В процессе выполнения узоров, дети наверняка сделают несколько открытий.(Любая цифра даст два и более вариантов узора.)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WordArt 7"/>
          <p:cNvSpPr txBox="1"/>
          <p:nvPr/>
        </p:nvSpPr>
        <p:spPr>
          <a:xfrm>
            <a:off x="684360" y="333360"/>
            <a:ext cx="8135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зоры из циф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3" name="Picture 9" descr="DSC00698"/>
          <p:cNvPicPr/>
          <p:nvPr/>
        </p:nvPicPr>
        <p:blipFill>
          <a:blip r:embed="rId2"/>
          <a:stretch/>
        </p:blipFill>
        <p:spPr>
          <a:xfrm>
            <a:off x="611280" y="4437000"/>
            <a:ext cx="40719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Заголовок 1" descr=""/>
          <p:cNvPicPr/>
          <p:nvPr/>
        </p:nvPicPr>
        <p:blipFill>
          <a:blip r:embed="rId1"/>
          <a:stretch/>
        </p:blipFill>
        <p:spPr>
          <a:xfrm>
            <a:off x="933480" y="208080"/>
            <a:ext cx="8015400" cy="14745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1182600" y="2017800"/>
            <a:ext cx="381024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orbel"/>
              </a:rPr>
              <a:t>Оборудовани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ртон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ожниц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ист белой бумаг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 хорошее настрое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Прямоугольник 4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5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4000" y="214200"/>
            <a:ext cx="8259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9" name="Picture 9" descr=""/>
          <p:cNvPicPr/>
          <p:nvPr/>
        </p:nvPicPr>
        <p:blipFill>
          <a:blip r:embed="rId1"/>
          <a:stretch/>
        </p:blipFill>
        <p:spPr>
          <a:xfrm>
            <a:off x="2625840" y="2532240"/>
            <a:ext cx="923760" cy="9522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rbel"/>
              </a:rPr>
              <a:t>Предлагаем вам собрать мазайку из цифр и отгадать из какой цифры она сложен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1" name="Picture 7" descr="DSC00700"/>
          <p:cNvPicPr/>
          <p:nvPr/>
        </p:nvPicPr>
        <p:blipFill>
          <a:blip r:embed="rId2"/>
          <a:stretch/>
        </p:blipFill>
        <p:spPr>
          <a:xfrm>
            <a:off x="1116000" y="2060640"/>
            <a:ext cx="3887640" cy="3995640"/>
          </a:xfrm>
          <a:prstGeom prst="rect">
            <a:avLst/>
          </a:prstGeom>
          <a:ln w="0">
            <a:noFill/>
          </a:ln>
        </p:spPr>
      </p:pic>
      <p:sp>
        <p:nvSpPr>
          <p:cNvPr id="352" name="WordArt 8"/>
          <p:cNvSpPr txBox="1"/>
          <p:nvPr/>
        </p:nvSpPr>
        <p:spPr>
          <a:xfrm>
            <a:off x="971640" y="404640"/>
            <a:ext cx="770400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бери мозаику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3" name="Rectangle 14"/>
          <p:cNvSpPr/>
          <p:nvPr/>
        </p:nvSpPr>
        <p:spPr>
          <a:xfrm>
            <a:off x="5145120" y="2017800"/>
            <a:ext cx="3809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a8a1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16" descr=""/>
          <p:cNvPicPr/>
          <p:nvPr/>
        </p:nvPicPr>
        <p:blipFill>
          <a:blip r:embed="rId3"/>
          <a:stretch/>
        </p:blipFill>
        <p:spPr>
          <a:xfrm>
            <a:off x="6804000" y="3789360"/>
            <a:ext cx="1943280" cy="223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6" name="Содержимое 2" descr=""/>
          <p:cNvPicPr/>
          <p:nvPr/>
        </p:nvPicPr>
        <p:blipFill>
          <a:blip r:embed="rId1"/>
          <a:stretch/>
        </p:blipFill>
        <p:spPr>
          <a:xfrm>
            <a:off x="920880" y="-122400"/>
            <a:ext cx="7778520" cy="23227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1182600" y="415116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9" name="Picture 4" descr="D:\KVA\Учебные презентации\презентации по русскому языку и грамоте\обучение чтению\пароходы и паровозы\medved188.gif"/>
          <p:cNvPicPr/>
          <p:nvPr/>
        </p:nvPicPr>
        <p:blipFill>
          <a:blip r:embed="rId2"/>
          <a:stretch/>
        </p:blipFill>
        <p:spPr>
          <a:xfrm>
            <a:off x="5452920" y="1125360"/>
            <a:ext cx="3691080" cy="44294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C:\Users\Каролина\Desktop\IMG_1404.JPG"/>
          <p:cNvPicPr/>
          <p:nvPr/>
        </p:nvPicPr>
        <p:blipFill>
          <a:blip r:embed="rId3"/>
          <a:stretch/>
        </p:blipFill>
        <p:spPr>
          <a:xfrm>
            <a:off x="611280" y="1628640"/>
            <a:ext cx="3600360" cy="30956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9" descr="C:\Users\Каролина\Desktop\IMG_1440.JPG"/>
          <p:cNvPicPr/>
          <p:nvPr/>
        </p:nvPicPr>
        <p:blipFill>
          <a:blip r:embed="rId4"/>
          <a:stretch/>
        </p:blipFill>
        <p:spPr>
          <a:xfrm>
            <a:off x="2700360" y="3357720"/>
            <a:ext cx="4248000" cy="30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6:53:47Z</dcterms:created>
  <dc:creator>OKSANA</dc:creator>
  <dc:description/>
  <dc:language>en-US</dc:language>
  <cp:lastModifiedBy>Каролина</cp:lastModifiedBy>
  <cp:lastPrinted>2017-12-14T12:44:37Z</cp:lastPrinted>
  <dcterms:modified xsi:type="dcterms:W3CDTF">2018-12-28T04:24:37Z</dcterms:modified>
  <cp:revision>24</cp:revision>
  <dc:subject/>
  <dc:title>Узоры из цифр</dc:title>
</cp:coreProperties>
</file>