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15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19.jpeg" ContentType="image/jpeg"/>
  <Override PartName="/ppt/media/image6.wmf" ContentType="image/x-wmf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043-5776-4DAA-A902-12BF056E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A63-06AC-4A8C-B4DF-99D53084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CC3-C1F4-4DF6-85A7-7BEDD155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E9E-B54D-412E-8422-0FA09D2E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0D17-474D-42B6-BDF5-A1A06CFB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4870-FDB9-4EF0-B68E-8CE49283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B164-0818-4076-B9B8-B5D6DFD9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730D-FE91-463A-BA29-04E7857A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2C1B-E723-4A8C-AA07-C63AD21F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142B-5918-47C1-B078-CF552F67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0731-6648-494A-A1A2-236A10F6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121-4C32-4528-9D56-8FF253DB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434A-3894-4BC5-8D29-14C06D17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E565-F11C-4EEC-898E-D6AD409A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F785-060E-4D15-B924-D9EA0715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15EB-6D8E-420A-A935-579A9BBC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5ADC-010B-428E-8CDD-49EE1F24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EE71-DB9B-458F-BCBB-EFFDCD17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A861-8883-475E-8A5D-0E5CB07F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4815-0181-4B31-A288-F91996C3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045C-48EA-4F8C-AA14-1568456F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29C7-EE0A-4204-AE65-1B8A014C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E3A-96DE-46EB-8CA8-53ED4587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0313-0802-477B-9D28-C1D5F6F4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D3F8-9384-4E94-809B-025272E7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D29C0-AA72-4C47-971E-A4B09C0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87FAE-0B54-4A78-8C43-4B2E9FE0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58721-7734-4AB6-B50B-A5E77656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4F89-B0E0-4580-AED3-A8DEBEE2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AE52C-ADFB-43DB-BAFD-1DAFC3E4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1566-672F-4499-89A1-641332B8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105E4-E0D0-42E8-AA0C-D3E44336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5314-4AE0-4037-8878-0FCFE93B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EBE-9150-4FAC-B1BD-1E82AD5A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BAF3-359C-4F85-BCDF-69E93DB9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322A-A811-4F9A-ACB5-82AACA33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BFE21-DFF9-4035-8A1A-4F3C52C5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CBF45-057B-4E08-AB4F-242050B1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86EE-07BC-4C64-BB5E-074E2ABD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DE16C-953F-4EEB-8B8D-232CB3B5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D6A32-887A-497B-AC6B-E2AB47AA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513F-CF66-4BAF-A0EF-1185DF52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4954A-5A2D-45F6-BF27-3C2A1F2E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4480C-1B85-4928-BBA6-29D94E43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272-81A2-4D98-8236-542C113A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8D36D-2C2C-48EE-99D3-E6984B36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BA5D-8859-4D0A-843A-B3355417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00D01-2D59-40B8-9164-8807C229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0271F-9A90-4D50-BEDB-E955FEFD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535B-E223-4AD1-B661-BF1D46F9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2F630-8702-4B77-A81A-A466EFC4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76212-0C50-429A-806F-BBE0398C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B2F8-2490-4FF3-B22B-65B35EE7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80762-B3D2-4849-8691-1F22B196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302FF-1B14-4503-86B7-A658A6AC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FC6-5519-4559-A5AA-5653C56F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B1AFE-BE78-41CA-94C6-E209D26A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C0ADC-0239-45D9-A8AF-F99E95B8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FCD5C-11C6-4AE7-B606-F079B7A7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3E7EF-F738-4ED7-964D-93EC4AA4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B9A01-2E15-4989-919F-339DF75A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FD3AA-2332-4AB2-A2D3-087E62C5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58A38-AD12-4A46-BC28-93297DAE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651F2-97CE-4061-8DDE-37ACF360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86760-524B-48B6-9332-D4DA15FC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618D0-6B69-4DA2-9984-8180C1FE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74F-B3BA-416C-9239-883C3605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4C4ED-235D-4771-9B44-906AAA6A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AC394-178E-459A-A6A2-ABD1B058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515AC-BCFC-4CE2-AC63-4A1DA17B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AA26F-DA5B-4B09-B030-E13F395C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32192-723C-437A-8D55-0771B66B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6BAE0-4E23-42F2-95F2-761E4FB2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8C908-56BA-43EF-8BE5-4F50B66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A40A9-4EB9-4232-85A3-1B93DD84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5A96C-4821-4432-B719-4DA19E28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E52FE-1F84-4F49-AEC0-A62057A7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E7E-86A6-4B48-BED8-EA0FA90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46E29-D4EA-460A-8F9A-93F8BB6B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F2A45-6B51-4135-B7BB-637FE151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A622F-FF24-4B8A-B564-7FC59205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B791C-0E26-40D4-8032-32FE3354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C9DB-9BF0-4968-AE8E-C9C7B04E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052-82E7-484B-8867-8DE2C01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660E-90E5-4523-9B02-EB420438F2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E383-C3A5-4CE9-A66C-36B63E040A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38C0-40FC-489C-83ED-50D6C060EB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127C-94C8-4D8D-BA4F-4BFC37E6E50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D98D-4EB1-49FB-BC66-9AFF3B8B17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A117-844E-4ABE-8545-44F7EA3AF10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110C-2770-42E7-8540-6E74E1D2DC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a8a14"/>
                </a:solidFill>
                <a:latin typeface="Corbel"/>
              </a:rPr>
              <a:t>Внеурочная деятельность </a:t>
            </a:r>
            <a:r>
              <a:rPr b="1" i="1" lang="ru-RU" sz="3600" spc="-1" strike="noStrike">
                <a:solidFill>
                  <a:srgbClr val="00b050"/>
                </a:solidFill>
                <a:latin typeface="Corbel"/>
              </a:rPr>
              <a:t>«Узоры из цифр» </a:t>
            </a:r>
            <a:r>
              <a:rPr b="1" i="1" lang="ru-RU" sz="3600" spc="-1" strike="noStrike">
                <a:solidFill>
                  <a:srgbClr val="aa8a14"/>
                </a:solidFill>
                <a:latin typeface="Corbel"/>
              </a:rPr>
              <a:t>по </a:t>
            </a:r>
            <a:br>
              <a:rPr sz="3600"/>
            </a:br>
            <a:r>
              <a:rPr b="1" i="1" lang="ru-RU" sz="3600" spc="-1" strike="noStrike">
                <a:solidFill>
                  <a:srgbClr val="aa8a14"/>
                </a:solidFill>
                <a:latin typeface="Corbel"/>
              </a:rPr>
              <a:t>математике и дизайну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95280" y="3429000"/>
            <a:ext cx="3456000" cy="295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Презентацию подготовил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Шнайдер Каролина Никола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C:\Users\Каролина\Desktop\karandash3.png"/>
          <p:cNvPicPr/>
          <p:nvPr/>
        </p:nvPicPr>
        <p:blipFill>
          <a:blip r:embed="rId1"/>
          <a:stretch/>
        </p:blipFill>
        <p:spPr>
          <a:xfrm>
            <a:off x="6012000" y="1341360"/>
            <a:ext cx="22795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плю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WordArt 7"/>
          <p:cNvSpPr txBox="1"/>
          <p:nvPr/>
        </p:nvSpPr>
        <p:spPr>
          <a:xfrm>
            <a:off x="2700360" y="692280"/>
            <a:ext cx="3959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гад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1403280" y="2134080"/>
            <a:ext cx="64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Проживают в трудной книжке хитроумные братиш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Десять их, но братья эти сосчитают все на св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Когда и как появились цифры?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8" descr=""/>
          <p:cNvPicPr/>
          <p:nvPr/>
        </p:nvPicPr>
        <p:blipFill>
          <a:blip r:embed="rId1"/>
          <a:stretch/>
        </p:blipFill>
        <p:spPr>
          <a:xfrm>
            <a:off x="6227640" y="907920"/>
            <a:ext cx="2590920" cy="18734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28" name="TextBox 6"/>
          <p:cNvSpPr/>
          <p:nvPr/>
        </p:nvSpPr>
        <p:spPr>
          <a:xfrm>
            <a:off x="971640" y="155736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Сначала люди научились узнавать число предметов или животных, делая особые зарубки на счетных палочках, вести с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1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3024360" cy="19209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30" name="TextBox 8"/>
          <p:cNvSpPr/>
          <p:nvPr/>
        </p:nvSpPr>
        <p:spPr>
          <a:xfrm>
            <a:off x="3564000" y="422100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Перуанские инки вели счет животных и урожая, завязывая узелки на ремешках или шнурках. Эти узелки назывались ки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После счета по зарубкам люди изобрели особые символы, названные цифрами. Они стали применяться для обозначения различных количеств каких-либо предметов. Разные цивилизации создавали свои собственные цифр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1116000" y="3357720"/>
            <a:ext cx="7705800" cy="3311280"/>
          </a:xfrm>
          <a:prstGeom prst="rect">
            <a:avLst/>
          </a:prstGeom>
          <a:ln w="38160">
            <a:solidFill>
              <a:srgbClr val="ff66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384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Используя любые крупные цифры, или уже приготовленные узоры мы их вставляем в окошко (круглое, квадратное, треугольное, прямоугольное) и предлагаем узнать узор какой цифры спрятался 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Если ребенок затрудняется, мы спросим у него , а можно ли предпринять какие-то действия для того чтобы узнать данную цифру.(Передвинуть окошко в право, в лево и т.д.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В данной игре ребенок не только развивает пространственное мышление и внимание, но выстраивает алгоритм последующих действ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7" descr="DSC00699"/>
          <p:cNvPicPr/>
          <p:nvPr/>
        </p:nvPicPr>
        <p:blipFill>
          <a:blip r:embed="rId1"/>
          <a:stretch/>
        </p:blipFill>
        <p:spPr>
          <a:xfrm>
            <a:off x="472428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"/>
          <p:cNvPicPr/>
          <p:nvPr/>
        </p:nvPicPr>
        <p:blipFill>
          <a:blip r:embed="rId2"/>
          <a:stretch/>
        </p:blipFill>
        <p:spPr>
          <a:xfrm>
            <a:off x="395280" y="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338" name="WordArt 9"/>
          <p:cNvSpPr txBox="1"/>
          <p:nvPr/>
        </p:nvSpPr>
        <p:spPr>
          <a:xfrm>
            <a:off x="0" y="765000"/>
            <a:ext cx="83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Impact"/>
              </a:rPr>
              <a:t>Какая цифра выглянула в окошк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8" descr="DSC00697"/>
          <p:cNvPicPr/>
          <p:nvPr/>
        </p:nvPicPr>
        <p:blipFill>
          <a:blip r:embed="rId1"/>
          <a:stretch/>
        </p:blipFill>
        <p:spPr>
          <a:xfrm>
            <a:off x="611280" y="2205000"/>
            <a:ext cx="4038480" cy="20890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140440" y="2017440"/>
            <a:ext cx="381456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rbel"/>
              </a:rPr>
              <a:t>Увлекательным задание могут стать пространственные загадки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rbel"/>
              </a:rPr>
              <a:t>В каждом из узоров спрятана цифра. Дети должны не только увидеть ее, но и доказать, что это именно он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rbel"/>
              </a:rPr>
              <a:t>Аналогичные узоры дети выполняют самостоятельно, сложив лист бумаги по вертикали и горизонтали. На получившейся четверти листа нарисуйте контур цифры и вырежете. Разверните получившейся узор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rbel"/>
              </a:rPr>
              <a:t>Игра развивает пространственное  и образное мышлени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rbel"/>
              </a:rPr>
              <a:t>В процессе выполнения узоров, дети наверняка сделают несколько открытий.(Любая цифра даст два и более вариантов узора.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WordArt 7"/>
          <p:cNvSpPr txBox="1"/>
          <p:nvPr/>
        </p:nvSpPr>
        <p:spPr>
          <a:xfrm>
            <a:off x="684360" y="333360"/>
            <a:ext cx="813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зоры из циф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3" name="Picture 9" descr="DSC00698"/>
          <p:cNvPicPr/>
          <p:nvPr/>
        </p:nvPicPr>
        <p:blipFill>
          <a:blip r:embed="rId2"/>
          <a:stretch/>
        </p:blipFill>
        <p:spPr>
          <a:xfrm>
            <a:off x="611280" y="4437000"/>
            <a:ext cx="40719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933480" y="208080"/>
            <a:ext cx="8015400" cy="1474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1182600" y="2017800"/>
            <a:ext cx="381024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orbel"/>
              </a:rPr>
              <a:t>Оборудова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рто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ст белой бумаг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хорошее настро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9" descr=""/>
          <p:cNvPicPr/>
          <p:nvPr/>
        </p:nvPicPr>
        <p:blipFill>
          <a:blip r:embed="rId1"/>
          <a:stretch/>
        </p:blipFill>
        <p:spPr>
          <a:xfrm>
            <a:off x="2625840" y="2532240"/>
            <a:ext cx="923760" cy="9522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Предлагаем вам собрать мазайку из цифр и отгадать из какой цифры она сложе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7" descr="DSC00700"/>
          <p:cNvPicPr/>
          <p:nvPr/>
        </p:nvPicPr>
        <p:blipFill>
          <a:blip r:embed="rId2"/>
          <a:stretch/>
        </p:blipFill>
        <p:spPr>
          <a:xfrm>
            <a:off x="1116000" y="2060640"/>
            <a:ext cx="3887640" cy="3995640"/>
          </a:xfrm>
          <a:prstGeom prst="rect">
            <a:avLst/>
          </a:prstGeom>
          <a:ln w="0">
            <a:noFill/>
          </a:ln>
        </p:spPr>
      </p:pic>
      <p:sp>
        <p:nvSpPr>
          <p:cNvPr id="352" name="WordArt 8"/>
          <p:cNvSpPr txBox="1"/>
          <p:nvPr/>
        </p:nvSpPr>
        <p:spPr>
          <a:xfrm>
            <a:off x="971640" y="404640"/>
            <a:ext cx="7704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бери мозаику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5145120" y="20178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a8a1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6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943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Содержимое 2" descr=""/>
          <p:cNvPicPr/>
          <p:nvPr/>
        </p:nvPicPr>
        <p:blipFill>
          <a:blip r:embed="rId1"/>
          <a:stretch/>
        </p:blipFill>
        <p:spPr>
          <a:xfrm>
            <a:off x="920880" y="-122400"/>
            <a:ext cx="7778520" cy="2322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182600" y="415116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4" descr="D:\KVA\Учебные презентации\презентации по русскому языку и грамоте\обучение чтению\пароходы и паровозы\medved188.gif"/>
          <p:cNvPicPr/>
          <p:nvPr/>
        </p:nvPicPr>
        <p:blipFill>
          <a:blip r:embed="rId2"/>
          <a:stretch/>
        </p:blipFill>
        <p:spPr>
          <a:xfrm>
            <a:off x="5452920" y="1125360"/>
            <a:ext cx="3691080" cy="4429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C:\Users\Каролина\Desktop\IMG_1404.JPG"/>
          <p:cNvPicPr/>
          <p:nvPr/>
        </p:nvPicPr>
        <p:blipFill>
          <a:blip r:embed="rId3"/>
          <a:stretch/>
        </p:blipFill>
        <p:spPr>
          <a:xfrm>
            <a:off x="611280" y="1628640"/>
            <a:ext cx="3600360" cy="3095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C:\Users\Каролина\Desktop\IMG_1440.JPG"/>
          <p:cNvPicPr/>
          <p:nvPr/>
        </p:nvPicPr>
        <p:blipFill>
          <a:blip r:embed="rId4"/>
          <a:stretch/>
        </p:blipFill>
        <p:spPr>
          <a:xfrm>
            <a:off x="2700360" y="3357720"/>
            <a:ext cx="424800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53:47Z</dcterms:created>
  <dc:creator>OKSANA</dc:creator>
  <dc:description/>
  <dc:language>en-US</dc:language>
  <cp:lastModifiedBy>Каролина</cp:lastModifiedBy>
  <cp:lastPrinted>2017-12-14T12:44:37Z</cp:lastPrinted>
  <dcterms:modified xsi:type="dcterms:W3CDTF">2018-12-28T04:24:37Z</dcterms:modified>
  <cp:revision>24</cp:revision>
  <dc:subject/>
  <dc:title>Узоры из цифр</dc:title>
</cp:coreProperties>
</file>