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367-BA03-4AC6-BB40-BA98AC3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797-84EB-434D-A13D-AE907F0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CE6-80DB-4E88-A543-43A11ECE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C92-8A76-4AA3-B2B6-54D4AC91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8EE-A966-49D9-9544-28C05C51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BECF-B0F5-4735-AC9E-DDD484E8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E2E8-71BC-4A7E-95D4-55BE4CA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5481-1063-483D-B986-E0BADB7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2656-68E3-4344-8AC0-87FDBA31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E52-5CF4-430F-BE63-D1A8D08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6F8B-4DBD-47A2-9633-CEC4923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0C3-6F32-4E26-A8E6-7A896298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821-2185-412F-A2BA-8869C73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A45B-5927-4145-99CA-6FA1515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E06A-1C47-44FC-812D-11CF055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E08A-91A0-484A-8D31-E08ADD02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B1EB-8D7F-4FA9-A9CC-6EB7DAD4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FC8-CEF7-4BB1-A736-C559D8A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00C-44A5-4EA5-A0F5-F2BC1BE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350-C091-4DA2-A12F-61242CA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B46-E5C2-47AA-9F29-E740751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1AC-3C63-4707-A3AF-6E67413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2DF-5797-432A-A74D-53D8C5E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DE9-6C80-4FCD-8220-45AD236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BAC-AF60-4C33-B295-F34D4733C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7B23-483B-47E0-9C45-4D8DAFC32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visit to Scotland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What do people travel for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Look at the blackboard, listen and repeat the words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ighl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owl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Glasg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dinbur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berd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ir Walter Sco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thens of the No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is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Cly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43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Facts about Scotland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ame: Scot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rea: about 79,000 sq.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Population: over 5 m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pital: Edin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Political system: a part of the UK; has its own 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anguages: English, Gae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Features: has its own international football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Answer the following questions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ere is Scotla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is its capi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other big cities in Scotland can you n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is the national symbol of the count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o is its patron sa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big river flows across Scotla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ich city has a big p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its old castl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beautiful large lak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its art festival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13:31:52Z</dcterms:created>
  <dc:creator>user</dc:creator>
  <dc:description/>
  <dc:language>en-US</dc:language>
  <cp:lastModifiedBy>user</cp:lastModifiedBy>
  <dcterms:modified xsi:type="dcterms:W3CDTF">2018-12-29T16:32:21Z</dcterms:modified>
  <cp:revision>4</cp:revision>
  <dc:subject/>
  <dc:title>Tourist Attractions in Scotland </dc:title>
</cp:coreProperties>
</file>