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9A9-33F6-4978-88D1-601C3CBB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A1E-5381-482B-A862-CD24F17D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260-A84F-49F7-B083-C632ADB5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D1C-10C7-44B9-8416-2F1C2F22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9C48-16CF-442D-A06C-23BE6209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9F39-3C36-4F53-BBA6-1748FB62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195E-D2D4-4CE2-B325-FBE541B1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C166-F5B6-4D03-8836-8351365C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FC98-0A5B-4091-8596-C6CD7D7D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D4E7-6D19-4DE4-983D-9086BAC9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F02C-D7FC-464C-B234-A7E73DD1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31E-5546-4189-9C92-DB5D5292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3AB9-E240-4DA5-8E32-AC6E5FEC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348A-EB9E-4E79-985B-DEFE4D66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997E-A1FC-4E83-BD18-14323511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1BF6-AE0E-437C-9258-DDF8F842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6E9D-1824-484F-8520-50EB6F63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4FE-33C6-4A36-8ABA-6A683F87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14A-F9AB-455B-8B4E-42AE21FC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5EA-2226-4E70-AF6E-F39F55CF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A38-6F56-4B65-B017-C9D56676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C94-149D-40F0-857C-288E995E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32C-B9CB-4EA5-A1CB-9E5EC556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C2FB-2ED4-4DEF-8AC8-B663385E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BC70-FA6E-40C7-8944-2056FD78F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8C6D-895B-4C2F-9959-7C9572C227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 visit to Scotland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ла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What do people travel for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Look at the blackboard, listen and repeat the words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ighla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Lowla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Glasg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Edinbur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Aberd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Sir Walter Scot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Athens of the Nor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Symb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Thist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the Cly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5435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Facts about Scotland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ame: Scot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Area: about 79,000 sq.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Population: over 5 ml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Capital: Edin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Political system: a part of the UK; has its own parli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Languages: English, Gae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Features: has its own international football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Answer the following questions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Where is Scotla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What is its capit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What other big cities in Scotland can you na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What is the national symbol of the count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Who is its patron sai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What big river flows across Scotla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Which city has a big po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Scotland is famous for its old castle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Scotland is famous for beautiful large lake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Scotland is famous for its art festival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13:31:52Z</dcterms:created>
  <dc:creator>user</dc:creator>
  <dc:description/>
  <dc:language>en-US</dc:language>
  <cp:lastModifiedBy>user</cp:lastModifiedBy>
  <dcterms:modified xsi:type="dcterms:W3CDTF">2018-12-29T16:32:21Z</dcterms:modified>
  <cp:revision>4</cp:revision>
  <dc:subject/>
  <dc:title>Tourist Attractions in Scotland </dc:title>
</cp:coreProperties>
</file>