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C6BE-5837-4424-ADD1-B3375DC496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633-30B6-4B93-A0CF-52AA383A31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257-6942-4D32-B748-C18D0968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E05-A7F7-4BA0-931A-BFA1C3D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CAE-32D8-4BEA-AD82-01AA1726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C74-8350-4A90-BB4B-BF2A6EF6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482-9F01-4B62-901F-654C83D8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9EF-1691-4EFD-8709-CB5816F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244-C652-40CC-9FD1-3E5B3D59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327-CF9D-40C7-BD3C-61AFE05E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BFF-0C5A-4136-A796-2246D9C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288-9D83-46A6-AEA2-57603AC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EB1-1AAD-43EA-B058-825525D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EC4-5048-4A13-919C-49938362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0A1-6163-472E-BC8B-E7181CF17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tstvogid.ru/?p=30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etstvogid.ru/?p=305" TargetMode="External"/><Relationship Id="rId2" Type="http://schemas.openxmlformats.org/officeDocument/2006/relationships/hyperlink" Target="http://detstvogid.ru/?p=42" TargetMode="External"/><Relationship Id="rId3" Type="http://schemas.openxmlformats.org/officeDocument/2006/relationships/hyperlink" Target="http://detstvogid.ru/?p=42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742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Актуальные 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аспекты речевого развития дошкольников в контекст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373720"/>
            <a:ext cx="7489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Галкина Мария Ивановна, старший воспита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МДОУ «Детский сад № 77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Энгельсского муниципального района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77853045c3ba"/>
          <p:cNvPicPr/>
          <p:nvPr/>
        </p:nvPicPr>
        <p:blipFill>
          <a:blip r:embed="rId1"/>
          <a:stretch/>
        </p:blipFill>
        <p:spPr>
          <a:xfrm>
            <a:off x="2916360" y="3213000"/>
            <a:ext cx="2581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спект четвертый: проблемы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зкий уровень  речевой культуры в обществе и сем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достаточный ресурс времени у родителей для общения с дет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мение отбирать содержание общения с ребенком-дошкольн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ирование языковой и коммуникативной компетент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4" descr=""/>
          <p:cNvPicPr/>
          <p:nvPr/>
        </p:nvPicPr>
        <p:blipFill>
          <a:blip r:embed="rId1"/>
          <a:stretch/>
        </p:blipFill>
        <p:spPr>
          <a:xfrm>
            <a:off x="457200" y="1536840"/>
            <a:ext cx="822960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1"/>
          <p:cNvSpPr/>
          <p:nvPr/>
        </p:nvSpPr>
        <p:spPr>
          <a:xfrm>
            <a:off x="1739880" y="620640"/>
            <a:ext cx="5715000" cy="929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СТВА РАЗВИТИЯ  КОММУН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569880" y="3905280"/>
            <a:ext cx="2189160" cy="1376280"/>
          </a:xfrm>
          <a:prstGeom prst="wedgeEllipseCallout">
            <a:avLst>
              <a:gd name="adj1" fmla="val 110606"/>
              <a:gd name="adj2" fmla="val -20977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Художествен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2759040" y="4946760"/>
            <a:ext cx="2836800" cy="1093680"/>
          </a:xfrm>
          <a:prstGeom prst="wedgeEllipseCallout">
            <a:avLst>
              <a:gd name="adj1" fmla="val 1240"/>
              <a:gd name="adj2" fmla="val -22868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зобразитель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кус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узыка, теа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6012000" y="4475160"/>
            <a:ext cx="2824200" cy="1012680"/>
          </a:xfrm>
          <a:prstGeom prst="wedgeEllipseCallout">
            <a:avLst>
              <a:gd name="adj1" fmla="val -59217"/>
              <a:gd name="adj2" fmla="val -2083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ОД п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569880" y="1647720"/>
            <a:ext cx="2340000" cy="1368360"/>
          </a:xfrm>
          <a:prstGeom prst="wedgeEllipseCallout">
            <a:avLst>
              <a:gd name="adj1" fmla="val 70337"/>
              <a:gd name="adj2" fmla="val -655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ние взросл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3618000" y="1998720"/>
            <a:ext cx="2449440" cy="847800"/>
          </a:xfrm>
          <a:prstGeom prst="wedgeEllipseCallout">
            <a:avLst>
              <a:gd name="adj1" fmla="val -11175"/>
              <a:gd name="adj2" fmla="val -9759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ультур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зыковая с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6300720" y="2251080"/>
            <a:ext cx="2568600" cy="1322280"/>
          </a:xfrm>
          <a:prstGeom prst="wedgeEllipseCallout">
            <a:avLst>
              <a:gd name="adj1" fmla="val -85421"/>
              <a:gd name="adj2" fmla="val -10379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ОД п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чев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6"/>
          <p:cNvSpPr/>
          <p:nvPr/>
        </p:nvSpPr>
        <p:spPr>
          <a:xfrm>
            <a:off x="5991120" y="4221000"/>
            <a:ext cx="3040200" cy="1130400"/>
          </a:xfrm>
          <a:prstGeom prst="wedgeRoundRectCallout">
            <a:avLst>
              <a:gd name="adj1" fmla="val -14000"/>
              <a:gd name="adj2" fmla="val -2977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нцип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ктивной язы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акт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059280" y="4437000"/>
            <a:ext cx="2665080" cy="1440000"/>
          </a:xfrm>
          <a:prstGeom prst="wedgeRoundRectCallout">
            <a:avLst>
              <a:gd name="adj1" fmla="val 31314"/>
              <a:gd name="adj2" fmla="val -21443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обог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рече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08000" y="4268880"/>
            <a:ext cx="2735280" cy="1392120"/>
          </a:xfrm>
          <a:prstGeom prst="wedgeRoundRectCallout">
            <a:avLst>
              <a:gd name="adj1" fmla="val 110921"/>
              <a:gd name="adj2" fmla="val -30327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взаимосвя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боты над различны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оронами реч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4360" y="285840"/>
            <a:ext cx="7935840" cy="563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РЕЧЕВ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08000" y="1700280"/>
            <a:ext cx="2592360" cy="1403280"/>
          </a:xfrm>
          <a:prstGeom prst="wedgeRoundRectCallout">
            <a:avLst>
              <a:gd name="adj1" fmla="val 92625"/>
              <a:gd name="adj2" fmla="val -910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взаимосвя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нсорного, речев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умственн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182760" y="1738440"/>
            <a:ext cx="2808360" cy="1263600"/>
          </a:xfrm>
          <a:prstGeom prst="wedgeRoundRectCallout">
            <a:avLst>
              <a:gd name="adj1" fmla="val 638"/>
              <a:gd name="adj2" fmla="val -8169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коммуникативн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ятельност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хода к развитию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372360" y="1811160"/>
            <a:ext cx="2771640" cy="1292400"/>
          </a:xfrm>
          <a:prstGeom prst="wedgeRoundRectCallout">
            <a:avLst>
              <a:gd name="adj1" fmla="val -89967"/>
              <a:gd name="adj2" fmla="val -8958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нцип формир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лементарного осозн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влений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Современные подходы к речевому развитию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384120" y="1590840"/>
            <a:ext cx="84060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ребования ФГОС 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600200"/>
            <a:ext cx="8362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оответствии с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ГОС дошкольного образова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а первом месте стоит задача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звит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ребенка, которая позволит сделать более эффективным процесс обучения и воспитания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ановка на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развитие — современная стратегия обучения родному языку детей дошкольного возраст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ключается в его направленност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е просто на формирование определенных знаний, умений и навыков, а на воспитание и развитие личности ребенка, его теоретического мышления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языковой интуиции и способносте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на овладение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культурой речевого общения и повед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чи образовательной области «Речевое развит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423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Аспект пер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714680"/>
            <a:ext cx="81439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роме традиционных речевых задач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я звуковой культуры речи, словарной работы, развития грамматического строя и связной речи)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собое внимание следует обратить на задач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иалогической реч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дошкольни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чевого творчест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я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нимания на слух тексто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азличных жанров детской литерату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чь рассматривается как средств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чевое развитие дошкольника включает такое понятие как умение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ести диалог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, т.е. умение общаться с окружающими люд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процессе общения реализуется основная и первоначальная функция речи – коммуникативна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оответствии с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ГОС дошкольного образовани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ирование и развитие диалогического общения является одной из актуальных задач личностного развития дошколь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нное направление педагогического взаимодействия происходит в рамках взаимодополнения образовательных областей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оциально-коммуникативное развитие», «Речевое развитие» и «Познавательное развитие» «Физическое развитие»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достаточный уровень речевой культуры и коммуникативной компетентности  педагог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хема 3" descr=""/>
          <p:cNvPicPr/>
          <p:nvPr/>
        </p:nvPicPr>
        <p:blipFill>
          <a:blip r:embed="rId1"/>
          <a:stretch/>
        </p:blipFill>
        <p:spPr>
          <a:xfrm>
            <a:off x="298440" y="2389320"/>
            <a:ext cx="8686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 полной мере обеспечивается активная речевая  практика дет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сегда продумываются  и не учитываются положения А.А. Леонтьева о мотивации как главного фактора, определяющего качественное порождение речевого высказы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в достаточной степени владеют технологией реализации коммуникативно-деятельностного, исследовательского подхода в речевом развитии реб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Аспект второй: проблемы педагог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дооценка гендерных особенностей в речевом развитии дошкольни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рывочность знаний педагогов по проблеме речевого развития приводит к некритическому заимствованию готовых методических рекомендаций, копированию чужого образца, что негативно отражается на достижении эффективных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достаточное место отводится детской литературе в режиме дня как средству развития образно-выразительной речи, средству нравственного, эстетического и этического воспит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Аспект третий: проблемы в речевом развитии реб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70028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Рост числа детей с речевыми нарушениями  и ОВ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Живое общение ребенка со взрослыми и сверстниками подменяется виртуальным общением с электронными носител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рослеживается тенденция к стремительному снижению общего уровня речевой культуры и культуры взаимоотношений мальчиков и девочек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ловесная неряшливость, речевая агрессия, вербальные штампы и шаблоны являются весьма характерными для детской реч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0T13:28:51Z</dcterms:created>
  <dc:creator>Домашний</dc:creator>
  <dc:description/>
  <dc:language>en-US</dc:language>
  <cp:lastModifiedBy>Галкина</cp:lastModifiedBy>
  <cp:lastPrinted>2015-08-30T19:53:12Z</cp:lastPrinted>
  <dcterms:modified xsi:type="dcterms:W3CDTF">2018-10-25T17:52:38Z</dcterms:modified>
  <cp:revision>162</cp:revision>
  <dc:subject/>
  <dc:title>Актуальные аспекты речевого развития дошкольников в контексте ФГОС ДО</dc:title>
</cp:coreProperties>
</file>