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522C-F8E7-4C24-908E-E2DDA4ED2A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467A-F976-43AB-860D-8EF13C36AD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FBC-43F2-408A-9CFF-15250E98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E86-7385-423E-8FB9-9F5AF641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1B7-24A2-419B-B80C-CDBCB4D1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851-1A7D-4D0B-982E-0AA3F856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CB1-12C9-46EC-8309-4C65AB9A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4E6-667E-4129-9668-8008D550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243-F78B-407C-A899-3207F7DA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7DF-5C98-4DBD-8435-B1C1EAF1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424-5314-4243-85E0-0D29C832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154-E7E4-4559-8586-24F4C165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E80-6432-43C4-9A24-99896B3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C75-8630-4DA7-B45F-BF5ECC15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059E-F07D-4AAE-9BD9-D74F18536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etstvogid.ru/?p=305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etstvogid.ru/?p=305" TargetMode="External"/><Relationship Id="rId2" Type="http://schemas.openxmlformats.org/officeDocument/2006/relationships/hyperlink" Target="http://detstvogid.ru/?p=42" TargetMode="External"/><Relationship Id="rId3" Type="http://schemas.openxmlformats.org/officeDocument/2006/relationships/hyperlink" Target="http://detstvogid.ru/?p=42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742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Актуальные </a:t>
            </a:r>
            <a:br>
              <a:rPr sz="3200"/>
            </a:b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аспекты речевого развития дошкольников в контексте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373720"/>
            <a:ext cx="7489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Галкина Мария Ивановна, старший воспитате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МДОУ «Детский сад № 77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Энгельсского муниципального района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77853045c3ba"/>
          <p:cNvPicPr/>
          <p:nvPr/>
        </p:nvPicPr>
        <p:blipFill>
          <a:blip r:embed="rId1"/>
          <a:stretch/>
        </p:blipFill>
        <p:spPr>
          <a:xfrm>
            <a:off x="2916360" y="3213000"/>
            <a:ext cx="25812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Аспект четвертый: проблемы семь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зкий уровень  речевой культуры в обществе и сем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достаточный ресурс времени у родителей для общения с деть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мение отбирать содержание общения с ребенком-дошкольни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ирование языковой и коммуникативной компетент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4" descr=""/>
          <p:cNvPicPr/>
          <p:nvPr/>
        </p:nvPicPr>
        <p:blipFill>
          <a:blip r:embed="rId1"/>
          <a:stretch/>
        </p:blipFill>
        <p:spPr>
          <a:xfrm>
            <a:off x="457200" y="1536840"/>
            <a:ext cx="822960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1"/>
          <p:cNvSpPr/>
          <p:nvPr/>
        </p:nvSpPr>
        <p:spPr>
          <a:xfrm>
            <a:off x="1739880" y="620640"/>
            <a:ext cx="5715000" cy="929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РЕДСТВА РАЗВИТИЯ  КОММУН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569880" y="3905280"/>
            <a:ext cx="2189160" cy="1376280"/>
          </a:xfrm>
          <a:prstGeom prst="wedgeEllipseCallout">
            <a:avLst>
              <a:gd name="adj1" fmla="val 110606"/>
              <a:gd name="adj2" fmla="val -20977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Художествен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2759040" y="4946760"/>
            <a:ext cx="2836800" cy="1093680"/>
          </a:xfrm>
          <a:prstGeom prst="wedgeEllipseCallout">
            <a:avLst>
              <a:gd name="adj1" fmla="val 1240"/>
              <a:gd name="adj2" fmla="val -22868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зобразитель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скус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узыка, теа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6012000" y="4475160"/>
            <a:ext cx="2824200" cy="1012680"/>
          </a:xfrm>
          <a:prstGeom prst="wedgeEllipseCallout">
            <a:avLst>
              <a:gd name="adj1" fmla="val -59217"/>
              <a:gd name="adj2" fmla="val -20833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ОД п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569880" y="1647720"/>
            <a:ext cx="2340000" cy="1368360"/>
          </a:xfrm>
          <a:prstGeom prst="wedgeEllipseCallout">
            <a:avLst>
              <a:gd name="adj1" fmla="val 70337"/>
              <a:gd name="adj2" fmla="val -655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ние взросл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3618000" y="1998720"/>
            <a:ext cx="2449440" cy="847800"/>
          </a:xfrm>
          <a:prstGeom prst="wedgeEllipseCallout">
            <a:avLst>
              <a:gd name="adj1" fmla="val -11175"/>
              <a:gd name="adj2" fmla="val -9759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ультур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языковая с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6300720" y="2251080"/>
            <a:ext cx="2568600" cy="1322280"/>
          </a:xfrm>
          <a:prstGeom prst="wedgeEllipseCallout">
            <a:avLst>
              <a:gd name="adj1" fmla="val -85421"/>
              <a:gd name="adj2" fmla="val -103796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ОД п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чевому развит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6"/>
          <p:cNvSpPr/>
          <p:nvPr/>
        </p:nvSpPr>
        <p:spPr>
          <a:xfrm>
            <a:off x="5991120" y="4221000"/>
            <a:ext cx="3040200" cy="1130400"/>
          </a:xfrm>
          <a:prstGeom prst="wedgeRoundRectCallout">
            <a:avLst>
              <a:gd name="adj1" fmla="val -14000"/>
              <a:gd name="adj2" fmla="val -29771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нцип обесп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ктивной язык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акти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3059280" y="4437000"/>
            <a:ext cx="2665080" cy="1440000"/>
          </a:xfrm>
          <a:prstGeom prst="wedgeRoundRectCallout">
            <a:avLst>
              <a:gd name="adj1" fmla="val 31314"/>
              <a:gd name="adj2" fmla="val -21443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обог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тивации рече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08000" y="4268880"/>
            <a:ext cx="2735280" cy="1392120"/>
          </a:xfrm>
          <a:prstGeom prst="wedgeRoundRectCallout">
            <a:avLst>
              <a:gd name="adj1" fmla="val 110921"/>
              <a:gd name="adj2" fmla="val -30327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взаимосвяз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боты над различны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торонами реч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684360" y="285840"/>
            <a:ext cx="7935840" cy="563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РЕЧЕВ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108000" y="1700280"/>
            <a:ext cx="2592360" cy="1403280"/>
          </a:xfrm>
          <a:prstGeom prst="wedgeRoundRectCallout">
            <a:avLst>
              <a:gd name="adj1" fmla="val 92625"/>
              <a:gd name="adj2" fmla="val -9106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взаимосвяз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нсорного, речев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умственн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182760" y="1738440"/>
            <a:ext cx="2808360" cy="1263600"/>
          </a:xfrm>
          <a:prstGeom prst="wedgeRoundRectCallout">
            <a:avLst>
              <a:gd name="adj1" fmla="val 638"/>
              <a:gd name="adj2" fmla="val -8169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коммуникативно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еятельност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хода к развитию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6372360" y="1811160"/>
            <a:ext cx="2771640" cy="1292400"/>
          </a:xfrm>
          <a:prstGeom prst="wedgeRoundRectCallout">
            <a:avLst>
              <a:gd name="adj1" fmla="val -89967"/>
              <a:gd name="adj2" fmla="val -8958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формир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лементарного осозн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явлений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Современные подходы к речевому развитию реб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384120" y="1590840"/>
            <a:ext cx="84060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ребования ФГОС Д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600200"/>
            <a:ext cx="8362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соответствии с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ГОС дошкольного образован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а первом месте стоит задача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азвит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ребенка, которая позволит сделать более эффективным процесс обучения и воспитания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тановка на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 развитие — современная стратегия обучения родному языку детей дошкольного возраст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ключается в его направленност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е просто на формирование определенных знаний, умений и навыков, а на воспитание и развитие личности ребенка, его теоретического мышления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языковой интуиции и способностей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на овладение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культурой речевого общения и повед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адачи образовательной области «Речевое развити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4232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Аспект перв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714680"/>
            <a:ext cx="81439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роме традиционных речевых задач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я звуковой культуры речи, словарной работы, развития грамматического строя и связной речи)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собое внимание следует обратить на задач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я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иалогической реч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дошкольник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я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ечевого творчеств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ния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нимания на слух текстов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различных жанров детской литератур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чь рассматривается как средств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чевое развитие дошкольника включает такое понятие как умение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ести диалог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т.е. умение общаться с окружающими люд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процессе общения реализуется основная и первоначальная функция речи – коммуникативна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соответствии с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ГОС дошкольного образовани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ирование и развитие диалогического общения является одной из актуальных задач личностного развития дошколь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анное направление педагогического взаимодействия происходит в рамках взаимодополнения образовательных областей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оциально-коммуникативное развитие», «Речевое развитие» и «Познавательное развитие» «Физическое развитие»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Аспект второй: проблемы педагог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413000"/>
            <a:ext cx="8435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достаточный уровень речевой культуры и коммуникативной компетентности  педагог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хема 3" descr=""/>
          <p:cNvPicPr/>
          <p:nvPr/>
        </p:nvPicPr>
        <p:blipFill>
          <a:blip r:embed="rId1"/>
          <a:stretch/>
        </p:blipFill>
        <p:spPr>
          <a:xfrm>
            <a:off x="298440" y="2389320"/>
            <a:ext cx="86868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Аспект второй: проблемы педагог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 в полной мере обеспечивается активная речевая  практика дет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 всегда продумываются  и не учитываются положения А.А. Леонтьева о мотивации как главного фактора, определяющего качественное порождение речевого высказы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 в достаточной степени владеют технологией реализации коммуникативно-деятельностного, исследовательского подхода в речевом развитии реб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Аспект второй: проблемы педагог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дооценка гендерных особенностей в речевом развитии дошкольни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рывочность знаний педагогов по проблеме речевого развития приводит к некритическому заимствованию готовых методических рекомендаций, копированию чужого образца, что негативно отражается на достижении эффективных результа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достаточное место отводится детской литературе в режиме дня как средству развития образно-выразительной речи, средству нравственного, эстетического и этического воспит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Аспект третий: проблемы в речевом развитии ребе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70028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Рост числа детей с речевыми нарушениями  и ОВЗ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Живое общение ребенка со взрослыми и сверстниками подменяется виртуальным общением с электронными носител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Прослеживается тенденция к стремительному снижению общего уровня речевой культуры и культуры взаимоотношений мальчиков и девочек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словесная неряшливость, речевая агрессия, вербальные штампы и шаблоны являются весьма характерными для детской реч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0T13:28:51Z</dcterms:created>
  <dc:creator>Домашний</dc:creator>
  <dc:description/>
  <dc:language>en-US</dc:language>
  <cp:lastModifiedBy>Галкина</cp:lastModifiedBy>
  <cp:lastPrinted>2015-08-30T19:53:12Z</cp:lastPrinted>
  <dcterms:modified xsi:type="dcterms:W3CDTF">2018-10-25T17:52:38Z</dcterms:modified>
  <cp:revision>162</cp:revision>
  <dc:subject/>
  <dc:title>Актуальные аспекты речевого развития дошкольников в контексте ФГОС ДО</dc:title>
</cp:coreProperties>
</file>