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2C693-0684-4F07-9497-2A1155080A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27CFE-D64A-46D5-990A-7952C9A9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F17AF-5A32-48AF-ADA0-45C623E1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44483-AD80-4977-AB03-4FA11083DA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9D242-197C-4361-BEA6-E93987EF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84FE6-176A-4CF4-80D5-2D1837D8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B3EBE-61BD-4939-8011-36068B0A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5F8CA-ED6B-480F-B0FE-C20BBBCF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6374A-D786-42FF-9543-9253540F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A1933-8214-4615-A9E1-28B762F8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D625F-9947-4890-8145-927E4C7C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D724D-DB0C-4B47-B9B6-56464D68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322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9C673B-4403-4388-9962-0FDF5420CA8E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87488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«Подготовка обучающихся 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4  класса к переходу в среднее звено школы»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135000"/>
            <a:ext cx="8856720" cy="66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Calibri"/>
              </a:rPr>
              <a:t>Обратите внимание!!!</a:t>
            </a:r>
            <a:br>
              <a:rPr sz="4000"/>
            </a:br>
            <a:br>
              <a:rPr sz="16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ереход в среднюю школу - это в прямом смысле "новые стены"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и переходе в среднее звено  происходит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смена статуса"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 пятом классе расширяется круг изучаемых предметов, объем и сложность материала, который нужно усваивать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Один из «подводных» камней - привычка к контролю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 При переходе в пятый класс происходит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е требований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ами учителя очень различаются по своим особенностям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2160" y="1341360"/>
            <a:ext cx="777240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ологические измене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уверенность в себ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ичные проблем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сутствие способносте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сутствие интерес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Calibri"/>
              </a:rPr>
              <a:t>ПРИЧИНЫ НЕУСПЕВАЕМОСТ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6920" y="11592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b050"/>
                </a:solidFill>
                <a:uFillTx/>
                <a:latin typeface="Calibri"/>
              </a:rPr>
              <a:t>ПОМОЩЬ ОТ РОДИТЕЛЕ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957240"/>
            <a:ext cx="871380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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ериод адаптации обеспечьте ребенку спокойную, щадящую обстановку, соблюдайте четкий режим, т. е. сделайте так, чтобы пятиклассник постоянно ощущал вашу  поддержку и помощ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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процесс адаптации затянулся более 2-3 месяцев, обращайтесь к учителю,  психолог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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е внимание уделяйте  развитию учебной деятельности детей, их умению учиться, приобретать с помощью взрослых и самостоятельно новые знания и навы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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держивайте веру ребёнка в себя, в свои способности, возможности, в положительные стороны характер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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первых порах помогайте и в подготовке домашних заданий и в преодолении трудностей  в учебе, которые нередко возникают на первых этапах обучения в среднем зве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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когда не ругайте детей за плохие отметки, тогда они не будут хитрить и обманывать. Наоборот, между вами установятся доверительные отно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11592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b050"/>
                </a:solidFill>
                <a:uFillTx/>
                <a:latin typeface="Calibri"/>
              </a:rPr>
              <a:t>ПОМОЩЬ ОТ РОДИТЕЛЕ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701640"/>
            <a:ext cx="8713800" cy="58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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есуйтесь успеваемостью своего ребенка каждый день, а не только  в конце недели, подписывая дневник, и не в конце четверти, когда уже поздно исправлять двойку на трой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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ждите следующего родительского собрания. Почаще получайте информацию "из первых рук". Найдите время подойти к классному руководителю. Учитель скажет вам правду и даст необходимый сов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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возникла проблемная ситуация, никогда не говорите плохо об учителе в присутствии ребенка. Тем более не спешите  выносить поспешный приговор. Лучше отправляйтесь в школу и вместе с учителем разрешите  возникшую ситуаци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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в семье произошли какие-то события, повлиявшие на психологическое состояние ребенка (развод, отъезд в долгую командировку кого-то из родителей, рождение еще одного ребенка и т.д.) сообщите об этом классному руководителю. Именно изменениями в семейной жизни часто объясняются внезапные перемены в поведении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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ми помощниками родителей в сложных ситуациях являются терпение, внимание и поним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19920000">
            <a:off x="-120240" y="3017520"/>
            <a:ext cx="9470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Спасибо за внимание!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1T04:31:52Z</dcterms:created>
  <dc:creator>Сычева Ирина Ренатовна</dc:creator>
  <dc:description/>
  <dc:language>en-US</dc:language>
  <cp:lastModifiedBy>Сычева Ирина Ренатовна</cp:lastModifiedBy>
  <dcterms:modified xsi:type="dcterms:W3CDTF">2017-05-11T04:47:33Z</dcterms:modified>
  <cp:revision>2</cp:revision>
  <dc:subject/>
  <dc:title>«Подготовка обучающихся  4  класса к переходу в среднее звено школы».</dc:title>
</cp:coreProperties>
</file>