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E801-4210-43D4-BC22-16FA3418BD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64EE-2ED2-4CF7-A39C-740C3CE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74EC-D45F-42DF-85C1-CEBA514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1696-965B-41CE-BDFD-83B445173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279F-14B4-4E81-8D8E-C150F634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191B-3212-408D-8300-CF00BDAC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BBA2-268F-43D4-B0CB-DA56D3C1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CA42-B42E-4169-832E-92D4328F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FA3A-55C9-46E4-A964-AA57BB13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B1D9-3D32-45A0-AD3C-9D4E1AE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418F-3433-4843-8D51-0CDC8E9E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C1CA-A4CB-48C0-8C77-263C929E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1357DC-135D-4979-A1D3-697BBA2B9291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87488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Подготовка обучающихся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4  класса к переходу в среднее звено школы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135000"/>
            <a:ext cx="885672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Обратите внимание!!!</a:t>
            </a:r>
            <a:br>
              <a:rPr sz="4000"/>
            </a:b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ход в среднюю школу - это в прямом смысле "новые стены"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переходе в среднее звено  проис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смена статуса"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 пятом классе расширяется круг изучаемых предметов, объем и сложность материала, который нужно усваива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Один из «подводных» камней - привычка к контрол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При переходе в пятый класс проис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требований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ами учителя очень различаются по своим особенностям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2160" y="134136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ологические измен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веренность в себ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ые пробле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сутствие способносте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сутствие интере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ПРИЧИНЫ НЕУСПЕВАЕМ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Calibri"/>
              </a:rPr>
              <a:t>ПОМОЩЬ ОТ РОДИТЕЛ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57240"/>
            <a:ext cx="87138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ериод адаптации обеспечьте ребенку спокойную, щадящую обстановку, соблюдайте четкий режим, т. е. сделайте так, чтобы пятиклассник постоянно ощущал вашу  поддержку и помощ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оцесс адаптации затянулся более 2-3 месяцев, обращайтесь к учителю,  психол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внимание уделяйте  развитию учебной деятельности детей, их умению учиться, приобретать с помощью взрослых и самостоятельно новые знания и навы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держивайте веру ребёнка в себя, в свои способности, возможности, в положительные стороны характе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ервых порах помогайте и в подготовке домашних заданий и в преодолении трудностей  в учебе, которые нередко возникают на первых этапах обучения в среднем зве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гда не ругайте детей за плохие отметки, тогда они не будут хитрить и обманывать. Наоборот, между вами установятся доверительные отно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Calibri"/>
              </a:rPr>
              <a:t>ПОМОЩЬ ОТ РОДИТЕЛ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701640"/>
            <a:ext cx="871380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уйтесь успеваемостью своего ребенка каждый день, а не только  в конце недели, подписывая дневник, и не в конце четверти, когда уже поздно исправлять двойку на трой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ждите следующего родительского собрания. Почаще получайте информацию "из первых рук". Найдите время подойти к классному руководителю. Учитель скажет вам правду и даст необходимый со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озникла проблемная ситуация, никогда не говорите плохо об учителе в присутствии ребенка. Тем более не спешите  выносить поспешный приговор. Лучше отправляйтесь в школу и вместе с учителем разрешите  возникшую ситуац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семье произошли какие-то события, повлиявшие на психологическое состояние ребенка (развод, отъезд в долгую командировку кого-то из родителей, рождение еще одного ребенка и т.д.) сообщите об этом классному руководителю. Именно изменениями в семейной жизни часто объясняются внезапные перемены в поведении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помощниками родителей в сложных ситуациях являются терпение, внимание и поним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9920000">
            <a:off x="-120240" y="3017520"/>
            <a:ext cx="947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04:31:52Z</dcterms:created>
  <dc:creator>Сычева Ирина Ренатовна</dc:creator>
  <dc:description/>
  <dc:language>en-US</dc:language>
  <cp:lastModifiedBy>Сычева Ирина Ренатовна</cp:lastModifiedBy>
  <dcterms:modified xsi:type="dcterms:W3CDTF">2017-05-11T04:47:33Z</dcterms:modified>
  <cp:revision>2</cp:revision>
  <dc:subject/>
  <dc:title>«Подготовка обучающихся  4  класса к переходу в среднее звено школы».</dc:title>
</cp:coreProperties>
</file>