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C624-7F9B-412B-BB61-0D9B1199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F848-C42A-424F-9014-E5C73824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0DD6-263D-4C72-A5C5-EDB157B6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AB40-3043-408B-97D4-0A826CE5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E46E-1EB9-4B17-B8DE-7D1B638C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5A06-FE3E-401D-BAEA-57ADCE6B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671F-EB24-4547-BEB5-BC18B266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F967-707D-40C2-AFD3-A8618340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7175-8C1B-4D48-8E62-B846AA72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9269-02C1-4ABB-A961-DCF4A1AA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3C95-F781-42B9-9123-4EC7F5D0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30C6-3EA9-42D1-9C9D-CE13B2FD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51C4-4703-4753-B1AF-A841070F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9A3C-8975-489D-ADC6-7F32E800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DD01-3B9B-4EA9-8DAA-E420DCDE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A7B2-21BA-4619-9765-5E1C837F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363B-364B-4267-AC1E-C30F0240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4330-A9E9-42FF-B3C7-4C2DF860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FA7F-2DAE-4109-9163-985AD957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03F8-D71A-4138-B779-DB33036F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5333-4E34-41D4-8716-ECCF096C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16C9-25B0-49DB-A928-8514AD50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304C-785D-4574-A586-1A369056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7D0-F9AC-4C87-A299-6143F73E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F137-29A9-41C4-AC41-7890EF0EED7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5C0C-11C9-466F-AE98-71D517DDCB6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26800" y="5070600"/>
            <a:ext cx="7202520" cy="960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Занятие на развитие внимания, памяти, мышления 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3880" y="4941360"/>
            <a:ext cx="7886880" cy="11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: педагог-психолог  Лупейчук Олеся Владимиров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250920" y="90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7" descr="http://okeydoc.ru/wp-content/uploads/2016/01/kid_questions.jpg"/>
          <p:cNvPicPr/>
          <p:nvPr/>
        </p:nvPicPr>
        <p:blipFill>
          <a:blip r:embed="rId1"/>
          <a:stretch/>
        </p:blipFill>
        <p:spPr>
          <a:xfrm>
            <a:off x="0" y="20520"/>
            <a:ext cx="3635280" cy="211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http://detkiportal.ru/wp-content/uploads/2018/04/Kak-razvit-pamyat-u-rebenka-43-870x517.jpg"/>
          <p:cNvPicPr/>
          <p:nvPr/>
        </p:nvPicPr>
        <p:blipFill>
          <a:blip r:embed="rId2"/>
          <a:stretch/>
        </p:blipFill>
        <p:spPr>
          <a:xfrm>
            <a:off x="5146560" y="-42840"/>
            <a:ext cx="40039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кажи  наоборот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7139160" cy="4430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еселый –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Verdana"/>
              </a:rPr>
              <a:t>грустны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ыстрый –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Verdana"/>
              </a:rPr>
              <a:t>медленный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красивый 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Verdana"/>
              </a:rPr>
              <a:t>безобразны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пустой –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Verdana"/>
              </a:rPr>
              <a:t>полный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914480" cy="1733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2"/>
          <a:stretch/>
        </p:blipFill>
        <p:spPr>
          <a:xfrm>
            <a:off x="6516720" y="3284640"/>
            <a:ext cx="1933560" cy="1546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3"/>
          <a:stretch/>
        </p:blipFill>
        <p:spPr>
          <a:xfrm>
            <a:off x="4356000" y="4581360"/>
            <a:ext cx="17161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зови время год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1042920" y="808200"/>
            <a:ext cx="7416720" cy="6049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2700360" y="2852640"/>
            <a:ext cx="244800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Verdana"/>
              </a:rPr>
              <a:t>лет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6443640" y="2997360"/>
            <a:ext cx="2232000" cy="57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Verdana"/>
              </a:rPr>
              <a:t>осен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627280" y="5877000"/>
            <a:ext cx="2232000" cy="72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Verdana"/>
              </a:rPr>
              <a:t>вес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659640" y="6021360"/>
            <a:ext cx="230508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Verdana"/>
              </a:rPr>
              <a:t>зим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дсчитай, сколько в шарике разных цифр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Рисунок 7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4098960" cy="52578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6732720" y="1341360"/>
            <a:ext cx="2016000" cy="518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и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ое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ое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твер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ятер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пользованная литератур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ррекционная педагогика в начальном образовании./ Под ред. Г.Ф. Кумариной. – М.: Академия, 200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окалова Н.П. “Как помочь слабоуспевающему школьнику”, – М.: изд. “Ось-89”, 2003. – 95с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угрименко Е.А., Цукерман Г.А. Чтение без принуждения. – М.: Творческая педагогика, 1993.-96с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Сравните предметы между собой. Скажите, чем они похожи и чем отличаются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Сравните предметы между собой. Скажите, чем они похожи и чем отличаются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395280" y="2313000"/>
            <a:ext cx="4321080" cy="3132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5003640" y="2349360"/>
            <a:ext cx="3754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смотри и запом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Рисунок 13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537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тветь на вопрос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колько вишен ты видел на картинк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66ff"/>
                </a:solidFill>
                <a:latin typeface="Verdana"/>
              </a:rPr>
              <a:t>Дв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то ты видел, ручку или карандаш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66ff"/>
                </a:solidFill>
                <a:latin typeface="Verdana"/>
              </a:rPr>
              <a:t>Ручк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колько конфет на картинк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66ff"/>
                </a:solidFill>
                <a:latin typeface="Verdana"/>
              </a:rPr>
              <a:t>Дв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кие предметы еще нарисованы на картинк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66ff"/>
                </a:solidFill>
                <a:latin typeface="Verdana"/>
              </a:rPr>
              <a:t>Книжка, свечка, звезды, птица, шарик, месяц, колпа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речисли предметы, назови общим слов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Рисунок 1" descr=""/>
          <p:cNvPicPr/>
          <p:nvPr/>
        </p:nvPicPr>
        <p:blipFill>
          <a:blip r:embed="rId1"/>
          <a:stretch/>
        </p:blipFill>
        <p:spPr>
          <a:xfrm>
            <a:off x="1336680" y="1600200"/>
            <a:ext cx="6469200" cy="45306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5003640" y="5516640"/>
            <a:ext cx="367200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b76"/>
                </a:solidFill>
                <a:latin typeface="Times New Roman"/>
              </a:rPr>
              <a:t>игрушк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6" descr=""/>
          <p:cNvPicPr/>
          <p:nvPr/>
        </p:nvPicPr>
        <p:blipFill>
          <a:blip r:embed="rId1"/>
          <a:srcRect l="0" t="6222" r="0" b="0"/>
          <a:stretch/>
        </p:blipFill>
        <p:spPr>
          <a:xfrm>
            <a:off x="900000" y="1268280"/>
            <a:ext cx="7488360" cy="54374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900000" y="333360"/>
            <a:ext cx="741708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Найди 10 отличи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смотри внимательно и запомн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7" name="Рисунок 10" descr=""/>
          <p:cNvPicPr/>
          <p:nvPr/>
        </p:nvPicPr>
        <p:blipFill>
          <a:blip r:embed="rId1"/>
          <a:stretch/>
        </p:blipFill>
        <p:spPr>
          <a:xfrm>
            <a:off x="1523880" y="1903320"/>
            <a:ext cx="60962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тветь на вопрос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Есть ли на пальме бананы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Сколько домиков нарисовано на картинк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четыр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Какое выражение лица у смайлик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весело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Ножницы на рисунке открыты или закрыты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ткрыт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. Какого цвета карандаш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ин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6. У каждого ли домика нарисованы трубы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1:40:42Z</dcterms:created>
  <dc:creator>Капуста</dc:creator>
  <dc:description/>
  <dc:language>en-US</dc:language>
  <cp:lastModifiedBy>ooo</cp:lastModifiedBy>
  <dcterms:modified xsi:type="dcterms:W3CDTF">2018-12-29T15:00:09Z</dcterms:modified>
  <cp:revision>12</cp:revision>
  <dc:subject/>
  <dc:title>Слайд 1</dc:title>
</cp:coreProperties>
</file>