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8DF-F0E4-4C75-803A-0A5FFAF9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BE83-39AB-4C06-AEAB-E8A22E8A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9B82-185C-4A68-87FF-9F0898E9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B9B0-251E-4816-85F7-28F47893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6680-65D2-4D82-BA22-BCCE284E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7E72-7461-49BB-98F3-20656457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47F5-D1D6-4731-899B-C29B08C3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3758-33D4-4092-8D7C-3111F887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3B83-5288-4FBB-8F39-4B9E8E2F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5596-4BE0-45A2-BE18-02F44F61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B6DC-7007-4A0B-8284-FBA182CE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7A8-9655-4A10-963D-46D7A2A5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969C-96BD-48ED-96C3-4903746A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D1D3-F99D-4E7A-8E91-9A00117D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3535-08A6-422E-B30E-C22E658A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1C69-DDEB-4D40-9DA5-1BF2E573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94A2-35AF-410B-A613-515A39B8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5BC4-F373-484A-9E2F-34DC622C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EE8-967E-4CDA-8F82-B7A257CD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B25-001E-438D-985A-F1D0A595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74C-DEB1-455E-8300-AEDC6FE1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2C2-8455-40AF-8359-2F36C7F2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0C3C-9708-4D50-BFF2-7357AAD8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8AB-0E20-465E-8017-D6BCA912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0402-857C-441C-9D60-59CE0185708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4A33-A9D9-43F9-A910-D3DB4CD385B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26800" y="5070600"/>
            <a:ext cx="7202520" cy="960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Занятие на развитие внимания, памяти, мышления 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3880" y="4941360"/>
            <a:ext cx="7886880" cy="11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: педагог-психолог  Лупейчук Олеся Владимиров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250920" y="90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7" descr="http://okeydoc.ru/wp-content/uploads/2016/01/kid_questions.jpg"/>
          <p:cNvPicPr/>
          <p:nvPr/>
        </p:nvPicPr>
        <p:blipFill>
          <a:blip r:embed="rId1"/>
          <a:stretch/>
        </p:blipFill>
        <p:spPr>
          <a:xfrm>
            <a:off x="0" y="20520"/>
            <a:ext cx="3635280" cy="211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http://detkiportal.ru/wp-content/uploads/2018/04/Kak-razvit-pamyat-u-rebenka-43-870x517.jpg"/>
          <p:cNvPicPr/>
          <p:nvPr/>
        </p:nvPicPr>
        <p:blipFill>
          <a:blip r:embed="rId2"/>
          <a:stretch/>
        </p:blipFill>
        <p:spPr>
          <a:xfrm>
            <a:off x="5146560" y="-42840"/>
            <a:ext cx="40039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кажи  наоборот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7139160" cy="4430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еселый –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Verdana"/>
              </a:rPr>
              <a:t>грустны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ыстрый –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Verdana"/>
              </a:rPr>
              <a:t>медленный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красивый 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Verdana"/>
              </a:rPr>
              <a:t>безобразны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пустой –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Verdana"/>
              </a:rPr>
              <a:t>полный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914480" cy="1733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2"/>
          <a:stretch/>
        </p:blipFill>
        <p:spPr>
          <a:xfrm>
            <a:off x="6516720" y="3284640"/>
            <a:ext cx="1933560" cy="1546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3"/>
          <a:stretch/>
        </p:blipFill>
        <p:spPr>
          <a:xfrm>
            <a:off x="4356000" y="4581360"/>
            <a:ext cx="17161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зови время год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1042920" y="808200"/>
            <a:ext cx="7416720" cy="6049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2700360" y="2852640"/>
            <a:ext cx="244800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Verdana"/>
              </a:rPr>
              <a:t>лет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6443640" y="2997360"/>
            <a:ext cx="2232000" cy="57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Verdana"/>
              </a:rPr>
              <a:t>осен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627280" y="5877000"/>
            <a:ext cx="223200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Verdana"/>
              </a:rPr>
              <a:t>вес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659640" y="6021360"/>
            <a:ext cx="230508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Verdana"/>
              </a:rPr>
              <a:t>зим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дсчитай, сколько в шарике разных цифр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Рисунок 7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4098960" cy="52578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6732720" y="1341360"/>
            <a:ext cx="2016000" cy="518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и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ое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ое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твер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ятер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пользованная литератур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ррекционная педагогика в начальном образовании./ Под ред. Г.Ф. Кумариной. – М.: Академия, 200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окалова Н.П. “Как помочь слабоуспевающему школьнику”, – М.: изд. “Ось-89”, 2003. – 95с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угрименко Е.А., Цукерман Г.А. Чтение без принуждения. – М.: Творческая педагогика, 1993.-96с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равните предметы между собой. Скажите, чем они похожи и чем отличаются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равните предметы между собой. Скажите, чем они похожи и чем отличаются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395280" y="2313000"/>
            <a:ext cx="4321080" cy="3132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5003640" y="2349360"/>
            <a:ext cx="3754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смотри и запом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Рисунок 13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537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веть на вопро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олько вишен ты видел на картинк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66ff"/>
                </a:solidFill>
                <a:latin typeface="Verdana"/>
              </a:rPr>
              <a:t>Дв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то ты видел, ручку или карандаш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66ff"/>
                </a:solidFill>
                <a:latin typeface="Verdana"/>
              </a:rPr>
              <a:t>Ручк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олько конфет на картинк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66ff"/>
                </a:solidFill>
                <a:latin typeface="Verdana"/>
              </a:rPr>
              <a:t>Дв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кие предметы еще нарисованы на картинк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66ff"/>
                </a:solidFill>
                <a:latin typeface="Verdana"/>
              </a:rPr>
              <a:t>Книжка, свечка, звезды, птица, шарик, месяц, колпа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ечисли предметы, назови общим слов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Рисунок 1" descr=""/>
          <p:cNvPicPr/>
          <p:nvPr/>
        </p:nvPicPr>
        <p:blipFill>
          <a:blip r:embed="rId1"/>
          <a:stretch/>
        </p:blipFill>
        <p:spPr>
          <a:xfrm>
            <a:off x="1336680" y="1600200"/>
            <a:ext cx="6469200" cy="45306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5003640" y="5516640"/>
            <a:ext cx="367200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b76"/>
                </a:solidFill>
                <a:latin typeface="Times New Roman"/>
              </a:rPr>
              <a:t>игрушк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6" descr=""/>
          <p:cNvPicPr/>
          <p:nvPr/>
        </p:nvPicPr>
        <p:blipFill>
          <a:blip r:embed="rId1"/>
          <a:srcRect l="0" t="6222" r="0" b="0"/>
          <a:stretch/>
        </p:blipFill>
        <p:spPr>
          <a:xfrm>
            <a:off x="900000" y="1268280"/>
            <a:ext cx="7488360" cy="54374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900000" y="333360"/>
            <a:ext cx="741708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Найди 10 отличи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смотри внимательно и запомн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7" name="Рисунок 10" descr=""/>
          <p:cNvPicPr/>
          <p:nvPr/>
        </p:nvPicPr>
        <p:blipFill>
          <a:blip r:embed="rId1"/>
          <a:stretch/>
        </p:blipFill>
        <p:spPr>
          <a:xfrm>
            <a:off x="1523880" y="1903320"/>
            <a:ext cx="60962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веть на вопро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Есть ли на пальме бананы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Сколько домиков нарисовано на картинк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четыр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Какое выражение лица у смайлик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весело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Ножницы на рисунке открыты или закрыты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ткрыт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. Какого цвета карандаш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ин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. У каждого ли домика нарисованы трубы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1:40:42Z</dcterms:created>
  <dc:creator>Капуста</dc:creator>
  <dc:description/>
  <dc:language>en-US</dc:language>
  <cp:lastModifiedBy>ooo</cp:lastModifiedBy>
  <dcterms:modified xsi:type="dcterms:W3CDTF">2018-12-29T15:00:09Z</dcterms:modified>
  <cp:revision>12</cp:revision>
  <dc:subject/>
  <dc:title>Слайд 1</dc:title>
</cp:coreProperties>
</file>