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D575-E4AE-4736-9B87-474B7019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0E42-1643-485E-93AC-40D679DB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470-C27F-445F-99ED-F9BCDFE84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6ED2-0882-4F92-9DAF-55018A26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5F72-A3B1-4D80-9C96-A6A1B2701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2610-0882-4323-ACF0-A316C7018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31A6-BC93-4620-8B63-4885AE51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7DB7-8920-4861-AC63-6E841841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94F0-16BF-41DA-80E1-88915838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52BF2-C15F-4C86-85F2-D1A7CC40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54DF-3467-4BBB-B6DF-DCEA5EE4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B5F1-5EBD-4461-B993-A19D9B40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E345-475A-4B76-BCDB-EF33466D4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36720-A002-4A6F-9BE8-B95A2A6A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75B5-3508-4181-B961-D3D1545D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4D82-6F95-4C5B-A939-7441A77E3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427D-2E4B-4427-BD5E-73C2BA82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AF405-1BC6-4D2B-BB67-1C138AC9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6594D-1789-45CE-8FA8-8818AAB1E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B8AA1-53E7-4032-AD9F-7043624D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45E3B-154E-4616-9CAC-3335763D4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9F0D7-8E97-4464-A969-E182ED86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439C-6FDD-461E-A928-034D94EC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CFDD5-8278-45AB-B4EB-AD9DB4CFB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4314A-5604-413C-A330-97CA2E45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0DCC3-D496-4BA7-B9AD-E871FB3C9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80210-70E1-4EB3-A47D-2DF19D4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57B9E-A2E0-405B-A857-2C8E599DE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A480D1-AE10-4AD6-8DF4-30E2A1401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6D1E7-8847-437F-8826-8CA444F4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5D9-5AB3-41E0-8B60-F4336D958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35C72-C671-4555-8550-A78DB14C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61E2-5855-4579-9756-38C87D3C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5D14-BAA3-46F7-972C-FACA3254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1794-485A-472F-A633-9D77DC06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962E-5E0C-4C34-94E2-DB98A19E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F882-98BD-4AF0-8C12-3111726C85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B66-F770-474C-9FF1-F95FCB674F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7840-BE7C-4353-8ACC-95F5F7B53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85920" y="2071440"/>
            <a:ext cx="6500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  <a:ea typeface="Courier New"/>
              </a:rPr>
              <a:t>Кризисы взросления младшего школь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429080" y="3928680"/>
            <a:ext cx="2571840" cy="50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84807"/>
                </a:solidFill>
                <a:latin typeface="Times New Roman"/>
                <a:ea typeface="Times New Roman"/>
              </a:rPr>
              <a:t>Учитель: Храпунова Н.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Содержимое 4" descr="свиток 5.png"/>
          <p:cNvPicPr/>
          <p:nvPr/>
        </p:nvPicPr>
        <p:blipFill>
          <a:blip r:embed="rId2"/>
          <a:stretch/>
        </p:blipFill>
        <p:spPr>
          <a:xfrm>
            <a:off x="357120" y="142920"/>
            <a:ext cx="8429760" cy="128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53735"/>
                </a:solidFill>
                <a:latin typeface="Garamond"/>
              </a:rPr>
              <a:t>Пробл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000" y="1599840"/>
            <a:ext cx="8218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тый класс…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Этот период  – важная ступень в жизни ребенка. Они уже осознают себя старшими в начальной школе. С одной стороны , испытывают чувство гордости за свой статус, с другой стороны,- страх перед переходом в среднее звено.Часто в этот период от родителей можно услышать такие слова: «Мой ребенок становится не управляемым», «Как трудно стало с ним общаться.» и т.п.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и учащихся 4 класса выявлены ряд проблем, возникающих в этот период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Трудности при взаимодействии с учителя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ревожность при ответах у доски. Страх перед контрольными работам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Неспособность писать и думать в задаваемом учителем темп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Увеличение учебной нагрузки при выполнении домашних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Болезненное восприятие отношения к ним со стороны взрослых; чувство обиды на взрослых; ощущение несправедливости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Желание отомстить за обиду сверстникам 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Стремление обсуждать свои проблемы  со сверстниками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 вышеперечисленных проблем кроется совсем не во внешних факторах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о ребенок подходит к периоду кризиса в его развитии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Содержимое 3" descr="учебники.jpg"/>
          <p:cNvPicPr/>
          <p:nvPr/>
        </p:nvPicPr>
        <p:blipFill>
          <a:blip r:embed="rId3"/>
          <a:stretch/>
        </p:blipFill>
        <p:spPr>
          <a:xfrm>
            <a:off x="7858080" y="5715000"/>
            <a:ext cx="1143000" cy="1042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0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84807"/>
                </a:solidFill>
                <a:latin typeface="Calibri"/>
              </a:rPr>
              <a:t>Физический кризи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корение рост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оответствие роста сердечно - сосудистой системы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нарушения со стороны нервн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дление роста легки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лабляется зрени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половое созревание ребе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4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5" name="WordArt 3"/>
          <p:cNvSpPr txBox="1"/>
          <p:nvPr/>
        </p:nvSpPr>
        <p:spPr>
          <a:xfrm>
            <a:off x="785880" y="1928880"/>
            <a:ext cx="7567560" cy="36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6" name="Прямоугольник 1"/>
          <p:cNvSpPr/>
          <p:nvPr/>
        </p:nvSpPr>
        <p:spPr>
          <a:xfrm>
            <a:off x="900000" y="474840"/>
            <a:ext cx="7344000" cy="54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отивация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4 класса у ребенка окончательно закрепляется мотивация к шк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тивация к школе быва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гативна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ебенку не хочется и не нравится ходить в школу. У таких детей даже при хорошем развитии психических процессов нет успешной обуч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а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бенку нравится ходить в школу, но не для получения знаний, а ради формальных признаков: пообщаться с другими детьми, поиграть и т. п. У таких детей успеваемость обычно средня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·      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держательна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Ребенок любит ходить в школу, ему нравится получать новые знания. Такие дети обычно достаточно успеш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38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Личностный  кризи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вероклассник подходит к периоду кризиса в его развитии. Да, на этих этапах дети становятся раздражительными, плаксивыми, агрессивными, непослушными, грубыми. Но в то же время происходит обогащение психики ребенка, его эмоций, приобретается жизненный опыт, расширяются возможнос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значимой становится оценка сверстников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ей деятельностью стала не учеба, а общение со сверстникам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осознание своей индивидуальности, неповторимости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начинают критически оценивать поведение взрослых и рассматривают мир с точки зрения того, как его можно изменит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астанию тревожности ребенка способствуют, кроме того, физиологические изменения в его организме, изменение потребностей: социальных, материальных, духовных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никновение чувства взрослости, желание самоутвердится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2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Для самоутверждения ребенок может выбрать одну из следующих «ролей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мн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претендующие на признание своих интеллектуальных способнос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ильные, смелые, волевые»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ребята, утвердившие себя спортивными достижениям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ктивисты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ащиеся, нашедшие себя в общественной деятельности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Талантлив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дростки, самоутверждение которых идет по пути развития каких-то творческих способностей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влеченные»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дети, которым свойственна тяга к хобби типа коллекционирования (монет, марок, этикеток и т. д.), меломании (коллекционирование дисков, тяготение к современным модным увлечениям и ритмам и т. п.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дежный друг, верный товарищ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- сверстники, главное достоинство которых заключается в умении дружить;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возможны и сомнительные роли. Например,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ль классного «шута»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ного клоуна; который мешает на уроке детям и взрос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хочуха»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смеивает все детское (мультики, игры, одежду и т.д.) при этом своего предложить не может, трудно завлечь в процесс обучения, не заинтересован в учебе, довольствуется малым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цессе самоутверждения возможно и сочетание ролей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6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53735"/>
                </a:solidFill>
                <a:latin typeface="Garamond"/>
              </a:rPr>
              <a:t>Формула обще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Содержимое 5" descr=""/>
          <p:cNvPicPr/>
          <p:nvPr/>
        </p:nvPicPr>
        <p:blipFill>
          <a:blip r:embed="rId4"/>
          <a:stretch/>
        </p:blipFill>
        <p:spPr>
          <a:xfrm>
            <a:off x="457200" y="1494000"/>
            <a:ext cx="84740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0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Способы преодоления тревожности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сравнивайте ребенка с окружающи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веряйте ребе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ще хвалите его, но так, чтобы он знал, за чт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монстрируйте образцы уверенного поведения, будьте во всем примером ребен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едъявляйте к ребенку завышенных требов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удьте последовательны в воспитании ребенка. Не запрещайте без всяких причин того, что разрешали раньш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райтесь делать ребенку меньше замеча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уйте наказание лишь в крайних случая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унижайте ребенка, наказывая ег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щаясь с ребенком, не подрывайте авторитет других значимых взрослых люд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могите ему найти дело по душ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Содержимое 3" descr="глобус 3.png"/>
          <p:cNvPicPr/>
          <p:nvPr/>
        </p:nvPicPr>
        <p:blipFill>
          <a:blip r:embed="rId2"/>
          <a:stretch/>
        </p:blipFill>
        <p:spPr>
          <a:xfrm>
            <a:off x="7786800" y="5214960"/>
            <a:ext cx="1000080" cy="1444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4" name="Содержимое 4" descr="свиток 5.png"/>
          <p:cNvPicPr/>
          <p:nvPr/>
        </p:nvPicPr>
        <p:blipFill>
          <a:blip r:embed="rId3"/>
          <a:stretch/>
        </p:blipFill>
        <p:spPr>
          <a:xfrm>
            <a:off x="357120" y="142920"/>
            <a:ext cx="8429760" cy="1428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5" name="WordArt 3"/>
          <p:cNvSpPr txBox="1"/>
          <p:nvPr/>
        </p:nvSpPr>
        <p:spPr>
          <a:xfrm>
            <a:off x="785880" y="1928880"/>
            <a:ext cx="7567560" cy="36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123</cp:lastModifiedBy>
  <cp:lastPrinted>2016-04-08T06:23:51Z</cp:lastPrinted>
  <dcterms:modified xsi:type="dcterms:W3CDTF">2018-12-29T09:29:19Z</dcterms:modified>
  <cp:revision>118</cp:revision>
  <dc:subject/>
  <dc:title>Слайд 1</dc:title>
</cp:coreProperties>
</file>