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CE1-7224-4923-8FFF-15DE42D9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85AA-8754-4D8B-A718-58603342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032-F643-4934-AB35-2D1D9268A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89D7-7ECA-4812-89FD-5A90F2EC3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987DF-5069-4B92-8645-A6298690B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BE45-5AE0-4593-8645-C9AD4741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6DAB-5CD9-4E00-938C-C6804C64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C7DFB-BED8-4710-A7F9-AA599915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14F6-840E-4979-80D4-4A5174C4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83D6-9350-49D4-B4CA-EBF867CD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A94A-336A-45FB-BC02-E0641B0A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81C5-9F49-47C9-8BA1-589B2E45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01D-2DF4-43EA-9EF0-72DC2E5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1338-19AA-4DC2-8C85-A6A47F4D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42027-BCA2-4BFB-9054-4A6FD28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BC99-3246-4450-B49A-EE2CF7D7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B3F3E-6AFD-4C06-92E1-81A7CDE92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B0DA6-1226-487E-A1F6-D8ED9B35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C364D-E7A6-4D83-9CFE-DFC6FC3D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741899-32D3-4AFF-9A0C-4E3099C81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03F5-0DD9-46CC-A434-60AD8AE1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E38D9-3BCF-4049-9305-A30F7D1F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9F64-AE1F-44CC-9DA7-7303EE6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B64FF-60AD-4E51-8560-7E488079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A9411-770F-4FF3-9735-45B11D7E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868DB-926B-4857-BD38-2775F464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1E026-FAA4-4BA5-A492-FB98516D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D6E5E-42C4-4646-ABA0-E1193D36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D45F3-95EA-44BD-A858-A219F304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B6C1-C4D4-4A40-BD69-226456FFD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F8BE-63FA-4235-927E-BEE18920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11A2-D11F-47BB-8B20-4AF1F636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114C-DBF1-490D-8C13-E080DEAE0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BB78-E2B3-4B74-8792-927E1518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5BB-3871-4DA1-9B97-50499DD5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3172-E3F6-4F5B-8FAA-9BA1B8EA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B25C-D9F8-4931-ABF2-05F5FA52D9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67FD-6156-44C9-9167-949C3D1C9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53B0E-192C-41CF-BF4D-AD61EDF5A0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85920" y="2071440"/>
            <a:ext cx="6500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  <a:ea typeface="Courier New"/>
              </a:rPr>
              <a:t>Кризисы взросления младшего 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29080" y="3928680"/>
            <a:ext cx="2571840" cy="5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читель: Храпунова Н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ый класс…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т период  – важная ступень в жизни ребенка. Они уже осознают себя старшими в начальной школе. С одной стороны , испытывают чувство гордости за свой статус, с другой стороны,- страх перед переходом в среднее звено.Часто в этот период от родителей можно услышать такие слова: «Мой ребенок становится не управляемым», «Как трудно стало с ним общаться.» и т.п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учащихся 4 класса выявлены ряд проблем, возникающих в этот пери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ности при взаимодействии с учител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вожность при ответах у доски. Страх перед контрольными работ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способность писать и думать в задаваемом учителем темп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величение учебной нагрузки при выполнении домашних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олезненное восприятие отношения к ним со стороны взрослых; чувство обиды на взрослых; ощущение несправедливости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Желание отомстить за обиду сверстникам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тремление обсуждать свои проблемы  со сверстник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вышеперечисленных проблем кроется совсем не во внешних фактор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ребенок подходит к периоду кризиса в его развити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858080" y="571500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Физический кризи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ро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роста сердечно - сосудистой сист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нарушения со стороны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ие роста лег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ляется зр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половое созревание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WordArt 3"/>
          <p:cNvSpPr txBox="1"/>
          <p:nvPr/>
        </p:nvSpPr>
        <p:spPr>
          <a:xfrm>
            <a:off x="785880" y="1928880"/>
            <a:ext cx="7567560" cy="36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900000" y="474840"/>
            <a:ext cx="73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а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4 класса у ребенка окончательно закрепляется мотивация к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к школе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а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ку не хочется и не нравится ходить в школу. У таких детей даже при хорошем развитии психических процессов нет успешной обуч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бенку нравится ходить в школу, но не для получения знаний, а ради формальных признаков: пообщаться с другими детьми, поиграть и т. п. У таких детей успеваемость обычно средня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бенок любит ходить в школу, ему нравится получать новые знания. Такие дети обычно достаточно успеш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Личностный  криз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оклассник подходит к периоду кризиса в его развитии. Да, на этих этапах дети становятся раздражительными, плаксивыми, агрессивными, непослушными, грубыми. Но в то же время происходит обогащение психики ребенка, его эмоций, приобретается жизненный опыт, расширяются возмож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значимой становится оценка сверст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ей деятельностью стала не учеба, а общение со сверстни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осознание своей индивидуальности, неповторим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чинают критически оценивать поведение взрослых и рассматривают мир с точки зрения того, как его можно измени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ю тревожности ребенка способствуют, кроме того, физиологические изменения в его организме, изменение потребностей: социальных, материальных, духовны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чувства взрослости, желание самоутверди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Для самоутверждения ребенок может выбрать одну из следующих «рол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претендующие на признание своих интеллектуальных способнос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, смелые, волевы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бята, утвердившие себя спортивными достижения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исты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, нашедшие себя в обще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лантлив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ростки, самоутверждение которых идет по пути развития каких-то творческих способнос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влеченн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оторым свойственна тяга к хобби типа коллекционирования (монет, марок, этикеток и т. д.), меломании (коллекционирование дисков, тяготение к современным модным увлечениям и ритмам и т. п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дежный друг, верный товарищ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сверстники, главное достоинство которых заключается в умении дружит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озможны и сомнительные роли. Например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классного «шута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го клоуна; который мешает на уроке детям и взрос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хочуха»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меивает все детское (мультики, игры, одежду и т.д.) при этом своего предложить не может, трудно завлечь в процесс обучения, не заинтересован в учебе, довольствуется ма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амоутверждения возможно и сочетание ролей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Формула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Содержимое 5" descr=""/>
          <p:cNvPicPr/>
          <p:nvPr/>
        </p:nvPicPr>
        <p:blipFill>
          <a:blip r:embed="rId4"/>
          <a:stretch/>
        </p:blipFill>
        <p:spPr>
          <a:xfrm>
            <a:off x="457200" y="1494000"/>
            <a:ext cx="84740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ы преодоления тревожно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едъявляйте к ребенку завышенных требов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сь с ребенком, не подрывайте авторитет других значимых взрослых люд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WordArt 3"/>
          <p:cNvSpPr txBox="1"/>
          <p:nvPr/>
        </p:nvSpPr>
        <p:spPr>
          <a:xfrm>
            <a:off x="785880" y="1928880"/>
            <a:ext cx="7567560" cy="36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123</cp:lastModifiedBy>
  <cp:lastPrinted>2016-04-08T06:23:51Z</cp:lastPrinted>
  <dcterms:modified xsi:type="dcterms:W3CDTF">2018-12-29T09:29:19Z</dcterms:modified>
  <cp:revision>118</cp:revision>
  <dc:subject/>
  <dc:title>Слайд 1</dc:title>
</cp:coreProperties>
</file>