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23.png" ContentType="image/png"/>
  <Override PartName="/ppt/media/image24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C30-9B74-47FC-92BD-AD4AE6A0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4B7-49F2-4E58-8A54-67AC5792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F15-5A61-4C0E-BE3D-986A8ABE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443-3E40-4568-80A1-0612C99E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46B-4ED5-4D7D-A013-1B32016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462-0A7F-4A9B-9BA3-86C2C1BE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8AA-51E7-4F1C-B87D-B0CC9A1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64E-3039-4CF4-8250-8827A6D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A1C-9972-448E-8683-A034F4B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140-DD67-47C2-8688-AF9FE7B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863-8B7D-48B8-87BB-D8F12FD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B8C-D749-4001-AB2F-9FC1CFC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44F-5EA4-4946-82CD-B375D4943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228600" y="-1143000"/>
            <a:ext cx="10134720" cy="76010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772308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252520" cy="3095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1062000" y="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оганн Карл Фри́дрих Га́у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06880" y="3500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777 - 1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-21960" y="495360"/>
            <a:ext cx="686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й математик, астроном и физ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студентом написал «Арифм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», определивши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и чисел до наш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 лет определил, какие прав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гольники можно постр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ркулем и линейкой. Заним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дезией и вычислительной астроном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л теорию кривых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создателей неевклид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79280" y="4221000"/>
            <a:ext cx="6408720" cy="2637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е считать ничего сделан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если ещё кое-что осталось с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02520" y="6021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.Ф.Га́у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0" y="549360"/>
            <a:ext cx="6659640" cy="6308640"/>
            <a:chOff x="0" y="549360"/>
            <a:chExt cx="6659640" cy="6308640"/>
          </a:xfrm>
        </p:grpSpPr>
        <p:sp>
          <p:nvSpPr>
            <p:cNvPr id="111" name="Rectangle 10"/>
            <p:cNvSpPr/>
            <p:nvPr/>
          </p:nvSpPr>
          <p:spPr>
            <a:xfrm>
              <a:off x="0" y="549360"/>
              <a:ext cx="6659640" cy="6308640"/>
            </a:xfrm>
            <a:prstGeom prst="rect">
              <a:avLst/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1" descr=""/>
            <p:cNvPicPr/>
            <p:nvPr/>
          </p:nvPicPr>
          <p:blipFill>
            <a:blip r:embed="rId2"/>
            <a:stretch/>
          </p:blipFill>
          <p:spPr>
            <a:xfrm>
              <a:off x="360360" y="838080"/>
              <a:ext cx="21607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2"/>
            <p:cNvSpPr/>
            <p:nvPr/>
          </p:nvSpPr>
          <p:spPr>
            <a:xfrm>
              <a:off x="2883240" y="1341360"/>
              <a:ext cx="26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Роспись Гаусс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"/>
            <p:cNvPicPr/>
            <p:nvPr/>
          </p:nvPicPr>
          <p:blipFill>
            <a:blip r:embed="rId3"/>
            <a:stretch/>
          </p:blipFill>
          <p:spPr>
            <a:xfrm>
              <a:off x="3168720" y="2205000"/>
              <a:ext cx="330984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4"/>
            <p:cNvSpPr/>
            <p:nvPr/>
          </p:nvSpPr>
          <p:spPr>
            <a:xfrm>
              <a:off x="290520" y="5532480"/>
              <a:ext cx="275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амятник Гаус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 Брауншвейге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48680" y="18900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АРИСТ ГАЛУ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98800" cy="30686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2539800" y="765000"/>
            <a:ext cx="675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йся французский математ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тель современн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рожил двадцать лет, всего пять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них занимался математ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работы, обессмерти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имя, занимают чуть более 60 страниц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20 лет жизни Галуа успел сде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я, ставящие его на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пнейших математиков XIX века. Ре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по теории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й, он заложил осно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ой алгебры, вышел на та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понятия, как групп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ле (конечные поля носят на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й Галуа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520" y="3429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11 - 18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2627280" y="836640"/>
            <a:ext cx="6516720" cy="5759280"/>
            <a:chOff x="2627280" y="836640"/>
            <a:chExt cx="6516720" cy="5759280"/>
          </a:xfrm>
        </p:grpSpPr>
        <p:sp>
          <p:nvSpPr>
            <p:cNvPr id="121" name="Rectangle 8"/>
            <p:cNvSpPr/>
            <p:nvPr/>
          </p:nvSpPr>
          <p:spPr>
            <a:xfrm>
              <a:off x="2627280" y="836640"/>
              <a:ext cx="6516720" cy="5759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9" descr=""/>
            <p:cNvPicPr/>
            <p:nvPr/>
          </p:nvPicPr>
          <p:blipFill>
            <a:blip r:embed="rId2"/>
            <a:stretch/>
          </p:blipFill>
          <p:spPr>
            <a:xfrm>
              <a:off x="3132000" y="1222200"/>
              <a:ext cx="19382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2848320" y="5543280"/>
              <a:ext cx="263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еда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Эвариста Галу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1" descr=""/>
            <p:cNvPicPr/>
            <p:nvPr/>
          </p:nvPicPr>
          <p:blipFill>
            <a:blip r:embed="rId3"/>
            <a:stretch/>
          </p:blipFill>
          <p:spPr>
            <a:xfrm>
              <a:off x="5437080" y="2303280"/>
              <a:ext cx="3529080" cy="23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29120" cy="31672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26" name="Text Box 8"/>
          <p:cNvSpPr/>
          <p:nvPr/>
        </p:nvSpPr>
        <p:spPr>
          <a:xfrm>
            <a:off x="1762920" y="189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Aбель Нильс Хен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250920" y="5229360"/>
            <a:ext cx="8497800" cy="1628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«Абель оставил математикам столь богат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аследие, что им будет чем заним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 ближайшие 150 ле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02160" y="64008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арль Эрм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61640" y="639720"/>
            <a:ext cx="6224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рвежский математ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лгебре Абель нашёл необходи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 для того, чтобы кор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 выражался «в радикалах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коэффициенты эт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ель тщательно исследовал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одимости рядов, причём на высш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е строг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ажная теорема Абеля 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лах от алгебраически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а опубликована лишь посмер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жандр назвал это откры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рукотворным памятником» Аб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sp>
          <p:nvSpPr>
            <p:cNvPr id="131" name="Rectangle 17"/>
            <p:cNvSpPr/>
            <p:nvPr/>
          </p:nvSpPr>
          <p:spPr>
            <a:xfrm>
              <a:off x="0" y="620640"/>
              <a:ext cx="6443640" cy="49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   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В королевском парке в Осло стоит скульпту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сказочного юноши, попирающе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двух поверженных чудовищ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о цоколю идет надпись "ABEL"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9" descr=""/>
            <p:cNvPicPr/>
            <p:nvPr/>
          </p:nvPicPr>
          <p:blipFill>
            <a:blip r:embed="rId2"/>
            <a:stretch/>
          </p:blipFill>
          <p:spPr>
            <a:xfrm>
              <a:off x="2376720" y="765000"/>
              <a:ext cx="3171600" cy="400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20"/>
          <p:cNvSpPr/>
          <p:nvPr/>
        </p:nvSpPr>
        <p:spPr>
          <a:xfrm>
            <a:off x="6735600" y="357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02 - 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44960" cy="32400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4189680" y="18900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ИД ГИЛЬБЕ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844000" y="620640"/>
            <a:ext cx="604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йся немец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-универс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тель Геттингем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льберд завершил нача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дом. Ему принадлежит глуб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бщение евклидовой геометрии,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 важнейшие результат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й логи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2590920" y="3860640"/>
            <a:ext cx="6553080" cy="299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Арифметические знаки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писанные геометрические фигу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а геометрические фигуры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арисованные форму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512320" y="602136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ИД ГИЛЬБЕ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2484360" y="620640"/>
            <a:ext cx="6659640" cy="6237360"/>
            <a:chOff x="2484360" y="620640"/>
            <a:chExt cx="6659640" cy="6237360"/>
          </a:xfrm>
        </p:grpSpPr>
        <p:sp>
          <p:nvSpPr>
            <p:cNvPr id="141" name="Rectangle 20"/>
            <p:cNvSpPr/>
            <p:nvPr/>
          </p:nvSpPr>
          <p:spPr>
            <a:xfrm>
              <a:off x="2484360" y="620640"/>
              <a:ext cx="6659640" cy="623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21" descr=""/>
            <p:cNvPicPr/>
            <p:nvPr/>
          </p:nvPicPr>
          <p:blipFill>
            <a:blip r:embed="rId2"/>
            <a:stretch/>
          </p:blipFill>
          <p:spPr>
            <a:xfrm>
              <a:off x="4512960" y="2708280"/>
              <a:ext cx="2861280" cy="40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2"/>
            <p:cNvSpPr/>
            <p:nvPr/>
          </p:nvSpPr>
          <p:spPr>
            <a:xfrm>
              <a:off x="3267720" y="1109520"/>
              <a:ext cx="5091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гила Гильберта в Геттинген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23"/>
          <p:cNvSpPr/>
          <p:nvPr/>
        </p:nvSpPr>
        <p:spPr>
          <a:xfrm>
            <a:off x="379080" y="35924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862 -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257400" y="18900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ФЬЯ ВАСИЛЬЕВНА КОВАЛЕВСКА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rcRect l="4661" t="0" r="0" b="-412"/>
          <a:stretch/>
        </p:blipFill>
        <p:spPr>
          <a:xfrm>
            <a:off x="6877080" y="189000"/>
            <a:ext cx="2089080" cy="32954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47" name="Text Box 10"/>
          <p:cNvSpPr/>
          <p:nvPr/>
        </p:nvSpPr>
        <p:spPr>
          <a:xfrm>
            <a:off x="1440" y="549360"/>
            <a:ext cx="6878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математик и механик, с188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-корреспондент Петербургской 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в России и в Северной Евро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щина-профессор и первая в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щина-профессор математ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валевская открыла третий класс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чай разрешимости задачи о вра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ёрдого тела вокруг неподвиж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ла существование аналит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задачи Коши для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ых уравнений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ми производными, исследо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у Лапласа о равновесии коль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урна, получила второе прибл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ла также в области те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енциала, математической физ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есной механ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0" y="609480"/>
            <a:ext cx="6732720" cy="6248160"/>
            <a:chOff x="0" y="609480"/>
            <a:chExt cx="6732720" cy="6248160"/>
          </a:xfrm>
        </p:grpSpPr>
        <p:sp>
          <p:nvSpPr>
            <p:cNvPr id="149" name="Rectangle 11"/>
            <p:cNvSpPr/>
            <p:nvPr/>
          </p:nvSpPr>
          <p:spPr>
            <a:xfrm>
              <a:off x="0" y="609480"/>
              <a:ext cx="6732720" cy="6248160"/>
            </a:xfrm>
            <a:prstGeom prst="rect">
              <a:avLst/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2" descr=""/>
            <p:cNvPicPr/>
            <p:nvPr/>
          </p:nvPicPr>
          <p:blipFill>
            <a:blip r:embed="rId2"/>
            <a:stretch/>
          </p:blipFill>
          <p:spPr>
            <a:xfrm>
              <a:off x="1079640" y="1186560"/>
              <a:ext cx="4400280" cy="30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3"/>
            <p:cNvSpPr/>
            <p:nvPr/>
          </p:nvSpPr>
          <p:spPr>
            <a:xfrm>
              <a:off x="463680" y="4359240"/>
              <a:ext cx="5819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Бюст великого русского матема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фьи Васильевны Ковалевс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а её малой родине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 селе Полиби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еликолукского рай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5"/>
          <p:cNvSpPr/>
          <p:nvPr/>
        </p:nvSpPr>
        <p:spPr>
          <a:xfrm>
            <a:off x="7022880" y="36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850 - 18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108160" cy="2879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120840" y="18900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икола́й Ива́нович Лобаче́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412360" y="549360"/>
            <a:ext cx="681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й русский математик, созд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и Лобачевского, дея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верситетского образ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ного просвещ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аче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л  труд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началах геомет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ечатанный (1829—183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урн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занский вестник». Это сочинение ст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й в мировой литературе серьё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бликацией по неевклидовой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лгебре он разработал новы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лижённого решения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тематическом анализе получил р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нких теорем о тригонометр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ах, уточнил понятие непреры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484360" y="620640"/>
            <a:ext cx="6659640" cy="5904000"/>
            <a:chOff x="2484360" y="620640"/>
            <a:chExt cx="6659640" cy="5904000"/>
          </a:xfrm>
        </p:grpSpPr>
        <p:sp>
          <p:nvSpPr>
            <p:cNvPr id="157" name="Line 9"/>
            <p:cNvSpPr/>
            <p:nvPr/>
          </p:nvSpPr>
          <p:spPr>
            <a:xfrm>
              <a:off x="3132000" y="3716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484360" y="620640"/>
              <a:ext cx="6659640" cy="5904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11" descr=""/>
            <p:cNvPicPr/>
            <p:nvPr/>
          </p:nvPicPr>
          <p:blipFill>
            <a:blip r:embed="rId2"/>
            <a:stretch/>
          </p:blipFill>
          <p:spPr>
            <a:xfrm>
              <a:off x="3564000" y="1268280"/>
              <a:ext cx="4753080" cy="38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"/>
            <p:cNvSpPr/>
            <p:nvPr/>
          </p:nvSpPr>
          <p:spPr>
            <a:xfrm>
              <a:off x="3421800" y="5300640"/>
              <a:ext cx="508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Бюст Н. И. Лобачевск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 Нижегородском университет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306000" y="3303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792 - 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580000" y="189000"/>
            <a:ext cx="3317760" cy="4319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44" name="Text Box 6"/>
          <p:cNvSpPr/>
          <p:nvPr/>
        </p:nvSpPr>
        <p:spPr>
          <a:xfrm>
            <a:off x="271800" y="692280"/>
            <a:ext cx="5411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временном мире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итается великим математ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смологом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чные авторы нашей э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ают Пифагору автор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ой теоремы: квад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нузы прямоуг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а равняется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ов катетов. Такое м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вается на свед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оллодора-исчис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ичность не идентифицирова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тихотворных стро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156000" y="4581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570 г. до н.э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09480" y="685800"/>
            <a:ext cx="4826160" cy="483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ременные ис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дполагают, что Пифа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доказывал теоре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 мог передать грекам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нание, известное в Вавил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 1000 лет до Пифагор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отя сомнение в автор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а существует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сомых аргум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тобы это оспорить,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837080" y="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18800" y="11592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Герон Александрийский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43000" cy="28731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8560" y="549360"/>
            <a:ext cx="6680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ученый, математ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к, механик, изобрет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работы Гер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ются энциклопедией ант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ой математики. В лучше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х- "Метрике" - даны прави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 для точного и приближ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ения площадей прави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гольников, объемов усе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уса и пирамиды, прив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Герона для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и треугольника по трем сторо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ются правила числен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ных уравнений и приближ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лечения квадратного и куб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50920" y="549360"/>
            <a:ext cx="6480000" cy="6119640"/>
            <a:chOff x="250920" y="549360"/>
            <a:chExt cx="6480000" cy="6119640"/>
          </a:xfrm>
        </p:grpSpPr>
        <p:sp>
          <p:nvSpPr>
            <p:cNvPr id="53" name="Rectangle 7"/>
            <p:cNvSpPr/>
            <p:nvPr/>
          </p:nvSpPr>
          <p:spPr>
            <a:xfrm>
              <a:off x="250920" y="549360"/>
              <a:ext cx="6480000" cy="6119640"/>
            </a:xfrm>
            <a:prstGeom prst="rect">
              <a:avLst/>
            </a:prstGeom>
            <a:solidFill>
              <a:srgbClr val="e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о́рмула Геро́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зволяет вычисл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лощадь треугольника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 его сторонам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a, b, c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— полупериметр треугольника: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10"/>
                <p:cNvSpPr txBox="1"/>
                <p:nvPr/>
              </p:nvSpPr>
              <p:spPr>
                <a:xfrm>
                  <a:off x="395280" y="3141720"/>
                  <a:ext cx="60850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Object 12"/>
                <p:cNvSpPr txBox="1"/>
                <p:nvPr/>
              </p:nvSpPr>
              <p:spPr>
                <a:xfrm>
                  <a:off x="1619280" y="4797360"/>
                  <a:ext cx="3241800" cy="14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Text Box 16"/>
          <p:cNvSpPr/>
          <p:nvPr/>
        </p:nvSpPr>
        <p:spPr>
          <a:xfrm>
            <a:off x="7003080" y="30877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73120" cy="28814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4861440" y="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Ф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0920" y="33336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фант -древнегреческий математик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ии. О его жизни нет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аких сведений. Сохранилась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го трактата Диоф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Арифметика" (6 кн. из 13) и отры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ги о многоугольных  чис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"Арифметике", помимо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 алгебры, приведено много зада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ящихся к неопредел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м различных степеней,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ы методы нахождения решений таких уравнений в рациональных положительных числах. Для обозначения неизвестного и его степеней, обратных чисел, равенства и вычитания Диофант употреблял сокращенную запись слов. При умножении сумм и разностей двух чисел применял правила знаков. Имел представление об отрицательных чис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9280" y="4076640"/>
            <a:ext cx="871380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ем Диофанта названы два 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а теории чисе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диофантовых урав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ория диофантовых прибли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2771640" y="404640"/>
            <a:ext cx="6372360" cy="3672000"/>
            <a:chOff x="2771640" y="404640"/>
            <a:chExt cx="6372360" cy="3672000"/>
          </a:xfrm>
        </p:grpSpPr>
        <p:sp>
          <p:nvSpPr>
            <p:cNvPr id="62" name="Rectangle 8"/>
            <p:cNvSpPr/>
            <p:nvPr/>
          </p:nvSpPr>
          <p:spPr>
            <a:xfrm>
              <a:off x="2771640" y="404640"/>
              <a:ext cx="6372360" cy="367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9" descr=""/>
            <p:cNvPicPr/>
            <p:nvPr/>
          </p:nvPicPr>
          <p:blipFill>
            <a:blip r:embed="rId2"/>
            <a:stretch/>
          </p:blipFill>
          <p:spPr>
            <a:xfrm>
              <a:off x="3708360" y="765000"/>
              <a:ext cx="206388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1" descr=""/>
            <p:cNvPicPr/>
            <p:nvPr/>
          </p:nvPicPr>
          <p:blipFill>
            <a:blip r:embed="rId3"/>
            <a:stretch/>
          </p:blipFill>
          <p:spPr>
            <a:xfrm>
              <a:off x="5940360" y="765000"/>
              <a:ext cx="2049480" cy="307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3"/>
          <p:cNvSpPr/>
          <p:nvPr/>
        </p:nvSpPr>
        <p:spPr>
          <a:xfrm>
            <a:off x="609480" y="32130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65360" cy="3527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2197080" y="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о́ганн Ке́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-2880" y="476280"/>
            <a:ext cx="9322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нашёл способ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ов разнообразных тел вращ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й описал в книге «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еометрия винных боч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очень подроб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овал симметрию снеж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астрономически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внёс вклад в теорию кон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чений. Он составил одну из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 логариф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еплера впервые встр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ин «среднее арифметическ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впервые ввёл важнейшее поня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сконе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далённой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н же ввёл понятие фокуса кон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чения и рассмотрел проективные пре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ических сечений, в том числе меняющие их тип 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переводящие эллипс в гиперб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, когда этот научный акт уже совершился, ник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ожет оценить полностью, сколько изобрета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тяжёлого труда и терпения понадобило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открыть эти законы и столь точно их выраз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476280"/>
            <a:ext cx="6227640" cy="489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ил в эпоху, когда ещё не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и в существ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ой общей закономер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всех явлени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лубокой была у него 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акую закономерность, ес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я в одиночестве, ник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ддерживаемый и не поня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а протяжении многих десятков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пал в ней силы для трудн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потливого эмпир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движения плане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х законов этого дви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735600" y="3789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571 - 1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371600" y="195588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ка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е Декарта-по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тической геометрии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ческие задачи перевод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язык алгебры при помощи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рдинат. Он сформулировал основную теорему алгебры: «число корней алгебра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 равно его степени», доказатель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ой было получено лишь в конце XVIII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419720" y="8534520"/>
            <a:ext cx="4241520" cy="5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990720" y="320184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596-16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4050" t="0" r="1485" b="1111"/>
          <a:stretch/>
        </p:blipFill>
        <p:spPr>
          <a:xfrm>
            <a:off x="681120" y="227160"/>
            <a:ext cx="2266920" cy="2744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424560" y="189000"/>
            <a:ext cx="2500200" cy="33112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2160" y="549360"/>
            <a:ext cx="62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, один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елей аналитической геометр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ого и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правило на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тремума с помощью произв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многих теорем теори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ая теорема Ферма из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ел, которую Ферма сформулир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доказательства, вызывает 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их по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работ Ферма началась 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ая наука-теория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97440" y="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ЬЕР Ф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0" y="609480"/>
            <a:ext cx="6356880" cy="9439920"/>
            <a:chOff x="0" y="609480"/>
            <a:chExt cx="6356880" cy="9439920"/>
          </a:xfrm>
        </p:grpSpPr>
        <p:sp>
          <p:nvSpPr>
            <p:cNvPr id="80" name="Text Box 8"/>
            <p:cNvSpPr/>
            <p:nvPr/>
          </p:nvSpPr>
          <p:spPr>
            <a:xfrm>
              <a:off x="3879360" y="767736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1601-16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>
              <a:off x="0" y="609480"/>
              <a:ext cx="6019920" cy="53272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0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3985200" cy="43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2"/>
            <p:cNvSpPr/>
            <p:nvPr/>
          </p:nvSpPr>
          <p:spPr>
            <a:xfrm>
              <a:off x="578520" y="9589680"/>
              <a:ext cx="577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юст Ферма в тулузском Капитол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6735600" y="36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601 - 16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05080" cy="3168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86" name="Text Box 7"/>
          <p:cNvSpPr/>
          <p:nvPr/>
        </p:nvSpPr>
        <p:spPr>
          <a:xfrm>
            <a:off x="1118160" y="18900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тфрид Вильгельм 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692280"/>
            <a:ext cx="647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й математик, физик, филосо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ель Берлинской академии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ожник дифферен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нтегрального исчисления, вв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ую часть современной симво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го анализа. В рабо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йбница впервые появились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и алгорит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79280" y="3284640"/>
            <a:ext cx="5761080" cy="3573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едупреждаю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стерегались отбрас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, -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шибка, котор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часто допуск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которая препя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одвижению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465280" y="64008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В. 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8"/>
          <p:cNvGrpSpPr/>
          <p:nvPr/>
        </p:nvGrpSpPr>
        <p:grpSpPr>
          <a:xfrm>
            <a:off x="228600" y="762120"/>
            <a:ext cx="6143760" cy="6095880"/>
            <a:chOff x="228600" y="762120"/>
            <a:chExt cx="6143760" cy="6095880"/>
          </a:xfrm>
        </p:grpSpPr>
        <p:sp>
          <p:nvSpPr>
            <p:cNvPr id="91" name="Text Box 12"/>
            <p:cNvSpPr/>
            <p:nvPr/>
          </p:nvSpPr>
          <p:spPr>
            <a:xfrm>
              <a:off x="3504960" y="308304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1646 - 17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228600" y="762120"/>
              <a:ext cx="6143760" cy="6095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5" descr=""/>
            <p:cNvPicPr/>
            <p:nvPr/>
          </p:nvPicPr>
          <p:blipFill>
            <a:blip r:embed="rId2"/>
            <a:stretch/>
          </p:blipFill>
          <p:spPr>
            <a:xfrm>
              <a:off x="566640" y="1464840"/>
              <a:ext cx="5473440" cy="28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7"/>
            <p:cNvSpPr/>
            <p:nvPr/>
          </p:nvSpPr>
          <p:spPr>
            <a:xfrm>
              <a:off x="635400" y="4847040"/>
              <a:ext cx="5272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5 марок, 1966 г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Немецкая памятная монет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освящённая 250-летию смер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Готфрида Вильгельма Лейбниц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6806880" y="3500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646 - 1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rcRect l="0" t="0" r="3410" b="3809"/>
          <a:stretch/>
        </p:blipFill>
        <p:spPr>
          <a:xfrm>
            <a:off x="324000" y="260280"/>
            <a:ext cx="2293920" cy="3238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4269960" y="1890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ЕОНАРД ЭЙ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46920" y="364320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707-178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664360" y="692280"/>
            <a:ext cx="655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, немецкий и швейцар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, внёсший зна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лад в развитие математики, механ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ки, астрономии и ря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ых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йлер оставил важнейшие труды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различным отраслям матема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ки, физики, астрономии и по ря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ых нау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он созд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новых математ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циплин — теорию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ционное исчисление,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ных функ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ую геомет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ей, специальны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2"/>
          <p:cNvGrpSpPr/>
          <p:nvPr/>
        </p:nvGrpSpPr>
        <p:grpSpPr>
          <a:xfrm>
            <a:off x="2771640" y="692280"/>
            <a:ext cx="6372360" cy="5616360"/>
            <a:chOff x="2771640" y="692280"/>
            <a:chExt cx="6372360" cy="5616360"/>
          </a:xfrm>
        </p:grpSpPr>
        <p:sp>
          <p:nvSpPr>
            <p:cNvPr id="101" name="Rectangle 8"/>
            <p:cNvSpPr/>
            <p:nvPr/>
          </p:nvSpPr>
          <p:spPr>
            <a:xfrm>
              <a:off x="2771640" y="692280"/>
              <a:ext cx="6372360" cy="5616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0" descr=""/>
            <p:cNvPicPr/>
            <p:nvPr/>
          </p:nvPicPr>
          <p:blipFill>
            <a:blip r:embed="rId2"/>
            <a:stretch/>
          </p:blipFill>
          <p:spPr>
            <a:xfrm>
              <a:off x="3851280" y="907920"/>
              <a:ext cx="4176720" cy="40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/>
            <p:cNvSpPr/>
            <p:nvPr/>
          </p:nvSpPr>
          <p:spPr>
            <a:xfrm>
              <a:off x="3562920" y="5011560"/>
              <a:ext cx="48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Швейцарская банкно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 портретом молодого Эйле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dim</cp:lastModifiedBy>
  <dcterms:modified xsi:type="dcterms:W3CDTF">2018-12-28T19:04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