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9.jpeg" ContentType="image/jpeg"/>
  <Override PartName="/ppt/media/image22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23.png" ContentType="image/png"/>
  <Override PartName="/ppt/media/image24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D29-E81C-473B-83F4-B2D5DFA7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014-B325-47A9-9BFD-6DFBE586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738-F568-4F39-9F3B-FFC618E3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EEF-02EB-48F1-BF26-3F937298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80B-4BF5-41CD-95F4-1854838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904-2930-4C80-92F2-E262E622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CB0-DDB3-4E43-83FF-2993530C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2F3-089C-42FB-ABE5-F54A42F8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2F0-6596-44F2-B2E3-AAFE2E20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8F3-8CEF-4047-95F6-1FDFADDE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3F7-DC8E-4B50-B376-273BCF62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E6D-85EF-4FC1-ABDB-1F9C4A29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FCD2-44F8-4B20-A5F6-0BB58DFF6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228600" y="-1143000"/>
            <a:ext cx="10134720" cy="760104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5" descr=""/>
          <p:cNvPicPr/>
          <p:nvPr/>
        </p:nvPicPr>
        <p:blipFill>
          <a:blip r:embed="rId2"/>
          <a:stretch/>
        </p:blipFill>
        <p:spPr>
          <a:xfrm>
            <a:off x="1676520" y="609480"/>
            <a:ext cx="772308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252520" cy="30956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1062000" y="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оганн Карл Фри́дрих Га́у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806880" y="35002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777 - 18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-21960" y="495360"/>
            <a:ext cx="686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й математик, астроном и физ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ё студентом написал «Арифме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», определивши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и чисел до наш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 лет определил, какие прави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угольники можно постро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ркулем и линейкой. Занима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дезией и вычислительной астроном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л теорию кривых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из создателей неевклид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79280" y="4221000"/>
            <a:ext cx="6408720" cy="2637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Не считать ничего сделан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если ещё кое-что осталось с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502520" y="602136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.Ф.Га́у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5"/>
          <p:cNvGrpSpPr/>
          <p:nvPr/>
        </p:nvGrpSpPr>
        <p:grpSpPr>
          <a:xfrm>
            <a:off x="0" y="549360"/>
            <a:ext cx="6659640" cy="6308640"/>
            <a:chOff x="0" y="549360"/>
            <a:chExt cx="6659640" cy="6308640"/>
          </a:xfrm>
        </p:grpSpPr>
        <p:sp>
          <p:nvSpPr>
            <p:cNvPr id="111" name="Rectangle 10"/>
            <p:cNvSpPr/>
            <p:nvPr/>
          </p:nvSpPr>
          <p:spPr>
            <a:xfrm>
              <a:off x="0" y="549360"/>
              <a:ext cx="6659640" cy="6308640"/>
            </a:xfrm>
            <a:prstGeom prst="rect">
              <a:avLst/>
            </a:prstGeom>
            <a:solidFill>
              <a:srgbClr val="c4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1" descr=""/>
            <p:cNvPicPr/>
            <p:nvPr/>
          </p:nvPicPr>
          <p:blipFill>
            <a:blip r:embed="rId2"/>
            <a:stretch/>
          </p:blipFill>
          <p:spPr>
            <a:xfrm>
              <a:off x="360360" y="838080"/>
              <a:ext cx="216072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2"/>
            <p:cNvSpPr/>
            <p:nvPr/>
          </p:nvSpPr>
          <p:spPr>
            <a:xfrm>
              <a:off x="2883240" y="1341360"/>
              <a:ext cx="263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Роспись Гаусс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13" descr=""/>
            <p:cNvPicPr/>
            <p:nvPr/>
          </p:nvPicPr>
          <p:blipFill>
            <a:blip r:embed="rId3"/>
            <a:stretch/>
          </p:blipFill>
          <p:spPr>
            <a:xfrm>
              <a:off x="3168720" y="2205000"/>
              <a:ext cx="330984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4"/>
            <p:cNvSpPr/>
            <p:nvPr/>
          </p:nvSpPr>
          <p:spPr>
            <a:xfrm>
              <a:off x="290520" y="5532480"/>
              <a:ext cx="275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амятник Гаусс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в Брауншвейге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648680" y="18900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ВАРИСТ ГАЛУ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098800" cy="30686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2539800" y="765000"/>
            <a:ext cx="6758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ающийся французский математ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тель современной алгеб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прожил двадцать лет, всего пять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них занимался математ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е работы, обессмертив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имя, занимают чуть более 60 страниц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20 лет жизни Галуа успел сдел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я, ставящие его на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пнейших математиков XIX века. Реш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по теории алгебра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й, он заложил осно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ой алгебры, вышел на та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даментальные понятия, как групп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ле (конечные поля носят наз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й Галуа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42520" y="34290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11 - 18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2627280" y="836640"/>
            <a:ext cx="6516720" cy="5759280"/>
            <a:chOff x="2627280" y="836640"/>
            <a:chExt cx="6516720" cy="5759280"/>
          </a:xfrm>
        </p:grpSpPr>
        <p:sp>
          <p:nvSpPr>
            <p:cNvPr id="121" name="Rectangle 8"/>
            <p:cNvSpPr/>
            <p:nvPr/>
          </p:nvSpPr>
          <p:spPr>
            <a:xfrm>
              <a:off x="2627280" y="836640"/>
              <a:ext cx="6516720" cy="5759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9" descr=""/>
            <p:cNvPicPr/>
            <p:nvPr/>
          </p:nvPicPr>
          <p:blipFill>
            <a:blip r:embed="rId2"/>
            <a:stretch/>
          </p:blipFill>
          <p:spPr>
            <a:xfrm>
              <a:off x="3132000" y="1222200"/>
              <a:ext cx="19382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0"/>
            <p:cNvSpPr/>
            <p:nvPr/>
          </p:nvSpPr>
          <p:spPr>
            <a:xfrm>
              <a:off x="2848320" y="5543280"/>
              <a:ext cx="263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едал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Эвариста Галу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1" descr=""/>
            <p:cNvPicPr/>
            <p:nvPr/>
          </p:nvPicPr>
          <p:blipFill>
            <a:blip r:embed="rId3"/>
            <a:stretch/>
          </p:blipFill>
          <p:spPr>
            <a:xfrm>
              <a:off x="5437080" y="2303280"/>
              <a:ext cx="3529080" cy="230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229120" cy="31672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26" name="Text Box 8"/>
          <p:cNvSpPr/>
          <p:nvPr/>
        </p:nvSpPr>
        <p:spPr>
          <a:xfrm>
            <a:off x="1762920" y="189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Aбель Нильс Хен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250920" y="5229360"/>
            <a:ext cx="8497800" cy="1628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«Абель оставил математикам столь богат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аследие, что им будет чем заним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 ближайшие 150 ле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302160" y="640080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Шарль Эрм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61640" y="639720"/>
            <a:ext cx="6224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рвежский математ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лгебре Абель нашёл необходи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е для того, чтобы кор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я выражался «в радикалах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з коэффициенты эт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ель тщательно исследовал 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ходимости рядов, причём на высш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не строг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важная теорема Абеля 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алах от алгебраических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а опубликована лишь посмер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жандр назвал это откры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рукотворным памятником» Аб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6"/>
          <p:cNvGrpSpPr/>
          <p:nvPr/>
        </p:nvGrpSpPr>
        <p:grpSpPr>
          <a:xfrm>
            <a:off x="0" y="620640"/>
            <a:ext cx="9144000" cy="6237360"/>
            <a:chOff x="0" y="620640"/>
            <a:chExt cx="9144000" cy="6237360"/>
          </a:xfrm>
        </p:grpSpPr>
        <p:sp>
          <p:nvSpPr>
            <p:cNvPr id="131" name="Rectangle 17"/>
            <p:cNvSpPr/>
            <p:nvPr/>
          </p:nvSpPr>
          <p:spPr>
            <a:xfrm>
              <a:off x="0" y="620640"/>
              <a:ext cx="6443640" cy="496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0" y="4869000"/>
              <a:ext cx="9144000" cy="198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   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В королевском парке в Осло стоит скульптур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сказочного юноши, попирающе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двух поверженных чудовищ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по цоколю идет надпись "ABEL"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19" descr=""/>
            <p:cNvPicPr/>
            <p:nvPr/>
          </p:nvPicPr>
          <p:blipFill>
            <a:blip r:embed="rId2"/>
            <a:stretch/>
          </p:blipFill>
          <p:spPr>
            <a:xfrm>
              <a:off x="2376720" y="765000"/>
              <a:ext cx="3171600" cy="400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20"/>
          <p:cNvSpPr/>
          <p:nvPr/>
        </p:nvSpPr>
        <p:spPr>
          <a:xfrm>
            <a:off x="6735600" y="35733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802 - 18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244960" cy="324000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sp>
        <p:nvSpPr>
          <p:cNvPr id="136" name="Text Box 11"/>
          <p:cNvSpPr/>
          <p:nvPr/>
        </p:nvSpPr>
        <p:spPr>
          <a:xfrm>
            <a:off x="4189680" y="189000"/>
            <a:ext cx="30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ИД ГИЛЬБЕ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844000" y="620640"/>
            <a:ext cx="604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ающийся немец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-универс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тель Геттингем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ой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льберд завершил нача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вклидом. Ему принадлежит глубо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бщение евклидовой геометрии,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л важнейшие результаты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ой логик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2590920" y="3860640"/>
            <a:ext cx="6553080" cy="299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«Арифметические знаки –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писанные геометрические фигу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а геометрические фигуры –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арисованные форму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5512320" y="6021360"/>
            <a:ext cx="30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ИД ГИЛЬБЕ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9"/>
          <p:cNvGrpSpPr/>
          <p:nvPr/>
        </p:nvGrpSpPr>
        <p:grpSpPr>
          <a:xfrm>
            <a:off x="2484360" y="620640"/>
            <a:ext cx="6659640" cy="6237360"/>
            <a:chOff x="2484360" y="620640"/>
            <a:chExt cx="6659640" cy="6237360"/>
          </a:xfrm>
        </p:grpSpPr>
        <p:sp>
          <p:nvSpPr>
            <p:cNvPr id="141" name="Rectangle 20"/>
            <p:cNvSpPr/>
            <p:nvPr/>
          </p:nvSpPr>
          <p:spPr>
            <a:xfrm>
              <a:off x="2484360" y="620640"/>
              <a:ext cx="6659640" cy="6237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21" descr=""/>
            <p:cNvPicPr/>
            <p:nvPr/>
          </p:nvPicPr>
          <p:blipFill>
            <a:blip r:embed="rId2"/>
            <a:stretch/>
          </p:blipFill>
          <p:spPr>
            <a:xfrm>
              <a:off x="4512960" y="2708280"/>
              <a:ext cx="2861280" cy="40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22"/>
            <p:cNvSpPr/>
            <p:nvPr/>
          </p:nvSpPr>
          <p:spPr>
            <a:xfrm>
              <a:off x="3267720" y="1109520"/>
              <a:ext cx="5091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Могила Гильберта в Геттинген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23"/>
          <p:cNvSpPr/>
          <p:nvPr/>
        </p:nvSpPr>
        <p:spPr>
          <a:xfrm>
            <a:off x="379080" y="359244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862 - 1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8"/>
          <p:cNvSpPr/>
          <p:nvPr/>
        </p:nvSpPr>
        <p:spPr>
          <a:xfrm>
            <a:off x="257400" y="18900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ОФЬЯ ВАСИЛЬЕВНА КОВАЛЕВСКА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rcRect l="4661" t="0" r="0" b="-412"/>
          <a:stretch/>
        </p:blipFill>
        <p:spPr>
          <a:xfrm>
            <a:off x="6877080" y="189000"/>
            <a:ext cx="2089080" cy="32954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47" name="Text Box 10"/>
          <p:cNvSpPr/>
          <p:nvPr/>
        </p:nvSpPr>
        <p:spPr>
          <a:xfrm>
            <a:off x="1440" y="549360"/>
            <a:ext cx="6878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математик и механик, с1889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лен-корреспондент Петербургской 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ая в России и в Северной Евро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нщина-профессор и первая в ми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нщина-профессор математ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валевская открыла третий класс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чай разрешимости задачи о вращ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ёрдого тела вокруг неподвиж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ла существование аналит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задачи Коши для сис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фференциальных уравнений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ыми производными, исследов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у Лапласа о равновесии коль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урна, получила второе прибли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ла также в области те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енциала, математической физ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бесной механ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0" y="609480"/>
            <a:ext cx="6732720" cy="6248160"/>
            <a:chOff x="0" y="609480"/>
            <a:chExt cx="6732720" cy="6248160"/>
          </a:xfrm>
        </p:grpSpPr>
        <p:sp>
          <p:nvSpPr>
            <p:cNvPr id="149" name="Rectangle 11"/>
            <p:cNvSpPr/>
            <p:nvPr/>
          </p:nvSpPr>
          <p:spPr>
            <a:xfrm>
              <a:off x="0" y="609480"/>
              <a:ext cx="6732720" cy="6248160"/>
            </a:xfrm>
            <a:prstGeom prst="rect">
              <a:avLst/>
            </a:prstGeom>
            <a:solidFill>
              <a:srgbClr val="c4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12" descr=""/>
            <p:cNvPicPr/>
            <p:nvPr/>
          </p:nvPicPr>
          <p:blipFill>
            <a:blip r:embed="rId2"/>
            <a:stretch/>
          </p:blipFill>
          <p:spPr>
            <a:xfrm>
              <a:off x="1079640" y="1186560"/>
              <a:ext cx="4400280" cy="30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3"/>
            <p:cNvSpPr/>
            <p:nvPr/>
          </p:nvSpPr>
          <p:spPr>
            <a:xfrm>
              <a:off x="463680" y="4359240"/>
              <a:ext cx="5819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Бюст великого русского математ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Софьи Васильевны Ковалевск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на её малой родине –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в селе Полиби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Великолукского райо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5"/>
          <p:cNvSpPr/>
          <p:nvPr/>
        </p:nvSpPr>
        <p:spPr>
          <a:xfrm>
            <a:off x="7022880" y="36450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850 - 18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10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10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108160" cy="287964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3120840" y="18900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икола́й Ива́нович Лобаче́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412360" y="549360"/>
            <a:ext cx="6819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ий русский математик, созд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и Лобачевского, дея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иверситетского образова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одного просвещ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аче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дал  труд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 началах геометр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ечатанный (1829—183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журна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азанский вестник». Это сочинение ст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й в мировой литературе серьёз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бликацией по неевклидовой гео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лгебре он разработал новый мет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ближённого решения урав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атематическом анализе получил р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нких теорем о тригонометр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дах, уточнил понятие непреры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2484360" y="620640"/>
            <a:ext cx="6659640" cy="5904000"/>
            <a:chOff x="2484360" y="620640"/>
            <a:chExt cx="6659640" cy="5904000"/>
          </a:xfrm>
        </p:grpSpPr>
        <p:sp>
          <p:nvSpPr>
            <p:cNvPr id="157" name="Line 9"/>
            <p:cNvSpPr/>
            <p:nvPr/>
          </p:nvSpPr>
          <p:spPr>
            <a:xfrm>
              <a:off x="3132000" y="371628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484360" y="620640"/>
              <a:ext cx="6659640" cy="5904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11" descr=""/>
            <p:cNvPicPr/>
            <p:nvPr/>
          </p:nvPicPr>
          <p:blipFill>
            <a:blip r:embed="rId2"/>
            <a:stretch/>
          </p:blipFill>
          <p:spPr>
            <a:xfrm>
              <a:off x="3564000" y="1268280"/>
              <a:ext cx="4753080" cy="38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2"/>
            <p:cNvSpPr/>
            <p:nvPr/>
          </p:nvSpPr>
          <p:spPr>
            <a:xfrm>
              <a:off x="3421800" y="5300640"/>
              <a:ext cx="508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Бюст Н. И. Лобачевск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в Нижегородском университет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3"/>
          <p:cNvSpPr/>
          <p:nvPr/>
        </p:nvSpPr>
        <p:spPr>
          <a:xfrm>
            <a:off x="306000" y="3303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792 - 18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580000" y="189000"/>
            <a:ext cx="3317760" cy="431964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sp>
        <p:nvSpPr>
          <p:cNvPr id="44" name="Text Box 6"/>
          <p:cNvSpPr/>
          <p:nvPr/>
        </p:nvSpPr>
        <p:spPr>
          <a:xfrm>
            <a:off x="271800" y="692280"/>
            <a:ext cx="5411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овременном мире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ифаг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итается великим математ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космологом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чные авторы нашей э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ают Пифагору автор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ой теоремы: квадр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отенузы прямоуго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а равняется сум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дратов катетов. Такое м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ывается на свед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оллодора-исчис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личность не идентифицирован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 стихотворных стро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6156000" y="45813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570 г. до н.э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09480" y="685800"/>
            <a:ext cx="4826160" cy="4830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временные исто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едполагают, что Пифаг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 доказывал теоре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 мог передать грекам э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нание, известное в Вавил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 1000 лет до Пифагор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отя сомнение в автор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ифагора существует, 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есомых аргум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тобы это оспорить,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837080" y="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18800" y="115920"/>
            <a:ext cx="39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Герон Александрийский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43000" cy="287316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50" name="Text Box 6"/>
          <p:cNvSpPr/>
          <p:nvPr/>
        </p:nvSpPr>
        <p:spPr>
          <a:xfrm>
            <a:off x="178560" y="549360"/>
            <a:ext cx="6680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егреческий ученый, математ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к, механик, изобрета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е работы Гер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ются энциклопедией анти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ладной математики. В лучшей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х- "Метрике" - даны правил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ы для точного и приближ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числения площадей прави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угольников, объемов усеч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уса и пирамиды, прив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а Герона для опред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и треугольника по трем сторон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ются правила численного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дратных уравнений и приближ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лечения квадратного и куб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н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5"/>
          <p:cNvGrpSpPr/>
          <p:nvPr/>
        </p:nvGrpSpPr>
        <p:grpSpPr>
          <a:xfrm>
            <a:off x="250920" y="549360"/>
            <a:ext cx="6480000" cy="6119640"/>
            <a:chOff x="250920" y="549360"/>
            <a:chExt cx="6480000" cy="6119640"/>
          </a:xfrm>
        </p:grpSpPr>
        <p:sp>
          <p:nvSpPr>
            <p:cNvPr id="53" name="Rectangle 7"/>
            <p:cNvSpPr/>
            <p:nvPr/>
          </p:nvSpPr>
          <p:spPr>
            <a:xfrm>
              <a:off x="250920" y="549360"/>
              <a:ext cx="6480000" cy="6119640"/>
            </a:xfrm>
            <a:prstGeom prst="rect">
              <a:avLst/>
            </a:prstGeom>
            <a:solidFill>
              <a:srgbClr val="e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о́рмула Геро́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зволяет вычисли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лощадь треугольника (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 его сторонам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a, b, c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де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— полупериметр треугольника: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Object 10"/>
                <p:cNvSpPr txBox="1"/>
                <p:nvPr/>
              </p:nvSpPr>
              <p:spPr>
                <a:xfrm>
                  <a:off x="395280" y="3141720"/>
                  <a:ext cx="608508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e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e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e>
                          </m:d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Object 12"/>
                <p:cNvSpPr txBox="1"/>
                <p:nvPr/>
              </p:nvSpPr>
              <p:spPr>
                <a:xfrm>
                  <a:off x="1619280" y="4797360"/>
                  <a:ext cx="3241800" cy="14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Text Box 16"/>
          <p:cNvSpPr/>
          <p:nvPr/>
        </p:nvSpPr>
        <p:spPr>
          <a:xfrm>
            <a:off x="7003080" y="308772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73120" cy="28814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4861440" y="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Ф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0920" y="33336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фант -древнегреческий математик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ии. О его жизни нет поч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аких сведений. Сохранилась ч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ого трактата Диофа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Арифметика" (6 кн. из 13) и отры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ги о многоугольных  чис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"Арифметике", помимо и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 алгебры, приведено много зада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дящихся к неопределе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ям различных степеней,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заны методы нахождения решений таких уравнений в рациональных положительных числах. Для обозначения неизвестного и его степеней, обратных чисел, равенства и вычитания Диофант употреблял сокращенную запись слов. При умножении сумм и разностей двух чисел применял правила знаков. Имел представление об отрицательных чис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79280" y="4076640"/>
            <a:ext cx="871380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ем Диофанта названы два боль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а теории чисе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диофантовых урав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еория диофантовых прибли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2"/>
          <p:cNvGrpSpPr/>
          <p:nvPr/>
        </p:nvGrpSpPr>
        <p:grpSpPr>
          <a:xfrm>
            <a:off x="2771640" y="404640"/>
            <a:ext cx="6372360" cy="3672000"/>
            <a:chOff x="2771640" y="404640"/>
            <a:chExt cx="6372360" cy="3672000"/>
          </a:xfrm>
        </p:grpSpPr>
        <p:sp>
          <p:nvSpPr>
            <p:cNvPr id="62" name="Rectangle 8"/>
            <p:cNvSpPr/>
            <p:nvPr/>
          </p:nvSpPr>
          <p:spPr>
            <a:xfrm>
              <a:off x="2771640" y="404640"/>
              <a:ext cx="6372360" cy="367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9" descr=""/>
            <p:cNvPicPr/>
            <p:nvPr/>
          </p:nvPicPr>
          <p:blipFill>
            <a:blip r:embed="rId2"/>
            <a:stretch/>
          </p:blipFill>
          <p:spPr>
            <a:xfrm>
              <a:off x="3708360" y="765000"/>
              <a:ext cx="206388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1" descr=""/>
            <p:cNvPicPr/>
            <p:nvPr/>
          </p:nvPicPr>
          <p:blipFill>
            <a:blip r:embed="rId3"/>
            <a:stretch/>
          </p:blipFill>
          <p:spPr>
            <a:xfrm>
              <a:off x="5940360" y="765000"/>
              <a:ext cx="2049480" cy="307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3"/>
          <p:cNvSpPr/>
          <p:nvPr/>
        </p:nvSpPr>
        <p:spPr>
          <a:xfrm>
            <a:off x="609480" y="32130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565360" cy="3527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2197080" y="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о́ганн Ке́п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-2880" y="476280"/>
            <a:ext cx="9322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плер нашёл способ опред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ёмов разнообразных тел вращ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ый описал в книге «Н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реометрия винных боче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плер очень подроб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анализировал симметрию снеж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астрономических исслед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плер внёс вклад в теорию кон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чений. Он составил одну из пер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 логариф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еплера впервые встреч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мин «среднее арифметическо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плер впервые ввёл важнейшее понят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сконеч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далённой точ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Он же ввёл понятие фокуса кон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чения и рассмотрел проективные пре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ических сечений, в том числе меняющие их тип 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имер, переводящие эллипс в гиперб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, когда этот научный акт уже совершился, ник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может оценить полностью, сколько изобрета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тяжёлого труда и терпения понадобило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открыть эти законы и столь точно их вырази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476280"/>
            <a:ext cx="6227640" cy="489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жил в эпоху, когда ещё не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ренности в существо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торой общей закономер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всех явлений прир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глубокой была у него в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акую закономерность, ес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я в одиночестве, ник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оддерживаемый и не поня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на протяжении многих десятков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пал в ней силы для трудн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потливого эмпир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 движения плане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х законов этого дви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6735600" y="37893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571 - 1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371600" y="195588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екар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ла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ижение Декарта-по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тической геометрии, в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ческие задачи перевод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язык алгебры при помощи мет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рдинат. Он сформулировал основную теорему алгебры: «число корней алгебра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я равно его степени», доказатель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ой было получено лишь в конце XVIII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419720" y="8534520"/>
            <a:ext cx="4241520" cy="5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990720" y="320184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596-16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4050" t="0" r="1485" b="1111"/>
          <a:stretch/>
        </p:blipFill>
        <p:spPr>
          <a:xfrm>
            <a:off x="681120" y="227160"/>
            <a:ext cx="2266920" cy="274464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424560" y="189000"/>
            <a:ext cx="2500200" cy="33112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77" name="Text Box 6"/>
          <p:cNvSpPr/>
          <p:nvPr/>
        </p:nvSpPr>
        <p:spPr>
          <a:xfrm>
            <a:off x="2160" y="549360"/>
            <a:ext cx="62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нцузский математик, один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телей аналитической геометр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фференциального и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л правило нах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тремума с помощью производ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многих теорем теории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менитая теорема Ферма из те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ел, которую Ферма сформулир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доказательства, вызывает инте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их по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работ Ферма началась н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ая наука-теория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197440" y="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ЬЕР Ф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0" y="609480"/>
            <a:ext cx="6356880" cy="9439920"/>
            <a:chOff x="0" y="609480"/>
            <a:chExt cx="6356880" cy="9439920"/>
          </a:xfrm>
        </p:grpSpPr>
        <p:sp>
          <p:nvSpPr>
            <p:cNvPr id="80" name="Text Box 8"/>
            <p:cNvSpPr/>
            <p:nvPr/>
          </p:nvSpPr>
          <p:spPr>
            <a:xfrm>
              <a:off x="3879360" y="767736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1601-16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9"/>
            <p:cNvSpPr/>
            <p:nvPr/>
          </p:nvSpPr>
          <p:spPr>
            <a:xfrm>
              <a:off x="0" y="609480"/>
              <a:ext cx="6019920" cy="532728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10" descr=""/>
            <p:cNvPicPr/>
            <p:nvPr/>
          </p:nvPicPr>
          <p:blipFill>
            <a:blip r:embed="rId2"/>
            <a:stretch/>
          </p:blipFill>
          <p:spPr>
            <a:xfrm>
              <a:off x="1066680" y="1219320"/>
              <a:ext cx="3985200" cy="43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2"/>
            <p:cNvSpPr/>
            <p:nvPr/>
          </p:nvSpPr>
          <p:spPr>
            <a:xfrm>
              <a:off x="578520" y="9589680"/>
              <a:ext cx="577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Бюст Ферма в тулузском Капитол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4"/>
          <p:cNvSpPr/>
          <p:nvPr/>
        </p:nvSpPr>
        <p:spPr>
          <a:xfrm>
            <a:off x="6735600" y="36450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601 - 16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305080" cy="31687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86" name="Text Box 7"/>
          <p:cNvSpPr/>
          <p:nvPr/>
        </p:nvSpPr>
        <p:spPr>
          <a:xfrm>
            <a:off x="1118160" y="189000"/>
            <a:ext cx="47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отфрид Вильгельм 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692280"/>
            <a:ext cx="647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й математик, физик, филосо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тель Берлинской академии на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оположник дифференци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интегрального исчисления, вв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ую часть современной симво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ого анализа. В рабо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йбница впервые появились 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и алгорит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179280" y="3284640"/>
            <a:ext cx="5761080" cy="3573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едупреждаю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остерегались отбрас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, -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шибка, котор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часто допуск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 которая препя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одвижению впер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465280" y="64008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В. 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8"/>
          <p:cNvGrpSpPr/>
          <p:nvPr/>
        </p:nvGrpSpPr>
        <p:grpSpPr>
          <a:xfrm>
            <a:off x="228600" y="762120"/>
            <a:ext cx="6143760" cy="6095880"/>
            <a:chOff x="228600" y="762120"/>
            <a:chExt cx="6143760" cy="6095880"/>
          </a:xfrm>
        </p:grpSpPr>
        <p:sp>
          <p:nvSpPr>
            <p:cNvPr id="91" name="Text Box 12"/>
            <p:cNvSpPr/>
            <p:nvPr/>
          </p:nvSpPr>
          <p:spPr>
            <a:xfrm>
              <a:off x="3504960" y="308304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1646 - 17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228600" y="762120"/>
              <a:ext cx="6143760" cy="6095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15" descr=""/>
            <p:cNvPicPr/>
            <p:nvPr/>
          </p:nvPicPr>
          <p:blipFill>
            <a:blip r:embed="rId2"/>
            <a:stretch/>
          </p:blipFill>
          <p:spPr>
            <a:xfrm>
              <a:off x="566640" y="1464840"/>
              <a:ext cx="5473440" cy="28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7"/>
            <p:cNvSpPr/>
            <p:nvPr/>
          </p:nvSpPr>
          <p:spPr>
            <a:xfrm>
              <a:off x="635400" y="4847040"/>
              <a:ext cx="5272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5 марок, 1966 г.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Немецкая памятная монета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посвящённая 250-летию смер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</a:rPr>
                <a:t>Готфрида Вильгельма Лейбниц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9"/>
          <p:cNvSpPr/>
          <p:nvPr/>
        </p:nvSpPr>
        <p:spPr>
          <a:xfrm>
            <a:off x="6806880" y="35002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646 - 17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rcRect l="0" t="0" r="3410" b="3809"/>
          <a:stretch/>
        </p:blipFill>
        <p:spPr>
          <a:xfrm>
            <a:off x="324000" y="260280"/>
            <a:ext cx="2293920" cy="3238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4269960" y="18900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ЕОНАРД ЭЙ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46920" y="364320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707-178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664360" y="692280"/>
            <a:ext cx="655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, немецкий и швейцар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, внёсший знач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клад в развитие математики, механ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ки, астрономии и ря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ладных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йлер оставил важнейшие труды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м различным отраслям математ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ки, физики, астрономии и по ря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ладных нау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но он созд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колько новых математ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циплин — теорию чисе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ционное исчисление, теор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ных функ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фференциальную геометр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хностей, специальные фун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2"/>
          <p:cNvGrpSpPr/>
          <p:nvPr/>
        </p:nvGrpSpPr>
        <p:grpSpPr>
          <a:xfrm>
            <a:off x="2771640" y="692280"/>
            <a:ext cx="6372360" cy="5616360"/>
            <a:chOff x="2771640" y="692280"/>
            <a:chExt cx="6372360" cy="5616360"/>
          </a:xfrm>
        </p:grpSpPr>
        <p:sp>
          <p:nvSpPr>
            <p:cNvPr id="101" name="Rectangle 8"/>
            <p:cNvSpPr/>
            <p:nvPr/>
          </p:nvSpPr>
          <p:spPr>
            <a:xfrm>
              <a:off x="2771640" y="692280"/>
              <a:ext cx="6372360" cy="5616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0" descr=""/>
            <p:cNvPicPr/>
            <p:nvPr/>
          </p:nvPicPr>
          <p:blipFill>
            <a:blip r:embed="rId2"/>
            <a:stretch/>
          </p:blipFill>
          <p:spPr>
            <a:xfrm>
              <a:off x="3851280" y="907920"/>
              <a:ext cx="4176720" cy="40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1"/>
            <p:cNvSpPr/>
            <p:nvPr/>
          </p:nvSpPr>
          <p:spPr>
            <a:xfrm>
              <a:off x="3562920" y="5011560"/>
              <a:ext cx="48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Швейцарская банкно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с портретом молодого Эйлер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dim</cp:lastModifiedBy>
  <dcterms:modified xsi:type="dcterms:W3CDTF">2018-12-28T19:04:2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