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1.gif" ContentType="image/gif"/>
  <Override PartName="/ppt/media/image12.png" ContentType="image/png"/>
  <Override PartName="/ppt/media/image20.jpeg" ContentType="image/jpeg"/>
  <Override PartName="/ppt/media/image28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17.jpeg" ContentType="image/jpeg"/>
  <Override PartName="/ppt/media/image7.png" ContentType="image/png"/>
  <Override PartName="/ppt/media/image22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5AE-3DBA-49EB-A10A-8F6E1331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2B9-4A67-434F-910F-59326450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D746B-9A2D-4723-8C10-6FBBB459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753AC-B473-4958-9416-D2093BF3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D0794-B841-47DA-868F-5D0E3262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8C3EB-9132-4DC2-901C-F6670669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ECE15-5B43-44B4-9CA7-468AE76B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7E32F-E7DA-473C-926F-C63ED70C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3E3CD-7B69-4A8A-B571-45559732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D1D37-F9BC-439B-A08A-BF01D14B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1F772-CC87-42DC-B47A-92BE2136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B2F67-F031-4DFE-AD63-3CBAD199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58B-ACFF-4D93-A507-907BF414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FCA2A-F193-4CF4-9E18-64C61014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800F2-3FA9-4AE1-87FB-394C34AD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CEB2D-CC08-44AC-A815-CCD74EDD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CC59B-7EA1-46A5-A31C-A8B8859E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1ECB2-D75B-4602-AFC8-93AE4ADC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091A5-15B5-4702-9263-4CA45F3A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6ADF7-B05A-46CD-AD41-EEB55683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534E9-A1CD-4473-ABF2-F094BAE3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E52D8-640A-4612-9989-8E561557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D8F67-9B2C-49AF-B480-A88084E8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CBD-D21C-4BBA-BB16-A2786397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C1ABF-0456-4787-874B-D066AA22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0C506-52F4-432E-8180-8A2BFA36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72C7C-A9FB-4AEE-9479-68720EC6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0D77B-18C0-4810-B003-40712232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387CB-86D0-442E-BC49-383999BB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344F5-44B7-4679-8A33-C30A2203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8998D-2784-4610-A5F9-45B2FEB8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986D0-FC46-4C69-9006-987F3C6F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27CFE-1325-4920-BB6D-8907C158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A8450-7569-4F23-A1C3-F93320B4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5B57-9807-4DD2-9929-100A2A4B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C8D83-89D5-49E0-B2A5-D7F64D13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515D2-3664-4B19-9922-E251CA2A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AC490-9A0B-44A3-8F23-40763DE9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ACCC4-CAB3-466B-8850-EC23CF1B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A29D8-2CF3-4E87-8D6F-E0EAAA51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9D6A5-DCDB-4786-A6B2-DE6A4470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E8A27-3107-40EC-BD2F-B313F547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68B29-E6D2-4A73-9609-80215B36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BDDEB-721B-4EAF-86F8-A42C192E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49101-0A87-4AC0-B5D6-14220075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B8E4-2807-45BE-97A7-CE8C2936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CE084-132C-481D-B8E5-4FCCFBAF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B5C56-5F80-486D-AD6F-7490C907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4A0C0-AEA0-46E7-A898-A28AF7AA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C253F-AB57-4501-8B50-B1698D45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9C45E-17F8-48C9-87E1-2B28182A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9E044D-EA29-496A-B5C6-733DBBC9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0510AF-3FA5-4E13-8929-AF6C8681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901D7-C497-47E1-B1DC-D460095F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BE2004-4C44-4814-9E95-2A8BD998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B4572-2E28-4523-8432-A8D7B573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246C-9F3C-47C3-8F40-721C2455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E1AA71-6C64-422F-B2E4-0DB8D0B7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33F8C-6E45-4CB0-BA3C-C673C546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D1B2E-5250-4AD6-91BF-CD4D8CE9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DBD34-5338-41D1-81B2-73013A27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9741E-1075-4E2F-984F-3640C6EB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44294-98CB-4D76-8584-B270DCD2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93930D-AF5D-4F41-9BE4-FE78C370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C994-3FFB-49CC-993F-6108A6EB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96AF-0741-45D1-878D-B015FF07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4ABC-0F8A-4D51-A720-6B8BF688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B134-D38F-4DEE-B715-DB36D90B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A75D-BA5B-4396-BC55-ADD58880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17A5-2268-4ADF-A46B-FB86189D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3FD3-0051-440E-84E0-F6F5E10E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26E0-1D3E-4965-A042-D8B19ABC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D35D-1A42-44DF-821E-68EEE25F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F32D-C88C-4F83-B868-A6345451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A39F4-E8F6-4217-ADFD-F50A670A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0216A-FCB9-4A87-AEC2-BB81F840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F8F87-ED13-4579-85C8-A88A53F9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FC3FB-ADE9-4011-B4A1-2CC0324E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6C810-B22F-4786-A214-97FF3F81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E5C-34CB-43B2-BC2F-D12593C9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91EA2-F731-409F-95E2-A1A88144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B828B-7E09-41E9-8E95-4BF3C958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C9074-68D5-4D09-B935-E0F05791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AE226-EE83-4E8B-B87A-0DE49B0A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FEF3F-1FB5-448E-894D-F0183A49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EF206-54A4-4893-BCB6-24A0C475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36AF1-56CF-41F5-A3AA-94111423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2398D-5481-436B-808D-031A4CAB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A6F50-B2CB-4788-A291-0212C7C9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E3786-CDB9-4E78-BCA6-93D5DEEF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1D8-74F2-462C-9D6A-98324B11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24A7A-DE41-4A6A-8812-54E53138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C1276-C428-482B-9ACB-7E5B1B8C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6AE5B-D0B0-4109-8221-15BAB1B9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D28C3-E09C-4B7F-A6DD-22156F32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EF7DF-C85A-4615-84EE-8E8BF4E8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4392A-1950-401B-9702-E4D48E10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ABF37-0CD8-4278-860F-ED306742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1A895-652C-41A5-8070-B008BF26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69DB6-249E-4B22-A096-9566BB58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22AF8-E4B8-46C5-B6FA-4E56DC89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8BB-B74C-465A-9CA1-A99C40C3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42966-8133-42D7-A425-84C429E7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2C0A2-E2E9-4C12-A635-3DE6AA1E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724EF-7238-4DC2-BEC3-AA88D67D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E02E5-CF20-4A40-8504-CAA1434E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C1790-141F-440C-A039-C2948B34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BDE09-7260-4959-AFDC-6507E829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67B3A-1866-494E-915D-D25B7E14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16A6D-421C-4092-96A0-3BA4705F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6192F-1C95-43C5-A982-351A3F1D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D12EE-3989-4525-8133-91D1D312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3529-06CC-4D2B-8F21-A1E2342B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FE338-80F7-4426-975E-34780327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736B5-5249-438D-B6A8-42B96A23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99FF4-48F4-4B57-B90A-C91AE52F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B4562-43CA-4CAC-91FC-FF158C50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9E60A-3C82-4480-8CD4-9232C8A8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91030-2AFC-41EC-BB7E-61350B27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D226D-65AB-4B5D-88BA-51C8E438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7C1C8-7920-4962-A3EC-F475D2B1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F2CFE-4A67-4D1E-B33A-E1BF660B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752B3-8EA3-4216-8FC6-E01CF6E1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724D-DB1D-46E6-A16B-42C94FF2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BA2A2-BDE1-4900-97F1-6892C58D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6DFAE-46B2-4EAE-A16A-B6B7C966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35D93-CF18-4FEC-AE53-F1D3CF5B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19887-5FC3-40D2-9F92-364475C6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B5236-E56D-4B08-8733-9879DF4D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EF6AE-8F57-4C21-8A8C-292E959F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F9760-1C1B-4DD1-863E-3D6B05CC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B1188-E2CB-4C96-8351-2886EC35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A322C-C946-416A-AA7E-5269B710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A21FF-916B-4F39-AC63-060D85FD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5DF-8DE4-4997-8CB1-D252BB8E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5DD1D-0A6B-4E05-A72C-90E9AA36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FFC06-587E-4E45-A355-949B301C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8133D-F439-419D-8320-0A0276B6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789E0-3270-4616-BF7A-D899E5C1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2991F-995A-4D90-927E-D3C0EB23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A835C-90D4-4C8E-A464-937AE2F7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FF61A-BC79-48AC-8C52-1B82BB5D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38365-6007-46F1-B640-5BA44B4D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F42E9-E58C-4F5E-BA62-C6F4679B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A9313-32E5-4290-8077-48103E4A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14A-F286-4411-AF7C-0B62C745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AC179-B9DA-4620-AE05-3E0B8C2B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6DC11-B31E-4538-B667-80BF5F8C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41748-0319-4B1A-9C86-A3E1F17D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A75AA-C0F9-44DC-A588-640151B8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6ADCA-4362-4D1A-9ECD-812A2B3A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79366-30DD-4D49-8911-EC9520D0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98D3B-9C61-41EC-82C7-B3150D5E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ED527-D53D-4BDC-B60F-F0FE9EA3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0CCC0-7889-4A77-AB7F-9305F49B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BA837-3817-409F-A213-AED63DF9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D8CD-C83E-4089-B662-D4BAE7D617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EC3F-3BCF-4303-9889-AE2F45C16D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F1EC-5574-4547-AE0B-D3597A966D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51C8-7B11-4C39-906C-B13B87A88C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42B0-9E3C-4C8F-87CF-AFF1A89DB8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1410-83F1-4F38-AABF-EBC04C54FC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8961-28B0-454D-A1D8-7424FC447B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292A-0AEA-41EB-B599-FBBBB4241E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87F6-1658-47FC-9291-396FAF4E75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B410-2C1B-464B-895D-C52DE65405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3F18-8945-4C57-BF1D-889EB3F6BD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E58B-F2C8-4771-A222-070ADEC051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C910-248B-4BB6-BF97-664E89614B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" Target="slide5.xml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" Target="slide5.xml"/><Relationship Id="rId6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0" descr="J0336780"/>
          <p:cNvPicPr/>
          <p:nvPr/>
        </p:nvPicPr>
        <p:blipFill>
          <a:blip r:embed="rId1"/>
          <a:stretch/>
        </p:blipFill>
        <p:spPr>
          <a:xfrm>
            <a:off x="3419640" y="4724280"/>
            <a:ext cx="2160360" cy="16336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1" descr="J0189208"/>
          <p:cNvPicPr/>
          <p:nvPr/>
        </p:nvPicPr>
        <p:blipFill>
          <a:blip r:embed="rId2"/>
          <a:stretch/>
        </p:blipFill>
        <p:spPr>
          <a:xfrm>
            <a:off x="468360" y="4527720"/>
            <a:ext cx="2087640" cy="19825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2" descr="J0189207"/>
          <p:cNvPicPr/>
          <p:nvPr/>
        </p:nvPicPr>
        <p:blipFill>
          <a:blip r:embed="rId3"/>
          <a:stretch/>
        </p:blipFill>
        <p:spPr>
          <a:xfrm>
            <a:off x="6732720" y="4437000"/>
            <a:ext cx="1804680" cy="2160720"/>
          </a:xfrm>
          <a:prstGeom prst="rect">
            <a:avLst/>
          </a:prstGeom>
          <a:ln w="0">
            <a:noFill/>
          </a:ln>
        </p:spPr>
      </p:pic>
      <p:sp>
        <p:nvSpPr>
          <p:cNvPr id="536" name="WordArt 13"/>
          <p:cNvSpPr txBox="1"/>
          <p:nvPr/>
        </p:nvSpPr>
        <p:spPr>
          <a:xfrm>
            <a:off x="934920" y="1386000"/>
            <a:ext cx="72741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МУЗЫКАЛЬНЫЕ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ИНСТРУМЕНТЫ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WordArt 12"/>
          <p:cNvSpPr txBox="1"/>
          <p:nvPr/>
        </p:nvSpPr>
        <p:spPr>
          <a:xfrm>
            <a:off x="628560" y="343080"/>
            <a:ext cx="799308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мфонический оркестр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9" name="Picture 13" descr="оркестр3"/>
          <p:cNvPicPr/>
          <p:nvPr/>
        </p:nvPicPr>
        <p:blipFill>
          <a:blip r:embed="rId3"/>
          <a:stretch/>
        </p:blipFill>
        <p:spPr>
          <a:xfrm>
            <a:off x="4211640" y="3716280"/>
            <a:ext cx="4537080" cy="2727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4" descr="оркестр 2"/>
          <p:cNvPicPr/>
          <p:nvPr/>
        </p:nvPicPr>
        <p:blipFill>
          <a:blip r:embed="rId4"/>
          <a:stretch/>
        </p:blipFill>
        <p:spPr>
          <a:xfrm>
            <a:off x="395280" y="1784520"/>
            <a:ext cx="4105440" cy="2687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WordArt 4"/>
          <p:cNvSpPr txBox="1"/>
          <p:nvPr/>
        </p:nvSpPr>
        <p:spPr>
          <a:xfrm>
            <a:off x="4514760" y="3156120"/>
            <a:ext cx="11448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 </a:t>
            </a:r>
            <a:endParaRPr b="0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542" name="WordArt 13"/>
          <p:cNvSpPr txBox="1"/>
          <p:nvPr/>
        </p:nvSpPr>
        <p:spPr>
          <a:xfrm>
            <a:off x="4514760" y="3165480"/>
            <a:ext cx="114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</a:t>
            </a:r>
            <a:endParaRPr b="0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43" name="Line 15"/>
          <p:cNvSpPr/>
          <p:nvPr/>
        </p:nvSpPr>
        <p:spPr>
          <a:xfrm flipH="1">
            <a:off x="1619280" y="2565360"/>
            <a:ext cx="1512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6"/>
          <p:cNvSpPr/>
          <p:nvPr/>
        </p:nvSpPr>
        <p:spPr>
          <a:xfrm>
            <a:off x="5940360" y="2565360"/>
            <a:ext cx="1366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9"/>
          <p:cNvSpPr/>
          <p:nvPr/>
        </p:nvSpPr>
        <p:spPr>
          <a:xfrm>
            <a:off x="4500720" y="2492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WordArt 21"/>
          <p:cNvSpPr txBox="1"/>
          <p:nvPr/>
        </p:nvSpPr>
        <p:spPr>
          <a:xfrm>
            <a:off x="826920" y="404640"/>
            <a:ext cx="7272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музыкальные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инструменты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47" name="Group 27"/>
          <p:cNvGrpSpPr/>
          <p:nvPr/>
        </p:nvGrpSpPr>
        <p:grpSpPr>
          <a:xfrm>
            <a:off x="179280" y="4005360"/>
            <a:ext cx="2664000" cy="2320920"/>
            <a:chOff x="179280" y="4005360"/>
            <a:chExt cx="2664000" cy="2320920"/>
          </a:xfrm>
        </p:grpSpPr>
        <p:sp>
          <p:nvSpPr>
            <p:cNvPr id="548" name="Rectangle 17"/>
            <p:cNvSpPr/>
            <p:nvPr/>
          </p:nvSpPr>
          <p:spPr>
            <a:xfrm>
              <a:off x="179280" y="4005360"/>
              <a:ext cx="2664000" cy="180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Струнная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групп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9" name="22 Дорожка 22.wma" descr=""/>
            <p:cNvPicPr/>
            <p:nvPr/>
          </p:nvPicPr>
          <p:blipFill>
            <a:blip r:embed="rId1"/>
            <a:stretch/>
          </p:blipFill>
          <p:spPr>
            <a:xfrm>
              <a:off x="1187280" y="602136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Rectangle 20"/>
          <p:cNvSpPr/>
          <p:nvPr/>
        </p:nvSpPr>
        <p:spPr>
          <a:xfrm>
            <a:off x="3132000" y="4076640"/>
            <a:ext cx="2735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11605"/>
                </a:solidFill>
                <a:latin typeface="Monotype Corsiva"/>
              </a:rPr>
              <a:t>Удар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11605"/>
                </a:solidFill>
                <a:latin typeface="Monotype Corsiva"/>
              </a:rPr>
              <a:t>груп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25"/>
          <p:cNvGrpSpPr/>
          <p:nvPr/>
        </p:nvGrpSpPr>
        <p:grpSpPr>
          <a:xfrm>
            <a:off x="6156360" y="4076640"/>
            <a:ext cx="2736720" cy="2249640"/>
            <a:chOff x="6156360" y="4076640"/>
            <a:chExt cx="2736720" cy="2249640"/>
          </a:xfrm>
        </p:grpSpPr>
        <p:sp>
          <p:nvSpPr>
            <p:cNvPr id="552" name="Rectangle 18"/>
            <p:cNvSpPr/>
            <p:nvPr/>
          </p:nvSpPr>
          <p:spPr>
            <a:xfrm>
              <a:off x="6156360" y="4076640"/>
              <a:ext cx="2736720" cy="17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Духовая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групп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3" name="20 Дорожка 20.wma" descr=""/>
            <p:cNvPicPr/>
            <p:nvPr/>
          </p:nvPicPr>
          <p:blipFill>
            <a:blip r:embed="rId2"/>
            <a:stretch/>
          </p:blipFill>
          <p:spPr>
            <a:xfrm>
              <a:off x="7524720" y="602136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WordArt 4"/>
          <p:cNvSpPr txBox="1"/>
          <p:nvPr/>
        </p:nvSpPr>
        <p:spPr>
          <a:xfrm>
            <a:off x="684360" y="549360"/>
            <a:ext cx="6191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унные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395280" y="5300640"/>
            <a:ext cx="1655640" cy="52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рип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6975360" y="5923080"/>
            <a:ext cx="158436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аб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4383000" y="5192640"/>
            <a:ext cx="208908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олонч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13" descr="скрипка2"/>
          <p:cNvPicPr/>
          <p:nvPr/>
        </p:nvPicPr>
        <p:blipFill>
          <a:blip r:embed="rId1"/>
          <a:stretch/>
        </p:blipFill>
        <p:spPr>
          <a:xfrm>
            <a:off x="250920" y="2205000"/>
            <a:ext cx="1942920" cy="2808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6" descr="контробас"/>
          <p:cNvPicPr/>
          <p:nvPr/>
        </p:nvPicPr>
        <p:blipFill>
          <a:blip r:embed="rId2"/>
          <a:stretch/>
        </p:blipFill>
        <p:spPr>
          <a:xfrm>
            <a:off x="6732720" y="2060640"/>
            <a:ext cx="2057400" cy="36003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7" descr="виолончель2"/>
          <p:cNvPicPr/>
          <p:nvPr/>
        </p:nvPicPr>
        <p:blipFill>
          <a:blip r:embed="rId3"/>
          <a:stretch/>
        </p:blipFill>
        <p:spPr>
          <a:xfrm>
            <a:off x="4356000" y="1773360"/>
            <a:ext cx="2160720" cy="30700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8" descr="альт"/>
          <p:cNvPicPr/>
          <p:nvPr/>
        </p:nvPicPr>
        <p:blipFill>
          <a:blip r:embed="rId4"/>
          <a:stretch/>
        </p:blipFill>
        <p:spPr>
          <a:xfrm>
            <a:off x="2462040" y="2685960"/>
            <a:ext cx="1686240" cy="331812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21"/>
          <p:cNvSpPr/>
          <p:nvPr/>
        </p:nvSpPr>
        <p:spPr>
          <a:xfrm>
            <a:off x="2444760" y="6224760"/>
            <a:ext cx="165564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WordArt 4"/>
          <p:cNvSpPr txBox="1"/>
          <p:nvPr/>
        </p:nvSpPr>
        <p:spPr>
          <a:xfrm>
            <a:off x="38160" y="509760"/>
            <a:ext cx="83516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уховые инструменты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4" name="Oval 12">
            <a:hlinkClick r:id="rId1" action="ppaction://hlinksldjump"/>
          </p:cNvPr>
          <p:cNvSpPr/>
          <p:nvPr/>
        </p:nvSpPr>
        <p:spPr>
          <a:xfrm>
            <a:off x="684360" y="3860640"/>
            <a:ext cx="3168360" cy="187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Мед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3">
            <a:hlinkClick r:id="rId2" action="ppaction://hlinksldjump"/>
          </p:cNvPr>
          <p:cNvSpPr/>
          <p:nvPr/>
        </p:nvSpPr>
        <p:spPr>
          <a:xfrm>
            <a:off x="5148360" y="3789360"/>
            <a:ext cx="324000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Деревя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4"/>
          <p:cNvSpPr/>
          <p:nvPr/>
        </p:nvSpPr>
        <p:spPr>
          <a:xfrm flipH="1">
            <a:off x="2843280" y="2349360"/>
            <a:ext cx="1224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5"/>
          <p:cNvSpPr/>
          <p:nvPr/>
        </p:nvSpPr>
        <p:spPr>
          <a:xfrm>
            <a:off x="5651640" y="2060640"/>
            <a:ext cx="10810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WordArt 4"/>
          <p:cNvSpPr txBox="1"/>
          <p:nvPr/>
        </p:nvSpPr>
        <p:spPr>
          <a:xfrm>
            <a:off x="504720" y="144360"/>
            <a:ext cx="8207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ДНЫЕ  ДУХОВЫЕ  ИНСТРУМЕНТЫ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9" name="Rectangle 17"/>
          <p:cNvSpPr/>
          <p:nvPr/>
        </p:nvSpPr>
        <p:spPr>
          <a:xfrm>
            <a:off x="771480" y="2492280"/>
            <a:ext cx="172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8" descr="туба2"/>
          <p:cNvPicPr/>
          <p:nvPr/>
        </p:nvPicPr>
        <p:blipFill>
          <a:blip r:embed="rId4"/>
          <a:stretch/>
        </p:blipFill>
        <p:spPr>
          <a:xfrm>
            <a:off x="1763640" y="4149720"/>
            <a:ext cx="1938240" cy="2421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0" descr="волторна"/>
          <p:cNvPicPr/>
          <p:nvPr/>
        </p:nvPicPr>
        <p:blipFill>
          <a:blip r:embed="rId5"/>
          <a:stretch/>
        </p:blipFill>
        <p:spPr>
          <a:xfrm>
            <a:off x="6407280" y="1346040"/>
            <a:ext cx="2305080" cy="24498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4" descr="басс тромбон"/>
          <p:cNvPicPr/>
          <p:nvPr/>
        </p:nvPicPr>
        <p:blipFill>
          <a:blip r:embed="rId6"/>
          <a:stretch/>
        </p:blipFill>
        <p:spPr>
          <a:xfrm>
            <a:off x="5119560" y="4103640"/>
            <a:ext cx="3238560" cy="19782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5" descr="123"/>
          <p:cNvPicPr/>
          <p:nvPr/>
        </p:nvPicPr>
        <p:blipFill>
          <a:blip r:embed="rId7"/>
          <a:stretch/>
        </p:blipFill>
        <p:spPr>
          <a:xfrm>
            <a:off x="1816200" y="1700280"/>
            <a:ext cx="1581120" cy="230652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2">
            <a:hlinkClick r:id="rId8" action="ppaction://hlinksldjump"/>
          </p:cNvPr>
          <p:cNvSpPr/>
          <p:nvPr/>
        </p:nvSpPr>
        <p:spPr>
          <a:xfrm>
            <a:off x="8388360" y="6424560"/>
            <a:ext cx="64764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271440" y="24400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6300720" y="61498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мб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5"/>
          <p:cNvSpPr/>
          <p:nvPr/>
        </p:nvSpPr>
        <p:spPr>
          <a:xfrm>
            <a:off x="314280" y="53611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6"/>
          <p:cNvSpPr/>
          <p:nvPr/>
        </p:nvSpPr>
        <p:spPr>
          <a:xfrm>
            <a:off x="4400640" y="26654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тор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4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4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4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4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WordArt 6"/>
          <p:cNvSpPr txBox="1"/>
          <p:nvPr/>
        </p:nvSpPr>
        <p:spPr>
          <a:xfrm>
            <a:off x="4505400" y="3112920"/>
            <a:ext cx="133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80" name="WordArt 7"/>
          <p:cNvSpPr txBox="1"/>
          <p:nvPr/>
        </p:nvSpPr>
        <p:spPr>
          <a:xfrm>
            <a:off x="539640" y="333360"/>
            <a:ext cx="813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деревянные  духовые  инструменты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1" name="Picture 18" descr="флейта"/>
          <p:cNvPicPr/>
          <p:nvPr/>
        </p:nvPicPr>
        <p:blipFill>
          <a:blip r:embed="rId1"/>
          <a:stretch/>
        </p:blipFill>
        <p:spPr>
          <a:xfrm>
            <a:off x="6227640" y="2205000"/>
            <a:ext cx="2664000" cy="23763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9" descr="кларнет 2"/>
          <p:cNvPicPr/>
          <p:nvPr/>
        </p:nvPicPr>
        <p:blipFill>
          <a:blip r:embed="rId2"/>
          <a:stretch/>
        </p:blipFill>
        <p:spPr>
          <a:xfrm>
            <a:off x="1763640" y="4869000"/>
            <a:ext cx="2735280" cy="18223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0" descr="гобой"/>
          <p:cNvPicPr/>
          <p:nvPr/>
        </p:nvPicPr>
        <p:blipFill>
          <a:blip r:embed="rId3"/>
          <a:stretch/>
        </p:blipFill>
        <p:spPr>
          <a:xfrm>
            <a:off x="179280" y="2232000"/>
            <a:ext cx="2880000" cy="24210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2" descr="фагот2"/>
          <p:cNvPicPr/>
          <p:nvPr/>
        </p:nvPicPr>
        <p:blipFill>
          <a:blip r:embed="rId4"/>
          <a:stretch/>
        </p:blipFill>
        <p:spPr>
          <a:xfrm>
            <a:off x="3276720" y="2205000"/>
            <a:ext cx="2520720" cy="23763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23"/>
          <p:cNvSpPr/>
          <p:nvPr/>
        </p:nvSpPr>
        <p:spPr>
          <a:xfrm>
            <a:off x="7308720" y="4941720"/>
            <a:ext cx="158436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е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4"/>
          <p:cNvSpPr/>
          <p:nvPr/>
        </p:nvSpPr>
        <p:spPr>
          <a:xfrm>
            <a:off x="395280" y="4869000"/>
            <a:ext cx="1297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5"/>
          <p:cNvSpPr/>
          <p:nvPr/>
        </p:nvSpPr>
        <p:spPr>
          <a:xfrm>
            <a:off x="4878360" y="4869000"/>
            <a:ext cx="136836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г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6"/>
          <p:cNvSpPr/>
          <p:nvPr/>
        </p:nvSpPr>
        <p:spPr>
          <a:xfrm>
            <a:off x="4932360" y="6381720"/>
            <a:ext cx="1511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8">
            <a:hlinkClick r:id="rId5" action="ppaction://hlinksldjump"/>
          </p:cNvPr>
          <p:cNvSpPr/>
          <p:nvPr/>
        </p:nvSpPr>
        <p:spPr>
          <a:xfrm>
            <a:off x="8369280" y="6497640"/>
            <a:ext cx="595440" cy="2462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WordArt 4"/>
          <p:cNvSpPr txBox="1"/>
          <p:nvPr/>
        </p:nvSpPr>
        <p:spPr>
          <a:xfrm>
            <a:off x="539640" y="476280"/>
            <a:ext cx="806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3032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1" strike="noStrike">
                <a:ln w="13032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ударные</a:t>
            </a:r>
            <a:endParaRPr b="0" lang="en-US" sz="2800" spc="1" strike="noStrike">
              <a:ln w="13032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0" y="3141720"/>
            <a:ext cx="19080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ав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2"/>
          <p:cNvSpPr/>
          <p:nvPr/>
        </p:nvSpPr>
        <p:spPr>
          <a:xfrm flipV="1" rot="10800000">
            <a:off x="3203280" y="6165720"/>
            <a:ext cx="2160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р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6300720" y="3213000"/>
            <a:ext cx="2087640" cy="520560"/>
          </a:xfrm>
          <a:prstGeom prst="rect">
            <a:avLst/>
          </a:prstGeom>
          <a:solidFill>
            <a:srgbClr val="f00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м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79280" y="6237360"/>
            <a:ext cx="1944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б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7020000" y="6165720"/>
            <a:ext cx="19447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аб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19" descr="тамтам"/>
          <p:cNvPicPr/>
          <p:nvPr/>
        </p:nvPicPr>
        <p:blipFill>
          <a:blip r:embed="rId1"/>
          <a:stretch/>
        </p:blipFill>
        <p:spPr>
          <a:xfrm>
            <a:off x="4427640" y="1628640"/>
            <a:ext cx="1873080" cy="2232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0" descr="литавры"/>
          <p:cNvPicPr/>
          <p:nvPr/>
        </p:nvPicPr>
        <p:blipFill>
          <a:blip r:embed="rId2"/>
          <a:stretch/>
        </p:blipFill>
        <p:spPr>
          <a:xfrm>
            <a:off x="1908000" y="1628640"/>
            <a:ext cx="1943280" cy="22320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1" descr="бубен"/>
          <p:cNvPicPr/>
          <p:nvPr/>
        </p:nvPicPr>
        <p:blipFill>
          <a:blip r:embed="rId3"/>
          <a:stretch/>
        </p:blipFill>
        <p:spPr>
          <a:xfrm>
            <a:off x="395280" y="3933720"/>
            <a:ext cx="2449440" cy="21607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2" descr="барабан"/>
          <p:cNvPicPr/>
          <p:nvPr/>
        </p:nvPicPr>
        <p:blipFill>
          <a:blip r:embed="rId4"/>
          <a:stretch/>
        </p:blipFill>
        <p:spPr>
          <a:xfrm>
            <a:off x="5724360" y="4005360"/>
            <a:ext cx="3105360" cy="20206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5" descr="тарелки"/>
          <p:cNvPicPr/>
          <p:nvPr/>
        </p:nvPicPr>
        <p:blipFill>
          <a:blip r:embed="rId5"/>
          <a:stretch/>
        </p:blipFill>
        <p:spPr>
          <a:xfrm>
            <a:off x="3419640" y="4005360"/>
            <a:ext cx="1831680" cy="201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9"/>
          <p:cNvSpPr/>
          <p:nvPr/>
        </p:nvSpPr>
        <p:spPr>
          <a:xfrm>
            <a:off x="1006560" y="5950080"/>
            <a:ext cx="1511280" cy="52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5945040" y="5805360"/>
            <a:ext cx="2880000" cy="52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WordArt 11"/>
          <p:cNvSpPr txBox="1"/>
          <p:nvPr/>
        </p:nvSpPr>
        <p:spPr>
          <a:xfrm>
            <a:off x="361800" y="482760"/>
            <a:ext cx="669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Инструменты других групп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4" name="Picture 13" descr="арфа"/>
          <p:cNvPicPr/>
          <p:nvPr/>
        </p:nvPicPr>
        <p:blipFill>
          <a:blip r:embed="rId1"/>
          <a:stretch/>
        </p:blipFill>
        <p:spPr>
          <a:xfrm>
            <a:off x="6527880" y="1639800"/>
            <a:ext cx="2295360" cy="4000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4" descr="орган 2"/>
          <p:cNvPicPr/>
          <p:nvPr/>
        </p:nvPicPr>
        <p:blipFill>
          <a:blip r:embed="rId2"/>
          <a:stretch/>
        </p:blipFill>
        <p:spPr>
          <a:xfrm>
            <a:off x="361800" y="1773360"/>
            <a:ext cx="3057840" cy="40003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7" descr="челеста2_1"/>
          <p:cNvPicPr/>
          <p:nvPr/>
        </p:nvPicPr>
        <p:blipFill>
          <a:blip r:embed="rId3"/>
          <a:stretch/>
        </p:blipFill>
        <p:spPr>
          <a:xfrm>
            <a:off x="3597120" y="2405160"/>
            <a:ext cx="2737080" cy="231912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8"/>
          <p:cNvSpPr/>
          <p:nvPr/>
        </p:nvSpPr>
        <p:spPr>
          <a:xfrm>
            <a:off x="4062240" y="4919760"/>
            <a:ext cx="19432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12 Дорожка 12.wma" descr=""/>
          <p:cNvPicPr/>
          <p:nvPr/>
        </p:nvPicPr>
        <p:blipFill>
          <a:blip r:embed="rId4"/>
          <a:stretch/>
        </p:blipFill>
        <p:spPr>
          <a:xfrm>
            <a:off x="3727440" y="504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7:54:13Z</dcterms:created>
  <dc:creator>RS3</dc:creator>
  <dc:description/>
  <dc:language>en-US</dc:language>
  <cp:lastModifiedBy>Ната</cp:lastModifiedBy>
  <dcterms:modified xsi:type="dcterms:W3CDTF">2018-12-30T13:15:17Z</dcterms:modified>
  <cp:revision>27</cp:revision>
  <dc:subject/>
  <dc:title>Слайд 1</dc:title>
</cp:coreProperties>
</file>