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1.gif" ContentType="image/gif"/>
  <Override PartName="/ppt/media/image12.png" ContentType="image/png"/>
  <Override PartName="/ppt/media/image20.jpeg" ContentType="image/jpeg"/>
  <Override PartName="/ppt/media/image28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3.gif" ContentType="image/gif"/>
  <Override PartName="/ppt/media/image21.jpeg" ContentType="image/jpeg"/>
  <Override PartName="/ppt/media/image16.jpeg" ContentType="image/jpeg"/>
  <Override PartName="/ppt/media/image17.jpeg" ContentType="image/jpeg"/>
  <Override PartName="/ppt/media/image7.png" ContentType="image/png"/>
  <Override PartName="/ppt/media/image22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005D-4354-497D-A68E-0279C81A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0B0A-B1DF-446D-A1CC-AD056960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8EBB8-F0EF-4EFE-B62A-3DA2573F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921E1-58B2-45A9-A32D-8598CA9E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CE50E-6CA0-4590-95AD-71351253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915A3-1736-4FBA-AB71-34DC7600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50643-94D1-4A5A-88A2-94F10626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FA7F2-E0F0-45B4-8888-5925537C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6FD01-4CAB-4E2A-957F-45100628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6723E-3635-40FD-8A1E-8056EA9F8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16B21-CEA1-433E-B6DD-91D2D8A3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70AFB-D248-4A3E-93B5-2F988A6D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9245-9C71-4566-AADC-A88F6A84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8D953-07D6-47AA-8E8D-722DFC0C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3F29A-D3BF-4FBF-BD2F-8150B62C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7A01A-3307-4632-84B2-92BED5C6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5083C-4E85-40A9-B173-0CDD2CCC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51F3F-D40B-4FA4-A337-47428EAD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0A4CC-B6A5-45F0-B186-04FC17D3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68660-08F9-4297-9C3D-7D3FAA1E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631CF-A519-4F67-B42E-8FFDF2CE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768AB-2C68-4C4E-89C4-A7C22E19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05E5A-5939-4F29-B424-CD2F00F2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FD25-CD28-4A96-9845-E89449C3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BD8FC-45D4-40E3-9C42-AC13489D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79A86-EAF9-46C9-A280-2EB8D404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14283-1A17-4EA4-B46B-A2754B3F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E0915-2186-410D-8189-250BCA00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66D93-2266-43CE-912C-8642E259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D386E-3977-473F-AFFC-BD1DAFBE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E587A-5032-4EB8-AC0A-770C1FD6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49BAB-7F00-4217-9705-1B24CF83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B4C72-7391-4EC7-8392-0C571C06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0BFF7-3CBF-4FAC-9229-20F8322C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C15C-8F93-42B1-9018-148B6F0F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80E29-E956-4765-AC4E-6B80D176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B15BC-BF6D-4C0A-99D7-F7DB2A75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F2010-A3AF-4FE6-A7A8-2DAC1851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D0307-D2E5-4B8E-BC47-37D9665C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29EB8-B112-4420-BA42-2CC71010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C5EBA-778D-443E-9F49-374CD153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CC5C0-FACA-4E73-80E0-F41B44C9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44AD7-FC20-4EEC-9ED2-6D19859E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5EFF6-9526-4B0A-BE2E-541AA016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4238E-A339-469D-BE91-BD29B94A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30FB-2D0D-4D82-A85B-8F9D4060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D421C-905C-4A97-B273-1BD7E784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92C45-3674-49F8-98D2-C341F1DD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EEF90-194F-449A-9EC8-8238D9A2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3AF87-708C-4AA0-AA8F-CAADE73F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A9AC0-8010-48A9-AEA5-7F84350F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8FEBDF-4C3F-4AAA-82F1-031693A9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5A337A-CD89-4238-8C19-0DE806D5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88B43-DBE0-4AA0-9C1D-2F3FC4F6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90CE14-180F-4B81-ACCF-4711CCC8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CEB98F-BED0-4D81-ACAD-8D9D95C7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6FAB-3328-4BFC-B010-5652E9D9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A3822F-B65E-44AE-A9F3-5CE559C0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865ED9-D94A-4FD9-A635-8329E826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AA6D67-4AC9-4429-BD3C-428A0B8F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9259AF-4BC4-4EB8-BC85-3892F607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5F7916-40CC-4C40-8F11-1876D302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78FC71-AB52-417B-8497-69246E77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DF35AD-C4CD-4D2A-8F05-3C3F53E0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74F5-9B47-4752-9CC9-105F6529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A7AE-4B7A-48B2-AB64-7BC44844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DB76-3D58-4C57-B261-266A221E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0877-452C-45FF-9775-84E7BCC5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277D-9AC6-4A60-9772-32B21E2D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A6A7-4133-4DAB-9A2E-EB313342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DFBA-4BF8-4428-8912-0F7215F2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4F3E-CE62-45C9-A728-70C92296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F47A-F7FC-4F60-B566-A850CAF0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FBF4-EEFB-4FE6-9BE9-F56BD01C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69762-8174-4D99-AEE2-0B1C0654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2ECBD-A1AC-4013-BE0E-C056B94B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D65A6-186E-4F92-A419-63144516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528EB-9D04-4E66-9AA2-DAEC52BF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612B5-C737-42B3-871F-D17744F3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B28A-1807-4906-8755-1510FE3C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C3D4A-C77B-4421-835B-D6C6643B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4D784-A60D-414C-AA86-F3F40D08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CF703-6D64-46E9-A2DF-395F9441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6FFE0-CF0D-438A-A934-E680F4EA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25D80-811D-43C5-93BC-7032E907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29FF5-CDDB-4C47-A0E8-E84A5A0A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C6DCA-E832-4C86-997C-454E10F70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A3A12-F46A-4860-8396-25ADFB8F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08585-EE92-457A-87A2-8802B392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06310-0A77-43D0-B4F2-C2AC25E9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19CE-F7C4-4749-AF91-F9F63A6B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3F582-115C-4BB5-82D0-9F6FF243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B0480-CF5E-434C-A5DF-1FF8BE9F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0476C-D540-4D43-B741-A62ED22D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BB686-F125-4E61-8431-9B7A2DBB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96F9A-1961-4045-B120-23275C77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6E98F-5123-4203-9AA8-92A6C2FC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918CA-A0EF-43A6-9329-D6EE86CB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96F29-F276-4A5E-A588-66BA9785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27328-BF18-4C22-889C-EA497F1F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A2072-251D-44DA-B7FF-1ED4B005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BA9D-AE09-4F3C-ADB8-2286BD27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70BA0-44B6-410F-8147-AAE21E2E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08FAD-0753-4430-949C-BE1D7D51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15BE3-FD26-43C5-954B-A6ADFD22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4C550-B711-484E-A774-39B338CA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B3CE1-3005-4D79-94FA-807B9EBB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FDC9E-19DA-4C24-A442-3C1B6018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E99D9-F477-47E3-806B-8EA771DF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B1FC1-568D-4FA4-8B43-F9232D18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D7E1F-98E2-4563-A364-DE44567E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19D95-B7D8-4609-B09E-B6C45E22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7708-3F11-4EEF-B8CC-4AA26ED7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7A1BF-D1EC-42CF-96F6-A95D0309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F97B3-DB91-4268-BCD0-58E71B6C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F48EA-F796-4251-92F7-EAB29EC6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7E599-DD9A-45F9-9FE8-ADD67754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A6C3C-6923-401B-AF9B-69F86AB9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50B55-FF27-422C-85B8-B2F17D76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F00BE-FD52-438F-B74D-DA787317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1A120-BC57-45A6-9A2C-A45E52E5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9210C-3ED4-4BCC-B37A-91B385F3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ACAE8-566B-4678-BCF4-6C0E1FDA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0384-93C0-4AE2-9336-95A2AE36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A6132-E148-4BBB-9069-70EBDD6C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5F681-89F0-4B4C-A136-FB5EEA61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4762F-D0A4-47C0-A0E1-97E21EC7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54CBA-34A7-4C54-BFAA-1B870003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2E785-928B-4B6F-B844-667421AA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D8A0A-4DDE-41B0-A2FB-7778A7FA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53A8A-7A0A-4326-AE1C-ECA08F9F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81027-58B7-4582-BDE9-71621224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B18B1-16C9-4DBB-8427-3ABCF059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4D31B-99C2-4711-BECE-5CE31320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7DA6-4019-4694-98D9-FC53659C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851E5-CC4D-4FA2-A156-C2914813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07FED-0EC7-4FB4-A722-7759DA06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EC7A1-4DF5-4976-BF78-0D1F9BB7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F5380-CE01-44F3-ACB9-F4F250B3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33F3C-4FEA-4877-BA1F-7E2FE938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952BA-2E8C-4CB8-8F3F-33F39985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7510B-C637-4BC1-8401-4EFC8944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6CFD8-4715-479C-84CB-FBAEC40C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B039B-A5C2-46F1-AA74-81667D7C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76AA2-3B1A-4AC3-ADC9-EC6F6FC2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5FC6-0899-45FB-B94C-34DC737D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BC1DF-16A9-4D5F-826A-A532061E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7CF90-8F24-477A-99B8-538AB3B6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70634-40A7-476D-AE8F-CEE0AA38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AC59D-CEE7-4E78-B031-730FEFEE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74117-DDC0-4B06-AC38-10449066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EBAE1-59C5-4376-8153-CF4AA686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BCA9B-AFFF-4EC5-862C-C8B2416F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77CAD-928A-4D5F-A501-30E79BF0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DBF5F-5C94-445D-B295-9442140D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852EC-978F-4BE4-BE50-3892B38E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6BD8-CC0C-408C-8846-ED86794D68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7942-775D-4BCE-B0DC-82007536E0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B2D1-FFDB-4A1E-B776-4FE8160019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EC30-9572-44BA-AAC7-A993678D5B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3396-5849-49EA-8AA7-6750ACB611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1F22-CE51-4CA2-814D-AACDC89BA0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F66F-DB77-4D0D-9D9D-677CA3D619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D599-8E3A-4FE8-8441-87CBA8D2C4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ACCE-4AF2-4A46-8075-9DD5D74592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8F57-3414-44B7-9155-3AAE053D35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6FB9-F470-487D-AB23-8472D04C3D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6F3A-E46F-4CBC-8D34-F32CC1E1C3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4AF1-146E-4A32-B3AD-FEF0A1A3F7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" Target="slide5.xml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" Target="slide5.xml"/><Relationship Id="rId6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10" descr="J0336780"/>
          <p:cNvPicPr/>
          <p:nvPr/>
        </p:nvPicPr>
        <p:blipFill>
          <a:blip r:embed="rId1"/>
          <a:stretch/>
        </p:blipFill>
        <p:spPr>
          <a:xfrm>
            <a:off x="3419640" y="4724280"/>
            <a:ext cx="2160360" cy="16336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1" descr="J0189208"/>
          <p:cNvPicPr/>
          <p:nvPr/>
        </p:nvPicPr>
        <p:blipFill>
          <a:blip r:embed="rId2"/>
          <a:stretch/>
        </p:blipFill>
        <p:spPr>
          <a:xfrm>
            <a:off x="468360" y="4527720"/>
            <a:ext cx="2087640" cy="19825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2" descr="J0189207"/>
          <p:cNvPicPr/>
          <p:nvPr/>
        </p:nvPicPr>
        <p:blipFill>
          <a:blip r:embed="rId3"/>
          <a:stretch/>
        </p:blipFill>
        <p:spPr>
          <a:xfrm>
            <a:off x="6732720" y="4437000"/>
            <a:ext cx="1804680" cy="2160720"/>
          </a:xfrm>
          <a:prstGeom prst="rect">
            <a:avLst/>
          </a:prstGeom>
          <a:ln w="0">
            <a:noFill/>
          </a:ln>
        </p:spPr>
      </p:pic>
      <p:sp>
        <p:nvSpPr>
          <p:cNvPr id="536" name="WordArt 13"/>
          <p:cNvSpPr txBox="1"/>
          <p:nvPr/>
        </p:nvSpPr>
        <p:spPr>
          <a:xfrm>
            <a:off x="934920" y="1386000"/>
            <a:ext cx="72741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Impact"/>
              </a:rPr>
              <a:t>МУЗЫКАЛЬНЫЕ</a:t>
            </a:r>
            <a:endParaRPr b="0" i="1" lang="en-US" sz="2800" spc="1" strike="noStrike">
              <a:ln w="3168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Impact"/>
              </a:rPr>
              <a:t>ИНСТРУМЕНТЫ</a:t>
            </a:r>
            <a:endParaRPr b="0" i="1" lang="en-US" sz="2800" spc="1" strike="noStrike">
              <a:ln w="3168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WordArt 12"/>
          <p:cNvSpPr txBox="1"/>
          <p:nvPr/>
        </p:nvSpPr>
        <p:spPr>
          <a:xfrm>
            <a:off x="628560" y="343080"/>
            <a:ext cx="799308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мфонический оркестр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9" name="Picture 13" descr="оркестр3"/>
          <p:cNvPicPr/>
          <p:nvPr/>
        </p:nvPicPr>
        <p:blipFill>
          <a:blip r:embed="rId3"/>
          <a:stretch/>
        </p:blipFill>
        <p:spPr>
          <a:xfrm>
            <a:off x="4211640" y="3716280"/>
            <a:ext cx="4537080" cy="27273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4" descr="оркестр 2"/>
          <p:cNvPicPr/>
          <p:nvPr/>
        </p:nvPicPr>
        <p:blipFill>
          <a:blip r:embed="rId4"/>
          <a:stretch/>
        </p:blipFill>
        <p:spPr>
          <a:xfrm>
            <a:off x="395280" y="1784520"/>
            <a:ext cx="4105440" cy="2687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WordArt 4"/>
          <p:cNvSpPr txBox="1"/>
          <p:nvPr/>
        </p:nvSpPr>
        <p:spPr>
          <a:xfrm>
            <a:off x="4514760" y="3156120"/>
            <a:ext cx="11448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 </a:t>
            </a:r>
            <a:endParaRPr b="0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542" name="WordArt 13"/>
          <p:cNvSpPr txBox="1"/>
          <p:nvPr/>
        </p:nvSpPr>
        <p:spPr>
          <a:xfrm>
            <a:off x="4514760" y="3165480"/>
            <a:ext cx="114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 </a:t>
            </a:r>
            <a:endParaRPr b="0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43" name="Line 15"/>
          <p:cNvSpPr/>
          <p:nvPr/>
        </p:nvSpPr>
        <p:spPr>
          <a:xfrm flipH="1">
            <a:off x="1619280" y="2565360"/>
            <a:ext cx="1512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6"/>
          <p:cNvSpPr/>
          <p:nvPr/>
        </p:nvSpPr>
        <p:spPr>
          <a:xfrm>
            <a:off x="5940360" y="2565360"/>
            <a:ext cx="13669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19"/>
          <p:cNvSpPr/>
          <p:nvPr/>
        </p:nvSpPr>
        <p:spPr>
          <a:xfrm>
            <a:off x="4500720" y="2492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WordArt 21"/>
          <p:cNvSpPr txBox="1"/>
          <p:nvPr/>
        </p:nvSpPr>
        <p:spPr>
          <a:xfrm>
            <a:off x="826920" y="404640"/>
            <a:ext cx="7272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Impact"/>
              </a:rPr>
              <a:t>музыкальные</a:t>
            </a:r>
            <a:endParaRPr b="0" i="1" lang="en-US" sz="2800" spc="1" strike="noStrike">
              <a:ln w="3168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Impact"/>
              </a:rPr>
              <a:t>инструменты</a:t>
            </a:r>
            <a:endParaRPr b="0" i="1" lang="en-US" sz="2800" spc="1" strike="noStrike">
              <a:ln w="3168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47" name="Group 27"/>
          <p:cNvGrpSpPr/>
          <p:nvPr/>
        </p:nvGrpSpPr>
        <p:grpSpPr>
          <a:xfrm>
            <a:off x="179280" y="4005360"/>
            <a:ext cx="2664000" cy="2320920"/>
            <a:chOff x="179280" y="4005360"/>
            <a:chExt cx="2664000" cy="2320920"/>
          </a:xfrm>
        </p:grpSpPr>
        <p:sp>
          <p:nvSpPr>
            <p:cNvPr id="548" name="Rectangle 17"/>
            <p:cNvSpPr/>
            <p:nvPr/>
          </p:nvSpPr>
          <p:spPr>
            <a:xfrm>
              <a:off x="179280" y="4005360"/>
              <a:ext cx="2664000" cy="1800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Струнная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групп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9" name="22 Дорожка 22.wma" descr=""/>
            <p:cNvPicPr/>
            <p:nvPr/>
          </p:nvPicPr>
          <p:blipFill>
            <a:blip r:embed="rId1"/>
            <a:stretch/>
          </p:blipFill>
          <p:spPr>
            <a:xfrm>
              <a:off x="1187280" y="602136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0" name="Rectangle 20"/>
          <p:cNvSpPr/>
          <p:nvPr/>
        </p:nvSpPr>
        <p:spPr>
          <a:xfrm>
            <a:off x="3132000" y="4076640"/>
            <a:ext cx="273528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11605"/>
                </a:solidFill>
                <a:latin typeface="Monotype Corsiva"/>
              </a:rPr>
              <a:t>Удар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11605"/>
                </a:solidFill>
                <a:latin typeface="Monotype Corsiva"/>
              </a:rPr>
              <a:t>груп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25"/>
          <p:cNvGrpSpPr/>
          <p:nvPr/>
        </p:nvGrpSpPr>
        <p:grpSpPr>
          <a:xfrm>
            <a:off x="6156360" y="4076640"/>
            <a:ext cx="2736720" cy="2249640"/>
            <a:chOff x="6156360" y="4076640"/>
            <a:chExt cx="2736720" cy="2249640"/>
          </a:xfrm>
        </p:grpSpPr>
        <p:sp>
          <p:nvSpPr>
            <p:cNvPr id="552" name="Rectangle 18"/>
            <p:cNvSpPr/>
            <p:nvPr/>
          </p:nvSpPr>
          <p:spPr>
            <a:xfrm>
              <a:off x="6156360" y="4076640"/>
              <a:ext cx="2736720" cy="172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Духовая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групп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3" name="20 Дорожка 20.wma" descr=""/>
            <p:cNvPicPr/>
            <p:nvPr/>
          </p:nvPicPr>
          <p:blipFill>
            <a:blip r:embed="rId2"/>
            <a:stretch/>
          </p:blipFill>
          <p:spPr>
            <a:xfrm>
              <a:off x="7524720" y="602136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WordArt 4"/>
          <p:cNvSpPr txBox="1"/>
          <p:nvPr/>
        </p:nvSpPr>
        <p:spPr>
          <a:xfrm>
            <a:off x="684360" y="549360"/>
            <a:ext cx="61912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</a:t>
            </a: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рунные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395280" y="5300640"/>
            <a:ext cx="1655640" cy="52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рип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1"/>
          <p:cNvSpPr/>
          <p:nvPr/>
        </p:nvSpPr>
        <p:spPr>
          <a:xfrm>
            <a:off x="6975360" y="5923080"/>
            <a:ext cx="158436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аб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4383000" y="5192640"/>
            <a:ext cx="208908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олонч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13" descr="скрипка2"/>
          <p:cNvPicPr/>
          <p:nvPr/>
        </p:nvPicPr>
        <p:blipFill>
          <a:blip r:embed="rId1"/>
          <a:stretch/>
        </p:blipFill>
        <p:spPr>
          <a:xfrm>
            <a:off x="250920" y="2205000"/>
            <a:ext cx="1942920" cy="28083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6" descr="контробас"/>
          <p:cNvPicPr/>
          <p:nvPr/>
        </p:nvPicPr>
        <p:blipFill>
          <a:blip r:embed="rId2"/>
          <a:stretch/>
        </p:blipFill>
        <p:spPr>
          <a:xfrm>
            <a:off x="6732720" y="2060640"/>
            <a:ext cx="2057400" cy="36003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7" descr="виолончель2"/>
          <p:cNvPicPr/>
          <p:nvPr/>
        </p:nvPicPr>
        <p:blipFill>
          <a:blip r:embed="rId3"/>
          <a:stretch/>
        </p:blipFill>
        <p:spPr>
          <a:xfrm>
            <a:off x="4356000" y="1773360"/>
            <a:ext cx="2160720" cy="30700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8" descr="альт"/>
          <p:cNvPicPr/>
          <p:nvPr/>
        </p:nvPicPr>
        <p:blipFill>
          <a:blip r:embed="rId4"/>
          <a:stretch/>
        </p:blipFill>
        <p:spPr>
          <a:xfrm>
            <a:off x="2462040" y="2685960"/>
            <a:ext cx="1686240" cy="331812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21"/>
          <p:cNvSpPr/>
          <p:nvPr/>
        </p:nvSpPr>
        <p:spPr>
          <a:xfrm>
            <a:off x="2444760" y="6224760"/>
            <a:ext cx="165564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ь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WordArt 4"/>
          <p:cNvSpPr txBox="1"/>
          <p:nvPr/>
        </p:nvSpPr>
        <p:spPr>
          <a:xfrm>
            <a:off x="38160" y="509760"/>
            <a:ext cx="83516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уховые инструменты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64" name="Oval 12">
            <a:hlinkClick r:id="rId1" action="ppaction://hlinksldjump"/>
          </p:cNvPr>
          <p:cNvSpPr/>
          <p:nvPr/>
        </p:nvSpPr>
        <p:spPr>
          <a:xfrm>
            <a:off x="684360" y="3860640"/>
            <a:ext cx="3168360" cy="187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Мед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13">
            <a:hlinkClick r:id="rId2" action="ppaction://hlinksldjump"/>
          </p:cNvPr>
          <p:cNvSpPr/>
          <p:nvPr/>
        </p:nvSpPr>
        <p:spPr>
          <a:xfrm>
            <a:off x="5148360" y="3789360"/>
            <a:ext cx="324000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Деревя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4"/>
          <p:cNvSpPr/>
          <p:nvPr/>
        </p:nvSpPr>
        <p:spPr>
          <a:xfrm flipH="1">
            <a:off x="2843280" y="2349360"/>
            <a:ext cx="122400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5"/>
          <p:cNvSpPr/>
          <p:nvPr/>
        </p:nvSpPr>
        <p:spPr>
          <a:xfrm>
            <a:off x="5651640" y="2060640"/>
            <a:ext cx="10810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WordArt 4"/>
          <p:cNvSpPr txBox="1"/>
          <p:nvPr/>
        </p:nvSpPr>
        <p:spPr>
          <a:xfrm>
            <a:off x="504720" y="144360"/>
            <a:ext cx="8207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ДНЫЕ  ДУХОВЫЕ  ИНСТРУМЕНТЫ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9" name="Rectangle 17"/>
          <p:cNvSpPr/>
          <p:nvPr/>
        </p:nvSpPr>
        <p:spPr>
          <a:xfrm>
            <a:off x="771480" y="2492280"/>
            <a:ext cx="172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Georgi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18" descr="туба2"/>
          <p:cNvPicPr/>
          <p:nvPr/>
        </p:nvPicPr>
        <p:blipFill>
          <a:blip r:embed="rId4"/>
          <a:stretch/>
        </p:blipFill>
        <p:spPr>
          <a:xfrm>
            <a:off x="1763640" y="4149720"/>
            <a:ext cx="1938240" cy="24210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0" descr="волторна"/>
          <p:cNvPicPr/>
          <p:nvPr/>
        </p:nvPicPr>
        <p:blipFill>
          <a:blip r:embed="rId5"/>
          <a:stretch/>
        </p:blipFill>
        <p:spPr>
          <a:xfrm>
            <a:off x="6407280" y="1346040"/>
            <a:ext cx="2305080" cy="24498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4" descr="басс тромбон"/>
          <p:cNvPicPr/>
          <p:nvPr/>
        </p:nvPicPr>
        <p:blipFill>
          <a:blip r:embed="rId6"/>
          <a:stretch/>
        </p:blipFill>
        <p:spPr>
          <a:xfrm>
            <a:off x="5119560" y="4103640"/>
            <a:ext cx="3238560" cy="19782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25" descr="123"/>
          <p:cNvPicPr/>
          <p:nvPr/>
        </p:nvPicPr>
        <p:blipFill>
          <a:blip r:embed="rId7"/>
          <a:stretch/>
        </p:blipFill>
        <p:spPr>
          <a:xfrm>
            <a:off x="1816200" y="1700280"/>
            <a:ext cx="1581120" cy="230652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32">
            <a:hlinkClick r:id="rId8" action="ppaction://hlinksldjump"/>
          </p:cNvPr>
          <p:cNvSpPr/>
          <p:nvPr/>
        </p:nvSpPr>
        <p:spPr>
          <a:xfrm>
            <a:off x="8388360" y="6424560"/>
            <a:ext cx="64764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ен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3"/>
          <p:cNvSpPr/>
          <p:nvPr/>
        </p:nvSpPr>
        <p:spPr>
          <a:xfrm>
            <a:off x="271440" y="24400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4"/>
          <p:cNvSpPr/>
          <p:nvPr/>
        </p:nvSpPr>
        <p:spPr>
          <a:xfrm>
            <a:off x="6300720" y="61498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омб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5"/>
          <p:cNvSpPr/>
          <p:nvPr/>
        </p:nvSpPr>
        <p:spPr>
          <a:xfrm>
            <a:off x="314280" y="53611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у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6"/>
          <p:cNvSpPr/>
          <p:nvPr/>
        </p:nvSpPr>
        <p:spPr>
          <a:xfrm>
            <a:off x="4400640" y="26654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тор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4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4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4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4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WordArt 6"/>
          <p:cNvSpPr txBox="1"/>
          <p:nvPr/>
        </p:nvSpPr>
        <p:spPr>
          <a:xfrm>
            <a:off x="4505400" y="3112920"/>
            <a:ext cx="133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80" name="WordArt 7"/>
          <p:cNvSpPr txBox="1"/>
          <p:nvPr/>
        </p:nvSpPr>
        <p:spPr>
          <a:xfrm>
            <a:off x="539640" y="333360"/>
            <a:ext cx="8136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Impact"/>
              </a:rPr>
              <a:t>деревянные  духовые  инструменты</a:t>
            </a:r>
            <a:endParaRPr b="0" i="1" lang="en-US" sz="2800" spc="1" strike="noStrike">
              <a:ln w="3168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1" name="Picture 18" descr="флейта"/>
          <p:cNvPicPr/>
          <p:nvPr/>
        </p:nvPicPr>
        <p:blipFill>
          <a:blip r:embed="rId1"/>
          <a:stretch/>
        </p:blipFill>
        <p:spPr>
          <a:xfrm>
            <a:off x="6227640" y="2205000"/>
            <a:ext cx="2664000" cy="23763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9" descr="кларнет 2"/>
          <p:cNvPicPr/>
          <p:nvPr/>
        </p:nvPicPr>
        <p:blipFill>
          <a:blip r:embed="rId2"/>
          <a:stretch/>
        </p:blipFill>
        <p:spPr>
          <a:xfrm>
            <a:off x="1763640" y="4869000"/>
            <a:ext cx="2735280" cy="18223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0" descr="гобой"/>
          <p:cNvPicPr/>
          <p:nvPr/>
        </p:nvPicPr>
        <p:blipFill>
          <a:blip r:embed="rId3"/>
          <a:stretch/>
        </p:blipFill>
        <p:spPr>
          <a:xfrm>
            <a:off x="179280" y="2232000"/>
            <a:ext cx="2880000" cy="24210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2" descr="фагот2"/>
          <p:cNvPicPr/>
          <p:nvPr/>
        </p:nvPicPr>
        <p:blipFill>
          <a:blip r:embed="rId4"/>
          <a:stretch/>
        </p:blipFill>
        <p:spPr>
          <a:xfrm>
            <a:off x="3276720" y="2205000"/>
            <a:ext cx="2520720" cy="237636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23"/>
          <p:cNvSpPr/>
          <p:nvPr/>
        </p:nvSpPr>
        <p:spPr>
          <a:xfrm>
            <a:off x="7308720" y="4941720"/>
            <a:ext cx="158436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ле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4"/>
          <p:cNvSpPr/>
          <p:nvPr/>
        </p:nvSpPr>
        <p:spPr>
          <a:xfrm>
            <a:off x="395280" y="4869000"/>
            <a:ext cx="12970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25"/>
          <p:cNvSpPr/>
          <p:nvPr/>
        </p:nvSpPr>
        <p:spPr>
          <a:xfrm>
            <a:off x="4878360" y="4869000"/>
            <a:ext cx="136836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г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26"/>
          <p:cNvSpPr/>
          <p:nvPr/>
        </p:nvSpPr>
        <p:spPr>
          <a:xfrm>
            <a:off x="4932360" y="6381720"/>
            <a:ext cx="1511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38">
            <a:hlinkClick r:id="rId5" action="ppaction://hlinksldjump"/>
          </p:cNvPr>
          <p:cNvSpPr/>
          <p:nvPr/>
        </p:nvSpPr>
        <p:spPr>
          <a:xfrm>
            <a:off x="8369280" y="6497640"/>
            <a:ext cx="595440" cy="2462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ен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WordArt 4"/>
          <p:cNvSpPr txBox="1"/>
          <p:nvPr/>
        </p:nvSpPr>
        <p:spPr>
          <a:xfrm>
            <a:off x="539640" y="476280"/>
            <a:ext cx="806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3032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1" strike="noStrike">
                <a:ln w="13032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ударные</a:t>
            </a:r>
            <a:endParaRPr b="0" lang="en-US" sz="2800" spc="1" strike="noStrike">
              <a:ln w="13032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91" name="Text Box 11"/>
          <p:cNvSpPr/>
          <p:nvPr/>
        </p:nvSpPr>
        <p:spPr>
          <a:xfrm>
            <a:off x="0" y="3141720"/>
            <a:ext cx="190800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тав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2"/>
          <p:cNvSpPr/>
          <p:nvPr/>
        </p:nvSpPr>
        <p:spPr>
          <a:xfrm flipV="1" rot="10800000">
            <a:off x="3203280" y="6165720"/>
            <a:ext cx="21603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ре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6300720" y="3213000"/>
            <a:ext cx="2087640" cy="520560"/>
          </a:xfrm>
          <a:prstGeom prst="rect">
            <a:avLst/>
          </a:prstGeom>
          <a:solidFill>
            <a:srgbClr val="f00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м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179280" y="6237360"/>
            <a:ext cx="1944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б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7020000" y="6165720"/>
            <a:ext cx="19447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раб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19" descr="тамтам"/>
          <p:cNvPicPr/>
          <p:nvPr/>
        </p:nvPicPr>
        <p:blipFill>
          <a:blip r:embed="rId1"/>
          <a:stretch/>
        </p:blipFill>
        <p:spPr>
          <a:xfrm>
            <a:off x="4427640" y="1628640"/>
            <a:ext cx="1873080" cy="2232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0" descr="литавры"/>
          <p:cNvPicPr/>
          <p:nvPr/>
        </p:nvPicPr>
        <p:blipFill>
          <a:blip r:embed="rId2"/>
          <a:stretch/>
        </p:blipFill>
        <p:spPr>
          <a:xfrm>
            <a:off x="1908000" y="1628640"/>
            <a:ext cx="1943280" cy="22320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1" descr="бубен"/>
          <p:cNvPicPr/>
          <p:nvPr/>
        </p:nvPicPr>
        <p:blipFill>
          <a:blip r:embed="rId3"/>
          <a:stretch/>
        </p:blipFill>
        <p:spPr>
          <a:xfrm>
            <a:off x="395280" y="3933720"/>
            <a:ext cx="2449440" cy="21607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22" descr="барабан"/>
          <p:cNvPicPr/>
          <p:nvPr/>
        </p:nvPicPr>
        <p:blipFill>
          <a:blip r:embed="rId4"/>
          <a:stretch/>
        </p:blipFill>
        <p:spPr>
          <a:xfrm>
            <a:off x="5724360" y="4005360"/>
            <a:ext cx="3105360" cy="20206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25" descr="тарелки"/>
          <p:cNvPicPr/>
          <p:nvPr/>
        </p:nvPicPr>
        <p:blipFill>
          <a:blip r:embed="rId5"/>
          <a:stretch/>
        </p:blipFill>
        <p:spPr>
          <a:xfrm>
            <a:off x="3419640" y="4005360"/>
            <a:ext cx="1831680" cy="201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9"/>
          <p:cNvSpPr/>
          <p:nvPr/>
        </p:nvSpPr>
        <p:spPr>
          <a:xfrm>
            <a:off x="1006560" y="5950080"/>
            <a:ext cx="1511280" cy="520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0"/>
          <p:cNvSpPr/>
          <p:nvPr/>
        </p:nvSpPr>
        <p:spPr>
          <a:xfrm>
            <a:off x="5945040" y="5805360"/>
            <a:ext cx="2880000" cy="520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WordArt 11"/>
          <p:cNvSpPr txBox="1"/>
          <p:nvPr/>
        </p:nvSpPr>
        <p:spPr>
          <a:xfrm>
            <a:off x="361800" y="482760"/>
            <a:ext cx="669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Impact"/>
              </a:rPr>
              <a:t>Инструменты других групп</a:t>
            </a:r>
            <a:endParaRPr b="0" i="1" lang="en-US" sz="2800" spc="1" strike="noStrike">
              <a:ln w="3168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4" name="Picture 13" descr="арфа"/>
          <p:cNvPicPr/>
          <p:nvPr/>
        </p:nvPicPr>
        <p:blipFill>
          <a:blip r:embed="rId1"/>
          <a:stretch/>
        </p:blipFill>
        <p:spPr>
          <a:xfrm>
            <a:off x="6527880" y="1639800"/>
            <a:ext cx="2295360" cy="40006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4" descr="орган 2"/>
          <p:cNvPicPr/>
          <p:nvPr/>
        </p:nvPicPr>
        <p:blipFill>
          <a:blip r:embed="rId2"/>
          <a:stretch/>
        </p:blipFill>
        <p:spPr>
          <a:xfrm>
            <a:off x="361800" y="1773360"/>
            <a:ext cx="3057840" cy="40003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7" descr="челеста2_1"/>
          <p:cNvPicPr/>
          <p:nvPr/>
        </p:nvPicPr>
        <p:blipFill>
          <a:blip r:embed="rId3"/>
          <a:stretch/>
        </p:blipFill>
        <p:spPr>
          <a:xfrm>
            <a:off x="3597120" y="2405160"/>
            <a:ext cx="2737080" cy="231912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18"/>
          <p:cNvSpPr/>
          <p:nvPr/>
        </p:nvSpPr>
        <p:spPr>
          <a:xfrm>
            <a:off x="4062240" y="4919760"/>
            <a:ext cx="19432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е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12 Дорожка 12.wma" descr=""/>
          <p:cNvPicPr/>
          <p:nvPr/>
        </p:nvPicPr>
        <p:blipFill>
          <a:blip r:embed="rId4"/>
          <a:stretch/>
        </p:blipFill>
        <p:spPr>
          <a:xfrm>
            <a:off x="3727440" y="504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17:54:13Z</dcterms:created>
  <dc:creator>RS3</dc:creator>
  <dc:description/>
  <dc:language>en-US</dc:language>
  <cp:lastModifiedBy>Ната</cp:lastModifiedBy>
  <dcterms:modified xsi:type="dcterms:W3CDTF">2018-12-30T13:15:17Z</dcterms:modified>
  <cp:revision>27</cp:revision>
  <dc:subject/>
  <dc:title>Слайд 1</dc:title>
</cp:coreProperties>
</file>