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8.gif" ContentType="image/gif"/>
  <Override PartName="/ppt/media/image18.jpeg" ContentType="image/jpeg"/>
  <Override PartName="/ppt/media/image1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5.gif" ContentType="image/gif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452-3D25-44B0-9684-52DD27F86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928F-64C0-428B-8994-07A48AD6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F7F-0E14-4C10-B0AC-8E5F8B95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A74-EDA2-4D38-92F4-8FD5AE9C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B366-5160-4DB0-85ED-A4F758FE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0526-3A3E-4010-B9C4-10EBE088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739D-6A5A-41EF-B511-AEDFDEB6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FC10-5289-447E-9829-93FC392E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A1E6-F33E-46E0-A26E-C4928250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4B04-B205-47A2-AAF3-D627C3D4C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E13F-61E5-4857-9821-B8940FAB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77EF-1DEE-4FC2-8736-79F25836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77FE-1B78-4EA9-A748-DB4FC43D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E960-89F4-48EB-8B3D-AF66A2BB6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89B5-F9FD-486C-9D27-31B9FB881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D006-CD3D-4470-96BE-C1D47382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BFF8-3B67-425E-96C6-3B0BAD0A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B5D-7AA3-4F30-8717-8C5D33CA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DD05-FDC5-427F-AA44-EAA89F99E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8F08-C1B6-4186-BA2E-6E571629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8EDA-70C1-46BC-A3CD-6DC598C3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B3D-7B21-45D6-A885-51BF3A98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AF38-205E-496E-AE6E-F20DE568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6F3A-9EEB-4C6E-802D-A0F8A50B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AE8A-9717-4034-8511-C1549669D2B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1938-A3BF-4833-889C-4B0461D3167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8200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Die Natur um uns herum”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280" y="4365720"/>
            <a:ext cx="756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http://topkin.ru/wp-content/uploads/2016/12/01e%60-800x511.jpg"/>
          <p:cNvPicPr/>
          <p:nvPr/>
        </p:nvPicPr>
        <p:blipFill>
          <a:blip r:embed="rId1"/>
          <a:stretch/>
        </p:blipFill>
        <p:spPr>
          <a:xfrm>
            <a:off x="571680" y="2857680"/>
            <a:ext cx="8001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usikpause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3" name="Picture 2" descr="C:\Documents and Settings\Admin\Рабочий стол\Depositphotos_5067141_s-2015.jpg"/>
          <p:cNvPicPr/>
          <p:nvPr/>
        </p:nvPicPr>
        <p:blipFill>
          <a:blip r:embed="rId1"/>
          <a:stretch/>
        </p:blipFill>
        <p:spPr>
          <a:xfrm>
            <a:off x="428760" y="1785960"/>
            <a:ext cx="8358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Welche Blumen  wachsen  in Lipetzker Gebiet?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4081320" y="3186000"/>
          <a:ext cx="9813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1320" y="3186000"/>
                    <a:ext cx="981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"/>
          <p:cNvGraphicFramePr/>
          <p:nvPr/>
        </p:nvGraphicFramePr>
        <p:xfrm>
          <a:off x="4081320" y="3186000"/>
          <a:ext cx="9813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3186000"/>
                    <a:ext cx="981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10" descr="https://news.sarbc.ru/images/orig/2015/07/img_RCW6Dl.jpg"/>
          <p:cNvPicPr/>
          <p:nvPr/>
        </p:nvPicPr>
        <p:blipFill>
          <a:blip r:embed="rId5"/>
          <a:stretch/>
        </p:blipFill>
        <p:spPr>
          <a:xfrm>
            <a:off x="3857760" y="2214720"/>
            <a:ext cx="192852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C:\Documents and Settings\Admin\Рабочий стол\main.jpg"/>
          <p:cNvPicPr/>
          <p:nvPr/>
        </p:nvPicPr>
        <p:blipFill>
          <a:blip r:embed="rId6"/>
          <a:stretch/>
        </p:blipFill>
        <p:spPr>
          <a:xfrm>
            <a:off x="5214960" y="4500720"/>
            <a:ext cx="3571920" cy="20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12"/>
          <p:cNvGraphicFramePr/>
          <p:nvPr/>
        </p:nvGraphicFramePr>
        <p:xfrm>
          <a:off x="4071960" y="3357720"/>
          <a:ext cx="9810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357720"/>
                    <a:ext cx="981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13" descr="C:\Documents and Settings\Admin\Рабочий стол\10.jpg"/>
          <p:cNvPicPr/>
          <p:nvPr/>
        </p:nvPicPr>
        <p:blipFill>
          <a:blip r:embed="rId9"/>
          <a:stretch/>
        </p:blipFill>
        <p:spPr>
          <a:xfrm>
            <a:off x="785880" y="4572000"/>
            <a:ext cx="364320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Admin\Рабочий стол\slide_10.jpg"/>
          <p:cNvPicPr/>
          <p:nvPr/>
        </p:nvPicPr>
        <p:blipFill>
          <a:blip r:embed="rId10"/>
          <a:stretch/>
        </p:blipFill>
        <p:spPr>
          <a:xfrm rot="21000000">
            <a:off x="385560" y="2015640"/>
            <a:ext cx="2900160" cy="21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C:\Documents and Settings\Admin\Рабочий стол\088dbd2c0cc1ae74e6923ed905449a1f.jpg"/>
          <p:cNvPicPr/>
          <p:nvPr/>
        </p:nvPicPr>
        <p:blipFill>
          <a:blip r:embed="rId11"/>
          <a:stretch/>
        </p:blipFill>
        <p:spPr>
          <a:xfrm rot="826200">
            <a:off x="6345360" y="1917360"/>
            <a:ext cx="2571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Die grüne Apotheke”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Mannschaft Welche Heilkräuter helfen den kranken Menschen beim Fieber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Mannschaft Welche Heilkräuter helfen den kranken Menschen bei der Erkältung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66"/>
                </a:solidFill>
                <a:uFillTx/>
                <a:latin typeface="Tahoma"/>
              </a:rPr>
              <a:t>” </a:t>
            </a:r>
            <a:r>
              <a:rPr b="1" lang="en-US" sz="4400" spc="-1" strike="noStrike" u="sng">
                <a:solidFill>
                  <a:srgbClr val="339966"/>
                </a:solidFill>
                <a:uFillTx/>
                <a:latin typeface="Tahoma"/>
              </a:rPr>
              <a:t>Musikalischer  Schritt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357720" y="1857240"/>
            <a:ext cx="4095720" cy="328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42317"/>
          <p:cNvPicPr/>
          <p:nvPr/>
        </p:nvPicPr>
        <p:blipFill>
          <a:blip r:embed="rId3"/>
          <a:stretch/>
        </p:blipFill>
        <p:spPr>
          <a:xfrm>
            <a:off x="6858000" y="1285920"/>
            <a:ext cx="1370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840" y="304560"/>
            <a:ext cx="8396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      “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Die Okologische Ampel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”</a:t>
            </a:r>
            <a:br>
              <a:rPr sz="4400"/>
            </a:b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6" name="Picture 2" descr="C:\Documents and Settings\Admin\Рабочий стол\hello_html_73d7bbfb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“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Ein Sonnenkreis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8" name="Picture 2" descr="C:\Documents and Settings\Admin\Рабочий стол\hqdefault.jpg"/>
          <p:cNvPicPr/>
          <p:nvPr/>
        </p:nvPicPr>
        <p:blipFill>
          <a:blip r:embed="rId1"/>
          <a:stretch/>
        </p:blipFill>
        <p:spPr>
          <a:xfrm>
            <a:off x="1071720" y="1928880"/>
            <a:ext cx="70722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Das Spiel ist zu Ende.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uf Wiedersehen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500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714680"/>
            <a:ext cx="75438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 </a:t>
            </a:r>
            <a:br>
              <a:rPr sz="4400"/>
            </a:br>
            <a:br>
              <a:rPr sz="1800"/>
            </a:br>
            <a:r>
              <a:rPr b="1" lang="en-US" sz="1800" spc="-1" strike="noStrike">
                <a:solidFill>
                  <a:srgbClr val="339966"/>
                </a:solidFill>
                <a:latin typeface="Tahoma"/>
              </a:rPr>
              <a:t>                                               </a:t>
            </a:r>
            <a:endParaRPr b="1" lang="en-US" sz="1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9720" y="285480"/>
            <a:ext cx="7543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ie Schönheit der Natur rettet die Welt”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“Die Natur bittet um Hilfe”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ie Natur schützen heisst die Heimat schützen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Prischw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Рисунок1"/>
          <p:cNvPicPr/>
          <p:nvPr/>
        </p:nvPicPr>
        <p:blipFill>
          <a:blip r:embed="rId1"/>
          <a:stretch/>
        </p:blipFill>
        <p:spPr>
          <a:xfrm>
            <a:off x="785880" y="3500280"/>
            <a:ext cx="53578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181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1. Schritt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:”Meine Visitenkarte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71880" y="1928880"/>
            <a:ext cx="5857920" cy="36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2786040" cy="305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KIDS01"/>
          <p:cNvPicPr/>
          <p:nvPr/>
        </p:nvPicPr>
        <p:blipFill>
          <a:blip r:embed="rId3"/>
          <a:stretch/>
        </p:blipFill>
        <p:spPr>
          <a:xfrm>
            <a:off x="1071720" y="5214960"/>
            <a:ext cx="21603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Macht bitte einander Komplimente”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786120" cy="37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4143240" cy="392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5045s"/>
          <p:cNvPicPr/>
          <p:nvPr/>
        </p:nvPicPr>
        <p:blipFill>
          <a:blip r:embed="rId3"/>
          <a:stretch/>
        </p:blipFill>
        <p:spPr>
          <a:xfrm>
            <a:off x="2928960" y="5143680"/>
            <a:ext cx="1386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”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Aufwärmen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6160" y="198108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ahoma"/>
              </a:rPr>
              <a:t>1)sp ,ei . 2)sch , 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feifen, die Spende, die  Schwalbe, die Nachtigal,der Specht, der Sperling, schweigen,weinen, die  Meise, der Kranich,schutzen,der Spat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55045s"/>
          <p:cNvPicPr/>
          <p:nvPr/>
        </p:nvPicPr>
        <p:blipFill>
          <a:blip r:embed="rId2"/>
          <a:stretch/>
        </p:blipFill>
        <p:spPr>
          <a:xfrm>
            <a:off x="0" y="285840"/>
            <a:ext cx="64296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”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Wer weiss besser  Sprichworter”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9" name="Picture 7" descr="C:\Documents and Settings\Admin\Рабочий стол\bg.jpg"/>
          <p:cNvPicPr/>
          <p:nvPr/>
        </p:nvPicPr>
        <p:blipFill>
          <a:blip r:embed="rId1"/>
          <a:stretch/>
        </p:blipFill>
        <p:spPr>
          <a:xfrm>
            <a:off x="357120" y="1857240"/>
            <a:ext cx="842976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Bildet das Wort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981080"/>
            <a:ext cx="3695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1) Der Herbst-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Sommer-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Winter-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F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ühling(s)-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{ der Monat}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2) Das Jahr(es)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Lieblinng(s)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Sommer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Winter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{die Zeit }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4" descr="i?id=13434712-02"/>
          <p:cNvPicPr/>
          <p:nvPr/>
        </p:nvPicPr>
        <p:blipFill>
          <a:blip r:embed="rId1"/>
          <a:stretch/>
        </p:blipFill>
        <p:spPr>
          <a:xfrm>
            <a:off x="357120" y="1714680"/>
            <a:ext cx="4503960" cy="335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?id=174941588-03"/>
          <p:cNvPicPr/>
          <p:nvPr/>
        </p:nvPicPr>
        <p:blipFill>
          <a:blip r:embed="rId2"/>
          <a:stretch/>
        </p:blipFill>
        <p:spPr>
          <a:xfrm>
            <a:off x="5148360" y="1785960"/>
            <a:ext cx="3566880" cy="3143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ätsel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5000760"/>
            <a:ext cx="7543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8253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er weiss Bescheid?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4200" y="1642680"/>
            <a:ext cx="454824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ches Tier wohnt am längs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Elefant, b) der Papagei, c) die Schildkrö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Welche Vögelkönnen nicht flie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Kolibri,b)der Strauss, die Schwal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3280" y="1714680"/>
            <a:ext cx="4214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Welches Tier läuft am Schnells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Löwe,b) der Fuch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) der H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Welcher Vögel bringt seine Jungen im Winter zur We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Stieglitz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щего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der Kreuzschnabel, der Spat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4" descr="i?id=150221393-07"/>
          <p:cNvPicPr/>
          <p:nvPr/>
        </p:nvPicPr>
        <p:blipFill>
          <a:blip r:embed="rId1"/>
          <a:stretch/>
        </p:blipFill>
        <p:spPr>
          <a:xfrm>
            <a:off x="6858000" y="142920"/>
            <a:ext cx="2071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03:48Z</dcterms:created>
  <dc:creator>Катя</dc:creator>
  <dc:description/>
  <dc:language>en-US</dc:language>
  <cp:lastModifiedBy>Admin</cp:lastModifiedBy>
  <dcterms:modified xsi:type="dcterms:W3CDTF">2017-10-30T19:04:38Z</dcterms:modified>
  <cp:revision>23</cp:revision>
  <dc:subject/>
  <dc:title>Экологический КВН</dc:title>
</cp:coreProperties>
</file>