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25.gif" ContentType="image/gif"/>
  <Override PartName="/ppt/media/image28.png" ContentType="image/png"/>
  <Override PartName="/ppt/media/image8.gif" ContentType="image/gif"/>
  <Override PartName="/ppt/media/image18.jpeg" ContentType="image/jpeg"/>
  <Override PartName="/ppt/media/image19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2.jpeg" ContentType="image/jpeg"/>
  <Override PartName="/ppt/media/image12.jpeg" ContentType="image/jpeg"/>
  <Override PartName="/ppt/media/image6.png" ContentType="image/png"/>
  <Override PartName="/ppt/media/image9.png" ContentType="image/png"/>
  <Override PartName="/ppt/media/image27.jpeg" ContentType="image/jpeg"/>
  <Override PartName="/ppt/media/image26.jpeg" ContentType="image/jpeg"/>
  <Override PartName="/ppt/media/image24.png" ContentType="image/png"/>
  <Override PartName="/ppt/media/image21.jpeg" ContentType="image/jpeg"/>
  <Override PartName="/ppt/media/image2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5.gif" ContentType="image/gif"/>
  <Override PartName="/ppt/media/image16.wmf" ContentType="image/x-wmf"/>
  <Override PartName="/ppt/media/image14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4075-A904-4B6A-97CB-19743BF2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680-1AA7-4948-9B04-F8E495A55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DED9-475E-4D1E-97E4-311798EDD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013B-5795-4D07-91A8-C8F79E494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DD3A1-7635-4556-A339-521E6E20F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FEFC1-9306-4672-8DB4-676660A5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6B10-4438-4943-94A2-CEC27FCE4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6929-BFA9-4CD3-AC2A-77018474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B59D8-6A7A-4FE6-8628-9204D234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C53A4-E0E5-4E49-99B4-0EB415968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2F41-C711-41D7-9794-5C43CD706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9F01-219D-4F28-A13D-F33B5667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B2A4-4366-4D7E-AACC-427F4FD0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BCDBC-A473-476F-92C6-328C0F51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864B1-7C8B-4C4A-8D2C-206B3320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6EBA-D9FC-4BC3-BB6F-976B7C46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6D26-2D7B-4E1E-A15A-67E5C8C9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9D7E-9212-493D-B770-196F4AAE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C9C-082D-4359-99D6-E8C230DA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5A7E-6A2D-4F96-BB84-2F71823C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1FC1-13DA-467C-AD06-27C46BE5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5BE9-E60F-4B76-A927-FFF0B4A6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7101-FB7F-4435-BEE4-E2FB7AC6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5FE9-E2E7-4ED2-AF5D-86C33F02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c4d6be"/>
                </a:gs>
                <a:gs pos="100000">
                  <a:srgbClr val="effb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3538-2534-428A-8B08-F4F759662BDC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d6b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50000">
                  <a:srgbClr val="009900"/>
                </a:gs>
                <a:gs pos="100000">
                  <a:srgbClr val="cc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ccff99"/>
                </a:gs>
                <a:gs pos="100000">
                  <a:srgbClr val="effbf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effbf0"/>
                </a:gs>
                <a:gs pos="100000">
                  <a:srgbClr val="ccff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c4d6be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4d6be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100000">
                    <a:srgbClr val="effb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effbf0"/>
                  </a:gs>
                  <a:gs pos="100000">
                    <a:srgbClr val="cc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ccff99"/>
                  </a:gs>
                  <a:gs pos="50000">
                    <a:srgbClr val="009900"/>
                  </a:gs>
                  <a:gs pos="100000">
                    <a:srgbClr val="ccff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D983-7419-4649-9E41-6C80202E5C12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9.wmf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image" Target="../media/image22.jpeg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820000" cy="19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en-US" sz="4800" spc="-1" strike="noStrike">
                <a:solidFill>
                  <a:srgbClr val="ff0000"/>
                </a:solidFill>
                <a:latin typeface="Tahoma"/>
              </a:rPr>
              <a:t>Die Natur um uns herum”</a:t>
            </a:r>
            <a:endParaRPr b="1" lang="en-US" sz="48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71280" y="4365720"/>
            <a:ext cx="756108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5" descr="http://topkin.ru/wp-content/uploads/2016/12/01e%60-800x511.jpg"/>
          <p:cNvPicPr/>
          <p:nvPr/>
        </p:nvPicPr>
        <p:blipFill>
          <a:blip r:embed="rId1"/>
          <a:stretch/>
        </p:blipFill>
        <p:spPr>
          <a:xfrm>
            <a:off x="571680" y="2857680"/>
            <a:ext cx="8001000" cy="357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Musikpause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43" name="Picture 2" descr="C:\Documents and Settings\Admin\Рабочий стол\Depositphotos_5067141_s-2015.jpg"/>
          <p:cNvPicPr/>
          <p:nvPr/>
        </p:nvPicPr>
        <p:blipFill>
          <a:blip r:embed="rId1"/>
          <a:stretch/>
        </p:blipFill>
        <p:spPr>
          <a:xfrm>
            <a:off x="428760" y="1785960"/>
            <a:ext cx="835812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Welche Blumen  wachsen  in Lipetzker Gebiet?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Object 7"/>
          <p:cNvGraphicFramePr/>
          <p:nvPr/>
        </p:nvGraphicFramePr>
        <p:xfrm>
          <a:off x="4081320" y="3186000"/>
          <a:ext cx="981360" cy="4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81320" y="3186000"/>
                    <a:ext cx="9813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Object 8"/>
          <p:cNvGraphicFramePr/>
          <p:nvPr/>
        </p:nvGraphicFramePr>
        <p:xfrm>
          <a:off x="4081320" y="3186000"/>
          <a:ext cx="981360" cy="4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81320" y="3186000"/>
                    <a:ext cx="981360" cy="4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Picture 10" descr="https://news.sarbc.ru/images/orig/2015/07/img_RCW6Dl.jpg"/>
          <p:cNvPicPr/>
          <p:nvPr/>
        </p:nvPicPr>
        <p:blipFill>
          <a:blip r:embed="rId5"/>
          <a:stretch/>
        </p:blipFill>
        <p:spPr>
          <a:xfrm>
            <a:off x="3857760" y="2214720"/>
            <a:ext cx="1928520" cy="2143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C:\Documents and Settings\Admin\Рабочий стол\main.jpg"/>
          <p:cNvPicPr/>
          <p:nvPr/>
        </p:nvPicPr>
        <p:blipFill>
          <a:blip r:embed="rId6"/>
          <a:stretch/>
        </p:blipFill>
        <p:spPr>
          <a:xfrm>
            <a:off x="5214960" y="4500720"/>
            <a:ext cx="3571920" cy="2071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3" name="Object 12"/>
          <p:cNvGraphicFramePr/>
          <p:nvPr/>
        </p:nvGraphicFramePr>
        <p:xfrm>
          <a:off x="4071960" y="3357720"/>
          <a:ext cx="981000" cy="485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4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71960" y="3357720"/>
                    <a:ext cx="98100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5" name="Picture 13" descr="C:\Documents and Settings\Admin\Рабочий стол\10.jpg"/>
          <p:cNvPicPr/>
          <p:nvPr/>
        </p:nvPicPr>
        <p:blipFill>
          <a:blip r:embed="rId9"/>
          <a:stretch/>
        </p:blipFill>
        <p:spPr>
          <a:xfrm>
            <a:off x="785880" y="4572000"/>
            <a:ext cx="3643200" cy="2071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C:\Documents and Settings\Admin\Рабочий стол\slide_10.jpg"/>
          <p:cNvPicPr/>
          <p:nvPr/>
        </p:nvPicPr>
        <p:blipFill>
          <a:blip r:embed="rId10"/>
          <a:stretch/>
        </p:blipFill>
        <p:spPr>
          <a:xfrm rot="21000000">
            <a:off x="385560" y="2015640"/>
            <a:ext cx="2900160" cy="2176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C:\Documents and Settings\Admin\Рабочий стол\088dbd2c0cc1ae74e6923ed905449a1f.jpg"/>
          <p:cNvPicPr/>
          <p:nvPr/>
        </p:nvPicPr>
        <p:blipFill>
          <a:blip r:embed="rId11"/>
          <a:stretch/>
        </p:blipFill>
        <p:spPr>
          <a:xfrm rot="826200">
            <a:off x="6345360" y="1917360"/>
            <a:ext cx="25714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“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Die grüne Apotheke” 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10666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1.Mannschaft Welche Heilkräuter helfen den kranken Menschen beim Fieber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2. Mannschaft Welche Heilkräuter helfen den kranken Menschen bei der Erkältung?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339966"/>
                </a:solidFill>
                <a:uFillTx/>
                <a:latin typeface="Tahoma"/>
              </a:rPr>
              <a:t>” </a:t>
            </a:r>
            <a:r>
              <a:rPr b="1" lang="en-US" sz="4400" spc="-1" strike="noStrike" u="sng">
                <a:solidFill>
                  <a:srgbClr val="339966"/>
                </a:solidFill>
                <a:uFillTx/>
                <a:latin typeface="Tahoma"/>
              </a:rPr>
              <a:t>Musikalischer  Schritt</a:t>
            </a: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”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85840" y="1500120"/>
            <a:ext cx="3500280" cy="37148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3357720" y="1857240"/>
            <a:ext cx="4095720" cy="3286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42317"/>
          <p:cNvPicPr/>
          <p:nvPr/>
        </p:nvPicPr>
        <p:blipFill>
          <a:blip r:embed="rId3"/>
          <a:stretch/>
        </p:blipFill>
        <p:spPr>
          <a:xfrm>
            <a:off x="6858000" y="1285920"/>
            <a:ext cx="137016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3840" y="304560"/>
            <a:ext cx="83962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       “</a:t>
            </a: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Die Okologische Ampel</a:t>
            </a: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”</a:t>
            </a:r>
            <a:br>
              <a:rPr sz="4400"/>
            </a:b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66" name="Picture 2" descr="C:\Documents and Settings\Admin\Рабочий стол\hello_html_73d7bbfb.jpg"/>
          <p:cNvPicPr/>
          <p:nvPr/>
        </p:nvPicPr>
        <p:blipFill>
          <a:blip r:embed="rId1"/>
          <a:stretch/>
        </p:blipFill>
        <p:spPr>
          <a:xfrm>
            <a:off x="1285920" y="1643040"/>
            <a:ext cx="6286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 “</a:t>
            </a: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Ein Sonnenkreis”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68" name="Picture 2" descr="C:\Documents and Settings\Admin\Рабочий стол\hqdefault.jpg"/>
          <p:cNvPicPr/>
          <p:nvPr/>
        </p:nvPicPr>
        <p:blipFill>
          <a:blip r:embed="rId1"/>
          <a:stretch/>
        </p:blipFill>
        <p:spPr>
          <a:xfrm>
            <a:off x="1071720" y="1928880"/>
            <a:ext cx="707220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Das Spiel ist zu Ende.</a:t>
            </a:r>
            <a:br>
              <a:rPr sz="4400"/>
            </a:b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Auf Wiedersehen.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500120" y="1928880"/>
            <a:ext cx="65008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1714680"/>
            <a:ext cx="75438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9966"/>
                </a:solidFill>
                <a:latin typeface="Tahoma"/>
              </a:rPr>
              <a:t> </a:t>
            </a:r>
            <a:br>
              <a:rPr sz="4400"/>
            </a:br>
            <a:br>
              <a:rPr sz="1800"/>
            </a:br>
            <a:r>
              <a:rPr b="1" lang="en-US" sz="1800" spc="-1" strike="noStrike">
                <a:solidFill>
                  <a:srgbClr val="339966"/>
                </a:solidFill>
                <a:latin typeface="Tahoma"/>
              </a:rPr>
              <a:t>                                               </a:t>
            </a:r>
            <a:endParaRPr b="1" lang="en-US" sz="18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999720" y="285480"/>
            <a:ext cx="75438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 </a:t>
            </a:r>
            <a:r>
              <a:rPr b="0" i="1" lang="en-US" sz="32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Die Schönheit der Natur rettet die Welt”.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“Die Natur bittet um Hilfe”.</a:t>
            </a:r>
            <a:br>
              <a:rPr sz="3200"/>
            </a:br>
            <a:r>
              <a:rPr b="1" i="1" lang="en-US" sz="3200" spc="-1" strike="noStrike">
                <a:solidFill>
                  <a:srgbClr val="ff0000"/>
                </a:solidFill>
                <a:latin typeface="Tahoma"/>
              </a:rPr>
              <a:t>Die Natur schützen heisst die Heimat schützen”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. Prischw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6" descr="Рисунок1"/>
          <p:cNvPicPr/>
          <p:nvPr/>
        </p:nvPicPr>
        <p:blipFill>
          <a:blip r:embed="rId1"/>
          <a:stretch/>
        </p:blipFill>
        <p:spPr>
          <a:xfrm>
            <a:off x="785880" y="3500280"/>
            <a:ext cx="535788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400" y="304560"/>
            <a:ext cx="81817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1. Schritt</a:t>
            </a: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:”Meine Visitenkarte”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071880" y="1928880"/>
            <a:ext cx="5857920" cy="3643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2"/>
          <a:stretch/>
        </p:blipFill>
        <p:spPr>
          <a:xfrm>
            <a:off x="0" y="1857240"/>
            <a:ext cx="2786040" cy="30546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KIDS01"/>
          <p:cNvPicPr/>
          <p:nvPr/>
        </p:nvPicPr>
        <p:blipFill>
          <a:blip r:embed="rId3"/>
          <a:stretch/>
        </p:blipFill>
        <p:spPr>
          <a:xfrm>
            <a:off x="1071720" y="5214960"/>
            <a:ext cx="216036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Macht bitte einander Komplimente”</a:t>
            </a:r>
            <a:endParaRPr b="1" lang="en-US" sz="36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57120" y="1571760"/>
            <a:ext cx="3786120" cy="3714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/>
          <a:stretch/>
        </p:blipFill>
        <p:spPr>
          <a:xfrm>
            <a:off x="4357800" y="1571760"/>
            <a:ext cx="4143240" cy="3929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55045s"/>
          <p:cNvPicPr/>
          <p:nvPr/>
        </p:nvPicPr>
        <p:blipFill>
          <a:blip r:embed="rId3"/>
          <a:stretch/>
        </p:blipFill>
        <p:spPr>
          <a:xfrm>
            <a:off x="2928960" y="5143680"/>
            <a:ext cx="1386000" cy="13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” 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Aufwärmen”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286160" y="1981080"/>
            <a:ext cx="4500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400" spc="-1" strike="noStrike" u="sng">
                <a:solidFill>
                  <a:srgbClr val="0070c0"/>
                </a:solidFill>
                <a:uFillTx/>
                <a:latin typeface="Tahoma"/>
              </a:rPr>
              <a:t>1)sp ,ei . 2)sch , 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feifen, die Spende, die  Schwalbe, die Nachtigal,der Specht, der Sperling, schweigen,weinen, die  Meise, der Kranich,schutzen,der Spatz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3643200" cy="31431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55045s"/>
          <p:cNvPicPr/>
          <p:nvPr/>
        </p:nvPicPr>
        <p:blipFill>
          <a:blip r:embed="rId2"/>
          <a:stretch/>
        </p:blipFill>
        <p:spPr>
          <a:xfrm>
            <a:off x="0" y="285840"/>
            <a:ext cx="642960" cy="13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”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Wer weiss besser  Sprichworter” 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29" name="Picture 7" descr="C:\Documents and Settings\Admin\Рабочий стол\bg.jpg"/>
          <p:cNvPicPr/>
          <p:nvPr/>
        </p:nvPicPr>
        <p:blipFill>
          <a:blip r:embed="rId1"/>
          <a:stretch/>
        </p:blipFill>
        <p:spPr>
          <a:xfrm>
            <a:off x="357120" y="1857240"/>
            <a:ext cx="8429760" cy="49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Tahoma"/>
              </a:rPr>
              <a:t> 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“</a:t>
            </a: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Tahoma"/>
              </a:rPr>
              <a:t>Bildet das Wort”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066680" y="1981080"/>
            <a:ext cx="36957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1) Der Herbst-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r Sommer-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 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r Winter-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er F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ühling(s)-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3880" indent="-2638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{ der Monat}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2) Das Jahr(es)-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Der Lieblinng(s)-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Der Sommer-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Der Winter-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9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ahoma"/>
              </a:rPr>
              <a:t>{die Zeit }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066680" y="1981080"/>
            <a:ext cx="369576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4" name="Picture 14" descr="i?id=13434712-02"/>
          <p:cNvPicPr/>
          <p:nvPr/>
        </p:nvPicPr>
        <p:blipFill>
          <a:blip r:embed="rId1"/>
          <a:stretch/>
        </p:blipFill>
        <p:spPr>
          <a:xfrm>
            <a:off x="357120" y="1714680"/>
            <a:ext cx="4503960" cy="3357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7" descr="i?id=174941588-03"/>
          <p:cNvPicPr/>
          <p:nvPr/>
        </p:nvPicPr>
        <p:blipFill>
          <a:blip r:embed="rId2"/>
          <a:stretch/>
        </p:blipFill>
        <p:spPr>
          <a:xfrm>
            <a:off x="5148360" y="1785960"/>
            <a:ext cx="3566880" cy="3143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”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Rätsel”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5000760"/>
            <a:ext cx="7543800" cy="10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7120" y="304560"/>
            <a:ext cx="825336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“</a:t>
            </a: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Wer weiss Bescheid?”</a:t>
            </a:r>
            <a:endParaRPr b="1" lang="en-US" sz="4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14200" y="1642680"/>
            <a:ext cx="454824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lches Tier wohnt am längst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)der Elefant, b) der Papagei, c) die Schildkröt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)Welche Vögelkönnen nicht flieg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)der Kolibri,b)der Strauss, die Schwalb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3280" y="1714680"/>
            <a:ext cx="4214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)Welches Tier läuft am Schnellste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)der Löwe,b) der Fuch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) der Ha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)Welcher Vögel bringt seine Jungen im Winter zur Welt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)derStieglitz(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щего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,der Kreuzschnabel, der Spatz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1" name="Picture 14" descr="i?id=150221393-07"/>
          <p:cNvPicPr/>
          <p:nvPr/>
        </p:nvPicPr>
        <p:blipFill>
          <a:blip r:embed="rId1"/>
          <a:stretch/>
        </p:blipFill>
        <p:spPr>
          <a:xfrm>
            <a:off x="6858000" y="142920"/>
            <a:ext cx="207180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8:03:48Z</dcterms:created>
  <dc:creator>Катя</dc:creator>
  <dc:description/>
  <dc:language>en-US</dc:language>
  <cp:lastModifiedBy>Admin</cp:lastModifiedBy>
  <dcterms:modified xsi:type="dcterms:W3CDTF">2017-10-30T19:04:38Z</dcterms:modified>
  <cp:revision>23</cp:revision>
  <dc:subject/>
  <dc:title>Экологический КВН</dc:title>
</cp:coreProperties>
</file>