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media/image4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E96-3CDF-4FD3-8D22-437AA517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674-E091-422C-AF7B-1F454012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9AC-FEBD-43BE-9556-9CC6B2D3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2C8-51DE-4D19-B703-96F8EA81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709B-DF23-4F79-9D58-3C9A3963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D154-A1D1-4520-B466-BD6BB45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B53-E669-4637-AE61-C5D203E8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867-84A9-49BF-A3B5-980E612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392-7BFB-4DFD-87DE-C89A7410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89B6-FC7F-44CD-BEB5-54E3853F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B48E-FCA9-4696-AA21-50EF98F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B0F-751C-4367-84A2-E2CE072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1CD9-DE27-4371-A7E7-A879B1C9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2A19-E149-4E66-9243-5FB3D52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4DCD-D7F5-49EB-B784-67F615A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FB4-7E84-4FE7-B061-7CD5E902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115-8CBD-436B-B6A4-8755885C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582-EA1C-4F2C-BC36-4EEE948D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188-C2D1-469A-8245-A6265816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C83-1BEE-43BD-B233-8998860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95C-CB4C-46DE-AD6C-D3D05AF7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D42-7ADA-4251-9559-FDC0FE7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DC0-8163-49CD-B839-5DD1050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302-EF54-4F4C-8B40-FA974CB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209F-F7E8-4177-BA8A-13FC45F8B73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3ABF-DD62-4E06-9DA7-76D667CB3E3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184464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Викторина ко Дню матери </a:t>
            </a:r>
            <a:r>
              <a:rPr b="0" lang="ru-RU" sz="6000" spc="-1" strike="noStrike">
                <a:solidFill>
                  <a:srgbClr val="cc0000"/>
                </a:solidFill>
                <a:latin typeface="Calibri"/>
              </a:rPr>
              <a:t>(интерактивная игра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Явления природы - 2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09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9900"/>
                </a:solidFill>
                <a:latin typeface="Calibri"/>
              </a:rPr>
              <a:t>   </a:t>
            </a:r>
            <a:r>
              <a:rPr b="1" lang="ru-RU" sz="4100" spc="-1" strike="noStrike">
                <a:solidFill>
                  <a:srgbClr val="996600"/>
                </a:solidFill>
                <a:latin typeface="Calibri"/>
              </a:rPr>
              <a:t>Работа мамы связана с той специальностью, которую мама получила, закончив учебное заведе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07480" y="6237360"/>
            <a:ext cx="16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HH00625_"/>
          <p:cNvPicPr/>
          <p:nvPr/>
        </p:nvPicPr>
        <p:blipFill>
          <a:blip r:embed="rId2"/>
          <a:stretch/>
        </p:blipFill>
        <p:spPr>
          <a:xfrm>
            <a:off x="7020000" y="501336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Специальность - 3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26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00"/>
                </a:solidFill>
                <a:latin typeface="Calibri"/>
              </a:rPr>
              <a:t>После окончания школы я хотел (ла) бы получить специальность 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>
            <a:hlinkClick r:id="rId1" action="ppaction://hlinksldjump"/>
          </p:cNvPr>
          <p:cNvSpPr/>
          <p:nvPr/>
        </p:nvSpPr>
        <p:spPr>
          <a:xfrm>
            <a:off x="60192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HH00625_"/>
          <p:cNvPicPr/>
          <p:nvPr/>
        </p:nvPicPr>
        <p:blipFill>
          <a:blip r:embed="rId2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alibri"/>
              </a:rPr>
              <a:t>Специальность -4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996600"/>
                </a:solidFill>
                <a:latin typeface="Calibri"/>
              </a:rPr>
              <a:t>Круг каких общеобразовательных предметов понадобиться вам при поступлении в ВУЗ (как кажется Вам сейчас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616572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HH00625_"/>
          <p:cNvPicPr/>
          <p:nvPr/>
        </p:nvPicPr>
        <p:blipFill>
          <a:blip r:embed="rId2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00"/>
                </a:solidFill>
                <a:latin typeface="Calibri"/>
              </a:rPr>
              <a:t>Специальность - 50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00"/>
                </a:solidFill>
                <a:latin typeface="Calibri"/>
              </a:rPr>
              <a:t>Какие учебные предметы сдавала мама при поступлении в ВУЗ или в специальное учебное заведение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9800" y="61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HH00625_"/>
          <p:cNvPicPr/>
          <p:nvPr/>
        </p:nvPicPr>
        <p:blipFill>
          <a:blip r:embed="rId1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Поговорим о самом приятном - 1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Мне нравится, когда меня хвалят з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Хорошие отме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Успехи в учеб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Мои способност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Приложенные усил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4580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7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Поговорим о самом приятном - 2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Самое интересное на уроке – это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Общение с друзь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зучение новой тем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Получать хорошие отмет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Звонок на перемен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1792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HH00546_"/>
          <p:cNvPicPr/>
          <p:nvPr/>
        </p:nvPicPr>
        <p:blipFill>
          <a:blip r:embed="rId1"/>
          <a:stretch/>
        </p:blipFill>
        <p:spPr>
          <a:xfrm>
            <a:off x="7380360" y="558972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Поговорим о самом приятном - 3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Учиться лучше меня побуждают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Деньги, которые я заработаю в будуще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Родители и (или) учите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Желание получать зн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Мне нужна более высокая отметка, чем та, которую имею на данный момен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595008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7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оговорим о самом приятном - 4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Если я ошибся (лась) при выполнении учебного задания, то я (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про дочь или сына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Выполняю его повторно, исправляю ошиб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рвнича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тказываюсь от его выпол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одолжаю думать над ним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5680" y="6113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оговорим о самом приятном - 5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Если я ошиблась при выполнении учебного задания, то я (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про маму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Выполняю его повторно, исправляю ошиб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рвнича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тказываюсь от его выпол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одолжаю думать над ним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7240" y="61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H00546_"/>
          <p:cNvPicPr/>
          <p:nvPr/>
        </p:nvPicPr>
        <p:blipFill>
          <a:blip r:embed="rId1"/>
          <a:stretch/>
        </p:blipFill>
        <p:spPr>
          <a:xfrm>
            <a:off x="7380360" y="5950080"/>
            <a:ext cx="6300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1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666633"/>
                </a:solidFill>
                <a:latin typeface="Calibri"/>
              </a:rPr>
              <a:t>Самое любимое увлечение мамы и мое увлечение, совпадающее с мамины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42520" y="61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6" descr="PH02738U"/>
          <p:cNvPicPr/>
          <p:nvPr/>
        </p:nvPicPr>
        <p:blipFill>
          <a:blip r:embed="rId1"/>
          <a:stretch/>
        </p:blipFill>
        <p:spPr>
          <a:xfrm>
            <a:off x="6877080" y="386064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198864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Нужно очень постараться, чтобы добиться того, чего хочешь!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2" name="Picture 5" descr="439"/>
          <p:cNvPicPr/>
          <p:nvPr/>
        </p:nvPicPr>
        <p:blipFill>
          <a:blip r:embed="rId1"/>
          <a:stretch/>
        </p:blipFill>
        <p:spPr>
          <a:xfrm>
            <a:off x="7380360" y="476280"/>
            <a:ext cx="1305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2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00"/>
                </a:solidFill>
                <a:latin typeface="Calibri"/>
              </a:rPr>
              <a:t>Самый любимый семейный праздни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29800" y="59500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PH02738U"/>
          <p:cNvPicPr/>
          <p:nvPr/>
        </p:nvPicPr>
        <p:blipFill>
          <a:blip r:embed="rId1"/>
          <a:stretch/>
        </p:blipFill>
        <p:spPr>
          <a:xfrm>
            <a:off x="6877080" y="386064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3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00"/>
                </a:solidFill>
                <a:latin typeface="Calibri"/>
              </a:rPr>
              <a:t>Какой подарок к Новому году выбрала бы мама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816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PH02738U"/>
          <p:cNvPicPr/>
          <p:nvPr/>
        </p:nvPicPr>
        <p:blipFill>
          <a:blip r:embed="rId1"/>
          <a:stretch/>
        </p:blipFill>
        <p:spPr>
          <a:xfrm>
            <a:off x="6877080" y="386064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4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086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Если бы маме пришлось выбирать, то что бы она выбрал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Чтение книг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Вяз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Просмотр филь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00"/>
                </a:solidFill>
                <a:latin typeface="Calibri"/>
              </a:rPr>
              <a:t>Прогулку на воздух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1416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PH02738U"/>
          <p:cNvPicPr/>
          <p:nvPr/>
        </p:nvPicPr>
        <p:blipFill>
          <a:blip r:embed="rId1"/>
          <a:stretch/>
        </p:blipFill>
        <p:spPr>
          <a:xfrm>
            <a:off x="7236000" y="4871880"/>
            <a:ext cx="12236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Общие интересы - 5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666600"/>
                </a:solidFill>
                <a:latin typeface="Calibri"/>
              </a:rPr>
              <a:t>Вы решили завести собаку или кошку, или рыбок, или птиц и т.д. Кого выбрали бы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8880" y="62373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5" descr="PH02738U"/>
          <p:cNvPicPr/>
          <p:nvPr/>
        </p:nvPicPr>
        <p:blipFill>
          <a:blip r:embed="rId1"/>
          <a:stretch/>
        </p:blipFill>
        <p:spPr>
          <a:xfrm>
            <a:off x="7164360" y="4437000"/>
            <a:ext cx="1343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Поговорим о вкусном – 10</a:t>
            </a: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Любимое мамино блюд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17320" y="6113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6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8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aramond"/>
              </a:rPr>
              <a:t>Поговорим о вкусном – 2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Какое самое вкусное блюдо, готовит мама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4655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5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0567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Поговорим о вкусном – 3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4300" spc="-1" strike="noStrike">
                <a:solidFill>
                  <a:srgbClr val="cc0000"/>
                </a:solidFill>
                <a:latin typeface="Calibri"/>
              </a:rPr>
              <a:t>Какое самое вкусное блюдо готовит сын или дочь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17320" y="6113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277920"/>
            <a:ext cx="69850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aramond"/>
              </a:rPr>
              <a:t>Поговорим о вкусном – 4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Предпочтение какой из сладостей отдала бы мам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Морожено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Шоколадные конфе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Кусочек торт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06040" y="61848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ий раунд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5" descr="SO00223_"/>
          <p:cNvPicPr/>
          <p:nvPr/>
        </p:nvPicPr>
        <p:blipFill>
          <a:blip r:embed="rId1"/>
          <a:stretch/>
        </p:blipFill>
        <p:spPr>
          <a:xfrm>
            <a:off x="6732720" y="4797360"/>
            <a:ext cx="162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84216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Поговорим о вкусном – 5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Какое блюдо из школьной столовой (каша, рыбный суп, плов и т.д.) больше всего нравится вашему сыну (вашей дочери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90400" y="62564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Синий рау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5" descr="SO00223_"/>
          <p:cNvPicPr/>
          <p:nvPr/>
        </p:nvPicPr>
        <p:blipFill>
          <a:blip r:embed="rId1"/>
          <a:stretch/>
        </p:blipFill>
        <p:spPr>
          <a:xfrm>
            <a:off x="6732720" y="4365720"/>
            <a:ext cx="1627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9040" y="279000"/>
            <a:ext cx="555156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990000"/>
                </a:solidFill>
                <a:latin typeface="Cambria"/>
              </a:rPr>
              <a:t>Мы и наши мамы</a:t>
            </a:r>
            <a:endParaRPr b="0" lang="en-US" sz="4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413000"/>
          <a:ext cx="8640720" cy="4579920"/>
        </p:xfrm>
        <a:graphic>
          <a:graphicData uri="http://schemas.openxmlformats.org/drawingml/2006/table">
            <a:tbl>
              <a:tblPr/>
              <a:tblGrid>
                <a:gridCol w="3638520"/>
                <a:gridCol w="982440"/>
                <a:gridCol w="1059120"/>
                <a:gridCol w="1060200"/>
                <a:gridCol w="981000"/>
                <a:gridCol w="91944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фес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пециа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говорим о самом прият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Общие интере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9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0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говорим о вкус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4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25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114" descr="437"/>
          <p:cNvPicPr/>
          <p:nvPr/>
        </p:nvPicPr>
        <p:blipFill>
          <a:blip r:embed="rId26"/>
          <a:stretch/>
        </p:blipFill>
        <p:spPr>
          <a:xfrm>
            <a:off x="2195640" y="404640"/>
            <a:ext cx="1698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aramond"/>
              </a:rPr>
              <a:t>Профессия – 10</a:t>
            </a:r>
            <a:r>
              <a:rPr b="1" lang="ru-RU" sz="4400" spc="-1" strike="noStrike">
                <a:solidFill>
                  <a:srgbClr val="6666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2349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</a:rPr>
              <a:t>Где работает мама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551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Мы и наши ма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aramond"/>
              </a:rPr>
              <a:t>Профессия  – 2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Blackadder ITC"/>
              </a:rPr>
              <a:t>Продолжите высказывание: «Мама хочет, чтобы в будущем я стал(а)…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>
            <a:hlinkClick r:id="rId1" action="ppaction://hlinksldjump"/>
          </p:cNvPr>
          <p:cNvSpPr/>
          <p:nvPr/>
        </p:nvSpPr>
        <p:spPr>
          <a:xfrm>
            <a:off x="685800" y="587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0276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Garamond"/>
              </a:rPr>
              <a:t>Профессия  – 3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Viner Hand ITC"/>
              </a:rPr>
              <a:t>Я предпочел (предпочла) бы работу с людьми работе с машинами и механизмами (да или нет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>
            <a:hlinkClick r:id="rId1" action="ppaction://hlinksldjump"/>
          </p:cNvPr>
          <p:cNvSpPr/>
          <p:nvPr/>
        </p:nvSpPr>
        <p:spPr>
          <a:xfrm>
            <a:off x="612720" y="587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5800" y="406080"/>
            <a:ext cx="707220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профессия"/>
              </a:rPr>
              <a:t>Профессия – 40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92000"/>
            <a:ext cx="820728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Candara"/>
              </a:rPr>
              <a:t>Какую фразу произносит мама (чаще всего), приходя с работы?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>
            <a:hlinkClick r:id="rId1" action="ppaction://hlinksldjump"/>
          </p:cNvPr>
          <p:cNvSpPr/>
          <p:nvPr/>
        </p:nvSpPr>
        <p:spPr>
          <a:xfrm>
            <a:off x="539640" y="573408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 и наши ма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7440"/>
            <a:ext cx="802980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aramond"/>
              </a:rPr>
              <a:t>Профессия  – 50</a:t>
            </a:r>
            <a:r>
              <a:rPr b="0" lang="ru-RU" sz="4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Calibri"/>
              </a:rPr>
              <a:t>Мама пришла с работы. Я встречаю маму, приготовил(ла) ей ужин. Сколько раз случилось такое счастье за последнюю неделю?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5805360"/>
            <a:ext cx="31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наши ма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Garamond"/>
              </a:rPr>
              <a:t>Специальность  - 1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Какое образование имеет мама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Высшее;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Среднее специальное;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00"/>
                </a:solidFill>
                <a:latin typeface="Calibri"/>
              </a:rPr>
              <a:t>Общее средне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07480" y="6165720"/>
            <a:ext cx="16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иний раун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HH00625_"/>
          <p:cNvPicPr/>
          <p:nvPr/>
        </p:nvPicPr>
        <p:blipFill>
          <a:blip r:embed="rId2"/>
          <a:stretch/>
        </p:blipFill>
        <p:spPr>
          <a:xfrm>
            <a:off x="7020000" y="5373720"/>
            <a:ext cx="102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39:31Z</dcterms:created>
  <dc:creator>Алёна</dc:creator>
  <dc:description/>
  <dc:language>en-US</dc:language>
  <cp:lastModifiedBy>Светлана Дубас</cp:lastModifiedBy>
  <dcterms:modified xsi:type="dcterms:W3CDTF">2018-12-30T19:15:05Z</dcterms:modified>
  <cp:revision>265</cp:revision>
  <dc:subject/>
  <dc:title>СВОЯ ИГРА  «МИР ВОДЫ»</dc:title>
</cp:coreProperties>
</file>