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27C0DACC-6C94-4ECF-B812-9352F63EF4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5005FC5E-C94E-4955-AA61-D0172A8B74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6BDD6D17-B633-4A92-A096-D3FF395DBB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B550C0BF-C0E1-4DBA-9F6B-61D4C171D4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0FF31308-87B7-4280-9C10-71C942C5DF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7A9-4354-41DE-AF93-1B8BAF00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48E-7F7B-46B7-8087-C35336F3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286-A6B1-4F3D-B2A3-C775E6F6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B7F-9301-494F-838F-4B27847D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34A-7560-401E-8FD2-DA2445A8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EC4-DB24-4FB9-8CB8-57E4A182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4F5-D2FF-4404-AAB4-4B729EF3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E49-E5CD-4458-95A9-E8B115A4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DDF-10EF-4B56-AB4D-9891BE68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B55-45BF-47BA-AC74-FE7FB2EF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2E5-E894-4BB6-BCD0-E548961D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5EA-0162-4B6C-9B00-280C4C26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220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817117B-6176-4E4F-9A3A-304B95DA0908}" type="slidenum">
              <a:rPr b="0" lang="ru-RU" sz="1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"/>
          <p:cNvPicPr/>
          <p:nvPr/>
        </p:nvPicPr>
        <p:blipFill>
          <a:blip r:embed="rId2"/>
          <a:stretch/>
        </p:blipFill>
        <p:spPr>
          <a:xfrm>
            <a:off x="503280" y="684360"/>
            <a:ext cx="8894880" cy="6095880"/>
          </a:xfrm>
          <a:prstGeom prst="rect">
            <a:avLst/>
          </a:prstGeom>
          <a:ln w="0">
            <a:noFill/>
          </a:ln>
        </p:spPr>
      </p:pic>
      <p:pic>
        <p:nvPicPr>
          <p:cNvPr id="50" name="сказка.mp3" descr=""/>
          <p:cNvPicPr/>
          <p:nvPr/>
        </p:nvPicPr>
        <p:blipFill>
          <a:blip r:embed="rId3"/>
          <a:stretch/>
        </p:blipFill>
        <p:spPr>
          <a:xfrm>
            <a:off x="9398160" y="6780240"/>
            <a:ext cx="42840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98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5"/>
          <p:cNvSpPr/>
          <p:nvPr/>
        </p:nvSpPr>
        <p:spPr>
          <a:xfrm>
            <a:off x="2521080" y="851040"/>
            <a:ext cx="60195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азки просят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А сейча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, друзь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йте на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2521080" y="3218040"/>
            <a:ext cx="50385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ки просят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 сейчас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, друзья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найте на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2521080" y="3218040"/>
            <a:ext cx="50385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азки просят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А сейча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, друзь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йте на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7160" y="1850760"/>
            <a:ext cx="8215200" cy="2500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720720" y="627120"/>
            <a:ext cx="4309920" cy="3128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"/>
          <p:cNvPicPr/>
          <p:nvPr/>
        </p:nvPicPr>
        <p:blipFill>
          <a:blip r:embed="rId3"/>
          <a:stretch/>
        </p:blipFill>
        <p:spPr>
          <a:xfrm>
            <a:off x="5297400" y="725400"/>
            <a:ext cx="4324320" cy="3246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"/>
          <p:cNvPicPr/>
          <p:nvPr/>
        </p:nvPicPr>
        <p:blipFill>
          <a:blip r:embed="rId4"/>
          <a:stretch/>
        </p:blipFill>
        <p:spPr>
          <a:xfrm>
            <a:off x="5030640" y="3971880"/>
            <a:ext cx="4329360" cy="3129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5"/>
          <a:stretch/>
        </p:blipFill>
        <p:spPr>
          <a:xfrm>
            <a:off x="458640" y="3803760"/>
            <a:ext cx="2853000" cy="2806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6"/>
          <a:stretch/>
        </p:blipFill>
        <p:spPr>
          <a:xfrm>
            <a:off x="3244680" y="3803760"/>
            <a:ext cx="1776600" cy="28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503280" y="684360"/>
            <a:ext cx="88581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825480" y="900000"/>
            <a:ext cx="781524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3600" spc="-1" strike="noStrike">
                <a:solidFill>
                  <a:srgbClr val="9c0042"/>
                </a:solidFill>
                <a:latin typeface="Arial"/>
              </a:rPr>
              <a:t>Словарная работа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9c0042"/>
                </a:solidFill>
                <a:latin typeface="Arial"/>
              </a:rPr>
              <a:t>ПРОРУБ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800" spc="-1" strike="noStrike">
                <a:solidFill>
                  <a:srgbClr val="9c0042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</a:t>
            </a:r>
            <a:br>
              <a:rPr sz="2800"/>
            </a:b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                                 </a:t>
            </a: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КОРОМЫС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6" descr=""/>
          <p:cNvPicPr/>
          <p:nvPr/>
        </p:nvPicPr>
        <p:blipFill>
          <a:blip r:embed="rId2"/>
          <a:stretch/>
        </p:blipFill>
        <p:spPr>
          <a:xfrm>
            <a:off x="1174680" y="1908000"/>
            <a:ext cx="2533680" cy="2592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"/>
          <p:cNvPicPr/>
          <p:nvPr/>
        </p:nvPicPr>
        <p:blipFill>
          <a:blip r:embed="rId3"/>
          <a:stretch/>
        </p:blipFill>
        <p:spPr>
          <a:xfrm>
            <a:off x="4322880" y="2484360"/>
            <a:ext cx="4932360" cy="417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>Ferst</dc:creator>
  <dc:description/>
  <dc:language>en-US</dc:language>
  <cp:lastModifiedBy>Марина Михайловна</cp:lastModifiedBy>
  <dcterms:modified xsi:type="dcterms:W3CDTF">2018-12-30T12:13:23Z</dcterms:modified>
  <cp:revision>68</cp:revision>
  <dc:subject/>
  <dc:title>Слайд 1</dc:title>
</cp:coreProperties>
</file>