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12359DD-2C17-4193-B5D3-6F425BF376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C88ECB5-1714-48F0-8395-D7D04815F0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DABED64E-70CC-4225-9FCB-00EFB3E33B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18747AF-AD98-4DFA-BA16-53BF958674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3E4AD221-8028-41A9-B35C-F8D33457C7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242-F4AC-4574-9801-33AC5141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0F2-327A-4181-91B0-3CE4AA34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94D-0BD9-4D75-854E-0A50C046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15E-018F-479B-A68D-C3812173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3DE-B75F-452A-AF4C-9A8F799C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AE8-6128-4692-97BD-38854A35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76D-8B52-43D4-A450-922B0CC4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EF2-CE1E-4784-814D-10A441B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D0B-91D5-4994-885D-A453EF0B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D04-3277-4126-BE6C-A604AE2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1B6-935C-41F4-AE3B-80AC8BA6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BD0-2775-4265-BEDB-1343BC6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BCB2787-60D9-40B6-BCE6-759E03C2C71E}" type="slidenum">
              <a:rPr b="0" lang="ru-RU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"/>
          <p:cNvPicPr/>
          <p:nvPr/>
        </p:nvPicPr>
        <p:blipFill>
          <a:blip r:embed="rId2"/>
          <a:stretch/>
        </p:blipFill>
        <p:spPr>
          <a:xfrm>
            <a:off x="503280" y="684360"/>
            <a:ext cx="8894880" cy="6095880"/>
          </a:xfrm>
          <a:prstGeom prst="rect">
            <a:avLst/>
          </a:prstGeom>
          <a:ln w="0">
            <a:noFill/>
          </a:ln>
        </p:spPr>
      </p:pic>
      <p:pic>
        <p:nvPicPr>
          <p:cNvPr id="50" name="сказка.mp3" descr=""/>
          <p:cNvPicPr/>
          <p:nvPr/>
        </p:nvPicPr>
        <p:blipFill>
          <a:blip r:embed="rId3"/>
          <a:stretch/>
        </p:blipFill>
        <p:spPr>
          <a:xfrm>
            <a:off x="9398160" y="6780240"/>
            <a:ext cx="428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98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5"/>
          <p:cNvSpPr/>
          <p:nvPr/>
        </p:nvSpPr>
        <p:spPr>
          <a:xfrm>
            <a:off x="2521080" y="851040"/>
            <a:ext cx="6019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2521080" y="3218040"/>
            <a:ext cx="5038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2521080" y="3218040"/>
            <a:ext cx="50385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зки просят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А сейча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, друзь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йте на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7160" y="1850760"/>
            <a:ext cx="8215200" cy="2500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720720" y="627120"/>
            <a:ext cx="4309920" cy="3128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"/>
          <p:cNvPicPr/>
          <p:nvPr/>
        </p:nvPicPr>
        <p:blipFill>
          <a:blip r:embed="rId3"/>
          <a:stretch/>
        </p:blipFill>
        <p:spPr>
          <a:xfrm>
            <a:off x="5297400" y="725400"/>
            <a:ext cx="4324320" cy="3246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"/>
          <p:cNvPicPr/>
          <p:nvPr/>
        </p:nvPicPr>
        <p:blipFill>
          <a:blip r:embed="rId4"/>
          <a:stretch/>
        </p:blipFill>
        <p:spPr>
          <a:xfrm>
            <a:off x="5030640" y="3971880"/>
            <a:ext cx="4329360" cy="3129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5"/>
          <a:stretch/>
        </p:blipFill>
        <p:spPr>
          <a:xfrm>
            <a:off x="458640" y="3803760"/>
            <a:ext cx="2853000" cy="2806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6"/>
          <a:stretch/>
        </p:blipFill>
        <p:spPr>
          <a:xfrm>
            <a:off x="3244680" y="3803760"/>
            <a:ext cx="177660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503280" y="684360"/>
            <a:ext cx="88581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825480" y="900000"/>
            <a:ext cx="781524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3600" spc="-1" strike="noStrike">
                <a:solidFill>
                  <a:srgbClr val="9c0042"/>
                </a:solidFill>
                <a:latin typeface="Arial"/>
              </a:rPr>
              <a:t>Словарная работ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9c0042"/>
                </a:solidFill>
                <a:latin typeface="Arial"/>
              </a:rPr>
              <a:t>ПРОРУБ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800" spc="-1" strike="noStrike">
                <a:solidFill>
                  <a:srgbClr val="9c0042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                                                             </a:t>
            </a:r>
            <a:r>
              <a:rPr b="1" i="1" lang="ru-RU" sz="2800" spc="-1" strike="noStrike">
                <a:solidFill>
                  <a:srgbClr val="9c0042"/>
                </a:solidFill>
                <a:latin typeface="Arial"/>
              </a:rPr>
              <a:t>КОРОМЫС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6" descr=""/>
          <p:cNvPicPr/>
          <p:nvPr/>
        </p:nvPicPr>
        <p:blipFill>
          <a:blip r:embed="rId2"/>
          <a:stretch/>
        </p:blipFill>
        <p:spPr>
          <a:xfrm>
            <a:off x="1174680" y="1908000"/>
            <a:ext cx="2533680" cy="2592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"/>
          <p:cNvPicPr/>
          <p:nvPr/>
        </p:nvPicPr>
        <p:blipFill>
          <a:blip r:embed="rId3"/>
          <a:stretch/>
        </p:blipFill>
        <p:spPr>
          <a:xfrm>
            <a:off x="4322880" y="2484360"/>
            <a:ext cx="4932360" cy="417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>Ferst</dc:creator>
  <dc:description/>
  <dc:language>en-US</dc:language>
  <cp:lastModifiedBy>Марина Михайловна</cp:lastModifiedBy>
  <dcterms:modified xsi:type="dcterms:W3CDTF">2018-12-30T12:13:23Z</dcterms:modified>
  <cp:revision>68</cp:revision>
  <dc:subject/>
  <dc:title>Слайд 1</dc:title>
</cp:coreProperties>
</file>