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EE2-BC90-47BA-92E2-294C29CB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D5F-AE6A-4071-AD10-1A209974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2F72-6B4E-4D94-B985-2D1AF4ED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89AA-E94F-458F-8E72-85667A98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63A-0355-469A-AD16-E72F0F33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6C9-093C-4317-9814-8A1DF557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21A-AD57-4449-B7DC-552E5620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B14-8D51-46F4-8859-6E7305B7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1FFC-B457-4DCE-8873-20106B59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D809-4C95-4D7D-9957-B7C8ABBA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7F4-93B4-4528-A485-4DE6EF43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47D6-9103-46EE-91A9-59A10A5D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1DCA-0A62-4C4D-9963-1A3BC277C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-16200"/>
            <a:ext cx="853308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МАСТЕР – КЛАСС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«Организация коррекцион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с воспитанниками с нарушениями реч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роводи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учитель-логопе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Е.А.Козлова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7619760" cy="4648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71600" y="4603680"/>
            <a:ext cx="6705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ПРАЖНЕНИЕ «ЛОШАДКА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Т ОТКРЫ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БЫ В УЛЫБКЕ. ШИРОКИЙ ЛОПАТООБРАЗНЫЙ ЯЗЫ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ЖАТЬ К НЁБУ И СО ЩЕЛЧКОМ ОТОРВАТЬ. СЛЕДИТ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НИЖНЯЯ ЧЕЛЮСТЬ ПРИ ВЫПОЛН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ГО УПРАЖНЕНИЯ НЕ ДВИГАЛАС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66680" y="1066680"/>
            <a:ext cx="7010640" cy="4648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85400" y="38016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ЕЛАЕМ УСЫ, УДЕРЖИВАЕМ СОЛОМИН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7162560" cy="4343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8560" y="685080"/>
            <a:ext cx="60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УДЕРЖАТЬ СОЛОМИНКУ ЗА ВЕРХНИМИ ЗУБА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40800" y="18360"/>
            <a:ext cx="419508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 «ОСОБОГО»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ир «особого» ребёнка –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нтересен и пуглив.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ир «особого» ребёнка –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Безобразен и красив.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Неуклюж, немного страшен,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Добродушен и открыт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ир «особого» ребёнка.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ногда он нас страшит.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очему он агрессивен?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очему он молчалив?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очему он так испуган?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 совсем не говорит?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ир «особого» ребёнка…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Он закрыт от глаз чужих.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ир «особого» ребёнка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Допускает лишь сво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р - Калиман Наталья Адам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-4104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и, ориентируемые на де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.Выявить особые образовательные потребности детей с ОВ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2.Осуществить индивидуально ориентирован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оррекционно - педагогическую помощь де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 ОВЗ с учётом их индивидуальных возмож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3.Обеспечить возможность освоения детьми с ОВ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рограммы и ее интеграции в образовательном учреждении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8015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чи, ориентируемые на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1.Привлечь родителей к  проблемам детей с ОВ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2.Повысить уровень знаний родителей в вопросах нарушения речи.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3.Содействовать сотрудничеству детей и взросл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активизировать совместную семей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детско-взрослую коррекционную  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00" y="-3240"/>
            <a:ext cx="8795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жидаемый результат  взаимодействия с деть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1. Выявление особых образовательных потребностей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с проблемами в  речевом разви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2. Осуществление индивиду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коррекционно - педагогической помощи детям с ОВ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3.Освоение детьми с ОВЗ.Программы и ее интегр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в образовательном учрежд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28860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жидаемый результат  взаимодействия с                        родителями:    </a:t>
            </a: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                                                                 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1.Участие родителей в вопросах нарушения ре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2.Использование своих знаний в разнообраз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3.Сотрудничество детей и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4.Совместная семейная детско-взрослая коррекционн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76520" y="380160"/>
            <a:ext cx="54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Ы РАБОТЫ ПО ПОСТАНОВКЕ ЗВУ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2720" y="1142280"/>
            <a:ext cx="72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РАБОТА ПО РАЗВИТИЮ АРТИКУЛЯЦИОННОГО АППА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675800"/>
            <a:ext cx="58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РАБОТА НАД ОБЩЕЙ И МЕЛКОЙ МОТОРИ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9760" y="2208960"/>
            <a:ext cx="61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РАЗВИТИЕ ПРАВИЛЬНОГО РЕЧЕВОГО ДЫХ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2000" y="2742480"/>
            <a:ext cx="51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РАЗВИТИЕ ФОНЕМАТИЧЕСКОГО СЛУХ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808560"/>
            <a:ext cx="607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ИМНАСТИКА ДЛЯ ГУ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УЛЫБ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ТРУБОЧКА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ЗАБОРЧИК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ХОБОТ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105520" y="352440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09480" y="3457440"/>
            <a:ext cx="3409920" cy="3400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181480" y="304920"/>
            <a:ext cx="3200400" cy="2819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609480" y="304920"/>
            <a:ext cx="3314880" cy="2895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74480" y="-7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ЛЫБ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9440" y="-72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РУБОЧ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74480" y="31996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АБОРЧИК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9440" y="319968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ХОБОТОК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36600" y="226800"/>
            <a:ext cx="431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МНАСТИКА ДЛЯ 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лекс упраж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остановки звука 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7162560" cy="5040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32440" y="556200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КУСНОЕ ВАРЕНЬ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781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4T11:27:56Z</dcterms:created>
  <dc:creator>User</dc:creator>
  <dc:description/>
  <dc:language>en-US</dc:language>
  <cp:lastModifiedBy>Светлячок</cp:lastModifiedBy>
  <dcterms:modified xsi:type="dcterms:W3CDTF">2016-09-21T09:53:0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