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FAD-B475-47CE-9C19-D5392E27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344-1EC0-4850-99BC-524727F3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D37-0B3E-4A68-8D1B-10A8B081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912-7656-467B-9FCC-52911C7C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8AB-5E07-4D05-8753-E405D63E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98C-FE2B-4C09-8550-F24C325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3EC-F1FC-4424-A7A7-7944F2BC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10F-54C9-42E7-8152-EBC25973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A42-2C14-43BD-9E7A-DA5369BD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C2F-67CC-43C7-A6F8-6C6D01F7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9BC-DD36-4450-AC40-A5BF3C1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672-4E84-4429-9806-58A2966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EFBC-59AE-40EA-9CDC-90BF5CA0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-16200"/>
            <a:ext cx="85330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АСТЕР – КЛАСС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«Организация коррекцио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с воспитанниками с нарушениями р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оводи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Е.А.Козлова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61976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71600" y="460368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«ЛОШАДК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Т ОТКРЫ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БЫ В УЛЫБКЕ. ШИРОКИЙ ЛОПАТООБРАЗНЫЙ 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ЖАТЬ К НЁБУ И СО ЩЕЛЧКОМ ОТОРВАТЬ. СЛЕД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НИЖНЯЯ ЧЕЛЮСТЬ ПРИ ВЫ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ГО УПРАЖНЕНИЯ НЕ ДВИГАЛА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7010640" cy="4648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85400" y="38016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ЕЛАЕМ УСЫ, УДЕРЖИВАЕМ СОЛОМИН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16256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8560" y="68508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ДЕРЖАТЬ СОЛОМИНКУ ЗА ВЕРХНИМИ ЗУБ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40800" y="18360"/>
            <a:ext cx="419508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 «ОСОБОГО»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 –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нтересен и пуглив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 –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Безобразен и красив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Неуклюж, немного страшен,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Добродушен и открыт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ногда он нас страшит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чему он агрессивен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чему он молчалив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чему он так испуган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совсем не говорит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…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Он закрыт от глаз чужих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Допускает лишь сво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 - Калиман Наталья Ада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-410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, ориентируемые на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.Выявить особые образовательные потребности детей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.Осуществить индивидуально ориентирова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ррекционно - педагогическую помощь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ОВЗ с учётом их индивидуальных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3.Обеспечить возможность освоения детьми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граммы и ее интеграции в образовательном учреждении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01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и, ориентируемые на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1.Привлечь родителей к  проблемам детей с ОВ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2.Повысить уровень знаний родителей в вопросах нарушения речи.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3.Содействовать сотрудничеству детей и взросл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активизировать совместную семей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детско-взрослую коррекционную  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00" y="-3240"/>
            <a:ext cx="879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жидаемый результат  взаимодействия с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1. Выявление особых образовательных потребносте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 проблемами в  речев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2. Осуществление индивиду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коррекционно - педагогической помощи детям с ОВ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3.Освоение детьми с ОВЗ.Программы и ее интег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в образовательном учре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8860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жидаемый результат  взаимодействия с                        родителями:    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                                           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.Участие родителей в вопросах нарушения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.Использование своих знаний в разнообраз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3.Сотрудничество детей и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4.Совместная семейная детско-взрослая коррекцион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6520" y="38016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Ы РАБОТЫ ПО ПОСТАНОВКЕ ЗВУ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2720" y="1142280"/>
            <a:ext cx="72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БОТА ПО РАЗВИТИЮ АРТИКУЛЯЦИОН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675800"/>
            <a:ext cx="58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БОТА НАД ОБЩЕЙ И МЕЛКОЙ МОТОР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9760" y="2208960"/>
            <a:ext cx="61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РАЗВИТИЕ ПРАВИЛЬНОГО РЕЧЕВОГО ДЫХ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2000" y="2742480"/>
            <a:ext cx="51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РАЗВИТИЕ ФОНЕМАТИЧЕСКОГО СЛУ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808560"/>
            <a:ext cx="607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СТИКА ДЛЯ ГУ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УЛЫБ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ТРУБОЧКА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АБОРЧИК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ХОБОТ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05520" y="35244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9480" y="3457440"/>
            <a:ext cx="3409920" cy="3400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81480" y="304920"/>
            <a:ext cx="3200400" cy="281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09480" y="304920"/>
            <a:ext cx="3314880" cy="2895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74480" y="-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ЛЫБ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9440" y="-7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РУБОЧ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4480" y="31996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БОРЧИ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9440" y="319968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БОТО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36600" y="226800"/>
            <a:ext cx="43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МНАСТИКА ДЛЯ 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становки звука 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162560" cy="504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32440" y="55620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КУСНОЕ ВАРЕНЬ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78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4T11:27:56Z</dcterms:created>
  <dc:creator>User</dc:creator>
  <dc:description/>
  <dc:language>en-US</dc:language>
  <cp:lastModifiedBy>Светлячок</cp:lastModifiedBy>
  <dcterms:modified xsi:type="dcterms:W3CDTF">2016-09-21T09:53:0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