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12.jpeg" ContentType="image/jpeg"/>
  <Override PartName="/ppt/media/image5.wmf" ContentType="image/x-wmf"/>
  <Override PartName="/ppt/media/image13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7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2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782-82BD-4CA7-8B13-29732107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8CF-B13A-4F0F-8CA4-33E0F768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AAF-CCE4-4EF3-9BFB-C08CBD26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8DD-D399-470C-B11B-DC48C1CB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3D20-E177-43DA-8B91-00E0A78F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9050-5C4F-4BD9-8A50-2C629716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16E2-9426-4C5B-B65C-2DA316F5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CA9C-0607-4D2C-97CC-5C47F345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8403-A5A0-4918-B9C8-18BF3EBA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1C79-E121-4026-BB36-38D44FD1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4399-2BF6-462E-8BD8-CC18F58D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7BE-C07F-4376-B49C-13B07AD5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4C1C-48EF-4102-A016-405FAD12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B7B2-69E0-4D3B-B8B4-21279BB4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54F0-1894-4896-A761-7C5AD003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A634-6DFC-4C86-8B66-5B14B1AA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704B-47E9-46A5-8524-6B78F531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B7F-442D-481D-98E0-3131B7EC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EC5-BF5B-48EB-BFC5-9DE9239F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85B-4145-430C-918C-2A160854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DE4-BCC4-4375-AAD7-5D2B9AE1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EF5-6F49-40E5-86A2-2449FC7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71D-CBB1-46A4-BA1A-F5FE3A6A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012-EC00-42D3-A70C-562735A5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b65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DEBD-E695-40EF-9CBD-BCAE785888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F888-2FC4-420B-9D29-CC0793B900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09200" cy="58626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" descr=""/>
          <p:cNvPicPr/>
          <p:nvPr/>
        </p:nvPicPr>
        <p:blipFill>
          <a:blip r:embed="rId2"/>
          <a:stretch/>
        </p:blipFill>
        <p:spPr>
          <a:xfrm>
            <a:off x="762120" y="5937120"/>
            <a:ext cx="75960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990720" y="5562720"/>
            <a:ext cx="716256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ДРОСТОК – …«уже не ребёнок, но ещё не взрослый !!!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5" descr="MPj04393310000[1]"/>
          <p:cNvPicPr/>
          <p:nvPr/>
        </p:nvPicPr>
        <p:blipFill>
          <a:blip r:embed="rId1"/>
          <a:stretch/>
        </p:blipFill>
        <p:spPr>
          <a:xfrm>
            <a:off x="3352680" y="762120"/>
            <a:ext cx="223704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1905120" y="152280"/>
            <a:ext cx="5181480" cy="581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  <a:ea typeface="Arial"/>
              </a:rPr>
              <a:t>Подростковый возра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533520" y="1219320"/>
            <a:ext cx="289548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лом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09480" y="3048120"/>
            <a:ext cx="289584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ход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11"/>
          <p:cNvSpPr/>
          <p:nvPr/>
        </p:nvSpPr>
        <p:spPr>
          <a:xfrm>
            <a:off x="5486400" y="1219320"/>
            <a:ext cx="312408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Oval 12"/>
          <p:cNvSpPr/>
          <p:nvPr/>
        </p:nvSpPr>
        <p:spPr>
          <a:xfrm>
            <a:off x="5410080" y="3124080"/>
            <a:ext cx="289584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уд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Oval 13"/>
          <p:cNvSpPr/>
          <p:nvPr/>
        </p:nvSpPr>
        <p:spPr>
          <a:xfrm>
            <a:off x="1676520" y="4724280"/>
            <a:ext cx="601956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зраст полового созре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lebedeva12245"/>
          <p:cNvPicPr/>
          <p:nvPr/>
        </p:nvPicPr>
        <p:blipFill>
          <a:blip r:embed="rId1"/>
          <a:stretch/>
        </p:blipFill>
        <p:spPr>
          <a:xfrm>
            <a:off x="2819520" y="1371600"/>
            <a:ext cx="344016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304920" y="533520"/>
            <a:ext cx="2895480" cy="581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  <a:ea typeface="Arial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43600" y="533520"/>
            <a:ext cx="2895480" cy="58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  <a:ea typeface="Arial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04920" y="2362320"/>
            <a:ext cx="259056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амоутвердиться любыми  способ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172200" y="2362320"/>
            <a:ext cx="266688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Как себя вести: запрещать или разреша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33520" y="5486400"/>
            <a:ext cx="8153280" cy="1108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тот период психологи называют самы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онфликтны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8000"/>
                </a:solidFill>
                <a:uFillTx/>
                <a:latin typeface="Verdana"/>
              </a:rPr>
              <a:t>Подражание взросл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Внешний обл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Манер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Развлечения </a:t>
            </a:r>
            <a:r>
              <a:rPr b="0" i="1" lang="en-GB" sz="3000" spc="-1" strike="noStrike">
                <a:solidFill>
                  <a:srgbClr val="003366"/>
                </a:solidFill>
                <a:latin typeface="Verdana"/>
              </a:rPr>
              <a:t>(поездки за город, дискотеки)</a:t>
            </a:r>
            <a:r>
              <a:rPr b="0" i="1" lang="en-GB" sz="3000" spc="-1" strike="noStrike">
                <a:solidFill>
                  <a:srgbClr val="003366"/>
                </a:solidFill>
                <a:latin typeface="Verdana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Романтические отношения </a:t>
            </a:r>
            <a:r>
              <a:rPr b="0" i="1" lang="en-GB" sz="3000" spc="-1" strike="noStrike">
                <a:solidFill>
                  <a:srgbClr val="003366"/>
                </a:solidFill>
                <a:latin typeface="Verdana"/>
              </a:rPr>
              <a:t>(свидания, записки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Переходя из детского мира во взрослый, подросток </a:t>
            </a:r>
            <a:br>
              <a:rPr sz="2400"/>
            </a:b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не принадлежит полностью ни к тому, ни к другому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, поэтому поведение его часто бывает непредсказуемым и неадекватны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Comic Sans MS"/>
              </a:rPr>
              <a:t>Подростковая самостоятельност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Влияние родителей уже ограничено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Ценностные ориентации подростка, понимание им социальных проблем, нравственные оценки событий и поступков зависят в первую очередь </a:t>
            </a:r>
            <a:r>
              <a:rPr b="1" i="1" lang="en-GB" sz="2000" spc="-1" strike="noStrike">
                <a:solidFill>
                  <a:srgbClr val="003366"/>
                </a:solidFill>
                <a:latin typeface="Verdana"/>
              </a:rPr>
              <a:t>от позиции родителей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Для подростков характерно стремление к </a:t>
            </a:r>
            <a:r>
              <a:rPr b="0" i="1" lang="en-GB" sz="2000" spc="-1" strike="noStrike">
                <a:solidFill>
                  <a:srgbClr val="003366"/>
                </a:solidFill>
                <a:latin typeface="Verdana"/>
              </a:rPr>
              <a:t>эмансипации</a:t>
            </a: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от близких взрослы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19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нуждаясь</a:t>
            </a:r>
            <a:r>
              <a:rPr b="0" i="1" lang="en-GB" sz="2400" spc="-1" strike="noStrike">
                <a:solidFill>
                  <a:srgbClr val="003366"/>
                </a:solidFill>
                <a:latin typeface="Verdana"/>
              </a:rPr>
              <a:t> в родителях, их любви и заботе, в их мнении,</a:t>
            </a:r>
            <a:r>
              <a:rPr b="0" i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003366"/>
                </a:solidFill>
                <a:latin typeface="Verdana"/>
              </a:rPr>
              <a:t>они испытывают </a:t>
            </a: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сильное желание быть самостоятельными,</a:t>
            </a:r>
            <a:r>
              <a:rPr b="1" i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равными с ними в прав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0" lang="en-GB" sz="2400" spc="-1" strike="noStrike">
                <a:solidFill>
                  <a:srgbClr val="990033"/>
                </a:solidFill>
                <a:latin typeface="Verdana"/>
              </a:rPr>
              <a:t>То, как сложатся отношения в этот трудный для обеих сторон период, зависит главным образом </a:t>
            </a:r>
            <a:r>
              <a:rPr b="1" lang="en-GB" sz="2400" spc="-1" strike="noStrike">
                <a:solidFill>
                  <a:srgbClr val="990033"/>
                </a:solidFill>
                <a:latin typeface="Verdana"/>
              </a:rPr>
              <a:t>от стиля воспитания, </a:t>
            </a:r>
            <a:r>
              <a:rPr b="0" lang="en-GB" sz="2400" spc="-1" strike="noStrike">
                <a:solidFill>
                  <a:srgbClr val="990033"/>
                </a:solidFill>
                <a:latin typeface="Verdana"/>
              </a:rPr>
              <a:t>сложившегося в семье, и </a:t>
            </a:r>
            <a:r>
              <a:rPr b="1" lang="en-GB" sz="2400" spc="-1" strike="noStrike">
                <a:solidFill>
                  <a:srgbClr val="990033"/>
                </a:solidFill>
                <a:latin typeface="Verdana"/>
              </a:rPr>
              <a:t>возможностей родителей перестроиться – принять чувство взрослости своего ребе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solidFill>
            <a:srgbClr val="619c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8000"/>
                </a:solidFill>
                <a:uFillTx/>
                <a:latin typeface="Century Gothic"/>
              </a:rPr>
              <a:t>Стили семейного воспит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52280" y="762120"/>
            <a:ext cx="8763120" cy="63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Демократичный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– родители ценят в поведении подростка и самостоятельность, и дисциплинированность, предоставляют ему право быть самостоятельным в каких-то областях его жизни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; не ущемляя его прав, одновременно требуют выполнения обязанностей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Авторитарный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родители требуют от подростка беспрекословного подчинения и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не считают, что должны ему объяснять причины своих указаний и запретов;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они жестко контролируют все сферы жизни, причем могут это делать не вполне корректно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«Воспитание по типу Золушки»</a:t>
            </a:r>
            <a:r>
              <a:rPr b="1" lang="en-GB" sz="1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высокая требовательность и контроль сочетаются с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эмоционально холодны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отвергающим отношением к подростк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Гипоопека</a:t>
            </a:r>
            <a:r>
              <a:rPr b="1" lang="en-GB" sz="1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сочетание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безразличного родительского отношения с отсутствием контроля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Гиперопека</a:t>
            </a:r>
            <a:r>
              <a:rPr b="1" lang="en-GB" sz="1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излишняя забота о подростке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чрезмерный контроль за всей его жизнью, основанный на тесном эмоциональном контакте,- приводит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пассивности, несамостоятельности, трудностям в общении со сверстник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Противоречивое воспитание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отношение родителей к подростку как к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маленькому ребенку и непоследовательность требований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когда от него ожидается то детское послушание, то взрослая самостоятель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Отношения с окружающими – наиболее важная сторона жизни подрост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Основной закон, на котором строится поведение подростка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юбое поведение подчинено общей цели –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чувствовать себя </a:t>
            </a:r>
            <a:r>
              <a:rPr b="1" i="1" lang="ru-RU" sz="3000" spc="-1" strike="noStrike">
                <a:solidFill>
                  <a:srgbClr val="cc0000"/>
                </a:solidFill>
                <a:latin typeface="Verdana"/>
              </a:rPr>
              <a:t>востребованным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быть значимым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b6523e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щущать свою состоятельнос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 учёб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b6523e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увствовать свою значимос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 семь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b6523e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ить отношен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о сверстник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b6523e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осить свой вклад в жизнь семьи, класса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еализовать свой творческий потенциа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Arial"/>
              </a:rPr>
              <a:t>ПАМЯТКА  ДЛЯ РОДИТЕЛЕЙ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52280" y="990720"/>
            <a:ext cx="8763120" cy="558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Старайтесь, говорить со своим ребенком открыто и откровенно на  самые деликатные тем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осайтесь получения вашим ребенком информации из чужих у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Рассказывайте о своих переживаниях в том возрасте, в котором сейчас ваши де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Будьте открыты для общения с ребенком, даже если вы чего-то не знаете или в чем-то сомневаетесь, не стесняйтесь сказать ему об э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Не высказывайтесь негативно о тех переживаниях, которые были связаны с вашим взрослением. Ребенок будет их переживать с вашей позиции и воспринимать так, как воспринимали 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Постарайтесь сделать так, чтобы ваши дети не воспринимали сексуальные отношения как нечто грязное и постыдное. От этого во многом зависит их физиологическое взрос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В период полового созревания мальчикам важно получить поддержку и одобрение со стороны мам, а девочкам – со стороны па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Проявляйте ласку к своим детям, демонстрируйте им свою любов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Будьте особенно внимательны и наблюдательны, обращайте внимание на любые изменения в поведении своего ребен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райтесь защитить своего ребенка всеми возможными средствами, если он в этом нуждае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MPj04229480000[1]"/>
          <p:cNvPicPr/>
          <p:nvPr/>
        </p:nvPicPr>
        <p:blipFill>
          <a:blip r:embed="rId1"/>
          <a:stretch/>
        </p:blipFill>
        <p:spPr>
          <a:xfrm>
            <a:off x="304920" y="3429000"/>
            <a:ext cx="4876560" cy="3246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MPj04393460000[1]"/>
          <p:cNvPicPr/>
          <p:nvPr/>
        </p:nvPicPr>
        <p:blipFill>
          <a:blip r:embed="rId2"/>
          <a:stretch/>
        </p:blipFill>
        <p:spPr>
          <a:xfrm>
            <a:off x="4800600" y="388620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lebedeva168"/>
          <p:cNvPicPr/>
          <p:nvPr/>
        </p:nvPicPr>
        <p:blipFill>
          <a:blip r:embed="rId3"/>
          <a:stretch/>
        </p:blipFill>
        <p:spPr>
          <a:xfrm>
            <a:off x="457200" y="228600"/>
            <a:ext cx="3962520" cy="2959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lebedeva8411"/>
          <p:cNvPicPr/>
          <p:nvPr/>
        </p:nvPicPr>
        <p:blipFill>
          <a:blip r:embed="rId4"/>
          <a:stretch/>
        </p:blipFill>
        <p:spPr>
          <a:xfrm>
            <a:off x="4800600" y="228600"/>
            <a:ext cx="3886200" cy="30002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0"/>
          <p:cNvSpPr txBox="1"/>
          <p:nvPr/>
        </p:nvSpPr>
        <p:spPr>
          <a:xfrm>
            <a:off x="276120" y="2819520"/>
            <a:ext cx="8867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Давай подумаем, как сделать лучше!"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533520" y="4876920"/>
            <a:ext cx="8305560" cy="16002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«ТАКОЙ ВОТ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ПОДРОСТКОВЫЙ ВОЗРАСТ …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1560600" y="208080"/>
            <a:ext cx="60228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Три ступени подросткового возрас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066680" y="5715000"/>
            <a:ext cx="78487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ладший подростковый возрас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10-13 л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666880" y="4572000"/>
            <a:ext cx="6248520" cy="114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Средний подростковый возрас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13-15 л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14 лет – наиболее опас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962520" y="3505320"/>
            <a:ext cx="49528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Старший подростковый возрас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15-18 л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12" descr="MCj03974740000[1]"/>
          <p:cNvPicPr/>
          <p:nvPr/>
        </p:nvPicPr>
        <p:blipFill>
          <a:blip r:embed="rId1"/>
          <a:stretch/>
        </p:blipFill>
        <p:spPr>
          <a:xfrm>
            <a:off x="3048120" y="2286000"/>
            <a:ext cx="1827000" cy="143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MCj03967300000[1]"/>
          <p:cNvPicPr/>
          <p:nvPr/>
        </p:nvPicPr>
        <p:blipFill>
          <a:blip r:embed="rId2"/>
          <a:stretch/>
        </p:blipFill>
        <p:spPr>
          <a:xfrm>
            <a:off x="380880" y="5029200"/>
            <a:ext cx="1825920" cy="113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MCj03982470000[1]"/>
          <p:cNvPicPr/>
          <p:nvPr/>
        </p:nvPicPr>
        <p:blipFill>
          <a:blip r:embed="rId3"/>
          <a:stretch/>
        </p:blipFill>
        <p:spPr>
          <a:xfrm>
            <a:off x="1447920" y="3276720"/>
            <a:ext cx="186840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3808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Физиология подрос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zaderjka-rosta-3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408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file119"/>
          <p:cNvPicPr/>
          <p:nvPr/>
        </p:nvPicPr>
        <p:blipFill>
          <a:blip r:embed="rId2"/>
          <a:stretch/>
        </p:blipFill>
        <p:spPr>
          <a:xfrm>
            <a:off x="6705720" y="304920"/>
            <a:ext cx="2166840" cy="3085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590920" y="32767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15 л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85800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13 л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80880" y="6019920"/>
            <a:ext cx="838224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Интенсивность росла скелета опережает развитие мускулатуры </a:t>
            </a:r>
            <a:r>
              <a:rPr b="0" i="1" lang="ru-RU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непропорциональность тела, подростковая угловатость, неуклюжесть</a:t>
            </a:r>
            <a:r>
              <a:rPr b="0" i="1" lang="ru-RU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880" y="1066680"/>
            <a:ext cx="609624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В организме ребёнка происходят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ормональные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измен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914400" y="1600200"/>
            <a:ext cx="556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График изменений роста см/г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838080" y="2133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юнош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486400" y="2133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евуш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4680" y="322200"/>
            <a:ext cx="91440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Резко повышается интерес к своей внешност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(95%)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omic Sans MS"/>
              </a:rPr>
              <a:t>Ребенок </a:t>
            </a:r>
            <a:r>
              <a:rPr b="1" i="1" lang="en-GB" sz="2600" spc="-1" strike="noStrike">
                <a:solidFill>
                  <a:srgbClr val="000000"/>
                </a:solidFill>
                <a:latin typeface="Comic Sans MS"/>
              </a:rPr>
              <a:t>остро переживает все </a:t>
            </a:r>
            <a:r>
              <a:rPr b="1" i="1" lang="en-GB" sz="2600" spc="-1" strike="noStrike">
                <a:solidFill>
                  <a:srgbClr val="0033cc"/>
                </a:solidFill>
                <a:latin typeface="Comic Sans MS"/>
              </a:rPr>
              <a:t>изъяны внешности</a:t>
            </a:r>
            <a:r>
              <a:rPr b="0" i="1" lang="en-GB" sz="2600" spc="-1" strike="noStrike">
                <a:solidFill>
                  <a:srgbClr val="000000"/>
                </a:solidFill>
                <a:latin typeface="Comic Sans MS"/>
              </a:rPr>
              <a:t>, действительные и мнимые</a:t>
            </a:r>
            <a:r>
              <a:rPr b="0" i="1" lang="ru-RU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Непропорциональность частей тела, неловкость движений, неправильность черт лица, кожа, теряющая детскую чистоту, излишний вес или худоба –</a:t>
            </a:r>
            <a:r>
              <a:rPr b="0" i="1" lang="en-GB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Comic Sans MS"/>
              </a:rPr>
              <a:t>все </a:t>
            </a:r>
            <a:r>
              <a:rPr b="1" i="1" lang="en-GB" sz="2600" spc="-1" strike="noStrike">
                <a:solidFill>
                  <a:srgbClr val="0033cc"/>
                </a:solidFill>
                <a:latin typeface="Comic Sans MS"/>
              </a:rPr>
              <a:t>расстраивает</a:t>
            </a:r>
            <a:r>
              <a:rPr b="1" i="1" lang="en-GB" sz="2600" spc="-1" strike="noStrike">
                <a:solidFill>
                  <a:srgbClr val="000000"/>
                </a:solidFill>
                <a:latin typeface="Comic Sans MS"/>
              </a:rPr>
              <a:t>, а иногда приводит </a:t>
            </a:r>
            <a:r>
              <a:rPr b="1" i="1" lang="en-GB" sz="2600" spc="-1" strike="noStrike">
                <a:solidFill>
                  <a:srgbClr val="0033cc"/>
                </a:solidFill>
                <a:latin typeface="Comic Sans MS"/>
              </a:rPr>
              <a:t>к чувству неполноценности, замкнутости, даже неврозу</a:t>
            </a:r>
            <a:r>
              <a:rPr b="1" i="1" lang="ru-RU" sz="26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Тяжелые эмоциональные реак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на свою внешность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смягчаю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i="1" lang="en-GB" sz="2400" spc="-1" strike="noStrike">
                <a:solidFill>
                  <a:srgbClr val="0033cc"/>
                </a:solidFill>
                <a:latin typeface="Comic Sans MS"/>
              </a:rPr>
              <a:t>теплых, доверитель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33cc"/>
                </a:solidFill>
                <a:latin typeface="Comic Sans MS"/>
              </a:rPr>
              <a:t>отношениях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с близкими взрослыми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которые должны прояви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и понимание, и тактичность</a:t>
            </a:r>
            <a:r>
              <a:rPr b="0" i="1" lang="ru-RU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lebedeva20244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foo5011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054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a00057_"/>
          <p:cNvPicPr/>
          <p:nvPr/>
        </p:nvPicPr>
        <p:blipFill>
          <a:blip r:embed="rId2"/>
          <a:stretch/>
        </p:blipFill>
        <p:spPr>
          <a:xfrm>
            <a:off x="1600200" y="3429000"/>
            <a:ext cx="3352680" cy="243684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>
            <a:off x="1219320" y="3352680"/>
            <a:ext cx="358128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1295280" y="3200040"/>
            <a:ext cx="3733920" cy="28954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85800" y="6248520"/>
            <a:ext cx="8001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астущему организму требуется нормальное питание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lebedeva7307"/>
          <p:cNvPicPr/>
          <p:nvPr/>
        </p:nvPicPr>
        <p:blipFill>
          <a:blip r:embed="rId1"/>
          <a:stretch/>
        </p:blipFill>
        <p:spPr>
          <a:xfrm>
            <a:off x="3200400" y="2971800"/>
            <a:ext cx="2851200" cy="367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lebedeva4274"/>
          <p:cNvPicPr/>
          <p:nvPr/>
        </p:nvPicPr>
        <p:blipFill>
          <a:blip r:embed="rId2"/>
          <a:stretch/>
        </p:blipFill>
        <p:spPr>
          <a:xfrm>
            <a:off x="228600" y="990720"/>
            <a:ext cx="2724120" cy="36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lebedeva13911"/>
          <p:cNvPicPr/>
          <p:nvPr/>
        </p:nvPicPr>
        <p:blipFill>
          <a:blip r:embed="rId3"/>
          <a:stretch/>
        </p:blipFill>
        <p:spPr>
          <a:xfrm>
            <a:off x="6324480" y="762120"/>
            <a:ext cx="2551320" cy="3838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2514600" y="228600"/>
            <a:ext cx="4114800" cy="1465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Нарушение слаженности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в деятельности организма и неотрегулированная новая система его функционирования являются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сновой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бщ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Oval 9"/>
          <p:cNvSpPr/>
          <p:nvPr/>
        </p:nvSpPr>
        <p:spPr>
          <a:xfrm>
            <a:off x="5105520" y="5105520"/>
            <a:ext cx="28954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Изменен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артериальног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давле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1066680" y="5181480"/>
            <a:ext cx="289584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Раздражитель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457200" y="4191120"/>
            <a:ext cx="2438280" cy="7617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Повышен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утомляем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6248520" y="3962520"/>
            <a:ext cx="28954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Резкие перепад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настро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3124080" y="1676520"/>
            <a:ext cx="2971800" cy="106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Неуравновеше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85800" y="6248520"/>
            <a:ext cx="8001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дросток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в 13-14 ле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«Моё тело будто взбесилось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8000"/>
                </a:solidFill>
                <a:uFillTx/>
                <a:latin typeface="Century Gothic"/>
              </a:rPr>
              <a:t>Как развивается детское самосознание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339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Comic Sans MS"/>
              </a:rPr>
              <a:t>К 3 годам появилась чисто </a:t>
            </a:r>
            <a:r>
              <a:rPr b="1" i="1" lang="en-GB" sz="2100" spc="-1" strike="noStrike">
                <a:solidFill>
                  <a:srgbClr val="ffffff"/>
                </a:solidFill>
                <a:latin typeface="Comic Sans MS"/>
              </a:rPr>
              <a:t>эмоциональная, завышенная самооце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Comic Sans MS"/>
              </a:rPr>
              <a:t>В дошкольном возрасте возникают рациональные компоненты самооценки, осознание некоторых своих качеств и поведения, согласующегося с требованиями взрослых, но </a:t>
            </a:r>
            <a:r>
              <a:rPr b="1" i="1" lang="en-GB" sz="2100" spc="-1" strike="noStrike">
                <a:solidFill>
                  <a:srgbClr val="ffffff"/>
                </a:solidFill>
                <a:latin typeface="Comic Sans MS"/>
              </a:rPr>
              <a:t>дошкольники судят о себе поверхностно и оптимистичн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Comic Sans MS"/>
              </a:rPr>
              <a:t>У младших школьников самооценка становится более адекватной и дифференцированной, они различают свои физические и духовные качества, оценивают свои способности, сравнивают себя с други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Comic Sans MS"/>
              </a:rPr>
              <a:t>К концу младшего школьного возраста дети, характеризуя себя, все чаще описывают типичное для них поведение, ссылаются на свои мысли и чувс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Примерно в 11-12 лет возникает интерес </a:t>
            </a: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к своему внутреннему миру,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а затем происходит </a:t>
            </a: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постепенное усложнение и углубление самопозн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Сложные переживания, связанные с новыми отношениями, свои личностные черты и поступки анализируются им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пристрастно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Подросток хочет понять, какой он </a:t>
            </a:r>
            <a:r>
              <a:rPr b="1" i="1" lang="en-GB" sz="2100" spc="-1" strike="noStrike">
                <a:solidFill>
                  <a:srgbClr val="ffffff"/>
                </a:solidFill>
                <a:latin typeface="Verdana"/>
              </a:rPr>
              <a:t>на самом деле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, и представляет себе, каким он </a:t>
            </a:r>
            <a:r>
              <a:rPr b="1" i="1" lang="en-GB" sz="2100" spc="-1" strike="noStrike">
                <a:solidFill>
                  <a:srgbClr val="ffffff"/>
                </a:solidFill>
                <a:latin typeface="Verdana"/>
              </a:rPr>
              <a:t>хотел бы быть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Личностная рефлексия, потребность разобраться в себе самом порождают и </a:t>
            </a:r>
            <a:r>
              <a:rPr b="1" i="1" lang="en-GB" sz="2100" spc="-1" strike="noStrike">
                <a:solidFill>
                  <a:srgbClr val="ffffff"/>
                </a:solidFill>
                <a:latin typeface="Verdana"/>
              </a:rPr>
              <a:t>исповедальность в общении с ровесниками,  дневники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, которые начинают вести именно в этот период, </a:t>
            </a:r>
            <a:r>
              <a:rPr b="1" i="1" lang="en-GB" sz="2100" spc="-1" strike="noStrike">
                <a:solidFill>
                  <a:srgbClr val="ffffff"/>
                </a:solidFill>
                <a:latin typeface="Verdana"/>
              </a:rPr>
              <a:t>стихи и фантазии</a:t>
            </a: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9900"/>
                </a:solidFill>
                <a:latin typeface="Verdana"/>
              </a:rPr>
              <a:t>Самооценка</a:t>
            </a:r>
            <a:r>
              <a:rPr b="1" i="1" lang="en-GB" sz="2800" spc="-1" strike="noStrike">
                <a:solidFill>
                  <a:srgbClr val="003366"/>
                </a:solidFill>
                <a:latin typeface="Verdana"/>
              </a:rPr>
              <a:t> в подростковом возрасте оказывается</a:t>
            </a: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Verdana"/>
              </a:rPr>
              <a:t>низкой</a:t>
            </a:r>
            <a:r>
              <a:rPr b="1" i="1" lang="en-GB" sz="2800" spc="-1" strike="noStrike">
                <a:solidFill>
                  <a:srgbClr val="003366"/>
                </a:solidFill>
                <a:latin typeface="Verdana"/>
              </a:rPr>
              <a:t> по своему общему уровню и </a:t>
            </a:r>
            <a:r>
              <a:rPr b="1" lang="en-GB" sz="2800" spc="-1" strike="noStrike">
                <a:solidFill>
                  <a:srgbClr val="008000"/>
                </a:solidFill>
                <a:latin typeface="Verdana"/>
              </a:rPr>
              <a:t>неустойчи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wer</dc:creator>
  <dc:description/>
  <dc:language>en-US</dc:language>
  <cp:lastModifiedBy>Power</cp:lastModifiedBy>
  <dcterms:modified xsi:type="dcterms:W3CDTF">2018-12-30T19:43:33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