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17F-4004-422A-9A99-042D6400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912-DC79-400F-B6F4-A69B4109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887-0F0F-4F0A-850B-575E18D0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2B0-777F-47DC-AF7B-889F4108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76D-4CEA-4EE3-A452-60B5DF91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04C-8206-415E-932E-54A07DC3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784-BE53-43A0-A7C8-0B909552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745-EE25-4B34-A80D-F6662FE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129-5AF5-4413-9CF5-AA52C4FF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31A-E891-440B-A4D4-344475B7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12D-19C3-4609-A7FC-BD3D8E91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82D-A8F0-4109-A123-E38EB1C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26CA-3FB2-4CAE-BE07-A535880E7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423720" y="1752480"/>
            <a:ext cx="822960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епени Сравн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лагатель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76360" y="3414600"/>
            <a:ext cx="7924680" cy="31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191120" y="502920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merican Typewriter Semibold"/>
                <a:ea typeface="American Typewriter Semibold"/>
              </a:rPr>
              <a:t>Комарова Т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merican Typewriter Semibold"/>
                <a:ea typeface="American Typewriter Semibold"/>
              </a:rPr>
              <a:t>ГБОУ СОШ №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Новый рисунок (18)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ам все ясно и понятно - проверьте свои знания и продемонстрируйте другим. </a:t>
            </a:r>
            <a:r>
              <a:rPr b="0" lang="ru-RU" sz="3200" spc="-1" strike="noStrike">
                <a:solidFill>
                  <a:srgbClr val="198a8a"/>
                </a:solidFill>
                <a:latin typeface="Comic Sans MS"/>
              </a:rPr>
              <a:t>Пройдите тест на образование степеней сравнения прилагательных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80880" y="2514600"/>
            <a:ext cx="7696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mic Sans MS"/>
              </a:rPr>
              <a:t>Choose the right le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o is the cleverest ani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dolphin               c) 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monkey              d) pengu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) Who is the biggest animal on the la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camel                 c) giraf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elephant            d) c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) Who is the fastest animal on the la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tiger                   c) leop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eagle                  d) h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1523880" y="1752480"/>
            <a:ext cx="62485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luck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Имена прилагательные в английском языке имеют три степени сравнения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Comic Sans MS"/>
              </a:rPr>
              <a:t>положительную </a:t>
            </a: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(the Positive Degree),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ru-RU" sz="2500" spc="-1" strike="noStrike">
                <a:solidFill>
                  <a:srgbClr val="009900"/>
                </a:solidFill>
                <a:latin typeface="Comic Sans MS"/>
              </a:rPr>
              <a:t>сравнительную (</a:t>
            </a:r>
            <a:r>
              <a:rPr b="0" lang="en-US" sz="2500" spc="-1" strike="noStrike">
                <a:solidFill>
                  <a:srgbClr val="009900"/>
                </a:solidFill>
                <a:latin typeface="Comic Sans MS"/>
              </a:rPr>
              <a:t>the Comparative Degree)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500" spc="-1" strike="noStrike">
                <a:solidFill>
                  <a:srgbClr val="ff6600"/>
                </a:solidFill>
                <a:latin typeface="Comic Sans MS"/>
              </a:rPr>
              <a:t>превосходную (</a:t>
            </a:r>
            <a:r>
              <a:rPr b="0" lang="en-US" sz="2500" spc="-1" strike="noStrike">
                <a:solidFill>
                  <a:srgbClr val="ff6600"/>
                </a:solidFill>
                <a:latin typeface="Comic Sans MS"/>
              </a:rPr>
              <a:t>the Superlative Degree).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Степени сравнения односложных прилагательных образуются путем прибавления суффиксов к прилагательным в положительной степени: в сравнительной степени прибавляется суффикс 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-еr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, в превосходной степени -суффикс 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ru-RU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isten, read and lea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rm – warmer – the warm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d – colder – the col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ean – cleaner – the clean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 – kinder – the kin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l – taller – the t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написании удваивается конечная согласная буква, если односложное прилагательное оканчивается на одну согласную с предшествующим кратким гласным звук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t- hotter- the hottest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g - bigger – the big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t – fatter- the fat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опия Новый рисунок (22)"/>
          <p:cNvPicPr/>
          <p:nvPr/>
        </p:nvPicPr>
        <p:blipFill>
          <a:blip r:embed="rId1"/>
          <a:stretch/>
        </p:blipFill>
        <p:spPr>
          <a:xfrm>
            <a:off x="800280" y="4419720"/>
            <a:ext cx="1847520" cy="211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Копия Новый рисунок (22)"/>
          <p:cNvPicPr/>
          <p:nvPr/>
        </p:nvPicPr>
        <p:blipFill>
          <a:blip r:embed="rId2"/>
          <a:stretch/>
        </p:blipFill>
        <p:spPr>
          <a:xfrm>
            <a:off x="3162240" y="388620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Копия Новый рисунок (22)"/>
          <p:cNvPicPr/>
          <p:nvPr/>
        </p:nvPicPr>
        <p:blipFill>
          <a:blip r:embed="rId3"/>
          <a:stretch/>
        </p:blipFill>
        <p:spPr>
          <a:xfrm>
            <a:off x="5924520" y="3200400"/>
            <a:ext cx="2979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d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Копия (2) Новый рисунок (22)"/>
          <p:cNvPicPr/>
          <p:nvPr/>
        </p:nvPicPr>
        <p:blipFill>
          <a:blip r:embed="rId1"/>
          <a:stretch/>
        </p:blipFill>
        <p:spPr>
          <a:xfrm>
            <a:off x="685800" y="3886200"/>
            <a:ext cx="2212920" cy="276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3505320" y="38862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6324480" y="3886200"/>
            <a:ext cx="2216160" cy="2762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2133720" y="1447920"/>
            <a:ext cx="510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y – sunnier – the sunn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y – happier – the happ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ry – hungrier – the hung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y – messier – the mess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y – dirtier – the dirt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Рисунок1"/>
          <p:cNvPicPr/>
          <p:nvPr/>
        </p:nvPicPr>
        <p:blipFill>
          <a:blip r:embed="rId4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онечная гласная </a:t>
            </a:r>
            <a:r>
              <a:rPr b="1" lang="ru-RU" sz="3600" spc="-1" strike="noStrike">
                <a:solidFill>
                  <a:srgbClr val="ff66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(немое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) опускается перед фиксами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the 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ite - whiter – the whi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ice – nicer -the nic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de – wider – the wid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e – later – the la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Многосложные прилагательные образуют степени сравнения путём прибавления специальных слов к прилагательному в положительной степени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в сравнительной степени прибавляется слово </a:t>
            </a:r>
            <a:r>
              <a:rPr b="1" lang="ru-RU" sz="2900" spc="-1" strike="noStrike">
                <a:solidFill>
                  <a:srgbClr val="ff6600"/>
                </a:solidFill>
                <a:latin typeface="Comic Sans MS"/>
              </a:rPr>
              <a:t>more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, в превосходной степени слово </a:t>
            </a:r>
            <a:r>
              <a:rPr b="1" lang="ru-RU" sz="2900" spc="-1" strike="noStrike">
                <a:solidFill>
                  <a:srgbClr val="ff6600"/>
                </a:solidFill>
                <a:latin typeface="Comic Sans MS"/>
              </a:rPr>
              <a:t>most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Новый рисунок (24)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прилаг (5)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1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Новый рисунок (31)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pare the animals. Use the words: </a:t>
            </a: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useful, clever, big, strong, beautiful, funn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An elephant is bigger than a lion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elephant"/>
          <p:cNvPicPr/>
          <p:nvPr/>
        </p:nvPicPr>
        <p:blipFill>
          <a:blip r:embed="rId1"/>
          <a:stretch/>
        </p:blipFill>
        <p:spPr>
          <a:xfrm rot="21406800">
            <a:off x="274320" y="2711160"/>
            <a:ext cx="3682800" cy="359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"/>
          <p:cNvPicPr/>
          <p:nvPr/>
        </p:nvPicPr>
        <p:blipFill>
          <a:blip r:embed="rId2"/>
          <a:stretch/>
        </p:blipFill>
        <p:spPr>
          <a:xfrm>
            <a:off x="6534000" y="3828960"/>
            <a:ext cx="259560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rabbit"/>
          <p:cNvPicPr/>
          <p:nvPr/>
        </p:nvPicPr>
        <p:blipFill>
          <a:blip r:embed="rId3"/>
          <a:stretch/>
        </p:blipFill>
        <p:spPr>
          <a:xfrm>
            <a:off x="228600" y="1905120"/>
            <a:ext cx="1676520" cy="166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пп"/>
          <p:cNvPicPr/>
          <p:nvPr/>
        </p:nvPicPr>
        <p:blipFill>
          <a:blip r:embed="rId4"/>
          <a:stretch/>
        </p:blipFill>
        <p:spPr>
          <a:xfrm rot="21427800">
            <a:off x="3809880" y="3885840"/>
            <a:ext cx="235296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Копия 1-4 класс (12)"/>
          <p:cNvPicPr/>
          <p:nvPr/>
        </p:nvPicPr>
        <p:blipFill>
          <a:blip r:embed="rId5"/>
          <a:stretch/>
        </p:blipFill>
        <p:spPr>
          <a:xfrm rot="378600">
            <a:off x="3885840" y="2133720"/>
            <a:ext cx="2295360" cy="143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parrot"/>
          <p:cNvPicPr/>
          <p:nvPr/>
        </p:nvPicPr>
        <p:blipFill>
          <a:blip r:embed="rId6"/>
          <a:stretch/>
        </p:blipFill>
        <p:spPr>
          <a:xfrm rot="264600">
            <a:off x="6629040" y="182844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прилаг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33360" y="7308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8600" y="487692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the pictures and say: which one is happ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Администратор</cp:lastModifiedBy>
  <dcterms:modified xsi:type="dcterms:W3CDTF">2018-12-29T19:49:4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