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2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6C3B-1249-4527-8CC9-51266D4B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2FA5-A4A4-495E-A30C-4C5028C9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EDB1-6441-4162-B86A-17EA594E5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1341-EAC6-424F-9CFC-52227C0D5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FE2A-F1BB-49D1-951D-0943B8AF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3214-E9A5-48AE-A4C4-76DB9590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1471-BC11-4DDC-B456-069E3E8C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E4CF-B952-4320-B117-FB5C32A7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0C5B-941D-4785-8EA0-490B0CE3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7BC2-28B1-4E83-A5CA-06497F04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B6BE-B4DD-4FDA-B8E4-EB27F2B3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1AA8-EA1C-4B71-9142-18A10ED7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39EC-8BE6-4A9C-8EB2-6C3A1103A7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423720" y="1752480"/>
            <a:ext cx="8229600" cy="19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епени Сравнени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лагательных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576360" y="3414600"/>
            <a:ext cx="7924680" cy="31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Times New Roman"/>
              </a:rPr>
              <a:t>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4191120" y="5029200"/>
            <a:ext cx="403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merican Typewriter Semibold"/>
                <a:ea typeface="American Typewriter Semibold"/>
              </a:rPr>
              <a:t>Комарова Т.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merican Typewriter Semibold"/>
                <a:ea typeface="American Typewriter Semibold"/>
              </a:rPr>
              <a:t>ГБОУ СОШ №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Новый рисунок (18)"/>
          <p:cNvPicPr/>
          <p:nvPr/>
        </p:nvPicPr>
        <p:blipFill>
          <a:blip r:embed="rId1"/>
          <a:stretch/>
        </p:blipFill>
        <p:spPr>
          <a:xfrm>
            <a:off x="228600" y="0"/>
            <a:ext cx="8534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сли Вам все ясно и понятно - проверьте свои знания и продемонстрируйте другим. </a:t>
            </a:r>
            <a:r>
              <a:rPr b="0" lang="ru-RU" sz="3200" spc="-1" strike="noStrike">
                <a:solidFill>
                  <a:srgbClr val="198a8a"/>
                </a:solidFill>
                <a:latin typeface="Comic Sans MS"/>
              </a:rPr>
              <a:t>Пройдите тест на образование степеней сравнения прилагательных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380880" y="2514600"/>
            <a:ext cx="769644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Comic Sans MS"/>
              </a:rPr>
              <a:t>Choose the right lett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ho is the cleverest anima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) dolphin               c) h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) monkey              d) pengu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2) Who is the biggest animal on the lan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) camel                 c) giraff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) elephant            d) c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3) Who is the fastest animal on the lan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) tiger                   c) leop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) eagle                  d) hor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4"/>
          <p:cNvSpPr txBox="1"/>
          <p:nvPr/>
        </p:nvSpPr>
        <p:spPr>
          <a:xfrm>
            <a:off x="1523880" y="1752480"/>
            <a:ext cx="624852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luck!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7631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Имена прилагательные в английском языке имеют три степени сравнения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ru-RU" sz="2500" spc="-1" strike="noStrike">
                <a:solidFill>
                  <a:srgbClr val="0000ff"/>
                </a:solidFill>
                <a:latin typeface="Comic Sans MS"/>
              </a:rPr>
              <a:t>положительную </a:t>
            </a:r>
            <a:r>
              <a:rPr b="0" lang="en-US" sz="2500" spc="-1" strike="noStrike">
                <a:solidFill>
                  <a:srgbClr val="0000ff"/>
                </a:solidFill>
                <a:latin typeface="Comic Sans MS"/>
              </a:rPr>
              <a:t>(the Positive Degree),</a:t>
            </a: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9900"/>
                </a:solidFill>
                <a:latin typeface="Comic Sans MS"/>
              </a:rPr>
              <a:t>   </a:t>
            </a:r>
            <a:r>
              <a:rPr b="0" lang="ru-RU" sz="2500" spc="-1" strike="noStrike">
                <a:solidFill>
                  <a:srgbClr val="009900"/>
                </a:solidFill>
                <a:latin typeface="Comic Sans MS"/>
              </a:rPr>
              <a:t>сравнительную (</a:t>
            </a:r>
            <a:r>
              <a:rPr b="0" lang="en-US" sz="2500" spc="-1" strike="noStrike">
                <a:solidFill>
                  <a:srgbClr val="009900"/>
                </a:solidFill>
                <a:latin typeface="Comic Sans MS"/>
              </a:rPr>
              <a:t>the Comparative Degree)</a:t>
            </a: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500" spc="-1" strike="noStrike">
                <a:solidFill>
                  <a:srgbClr val="ff6600"/>
                </a:solidFill>
                <a:latin typeface="Comic Sans MS"/>
              </a:rPr>
              <a:t>превосходную (</a:t>
            </a:r>
            <a:r>
              <a:rPr b="0" lang="en-US" sz="2500" spc="-1" strike="noStrike">
                <a:solidFill>
                  <a:srgbClr val="ff6600"/>
                </a:solidFill>
                <a:latin typeface="Comic Sans MS"/>
              </a:rPr>
              <a:t>the Superlative Degree).</a:t>
            </a: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Степени сравнения односложных прилагательных образуются путем прибавления суффиксов к прилагательным в положительной степени: в сравнительной степени прибавляется суффикс </a:t>
            </a:r>
            <a:r>
              <a:rPr b="1" lang="ru-RU" sz="2500" spc="-1" strike="noStrike">
                <a:solidFill>
                  <a:srgbClr val="ff0000"/>
                </a:solidFill>
                <a:latin typeface="Comic Sans MS"/>
              </a:rPr>
              <a:t>-еr</a:t>
            </a: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, в превосходной степени -суффикс </a:t>
            </a:r>
            <a:r>
              <a:rPr b="1" lang="ru-RU" sz="25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ru-RU" sz="2500" spc="-1" strike="noStrike">
                <a:solidFill>
                  <a:srgbClr val="ff0000"/>
                </a:solidFill>
                <a:latin typeface="Comic Sans MS"/>
              </a:rPr>
              <a:t>est</a:t>
            </a:r>
            <a:r>
              <a:rPr b="0" lang="ru-RU" sz="25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                                       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Listen, read and lear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rm – warmer – the warm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d – colder – the cold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ean – cleaner – the clean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ind – kinder – the kind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ll – taller – the tall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написании удваивается конечная согласная буква, если односложное прилагательное оканчивается на одну согласную с предшествующим кратким гласным звуко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t- hotter- the hottest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g - bigger – the bigg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t – fatter- the fat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Копия Новый рисунок (22)"/>
          <p:cNvPicPr/>
          <p:nvPr/>
        </p:nvPicPr>
        <p:blipFill>
          <a:blip r:embed="rId1"/>
          <a:stretch/>
        </p:blipFill>
        <p:spPr>
          <a:xfrm>
            <a:off x="800280" y="4419720"/>
            <a:ext cx="1847520" cy="2114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Копия Новый рисунок (22)"/>
          <p:cNvPicPr/>
          <p:nvPr/>
        </p:nvPicPr>
        <p:blipFill>
          <a:blip r:embed="rId2"/>
          <a:stretch/>
        </p:blipFill>
        <p:spPr>
          <a:xfrm>
            <a:off x="3162240" y="3886200"/>
            <a:ext cx="2381400" cy="2724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Копия Новый рисунок (22)"/>
          <p:cNvPicPr/>
          <p:nvPr/>
        </p:nvPicPr>
        <p:blipFill>
          <a:blip r:embed="rId3"/>
          <a:stretch/>
        </p:blipFill>
        <p:spPr>
          <a:xfrm>
            <a:off x="5924520" y="3200400"/>
            <a:ext cx="29797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d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Копия (2) Новый рисунок (22)"/>
          <p:cNvPicPr/>
          <p:nvPr/>
        </p:nvPicPr>
        <p:blipFill>
          <a:blip r:embed="rId1"/>
          <a:stretch/>
        </p:blipFill>
        <p:spPr>
          <a:xfrm>
            <a:off x="685800" y="3886200"/>
            <a:ext cx="2212920" cy="2762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Копия (2) Новый рисунок (22)"/>
          <p:cNvPicPr/>
          <p:nvPr/>
        </p:nvPicPr>
        <p:blipFill>
          <a:blip r:embed="rId2"/>
          <a:stretch/>
        </p:blipFill>
        <p:spPr>
          <a:xfrm>
            <a:off x="3505320" y="3886200"/>
            <a:ext cx="2274840" cy="2762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Копия (2) Новый рисунок (22)"/>
          <p:cNvPicPr/>
          <p:nvPr/>
        </p:nvPicPr>
        <p:blipFill>
          <a:blip r:embed="rId3"/>
          <a:stretch/>
        </p:blipFill>
        <p:spPr>
          <a:xfrm>
            <a:off x="6324480" y="3886200"/>
            <a:ext cx="2216160" cy="27622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2133720" y="1447920"/>
            <a:ext cx="510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member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nny – sunnier – the sunni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ppy – happier – the happi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ngry – hungrier – the hungri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y – messier – the messi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ty – dirtier – the dirti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Рисунок1"/>
          <p:cNvPicPr/>
          <p:nvPr/>
        </p:nvPicPr>
        <p:blipFill>
          <a:blip r:embed="rId4"/>
          <a:stretch/>
        </p:blipFill>
        <p:spPr>
          <a:xfrm>
            <a:off x="0" y="0"/>
            <a:ext cx="914400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-360" y="8380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Конечная гласная </a:t>
            </a:r>
            <a:r>
              <a:rPr b="1" lang="ru-RU" sz="3600" spc="-1" strike="noStrike">
                <a:solidFill>
                  <a:srgbClr val="ff6600"/>
                </a:solidFill>
                <a:latin typeface="Comic Sans MS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(немое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) опускается перед фиксами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е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-es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rg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- larg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e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– the larg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es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ite - whiter – the whi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ice – nicer -the nic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ide – wider – the wid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te – later – the la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Comic Sans MS"/>
              </a:rPr>
              <a:t>Многосложные прилагательные образуют степени сравнения путём прибавления специальных слов к прилагательному в положительной степени: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900" spc="-1" strike="noStrike">
                <a:solidFill>
                  <a:srgbClr val="000000"/>
                </a:solidFill>
                <a:latin typeface="Comic Sans MS"/>
              </a:rPr>
              <a:t>в сравнительной степени прибавляется слово </a:t>
            </a:r>
            <a:r>
              <a:rPr b="1" lang="ru-RU" sz="2900" spc="-1" strike="noStrike">
                <a:solidFill>
                  <a:srgbClr val="ff6600"/>
                </a:solidFill>
                <a:latin typeface="Comic Sans MS"/>
              </a:rPr>
              <a:t>more</a:t>
            </a:r>
            <a:r>
              <a:rPr b="0" lang="ru-RU" sz="2900" spc="-1" strike="noStrike">
                <a:solidFill>
                  <a:srgbClr val="000000"/>
                </a:solidFill>
                <a:latin typeface="Comic Sans MS"/>
              </a:rPr>
              <a:t>, в превосходной степени слово </a:t>
            </a:r>
            <a:r>
              <a:rPr b="1" lang="ru-RU" sz="2900" spc="-1" strike="noStrike">
                <a:solidFill>
                  <a:srgbClr val="ff6600"/>
                </a:solidFill>
                <a:latin typeface="Comic Sans MS"/>
              </a:rPr>
              <a:t>most</a:t>
            </a:r>
            <a:r>
              <a:rPr b="0" lang="ru-RU" sz="29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Новый рисунок (24)"/>
          <p:cNvPicPr/>
          <p:nvPr/>
        </p:nvPicPr>
        <p:blipFill>
          <a:blip r:embed="rId1"/>
          <a:stretch/>
        </p:blipFill>
        <p:spPr>
          <a:xfrm>
            <a:off x="0" y="3124080"/>
            <a:ext cx="9144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прилаг (5)"/>
          <p:cNvPicPr/>
          <p:nvPr/>
        </p:nvPicPr>
        <p:blipFill>
          <a:blip r:embed="rId1"/>
          <a:stretch/>
        </p:blipFill>
        <p:spPr>
          <a:xfrm>
            <a:off x="0" y="1295280"/>
            <a:ext cx="8915400" cy="5410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Новый рисунок (31)"/>
          <p:cNvPicPr/>
          <p:nvPr/>
        </p:nvPicPr>
        <p:blipFill>
          <a:blip r:embed="rId2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87631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mpare the animals. Use the words: </a:t>
            </a: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useful, clever, big, strong, beautiful, funn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: An elephant is bigger than a lion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elephant"/>
          <p:cNvPicPr/>
          <p:nvPr/>
        </p:nvPicPr>
        <p:blipFill>
          <a:blip r:embed="rId1"/>
          <a:stretch/>
        </p:blipFill>
        <p:spPr>
          <a:xfrm rot="21406800">
            <a:off x="274320" y="2711160"/>
            <a:ext cx="3682800" cy="3598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lion"/>
          <p:cNvPicPr/>
          <p:nvPr/>
        </p:nvPicPr>
        <p:blipFill>
          <a:blip r:embed="rId2"/>
          <a:stretch/>
        </p:blipFill>
        <p:spPr>
          <a:xfrm>
            <a:off x="6534000" y="3828960"/>
            <a:ext cx="2595600" cy="2667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rabbit"/>
          <p:cNvPicPr/>
          <p:nvPr/>
        </p:nvPicPr>
        <p:blipFill>
          <a:blip r:embed="rId3"/>
          <a:stretch/>
        </p:blipFill>
        <p:spPr>
          <a:xfrm>
            <a:off x="228600" y="1905120"/>
            <a:ext cx="1676520" cy="1660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пп"/>
          <p:cNvPicPr/>
          <p:nvPr/>
        </p:nvPicPr>
        <p:blipFill>
          <a:blip r:embed="rId4"/>
          <a:stretch/>
        </p:blipFill>
        <p:spPr>
          <a:xfrm rot="21427800">
            <a:off x="3809880" y="3885840"/>
            <a:ext cx="2352960" cy="2666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Копия 1-4 класс (12)"/>
          <p:cNvPicPr/>
          <p:nvPr/>
        </p:nvPicPr>
        <p:blipFill>
          <a:blip r:embed="rId5"/>
          <a:stretch/>
        </p:blipFill>
        <p:spPr>
          <a:xfrm rot="378600">
            <a:off x="3885840" y="2133720"/>
            <a:ext cx="2295360" cy="1439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parrot"/>
          <p:cNvPicPr/>
          <p:nvPr/>
        </p:nvPicPr>
        <p:blipFill>
          <a:blip r:embed="rId6"/>
          <a:stretch/>
        </p:blipFill>
        <p:spPr>
          <a:xfrm rot="264600">
            <a:off x="6629040" y="1828440"/>
            <a:ext cx="1860480" cy="19051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Упражне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прилаг"/>
          <p:cNvPicPr/>
          <p:nvPr/>
        </p:nvPicPr>
        <p:blipFill>
          <a:blip r:embed="rId1"/>
          <a:stretch/>
        </p:blipFill>
        <p:spPr>
          <a:xfrm>
            <a:off x="228600" y="609480"/>
            <a:ext cx="8915400" cy="41148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333360" y="73080"/>
            <a:ext cx="26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Упражнение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28600" y="4876920"/>
            <a:ext cx="8534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Упражнение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at the pictures and say: which one is happi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lga</dc:creator>
  <dc:description/>
  <dc:language>en-US</dc:language>
  <cp:lastModifiedBy>Администратор</cp:lastModifiedBy>
  <dcterms:modified xsi:type="dcterms:W3CDTF">2018-12-29T19:49:43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