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C9F-6CE9-4D66-A434-6D59FDDD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183-C5E2-4D59-B455-9E8B267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6FF-9A5C-4A37-B513-34DBF53F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2AD-BA43-416C-823F-926A19FE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66AA-6F7E-4AE0-8B1B-6F1C43D7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C82E-C9DB-432F-A794-574914A1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C4EE-BC7D-4816-9680-EEB82618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84E2-CC10-4259-84B9-14A56AA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E80C-AC64-45CE-8D09-AC1B14A8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01CF-9BB7-482F-97F8-E9A3849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CF81-2750-458E-AE23-AA9F1A3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CF1-63E9-466E-8582-B1BC1DA2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6B91-6374-450B-9568-B37EC02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9D71-AC45-40A7-A9CF-1405236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488-9813-4350-AEC0-278CDAB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3DB0-9FCD-4B04-BD8C-185A73F3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5E5-1D45-4C70-94EE-7BA06F5D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B31-4EEA-4A89-9D61-49F79B0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27B-4195-43B5-81C5-943E377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516-563F-4176-83FB-02B747FE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5D7-5BC8-4DC0-A306-2243C489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989-562B-44D6-9841-E00F33B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186-67B1-4870-92AC-2C57D927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337-7694-492C-B79A-348D6C0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8C92-CF43-42AE-AB4B-4226FEB16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57EF-0B47-49C5-8C0F-13C6EDB65D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сканирование0004"/>
          <p:cNvPicPr/>
          <p:nvPr/>
        </p:nvPicPr>
        <p:blipFill>
          <a:blip r:embed="rId1"/>
          <a:stretch/>
        </p:blipFill>
        <p:spPr>
          <a:xfrm>
            <a:off x="1042920" y="476280"/>
            <a:ext cx="1944720" cy="2747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4479840" y="1557360"/>
            <a:ext cx="39798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3284280"/>
            <a:ext cx="3240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Шойдук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а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й-оол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БОУ СОШ №2 п.г.т. Каа-Хем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Прямоугольник 1" descr=""/>
          <p:cNvPicPr/>
          <p:nvPr/>
        </p:nvPicPr>
        <p:blipFill>
          <a:blip r:embed="rId2"/>
          <a:stretch/>
        </p:blipFill>
        <p:spPr>
          <a:xfrm>
            <a:off x="3133800" y="2786040"/>
            <a:ext cx="63943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сканирование0015"/>
          <p:cNvPicPr/>
          <p:nvPr/>
        </p:nvPicPr>
        <p:blipFill>
          <a:blip r:embed="rId1"/>
          <a:stretch/>
        </p:blipFill>
        <p:spPr>
          <a:xfrm>
            <a:off x="179280" y="115920"/>
            <a:ext cx="2737080" cy="331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сканирование0014"/>
          <p:cNvPicPr/>
          <p:nvPr/>
        </p:nvPicPr>
        <p:blipFill>
          <a:blip r:embed="rId2"/>
          <a:srcRect l="0" t="5407" r="0" b="0"/>
          <a:stretch/>
        </p:blipFill>
        <p:spPr>
          <a:xfrm>
            <a:off x="3127320" y="115920"/>
            <a:ext cx="2884680" cy="331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сканирование0013"/>
          <p:cNvPicPr/>
          <p:nvPr/>
        </p:nvPicPr>
        <p:blipFill>
          <a:blip r:embed="rId3">
            <a:lum bright="6000"/>
          </a:blip>
          <a:srcRect l="0" t="4857" r="0" b="3794"/>
          <a:stretch/>
        </p:blipFill>
        <p:spPr>
          <a:xfrm>
            <a:off x="6221520" y="115920"/>
            <a:ext cx="2887560" cy="331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сканирование0012"/>
          <p:cNvPicPr/>
          <p:nvPr/>
        </p:nvPicPr>
        <p:blipFill>
          <a:blip r:embed="rId4"/>
          <a:srcRect l="967" t="5436" r="967" b="6596"/>
          <a:stretch/>
        </p:blipFill>
        <p:spPr>
          <a:xfrm>
            <a:off x="179280" y="3514680"/>
            <a:ext cx="2592360" cy="32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сканирование0011"/>
          <p:cNvPicPr/>
          <p:nvPr/>
        </p:nvPicPr>
        <p:blipFill>
          <a:blip r:embed="rId5"/>
          <a:srcRect l="0" t="3796" r="0" b="3796"/>
          <a:stretch/>
        </p:blipFill>
        <p:spPr>
          <a:xfrm>
            <a:off x="3208320" y="3519360"/>
            <a:ext cx="2732040" cy="329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сканирование0010"/>
          <p:cNvPicPr/>
          <p:nvPr/>
        </p:nvPicPr>
        <p:blipFill>
          <a:blip r:embed="rId6"/>
          <a:srcRect l="2792" t="5861" r="2752" b="1874"/>
          <a:stretch/>
        </p:blipFill>
        <p:spPr>
          <a:xfrm>
            <a:off x="6356520" y="3481560"/>
            <a:ext cx="260820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сканирование0009"/>
          <p:cNvPicPr/>
          <p:nvPr/>
        </p:nvPicPr>
        <p:blipFill>
          <a:blip r:embed="rId1"/>
          <a:srcRect l="0" t="8323" r="0" b="3087"/>
          <a:stretch/>
        </p:blipFill>
        <p:spPr>
          <a:xfrm>
            <a:off x="250920" y="216000"/>
            <a:ext cx="2665440" cy="3295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сканирование0008"/>
          <p:cNvPicPr/>
          <p:nvPr/>
        </p:nvPicPr>
        <p:blipFill>
          <a:blip r:embed="rId2"/>
          <a:srcRect l="0" t="3391" r="0" b="3089"/>
          <a:stretch/>
        </p:blipFill>
        <p:spPr>
          <a:xfrm>
            <a:off x="3419640" y="333360"/>
            <a:ext cx="2490480" cy="3117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сканирование0007"/>
          <p:cNvPicPr/>
          <p:nvPr/>
        </p:nvPicPr>
        <p:blipFill>
          <a:blip r:embed="rId3"/>
          <a:srcRect l="4292" t="2165" r="0" b="4341"/>
          <a:stretch/>
        </p:blipFill>
        <p:spPr>
          <a:xfrm>
            <a:off x="6342120" y="233280"/>
            <a:ext cx="2693880" cy="321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сканирование0006"/>
          <p:cNvPicPr/>
          <p:nvPr/>
        </p:nvPicPr>
        <p:blipFill>
          <a:blip r:embed="rId4"/>
          <a:stretch/>
        </p:blipFill>
        <p:spPr>
          <a:xfrm>
            <a:off x="1862280" y="3608280"/>
            <a:ext cx="2565360" cy="3133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сканирование0005"/>
          <p:cNvPicPr/>
          <p:nvPr/>
        </p:nvPicPr>
        <p:blipFill>
          <a:blip r:embed="rId5"/>
          <a:srcRect l="2542" t="0" r="0" b="0"/>
          <a:stretch/>
        </p:blipFill>
        <p:spPr>
          <a:xfrm>
            <a:off x="4702320" y="3608280"/>
            <a:ext cx="25336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3"/>
          <p:cNvSpPr/>
          <p:nvPr/>
        </p:nvSpPr>
        <p:spPr>
          <a:xfrm>
            <a:off x="3646440" y="1362240"/>
            <a:ext cx="1058760" cy="110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 rot="4664400">
            <a:off x="3081600" y="410400"/>
            <a:ext cx="161928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 rot="7672800">
            <a:off x="4110840" y="680040"/>
            <a:ext cx="143172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 rot="11362200">
            <a:off x="4500000" y="1773360"/>
            <a:ext cx="136044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 rot="14403600">
            <a:off x="3930480" y="2485440"/>
            <a:ext cx="136044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 rot="19299600">
            <a:off x="2700000" y="2204640"/>
            <a:ext cx="1360440" cy="79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 rot="942000">
            <a:off x="2556000" y="1125000"/>
            <a:ext cx="1360440" cy="79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734" y="3205"/>
                  <a:pt x="17867" y="5080"/>
                  <a:pt x="17867" y="10800"/>
                </a:cubicBezTo>
                <a:cubicBezTo>
                  <a:pt x="17867" y="16520"/>
                  <a:pt x="19734" y="183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3203640" y="2637000"/>
            <a:ext cx="792000" cy="3097080"/>
          </a:xfrm>
          <a:custGeom>
            <a:avLst/>
            <a:gdLst/>
            <a:ahLst/>
            <a:rect l="l" t="t" r="r" b="b"/>
            <a:pathLst>
              <a:path w="695" h="1951">
                <a:moveTo>
                  <a:pt x="695" y="0"/>
                </a:moveTo>
                <a:cubicBezTo>
                  <a:pt x="362" y="268"/>
                  <a:pt x="30" y="537"/>
                  <a:pt x="15" y="862"/>
                </a:cubicBezTo>
                <a:cubicBezTo>
                  <a:pt x="0" y="1187"/>
                  <a:pt x="506" y="1770"/>
                  <a:pt x="604" y="1951"/>
                </a:cubicBezTo>
              </a:path>
            </a:pathLst>
          </a:custGeom>
          <a:noFill/>
          <a:ln w="76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 rot="2310600">
            <a:off x="667800" y="2093400"/>
            <a:ext cx="3122640" cy="10843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6"/>
          <p:cNvSpPr/>
          <p:nvPr/>
        </p:nvSpPr>
        <p:spPr>
          <a:xfrm rot="18358200">
            <a:off x="3635280" y="5301720"/>
            <a:ext cx="79380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7"/>
          <p:cNvSpPr/>
          <p:nvPr/>
        </p:nvSpPr>
        <p:spPr>
          <a:xfrm rot="2700000">
            <a:off x="2988720" y="5299920"/>
            <a:ext cx="1079280" cy="217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 rot="1079400">
            <a:off x="3203640" y="4436640"/>
            <a:ext cx="3276360" cy="863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 rot="353400">
            <a:off x="0" y="3195720"/>
            <a:ext cx="3349800" cy="863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 rot="20189400">
            <a:off x="19080" y="4241520"/>
            <a:ext cx="3348000" cy="1008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 rot="20921400">
            <a:off x="3058920" y="3284640"/>
            <a:ext cx="3313080" cy="93636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24000" y="5805360"/>
            <a:ext cx="828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24"/>
          <p:cNvSpPr/>
          <p:nvPr/>
        </p:nvSpPr>
        <p:spPr>
          <a:xfrm>
            <a:off x="3211560" y="5805360"/>
            <a:ext cx="658800" cy="1000080"/>
          </a:xfrm>
          <a:custGeom>
            <a:avLst/>
            <a:gdLst/>
            <a:ahLst/>
            <a:rect l="l" t="t" r="r" b="b"/>
            <a:pathLst>
              <a:path w="415" h="630">
                <a:moveTo>
                  <a:pt x="415" y="0"/>
                </a:moveTo>
                <a:cubicBezTo>
                  <a:pt x="402" y="4"/>
                  <a:pt x="384" y="2"/>
                  <a:pt x="375" y="13"/>
                </a:cubicBezTo>
                <a:cubicBezTo>
                  <a:pt x="324" y="78"/>
                  <a:pt x="308" y="170"/>
                  <a:pt x="268" y="241"/>
                </a:cubicBezTo>
                <a:cubicBezTo>
                  <a:pt x="249" y="275"/>
                  <a:pt x="209" y="321"/>
                  <a:pt x="187" y="348"/>
                </a:cubicBezTo>
                <a:cubicBezTo>
                  <a:pt x="156" y="443"/>
                  <a:pt x="204" y="334"/>
                  <a:pt x="120" y="402"/>
                </a:cubicBezTo>
                <a:cubicBezTo>
                  <a:pt x="109" y="411"/>
                  <a:pt x="112" y="429"/>
                  <a:pt x="107" y="442"/>
                </a:cubicBezTo>
                <a:cubicBezTo>
                  <a:pt x="81" y="504"/>
                  <a:pt x="86" y="490"/>
                  <a:pt x="40" y="536"/>
                </a:cubicBezTo>
                <a:cubicBezTo>
                  <a:pt x="11" y="622"/>
                  <a:pt x="32" y="595"/>
                  <a:pt x="0" y="63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3849840" y="5826240"/>
            <a:ext cx="169560" cy="979200"/>
          </a:xfrm>
          <a:custGeom>
            <a:avLst/>
            <a:gdLst/>
            <a:ahLst/>
            <a:rect l="l" t="t" r="r" b="b"/>
            <a:pathLst>
              <a:path w="107" h="617">
                <a:moveTo>
                  <a:pt x="13" y="0"/>
                </a:moveTo>
                <a:cubicBezTo>
                  <a:pt x="17" y="45"/>
                  <a:pt x="16" y="90"/>
                  <a:pt x="26" y="134"/>
                </a:cubicBezTo>
                <a:cubicBezTo>
                  <a:pt x="30" y="150"/>
                  <a:pt x="53" y="158"/>
                  <a:pt x="53" y="174"/>
                </a:cubicBezTo>
                <a:cubicBezTo>
                  <a:pt x="53" y="235"/>
                  <a:pt x="22" y="305"/>
                  <a:pt x="0" y="362"/>
                </a:cubicBezTo>
                <a:cubicBezTo>
                  <a:pt x="4" y="398"/>
                  <a:pt x="1" y="435"/>
                  <a:pt x="13" y="469"/>
                </a:cubicBezTo>
                <a:cubicBezTo>
                  <a:pt x="19" y="487"/>
                  <a:pt x="41" y="494"/>
                  <a:pt x="53" y="509"/>
                </a:cubicBezTo>
                <a:cubicBezTo>
                  <a:pt x="63" y="522"/>
                  <a:pt x="71" y="536"/>
                  <a:pt x="80" y="550"/>
                </a:cubicBezTo>
                <a:cubicBezTo>
                  <a:pt x="96" y="600"/>
                  <a:pt x="87" y="578"/>
                  <a:pt x="107" y="6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26"/>
          <p:cNvSpPr/>
          <p:nvPr/>
        </p:nvSpPr>
        <p:spPr>
          <a:xfrm>
            <a:off x="3890880" y="6251400"/>
            <a:ext cx="341280" cy="744840"/>
          </a:xfrm>
          <a:custGeom>
            <a:avLst/>
            <a:gdLst/>
            <a:ahLst/>
            <a:rect l="l" t="t" r="r" b="b"/>
            <a:pathLst>
              <a:path w="215" h="469">
                <a:moveTo>
                  <a:pt x="0" y="0"/>
                </a:moveTo>
                <a:cubicBezTo>
                  <a:pt x="27" y="9"/>
                  <a:pt x="54" y="18"/>
                  <a:pt x="81" y="27"/>
                </a:cubicBezTo>
                <a:cubicBezTo>
                  <a:pt x="99" y="33"/>
                  <a:pt x="85" y="65"/>
                  <a:pt x="94" y="81"/>
                </a:cubicBezTo>
                <a:cubicBezTo>
                  <a:pt x="103" y="97"/>
                  <a:pt x="121" y="108"/>
                  <a:pt x="134" y="121"/>
                </a:cubicBezTo>
                <a:cubicBezTo>
                  <a:pt x="146" y="178"/>
                  <a:pt x="147" y="238"/>
                  <a:pt x="161" y="295"/>
                </a:cubicBezTo>
                <a:cubicBezTo>
                  <a:pt x="176" y="357"/>
                  <a:pt x="215" y="402"/>
                  <a:pt x="215" y="4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reeform 28"/>
          <p:cNvSpPr/>
          <p:nvPr/>
        </p:nvSpPr>
        <p:spPr>
          <a:xfrm>
            <a:off x="3870360" y="5869080"/>
            <a:ext cx="1206360" cy="1015920"/>
          </a:xfrm>
          <a:custGeom>
            <a:avLst/>
            <a:gdLst/>
            <a:ahLst/>
            <a:rect l="l" t="t" r="r" b="b"/>
            <a:pathLst>
              <a:path w="723" h="790">
                <a:moveTo>
                  <a:pt x="0" y="0"/>
                </a:moveTo>
                <a:cubicBezTo>
                  <a:pt x="13" y="9"/>
                  <a:pt x="26" y="20"/>
                  <a:pt x="40" y="27"/>
                </a:cubicBezTo>
                <a:cubicBezTo>
                  <a:pt x="53" y="33"/>
                  <a:pt x="70" y="30"/>
                  <a:pt x="80" y="40"/>
                </a:cubicBezTo>
                <a:cubicBezTo>
                  <a:pt x="90" y="50"/>
                  <a:pt x="87" y="68"/>
                  <a:pt x="94" y="80"/>
                </a:cubicBezTo>
                <a:cubicBezTo>
                  <a:pt x="105" y="99"/>
                  <a:pt x="121" y="116"/>
                  <a:pt x="134" y="134"/>
                </a:cubicBezTo>
                <a:cubicBezTo>
                  <a:pt x="143" y="161"/>
                  <a:pt x="152" y="187"/>
                  <a:pt x="161" y="214"/>
                </a:cubicBezTo>
                <a:cubicBezTo>
                  <a:pt x="165" y="228"/>
                  <a:pt x="162" y="248"/>
                  <a:pt x="174" y="255"/>
                </a:cubicBezTo>
                <a:cubicBezTo>
                  <a:pt x="197" y="269"/>
                  <a:pt x="227" y="264"/>
                  <a:pt x="254" y="268"/>
                </a:cubicBezTo>
                <a:cubicBezTo>
                  <a:pt x="268" y="277"/>
                  <a:pt x="279" y="290"/>
                  <a:pt x="295" y="295"/>
                </a:cubicBezTo>
                <a:cubicBezTo>
                  <a:pt x="321" y="303"/>
                  <a:pt x="353" y="292"/>
                  <a:pt x="375" y="308"/>
                </a:cubicBezTo>
                <a:cubicBezTo>
                  <a:pt x="406" y="331"/>
                  <a:pt x="442" y="402"/>
                  <a:pt x="442" y="402"/>
                </a:cubicBezTo>
                <a:cubicBezTo>
                  <a:pt x="451" y="429"/>
                  <a:pt x="462" y="455"/>
                  <a:pt x="469" y="482"/>
                </a:cubicBezTo>
                <a:cubicBezTo>
                  <a:pt x="473" y="500"/>
                  <a:pt x="465" y="530"/>
                  <a:pt x="482" y="536"/>
                </a:cubicBezTo>
                <a:cubicBezTo>
                  <a:pt x="550" y="560"/>
                  <a:pt x="697" y="563"/>
                  <a:pt x="697" y="563"/>
                </a:cubicBezTo>
                <a:cubicBezTo>
                  <a:pt x="721" y="635"/>
                  <a:pt x="723" y="790"/>
                  <a:pt x="723" y="7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29"/>
          <p:cNvSpPr/>
          <p:nvPr/>
        </p:nvSpPr>
        <p:spPr>
          <a:xfrm>
            <a:off x="3956040" y="5826240"/>
            <a:ext cx="2487600" cy="979200"/>
          </a:xfrm>
          <a:custGeom>
            <a:avLst/>
            <a:gdLst/>
            <a:ahLst/>
            <a:rect l="l" t="t" r="r" b="b"/>
            <a:pathLst>
              <a:path w="1567" h="617">
                <a:moveTo>
                  <a:pt x="0" y="0"/>
                </a:moveTo>
                <a:cubicBezTo>
                  <a:pt x="53" y="8"/>
                  <a:pt x="138" y="17"/>
                  <a:pt x="187" y="41"/>
                </a:cubicBezTo>
                <a:cubicBezTo>
                  <a:pt x="267" y="81"/>
                  <a:pt x="310" y="149"/>
                  <a:pt x="388" y="188"/>
                </a:cubicBezTo>
                <a:cubicBezTo>
                  <a:pt x="406" y="210"/>
                  <a:pt x="413" y="253"/>
                  <a:pt x="442" y="255"/>
                </a:cubicBezTo>
                <a:cubicBezTo>
                  <a:pt x="604" y="266"/>
                  <a:pt x="801" y="212"/>
                  <a:pt x="964" y="174"/>
                </a:cubicBezTo>
                <a:cubicBezTo>
                  <a:pt x="1342" y="196"/>
                  <a:pt x="1101" y="148"/>
                  <a:pt x="1299" y="282"/>
                </a:cubicBezTo>
                <a:cubicBezTo>
                  <a:pt x="1309" y="336"/>
                  <a:pt x="1325" y="393"/>
                  <a:pt x="1352" y="442"/>
                </a:cubicBezTo>
                <a:cubicBezTo>
                  <a:pt x="1368" y="470"/>
                  <a:pt x="1375" y="513"/>
                  <a:pt x="1406" y="523"/>
                </a:cubicBezTo>
                <a:cubicBezTo>
                  <a:pt x="1419" y="527"/>
                  <a:pt x="1433" y="532"/>
                  <a:pt x="1446" y="536"/>
                </a:cubicBezTo>
                <a:cubicBezTo>
                  <a:pt x="1451" y="549"/>
                  <a:pt x="1448" y="568"/>
                  <a:pt x="1460" y="576"/>
                </a:cubicBezTo>
                <a:cubicBezTo>
                  <a:pt x="1491" y="598"/>
                  <a:pt x="1533" y="599"/>
                  <a:pt x="1567" y="61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30"/>
          <p:cNvSpPr/>
          <p:nvPr/>
        </p:nvSpPr>
        <p:spPr>
          <a:xfrm>
            <a:off x="2465280" y="6230880"/>
            <a:ext cx="1042920" cy="595440"/>
          </a:xfrm>
          <a:custGeom>
            <a:avLst/>
            <a:gdLst/>
            <a:ahLst/>
            <a:rect l="l" t="t" r="r" b="b"/>
            <a:pathLst>
              <a:path w="657" h="375">
                <a:moveTo>
                  <a:pt x="657" y="27"/>
                </a:moveTo>
                <a:cubicBezTo>
                  <a:pt x="590" y="18"/>
                  <a:pt x="524" y="0"/>
                  <a:pt x="456" y="0"/>
                </a:cubicBezTo>
                <a:cubicBezTo>
                  <a:pt x="440" y="0"/>
                  <a:pt x="426" y="15"/>
                  <a:pt x="416" y="27"/>
                </a:cubicBezTo>
                <a:cubicBezTo>
                  <a:pt x="386" y="64"/>
                  <a:pt x="363" y="107"/>
                  <a:pt x="336" y="147"/>
                </a:cubicBezTo>
                <a:cubicBezTo>
                  <a:pt x="325" y="164"/>
                  <a:pt x="325" y="188"/>
                  <a:pt x="309" y="201"/>
                </a:cubicBezTo>
                <a:cubicBezTo>
                  <a:pt x="295" y="213"/>
                  <a:pt x="273" y="209"/>
                  <a:pt x="255" y="214"/>
                </a:cubicBezTo>
                <a:cubicBezTo>
                  <a:pt x="228" y="222"/>
                  <a:pt x="202" y="232"/>
                  <a:pt x="175" y="241"/>
                </a:cubicBezTo>
                <a:cubicBezTo>
                  <a:pt x="118" y="260"/>
                  <a:pt x="14" y="321"/>
                  <a:pt x="14" y="321"/>
                </a:cubicBezTo>
                <a:cubicBezTo>
                  <a:pt x="0" y="366"/>
                  <a:pt x="1" y="348"/>
                  <a:pt x="1" y="3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33"/>
          <p:cNvSpPr/>
          <p:nvPr/>
        </p:nvSpPr>
        <p:spPr>
          <a:xfrm>
            <a:off x="5018040" y="6208560"/>
            <a:ext cx="1042920" cy="617760"/>
          </a:xfrm>
          <a:custGeom>
            <a:avLst/>
            <a:gdLst/>
            <a:ahLst/>
            <a:rect l="l" t="t" r="r" b="b"/>
            <a:pathLst>
              <a:path w="657" h="389">
                <a:moveTo>
                  <a:pt x="0" y="0"/>
                </a:moveTo>
                <a:cubicBezTo>
                  <a:pt x="22" y="8"/>
                  <a:pt x="67" y="20"/>
                  <a:pt x="81" y="41"/>
                </a:cubicBezTo>
                <a:cubicBezTo>
                  <a:pt x="91" y="56"/>
                  <a:pt x="78" y="86"/>
                  <a:pt x="94" y="94"/>
                </a:cubicBezTo>
                <a:cubicBezTo>
                  <a:pt x="130" y="112"/>
                  <a:pt x="175" y="103"/>
                  <a:pt x="215" y="108"/>
                </a:cubicBezTo>
                <a:cubicBezTo>
                  <a:pt x="235" y="211"/>
                  <a:pt x="204" y="165"/>
                  <a:pt x="322" y="188"/>
                </a:cubicBezTo>
                <a:cubicBezTo>
                  <a:pt x="358" y="195"/>
                  <a:pt x="429" y="215"/>
                  <a:pt x="429" y="215"/>
                </a:cubicBezTo>
                <a:cubicBezTo>
                  <a:pt x="442" y="233"/>
                  <a:pt x="461" y="247"/>
                  <a:pt x="469" y="268"/>
                </a:cubicBezTo>
                <a:cubicBezTo>
                  <a:pt x="480" y="298"/>
                  <a:pt x="468" y="334"/>
                  <a:pt x="483" y="362"/>
                </a:cubicBezTo>
                <a:cubicBezTo>
                  <a:pt x="493" y="379"/>
                  <a:pt x="518" y="380"/>
                  <a:pt x="536" y="389"/>
                </a:cubicBezTo>
                <a:cubicBezTo>
                  <a:pt x="576" y="376"/>
                  <a:pt x="657" y="349"/>
                  <a:pt x="657" y="34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356400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Человек-ли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6"/>
          <p:cNvSpPr/>
          <p:nvPr/>
        </p:nvSpPr>
        <p:spPr>
          <a:xfrm rot="15655200">
            <a:off x="3420000" y="54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доб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 rot="19730400">
            <a:off x="4284720" y="83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у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4643280" y="198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чес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399564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справе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2916360" y="24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см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1908000" y="134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ол</a:t>
            </a: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юб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156360" y="54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и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5219640" y="76500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 rot="1725600">
            <a:off x="1331280" y="227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гуман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900000" y="342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интег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9"/>
          <p:cNvSpPr/>
          <p:nvPr/>
        </p:nvSpPr>
        <p:spPr>
          <a:xfrm rot="19969200">
            <a:off x="611640" y="45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демократ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0"/>
          <p:cNvSpPr/>
          <p:nvPr/>
        </p:nvSpPr>
        <p:spPr>
          <a:xfrm rot="20829000">
            <a:off x="3635280" y="3499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компьютер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1"/>
          <p:cNvSpPr/>
          <p:nvPr/>
        </p:nvSpPr>
        <p:spPr>
          <a:xfrm>
            <a:off x="3780000" y="4365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Повыш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ф</a:t>
            </a: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ундаменталь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и  образ</a:t>
            </a:r>
            <a:r>
              <a:rPr b="0" lang="ru-RU" sz="1800" spc="-1" strike="noStrike">
                <a:solidFill>
                  <a:srgbClr val="006e6b"/>
                </a:solidFill>
                <a:latin typeface="Arial"/>
              </a:rPr>
              <a:t>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2"/>
          <p:cNvSpPr/>
          <p:nvPr/>
        </p:nvSpPr>
        <p:spPr>
          <a:xfrm>
            <a:off x="6732720" y="3141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направления модернизации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53"/>
          <p:cNvSpPr/>
          <p:nvPr/>
        </p:nvSpPr>
        <p:spPr>
          <a:xfrm flipH="1">
            <a:off x="5724000" y="3789360"/>
            <a:ext cx="1008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498600" y="543564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еды   и   проблемы                           в      системе     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55"/>
          <p:cNvSpPr/>
          <p:nvPr/>
        </p:nvSpPr>
        <p:spPr>
          <a:xfrm>
            <a:off x="539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56"/>
          <p:cNvSpPr/>
          <p:nvPr/>
        </p:nvSpPr>
        <p:spPr>
          <a:xfrm>
            <a:off x="125892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57"/>
          <p:cNvSpPr/>
          <p:nvPr/>
        </p:nvSpPr>
        <p:spPr>
          <a:xfrm>
            <a:off x="601200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58"/>
          <p:cNvSpPr/>
          <p:nvPr/>
        </p:nvSpPr>
        <p:spPr>
          <a:xfrm>
            <a:off x="687708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59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0"/>
          <p:cNvSpPr/>
          <p:nvPr/>
        </p:nvSpPr>
        <p:spPr>
          <a:xfrm>
            <a:off x="8317080" y="5877000"/>
            <a:ext cx="0" cy="287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1"/>
          <p:cNvSpPr/>
          <p:nvPr/>
        </p:nvSpPr>
        <p:spPr>
          <a:xfrm>
            <a:off x="3419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2"/>
          <p:cNvSpPr/>
          <p:nvPr/>
        </p:nvSpPr>
        <p:spPr>
          <a:xfrm>
            <a:off x="270036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63"/>
          <p:cNvSpPr/>
          <p:nvPr/>
        </p:nvSpPr>
        <p:spPr>
          <a:xfrm>
            <a:off x="1979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64"/>
          <p:cNvSpPr/>
          <p:nvPr/>
        </p:nvSpPr>
        <p:spPr>
          <a:xfrm>
            <a:off x="5003640" y="5805360"/>
            <a:ext cx="0" cy="287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5"/>
          <p:cNvSpPr/>
          <p:nvPr/>
        </p:nvSpPr>
        <p:spPr>
          <a:xfrm>
            <a:off x="123840" y="594216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жение человеческого достоин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6"/>
          <p:cNvSpPr/>
          <p:nvPr/>
        </p:nvSpPr>
        <p:spPr>
          <a:xfrm>
            <a:off x="1774800" y="594216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 прав реб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7"/>
          <p:cNvSpPr/>
          <p:nvPr/>
        </p:nvSpPr>
        <p:spPr>
          <a:xfrm>
            <a:off x="3111480" y="61340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остаточное финанс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8"/>
          <p:cNvSpPr/>
          <p:nvPr/>
        </p:nvSpPr>
        <p:spPr>
          <a:xfrm>
            <a:off x="5076720" y="59421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здоровья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9"/>
          <p:cNvSpPr/>
          <p:nvPr/>
        </p:nvSpPr>
        <p:spPr>
          <a:xfrm>
            <a:off x="6465960" y="59421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трудных с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7740720" y="59421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зкое качество зн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82,9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468360" y="476280"/>
            <a:ext cx="424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слить   здра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4572000" y="1557360"/>
            <a:ext cx="39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ить   мудр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908000" y="4005360"/>
            <a:ext cx="4680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ить   реаль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2</cp:lastModifiedBy>
  <dcterms:modified xsi:type="dcterms:W3CDTF">2019-01-01T19:52:34Z</dcterms:modified>
  <cp:revision>21</cp:revision>
  <dc:subject/>
  <dc:title>PowerPoint Presentation</dc:title>
</cp:coreProperties>
</file>