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C88-4A4D-4088-9BAF-C5E0F79E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E53-FF5F-48B4-9244-20D4D4BA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0D6-E1CA-45A1-B62C-098BD13D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0BA-47EA-40B0-8856-2129A622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E4AD-A429-43CA-AA70-35C5EBE9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F832-E050-4E8B-A82D-BC0E1A5B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C062-23A3-4CFF-87E7-8F8461C4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7272-BEA4-4006-BD42-5BAA3B90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D218-435F-4636-8652-A66AED13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EE35-EED6-4CA6-84E8-CD7AD35F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55A7-CBA8-4E6D-B99A-F3B2B60A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D73-AFE8-4486-96F0-847336D8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703E-AE79-4F92-8511-C6A661D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12CA-34F7-4EE4-83AF-365678B2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C49E-72AF-4955-BCBE-0287C396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268D-B75E-4426-A9F8-1DA013DF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F85A-CB50-4ECA-A67B-5819D222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5868-49AB-4AE2-BA89-D1A57A54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68A1-C788-4779-9EB4-ED8C46EA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E8205-E3AD-4120-A48B-03026539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DDE3-00FA-4709-9E4C-D18DB879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7DDE-A1E6-4C33-973C-2B11228E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4FF-1943-4EE6-9225-3B536BF2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0160" y="247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7172-1F24-41DA-ACD2-69BED73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1904-6496-43D6-A967-6322088A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5478-717D-432B-8A75-EDEE8EE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FFCD-1B79-423A-913A-FD5C49A8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851D-3539-43D9-B19D-4B87BABF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5780-1170-4BF4-955A-08DC3977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370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998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62580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6F11-FC9F-4A1B-81FD-403E015E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B93F-BB55-4018-923D-526CDD2F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23AB-631F-48DD-9BD3-BD54FA18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5210-D5D2-4014-B375-014B745F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545-DEC3-44A6-9D48-21CA36F8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C523-5497-4109-A691-8B5CA634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86F97-E374-4E2F-B36C-633F3BEC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370160" y="247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EB2BB-F3E2-450C-B944-F041E30A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0F399-CDC5-4004-B0F6-9BD3C50D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617A-0028-4173-BC41-98CC4A74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1A70-2EDB-434A-ABA5-8F5B8856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AC83-3CC7-4B8D-AD35-F317D55F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D40ED-E65C-4AC2-89CC-A7D8C0F1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370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9816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625800" y="382572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FC16A-9897-4C01-AC74-A612678B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CCA-550D-4543-BC3A-B0984562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2A4-77FE-4693-96DA-E5FBBEA6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A0D-1544-4C26-9D42-3F13B2E0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5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BF1-B1EB-4A40-81C9-FE6D378B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572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757-7D91-4CB9-9810-CEB0E415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320" cy="6856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2600" y="590760"/>
              <a:ext cx="723600" cy="570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9525">
              <a:noFill/>
            </a:ln>
            <a:effectLst>
              <a:outerShdw algn="ctr" dir="2700000" dist="107423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66ff"/>
                </a:solidFill>
                <a:latin typeface="Times New Roman"/>
              </a:rPr>
              <a:t>Образец заголовка</a:t>
            </a:r>
            <a:endParaRPr b="0" lang="ru-RU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Образец текста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DD8B97-028E-40D5-A2E3-D7E9E724412B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320" cy="6856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2600" y="590760"/>
              <a:ext cx="723600" cy="570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9525">
              <a:noFill/>
            </a:ln>
            <a:effectLst>
              <a:outerShdw algn="ctr" dir="2700000" dist="107423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6699"/>
              </a:buClr>
              <a:buFont typeface="Symbol" charset="2"/>
              <a:buChar char=""/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Образец текста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36699"/>
              </a:buClr>
              <a:buFont typeface="Symbol" charset="2"/>
              <a:buChar char=""/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торой уровень</a:t>
            </a:r>
            <a:endParaRPr b="1" lang="ru-RU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6699"/>
              </a:buClr>
              <a:buFont typeface="Symbol" charset="2"/>
              <a:buChar char=""/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Третий уровень</a:t>
            </a:r>
            <a:endParaRPr b="1" lang="ru-RU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Symbol" charset="2"/>
              <a:buChar char="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Четвертый уровень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Symbol" charset="2"/>
              <a:buChar char="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ятый уровень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9C0AD2-F557-4A29-9E36-A7E918B0CE5D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93" name="Arc 3"/>
            <p:cNvSpPr/>
            <p:nvPr/>
          </p:nvSpPr>
          <p:spPr>
            <a:xfrm>
              <a:off x="468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>
              <a:off x="133344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24000" y="0"/>
              <a:ext cx="1066320" cy="6856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" name="AutoShape 6"/>
            <p:cNvSpPr/>
            <p:nvPr/>
          </p:nvSpPr>
          <p:spPr>
            <a:xfrm rot="6000000">
              <a:off x="552600" y="590760"/>
              <a:ext cx="723600" cy="570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9525">
              <a:noFill/>
            </a:ln>
            <a:effectLst>
              <a:outerShdw algn="ctr" dir="2700000" dist="107423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97" name="Group 2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98" name="Arc 3"/>
            <p:cNvSpPr/>
            <p:nvPr/>
          </p:nvSpPr>
          <p:spPr>
            <a:xfrm>
              <a:off x="468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9" name="Arc 4"/>
            <p:cNvSpPr/>
            <p:nvPr/>
          </p:nvSpPr>
          <p:spPr>
            <a:xfrm>
              <a:off x="133344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0" name="Rectangle 5"/>
            <p:cNvSpPr/>
            <p:nvPr/>
          </p:nvSpPr>
          <p:spPr>
            <a:xfrm>
              <a:off x="324000" y="0"/>
              <a:ext cx="1066320" cy="6856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1" name="AutoShape 6"/>
            <p:cNvSpPr/>
            <p:nvPr/>
          </p:nvSpPr>
          <p:spPr>
            <a:xfrm rot="6000000">
              <a:off x="552600" y="2610000"/>
              <a:ext cx="723600" cy="570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9525">
              <a:noFill/>
            </a:ln>
            <a:effectLst>
              <a:outerShdw algn="ctr" dir="2700000" dist="107423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286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57200" y="6400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200400" y="639936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723744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1A75BA-1947-4304-8F15-4BA6D3B2EFDC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ru-RU" sz="2400" spc="-1" strike="noStrike">
              <a:solidFill>
                <a:srgbClr val="33669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44" name="Arc 3"/>
            <p:cNvSpPr/>
            <p:nvPr/>
          </p:nvSpPr>
          <p:spPr>
            <a:xfrm>
              <a:off x="468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5" name="Arc 4"/>
            <p:cNvSpPr/>
            <p:nvPr/>
          </p:nvSpPr>
          <p:spPr>
            <a:xfrm>
              <a:off x="1333440" y="465120"/>
              <a:ext cx="399600" cy="64004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6400440"/>
                <a:gd name="textAreaBottom" fmla="*/ 6400800 h 640044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24000" y="0"/>
              <a:ext cx="1066320" cy="6856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 rot="6000000">
              <a:off x="552600" y="590760"/>
              <a:ext cx="723600" cy="570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9525">
              <a:noFill/>
            </a:ln>
            <a:effectLst>
              <a:outerShdw algn="ctr" dir="2700000" dist="107423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dt" idx="10"/>
          </p:nvPr>
        </p:nvSpPr>
        <p:spPr>
          <a:xfrm>
            <a:off x="457200" y="6400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11"/>
          </p:nvPr>
        </p:nvSpPr>
        <p:spPr>
          <a:xfrm>
            <a:off x="4267080" y="640080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12"/>
          </p:nvPr>
        </p:nvSpPr>
        <p:spPr>
          <a:xfrm>
            <a:off x="723744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9E08EA-A158-4FC7-A642-14703D2786F3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ru-RU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ru-RU" sz="2400" spc="-1" strike="noStrike">
              <a:solidFill>
                <a:srgbClr val="33669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ru-RU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22560" y="332640"/>
            <a:ext cx="7884000" cy="575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2525d9"/>
                </a:solidFill>
                <a:latin typeface="Times New Roman"/>
              </a:rPr>
              <a:t>Муниципальное дошкольное образовательное учреждение</a:t>
            </a:r>
            <a:endParaRPr b="1" lang="ru-RU" sz="16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2525d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2525d9"/>
                </a:solidFill>
                <a:latin typeface="Times New Roman"/>
              </a:rPr>
              <a:t>города Нижневартовска детский сад  №60 «Золушка»</a:t>
            </a:r>
            <a:endParaRPr b="1" lang="ru-RU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Текст 2"/>
          <p:cNvSpPr/>
          <p:nvPr/>
        </p:nvSpPr>
        <p:spPr>
          <a:xfrm>
            <a:off x="1403640" y="2061000"/>
            <a:ext cx="7488360" cy="280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2525d9"/>
                </a:solidFill>
                <a:latin typeface="Arial"/>
              </a:rPr>
              <a:t>Педагогический совет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4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богащение ролевой речи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через организацию сюжетно – ролевых иг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2525d9"/>
                </a:solidFill>
                <a:latin typeface="Arial"/>
              </a:rPr>
              <a:t>Старший воспитатель Ильина И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Текст 2"/>
          <p:cNvSpPr/>
          <p:nvPr/>
        </p:nvSpPr>
        <p:spPr>
          <a:xfrm>
            <a:off x="3348000" y="6426000"/>
            <a:ext cx="3312000" cy="47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2525d9"/>
                </a:solidFill>
                <a:latin typeface="Arial"/>
              </a:rPr>
              <a:t>Нижневартовск 20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" descr="http://jpg.st.klumba.ua/img/users/avatars/original/359/avatar-359064-20130719135802.jpg"/>
          <p:cNvPicPr/>
          <p:nvPr/>
        </p:nvPicPr>
        <p:blipFill>
          <a:blip r:embed="rId1"/>
          <a:stretch/>
        </p:blipFill>
        <p:spPr>
          <a:xfrm>
            <a:off x="6107400" y="5805360"/>
            <a:ext cx="2784600" cy="908280"/>
          </a:xfrm>
          <a:prstGeom prst="rect">
            <a:avLst/>
          </a:prstGeom>
          <a:ln w="9525">
            <a:noFill/>
          </a:ln>
        </p:spPr>
      </p:pic>
      <p:pic>
        <p:nvPicPr>
          <p:cNvPr id="193" name="Рисунок 3" descr="http://jpg.st.klumba.ua/img/users/avatars/original/359/avatar-359064-20130719135802.jpg"/>
          <p:cNvPicPr/>
          <p:nvPr/>
        </p:nvPicPr>
        <p:blipFill>
          <a:blip r:embed="rId2"/>
          <a:stretch/>
        </p:blipFill>
        <p:spPr>
          <a:xfrm>
            <a:off x="1619640" y="5085360"/>
            <a:ext cx="3119040" cy="1017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Мбдоу црр детский сад 8 &quot;Солнышко&quot;"/>
          <p:cNvPicPr/>
          <p:nvPr/>
        </p:nvPicPr>
        <p:blipFill>
          <a:blip r:embed="rId1"/>
          <a:stretch/>
        </p:blipFill>
        <p:spPr>
          <a:xfrm>
            <a:off x="0" y="0"/>
            <a:ext cx="9190800" cy="6741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772640"/>
            <a:ext cx="8610120" cy="5085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rmAutofit fontScale="57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Речь - одна из центральных, важнейших психических функций, «зеркало» протекания мыслительных операций, эмоциональных состояний, средство самореализации и вхождения в социум. 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Чем богаче и правильнее у ребёнка речь, тем легче ему высказывать свои мысли, тем шире его возможности, содержательнее и полноценнее отношения со сверстниками и взрослыми, тем активнее осуществляется его психическое развитие. 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Однако не все дети одинаково успешно овладевают связной речью, что нередко ведёт к нарушению самосознания и самооценки ребёнка, отклонению в развитии личности ребёнка, что приводит к замкнутости, неуверенности в себе, негативизму, мешают в полной мере раскрыть свои природные способности и интеллектуальные возможности. 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Поэтому необходимо позаботиться о своевременном формировании речи детей, о её правильности и чистоте, предупреждая и исправляя любые отклонения от общепринятых норм родного языка, и этому способствуют сюжетно-ролевые игры.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24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2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Сравни"/>
          <p:cNvPicPr/>
          <p:nvPr/>
        </p:nvPicPr>
        <p:blipFill>
          <a:blip r:embed="rId2"/>
          <a:stretch/>
        </p:blipFill>
        <p:spPr>
          <a:xfrm>
            <a:off x="14400" y="188640"/>
            <a:ext cx="9181440" cy="6857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132000" y="404640"/>
            <a:ext cx="5783040" cy="59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Без игры нет и не может быть полноценного умственного развития. Игра – это огромное светлое окно, через которое в духовный мир ребенка вливается живительный поток представлений, понятий. Игра – это иск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зажигающая огонек пытливости и любознательности”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В.А. 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Сравни"/>
          <p:cNvPicPr/>
          <p:nvPr/>
        </p:nvPicPr>
        <p:blipFill>
          <a:blip r:embed="rId2"/>
          <a:stretch/>
        </p:blipFill>
        <p:spPr>
          <a:xfrm>
            <a:off x="-37800" y="0"/>
            <a:ext cx="9181440" cy="68576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743200" y="380880"/>
            <a:ext cx="6171840" cy="6095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активизация мыслительной деятельности педагогов, совершенствование образовательного процесса, направленного на формирование диалогической  речи детей для дальнейшей эффектив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403560"/>
            <a:ext cx="784836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9f9f9"/>
            </a:solidFill>
            <a:miter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numCol="1" spcCol="0" lIns="92160" rIns="92160" tIns="46080" bIns="4608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ru-RU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3" name="Стрелка вправо с вырезом 4"/>
          <p:cNvSpPr/>
          <p:nvPr/>
        </p:nvSpPr>
        <p:spPr>
          <a:xfrm>
            <a:off x="179280" y="1268280"/>
            <a:ext cx="649080" cy="485280"/>
          </a:xfrm>
          <a:prstGeom prst="notched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4" name="Стрелка вправо с вырезом 5"/>
          <p:cNvSpPr/>
          <p:nvPr/>
        </p:nvSpPr>
        <p:spPr>
          <a:xfrm>
            <a:off x="179280" y="2924280"/>
            <a:ext cx="649080" cy="485280"/>
          </a:xfrm>
          <a:prstGeom prst="notched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5" name="Стрелка вправо с вырезом 6"/>
          <p:cNvSpPr/>
          <p:nvPr/>
        </p:nvSpPr>
        <p:spPr>
          <a:xfrm>
            <a:off x="324000" y="5589720"/>
            <a:ext cx="576000" cy="485280"/>
          </a:xfrm>
          <a:prstGeom prst="notched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6" name="Скругленный прямоугольник 7"/>
          <p:cNvSpPr/>
          <p:nvPr/>
        </p:nvSpPr>
        <p:spPr>
          <a:xfrm>
            <a:off x="1042920" y="5445000"/>
            <a:ext cx="7921440" cy="791640"/>
          </a:xfrm>
          <a:prstGeom prst="roundRect">
            <a:avLst>
              <a:gd name="adj" fmla="val 16667"/>
            </a:avLst>
          </a:prstGeom>
          <a:solidFill>
            <a:schemeClr val="accent2"/>
          </a:soli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форму активизации родителей в вопросах развития диалогической реч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8"/>
          <p:cNvSpPr/>
          <p:nvPr/>
        </p:nvSpPr>
        <p:spPr>
          <a:xfrm>
            <a:off x="971640" y="2637000"/>
            <a:ext cx="7992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35000">
                <a:srgbClr val="ffffff"/>
              </a:gs>
              <a:gs pos="100000">
                <a:srgbClr val="ffffff"/>
              </a:gs>
            </a:gsLst>
            <a:lin ang="16200000"/>
          </a:gra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школьный возраст - время активного становления читателя в ребенке, требующее внимания и кропотливой совместной работы ДОУ и семьи во взаимодействии с другими социальными института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9"/>
          <p:cNvSpPr/>
          <p:nvPr/>
        </p:nvSpPr>
        <p:spPr>
          <a:xfrm>
            <a:off x="900000" y="1125360"/>
            <a:ext cx="8064000" cy="863280"/>
          </a:xfrm>
          <a:prstGeom prst="roundRect">
            <a:avLst>
              <a:gd name="adj" fmla="val 21202"/>
            </a:avLst>
          </a:prstGeom>
          <a:solidFill>
            <a:schemeClr val="accent2"/>
          </a:soli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сить у педагогов осознание  значимости сюжетно-ролевой игры в развитии диалогической речи дошк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трелка вправо с вырезом 10"/>
          <p:cNvSpPr/>
          <p:nvPr/>
        </p:nvSpPr>
        <p:spPr>
          <a:xfrm>
            <a:off x="250920" y="4437000"/>
            <a:ext cx="649080" cy="485280"/>
          </a:xfrm>
          <a:prstGeom prst="notched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0" name="Скругленный прямоугольник 12"/>
          <p:cNvSpPr/>
          <p:nvPr/>
        </p:nvSpPr>
        <p:spPr>
          <a:xfrm>
            <a:off x="971640" y="4292640"/>
            <a:ext cx="799272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35000">
                <a:srgbClr val="ffffff"/>
              </a:gs>
              <a:gs pos="100000">
                <a:srgbClr val="ffffff"/>
              </a:gs>
            </a:gsLst>
            <a:lin ang="16200000"/>
          </a:gra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 поиск резерва развития интереса у детей к книге, процессу чтения, общению с литератур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8"/>
          <p:cNvSpPr/>
          <p:nvPr/>
        </p:nvSpPr>
        <p:spPr>
          <a:xfrm>
            <a:off x="971640" y="2637000"/>
            <a:ext cx="8064000" cy="936360"/>
          </a:xfrm>
          <a:prstGeom prst="roundRect">
            <a:avLst>
              <a:gd name="adj" fmla="val 16667"/>
            </a:avLst>
          </a:prstGeom>
          <a:solidFill>
            <a:schemeClr val="accent2"/>
          </a:soli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ировать имеющиеся у педагогов знания о методах, приёмах и средствах развития диалогической речи дошкольников и знания по  организации сюжетно-ролевой игры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12"/>
          <p:cNvSpPr/>
          <p:nvPr/>
        </p:nvSpPr>
        <p:spPr>
          <a:xfrm>
            <a:off x="971640" y="4293000"/>
            <a:ext cx="7992360" cy="791640"/>
          </a:xfrm>
          <a:prstGeom prst="roundRect">
            <a:avLst>
              <a:gd name="adj" fmla="val 16667"/>
            </a:avLst>
          </a:prstGeom>
          <a:solidFill>
            <a:schemeClr val="accent2"/>
          </a:soli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ть речевую среду для обогащения речевой активности воспитанников в процессе сюжетно-ролевых и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Объект 7"/>
          <p:cNvGraphicFramePr/>
          <p:nvPr/>
        </p:nvGraphicFramePr>
        <p:xfrm>
          <a:off x="251640" y="143640"/>
          <a:ext cx="8784720" cy="6810480"/>
        </p:xfrm>
        <a:graphic>
          <a:graphicData uri="http://schemas.openxmlformats.org/drawingml/2006/table">
            <a:tbl>
              <a:tblPr/>
              <a:tblGrid>
                <a:gridCol w="576000"/>
                <a:gridCol w="5040360"/>
                <a:gridCol w="2880000"/>
                <a:gridCol w="144000"/>
                <a:gridCol w="144000"/>
              </a:tblGrid>
              <a:tr h="25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Выступающ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 gridSpan="5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Теоретическая ча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ступительное с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Заведующ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</a:tr>
              <a:tr h="504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ормативно-правовое  сопровождение речевого развития и детской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1171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езультаты тематического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планирование воспитательно-образовательного процесс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анкетирование педагог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речь (диалогическая) дошкольников в процессе с/р игр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РППС (речевая)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Зам. зав. по ВМР, старший воспитатель,  учитель-лог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</a:tr>
              <a:tr h="26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сихолого-педагогическое сопровождение с – р иг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огащение диалогической речи до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читель – лог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</a:tr>
              <a:tr h="288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Технологические карты игрового (сюжетно-ролевого) опы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1409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азвивающая речевая среда возрастных групп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ранний (2-3г.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дошкольный возраст (3-4г.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дошкольный возраст (4-5л.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дошкольный возраст (5-6л.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-дошкольный возраст (6-7л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</a:tr>
              <a:tr h="255960">
                <a:tc gridSpan="5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актическая часть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(деловая игра «Педагогический экспресс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040">
                <a:tc row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 станция «Теоретиче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rowSpan="6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 станция «Педагогические ситуац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 станция «Интригующ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 станция «Практиче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 станция «Интеллектуальная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 станция «Ромашк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336699"/>
                      </a:solidFill>
                    </a:lnL>
                    <a:lnR w="12240">
                      <a:solidFill>
                        <a:srgbClr val="336699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ровни развития сюжетно-ролевой иг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336699"/>
                      </a:solidFill>
                    </a:lnT>
                    <a:lnB w="12240">
                      <a:solidFill>
                        <a:srgbClr val="336699"/>
                      </a:solidFill>
                    </a:lnB>
                    <a:solidFill>
                      <a:srgbClr val="eaf5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a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еш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Скругленный прямоугольник 1"/>
          <p:cNvSpPr/>
          <p:nvPr/>
        </p:nvSpPr>
        <p:spPr>
          <a:xfrm>
            <a:off x="250920" y="189000"/>
            <a:ext cx="8677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ffe7"/>
              </a:gs>
              <a:gs pos="100000">
                <a:srgbClr val="edfff6"/>
              </a:gs>
            </a:gsLst>
            <a:lin ang="16200000"/>
          </a:gradFill>
          <a:ln>
            <a:solidFill>
              <a:srgbClr val="84e3b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рмативно – правовое сопровожд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3"/>
          <p:cNvSpPr/>
          <p:nvPr/>
        </p:nvSpPr>
        <p:spPr>
          <a:xfrm>
            <a:off x="179280" y="1052640"/>
            <a:ext cx="8784720" cy="5471640"/>
          </a:xfrm>
          <a:prstGeom prst="roundRect">
            <a:avLst>
              <a:gd name="adj" fmla="val 16667"/>
            </a:avLst>
          </a:prstGeom>
          <a:gradFill rotWithShape="0">
            <a:gsLst>
              <a:gs pos="35000">
                <a:srgbClr val="ffffff"/>
              </a:gs>
              <a:gs pos="100000">
                <a:srgbClr val="ffffff"/>
              </a:gs>
            </a:gsLst>
            <a:lin ang="16200000"/>
          </a:gra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79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.64.  Федерального закона «Об образовании в Российской Федерации» от 29.12.2012г. №273-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.п.2.6.;2.7.;4.6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Российской Федерации «Об утверждении федерального государственного образовательного стандарта дошкольного образования» от 17.10.2013 г. №115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.3;п.8. Приказ Министерства труда и социальной защиты РФ (Об утверждении профессионального стандарта «Педагог (пед. деятельность в дошкольном, начальном общем, основном общем, среднем общем образовании) (воспитатель, учитель) (18.11.2013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№ 544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Users\Золушка№60\Desktop\фгос 12.png"/>
          <p:cNvPicPr/>
          <p:nvPr/>
        </p:nvPicPr>
        <p:blipFill>
          <a:blip r:embed="rId1"/>
          <a:stretch/>
        </p:blipFill>
        <p:spPr>
          <a:xfrm>
            <a:off x="6529680" y="5157360"/>
            <a:ext cx="2376000" cy="17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Мбдоу црр детский сад 8 &quot;Солнышко&quot;"/>
          <p:cNvPicPr/>
          <p:nvPr/>
        </p:nvPicPr>
        <p:blipFill>
          <a:blip r:embed="rId1"/>
          <a:stretch/>
        </p:blipFill>
        <p:spPr>
          <a:xfrm>
            <a:off x="-47160" y="-459360"/>
            <a:ext cx="9190800" cy="674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Содержимое 4"/>
          <p:cNvGraphicFramePr/>
          <p:nvPr/>
        </p:nvGraphicFramePr>
        <p:xfrm>
          <a:off x="0" y="1052640"/>
          <a:ext cx="9143640" cy="5688360"/>
        </p:xfrm>
        <a:graphic>
          <a:graphicData uri="http://schemas.openxmlformats.org/drawingml/2006/table">
            <a:tbl>
              <a:tblPr/>
              <a:tblGrid>
                <a:gridCol w="453240"/>
                <a:gridCol w="8690400"/>
              </a:tblGrid>
              <a:tr h="620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 время игры в «больницу» сразу несколько детей хотят выполнять роль врача, назревает ссор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52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бенок все время выполняет в играх ведущую рол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96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ша, Ваня и Кирилл решили играть в "Морское путешествие". "Чур, я капитан корабля", - говорит Ваня. "Ты вчера был капитаном. Ты каждый день капитан", - запротестовали Маша и Кирил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1181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ксим быстро взял себе игрушки для игры в "Космическое путешествие: и пульт управления, и командирский шлем, и планшет с картой, и "космическое питание", и "солнечные батареи" для перезарядки двигателей. "А нам с чем играть? Раз все взял, то сам и играй. Не будем с тобой играть", - сказали ребя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601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и младшей группы после игры не убрали игрушки. Не сделали это и после напоминания воспита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09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ьчик ходит по группе, берет то одну, то другую игрушку, но ни с одной не игра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597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ое детей бегают по участку детского сада, наталкиваются на своих товарищей. На замечания воспитателя отвечают, что они играют в "войну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52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и повторяют в игре "некрасивое" поведение взрослы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70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очка пришла в группу. Ребята приглашают её в игры. Но она от всех приглашений отказывает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Мбдоу црр детский сад 8 &quot;Солнышко&quot;"/>
          <p:cNvPicPr/>
          <p:nvPr/>
        </p:nvPicPr>
        <p:blipFill>
          <a:blip r:embed="rId1"/>
          <a:stretch/>
        </p:blipFill>
        <p:spPr>
          <a:xfrm>
            <a:off x="0" y="0"/>
            <a:ext cx="9190800" cy="674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4920" y="1772640"/>
            <a:ext cx="8610120" cy="5085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rmAutofit fontScale="85000"/>
          </a:bodyPr>
          <a:p>
            <a:pPr marL="31500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Обогащать речевую среду  в группах иллюстративными материалами, альбомами насмотренности.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Обогащать жизненный и игровой опыт детей,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ивный словарь (организационная работа).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Использовать технологические карты при организации сюжетно-ролевых игр.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влекать  родителей в процесс обогащения жизненного опыта детей. </a:t>
            </a: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arketing Plan">
  <a:themeElements>
    <a:clrScheme name="Marketing Plan 1">
      <a:dk1>
        <a:srgbClr val="336699"/>
      </a:dk1>
      <a:lt1>
        <a:srgbClr val="ffffff"/>
      </a:lt1>
      <a:dk2>
        <a:srgbClr val="0066ff"/>
      </a:dk2>
      <a:lt2>
        <a:srgbClr val="afb5d2"/>
      </a:lt2>
      <a:accent1>
        <a:srgbClr val="66ccff"/>
      </a:accent1>
      <a:accent2>
        <a:srgbClr val="99ffcc"/>
      </a:accent2>
      <a:accent3>
        <a:srgbClr val="ffffff"/>
      </a:accent3>
      <a:accent4>
        <a:srgbClr val="2a5682"/>
      </a:accent4>
      <a:accent5>
        <a:srgbClr val="b8e2ff"/>
      </a:accent5>
      <a:accent6>
        <a:srgbClr val="8ae7b9"/>
      </a:accent6>
      <a:hlink>
        <a:srgbClr val="ff99ff"/>
      </a:hlink>
      <a:folHlink>
        <a:srgbClr val="cc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rketing Plan">
  <a:themeElements>
    <a:clrScheme name="Marketing Plan 1">
      <a:dk1>
        <a:srgbClr val="336699"/>
      </a:dk1>
      <a:lt1>
        <a:srgbClr val="ffffff"/>
      </a:lt1>
      <a:dk2>
        <a:srgbClr val="0066ff"/>
      </a:dk2>
      <a:lt2>
        <a:srgbClr val="afb5d2"/>
      </a:lt2>
      <a:accent1>
        <a:srgbClr val="66ccff"/>
      </a:accent1>
      <a:accent2>
        <a:srgbClr val="99ffcc"/>
      </a:accent2>
      <a:accent3>
        <a:srgbClr val="ffffff"/>
      </a:accent3>
      <a:accent4>
        <a:srgbClr val="2a5682"/>
      </a:accent4>
      <a:accent5>
        <a:srgbClr val="b8e2ff"/>
      </a:accent5>
      <a:accent6>
        <a:srgbClr val="8ae7b9"/>
      </a:accent6>
      <a:hlink>
        <a:srgbClr val="ff99ff"/>
      </a:hlink>
      <a:folHlink>
        <a:srgbClr val="cc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rketing Plan">
  <a:themeElements>
    <a:clrScheme name="Marketing Plan 1">
      <a:dk1>
        <a:srgbClr val="336699"/>
      </a:dk1>
      <a:lt1>
        <a:srgbClr val="ffffff"/>
      </a:lt1>
      <a:dk2>
        <a:srgbClr val="0066ff"/>
      </a:dk2>
      <a:lt2>
        <a:srgbClr val="afb5d2"/>
      </a:lt2>
      <a:accent1>
        <a:srgbClr val="66ccff"/>
      </a:accent1>
      <a:accent2>
        <a:srgbClr val="99ffcc"/>
      </a:accent2>
      <a:accent3>
        <a:srgbClr val="ffffff"/>
      </a:accent3>
      <a:accent4>
        <a:srgbClr val="2a5682"/>
      </a:accent4>
      <a:accent5>
        <a:srgbClr val="b8e2ff"/>
      </a:accent5>
      <a:accent6>
        <a:srgbClr val="8ae7b9"/>
      </a:accent6>
      <a:hlink>
        <a:srgbClr val="ff99ff"/>
      </a:hlink>
      <a:folHlink>
        <a:srgbClr val="cc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arketing Plan">
  <a:themeElements>
    <a:clrScheme name="Marketing Plan 1">
      <a:dk1>
        <a:srgbClr val="336699"/>
      </a:dk1>
      <a:lt1>
        <a:srgbClr val="ffffff"/>
      </a:lt1>
      <a:dk2>
        <a:srgbClr val="0066ff"/>
      </a:dk2>
      <a:lt2>
        <a:srgbClr val="afb5d2"/>
      </a:lt2>
      <a:accent1>
        <a:srgbClr val="66ccff"/>
      </a:accent1>
      <a:accent2>
        <a:srgbClr val="99ffcc"/>
      </a:accent2>
      <a:accent3>
        <a:srgbClr val="ffffff"/>
      </a:accent3>
      <a:accent4>
        <a:srgbClr val="2a5682"/>
      </a:accent4>
      <a:accent5>
        <a:srgbClr val="b8e2ff"/>
      </a:accent5>
      <a:accent6>
        <a:srgbClr val="8ae7b9"/>
      </a:accent6>
      <a:hlink>
        <a:srgbClr val="ff99ff"/>
      </a:hlink>
      <a:folHlink>
        <a:srgbClr val="cc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arketing Plan</Template>
  <TotalTime>810</TotalTime>
  <Application>LibreOffice/7.4.7.2$Linux_X86_64 LibreOffice_project/40$Build-2</Application>
  <AppVersion>15.0000</AppVersion>
  <Words>864</Words>
  <Paragraphs>128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2:05:19Z</dcterms:created>
  <dc:creator>Admin</dc:creator>
  <dc:description/>
  <dc:language>en-US</dc:language>
  <cp:lastModifiedBy>user</cp:lastModifiedBy>
  <dcterms:modified xsi:type="dcterms:W3CDTF">2017-04-18T15:31:38Z</dcterms:modified>
  <cp:revision>121</cp:revision>
  <dc:subject/>
  <dc:title>Психолого-педагогическое сопровождение личностного развития ребенка  в рамках внедрения  Федерального государственного образовательного стандарта  дошкольного образ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