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D64-1E4D-4410-A436-3CC33727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57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6FA-9F14-42AD-B143-A44A935F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EFD-E190-49FF-86F5-32C02001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266-8A64-45E3-8B8C-7AAF327D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9ACE-9D57-4743-9D9D-6F5E9A08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C808-8AD6-41FE-B5DA-28D31B80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2D67-6AF6-4DD8-93D7-7E2980A9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B584-78BF-4BD1-806D-749D6272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9C68-1E81-40DD-9504-BA8E7146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BD19-CB79-4140-B486-7DDDB9F2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2C89-BB3D-436A-958B-7B2B861E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8B8-49EC-4CCC-9FB0-DA5D43B3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8939-1470-47E8-B8C5-8570C1ED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96B5-C160-400B-A508-D084CBB1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57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17D0-4732-4982-B11C-97D1FC32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563F-009D-4127-A5DA-732B9C65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2128-568D-4B12-9F48-61BB3E81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859F-C5D6-4E8A-B689-6CA59B3D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EE4F8-533A-4734-878B-5369E4B7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BC74-EFAA-4BC0-B513-C866CA94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C5AB5-B386-41D0-9371-DBD3E47E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DA839-74C6-40A0-93BE-80A377BD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0B9-7FD2-4DC1-86A4-FC31EDBB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0160" y="247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C211-B16D-4AB7-A78E-78BD4D75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C39ED-6793-4BF8-B51A-782D62C1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5284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A62B3-ADD9-4D6F-B097-648171B1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641DE-708A-438F-A36E-8CA8C417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370160" y="38257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3DBD-C251-48C6-AED3-C976F347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35284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D6AA7-C781-40E5-9A94-48BD9B90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37016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99816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62580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8289C-3527-4FF1-A698-34264E5A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2FF88-E92E-4C8F-89BE-70D9A20E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39179-1AD7-421A-AD4F-44235A13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F595-4937-417D-AAAD-1306C392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E36-7070-4ED3-8AD6-95D9C20A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A1470-6E8D-4B93-894A-3448CA66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F8BC3-8F20-466C-B813-07D2158E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370160" y="247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6966D-8460-4C14-8AA9-2BE20E5B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ACF32-EDEF-4181-9E54-399759F5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5284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EE2B6-E337-4496-BBC8-9157372B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B115F-8B87-4A5A-9554-5B1EAE0C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370160" y="38257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E095D-A0BE-4E6A-96DB-81FA32DB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35284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3BE26-04E6-412C-988D-17BA3D64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37016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9816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62580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0AC41-E64C-4F76-85A0-26A6B1F3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C5F-DBEC-4A21-AEA6-0E4E7E72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C24-C4FD-4D0F-A95C-54AAA845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2C4-8247-490D-98BB-2DBFB9F5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125-0F07-44B9-8C39-4CBB24A3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B92-F975-4F7F-89B0-8D46AF56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320" cy="6856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2600" y="590760"/>
              <a:ext cx="723600" cy="5709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9525">
              <a:noFill/>
            </a:ln>
            <a:effectLst>
              <a:outerShdw algn="ctr" dir="2700000" dist="107423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66ff"/>
                </a:solidFill>
                <a:latin typeface="Times New Roman"/>
              </a:rPr>
              <a:t>Образец заголовка</a:t>
            </a:r>
            <a:endParaRPr b="0" lang="ru-RU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Образец текста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1531B3-02DC-4DC2-85E9-3E1F8D4DA514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320" cy="6856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2600" y="590760"/>
              <a:ext cx="723600" cy="5709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9525">
              <a:noFill/>
            </a:ln>
            <a:effectLst>
              <a:outerShdw algn="ctr" dir="2700000" dist="107423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Образец заголовка</a:t>
            </a: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6699"/>
              </a:buClr>
              <a:buFont typeface="Symbol" charset="2"/>
              <a:buChar char=""/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Образец текста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336699"/>
              </a:buClr>
              <a:buFont typeface="Symbol" charset="2"/>
              <a:buChar char=""/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торой уровень</a:t>
            </a:r>
            <a:endParaRPr b="1" lang="ru-RU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6699"/>
              </a:buClr>
              <a:buFont typeface="Symbol" charset="2"/>
              <a:buChar char=""/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Третий уровень</a:t>
            </a:r>
            <a:endParaRPr b="1" lang="ru-RU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Symbol" charset="2"/>
              <a:buChar char="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Четвертый уровень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Symbol" charset="2"/>
              <a:buChar char="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ятый уровень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07D3DD-2239-44E1-AC9C-A62E8AA065DB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93" name="Arc 3"/>
            <p:cNvSpPr/>
            <p:nvPr/>
          </p:nvSpPr>
          <p:spPr>
            <a:xfrm>
              <a:off x="468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4" name="Arc 4"/>
            <p:cNvSpPr/>
            <p:nvPr/>
          </p:nvSpPr>
          <p:spPr>
            <a:xfrm>
              <a:off x="133344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324000" y="0"/>
              <a:ext cx="1066320" cy="6856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" name="AutoShape 6"/>
            <p:cNvSpPr/>
            <p:nvPr/>
          </p:nvSpPr>
          <p:spPr>
            <a:xfrm rot="6000000">
              <a:off x="552600" y="590760"/>
              <a:ext cx="723600" cy="5709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9525">
              <a:noFill/>
            </a:ln>
            <a:effectLst>
              <a:outerShdw algn="ctr" dir="2700000" dist="107423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97" name="Group 2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98" name="Arc 3"/>
            <p:cNvSpPr/>
            <p:nvPr/>
          </p:nvSpPr>
          <p:spPr>
            <a:xfrm>
              <a:off x="468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9" name="Arc 4"/>
            <p:cNvSpPr/>
            <p:nvPr/>
          </p:nvSpPr>
          <p:spPr>
            <a:xfrm>
              <a:off x="133344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00" name="Rectangle 5"/>
            <p:cNvSpPr/>
            <p:nvPr/>
          </p:nvSpPr>
          <p:spPr>
            <a:xfrm>
              <a:off x="324000" y="0"/>
              <a:ext cx="1066320" cy="6856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01" name="AutoShape 6"/>
            <p:cNvSpPr/>
            <p:nvPr/>
          </p:nvSpPr>
          <p:spPr>
            <a:xfrm rot="6000000">
              <a:off x="552600" y="2610000"/>
              <a:ext cx="723600" cy="5709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9525">
              <a:noFill/>
            </a:ln>
            <a:effectLst>
              <a:outerShdw algn="ctr" dir="2700000" dist="107423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2860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Образец заголовка</a:t>
            </a: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457200" y="6400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200400" y="639936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723744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2D2F63-EB8C-4D00-9E58-82CFC117AD59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ru-RU" sz="2400" spc="-1" strike="noStrike">
              <a:solidFill>
                <a:srgbClr val="33669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44" name="Arc 3"/>
            <p:cNvSpPr/>
            <p:nvPr/>
          </p:nvSpPr>
          <p:spPr>
            <a:xfrm>
              <a:off x="468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5" name="Arc 4"/>
            <p:cNvSpPr/>
            <p:nvPr/>
          </p:nvSpPr>
          <p:spPr>
            <a:xfrm>
              <a:off x="133344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324000" y="0"/>
              <a:ext cx="1066320" cy="6856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 rot="6000000">
              <a:off x="552600" y="590760"/>
              <a:ext cx="723600" cy="5709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9525">
              <a:noFill/>
            </a:ln>
            <a:effectLst>
              <a:outerShdw algn="ctr" dir="2700000" dist="107423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dt" idx="10"/>
          </p:nvPr>
        </p:nvSpPr>
        <p:spPr>
          <a:xfrm>
            <a:off x="457200" y="6400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ftr" idx="11"/>
          </p:nvPr>
        </p:nvSpPr>
        <p:spPr>
          <a:xfrm>
            <a:off x="4267080" y="640080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12"/>
          </p:nvPr>
        </p:nvSpPr>
        <p:spPr>
          <a:xfrm>
            <a:off x="723744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C2C821-86BC-4013-B283-F41F08F86F29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ru-RU" sz="2400" spc="-1" strike="noStrike">
              <a:solidFill>
                <a:srgbClr val="33669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22560" y="332640"/>
            <a:ext cx="7884000" cy="575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2525d9"/>
                </a:solidFill>
                <a:latin typeface="Times New Roman"/>
              </a:rPr>
              <a:t>Муниципальное дошкольное образовательное учреждение</a:t>
            </a:r>
            <a:endParaRPr b="1" lang="ru-RU" sz="16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2525d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2525d9"/>
                </a:solidFill>
                <a:latin typeface="Times New Roman"/>
              </a:rPr>
              <a:t>города Нижневартовска детский сад  №60 «Золушка»</a:t>
            </a:r>
            <a:endParaRPr b="1" lang="ru-RU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Текст 2"/>
          <p:cNvSpPr/>
          <p:nvPr/>
        </p:nvSpPr>
        <p:spPr>
          <a:xfrm>
            <a:off x="1403640" y="2061000"/>
            <a:ext cx="7488360" cy="280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2525d9"/>
                </a:solidFill>
                <a:latin typeface="Arial"/>
              </a:rPr>
              <a:t>Педагогический совет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4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Обогащение ролевой речи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через организацию сюжетно – ролевых иг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2525d9"/>
                </a:solidFill>
                <a:latin typeface="Arial"/>
              </a:rPr>
              <a:t>Старший воспитатель Ильина И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Текст 2"/>
          <p:cNvSpPr/>
          <p:nvPr/>
        </p:nvSpPr>
        <p:spPr>
          <a:xfrm>
            <a:off x="3348000" y="6426000"/>
            <a:ext cx="3312000" cy="47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rgbClr val="2525d9"/>
                </a:solidFill>
                <a:latin typeface="Arial"/>
              </a:rPr>
              <a:t>Нижневартовск 201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" descr="http://jpg.st.klumba.ua/img/users/avatars/original/359/avatar-359064-20130719135802.jpg"/>
          <p:cNvPicPr/>
          <p:nvPr/>
        </p:nvPicPr>
        <p:blipFill>
          <a:blip r:embed="rId1"/>
          <a:stretch/>
        </p:blipFill>
        <p:spPr>
          <a:xfrm>
            <a:off x="6107400" y="5805360"/>
            <a:ext cx="2784600" cy="908280"/>
          </a:xfrm>
          <a:prstGeom prst="rect">
            <a:avLst/>
          </a:prstGeom>
          <a:ln w="9525">
            <a:noFill/>
          </a:ln>
        </p:spPr>
      </p:pic>
      <p:pic>
        <p:nvPicPr>
          <p:cNvPr id="193" name="Рисунок 3" descr="http://jpg.st.klumba.ua/img/users/avatars/original/359/avatar-359064-20130719135802.jpg"/>
          <p:cNvPicPr/>
          <p:nvPr/>
        </p:nvPicPr>
        <p:blipFill>
          <a:blip r:embed="rId2"/>
          <a:stretch/>
        </p:blipFill>
        <p:spPr>
          <a:xfrm>
            <a:off x="1619640" y="5085360"/>
            <a:ext cx="3119040" cy="1017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Мбдоу црр детский сад 8 &quot;Солнышко&quot;"/>
          <p:cNvPicPr/>
          <p:nvPr/>
        </p:nvPicPr>
        <p:blipFill>
          <a:blip r:embed="rId1"/>
          <a:stretch/>
        </p:blipFill>
        <p:spPr>
          <a:xfrm>
            <a:off x="0" y="0"/>
            <a:ext cx="9190800" cy="6741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772640"/>
            <a:ext cx="8610120" cy="5085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rmAutofit fontScale="57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Речь - одна из центральных, важнейших психических функций, «зеркало» протекания мыслительных операций, эмоциональных состояний, средство самореализации и вхождения в социум. 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Чем богаче и правильнее у ребёнка речь, тем легче ему высказывать свои мысли, тем шире его возможности, содержательнее и полноценнее отношения со сверстниками и взрослыми, тем активнее осуществляется его психическое развитие. 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Однако не все дети одинаково успешно овладевают связной речью, что нередко ведёт к нарушению самосознания и самооценки ребёнка, отклонению в развитии личности ребёнка, что приводит к замкнутости, неуверенности в себе, негативизму, мешают в полной мере раскрыть свои природные способности и интеллектуальные возможности. 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Поэтому необходимо позаботиться о своевременном формировании речи детей, о её правильности и чистоте, предупреждая и исправляя любые отклонения от общепринятых норм родного языка, и этому способствуют сюжетно-ролевые игры.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marL="3124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marL="312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Сравни"/>
          <p:cNvPicPr/>
          <p:nvPr/>
        </p:nvPicPr>
        <p:blipFill>
          <a:blip r:embed="rId2"/>
          <a:stretch/>
        </p:blipFill>
        <p:spPr>
          <a:xfrm>
            <a:off x="14400" y="188640"/>
            <a:ext cx="9181440" cy="6857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132000" y="404640"/>
            <a:ext cx="5783040" cy="59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Без игры нет и не может быть полноценного умственного развития. Игра – это огромное светлое окно, через которое в духовный мир ребенка вливается живительный поток представлений, понятий. Игра – это иск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зажигающая огонек пытливости и любознательности”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336699"/>
                </a:solidFill>
                <a:latin typeface="Arial"/>
              </a:rPr>
              <a:t>В.А. 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Сравни"/>
          <p:cNvPicPr/>
          <p:nvPr/>
        </p:nvPicPr>
        <p:blipFill>
          <a:blip r:embed="rId2"/>
          <a:stretch/>
        </p:blipFill>
        <p:spPr>
          <a:xfrm>
            <a:off x="-37800" y="0"/>
            <a:ext cx="9181440" cy="68576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743200" y="380880"/>
            <a:ext cx="6171840" cy="6095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активизация мыслительной деятельности педагогов, совершенствование образовательного процесса, направленного на формирование диалогической  речи детей для дальнейшей эффективн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403560"/>
            <a:ext cx="784836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9f9f9"/>
            </a:solidFill>
            <a:miter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numCol="1" spcCol="0" lIns="92160" rIns="92160" tIns="46080" bIns="4608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ru-RU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3" name="Стрелка вправо с вырезом 4"/>
          <p:cNvSpPr/>
          <p:nvPr/>
        </p:nvSpPr>
        <p:spPr>
          <a:xfrm>
            <a:off x="179280" y="1268280"/>
            <a:ext cx="649080" cy="485280"/>
          </a:xfrm>
          <a:prstGeom prst="notched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4" name="Стрелка вправо с вырезом 5"/>
          <p:cNvSpPr/>
          <p:nvPr/>
        </p:nvSpPr>
        <p:spPr>
          <a:xfrm>
            <a:off x="179280" y="2924280"/>
            <a:ext cx="649080" cy="485280"/>
          </a:xfrm>
          <a:prstGeom prst="notched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5" name="Стрелка вправо с вырезом 6"/>
          <p:cNvSpPr/>
          <p:nvPr/>
        </p:nvSpPr>
        <p:spPr>
          <a:xfrm>
            <a:off x="324000" y="5589720"/>
            <a:ext cx="576000" cy="485280"/>
          </a:xfrm>
          <a:prstGeom prst="notched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6" name="Скругленный прямоугольник 7"/>
          <p:cNvSpPr/>
          <p:nvPr/>
        </p:nvSpPr>
        <p:spPr>
          <a:xfrm>
            <a:off x="1042920" y="5445000"/>
            <a:ext cx="7921440" cy="791640"/>
          </a:xfrm>
          <a:prstGeom prst="roundRect">
            <a:avLst>
              <a:gd name="adj" fmla="val 16667"/>
            </a:avLst>
          </a:prstGeom>
          <a:solidFill>
            <a:schemeClr val="accent2"/>
          </a:soli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форму активизации родителей в вопросах развития диалогической реч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8"/>
          <p:cNvSpPr/>
          <p:nvPr/>
        </p:nvSpPr>
        <p:spPr>
          <a:xfrm>
            <a:off x="971640" y="2637000"/>
            <a:ext cx="7992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35000">
                <a:srgbClr val="ffffff"/>
              </a:gs>
              <a:gs pos="100000">
                <a:srgbClr val="ffffff"/>
              </a:gs>
            </a:gsLst>
            <a:lin ang="16200000"/>
          </a:gra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школьный возраст - время активного становления читателя в ребенке, требующее внимания и кропотливой совместной работы ДОУ и семьи во взаимодействии с другими социальными институтам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9"/>
          <p:cNvSpPr/>
          <p:nvPr/>
        </p:nvSpPr>
        <p:spPr>
          <a:xfrm>
            <a:off x="900000" y="1125360"/>
            <a:ext cx="8064000" cy="863280"/>
          </a:xfrm>
          <a:prstGeom prst="roundRect">
            <a:avLst>
              <a:gd name="adj" fmla="val 21202"/>
            </a:avLst>
          </a:prstGeom>
          <a:solidFill>
            <a:schemeClr val="accent2"/>
          </a:soli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сить у педагогов осознание  значимости сюжетно-ролевой игры в развитии диалогической речи дошколь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трелка вправо с вырезом 10"/>
          <p:cNvSpPr/>
          <p:nvPr/>
        </p:nvSpPr>
        <p:spPr>
          <a:xfrm>
            <a:off x="250920" y="4437000"/>
            <a:ext cx="649080" cy="485280"/>
          </a:xfrm>
          <a:prstGeom prst="notched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0" name="Скругленный прямоугольник 12"/>
          <p:cNvSpPr/>
          <p:nvPr/>
        </p:nvSpPr>
        <p:spPr>
          <a:xfrm>
            <a:off x="971640" y="4292640"/>
            <a:ext cx="7992720" cy="791640"/>
          </a:xfrm>
          <a:prstGeom prst="roundRect">
            <a:avLst>
              <a:gd name="adj" fmla="val 16667"/>
            </a:avLst>
          </a:prstGeom>
          <a:gradFill rotWithShape="0">
            <a:gsLst>
              <a:gs pos="35000">
                <a:srgbClr val="ffffff"/>
              </a:gs>
              <a:gs pos="100000">
                <a:srgbClr val="ffffff"/>
              </a:gs>
            </a:gsLst>
            <a:lin ang="16200000"/>
          </a:gra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 поиск резерва развития интереса у детей к книге, процессу чтения, общению с литератур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8"/>
          <p:cNvSpPr/>
          <p:nvPr/>
        </p:nvSpPr>
        <p:spPr>
          <a:xfrm>
            <a:off x="971640" y="2637000"/>
            <a:ext cx="8064000" cy="936360"/>
          </a:xfrm>
          <a:prstGeom prst="roundRect">
            <a:avLst>
              <a:gd name="adj" fmla="val 16667"/>
            </a:avLst>
          </a:prstGeom>
          <a:solidFill>
            <a:schemeClr val="accent2"/>
          </a:soli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уализировать имеющиеся у педагогов знания о методах, приёмах и средствах развития диалогической речи дошкольников и знания по  организации сюжетно-ролевой игры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12"/>
          <p:cNvSpPr/>
          <p:nvPr/>
        </p:nvSpPr>
        <p:spPr>
          <a:xfrm>
            <a:off x="971640" y="4293000"/>
            <a:ext cx="7992360" cy="791640"/>
          </a:xfrm>
          <a:prstGeom prst="roundRect">
            <a:avLst>
              <a:gd name="adj" fmla="val 16667"/>
            </a:avLst>
          </a:prstGeom>
          <a:solidFill>
            <a:schemeClr val="accent2"/>
          </a:soli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ть речевую среду для обогащения речевой активности воспитанников в процессе сюжетно-ролевых и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Объект 7"/>
          <p:cNvGraphicFramePr/>
          <p:nvPr/>
        </p:nvGraphicFramePr>
        <p:xfrm>
          <a:off x="251640" y="143640"/>
          <a:ext cx="8784720" cy="6810480"/>
        </p:xfrm>
        <a:graphic>
          <a:graphicData uri="http://schemas.openxmlformats.org/drawingml/2006/table">
            <a:tbl>
              <a:tblPr/>
              <a:tblGrid>
                <a:gridCol w="576000"/>
                <a:gridCol w="5040360"/>
                <a:gridCol w="2880000"/>
                <a:gridCol w="144000"/>
                <a:gridCol w="144000"/>
              </a:tblGrid>
              <a:tr h="25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Выступающ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 gridSpan="5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Теоретическая ча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ступительное сл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Заведующ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</a:tr>
              <a:tr h="504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ормативно-правовое  сопровождение речевого развития и детской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1171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Результаты тематического контрол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планирование воспитательно-образовательного процесс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анкетирование педагог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речь (диалогическая) дошкольников в процессе с/р игр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РППС (речевая)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Зам. зав. по ВМР, старший воспитатель,  учитель-логоп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</a:tr>
              <a:tr h="269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сихолого-педагогическое сопровождение с – р иг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огащение диалогической речи до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читель – логоп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</a:tr>
              <a:tr h="288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Технологические карты игрового (сюжетно-ролевого) опы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1409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Развивающая речевая среда возрастных групп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ранний (2-3г.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дошкольный возраст (3-4г.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дошкольный возраст (4-5л.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дошкольный возраст (5-6л.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дошкольный возраст (6-7л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</a:tr>
              <a:tr h="255960">
                <a:tc gridSpan="5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актическая часть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(деловая игра «Педагогический экспресс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d3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 row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 станция «Теоретиче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 rowSpan="6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 станция «Педагогические ситуац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d3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 станция «Интригующ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 станция «Практиче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d3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 станция «Интеллектуальная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 станция «Ромашк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d3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ровни развития сюжетно-ролевой иг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Реш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Скругленный прямоугольник 1"/>
          <p:cNvSpPr/>
          <p:nvPr/>
        </p:nvSpPr>
        <p:spPr>
          <a:xfrm>
            <a:off x="250920" y="189000"/>
            <a:ext cx="86770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4ffe7"/>
              </a:gs>
              <a:gs pos="100000">
                <a:srgbClr val="edfff6"/>
              </a:gs>
            </a:gsLst>
            <a:lin ang="16200000"/>
          </a:gradFill>
          <a:ln>
            <a:solidFill>
              <a:srgbClr val="84e3b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рмативно – правовое сопровожд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3"/>
          <p:cNvSpPr/>
          <p:nvPr/>
        </p:nvSpPr>
        <p:spPr>
          <a:xfrm>
            <a:off x="179280" y="1052640"/>
            <a:ext cx="8784720" cy="5471640"/>
          </a:xfrm>
          <a:prstGeom prst="roundRect">
            <a:avLst>
              <a:gd name="adj" fmla="val 16667"/>
            </a:avLst>
          </a:prstGeom>
          <a:gradFill rotWithShape="0">
            <a:gsLst>
              <a:gs pos="35000">
                <a:srgbClr val="ffffff"/>
              </a:gs>
              <a:gs pos="100000">
                <a:srgbClr val="ffffff"/>
              </a:gs>
            </a:gsLst>
            <a:lin ang="16200000"/>
          </a:gra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79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.64.  Федерального закона «Об образовании в Российской Федерации» от 29.12.2012г. №273-Ф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п.п.2.6.;2.7.;4.6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Российской Федерации «Об утверждении федерального государственного образовательного стандарта дошкольного образования» от 17.10.2013 г. №115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п.3;п.8. Приказ Министерства труда и социальной защиты РФ (Об утверждении профессионального стандарта «Педагог (пед. деятельность в дошкольном, начальном общем, основном общем, среднем общем образовании) (воспитатель, учитель) (18.11.2013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№ 544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Users\Золушка№60\Desktop\фгос 12.png"/>
          <p:cNvPicPr/>
          <p:nvPr/>
        </p:nvPicPr>
        <p:blipFill>
          <a:blip r:embed="rId1"/>
          <a:stretch/>
        </p:blipFill>
        <p:spPr>
          <a:xfrm>
            <a:off x="6529680" y="5157360"/>
            <a:ext cx="2376000" cy="17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Мбдоу црр детский сад 8 &quot;Солнышко&quot;"/>
          <p:cNvPicPr/>
          <p:nvPr/>
        </p:nvPicPr>
        <p:blipFill>
          <a:blip r:embed="rId1"/>
          <a:stretch/>
        </p:blipFill>
        <p:spPr>
          <a:xfrm>
            <a:off x="-47160" y="-459360"/>
            <a:ext cx="9190800" cy="674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Содержимое 4"/>
          <p:cNvGraphicFramePr/>
          <p:nvPr/>
        </p:nvGraphicFramePr>
        <p:xfrm>
          <a:off x="0" y="1052640"/>
          <a:ext cx="9143640" cy="5688360"/>
        </p:xfrm>
        <a:graphic>
          <a:graphicData uri="http://schemas.openxmlformats.org/drawingml/2006/table">
            <a:tbl>
              <a:tblPr/>
              <a:tblGrid>
                <a:gridCol w="453240"/>
                <a:gridCol w="8690400"/>
              </a:tblGrid>
              <a:tr h="620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 время игры в «больницу» сразу несколько детей хотят выполнять роль врача, назревает ссор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352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бенок все время выполняет в играх ведущую рол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96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ша, Ваня и Кирилл решили играть в "Морское путешествие". "Чур, я капитан корабля", - говорит Ваня. "Ты вчера был капитаном. Ты каждый день капитан", - запротестовали Маша и Кирил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1181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ксим быстро взял себе игрушки для игры в "Космическое путешествие: и пульт управления, и командирский шлем, и планшет с картой, и "космическое питание", и "солнечные батареи" для перезарядки двигателей. "А нам с чем играть? Раз все взял, то сам и играй. Не будем с тобой играть", - сказали ребя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601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и младшей группы после игры не убрали игрушки. Не сделали это и после напоминания воспитате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309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ьчик ходит по группе, берет то одну, то другую игрушку, но ни с одной не игра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597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ое детей бегают по участку детского сада, наталкиваются на своих товарищей. На замечания воспитателя отвечают, что они играют в "войну"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352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и повторяют в игре "некрасивое" поведение взрослы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70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вочка пришла в группу. Ребята приглашают её в игры. Но она от всех приглашений отказывает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Мбдоу црр детский сад 8 &quot;Солнышко&quot;"/>
          <p:cNvPicPr/>
          <p:nvPr/>
        </p:nvPicPr>
        <p:blipFill>
          <a:blip r:embed="rId1"/>
          <a:stretch/>
        </p:blipFill>
        <p:spPr>
          <a:xfrm>
            <a:off x="0" y="0"/>
            <a:ext cx="9190800" cy="674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4920" y="1772640"/>
            <a:ext cx="8610120" cy="5085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rmAutofit fontScale="85000"/>
          </a:bodyPr>
          <a:p>
            <a:pPr marL="31500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marL="3150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marL="3150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Обогащать речевую среду  в группах иллюстративными материалами, альбомами насмотренности.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marL="3150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Обогащать жизненный и игровой опыт детей,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marL="3150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ивный словарь (организационная работа).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Использовать технологические карты при организации сюжетно-ролевых игр.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влекать  родителей в процесс обогащения жизненного опыта детей. 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marL="3150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arketing Plan">
  <a:themeElements>
    <a:clrScheme name="Marketing Plan 1">
      <a:dk1>
        <a:srgbClr val="336699"/>
      </a:dk1>
      <a:lt1>
        <a:srgbClr val="ffffff"/>
      </a:lt1>
      <a:dk2>
        <a:srgbClr val="0066ff"/>
      </a:dk2>
      <a:lt2>
        <a:srgbClr val="afb5d2"/>
      </a:lt2>
      <a:accent1>
        <a:srgbClr val="66ccff"/>
      </a:accent1>
      <a:accent2>
        <a:srgbClr val="99ffcc"/>
      </a:accent2>
      <a:accent3>
        <a:srgbClr val="ffffff"/>
      </a:accent3>
      <a:accent4>
        <a:srgbClr val="2a5682"/>
      </a:accent4>
      <a:accent5>
        <a:srgbClr val="b8e2ff"/>
      </a:accent5>
      <a:accent6>
        <a:srgbClr val="8ae7b9"/>
      </a:accent6>
      <a:hlink>
        <a:srgbClr val="ff99ff"/>
      </a:hlink>
      <a:folHlink>
        <a:srgbClr val="cccc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arketing Plan">
  <a:themeElements>
    <a:clrScheme name="Marketing Plan 1">
      <a:dk1>
        <a:srgbClr val="336699"/>
      </a:dk1>
      <a:lt1>
        <a:srgbClr val="ffffff"/>
      </a:lt1>
      <a:dk2>
        <a:srgbClr val="0066ff"/>
      </a:dk2>
      <a:lt2>
        <a:srgbClr val="afb5d2"/>
      </a:lt2>
      <a:accent1>
        <a:srgbClr val="66ccff"/>
      </a:accent1>
      <a:accent2>
        <a:srgbClr val="99ffcc"/>
      </a:accent2>
      <a:accent3>
        <a:srgbClr val="ffffff"/>
      </a:accent3>
      <a:accent4>
        <a:srgbClr val="2a5682"/>
      </a:accent4>
      <a:accent5>
        <a:srgbClr val="b8e2ff"/>
      </a:accent5>
      <a:accent6>
        <a:srgbClr val="8ae7b9"/>
      </a:accent6>
      <a:hlink>
        <a:srgbClr val="ff99ff"/>
      </a:hlink>
      <a:folHlink>
        <a:srgbClr val="cccc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arketing Plan">
  <a:themeElements>
    <a:clrScheme name="Marketing Plan 1">
      <a:dk1>
        <a:srgbClr val="336699"/>
      </a:dk1>
      <a:lt1>
        <a:srgbClr val="ffffff"/>
      </a:lt1>
      <a:dk2>
        <a:srgbClr val="0066ff"/>
      </a:dk2>
      <a:lt2>
        <a:srgbClr val="afb5d2"/>
      </a:lt2>
      <a:accent1>
        <a:srgbClr val="66ccff"/>
      </a:accent1>
      <a:accent2>
        <a:srgbClr val="99ffcc"/>
      </a:accent2>
      <a:accent3>
        <a:srgbClr val="ffffff"/>
      </a:accent3>
      <a:accent4>
        <a:srgbClr val="2a5682"/>
      </a:accent4>
      <a:accent5>
        <a:srgbClr val="b8e2ff"/>
      </a:accent5>
      <a:accent6>
        <a:srgbClr val="8ae7b9"/>
      </a:accent6>
      <a:hlink>
        <a:srgbClr val="ff99ff"/>
      </a:hlink>
      <a:folHlink>
        <a:srgbClr val="cccc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arketing Plan">
  <a:themeElements>
    <a:clrScheme name="Marketing Plan 1">
      <a:dk1>
        <a:srgbClr val="336699"/>
      </a:dk1>
      <a:lt1>
        <a:srgbClr val="ffffff"/>
      </a:lt1>
      <a:dk2>
        <a:srgbClr val="0066ff"/>
      </a:dk2>
      <a:lt2>
        <a:srgbClr val="afb5d2"/>
      </a:lt2>
      <a:accent1>
        <a:srgbClr val="66ccff"/>
      </a:accent1>
      <a:accent2>
        <a:srgbClr val="99ffcc"/>
      </a:accent2>
      <a:accent3>
        <a:srgbClr val="ffffff"/>
      </a:accent3>
      <a:accent4>
        <a:srgbClr val="2a5682"/>
      </a:accent4>
      <a:accent5>
        <a:srgbClr val="b8e2ff"/>
      </a:accent5>
      <a:accent6>
        <a:srgbClr val="8ae7b9"/>
      </a:accent6>
      <a:hlink>
        <a:srgbClr val="ff99ff"/>
      </a:hlink>
      <a:folHlink>
        <a:srgbClr val="cccc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arketing Plan</Template>
  <TotalTime>810</TotalTime>
  <Application>LibreOffice/7.4.7.2$Linux_X86_64 LibreOffice_project/40$Build-2</Application>
  <AppVersion>15.0000</AppVersion>
  <Words>864</Words>
  <Paragraphs>128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2:05:19Z</dcterms:created>
  <dc:creator>Admin</dc:creator>
  <dc:description/>
  <dc:language>en-US</dc:language>
  <cp:lastModifiedBy>user</cp:lastModifiedBy>
  <dcterms:modified xsi:type="dcterms:W3CDTF">2017-04-18T15:31:38Z</dcterms:modified>
  <cp:revision>121</cp:revision>
  <dc:subject/>
  <dc:title>Психолого-педагогическое сопровождение личностного развития ребенка  в рамках внедрения  Федерального государственного образовательного стандарта  дошкольного образо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