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95D5A8-0729-4C7B-AB21-522DEDC165ED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B065D8-96AC-4DE6-9BFB-E1B155EE870B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3C4FE0-8E24-44F5-AE6B-84149108D77D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6EE433-CE1D-40FD-B43C-7B4C1771F5AC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BBBF62-4807-443C-ACAD-D309F7B6D355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E87-6A59-4286-9812-68295E74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9E1-2713-4069-8AF0-41C19115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74C-7722-424E-BABE-9331FF85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950-6624-4AFC-9F82-C94A7719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BAC-B831-491D-8FA5-22AFCBD6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EC7-7EB8-4FFC-BC69-7F49EE65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76A-9623-4394-BB7B-07A0A31F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7D1-2F25-4697-8587-4DED930D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B28-42A9-4143-8CAC-87B21FBF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75A-0858-4477-9646-FF35C674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B64-8EC5-409D-97A6-7760969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DDF-E324-4BF5-876D-EB54AC5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4DA59D-C0DF-4385-8A94-60FC06CA6C1B}" type="slidenum"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2"/>
          <a:srcRect l="1679" t="-116" r="-1649" b="3084"/>
          <a:stretch/>
        </p:blipFill>
        <p:spPr>
          <a:xfrm>
            <a:off x="179280" y="189000"/>
            <a:ext cx="849600" cy="828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4429080" y="692280"/>
            <a:ext cx="435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МК ДО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 </a:t>
            </a: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Павловский детский сад №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ИСПОЛЬЗОВАНИЕ ИК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НА ЗАНЯТИЯХ ФИЗИЧЕСКОЙ КУЛЬ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067280" y="4149720"/>
            <a:ext cx="49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Tahoma"/>
              </a:rPr>
              <a:t>Инструктор по физической культуре – Бережная Н.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250920" y="1773360"/>
            <a:ext cx="4105080" cy="4464000"/>
          </a:xfrm>
          <a:prstGeom prst="cloudCallout">
            <a:avLst>
              <a:gd name="adj1" fmla="val 115930"/>
              <a:gd name="adj2" fmla="val -39828"/>
            </a:avLst>
          </a:prstGeom>
          <a:solidFill>
            <a:srgbClr val="e9f79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Рисунок 8" descr="http://lib.znate.ru/pars_docs/refs/136/135502/135502_html_m6cff357f.gif"/>
          <p:cNvPicPr/>
          <p:nvPr/>
        </p:nvPicPr>
        <p:blipFill>
          <a:blip r:embed="rId3"/>
          <a:stretch/>
        </p:blipFill>
        <p:spPr>
          <a:xfrm>
            <a:off x="755640" y="2349360"/>
            <a:ext cx="2960640" cy="29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00200" y="47592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Актуальность применения ИК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на занятиях физической культуры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170208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ое информационное общество ставит перед педагогом задачу подготовки подрастающего поколения, способног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риентироваться в меняющихся жизненных ситуациях, самостоятельно приобретая необходимые знания, применяя их на практике для решения разнообразных возникающих проблем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амостоятельно критически мыслить, видеть возникающие проблемы и искать пути рационального их решения, используя современные технологи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четко осознавать, где и каким образом приобретаемые им знания могут быть применены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быть способным творчески мыслить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грамотно работать с информац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быть коммуникабельным, контактным в различных социальных группах, уметь работать сообща в различных областях, в различных ситуациях, предотвращая или умело выходя из любых конфликтных ситуаци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амостоятельно работать над развитием собственной нравственности, интеллекта, культурного уровн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"/>
          <p:cNvSpPr/>
          <p:nvPr/>
        </p:nvSpPr>
        <p:spPr>
          <a:xfrm>
            <a:off x="2534760" y="76428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Цель использования ИКТ на занят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182960" y="1411920"/>
            <a:ext cx="777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физкультурно-оздоровитель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и через использование ИК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24000" y="2349360"/>
            <a:ext cx="849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вышение эффективности и качества процесса социальной реабилитации;                                                                                                           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вышение активности познавательной деятельности;                                    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величение объема и оптимизация поиска нужной информации;                                            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умений принимать оптимальное решение;                                                                                                                         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эстетическое воспитание за счет использования компьютерной графики, технологии мультимедиа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информационной культуры;                                        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умений осуществлять экспериментально-исследовательскую деятельность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дготовка информационно грамотной личности;                                 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существление профориентационной работы в области физической культур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611520" y="620640"/>
            <a:ext cx="54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Monotype Corsiva"/>
              </a:rPr>
              <a:t>ОСНОВНЫЕ НАПРАВЛЕНИЯ ВНЕДРЕНИЯ ИКТ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638520" cy="3959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4500720" y="1197000"/>
            <a:ext cx="439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компьютерной техники в качестве средства и инструмента подачи матер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средств информационных технологий в качестве средства творческого развития несовершеннолетни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компьютерной техники в качестве средств автоматизации процессов контроля, коррекции и  тестир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1319400" y="1915560"/>
            <a:ext cx="75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Monotype Corsiva"/>
              </a:rPr>
              <a:t>ИСПОЛЬЗОВАНИЕ ИКТ НА ЗАНЯТИИ ФИЗИЧЕСКОЙ КУЛЬТУ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24000" y="270864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ет эффективность физкультурно-оздоровительной деятельности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мулирует личную заинтересованность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коряет процесс подготовки к занятию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зволяет педагогу проявить свое творчеств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спечивает наглядность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ет мотивацию у несовершеннолетних;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ет интерес к собственному здоровью и способностям, демонстрир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и для их дальнейшего развития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ет эффективность качества оценив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477800" y="619200"/>
            <a:ext cx="851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Наглядная демонстрац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(картины, фотографии, видеофрагменты, плакат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143600" y="13402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ый образ жизн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Рисунок 1" descr="https://encrypted-tbn1.gstatic.com/images?q=tbn:ANd9GcSo7zUa9NyDv7rsXDWlcYsqHWN3tIUO1vf__FbEhEpKioTamIYW"/>
          <p:cNvPicPr/>
          <p:nvPr/>
        </p:nvPicPr>
        <p:blipFill>
          <a:blip r:embed="rId1"/>
          <a:stretch/>
        </p:blipFill>
        <p:spPr>
          <a:xfrm>
            <a:off x="6012000" y="1844640"/>
            <a:ext cx="2736720" cy="202896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67" name="Рисунок 10" descr="http://miafolio.ru/wp-content/gallery/zozh/0028-028-Zdorovyj-obraz-zhizni.jpg"/>
          <p:cNvPicPr/>
          <p:nvPr/>
        </p:nvPicPr>
        <p:blipFill>
          <a:blip r:embed="rId2"/>
          <a:stretch/>
        </p:blipFill>
        <p:spPr>
          <a:xfrm>
            <a:off x="684360" y="1700280"/>
            <a:ext cx="2616120" cy="1966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68" name="Рисунок 13" descr="http://siamedia.ru/assets/images/schools/obj/9.jpg"/>
          <p:cNvPicPr/>
          <p:nvPr/>
        </p:nvPicPr>
        <p:blipFill>
          <a:blip r:embed="rId3"/>
          <a:stretch/>
        </p:blipFill>
        <p:spPr>
          <a:xfrm>
            <a:off x="3203640" y="2060640"/>
            <a:ext cx="3168720" cy="21304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69" name="Рисунок 16" descr="http://66print.ru/content/template_b355_phpgfLZR8.jpg"/>
          <p:cNvPicPr/>
          <p:nvPr/>
        </p:nvPicPr>
        <p:blipFill>
          <a:blip r:embed="rId4"/>
          <a:stretch/>
        </p:blipFill>
        <p:spPr>
          <a:xfrm>
            <a:off x="5580000" y="3700440"/>
            <a:ext cx="3140280" cy="22194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0" name="Рисунок 19" descr="http://i2.imgbb.ru/img7/0/1/e/01e8386ec84a4c03144034b324912ea7_h.jpg"/>
          <p:cNvPicPr/>
          <p:nvPr/>
        </p:nvPicPr>
        <p:blipFill>
          <a:blip r:embed="rId5"/>
          <a:stretch/>
        </p:blipFill>
        <p:spPr>
          <a:xfrm>
            <a:off x="468360" y="3789360"/>
            <a:ext cx="3014640" cy="21366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1" name="Рисунок 22" descr="http://i2.imgbb.ru/img7/f/b/a/fba2bec1acbb938a35ea1263d856dd62_h.jpg"/>
          <p:cNvPicPr/>
          <p:nvPr/>
        </p:nvPicPr>
        <p:blipFill>
          <a:blip r:embed="rId6"/>
          <a:stretch/>
        </p:blipFill>
        <p:spPr>
          <a:xfrm>
            <a:off x="3203640" y="4265640"/>
            <a:ext cx="3240000" cy="23004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789440" y="25920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ая культура и спор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Рисунок 25" descr="http://wl.static.fotolia.com/jpg/00/47/32/75/400_F_47327599_q4cId0Dob9PGPJVMoONBg7j89tIXf7vM.jpg"/>
          <p:cNvPicPr/>
          <p:nvPr/>
        </p:nvPicPr>
        <p:blipFill>
          <a:blip r:embed="rId1"/>
          <a:stretch/>
        </p:blipFill>
        <p:spPr>
          <a:xfrm>
            <a:off x="900000" y="1413000"/>
            <a:ext cx="2163960" cy="241776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4" name="Рисунок 28" descr="http://festival.1september.ru/articles/522149/Image683.jpg"/>
          <p:cNvPicPr/>
          <p:nvPr/>
        </p:nvPicPr>
        <p:blipFill>
          <a:blip r:embed="rId2"/>
          <a:stretch/>
        </p:blipFill>
        <p:spPr>
          <a:xfrm>
            <a:off x="3348000" y="1197000"/>
            <a:ext cx="2700360" cy="190656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5" name="Рисунок 31" descr="http://rylik.ru/uploads/posts/2011-03/1300216777_9riihtgkxqfpdv4.jpeg"/>
          <p:cNvPicPr/>
          <p:nvPr/>
        </p:nvPicPr>
        <p:blipFill>
          <a:blip r:embed="rId3"/>
          <a:stretch/>
        </p:blipFill>
        <p:spPr>
          <a:xfrm>
            <a:off x="6372360" y="765000"/>
            <a:ext cx="2431800" cy="25624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6" name="Рисунок 37" descr="http://www.cccp.kiev.ua/assets/images/galleries/100/plakati-sport-vidi-1.jpg"/>
          <p:cNvPicPr/>
          <p:nvPr/>
        </p:nvPicPr>
        <p:blipFill>
          <a:blip r:embed="rId4"/>
          <a:stretch/>
        </p:blipFill>
        <p:spPr>
          <a:xfrm>
            <a:off x="2987640" y="3933720"/>
            <a:ext cx="2952720" cy="229104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7" name="Рисунок 40" descr="http://sklep.bluzki-damskie.pl/wp-content/uploads/2013/06/Fotolia_31891518_V.jpg"/>
          <p:cNvPicPr/>
          <p:nvPr/>
        </p:nvPicPr>
        <p:blipFill>
          <a:blip r:embed="rId5"/>
          <a:stretch/>
        </p:blipFill>
        <p:spPr>
          <a:xfrm>
            <a:off x="6012000" y="3429000"/>
            <a:ext cx="2665440" cy="266544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8" name="Рисунок 46" descr="http://pixers.ru/image/1/400/n8nLuoGZIlUSnx0KO12KCc1TDkmNSt3WLRciPtEiUVmRQNk1fp0Q88jSE19QfNDXw79QhEEMhoERhU9Qh72MhF3FqzSKhZkaMR3KhRGKm5dRkRHT0NnasiGaho2F0Rni/94/75/10/0094751095/2/kartina-plakat-sport-ikonki-zdorovaya.jpg"/>
          <p:cNvPicPr/>
          <p:nvPr/>
        </p:nvPicPr>
        <p:blipFill>
          <a:blip r:embed="rId6"/>
          <a:stretch/>
        </p:blipFill>
        <p:spPr>
          <a:xfrm>
            <a:off x="395280" y="4076640"/>
            <a:ext cx="2448000" cy="241164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83000" y="1124640"/>
            <a:ext cx="75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Monotype Corsiva"/>
              </a:rPr>
              <a:t>ИСПОЛЬЗОВАНИЕ ИКТ НА ЗАНЯТИИ ФИЗИЧЕСКОЙ 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24000" y="1771560"/>
            <a:ext cx="849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е компьютера возможно на всех этапах занятия: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и изучении нового материала педагог координирует, направляет, руководит и организует процесс получения информации, а сам материал «объясняет» вместо него компьютер (информационные слайд – презентации, видеоролики). С помощью видеоряда, звука и текста занятие получается более содержательным и увлекательн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 этапе повторения и закрепления знаний  дети в компьютерном варианте решают различные проблемные ситуации (викторины со слайд – презентациями, видеоролики, информационные буклеты для детей и родителей). В результате, в мыслительную деятельность оказываются вовлечены все несовершеннолетние. Степень их самостоятельности в освоении материала регулируется педагог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24000" y="364500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рганизации и проведении занятия физической культуры необходимо использование ИКТ. Это позволяет успешно совмещать не только физическую, но и умственную работу, развивать интеллектуальные и творческие способности ребенка, расширять общий кругозор, решать стоящие перед учреждением задачи воспитания всесторонне развитой, творчески свободной лич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835280" y="198900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Объект 4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035600" cy="31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01-02T14:12:01Z</dcterms:modified>
  <cp:revision>2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