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E32161-E681-4492-8D31-CDDC38A58695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09BC4A-5760-4B30-9006-F00C202E512A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D09DAE-4269-4214-BD4B-59C2F9E94D3D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C34421-B6B8-43C4-9642-F541C728DC3E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4CA2D8-F46C-44F3-A699-E14FD11BE2BA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6E9-358A-458D-820F-9A789CAB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9A6-E891-4127-B7C2-A702EE37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5AB-363F-457D-99E8-FBCBF3FB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5C74-A8B1-4DAA-8F26-E0E5125F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F0A-2914-48DE-8967-6A239877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12B-97B2-4B9B-8A46-B0E7F4A2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8F3-14D3-43D1-92FA-884C799C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82E-77A2-4E8A-B502-8EBD7362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777-E5FC-47D1-BB4C-BCCFB59D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7E2-D854-4E50-A459-A870D77D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F782-D90E-40D2-AFBD-D2574624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3353-45D4-4B99-9CE0-905DCF20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246B42-A66D-4315-9CFB-802194EFEECF}" type="slidenum">
              <a:rPr b="0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2"/>
          <a:srcRect l="1679" t="-116" r="-1649" b="3084"/>
          <a:stretch/>
        </p:blipFill>
        <p:spPr>
          <a:xfrm>
            <a:off x="179280" y="189000"/>
            <a:ext cx="849600" cy="828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4429080" y="692280"/>
            <a:ext cx="435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6600cc"/>
                </a:solidFill>
                <a:uFillTx/>
                <a:latin typeface="Monotype Corsiva"/>
              </a:rPr>
              <a:t>МК ДО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6600cc"/>
                </a:solidFill>
                <a:uFillTx/>
                <a:latin typeface="Monotype Corsiva"/>
              </a:rPr>
              <a:t> </a:t>
            </a:r>
            <a:r>
              <a:rPr b="1" lang="ru-RU" sz="2800" spc="-1" strike="noStrike" u="sng">
                <a:solidFill>
                  <a:srgbClr val="6600cc"/>
                </a:solidFill>
                <a:uFillTx/>
                <a:latin typeface="Monotype Corsiva"/>
              </a:rPr>
              <a:t>Павловский детский сад №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6600cc"/>
                </a:solidFill>
                <a:uFillTx/>
                <a:latin typeface="Monotype Corsiva"/>
              </a:rPr>
              <a:t>ИСПОЛЬЗОВАНИЕ ИК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6600cc"/>
                </a:solidFill>
                <a:uFillTx/>
                <a:latin typeface="Monotype Corsiva"/>
              </a:rPr>
              <a:t>НА ЗАНЯТИЯХ ФИЗИЧЕСКОЙ КУЛЬТУ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4067280" y="4149720"/>
            <a:ext cx="493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Tahoma"/>
              </a:rPr>
              <a:t>Инструктор по физической культуре – Бережная Н.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250920" y="1773360"/>
            <a:ext cx="4105080" cy="4464000"/>
          </a:xfrm>
          <a:prstGeom prst="cloudCallout">
            <a:avLst>
              <a:gd name="adj1" fmla="val 115930"/>
              <a:gd name="adj2" fmla="val -39828"/>
            </a:avLst>
          </a:prstGeom>
          <a:solidFill>
            <a:srgbClr val="e9f793"/>
          </a:solidFill>
          <a:ln w="9360">
            <a:solidFill>
              <a:srgbClr val="cc0066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Рисунок 8" descr="http://lib.znate.ru/pars_docs/refs/136/135502/135502_html_m6cff357f.gif"/>
          <p:cNvPicPr/>
          <p:nvPr/>
        </p:nvPicPr>
        <p:blipFill>
          <a:blip r:embed="rId3"/>
          <a:stretch/>
        </p:blipFill>
        <p:spPr>
          <a:xfrm>
            <a:off x="755640" y="2349360"/>
            <a:ext cx="2960640" cy="29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500200" y="475920"/>
            <a:ext cx="690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Актуальность применения ИК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на занятиях физической культуры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50920" y="1702080"/>
            <a:ext cx="8642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ременное информационное общество ставит перед педагогом задачу подготовки подрастающего поколения, способног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риентироваться в меняющихся жизненных ситуациях, самостоятельно приобретая необходимые знания, применяя их на практике для решения разнообразных возникающих проблем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амостоятельно критически мыслить, видеть возникающие проблемы и искать пути рационального их решения, используя современные технологи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четко осознавать, где и каким образом приобретаемые им знания могут быть применены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быть способным творчески мыслить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грамотно работать с информацией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быть коммуникабельным, контактным в различных социальных группах, уметь работать сообща в различных областях, в различных ситуациях, предотвращая или умело выходя из любых конфликтных ситуаций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амостоятельно работать над развитием собственной нравственности, интеллекта, культурного уровн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0"/>
          <p:cNvSpPr/>
          <p:nvPr/>
        </p:nvSpPr>
        <p:spPr>
          <a:xfrm>
            <a:off x="2534760" y="764280"/>
            <a:ext cx="72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Цель использования ИКТ на занят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182960" y="1411920"/>
            <a:ext cx="777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эффективности физкультурно-оздоровитель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ятельности через использование ИКТ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24000" y="2349360"/>
            <a:ext cx="849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вышение эффективности и качества процесса социальной реабилитации;                                                                                                                                 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вышение активности познавательной деятельности;                                     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увеличение объема и оптимизация поиска нужной информации;                                             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формирование умений принимать оптимальное решение;                                                                                                                                               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эстетическое воспитание за счет использования компьютерной графики, технологии мультимедиа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формирование информационной культуры;                                         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формирование умений осуществлять экспериментально-исследовательскую деятельность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дготовка информационно грамотной личности;                                  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существление профориентационной работы в области физической культуры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3611520" y="620640"/>
            <a:ext cx="549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Monotype Corsiva"/>
              </a:rPr>
              <a:t>ОСНОВНЫЕ НАПРАВЛЕНИЯ ВНЕДРЕНИЯ ИКТ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Объект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638520" cy="3959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4500720" y="1197000"/>
            <a:ext cx="4392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компьютерной техники в качестве средства и инструмента подачи материал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средств информационных технологий в качестве средства творческого развития несовершеннолетни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компьютерной техники в качестве средств автоматизации процессов контроля, коррекции и  тестир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0"/>
          <p:cNvSpPr/>
          <p:nvPr/>
        </p:nvSpPr>
        <p:spPr>
          <a:xfrm>
            <a:off x="1319400" y="1915560"/>
            <a:ext cx="756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Monotype Corsiva"/>
              </a:rPr>
              <a:t>ИСПОЛЬЗОВАНИЕ ИКТ НА ЗАНЯТИИ ФИЗИЧЕСКОЙ КУЛЬТУР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324000" y="270864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ает эффективность физкультурно-оздоровительной деятельности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имулирует личную заинтересованность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коряет процесс подготовки к занятию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зволяет педагогу проявить свое творчество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еспечивает наглядность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ает мотивацию у несовершеннолетних;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ает интерес к собственному здоровью и способностям, демонстриру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можности для их дальнейшего развития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ает эффективность качества оценива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1477800" y="619200"/>
            <a:ext cx="851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</a:rPr>
              <a:t>Наглядная демонстрац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Monotype Corsiva"/>
              </a:rPr>
              <a:t>(картины, фотографии, видеофрагменты, плакат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143600" y="134028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оровый образ жизн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Рисунок 1" descr="https://encrypted-tbn1.gstatic.com/images?q=tbn:ANd9GcSo7zUa9NyDv7rsXDWlcYsqHWN3tIUO1vf__FbEhEpKioTamIYW"/>
          <p:cNvPicPr/>
          <p:nvPr/>
        </p:nvPicPr>
        <p:blipFill>
          <a:blip r:embed="rId1"/>
          <a:stretch/>
        </p:blipFill>
        <p:spPr>
          <a:xfrm>
            <a:off x="6012000" y="1844640"/>
            <a:ext cx="2736720" cy="202896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67" name="Рисунок 10" descr="http://miafolio.ru/wp-content/gallery/zozh/0028-028-Zdorovyj-obraz-zhizni.jpg"/>
          <p:cNvPicPr/>
          <p:nvPr/>
        </p:nvPicPr>
        <p:blipFill>
          <a:blip r:embed="rId2"/>
          <a:stretch/>
        </p:blipFill>
        <p:spPr>
          <a:xfrm>
            <a:off x="684360" y="1700280"/>
            <a:ext cx="2616120" cy="196668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68" name="Рисунок 13" descr="http://siamedia.ru/assets/images/schools/obj/9.jpg"/>
          <p:cNvPicPr/>
          <p:nvPr/>
        </p:nvPicPr>
        <p:blipFill>
          <a:blip r:embed="rId3"/>
          <a:stretch/>
        </p:blipFill>
        <p:spPr>
          <a:xfrm>
            <a:off x="3203640" y="2060640"/>
            <a:ext cx="3168720" cy="213048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69" name="Рисунок 16" descr="http://66print.ru/content/template_b355_phpgfLZR8.jpg"/>
          <p:cNvPicPr/>
          <p:nvPr/>
        </p:nvPicPr>
        <p:blipFill>
          <a:blip r:embed="rId4"/>
          <a:stretch/>
        </p:blipFill>
        <p:spPr>
          <a:xfrm>
            <a:off x="5580000" y="3700440"/>
            <a:ext cx="3140280" cy="221940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70" name="Рисунок 19" descr="http://i2.imgbb.ru/img7/0/1/e/01e8386ec84a4c03144034b324912ea7_h.jpg"/>
          <p:cNvPicPr/>
          <p:nvPr/>
        </p:nvPicPr>
        <p:blipFill>
          <a:blip r:embed="rId5"/>
          <a:stretch/>
        </p:blipFill>
        <p:spPr>
          <a:xfrm>
            <a:off x="468360" y="3789360"/>
            <a:ext cx="3014640" cy="213660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71" name="Рисунок 22" descr="http://i2.imgbb.ru/img7/f/b/a/fba2bec1acbb938a35ea1263d856dd62_h.jpg"/>
          <p:cNvPicPr/>
          <p:nvPr/>
        </p:nvPicPr>
        <p:blipFill>
          <a:blip r:embed="rId6"/>
          <a:stretch/>
        </p:blipFill>
        <p:spPr>
          <a:xfrm>
            <a:off x="3203640" y="4265640"/>
            <a:ext cx="3240000" cy="230040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789440" y="25920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ая культура и спор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Рисунок 25" descr="http://wl.static.fotolia.com/jpg/00/47/32/75/400_F_47327599_q4cId0Dob9PGPJVMoONBg7j89tIXf7vM.jpg"/>
          <p:cNvPicPr/>
          <p:nvPr/>
        </p:nvPicPr>
        <p:blipFill>
          <a:blip r:embed="rId1"/>
          <a:stretch/>
        </p:blipFill>
        <p:spPr>
          <a:xfrm>
            <a:off x="900000" y="1413000"/>
            <a:ext cx="2163960" cy="241776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74" name="Рисунок 28" descr="http://festival.1september.ru/articles/522149/Image683.jpg"/>
          <p:cNvPicPr/>
          <p:nvPr/>
        </p:nvPicPr>
        <p:blipFill>
          <a:blip r:embed="rId2"/>
          <a:stretch/>
        </p:blipFill>
        <p:spPr>
          <a:xfrm>
            <a:off x="3348000" y="1197000"/>
            <a:ext cx="2700360" cy="190656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75" name="Рисунок 31" descr="http://rylik.ru/uploads/posts/2011-03/1300216777_9riihtgkxqfpdv4.jpeg"/>
          <p:cNvPicPr/>
          <p:nvPr/>
        </p:nvPicPr>
        <p:blipFill>
          <a:blip r:embed="rId3"/>
          <a:stretch/>
        </p:blipFill>
        <p:spPr>
          <a:xfrm>
            <a:off x="6372360" y="765000"/>
            <a:ext cx="2431800" cy="256248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76" name="Рисунок 37" descr="http://www.cccp.kiev.ua/assets/images/galleries/100/plakati-sport-vidi-1.jpg"/>
          <p:cNvPicPr/>
          <p:nvPr/>
        </p:nvPicPr>
        <p:blipFill>
          <a:blip r:embed="rId4"/>
          <a:stretch/>
        </p:blipFill>
        <p:spPr>
          <a:xfrm>
            <a:off x="2987640" y="3933720"/>
            <a:ext cx="2952720" cy="229104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77" name="Рисунок 40" descr="http://sklep.bluzki-damskie.pl/wp-content/uploads/2013/06/Fotolia_31891518_V.jpg"/>
          <p:cNvPicPr/>
          <p:nvPr/>
        </p:nvPicPr>
        <p:blipFill>
          <a:blip r:embed="rId5"/>
          <a:stretch/>
        </p:blipFill>
        <p:spPr>
          <a:xfrm>
            <a:off x="6012000" y="3429000"/>
            <a:ext cx="2665440" cy="266544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78" name="Рисунок 46" descr="http://pixers.ru/image/1/400/n8nLuoGZIlUSnx0KO12KCc1TDkmNSt3WLRciPtEiUVmRQNk1fp0Q88jSE19QfNDXw79QhEEMhoERhU9Qh72MhF3FqzSKhZkaMR3KhRGKm5dRkRHT0NnasiGaho2F0Rni/94/75/10/0094751095/2/kartina-plakat-sport-ikonki-zdorovaya.jpg"/>
          <p:cNvPicPr/>
          <p:nvPr/>
        </p:nvPicPr>
        <p:blipFill>
          <a:blip r:embed="rId6"/>
          <a:stretch/>
        </p:blipFill>
        <p:spPr>
          <a:xfrm>
            <a:off x="395280" y="4076640"/>
            <a:ext cx="2448000" cy="241164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683000" y="1124640"/>
            <a:ext cx="75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Monotype Corsiva"/>
              </a:rPr>
              <a:t>ИСПОЛЬЗОВАНИЕ ИКТ НА ЗАНЯТИИ ФИЗИЧЕСКОЙ КУЛЬТУ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24000" y="1771560"/>
            <a:ext cx="8496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нение компьютера возможно на всех этапах занятия: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ри изучении нового материала педагог координирует, направляет, руководит и организует процесс получения информации, а сам материал «объясняет» вместо него компьютер (информационные слайд – презентации, видеоролики). С помощью видеоряда, звука и текста занятие получается более содержательным и увлекательны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а этапе повторения и закрепления знаний  дети в компьютерном варианте решают различные проблемные ситуации (викторины со слайд – презентациями, видеоролики, информационные буклеты для детей и родителей). В результате, в мыслительную деятельность оказываются вовлечены все несовершеннолетние. Степень их самостоятельности в освоении материала регулируется педагого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24000" y="3645000"/>
            <a:ext cx="84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организации и проведении занятия физической культуры необходимо использование ИКТ. Это позволяет успешно совмещать не только физическую, но и умственную работу, развивать интеллектуальные и творческие способности ребенка, расширять общий кругозор, решать стоящие перед учреждением задачи воспитания всесторонне развитой, творчески свободной лич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835280" y="198900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Объект 4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4035600" cy="316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9-01-02T14:12:01Z</dcterms:modified>
  <cp:revision>2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