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CCD-1CF2-45B6-A71E-99AD1D91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3A6-3929-457B-93CD-BB471C6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8DC-B188-46B1-B26D-5913F3F3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EB5-AC35-45C1-AF90-CF45B9EA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2D46-F621-475C-AB1A-13CAE9E0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DFD-B995-4A86-8B53-1AABA5F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518-E3D8-4236-87D2-C5CC63B7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0C68-7369-40E3-AA8E-C90DD852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893B-D58F-4C54-99A8-CFF93E37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40E-284A-47B5-95A4-150D25A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727-836F-4D6C-8A06-BF5A938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026-AFE2-43B3-83DB-010C925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E856-1526-48AB-91F5-55DC448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0AEE-A753-4C20-9463-0706654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22D-623B-4A18-ADCE-5B2A200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C36E-11AC-4C80-964F-DE3CA43E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0E8F-2DB1-48DE-909F-F853541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47E-0828-482D-8A31-1469966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0C4-6AC2-4684-B677-70F7D10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373-BF84-40A3-ADEB-5CFE103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1D6-44CF-4789-98FD-A7B37A4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468-5366-4A34-91EB-6911F1F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9FC-90E1-4697-B8FD-565D623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BF0-6D54-45F7-B771-C50491D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619B-8DA5-49B7-88CC-8F89707771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8CA-34C3-4AA9-A20B-9B5154F2D4B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1604520"/>
            <a:ext cx="7704000" cy="116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58920" y="3141720"/>
            <a:ext cx="583236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дготовила воспитатель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еденцова О.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 :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8-ая буква алфавита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огласная 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ук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Ж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]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- парный, звонкий, всегда твердый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снежинку я похожа,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жука немножко тож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67660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6636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aeaea"/>
                </a:solidFill>
                <a:uFillTx/>
                <a:latin typeface="Verdana"/>
              </a:rPr>
              <a:t>Расставь картинки по порядку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) слова, которые начинаются на букву «Ж»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) слова, где буква «Ж» в середине слова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3) слова, которые заканчиваются на букву «Ж»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50920" y="3233880"/>
            <a:ext cx="180000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1657440" cy="125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3995640" y="4505400"/>
            <a:ext cx="2521080" cy="154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4"/>
          <a:stretch/>
        </p:blipFill>
        <p:spPr>
          <a:xfrm>
            <a:off x="6156360" y="2708280"/>
            <a:ext cx="2400120" cy="16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5"/>
          <a:stretch/>
        </p:blipFill>
        <p:spPr>
          <a:xfrm>
            <a:off x="108000" y="4889520"/>
            <a:ext cx="2376360" cy="149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2484360" y="2781360"/>
            <a:ext cx="1482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Песенка про еж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124000" y="2246400"/>
            <a:ext cx="5688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360" y="-2110680"/>
            <a:ext cx="5749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3739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третил я в лесу ежа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Ёж лежал в лесу жужжа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еж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Ёж сказал: «Я не жужжу 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на ужин съел ужа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жет уж лежит жужжа 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а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а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уж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ж сказал: «Я не жуж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абу съел я у межи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жет жаба и жужжит 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аб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 в ответ : «Я не жуж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лотила я жука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ук жужжит наверняка!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жук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Ну и что?» - ответил жук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Это мой нормальный ж-ж-жвук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всегда, когда лежу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жужжу!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у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у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1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золотой клубочек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прятался дубочек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Желудь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2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т иголки и булав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зают из-под лав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меня они глядят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лока они хотят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Ёж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3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Этот зверь какой-то странный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Ше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к стрела у кран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Жираф)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928880" y="1530360"/>
            <a:ext cx="60991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42:00Z</dcterms:created>
  <dc:creator>matveeva</dc:creator>
  <dc:description/>
  <dc:language>en-US</dc:language>
  <cp:lastModifiedBy>Компьютер</cp:lastModifiedBy>
  <dcterms:modified xsi:type="dcterms:W3CDTF">2019-01-02T17:47:44Z</dcterms:modified>
  <cp:revision>34</cp:revision>
  <dc:subject/>
  <dc:title>БУКВА «Ж»</dc:title>
</cp:coreProperties>
</file>