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89A-50C7-4218-B9D4-5312F09B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F3-42A7-45A5-8C40-C701181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67D-B0A0-499E-B08C-004FB6C0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271-D839-4F9B-8496-55D65C78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87CF-0C50-48C0-8C8B-A77CB2BC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B92-A82B-4FBE-8DC6-27EEFF5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CF5B-BC30-461A-8733-42FC7E9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BA1-CBF6-477C-A8E2-21EB2A7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036F-DCC6-4BDC-A768-58D80A9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B41-ADF6-48AD-9EF0-FA77476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C9A-CF81-4A43-BF41-A6C7B0D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6D5-6D6B-4BB8-9D54-1985B15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A3D6-3DE0-4236-8766-1FA1E81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19A-5531-465B-91FA-6FE9A83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09A-B791-4A3F-8565-48E7860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B16-C369-49D2-AFF2-8B534360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622-E0B8-498B-8153-05473E1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239-5F1A-4232-976D-8B336532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8FE-AFCC-47AF-A6FB-A70BFFF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43E-D9C4-4BD6-A2AF-62C3A21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078-220E-4E2A-ADFF-8F3009BC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768-FF6C-4471-A694-7BBB7F8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AF3-A709-4C7C-A815-0738590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C23-AE9F-48DC-ADA7-4CADF23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7C2-716D-419E-885B-A8F36648D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891-8585-460C-AF97-E53483AA685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1604520"/>
            <a:ext cx="7704000" cy="116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58920" y="3141720"/>
            <a:ext cx="583236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дготовила воспитатель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еденцова О.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 :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8-ая буква алфавита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огласная 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ук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Ж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]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- парный, звонкий, всегда твердый;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снежинку я похожа,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жука немножко тож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67660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6636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aeaea"/>
                </a:solidFill>
                <a:uFillTx/>
                <a:latin typeface="Verdana"/>
              </a:rPr>
              <a:t>Расставь картинки по порядку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) слова, которые начинаются на букву «Ж»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) слова, где буква «Ж» в середине слова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3) слова, которые заканчиваются на букву «Ж»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50920" y="3233880"/>
            <a:ext cx="180000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1657440" cy="125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3995640" y="4505400"/>
            <a:ext cx="2521080" cy="154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4"/>
          <a:stretch/>
        </p:blipFill>
        <p:spPr>
          <a:xfrm>
            <a:off x="6156360" y="2708280"/>
            <a:ext cx="2400120" cy="16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5"/>
          <a:stretch/>
        </p:blipFill>
        <p:spPr>
          <a:xfrm>
            <a:off x="108000" y="4889520"/>
            <a:ext cx="2376360" cy="149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2484360" y="2781360"/>
            <a:ext cx="1482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Песенка про еж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124000" y="2246400"/>
            <a:ext cx="5688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360" y="-2110680"/>
            <a:ext cx="5749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3739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стретил я в лесу ежа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Ёж лежал в лесу жужжа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еж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Ёж сказал: «Я не жужжу 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на ужин съел ужа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жет уж лежит жужжа 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а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а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уж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ж сказал: «Я не жуж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абу съел я у межи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жет жаба и жужжит 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аб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а в ответ : «Я не жужжу!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лежу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лотила я жука-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Жук жужжит наверняка!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ит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спросил жука: «Скажите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чего вы так жужжите?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Ну и что?» - ответил жук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Это мой нормальный ж-ж-жвук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Я всегда, когда лежу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ле ужина жужжу!»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у,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рам-парам-парам-пам жужжу.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1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золотой клубочек 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прятался дубочек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Желудь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2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т иголки и булав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зают из-под лав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меня они глядят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олока они хотят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Ёж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3)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Этот зверь какой-то странный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Ше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к стрела у кран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Жираф)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6100" spc="-1" strike="noStrike">
                <a:solidFill>
                  <a:srgbClr val="0000ff"/>
                </a:solidFill>
                <a:latin typeface="Times New Roman"/>
              </a:rPr>
              <a:t>БУКВА «Ж»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928880" y="1530360"/>
            <a:ext cx="60991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42:00Z</dcterms:created>
  <dc:creator>matveeva</dc:creator>
  <dc:description/>
  <dc:language>en-US</dc:language>
  <cp:lastModifiedBy>Компьютер</cp:lastModifiedBy>
  <dcterms:modified xsi:type="dcterms:W3CDTF">2019-01-02T17:47:44Z</dcterms:modified>
  <cp:revision>34</cp:revision>
  <dc:subject/>
  <dc:title>БУКВА «Ж»</dc:title>
</cp:coreProperties>
</file>