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D8A1-F141-4D29-A91D-FB7A0E9F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E28-ED85-4F97-9B19-CA2725DA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8A63-5007-4E03-879B-485553D4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F978-4FFF-456F-8AEC-04D2A8F9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8D7F-8430-4BB1-B963-0943A6FA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C79C-1FB8-4F0D-9ED9-83003A56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CB0A-2940-4231-B39F-DB1645A5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30B4-DFB4-4D55-BD5C-24CF030A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70E3-7003-48B5-A464-14B7C9AC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FEE5-0AA0-4E7F-9EF5-4B153EAE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4B4D-B22E-46A8-B6CE-1FEC4907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9247-46B1-41E9-A7C7-87FA3230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32FF-E2D4-447D-9403-D9244E1131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стема работы школы по предупреждению неуспеваемости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тупление на семина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дюхина Л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ная форма учебной работы даёт возможность говорить каждому ученику и требует специального управления поведением детей и арсенала речевых ум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евые включения нужны там, где действие или операция не возникают у большей части учащихся. Всякий раз, когда тот или иной вид деятельности вызывает затруднения у большей части ребят и приводит к большому числу ошибок, это указывает на необходимость перевода какой-то части действий в речевой эт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дение парной организационной формы на разных этапах процесса усвоения, реализуемого в уроке, позволяет повысить степень завершённости в реализации каждого этапа урока и включить большое число учащихся в учебный процесс. Тем самым возникает число учебных ситуаций, в которых благодаря переводу части действий в речевые фазы усвоения, ученики могут усваивать учебный материал более осознанно и успеш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ая организация учебного процесса создаёт возможность самостоятельного успешного усвоения новых знаний, умений и компетентностей, включая формирование важнейшей компетентности личности – умения учиться. В соответствии с этим происходит процесс развития личности, развитие самосознания, позитивной самооценки, освоение социальных ролей, норм и прав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ключенность МБОУ «СШ №5» в городской инновационный комплекс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вхождения: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«Школа сотрудничеств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роки январь 2014г – март 2015г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ы коммуник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Учитель начальной школы – учитель средней и старшей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Учитель средней и старшей школы – учитель средней и старшей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Учителя школы  -  учителя, работающие с детьми ОВ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Учитель школы №5 – школы комплек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Учитель школы №5 – дистанционные консуль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Учитель- уче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Учитель- роди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Ученик- уче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Родитель- уче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меющийся резерв( возможно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я начальных классов владеют критериями для построения урока по ФГОС, три учителя начальной школы проучены и успешно используют на уроках орг.диалог и речевые фазы, шесть учителей среднего звена проучены и используют на уроках орг.диа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правления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познавательных УВД средствами оргдиал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ысловое чтение 2-3 классы.( не менее 3 фрагментов уро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сотрудничество между учителями начальной школы, средней и старшей школы, учителями муниципального комплекса для изменения урока по критериям ФГОС через применение оргдиалога и речевых ф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лем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ак предотвратить низкое качество знаний и неуспеваемость у учащих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КЛЮЧЕННОСТЬ КАЖДОГО УЧЕНИКА В УЧЕБНЫЙ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ЦЕСС КАК ИСХОДНАЯ ПРОБЛЕМА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РАЗОВАН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 проблемы включенности позволит решить многие другие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циплина на уроке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зкая мотивация учащих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абая воля к преодолению трудн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внимательность на урок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абый текущий контро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регулярное выполнение домашних зад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 полной включенности ученика в учебный процесс мы можем говорить только тогда, когда ребенок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о поводу изучаемой темы думает, рассуждает и старается понимать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бязательно оказывается в ситуациях, когда он восстанавливает, обсуждает содержание изучаемого, оформляет его в текст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ыполняет определенные действия по поводу изучаемой темы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ключенность  = </a:t>
            </a:r>
            <a:r>
              <a:rPr b="0" lang="ru-RU" sz="4800" spc="-1" strike="noStrike">
                <a:solidFill>
                  <a:srgbClr val="cc0099"/>
                </a:solidFill>
                <a:latin typeface="Arial"/>
              </a:rPr>
              <a:t>Мышление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4800" spc="-1" strike="noStrike">
                <a:solidFill>
                  <a:srgbClr val="cc0099"/>
                </a:solidFill>
                <a:latin typeface="Arial"/>
              </a:rPr>
              <a:t>Действ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4800" spc="-1" strike="noStrike">
                <a:solidFill>
                  <a:srgbClr val="cc0099"/>
                </a:solidFill>
                <a:latin typeface="Arial"/>
              </a:rPr>
              <a:t>Речь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можно считать достаточно эффективным, когда каждый ученик может выполнять осваиваемые на уроке действия, операции, проговаривая их в развернутом виде всл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структуре урока речевые фазы поэтапного формирования планируемых действий учащихся можно реализовать: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 форме выслушивания учителя, который проговаривает осваиваемое действие, процедуру (этап пассивной речи);- через хоровое проговаривания действи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через проговаривание друг другу или попеременное проговаривание друг другу, с одновременным выполнением действи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через выполнение действия с комментированием, проговаривание процесса его выполнения себе вполгол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ение роста числа детей, включенных в урок на разных его этапах – задача реально достижима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Это можно осуществить через планирование и организацию урока на основе принципа включенности каждого ребенка во все этапы усвоения, реализуемые на уроке, а также через использование речевой работы каждого ребенка в специально </a:t>
            </a:r>
            <a:r>
              <a:rPr b="1" lang="ru-RU" sz="3200" spc="-1" strike="noStrike" u="sng">
                <a:solidFill>
                  <a:srgbClr val="cc0099"/>
                </a:solidFill>
                <a:uFillTx/>
                <a:latin typeface="Arial"/>
              </a:rPr>
              <a:t>организованных диалог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4T02:02:23Z</dcterms:created>
  <dc:creator>Персональный компьютер</dc:creator>
  <dc:description/>
  <dc:language>en-US</dc:language>
  <cp:lastModifiedBy>Admin</cp:lastModifiedBy>
  <dcterms:modified xsi:type="dcterms:W3CDTF">2019-01-02T06:23:40Z</dcterms:modified>
  <cp:revision>8</cp:revision>
  <dc:subject/>
  <dc:title>Система работы школы по предупреждению неуспеваемости учащихся</dc:title>
</cp:coreProperties>
</file>