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631-EB67-4D3F-BCD1-483F7B56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9B6-AC52-4292-8382-342F0721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4B11-9BD2-426B-B393-D793EE59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D89F-625B-48E8-A3FC-FE84AA05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660-25A8-4AF4-A7D6-0EFB1CAA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A3F-19CB-4784-95DB-836CC2BF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82A4-C8C2-4467-B430-A4754275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F9D7-9E52-4B05-B3C7-D99C5492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A8B7-FE47-45AF-97E1-00A3FF88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83FC-9840-46E6-91C5-371C2A6A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7E30-6450-41EF-BF32-256294EE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992-A85B-4493-81F1-2D6691C4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268B-9820-4C05-B15D-93BDE005C9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стема работы школы по предупреждению неуспеваемости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тупление на семина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дюхина Л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ная форма учебной работы даёт возможность говорить каждому ученику и требует специального управления поведением детей и арсенала речевых ум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ые включения нужны там, где действие или операция не возникают у большей части учащихся. Всякий раз, когда тот или иной вид деятельности вызывает затруднения у большей части ребят и приводит к большому числу ошибок, это указывает на необходимость перевода какой-то части действий в речевой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дение парной организационной формы на разных этапах процесса усвоения, реализуемого в уроке, позволяет повысить степень завершённости в реализации каждого этапа урока и включить большое число учащихся в учебный процесс. Тем самым возникает число учебных ситуаций, в которых благодаря переводу части действий в речевые фазы усвоения, ученики могут усваивать учебный материал более осознанно и успеш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ая организация учебного процесса создаёт возможность самостоятельного успешного усвоения новых знаний, умений и компетентностей, включая формирование важнейшей компетентности личности – умения учиться. В соответствии с этим происходит процесс развития личности, развитие самосознания, позитивной самооценки, освоение социальных ролей, норм и прав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ключенность МБОУ «СШ №5» в городской инновационный комплекс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вхождения: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«Школа сотрудничеств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оки январь 2014г – март 2015г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ы коммуник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Учитель начальной школы – учитель средней и старшей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Учитель средней и старшей школы – учитель средней и старшей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Учителя школы  -  учителя, работающие с детьми ОВ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читель школы №5 – школы компле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Учитель школы №5 – дистанционные консуль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Учитель- уче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Учитель- роди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Ученик- уче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Родитель- уче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меющийся резерв( возмож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я начальных классов владеют критериями для построения урока по ФГОС, три учителя начальной школы проучены и успешно используют на уроках орг.диалог и речевые фазы, шесть учителей среднего звена проучены и используют на уроках орг.диа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авления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ознавательных УВД средствами оргдиа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ое чтение 2-3 классы.( не менее 3 фрагментов уро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сотрудничество между учителями начальной школы, средней и старшей школы, учителями муниципального комплекса для изменения урока по критериям ФГОС через применение оргдиалога и речевых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ак предотвратить низкое качество знаний и неуспеваемость у учащих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КЛЮЧЕННОСТЬ КАЖДОГО УЧЕНИКА В УЧЕБНЫЙ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ЦЕСС КАК ИСХОДНАЯ ПРОБЛЕМА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РАЗОВА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проблемы включенности позволит решить многие другие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циплина на уроке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ая мотивация учащих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бая воля к преодолению трудн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внимательность на урок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бый текущий контро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егулярное выполнение домашних за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 полной включенности ученика в учебный процесс мы можем говорить только тогда, когда ребенок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 поводу изучаемой темы думает, рассуждает и старается понимать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бязательно оказывается в ситуациях, когда он восстанавливает, обсуждает содержание изучаемого, оформляет его в текст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ыполняет определенные действия по поводу изучаемой темы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ключенность  = </a:t>
            </a:r>
            <a:r>
              <a:rPr b="0" lang="ru-RU" sz="4800" spc="-1" strike="noStrike">
                <a:solidFill>
                  <a:srgbClr val="cc0099"/>
                </a:solidFill>
                <a:latin typeface="Arial"/>
              </a:rPr>
              <a:t>Мышление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4800" spc="-1" strike="noStrike">
                <a:solidFill>
                  <a:srgbClr val="cc0099"/>
                </a:solidFill>
                <a:latin typeface="Arial"/>
              </a:rPr>
              <a:t>Действ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4800" spc="-1" strike="noStrike">
                <a:solidFill>
                  <a:srgbClr val="cc0099"/>
                </a:solidFill>
                <a:latin typeface="Arial"/>
              </a:rPr>
              <a:t>Реч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можно считать достаточно эффективным, когда каждый ученик может выполнять осваиваемые на уроке действия, операции, проговаривая их в развернутом виде всл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структуре урока речевые фазы поэтапного формирования планируемых действий учащихся можно реализовать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 форме выслушивания учителя, который проговаривает осваиваемое действие, процедуру (этап пассивной речи);- через хоровое проговаривания действ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через проговаривание друг другу или попеременное проговаривание друг другу, с одновременным выполнением действ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через выполнение действия с комментированием, проговаривание процесса его выполнения себе вполгол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ение роста числа детей, включенных в урок на разных его этапах – задача реально достижима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Это можно осуществить через планирование и организацию урока на основе принципа включенности каждого ребенка во все этапы усвоения, реализуемые на уроке, а также через использование речевой работы каждого ребенка в специально </a:t>
            </a:r>
            <a:r>
              <a:rPr b="1" lang="ru-RU" sz="3200" spc="-1" strike="noStrike" u="sng">
                <a:solidFill>
                  <a:srgbClr val="cc0099"/>
                </a:solidFill>
                <a:uFillTx/>
                <a:latin typeface="Arial"/>
              </a:rPr>
              <a:t>организованных диалог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4T02:02:23Z</dcterms:created>
  <dc:creator>Персональный компьютер</dc:creator>
  <dc:description/>
  <dc:language>en-US</dc:language>
  <cp:lastModifiedBy>Admin</cp:lastModifiedBy>
  <dcterms:modified xsi:type="dcterms:W3CDTF">2019-01-02T06:23:40Z</dcterms:modified>
  <cp:revision>8</cp:revision>
  <dc:subject/>
  <dc:title>Система работы школы по предупреждению неуспеваемости учащихся</dc:title>
</cp:coreProperties>
</file>