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6.png" ContentType="image/png"/>
  <Override PartName="/ppt/media/image36.png" ContentType="image/png"/>
  <Override PartName="/ppt/media/image43.png" ContentType="image/png"/>
  <Override PartName="/ppt/media/image44.jpeg" ContentType="image/jpeg"/>
  <Override PartName="/ppt/media/image40.jpeg" ContentType="image/jpeg"/>
  <Override PartName="/ppt/media/image49.jpeg" ContentType="image/jpeg"/>
  <Override PartName="/ppt/media/image20.jpeg" ContentType="image/jpeg"/>
  <Override PartName="/ppt/media/image45.jpeg" ContentType="image/jpeg"/>
  <Override PartName="/ppt/media/image47.png" ContentType="image/png"/>
  <Override PartName="/ppt/media/image35.jpeg" ContentType="image/jpeg"/>
  <Override PartName="/ppt/media/image46.png" ContentType="image/png"/>
  <Override PartName="/ppt/media/image32.jpeg" ContentType="image/jpeg"/>
  <Override PartName="/ppt/media/image48.jpeg" ContentType="image/jpeg"/>
  <Override PartName="/ppt/media/image53.png" ContentType="image/pn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70DD-F58C-49DB-B658-BBE5E04F2B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4620-A917-4B65-8D06-A21D5FBEEC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786-6B4F-4970-B00E-6A90C821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473-06EC-4E7D-8A9D-6FA799CC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5D3-DE5B-4F3C-9B57-3910A012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89E-AD51-4F8A-850C-7B9CD816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5E61-C457-46F2-8B76-08D425DE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A308-25FA-4775-838D-61F2EB4F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7456-1A44-4306-BE15-BDF02D1C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0C16-8545-4C3E-ACAB-769BFF76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3551-4302-4886-9E5B-86BCC2FE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1D9C-FF8E-4011-A475-551D1BD4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58D4-02EF-4508-8758-3AB5E305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9E0-A061-4615-8A79-EF53E1CF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A9FB-3060-4E3A-8AA1-453FE8F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C4B5-85C4-49C1-8A39-F3DF5724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401E-30F8-465C-B1E8-57BD9426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ABAF-1579-4830-8430-3200B358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56C5-DEDA-40E0-A30C-1B1B218F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247-F235-4C69-B258-EE6400A4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2EA-3481-413D-9992-B9A79629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E00-C2C1-4E43-82F0-AB9B2B74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B1B-4CCB-4700-9470-CFF27FE1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835-3E36-419C-AA71-B5B85A65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C53-0A14-4BE6-BF88-537ED10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9B8-79A0-4F9F-9732-258A41D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60F8-A0B0-42E2-A49E-2DFAEFBDB88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73AC-F09E-484A-B767-700A5B4A571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sp>
        <p:nvSpPr>
          <p:cNvPr id="159" name="Text Box 4"/>
          <p:cNvSpPr/>
          <p:nvPr/>
        </p:nvSpPr>
        <p:spPr>
          <a:xfrm>
            <a:off x="0" y="1928880"/>
            <a:ext cx="87868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ртфолио ученика начальной школы в условиях введения ФГОС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28009a"/>
                </a:solidFill>
                <a:latin typeface="Arial"/>
              </a:rPr>
              <a:t>Учитель начальных классов: В.В. Суман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Arial"/>
              </a:rPr>
              <a:t>201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619280" y="371628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000160" y="714240"/>
            <a:ext cx="5143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КОУ школа-интерн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P1012989"/>
          <p:cNvPicPr/>
          <p:nvPr/>
        </p:nvPicPr>
        <p:blipFill>
          <a:blip r:embed="rId1"/>
          <a:stretch/>
        </p:blipFill>
        <p:spPr>
          <a:xfrm>
            <a:off x="785880" y="4214880"/>
            <a:ext cx="1957320" cy="128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24320" cy="3168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1619280" y="189000"/>
            <a:ext cx="5184720" cy="64764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я семь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7812000" y="3645000"/>
            <a:ext cx="72072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пап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948360" y="3645000"/>
            <a:ext cx="720720" cy="647640"/>
          </a:xfrm>
          <a:prstGeom prst="ellipse">
            <a:avLst/>
          </a:prstGeom>
          <a:solidFill>
            <a:srgbClr val="fbccbd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900da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6084720" y="3645000"/>
            <a:ext cx="720720" cy="64908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ма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6084720" y="2781360"/>
            <a:ext cx="86364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баб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7596360" y="2781360"/>
            <a:ext cx="86328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дед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6084720" y="2349360"/>
            <a:ext cx="2519640" cy="28764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200"/>
                </a:solidFill>
                <a:latin typeface="Arial"/>
              </a:rPr>
              <a:t>Родословное дер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6443640" y="4508640"/>
            <a:ext cx="72072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бр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7451640" y="4508640"/>
            <a:ext cx="649440" cy="647640"/>
          </a:xfrm>
          <a:prstGeom prst="ellipse">
            <a:avLst/>
          </a:prstGeom>
          <a:solidFill>
            <a:srgbClr val="f6fca2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00da"/>
                </a:solidFill>
                <a:latin typeface="Arial"/>
              </a:rPr>
              <a:t>сест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1" descr="P1013020"/>
          <p:cNvPicPr/>
          <p:nvPr/>
        </p:nvPicPr>
        <p:blipFill>
          <a:blip r:embed="rId3"/>
          <a:stretch/>
        </p:blipFill>
        <p:spPr>
          <a:xfrm>
            <a:off x="187200" y="2060640"/>
            <a:ext cx="2598840" cy="19400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3"/>
          <p:cNvSpPr/>
          <p:nvPr/>
        </p:nvSpPr>
        <p:spPr>
          <a:xfrm>
            <a:off x="250920" y="765000"/>
            <a:ext cx="76341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Здесь можно рассказать о себе, о своей сем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или составить небольшой рассказ</a:t>
            </a:r>
            <a:r>
              <a:rPr b="0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25" descr="P1013024"/>
          <p:cNvPicPr/>
          <p:nvPr/>
        </p:nvPicPr>
        <p:blipFill>
          <a:blip r:embed="rId4"/>
          <a:stretch/>
        </p:blipFill>
        <p:spPr>
          <a:xfrm>
            <a:off x="3276720" y="5013360"/>
            <a:ext cx="2519280" cy="1584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6"/>
          <p:cNvSpPr/>
          <p:nvPr/>
        </p:nvSpPr>
        <p:spPr>
          <a:xfrm>
            <a:off x="3708360" y="4581360"/>
            <a:ext cx="165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200"/>
                </a:solidFill>
                <a:latin typeface="Arial"/>
              </a:rPr>
              <a:t>Мой д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7" descr=""/>
          <p:cNvPicPr/>
          <p:nvPr/>
        </p:nvPicPr>
        <p:blipFill>
          <a:blip r:embed="rId5"/>
          <a:stretch/>
        </p:blipFill>
        <p:spPr>
          <a:xfrm>
            <a:off x="3419640" y="1989000"/>
            <a:ext cx="20160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«Мои друзья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410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28009a"/>
                </a:solidFill>
                <a:latin typeface="Arial"/>
              </a:rPr>
              <a:t>Фотографии друзей, информац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28009a"/>
                </a:solidFill>
                <a:latin typeface="Arial"/>
              </a:rPr>
              <a:t>об их интересах, увлечени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Содержимое 3" descr="1273558299_500x700-6-stranica.jpg"/>
          <p:cNvPicPr/>
          <p:nvPr/>
        </p:nvPicPr>
        <p:blipFill>
          <a:blip r:embed="rId1"/>
          <a:stretch/>
        </p:blipFill>
        <p:spPr>
          <a:xfrm>
            <a:off x="4714920" y="2071800"/>
            <a:ext cx="1886040" cy="244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1012954"/>
          <p:cNvPicPr/>
          <p:nvPr/>
        </p:nvPicPr>
        <p:blipFill>
          <a:blip r:embed="rId2"/>
          <a:stretch/>
        </p:blipFill>
        <p:spPr>
          <a:xfrm>
            <a:off x="6942240" y="5143680"/>
            <a:ext cx="1662120" cy="12934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"/>
          <p:cNvSpPr/>
          <p:nvPr/>
        </p:nvSpPr>
        <p:spPr>
          <a:xfrm>
            <a:off x="250920" y="1557360"/>
            <a:ext cx="446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P1012286"/>
          <p:cNvPicPr/>
          <p:nvPr/>
        </p:nvPicPr>
        <p:blipFill>
          <a:blip r:embed="rId3"/>
          <a:stretch/>
        </p:blipFill>
        <p:spPr>
          <a:xfrm>
            <a:off x="100080" y="2139840"/>
            <a:ext cx="1471680" cy="1144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P1012289"/>
          <p:cNvPicPr/>
          <p:nvPr/>
        </p:nvPicPr>
        <p:blipFill>
          <a:blip r:embed="rId4"/>
          <a:stretch/>
        </p:blipFill>
        <p:spPr>
          <a:xfrm>
            <a:off x="4714920" y="5234040"/>
            <a:ext cx="1657440" cy="1292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P1012293"/>
          <p:cNvPicPr/>
          <p:nvPr/>
        </p:nvPicPr>
        <p:blipFill>
          <a:blip r:embed="rId5"/>
          <a:stretch/>
        </p:blipFill>
        <p:spPr>
          <a:xfrm>
            <a:off x="214200" y="357120"/>
            <a:ext cx="1773360" cy="1239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P1012297"/>
          <p:cNvPicPr/>
          <p:nvPr/>
        </p:nvPicPr>
        <p:blipFill>
          <a:blip r:embed="rId6"/>
          <a:stretch/>
        </p:blipFill>
        <p:spPr>
          <a:xfrm>
            <a:off x="179280" y="4071960"/>
            <a:ext cx="1675080" cy="130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P1012306"/>
          <p:cNvPicPr/>
          <p:nvPr/>
        </p:nvPicPr>
        <p:blipFill>
          <a:blip r:embed="rId7"/>
          <a:stretch/>
        </p:blipFill>
        <p:spPr>
          <a:xfrm>
            <a:off x="2214720" y="5143680"/>
            <a:ext cx="1725480" cy="127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P1012304"/>
          <p:cNvPicPr/>
          <p:nvPr/>
        </p:nvPicPr>
        <p:blipFill>
          <a:blip r:embed="rId8"/>
          <a:stretch/>
        </p:blipFill>
        <p:spPr>
          <a:xfrm>
            <a:off x="6000840" y="285840"/>
            <a:ext cx="1779480" cy="1311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P1012831"/>
          <p:cNvPicPr/>
          <p:nvPr/>
        </p:nvPicPr>
        <p:blipFill>
          <a:blip r:embed="rId9"/>
          <a:stretch/>
        </p:blipFill>
        <p:spPr>
          <a:xfrm>
            <a:off x="6858000" y="2643120"/>
            <a:ext cx="18828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3" descr="P1012982"/>
          <p:cNvPicPr/>
          <p:nvPr/>
        </p:nvPicPr>
        <p:blipFill>
          <a:blip r:embed="rId1"/>
          <a:stretch/>
        </p:blipFill>
        <p:spPr>
          <a:xfrm>
            <a:off x="5429160" y="3500280"/>
            <a:ext cx="2808360" cy="1659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P1012983"/>
          <p:cNvPicPr/>
          <p:nvPr/>
        </p:nvPicPr>
        <p:blipFill>
          <a:blip r:embed="rId2"/>
          <a:stretch/>
        </p:blipFill>
        <p:spPr>
          <a:xfrm>
            <a:off x="2000160" y="4429080"/>
            <a:ext cx="3025800" cy="1857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P1012984"/>
          <p:cNvPicPr/>
          <p:nvPr/>
        </p:nvPicPr>
        <p:blipFill>
          <a:blip r:embed="rId3"/>
          <a:stretch/>
        </p:blipFill>
        <p:spPr>
          <a:xfrm>
            <a:off x="5724360" y="981000"/>
            <a:ext cx="2808360" cy="1828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9"/>
          <p:cNvSpPr/>
          <p:nvPr/>
        </p:nvSpPr>
        <p:spPr>
          <a:xfrm>
            <a:off x="468360" y="333360"/>
            <a:ext cx="66960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оя шк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214200" y="857160"/>
            <a:ext cx="4749840" cy="27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00a8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Рисунки школ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схема маршру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т дома до школ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(важно,  чтобы на ней б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тмечены опасные места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ересечение дорог, светофоры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687096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я общественная рабо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6248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28009a"/>
                </a:solidFill>
                <a:latin typeface="Times New Roman"/>
              </a:rPr>
              <a:t>Оформлять этот раздел желательно с использованием фотографий и кратких сообщений на тему.</a:t>
            </a:r>
            <a:r>
              <a:rPr b="1" i="1" lang="ru-RU" sz="3200" spc="-1" strike="noStrike">
                <a:solidFill>
                  <a:srgbClr val="1f0076"/>
                </a:solidFill>
                <a:latin typeface="Times New Roman"/>
              </a:rPr>
              <a:t> </a:t>
            </a:r>
            <a:br>
              <a:rPr sz="24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4" descr="P1012910"/>
          <p:cNvPicPr/>
          <p:nvPr/>
        </p:nvPicPr>
        <p:blipFill>
          <a:blip r:embed="rId1"/>
          <a:stretch/>
        </p:blipFill>
        <p:spPr>
          <a:xfrm>
            <a:off x="6572160" y="1143000"/>
            <a:ext cx="2089080" cy="273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571680" y="3286080"/>
            <a:ext cx="3384360" cy="2835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3929040" y="414324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4000680" y="2357280"/>
            <a:ext cx="3160440" cy="21513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Моя учёб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7920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0076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Ученик наполняет этот раздел удачно написанными контрольными работами, интересными проектами, отзывами о прочитанных книгах, графиками рос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скорости чтения, творческими работами. 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2"/>
          <a:stretch/>
        </p:blipFill>
        <p:spPr>
          <a:xfrm>
            <a:off x="2268360" y="4581360"/>
            <a:ext cx="3240360" cy="208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P1013028"/>
          <p:cNvPicPr/>
          <p:nvPr/>
        </p:nvPicPr>
        <p:blipFill>
          <a:blip r:embed="rId3"/>
          <a:stretch/>
        </p:blipFill>
        <p:spPr>
          <a:xfrm>
            <a:off x="468360" y="2506680"/>
            <a:ext cx="2889360" cy="1859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"/>
          <p:cNvPicPr/>
          <p:nvPr/>
        </p:nvPicPr>
        <p:blipFill>
          <a:blip r:embed="rId4"/>
          <a:stretch/>
        </p:blipFill>
        <p:spPr>
          <a:xfrm>
            <a:off x="6707160" y="4000680"/>
            <a:ext cx="1881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1042920" y="333360"/>
            <a:ext cx="511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ё творчество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6143760" y="3643200"/>
            <a:ext cx="2016000" cy="2824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3786120" y="2286000"/>
            <a:ext cx="2051280" cy="28843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8"/>
          <p:cNvSpPr/>
          <p:nvPr/>
        </p:nvSpPr>
        <p:spPr>
          <a:xfrm>
            <a:off x="285840" y="642960"/>
            <a:ext cx="3257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В этом разделе накапливаются рисунки детей, творческие работы, работы по предметам, всё, что он на данный момент создал сам (фотографии поделок, чего добился, занимаясь в кружках и т.д.)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6000840" y="1571760"/>
            <a:ext cx="270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009a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009a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ортфолио - папку роста, развития и достижений ученика, вполне можно  представлять как мини-презентацию на дне рождения ребенка,  родственникам, на родительских собраниях, в классе. Ведь пролистать красочную папку очень интересно!</a:t>
            </a:r>
            <a:r>
              <a:rPr b="0" i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4" descr="P1013021"/>
          <p:cNvPicPr/>
          <p:nvPr/>
        </p:nvPicPr>
        <p:blipFill>
          <a:blip r:embed="rId1"/>
          <a:stretch/>
        </p:blipFill>
        <p:spPr>
          <a:xfrm>
            <a:off x="1928880" y="500076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P1013023"/>
          <p:cNvPicPr/>
          <p:nvPr/>
        </p:nvPicPr>
        <p:blipFill>
          <a:blip r:embed="rId2"/>
          <a:stretch/>
        </p:blipFill>
        <p:spPr>
          <a:xfrm>
            <a:off x="5357880" y="5072040"/>
            <a:ext cx="2520720" cy="158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1071720" y="3071880"/>
            <a:ext cx="3022560" cy="1798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5143680" y="3071880"/>
            <a:ext cx="30794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1280" y="620640"/>
            <a:ext cx="48974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00d2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тчеты о достигнутых успехах, грамоты, дипломы, благодарственные письма, достижения в учёбе, мониторинги, достижения в  спорте, и т.д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0" y="-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2087280" cy="29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-1643040"/>
          <a:ext cx="208080" cy="7132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1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20"/>
          <p:cNvSpPr/>
          <p:nvPr/>
        </p:nvSpPr>
        <p:spPr>
          <a:xfrm>
            <a:off x="1800" y="5489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1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2050920" cy="2909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3" descr=""/>
          <p:cNvPicPr/>
          <p:nvPr/>
        </p:nvPicPr>
        <p:blipFill>
          <a:blip r:embed="rId3"/>
          <a:stretch/>
        </p:blipFill>
        <p:spPr>
          <a:xfrm>
            <a:off x="4716360" y="3213000"/>
            <a:ext cx="1908360" cy="2808360"/>
          </a:xfrm>
          <a:prstGeom prst="rect">
            <a:avLst/>
          </a:prstGeom>
          <a:ln w="0">
            <a:noFill/>
          </a:ln>
        </p:spPr>
      </p:pic>
      <p:sp>
        <p:nvSpPr>
          <p:cNvPr id="245" name="WordArt 25"/>
          <p:cNvSpPr txBox="1"/>
          <p:nvPr/>
        </p:nvSpPr>
        <p:spPr>
          <a:xfrm>
            <a:off x="395280" y="333360"/>
            <a:ext cx="590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и достижения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4"/>
          <a:stretch/>
        </p:blipFill>
        <p:spPr>
          <a:xfrm>
            <a:off x="642960" y="3643200"/>
            <a:ext cx="360036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WordArt 28"/>
          <p:cNvSpPr txBox="1"/>
          <p:nvPr/>
        </p:nvSpPr>
        <p:spPr>
          <a:xfrm>
            <a:off x="1835280" y="6093000"/>
            <a:ext cx="5902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ям нравится работать с портфолио!</a:t>
            </a:r>
            <a:endParaRPr b="1" lang="en-US" sz="4000" spc="1" strike="noStrike">
              <a:ln w="9360">
                <a:solidFill>
                  <a:srgbClr val="0000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385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00b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28009a"/>
                </a:solidFill>
                <a:latin typeface="Arial"/>
              </a:rPr>
              <a:t>На  этих  страничках  ребенок  может  поделиться  своими  впечатлениями о  посещении  театров,  выставок  и  музеев, вспомнить  содержание экскурсий, познавательных программ,  в  которых он  участвовал.  Дополнить свои  заметки  фотографиями и  рисун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WordArt 3"/>
          <p:cNvSpPr txBox="1"/>
          <p:nvPr/>
        </p:nvSpPr>
        <p:spPr>
          <a:xfrm>
            <a:off x="2340000" y="404640"/>
            <a:ext cx="439272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и впечатления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258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2519280" cy="17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0" y="1523880"/>
          <a:ext cx="208080" cy="2679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6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12"/>
          <p:cNvSpPr/>
          <p:nvPr/>
        </p:nvSpPr>
        <p:spPr>
          <a:xfrm>
            <a:off x="1800" y="4203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2521080" cy="1666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P1020373"/>
          <p:cNvPicPr/>
          <p:nvPr/>
        </p:nvPicPr>
        <p:blipFill>
          <a:blip r:embed="rId3"/>
          <a:stretch/>
        </p:blipFill>
        <p:spPr>
          <a:xfrm>
            <a:off x="6443640" y="3141720"/>
            <a:ext cx="2521080" cy="1584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P1012915"/>
          <p:cNvPicPr/>
          <p:nvPr/>
        </p:nvPicPr>
        <p:blipFill>
          <a:blip r:embed="rId4"/>
          <a:stretch/>
        </p:blipFill>
        <p:spPr>
          <a:xfrm>
            <a:off x="6588000" y="5013360"/>
            <a:ext cx="2305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00a8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Главное - это то, что портфолио не несет идеи соперничества между детьми, а помогает каждому индивидуально развивать свои талан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тфолио соответствует целям, задачам и идеологии личностно-ориентированного развития обучающихся воспитанни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WordArt 12"/>
          <p:cNvSpPr txBox="1"/>
          <p:nvPr/>
        </p:nvSpPr>
        <p:spPr>
          <a:xfrm>
            <a:off x="826920" y="3068640"/>
            <a:ext cx="6985080" cy="22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684360" y="189000"/>
            <a:ext cx="7245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4600"/>
                </a:solidFill>
                <a:uFillTx/>
                <a:latin typeface="Times New Roman"/>
              </a:rPr>
              <a:t>"Все наши замыслы, все поиски и построения превращаются в прах, если у ученика нет желания учиться”</a:t>
            </a:r>
            <a:r>
              <a:rPr b="0" lang="ru-RU" sz="2400" spc="-1" strike="noStrike" u="sng">
                <a:solidFill>
                  <a:srgbClr val="0046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09a"/>
                </a:solidFill>
                <a:latin typeface="Times New Roman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.А. Сухомлинс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Современное образование должно быть направлено на развитие личности человека, раскрытие его возможностей, талантов, самореализации и подготовить воспитан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к получению професс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трудоустройств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пониманию и защите своих прав и интерес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</a:rPr>
              <a:t>достаточной коммуникации с другими членами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08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09a"/>
                </a:solidFill>
                <a:latin typeface="Times New Roman"/>
              </a:rPr>
              <a:t>Основной смысл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ртфолио </a:t>
            </a:r>
            <a:r>
              <a:rPr b="1" lang="ru-RU" sz="2800" spc="-1" strike="noStrike">
                <a:solidFill>
                  <a:srgbClr val="28009a"/>
                </a:solidFill>
                <a:latin typeface="Times New Roman"/>
              </a:rPr>
              <a:t>- показать всё, на что ты способен, не допустить потери веры в себя, в свои силы в самом начале пу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26" descr="P1013182"/>
          <p:cNvPicPr/>
          <p:nvPr/>
        </p:nvPicPr>
        <p:blipFill>
          <a:blip r:embed="rId1"/>
          <a:stretch/>
        </p:blipFill>
        <p:spPr>
          <a:xfrm>
            <a:off x="714240" y="407196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5143680" y="4143240"/>
            <a:ext cx="2786040" cy="178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P1013195"/>
          <p:cNvPicPr/>
          <p:nvPr/>
        </p:nvPicPr>
        <p:blipFill>
          <a:blip r:embed="rId3"/>
          <a:stretch/>
        </p:blipFill>
        <p:spPr>
          <a:xfrm>
            <a:off x="785880" y="1714680"/>
            <a:ext cx="2786040" cy="1941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4"/>
          <a:stretch/>
        </p:blipFill>
        <p:spPr>
          <a:xfrm>
            <a:off x="5214960" y="1785960"/>
            <a:ext cx="27147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756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71680" y="1000080"/>
            <a:ext cx="7643520" cy="44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едагогические задачи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тфоли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создание ситуации успеха каждого учен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максимальное раскрытие индивидуальных способностей каждого ребён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стимулирование к самосовершенствовани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формирование установки на творческую деятель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развитие мотивации дальнейше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творческого рос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Times New Roman"/>
              </a:rPr>
              <a:t>приобретение навыков саморефлексии, формирование умения анализировать собственные интересы, склонности, потребности и соотносить их с имеющимися возможност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4357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</a:rPr>
              <a:t>Производить своевременную оценку заполнений всех раздел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</a:rPr>
              <a:t>Подготовить выставки, конкурсы, которые позволят ученикам проявить себ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</a:rPr>
              <a:t>Педагог обязан объяснять правила ведения и заполнения портфоли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009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4"/>
          <a:stretch/>
        </p:blipFill>
        <p:spPr>
          <a:xfrm>
            <a:off x="2857680" y="4286160"/>
            <a:ext cx="3571560" cy="24066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5"/>
          <p:cNvSpPr/>
          <p:nvPr/>
        </p:nvSpPr>
        <p:spPr>
          <a:xfrm>
            <a:off x="1403280" y="189000"/>
            <a:ext cx="61214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оль учителя в создании  портфоли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5" descr="P1013125"/>
          <p:cNvPicPr/>
          <p:nvPr/>
        </p:nvPicPr>
        <p:blipFill>
          <a:blip r:embed="rId5"/>
          <a:stretch/>
        </p:blipFill>
        <p:spPr>
          <a:xfrm>
            <a:off x="5000760" y="1643040"/>
            <a:ext cx="3240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57120" y="357120"/>
            <a:ext cx="7572600" cy="3270600"/>
          </a:xfrm>
          <a:prstGeom prst="rect">
            <a:avLst/>
          </a:prstGeom>
          <a:solidFill>
            <a:srgbClr val="faf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Моё педагогическое кредо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«Помочь ученику осознать себя личностью, пробудить потребность в познании себя, жизни, мира, воспитать в нём чувство человеческого достоинства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Создание портфолио проходит под девизом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Думай, дерзай, твори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0" descr="P1013001"/>
          <p:cNvPicPr/>
          <p:nvPr/>
        </p:nvPicPr>
        <p:blipFill>
          <a:blip r:embed="rId1"/>
          <a:stretch/>
        </p:blipFill>
        <p:spPr>
          <a:xfrm>
            <a:off x="2714760" y="3929040"/>
            <a:ext cx="4032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79280" y="260280"/>
            <a:ext cx="8607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ро детей с ограниченными возможностями здоровья многие говорят: «</a:t>
            </a:r>
            <a:r>
              <a:rPr b="1" i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н не может!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Это неправда. Он может всё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ортфолио тому доказательство. Оно  зеркало ученика на протяжении всего обучения в специальной коррекционной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71880" y="3714840"/>
            <a:ext cx="3173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43000" y="857160"/>
            <a:ext cx="68515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009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Портфолио ученика в коррекционной школе необходимо для отслеживания динамики развития учащег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но помогает проектировать его «зону ближайшего развития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казания ему посильной помощи в адаптации к нашей современной сложной действи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09a"/>
                </a:solidFill>
                <a:latin typeface="Times New Roman"/>
                <a:ea typeface="Times New Roman"/>
              </a:rPr>
              <a:t>отслеживает и корректирует результаты совместной работы всех специалистов и педагогов    школы –интерн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4"/>
          <p:cNvSpPr/>
          <p:nvPr/>
        </p:nvSpPr>
        <p:spPr>
          <a:xfrm>
            <a:off x="108000" y="112536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009a"/>
                </a:solidFill>
                <a:latin typeface="Arial"/>
              </a:rPr>
              <a:t>В это разделе: </a:t>
            </a:r>
            <a:r>
              <a:rPr b="1" i="1" lang="ru-RU" sz="2000" spc="-1" strike="noStrike">
                <a:solidFill>
                  <a:srgbClr val="28009a"/>
                </a:solidFill>
                <a:latin typeface="Arial"/>
              </a:rPr>
              <a:t>фотография учащегося, краткие сведения о ребёнке, тестирование    по темам в  виде рисунков: моя семья, мой дом, родословное дерево, мои друзья, моя школа, моя общественная работа, мои увлечения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WordArt 35"/>
          <p:cNvSpPr txBox="1"/>
          <p:nvPr/>
        </p:nvSpPr>
        <p:spPr>
          <a:xfrm>
            <a:off x="2411280" y="2602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й мир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1" name="Picture 38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2448000" cy="3384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9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2305080" cy="3311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0" descr=""/>
          <p:cNvPicPr/>
          <p:nvPr/>
        </p:nvPicPr>
        <p:blipFill>
          <a:blip r:embed="rId3"/>
          <a:stretch/>
        </p:blipFill>
        <p:spPr>
          <a:xfrm>
            <a:off x="3635280" y="2852640"/>
            <a:ext cx="2303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5:37:49Z</dcterms:created>
  <dc:creator>Вера</dc:creator>
  <dc:description/>
  <dc:language>en-US</dc:language>
  <cp:lastModifiedBy>Вера</cp:lastModifiedBy>
  <dcterms:modified xsi:type="dcterms:W3CDTF">2019-01-02T14:09:42Z</dcterms:modified>
  <cp:revision>77</cp:revision>
  <dc:subject/>
  <dc:title>Слайд 1</dc:title>
</cp:coreProperties>
</file>