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1C28-BBA1-4201-8790-EF1093BC9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73B8-34AF-4525-B76F-1AAE7538A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E9C-0A5D-4322-A164-8C945793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0B7-EFE0-4DFB-9048-C4ACFCD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F2E-677B-45E9-A8B5-583F80D7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A6E-3EEB-4FAA-B3DE-260474E7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AE1-AE6C-48FD-AA34-64CA1EC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28E-F348-4A63-B26E-A703D62B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C16-B5FE-434A-A16F-8FE683B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5B3-9184-48C2-A815-713CA87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BA2-CCA8-4503-BDEC-6A03B419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9E9-5DD4-43E4-9237-99007DA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DF2-D41E-457D-811B-CCC00C1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EEC-BF55-401A-A2CC-43F2962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E890-284B-4B58-BE43-4DE112E7C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4080"/>
            <a:ext cx="7243920" cy="1080720"/>
          </a:xfrm>
          <a:prstGeom prst="rect">
            <a:avLst/>
          </a:prstGeom>
          <a:noFill/>
          <a:ln cap="rnd" w="9360">
            <a:solidFill>
              <a:srgbClr val="31859c"/>
            </a:solidFill>
            <a:bevel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49" name="Рисунок 5" descr="1.jpg"/>
          <p:cNvPicPr/>
          <p:nvPr/>
        </p:nvPicPr>
        <p:blipFill>
          <a:blip r:embed="rId1"/>
          <a:stretch/>
        </p:blipFill>
        <p:spPr>
          <a:xfrm>
            <a:off x="-12600" y="0"/>
            <a:ext cx="9097920" cy="679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img0.png"/>
          <p:cNvPicPr/>
          <p:nvPr/>
        </p:nvPicPr>
        <p:blipFill>
          <a:blip r:embed="rId2"/>
          <a:stretch/>
        </p:blipFill>
        <p:spPr>
          <a:xfrm>
            <a:off x="2500200" y="571680"/>
            <a:ext cx="5722920" cy="2077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7"/>
          <p:cNvSpPr/>
          <p:nvPr/>
        </p:nvSpPr>
        <p:spPr>
          <a:xfrm>
            <a:off x="3714840" y="26431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ьца Лул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14720" y="3929040"/>
            <a:ext cx="46432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енцова Ольг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ДС «Аленький цветоче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Волгодо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Вертикальный свиток 4"/>
          <p:cNvSpPr/>
          <p:nvPr/>
        </p:nvSpPr>
        <p:spPr>
          <a:xfrm>
            <a:off x="0" y="214200"/>
            <a:ext cx="9144000" cy="6643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5880" y="213840"/>
            <a:ext cx="75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обие позволяет решать 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познавательную активность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енсорное развитие (восприятие цвета, формы)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формировать элементарные математические представления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овершенствовать грамматический строй речи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мелкую моторику и координацию движений р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креативные способности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навыки фантастического преобразования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686800" y="272520"/>
            <a:ext cx="4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ертикальный свиток 6"/>
          <p:cNvSpPr/>
          <p:nvPr/>
        </p:nvSpPr>
        <p:spPr>
          <a:xfrm>
            <a:off x="-571680" y="0"/>
            <a:ext cx="4857840" cy="6858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 формировать элементарные математические представления, упражнять соотносить цифру и количество предметов в пределах 5-ти; развивать мелкую моторику пальцев рук, внимание.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Закреплять умение различать цвета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; умение соотносить предмет и цвет; совершенствовать грамматический строй речи; развивать мелкую моторику пальцев рук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9290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развитие"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3714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7" descr="07022008503.jpg"/>
          <p:cNvPicPr/>
          <p:nvPr/>
        </p:nvPicPr>
        <p:blipFill>
          <a:blip r:embed="rId2"/>
          <a:stretch/>
        </p:blipFill>
        <p:spPr>
          <a:xfrm>
            <a:off x="3643200" y="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9" descr="07022008502.jpg"/>
          <p:cNvPicPr/>
          <p:nvPr/>
        </p:nvPicPr>
        <p:blipFill>
          <a:blip r:embed="rId3"/>
          <a:stretch/>
        </p:blipFill>
        <p:spPr>
          <a:xfrm>
            <a:off x="5286240" y="1714680"/>
            <a:ext cx="3857760" cy="27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1"/>
          <p:cNvSpPr/>
          <p:nvPr/>
        </p:nvSpPr>
        <p:spPr>
          <a:xfrm>
            <a:off x="3787200" y="0"/>
            <a:ext cx="106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ч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7955640" y="1571760"/>
            <a:ext cx="1172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в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3" descr="SAM_1811.JPG"/>
          <p:cNvPicPr/>
          <p:nvPr/>
        </p:nvPicPr>
        <p:blipFill>
          <a:blip r:embed="rId4"/>
          <a:stretch/>
        </p:blipFill>
        <p:spPr>
          <a:xfrm>
            <a:off x="3786120" y="400068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3659040" y="4000680"/>
            <a:ext cx="1579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ериа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Вертикальный свиток 6"/>
          <p:cNvSpPr/>
          <p:nvPr/>
        </p:nvSpPr>
        <p:spPr>
          <a:xfrm rot="5400000">
            <a:off x="3642840" y="-3429000"/>
            <a:ext cx="207180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438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развитие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7400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571680" y="1643040"/>
            <a:ext cx="8215200" cy="13136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адачи: 1. Закрепить умение различать и называть пространственные отношения: справа — с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. Упражнять детей в определении правой руки и правой стороны; левой руки и лево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SAM_1799.JPG"/>
          <p:cNvPicPr/>
          <p:nvPr/>
        </p:nvPicPr>
        <p:blipFill>
          <a:blip r:embed="rId2"/>
          <a:stretch/>
        </p:blipFill>
        <p:spPr>
          <a:xfrm>
            <a:off x="4834080" y="307188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3"/>
          <p:cNvSpPr/>
          <p:nvPr/>
        </p:nvSpPr>
        <p:spPr>
          <a:xfrm>
            <a:off x="5580000" y="3143160"/>
            <a:ext cx="345744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Какой фигуры не хвата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4" descr="SAM_1796.JPG"/>
          <p:cNvPicPr/>
          <p:nvPr/>
        </p:nvPicPr>
        <p:blipFill>
          <a:blip r:embed="rId3"/>
          <a:stretch/>
        </p:blipFill>
        <p:spPr>
          <a:xfrm>
            <a:off x="1571760" y="460692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0" descr="07022008501.jpg"/>
          <p:cNvPicPr/>
          <p:nvPr/>
        </p:nvPicPr>
        <p:blipFill>
          <a:blip r:embed="rId4"/>
          <a:stretch/>
        </p:blipFill>
        <p:spPr>
          <a:xfrm>
            <a:off x="0" y="29289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640720" y="272520"/>
            <a:ext cx="4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226600" y="4286160"/>
            <a:ext cx="18097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Ориент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Вертикальный свиток 4"/>
          <p:cNvSpPr/>
          <p:nvPr/>
        </p:nvSpPr>
        <p:spPr>
          <a:xfrm>
            <a:off x="0" y="0"/>
            <a:ext cx="464328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2865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область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br>
              <a:rPr sz="2400"/>
            </a:br>
            <a:r>
              <a:rPr b="1" i="1" lang="ru-RU" sz="2000" spc="-1" strike="noStrike" u="sng">
                <a:solidFill>
                  <a:srgbClr val="953735"/>
                </a:solidFill>
                <a:uFillTx/>
                <a:latin typeface="Calibri"/>
              </a:rPr>
              <a:t>Формирование целостной картины мира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16" name="Содержимое 6" descr="07022008508.jpg"/>
          <p:cNvPicPr/>
          <p:nvPr/>
        </p:nvPicPr>
        <p:blipFill>
          <a:blip r:embed="rId2"/>
          <a:stretch/>
        </p:blipFill>
        <p:spPr>
          <a:xfrm>
            <a:off x="4500720" y="21420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7118640" y="3071880"/>
            <a:ext cx="213912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Чей малы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Кто где жив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8" descr="SAM_1809.JPG"/>
          <p:cNvPicPr/>
          <p:nvPr/>
        </p:nvPicPr>
        <p:blipFill>
          <a:blip r:embed="rId3"/>
          <a:stretch/>
        </p:blipFill>
        <p:spPr>
          <a:xfrm>
            <a:off x="714240" y="3875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SAM_1808.JPG"/>
          <p:cNvPicPr/>
          <p:nvPr/>
        </p:nvPicPr>
        <p:blipFill>
          <a:blip r:embed="rId4"/>
          <a:stretch/>
        </p:blipFill>
        <p:spPr>
          <a:xfrm>
            <a:off x="5000760" y="391176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0"/>
          <p:cNvSpPr/>
          <p:nvPr/>
        </p:nvSpPr>
        <p:spPr>
          <a:xfrm>
            <a:off x="3214800" y="3857760"/>
            <a:ext cx="3000240" cy="3988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«Найди по силуэту 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1939680" y="6215040"/>
            <a:ext cx="259308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050960" y="6286680"/>
            <a:ext cx="208260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кие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0" y="2071800"/>
            <a:ext cx="457200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звитие у детей познавательных интересов, интеллектуального развития у детей через формирование целостной картины мира, расширение кругозор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Вертикальный свиток 4"/>
          <p:cNvSpPr/>
          <p:nvPr/>
        </p:nvSpPr>
        <p:spPr>
          <a:xfrm>
            <a:off x="-285840" y="0"/>
            <a:ext cx="9429840" cy="6572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 rot="10800000">
            <a:off x="8786160" y="6428520"/>
            <a:ext cx="1429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71424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113600" y="3071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28592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7040520" y="62866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571680" y="1714680"/>
            <a:ext cx="3571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15" descr="SAM_1807.JPG"/>
          <p:cNvPicPr/>
          <p:nvPr/>
        </p:nvPicPr>
        <p:blipFill>
          <a:blip r:embed="rId2"/>
          <a:stretch/>
        </p:blipFill>
        <p:spPr>
          <a:xfrm>
            <a:off x="2238480" y="0"/>
            <a:ext cx="4762440" cy="3411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6" descr="SAM_1793.JPG"/>
          <p:cNvPicPr/>
          <p:nvPr/>
        </p:nvPicPr>
        <p:blipFill>
          <a:blip r:embed="rId3"/>
          <a:stretch/>
        </p:blipFill>
        <p:spPr>
          <a:xfrm>
            <a:off x="214200" y="321480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7" descr="SAM_1794.JPG"/>
          <p:cNvPicPr/>
          <p:nvPr/>
        </p:nvPicPr>
        <p:blipFill>
          <a:blip r:embed="rId4"/>
          <a:stretch/>
        </p:blipFill>
        <p:spPr>
          <a:xfrm>
            <a:off x="4762440" y="3286080"/>
            <a:ext cx="4238640" cy="3178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8"/>
          <p:cNvSpPr/>
          <p:nvPr/>
        </p:nvSpPr>
        <p:spPr>
          <a:xfrm>
            <a:off x="3657960" y="0"/>
            <a:ext cx="225180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для ч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960920" y="3429000"/>
            <a:ext cx="576144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получиться, если объединить…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Вертикальный свиток 4"/>
          <p:cNvSpPr/>
          <p:nvPr/>
        </p:nvSpPr>
        <p:spPr>
          <a:xfrm rot="5400000">
            <a:off x="178200" y="-749880"/>
            <a:ext cx="4572360" cy="4929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52862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  область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85560" y="928800"/>
            <a:ext cx="3143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0" y="1428840"/>
            <a:ext cx="5072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пособствовать развитию аналитического  мышления посредством нахождения общего и различного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хожими предметами и ситу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- Закреплять виды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8" descr="SAM_1816.JPG"/>
          <p:cNvPicPr/>
          <p:nvPr/>
        </p:nvPicPr>
        <p:blipFill>
          <a:blip r:embed="rId2"/>
          <a:stretch/>
        </p:blipFill>
        <p:spPr>
          <a:xfrm>
            <a:off x="0" y="3357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SAM_1819.JPG"/>
          <p:cNvPicPr/>
          <p:nvPr/>
        </p:nvPicPr>
        <p:blipFill>
          <a:blip r:embed="rId3"/>
          <a:stretch/>
        </p:blipFill>
        <p:spPr>
          <a:xfrm>
            <a:off x="278604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1" descr="07022008500.jpg"/>
          <p:cNvPicPr/>
          <p:nvPr/>
        </p:nvPicPr>
        <p:blipFill>
          <a:blip r:embed="rId4"/>
          <a:stretch/>
        </p:blipFill>
        <p:spPr>
          <a:xfrm>
            <a:off x="5143680" y="21420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7015680" y="214200"/>
            <a:ext cx="187236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быстре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323120" y="5500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446000" y="6488280"/>
            <a:ext cx="22410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авает-лет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13320" y="5500800"/>
            <a:ext cx="21132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здит-плав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7" descr="SAM_1786.JPG"/>
          <p:cNvPicPr/>
          <p:nvPr/>
        </p:nvPicPr>
        <p:blipFill>
          <a:blip r:embed="rId5"/>
          <a:stretch/>
        </p:blipFill>
        <p:spPr>
          <a:xfrm>
            <a:off x="6191280" y="3214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0"/>
          <p:cNvSpPr/>
          <p:nvPr/>
        </p:nvSpPr>
        <p:spPr>
          <a:xfrm>
            <a:off x="6846480" y="5214960"/>
            <a:ext cx="228528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Вертикальный свиток 4"/>
          <p:cNvSpPr/>
          <p:nvPr/>
        </p:nvSpPr>
        <p:spPr>
          <a:xfrm>
            <a:off x="-214200" y="0"/>
            <a:ext cx="4857480" cy="2286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85840" y="499680"/>
            <a:ext cx="48578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оциально-личностное развитие»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Развитие реч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14960" y="0"/>
            <a:ext cx="32860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153" name="Содержимое 6" descr="SAM_1800.JPG"/>
          <p:cNvPicPr/>
          <p:nvPr/>
        </p:nvPicPr>
        <p:blipFill>
          <a:blip r:embed="rId2"/>
          <a:stretch/>
        </p:blipFill>
        <p:spPr>
          <a:xfrm>
            <a:off x="285840" y="328608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8"/>
          <p:cNvSpPr/>
          <p:nvPr/>
        </p:nvSpPr>
        <p:spPr>
          <a:xfrm>
            <a:off x="214200" y="1857240"/>
            <a:ext cx="3929040" cy="131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очнить представления детей о труде взрослого, опираясь на «модел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147680" y="6143760"/>
            <a:ext cx="191952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рофе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4429080" y="0"/>
            <a:ext cx="4714920" cy="1923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лять умение узнавать отдельные сказки по отдель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ивизировать речь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SAM_1812.JPG"/>
          <p:cNvPicPr/>
          <p:nvPr/>
        </p:nvPicPr>
        <p:blipFill>
          <a:blip r:embed="rId3"/>
          <a:stretch/>
        </p:blipFill>
        <p:spPr>
          <a:xfrm>
            <a:off x="4286160" y="2214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6002640" y="5500800"/>
            <a:ext cx="19548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ерои сказ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Вертикальный свиток 4"/>
          <p:cNvSpPr/>
          <p:nvPr/>
        </p:nvSpPr>
        <p:spPr>
          <a:xfrm>
            <a:off x="0" y="285840"/>
            <a:ext cx="914400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286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речи»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2757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62" name="Рисунок 10" descr="SAM_1797.JPG"/>
          <p:cNvPicPr/>
          <p:nvPr/>
        </p:nvPicPr>
        <p:blipFill>
          <a:blip r:embed="rId2"/>
          <a:stretch/>
        </p:blipFill>
        <p:spPr>
          <a:xfrm>
            <a:off x="214200" y="2428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12" descr="SAM_1798.JPG"/>
          <p:cNvPicPr/>
          <p:nvPr/>
        </p:nvPicPr>
        <p:blipFill>
          <a:blip r:embed="rId3"/>
          <a:stretch/>
        </p:blipFill>
        <p:spPr>
          <a:xfrm>
            <a:off x="8686800" y="3182760"/>
            <a:ext cx="46080" cy="33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3" descr="SAM_1798.JPG"/>
          <p:cNvPicPr/>
          <p:nvPr/>
        </p:nvPicPr>
        <p:blipFill>
          <a:blip r:embed="rId4"/>
          <a:stretch/>
        </p:blipFill>
        <p:spPr>
          <a:xfrm>
            <a:off x="4214880" y="3071880"/>
            <a:ext cx="4714920" cy="35352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5"/>
          <p:cNvSpPr/>
          <p:nvPr/>
        </p:nvSpPr>
        <p:spPr>
          <a:xfrm>
            <a:off x="1143000" y="1071720"/>
            <a:ext cx="6858000" cy="131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Цель игры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: Развитие речи, внимания, образной и смысловой памяти, логического мышления. Научить детей находить предметы, противоположные по зна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3876840" y="3000240"/>
            <a:ext cx="334620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тивопо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Вертикальный свиток 4"/>
          <p:cNvSpPr/>
          <p:nvPr/>
        </p:nvSpPr>
        <p:spPr>
          <a:xfrm>
            <a:off x="0" y="214200"/>
            <a:ext cx="8715240" cy="15004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3008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0" name="Содержимое 6" descr="SAM_1792.JPG"/>
          <p:cNvPicPr/>
          <p:nvPr/>
        </p:nvPicPr>
        <p:blipFill>
          <a:blip r:embed="rId2"/>
          <a:stretch/>
        </p:blipFill>
        <p:spPr>
          <a:xfrm>
            <a:off x="214200" y="32860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SAM_1815.JPG"/>
          <p:cNvPicPr/>
          <p:nvPr/>
        </p:nvPicPr>
        <p:blipFill>
          <a:blip r:embed="rId3"/>
          <a:stretch/>
        </p:blipFill>
        <p:spPr>
          <a:xfrm>
            <a:off x="4738680" y="3286080"/>
            <a:ext cx="4405320" cy="33577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0"/>
          <p:cNvSpPr/>
          <p:nvPr/>
        </p:nvSpPr>
        <p:spPr>
          <a:xfrm>
            <a:off x="928800" y="1785960"/>
            <a:ext cx="7429320" cy="11912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Закреплять умение различать и называть цвета, умение составлять узор, обозначать результат словами "такой", "не тако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3651120" y="3286080"/>
            <a:ext cx="246384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дбери по цв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Вертикальный свиток 4"/>
          <p:cNvSpPr/>
          <p:nvPr/>
        </p:nvSpPr>
        <p:spPr>
          <a:xfrm>
            <a:off x="0" y="0"/>
            <a:ext cx="4286160" cy="2286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3471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7" name="Рисунок 7" descr="SAM_1813.JPG"/>
          <p:cNvPicPr/>
          <p:nvPr/>
        </p:nvPicPr>
        <p:blipFill>
          <a:blip r:embed="rId2"/>
          <a:stretch/>
        </p:blipFill>
        <p:spPr>
          <a:xfrm>
            <a:off x="1714680" y="2357280"/>
            <a:ext cx="5643360" cy="423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4572000" y="428760"/>
            <a:ext cx="4572000" cy="1069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  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ить умение  детей различать и называть  музыкальные инстр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5148000" y="2286000"/>
            <a:ext cx="2712240" cy="398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«Кто на чем игр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372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XIII веке французский монах Раймонд Луллий создал логическую машину в   виде бумажных кругов. Оказывается, ее можно прекрасно использовать как средство развития речи у детей. «Кольца Луллия» — это что-то вроде компьютера, только для слов. Простота конструкции позволяет применять ее даже в детском саду. А эффект огромен — познание языка и мира в их взаимо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1KZcf7C0XK0.jpg"/>
          <p:cNvPicPr/>
          <p:nvPr/>
        </p:nvPicPr>
        <p:blipFill>
          <a:blip r:embed="rId1"/>
          <a:stretch/>
        </p:blipFill>
        <p:spPr>
          <a:xfrm>
            <a:off x="214200" y="4214880"/>
            <a:ext cx="4143600" cy="2387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009.jpg"/>
          <p:cNvPicPr/>
          <p:nvPr/>
        </p:nvPicPr>
        <p:blipFill>
          <a:blip r:embed="rId2"/>
          <a:stretch/>
        </p:blipFill>
        <p:spPr>
          <a:xfrm>
            <a:off x="4071960" y="4286160"/>
            <a:ext cx="47991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Вертикальный свиток 4"/>
          <p:cNvSpPr/>
          <p:nvPr/>
        </p:nvSpPr>
        <p:spPr>
          <a:xfrm>
            <a:off x="0" y="357120"/>
            <a:ext cx="4286160" cy="14288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н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760" y="4214520"/>
            <a:ext cx="3900240" cy="15714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развивать внимание, зрительное восприятие, память, связную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84" name="Содержимое 6" descr="SAM_1801.JPG"/>
          <p:cNvPicPr/>
          <p:nvPr/>
        </p:nvPicPr>
        <p:blipFill>
          <a:blip r:embed="rId2"/>
          <a:stretch/>
        </p:blipFill>
        <p:spPr>
          <a:xfrm>
            <a:off x="190440" y="2786040"/>
            <a:ext cx="5024520" cy="37688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SAM_1814.JPG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6165360" y="214200"/>
            <a:ext cx="29314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редели эмо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357840" y="2214720"/>
            <a:ext cx="359892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Что перепутал худож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Вертикальный свиток 4"/>
          <p:cNvSpPr/>
          <p:nvPr/>
        </p:nvSpPr>
        <p:spPr>
          <a:xfrm>
            <a:off x="0" y="357120"/>
            <a:ext cx="8786880" cy="17146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РАЗВИТИЕ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86120" y="2357280"/>
            <a:ext cx="5114880" cy="378648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ример, совпали из взрослых животных зайчиха - из детенышей лисята: «Как могло случиться, что зайчиха стала воспитывать лисят, как она будет о них заботиться, чему станет учить». Заранее сказать детям, что ситуации сказочные, нереальные, значит можно дать волю фантаз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1144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6143760" y="2142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357120" y="2214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640720" y="272880"/>
            <a:ext cx="4608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214200" y="2286000"/>
            <a:ext cx="3357720" cy="161856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этом случае раскручиваются оба кольца. Далее обсуждается несовместимая на первый взгляд комбин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500040" y="4071960"/>
            <a:ext cx="3571920" cy="253332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жно самостоятельно изобретать свои варианты колец и способы игр и заданий к ним. К этому процессу также могут подключиться и воспитан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5" descr="_BRDmuG4I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1042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357120" y="214200"/>
            <a:ext cx="5429160" cy="14961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Игра- это искра, зажигающая огонёк пытливости и любознательности».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33685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ассовой педагогической практике фиксируется проблема развития творческих способностей детей дошкольного возраста. Это больше всего связано с отсутствием системы методов, которыми можно было увлечь ребенка творческой деятельностью. Дети не могут пользоваться имеющимися у них знаниями, так как они разобщены, не востребованы в полной мере и, следовательно, не являются основой для дальнейших мыслительных операций. Развитие мышления невозможно без формирования умственных операций. Умение классифицировать – одна из составляющих творческих способностей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686800" y="1600200"/>
            <a:ext cx="17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643120" y="3929040"/>
            <a:ext cx="5786640" cy="25333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ьца Луллия – это средство многофункционального характера, его можно применять для воспитания и развития детей по всем разделам программы. С помощью этой игры стало возможным обогатить условия для возрастающей роли интеллектуального развития ребенка и его познавательных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57120" y="300024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ертикальный свиток 4"/>
          <p:cNvSpPr/>
          <p:nvPr/>
        </p:nvSpPr>
        <p:spPr>
          <a:xfrm>
            <a:off x="0" y="285840"/>
            <a:ext cx="528624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2600" y="500040"/>
            <a:ext cx="4071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ьца Лулл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одно из средств развития интеллектуально – творческих способностей детей, предложенное авторами ТРИЗ и РТВ для использования в дошкольных учреждениях. Это пособие  вносит элемент игры в образовательную деятельность, помогает поддерживать интерес к изучаем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06022008496.jpg"/>
          <p:cNvPicPr/>
          <p:nvPr/>
        </p:nvPicPr>
        <p:blipFill>
          <a:blip r:embed="rId2"/>
          <a:stretch/>
        </p:blipFill>
        <p:spPr>
          <a:xfrm>
            <a:off x="4857840" y="214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572000" y="3500280"/>
            <a:ext cx="4572000" cy="13136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едназначена как для работы с подгруппой детей, так и для самостоятельной дет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214200" y="4929120"/>
            <a:ext cx="8715600" cy="1465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обие используется в работе с детьми 3-7 лет в непосредственной образовательной деятельности педагога с детьми, а также в режимных мо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нный игровой метод обучения способствует созданию заинтересованной, непринуждённой обстановки, снимает психологическое и физическое напряжение, обеспечивает восприятие нов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Вертикальный свиток 4"/>
          <p:cNvSpPr/>
          <p:nvPr/>
        </p:nvSpPr>
        <p:spPr>
          <a:xfrm rot="5400000">
            <a:off x="3071880" y="-2571840"/>
            <a:ext cx="292896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880" y="42840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ля изготовления пособия были взяты два прямоугольных куска фанеры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ириной, равной диаметру  колец(так же вырезанных из фанеры), и длиной на 2—4 см меньше двух диаметров ко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9" descr="06022008493.jpg"/>
          <p:cNvPicPr/>
          <p:nvPr/>
        </p:nvPicPr>
        <p:blipFill>
          <a:blip r:embed="rId2"/>
          <a:stretch/>
        </p:blipFill>
        <p:spPr>
          <a:xfrm>
            <a:off x="1928880" y="242892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ертикальный свиток 4"/>
          <p:cNvSpPr/>
          <p:nvPr/>
        </p:nvSpPr>
        <p:spPr>
          <a:xfrm rot="5400000">
            <a:off x="3071880" y="-2571840"/>
            <a:ext cx="292896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5880" y="42840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 верхнем прямоугольнике вырезано окошечко так, чтобы были видны совмещенные картинки. Крышка укреплена на небольших петельках.. Круги удобно вращать за выступы, которые образуются в результате того, что ширина пособия на 2—4 см меньше двух диаметров кру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06022008497.jpg"/>
          <p:cNvPicPr/>
          <p:nvPr/>
        </p:nvPicPr>
        <p:blipFill>
          <a:blip r:embed="rId2"/>
          <a:stretch/>
        </p:blipFill>
        <p:spPr>
          <a:xfrm>
            <a:off x="1500120" y="2500200"/>
            <a:ext cx="5572080" cy="417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8429760" y="272520"/>
            <a:ext cx="257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Вертикальный свиток 4"/>
          <p:cNvSpPr/>
          <p:nvPr/>
        </p:nvSpPr>
        <p:spPr>
          <a:xfrm rot="5400000">
            <a:off x="2928960" y="-2428920"/>
            <a:ext cx="321480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880" y="28548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вила игры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одинаковые  во всех темах)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: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1. Установить пособие на столе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2. Поднять крышку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3. На круги сверху уложить выбранные кольца с картинками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4. Закрыть крышкой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5. Прокрутив первый диск в окошечке устанавливается картинка, а прокручивая второй диск, ребенок подбирает правильный от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ласти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7" descr="06022008495.jpg"/>
          <p:cNvPicPr/>
          <p:nvPr/>
        </p:nvPicPr>
        <p:blipFill>
          <a:blip r:embed="rId2"/>
          <a:stretch/>
        </p:blipFill>
        <p:spPr>
          <a:xfrm>
            <a:off x="214200" y="2928960"/>
            <a:ext cx="4786560" cy="3589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06022008496.jpg"/>
          <p:cNvPicPr/>
          <p:nvPr/>
        </p:nvPicPr>
        <p:blipFill>
          <a:blip r:embed="rId3"/>
          <a:stretch/>
        </p:blipFill>
        <p:spPr>
          <a:xfrm>
            <a:off x="4572000" y="342900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Вертикальный свиток 4"/>
          <p:cNvSpPr/>
          <p:nvPr/>
        </p:nvSpPr>
        <p:spPr>
          <a:xfrm rot="5400000">
            <a:off x="3321360" y="-3107520"/>
            <a:ext cx="271476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5480" y="21420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использования пособия: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представлений дошкольников об окружающем мире; развитие творческого мышления и воображения; обогащение словарного запаса; формирование элементарных математических и эколог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SAM_1846.JPG"/>
          <p:cNvPicPr/>
          <p:nvPr/>
        </p:nvPicPr>
        <p:blipFill>
          <a:blip r:embed="rId2"/>
          <a:stretch/>
        </p:blipFill>
        <p:spPr>
          <a:xfrm>
            <a:off x="0" y="2625840"/>
            <a:ext cx="4500720" cy="3375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4" name="Рисунок 6" descr="SAM_1847.JPG"/>
          <p:cNvPicPr/>
          <p:nvPr/>
        </p:nvPicPr>
        <p:blipFill>
          <a:blip r:embed="rId3"/>
          <a:stretch/>
        </p:blipFill>
        <p:spPr>
          <a:xfrm>
            <a:off x="4667400" y="2643120"/>
            <a:ext cx="4476600" cy="33577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ертикальный свиток 4"/>
          <p:cNvSpPr/>
          <p:nvPr/>
        </p:nvSpPr>
        <p:spPr>
          <a:xfrm rot="5400000">
            <a:off x="2143080" y="-1928880"/>
            <a:ext cx="4857840" cy="87156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840" y="71388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не отметить  универсальность игрового материала. Используя лишь несколько колец, можно получить либо разные варианты игры, либо дополнения к проводимой игре. Детям очень нравится это пособие. Они с удовольствием самостоятельно заменяют кольца, комбинируют задания, пытаются сами определить цель и правила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57760" y="272520"/>
            <a:ext cx="328680" cy="5853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2786040" y="4572000"/>
            <a:ext cx="6143760" cy="180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игр множество. Всё зависит от возраста, поставленных задач , пройденного детьм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Компьютер</cp:lastModifiedBy>
  <dcterms:modified xsi:type="dcterms:W3CDTF">2018-12-29T15:49:12Z</dcterms:modified>
  <cp:revision>93</cp:revision>
  <dc:subject/>
  <dc:title>ФЭМП  «НАЗОВИ, СКОЛЬКО» ОО Позновательное развитие»</dc:title>
</cp:coreProperties>
</file>