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2D12-5BF7-4604-B540-92A945659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1196-E828-4015-BBB9-51948D4AB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918-8406-4315-B9A7-81391CF7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BB6-287A-437E-9263-C58878A9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49B-2D8A-450E-98DD-C1758F27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7D0-4968-408C-8C9C-9BDDF617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9F8-ED8F-49BC-B856-30849AC8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C69-7794-4B5D-8808-3F51B18A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97C-71CE-4690-8A04-439C90A3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31D-21FE-4C49-AB17-A30A3C88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C04-7E8A-4B2F-98A9-BDF685AB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630-DEF8-42B3-AA97-9942E0A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713-7E89-44E7-9CEC-E4C74C2E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BC9-98D7-4D9B-A784-EDDFCA2F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CA3C-34C0-4B83-A64D-5F6BB2247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4080"/>
            <a:ext cx="7243920" cy="1080720"/>
          </a:xfrm>
          <a:prstGeom prst="rect">
            <a:avLst/>
          </a:prstGeom>
          <a:noFill/>
          <a:ln cap="rnd" w="9360">
            <a:solidFill>
              <a:srgbClr val="31859c"/>
            </a:solidFill>
            <a:bevel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49" name="Рисунок 5" descr="1.jpg"/>
          <p:cNvPicPr/>
          <p:nvPr/>
        </p:nvPicPr>
        <p:blipFill>
          <a:blip r:embed="rId1"/>
          <a:stretch/>
        </p:blipFill>
        <p:spPr>
          <a:xfrm>
            <a:off x="-12600" y="0"/>
            <a:ext cx="9097920" cy="6796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img0.png"/>
          <p:cNvPicPr/>
          <p:nvPr/>
        </p:nvPicPr>
        <p:blipFill>
          <a:blip r:embed="rId2"/>
          <a:stretch/>
        </p:blipFill>
        <p:spPr>
          <a:xfrm>
            <a:off x="2500200" y="571680"/>
            <a:ext cx="5722920" cy="2077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7"/>
          <p:cNvSpPr/>
          <p:nvPr/>
        </p:nvSpPr>
        <p:spPr>
          <a:xfrm>
            <a:off x="3714840" y="26431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ьца Лул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214720" y="3929040"/>
            <a:ext cx="46432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готови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енцова Ольг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ДОУ ДС «Аленький цветоче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Волгодо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Вертикальный свиток 4"/>
          <p:cNvSpPr/>
          <p:nvPr/>
        </p:nvSpPr>
        <p:spPr>
          <a:xfrm>
            <a:off x="0" y="214200"/>
            <a:ext cx="9144000" cy="6643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300816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5880" y="213840"/>
            <a:ext cx="7500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обие позволяет решать 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познавательную активность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енсорное развитие (восприятие цвета, формы)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формировать элементарные математические представления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овершенствовать грамматический строй речи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мелкую моторику и координацию движений ру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креативные способности до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навыки фантастического преобразования объ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686800" y="272520"/>
            <a:ext cx="46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Вертикальный свиток 6"/>
          <p:cNvSpPr/>
          <p:nvPr/>
        </p:nvSpPr>
        <p:spPr>
          <a:xfrm>
            <a:off x="-571680" y="0"/>
            <a:ext cx="4857840" cy="6858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Задачи:</a:t>
            </a: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 формировать элементарные математические представления, упражнять соотносить цифру и количество предметов в пределах 5-ти; развивать мелкую моторику пальцев рук, внимание.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Закреплять умение различать цвета</a:t>
            </a: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; умение соотносить предмет и цвет; совершенствовать грамматический строй речи; развивать мелкую моторику пальцев рук,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92904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Образовательная область  " «Познавательное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развитие"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37148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Calibri"/>
              </a:rPr>
              <a:t>Развитие элементарных математических предста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7" descr="07022008503.jpg"/>
          <p:cNvPicPr/>
          <p:nvPr/>
        </p:nvPicPr>
        <p:blipFill>
          <a:blip r:embed="rId2"/>
          <a:stretch/>
        </p:blipFill>
        <p:spPr>
          <a:xfrm>
            <a:off x="3643200" y="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9" descr="07022008502.jpg"/>
          <p:cNvPicPr/>
          <p:nvPr/>
        </p:nvPicPr>
        <p:blipFill>
          <a:blip r:embed="rId3"/>
          <a:stretch/>
        </p:blipFill>
        <p:spPr>
          <a:xfrm>
            <a:off x="5286240" y="1714680"/>
            <a:ext cx="3857760" cy="27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1"/>
          <p:cNvSpPr/>
          <p:nvPr/>
        </p:nvSpPr>
        <p:spPr>
          <a:xfrm>
            <a:off x="3787200" y="0"/>
            <a:ext cx="1063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Сч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7955640" y="1571760"/>
            <a:ext cx="1172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в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3" descr="SAM_1811.JPG"/>
          <p:cNvPicPr/>
          <p:nvPr/>
        </p:nvPicPr>
        <p:blipFill>
          <a:blip r:embed="rId4"/>
          <a:stretch/>
        </p:blipFill>
        <p:spPr>
          <a:xfrm>
            <a:off x="3786120" y="4000680"/>
            <a:ext cx="4000680" cy="2857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4"/>
          <p:cNvSpPr/>
          <p:nvPr/>
        </p:nvSpPr>
        <p:spPr>
          <a:xfrm>
            <a:off x="3659040" y="4000680"/>
            <a:ext cx="1579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ериац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Вертикальный свиток 6"/>
          <p:cNvSpPr/>
          <p:nvPr/>
        </p:nvSpPr>
        <p:spPr>
          <a:xfrm rot="5400000">
            <a:off x="3642840" y="-3429000"/>
            <a:ext cx="2071800" cy="8929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6438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Образовательная область  " «Познавательное развитие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7400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Развитие элементарных математ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571680" y="1643040"/>
            <a:ext cx="8215200" cy="13136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Задачи: 1. Закрепить умение различать и называть пространственные отношения: справа — сл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. Упражнять детей в определении правой руки и правой стороны; левой руки и левой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SAM_1799.JPG"/>
          <p:cNvPicPr/>
          <p:nvPr/>
        </p:nvPicPr>
        <p:blipFill>
          <a:blip r:embed="rId2"/>
          <a:stretch/>
        </p:blipFill>
        <p:spPr>
          <a:xfrm>
            <a:off x="4834080" y="307188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3"/>
          <p:cNvSpPr/>
          <p:nvPr/>
        </p:nvSpPr>
        <p:spPr>
          <a:xfrm>
            <a:off x="5580000" y="3143160"/>
            <a:ext cx="345744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«Какой фигуры не хватае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4" descr="SAM_1796.JPG"/>
          <p:cNvPicPr/>
          <p:nvPr/>
        </p:nvPicPr>
        <p:blipFill>
          <a:blip r:embed="rId3"/>
          <a:stretch/>
        </p:blipFill>
        <p:spPr>
          <a:xfrm>
            <a:off x="1571760" y="460692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10" descr="07022008501.jpg"/>
          <p:cNvPicPr/>
          <p:nvPr/>
        </p:nvPicPr>
        <p:blipFill>
          <a:blip r:embed="rId4"/>
          <a:stretch/>
        </p:blipFill>
        <p:spPr>
          <a:xfrm>
            <a:off x="0" y="292896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640720" y="272520"/>
            <a:ext cx="46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2226600" y="4286160"/>
            <a:ext cx="180972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«Ориента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Вертикальный свиток 4"/>
          <p:cNvSpPr/>
          <p:nvPr/>
        </p:nvSpPr>
        <p:spPr>
          <a:xfrm>
            <a:off x="0" y="0"/>
            <a:ext cx="4643280" cy="20001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42865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 область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 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«Познавательное развитие"</a:t>
            </a:r>
            <a:br>
              <a:rPr sz="2400"/>
            </a:br>
            <a:r>
              <a:rPr b="1" i="1" lang="ru-RU" sz="2000" spc="-1" strike="noStrike" u="sng">
                <a:solidFill>
                  <a:srgbClr val="953735"/>
                </a:solidFill>
                <a:uFillTx/>
                <a:latin typeface="Calibri"/>
              </a:rPr>
              <a:t>Формирование целостной картины мира</a:t>
            </a: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60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16" name="Содержимое 6" descr="07022008508.jpg"/>
          <p:cNvPicPr/>
          <p:nvPr/>
        </p:nvPicPr>
        <p:blipFill>
          <a:blip r:embed="rId2"/>
          <a:stretch/>
        </p:blipFill>
        <p:spPr>
          <a:xfrm>
            <a:off x="4500720" y="214200"/>
            <a:ext cx="4476600" cy="3357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7118640" y="3071880"/>
            <a:ext cx="213912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Чей малыш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Кто где живе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8" descr="SAM_1809.JPG"/>
          <p:cNvPicPr/>
          <p:nvPr/>
        </p:nvPicPr>
        <p:blipFill>
          <a:blip r:embed="rId3"/>
          <a:stretch/>
        </p:blipFill>
        <p:spPr>
          <a:xfrm>
            <a:off x="714240" y="3875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SAM_1808.JPG"/>
          <p:cNvPicPr/>
          <p:nvPr/>
        </p:nvPicPr>
        <p:blipFill>
          <a:blip r:embed="rId4"/>
          <a:stretch/>
        </p:blipFill>
        <p:spPr>
          <a:xfrm>
            <a:off x="5000760" y="3911760"/>
            <a:ext cx="3643200" cy="2732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0"/>
          <p:cNvSpPr/>
          <p:nvPr/>
        </p:nvSpPr>
        <p:spPr>
          <a:xfrm>
            <a:off x="3214800" y="3857760"/>
            <a:ext cx="3000240" cy="3988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«Найди по силуэту 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1939680" y="6215040"/>
            <a:ext cx="259308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омашние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7050960" y="6286680"/>
            <a:ext cx="208260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кие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0" y="2071800"/>
            <a:ext cx="4572000" cy="1557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звитие у детей познавательных интересов, интеллектуального развития у детей через формирование целостной картины мира, расширение кругозор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Вертикальный свиток 4"/>
          <p:cNvSpPr/>
          <p:nvPr/>
        </p:nvSpPr>
        <p:spPr>
          <a:xfrm>
            <a:off x="-285840" y="0"/>
            <a:ext cx="9429840" cy="65721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 rot="10800000">
            <a:off x="8786160" y="6428520"/>
            <a:ext cx="1429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714240" y="2428920"/>
            <a:ext cx="460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7113600" y="3071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128592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7040520" y="62866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571680" y="1714680"/>
            <a:ext cx="3571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15" descr="SAM_1807.JPG"/>
          <p:cNvPicPr/>
          <p:nvPr/>
        </p:nvPicPr>
        <p:blipFill>
          <a:blip r:embed="rId2"/>
          <a:stretch/>
        </p:blipFill>
        <p:spPr>
          <a:xfrm>
            <a:off x="2238480" y="0"/>
            <a:ext cx="4762440" cy="3411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6" descr="SAM_1793.JPG"/>
          <p:cNvPicPr/>
          <p:nvPr/>
        </p:nvPicPr>
        <p:blipFill>
          <a:blip r:embed="rId3"/>
          <a:stretch/>
        </p:blipFill>
        <p:spPr>
          <a:xfrm>
            <a:off x="214200" y="3214800"/>
            <a:ext cx="4357800" cy="32684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7" descr="SAM_1794.JPG"/>
          <p:cNvPicPr/>
          <p:nvPr/>
        </p:nvPicPr>
        <p:blipFill>
          <a:blip r:embed="rId4"/>
          <a:stretch/>
        </p:blipFill>
        <p:spPr>
          <a:xfrm>
            <a:off x="4762440" y="3286080"/>
            <a:ext cx="4238640" cy="31780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8"/>
          <p:cNvSpPr/>
          <p:nvPr/>
        </p:nvSpPr>
        <p:spPr>
          <a:xfrm>
            <a:off x="3657960" y="0"/>
            <a:ext cx="2251800" cy="4597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для че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1960920" y="3429000"/>
            <a:ext cx="5761440" cy="4597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получиться, если объединить…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Вертикальный свиток 4"/>
          <p:cNvSpPr/>
          <p:nvPr/>
        </p:nvSpPr>
        <p:spPr>
          <a:xfrm rot="5400000">
            <a:off x="178200" y="-749880"/>
            <a:ext cx="4572360" cy="4929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52862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   область 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«Познавательное развитие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85560" y="928800"/>
            <a:ext cx="3143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0" y="1428840"/>
            <a:ext cx="5072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пособствовать развитию аналитического  мышления посредством нахождения общего и различного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хожими предметами и ситу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- Закреплять виды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8" descr="SAM_1816.JPG"/>
          <p:cNvPicPr/>
          <p:nvPr/>
        </p:nvPicPr>
        <p:blipFill>
          <a:blip r:embed="rId2"/>
          <a:stretch/>
        </p:blipFill>
        <p:spPr>
          <a:xfrm>
            <a:off x="0" y="3357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SAM_1819.JPG"/>
          <p:cNvPicPr/>
          <p:nvPr/>
        </p:nvPicPr>
        <p:blipFill>
          <a:blip r:embed="rId3"/>
          <a:stretch/>
        </p:blipFill>
        <p:spPr>
          <a:xfrm>
            <a:off x="278604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1" descr="07022008500.jpg"/>
          <p:cNvPicPr/>
          <p:nvPr/>
        </p:nvPicPr>
        <p:blipFill>
          <a:blip r:embed="rId4"/>
          <a:stretch/>
        </p:blipFill>
        <p:spPr>
          <a:xfrm>
            <a:off x="5143680" y="214200"/>
            <a:ext cx="3714480" cy="27860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7015680" y="214200"/>
            <a:ext cx="187236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быстре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323120" y="5500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4446000" y="6488280"/>
            <a:ext cx="224100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авает-лет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13320" y="5500800"/>
            <a:ext cx="211320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Ездит-плав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7" descr="SAM_1786.JPG"/>
          <p:cNvPicPr/>
          <p:nvPr/>
        </p:nvPicPr>
        <p:blipFill>
          <a:blip r:embed="rId5"/>
          <a:stretch/>
        </p:blipFill>
        <p:spPr>
          <a:xfrm>
            <a:off x="6191280" y="32148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8686800" y="272520"/>
            <a:ext cx="46080" cy="58532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0"/>
          <p:cNvSpPr/>
          <p:nvPr/>
        </p:nvSpPr>
        <p:spPr>
          <a:xfrm>
            <a:off x="6846480" y="5214960"/>
            <a:ext cx="228528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Вертикальный свиток 4"/>
          <p:cNvSpPr/>
          <p:nvPr/>
        </p:nvSpPr>
        <p:spPr>
          <a:xfrm>
            <a:off x="-214200" y="0"/>
            <a:ext cx="4857480" cy="2286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285840" y="499680"/>
            <a:ext cx="485784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Социально-личностное развитие» 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Развитие реч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14960" y="0"/>
            <a:ext cx="32860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pic>
        <p:nvPicPr>
          <p:cNvPr id="153" name="Содержимое 6" descr="SAM_1800.JPG"/>
          <p:cNvPicPr/>
          <p:nvPr/>
        </p:nvPicPr>
        <p:blipFill>
          <a:blip r:embed="rId2"/>
          <a:stretch/>
        </p:blipFill>
        <p:spPr>
          <a:xfrm>
            <a:off x="285840" y="328608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8"/>
          <p:cNvSpPr/>
          <p:nvPr/>
        </p:nvSpPr>
        <p:spPr>
          <a:xfrm>
            <a:off x="214200" y="1857240"/>
            <a:ext cx="3929040" cy="131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точнить представления детей о труде взрослого, опираясь на «модели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147680" y="6143760"/>
            <a:ext cx="191952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Профе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4429080" y="0"/>
            <a:ext cx="4714920" cy="1923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реплять умение узнавать отдельные сказки по отдельны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тивизировать речь,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11" descr="SAM_1812.JPG"/>
          <p:cNvPicPr/>
          <p:nvPr/>
        </p:nvPicPr>
        <p:blipFill>
          <a:blip r:embed="rId3"/>
          <a:stretch/>
        </p:blipFill>
        <p:spPr>
          <a:xfrm>
            <a:off x="4286160" y="2214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2"/>
          <p:cNvSpPr/>
          <p:nvPr/>
        </p:nvSpPr>
        <p:spPr>
          <a:xfrm>
            <a:off x="6002640" y="5500800"/>
            <a:ext cx="195480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ерои сказ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Вертикальный свиток 4"/>
          <p:cNvSpPr/>
          <p:nvPr/>
        </p:nvSpPr>
        <p:spPr>
          <a:xfrm>
            <a:off x="0" y="285840"/>
            <a:ext cx="9144000" cy="20001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286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витие речи»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2757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62" name="Рисунок 10" descr="SAM_1797.JPG"/>
          <p:cNvPicPr/>
          <p:nvPr/>
        </p:nvPicPr>
        <p:blipFill>
          <a:blip r:embed="rId2"/>
          <a:stretch/>
        </p:blipFill>
        <p:spPr>
          <a:xfrm>
            <a:off x="214200" y="2428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12" descr="SAM_1798.JPG"/>
          <p:cNvPicPr/>
          <p:nvPr/>
        </p:nvPicPr>
        <p:blipFill>
          <a:blip r:embed="rId3"/>
          <a:stretch/>
        </p:blipFill>
        <p:spPr>
          <a:xfrm>
            <a:off x="8686800" y="3182760"/>
            <a:ext cx="46080" cy="33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3" descr="SAM_1798.JPG"/>
          <p:cNvPicPr/>
          <p:nvPr/>
        </p:nvPicPr>
        <p:blipFill>
          <a:blip r:embed="rId4"/>
          <a:stretch/>
        </p:blipFill>
        <p:spPr>
          <a:xfrm>
            <a:off x="4214880" y="3071880"/>
            <a:ext cx="4714920" cy="35352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5"/>
          <p:cNvSpPr/>
          <p:nvPr/>
        </p:nvSpPr>
        <p:spPr>
          <a:xfrm>
            <a:off x="1143000" y="1071720"/>
            <a:ext cx="6858000" cy="131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Цель игры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: Развитие речи, внимания, образной и смысловой памяти, логического мышления. Научить детей находить предметы, противоположные по зна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3876840" y="3000240"/>
            <a:ext cx="334620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отивопо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Вертикальный свиток 4"/>
          <p:cNvSpPr/>
          <p:nvPr/>
        </p:nvSpPr>
        <p:spPr>
          <a:xfrm>
            <a:off x="0" y="214200"/>
            <a:ext cx="8715240" cy="15004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5438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удожественно-эстетическое развит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3008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70" name="Содержимое 6" descr="SAM_1792.JPG"/>
          <p:cNvPicPr/>
          <p:nvPr/>
        </p:nvPicPr>
        <p:blipFill>
          <a:blip r:embed="rId2"/>
          <a:stretch/>
        </p:blipFill>
        <p:spPr>
          <a:xfrm>
            <a:off x="214200" y="328608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SAM_1815.JPG"/>
          <p:cNvPicPr/>
          <p:nvPr/>
        </p:nvPicPr>
        <p:blipFill>
          <a:blip r:embed="rId3"/>
          <a:stretch/>
        </p:blipFill>
        <p:spPr>
          <a:xfrm>
            <a:off x="4738680" y="3286080"/>
            <a:ext cx="4405320" cy="33577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0"/>
          <p:cNvSpPr/>
          <p:nvPr/>
        </p:nvSpPr>
        <p:spPr>
          <a:xfrm>
            <a:off x="928800" y="1785960"/>
            <a:ext cx="7429320" cy="11912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Закреплять умение различать и называть цвета, умение составлять узор, обозначать результат словами "такой", "не тако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3651120" y="3286080"/>
            <a:ext cx="246384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дбери по цв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Вертикальный свиток 4"/>
          <p:cNvSpPr/>
          <p:nvPr/>
        </p:nvSpPr>
        <p:spPr>
          <a:xfrm>
            <a:off x="0" y="0"/>
            <a:ext cx="4286160" cy="2286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3471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удожественно-эстетическое развитие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28288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77" name="Рисунок 7" descr="SAM_1813.JPG"/>
          <p:cNvPicPr/>
          <p:nvPr/>
        </p:nvPicPr>
        <p:blipFill>
          <a:blip r:embed="rId2"/>
          <a:stretch/>
        </p:blipFill>
        <p:spPr>
          <a:xfrm>
            <a:off x="1714680" y="2357280"/>
            <a:ext cx="5643360" cy="4232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686800" y="272520"/>
            <a:ext cx="46080" cy="58532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9"/>
          <p:cNvSpPr/>
          <p:nvPr/>
        </p:nvSpPr>
        <p:spPr>
          <a:xfrm>
            <a:off x="4572000" y="428760"/>
            <a:ext cx="4572000" cy="1069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: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  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репить умение  детей различать и называть  музыкальные инстр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5148000" y="2286000"/>
            <a:ext cx="2712240" cy="398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«Кто на чем игр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3726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XIII веке французский монах Раймонд Луллий создал логическую машину в   виде бумажных кругов. Оказывается, ее можно прекрасно использовать как средство развития речи у детей. «Кольца Луллия» — это что-то вроде компьютера, только для слов. Простота конструкции позволяет применять ее даже в детском саду. А эффект огромен — познание языка и мира в их взаимосвя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1KZcf7C0XK0.jpg"/>
          <p:cNvPicPr/>
          <p:nvPr/>
        </p:nvPicPr>
        <p:blipFill>
          <a:blip r:embed="rId1"/>
          <a:stretch/>
        </p:blipFill>
        <p:spPr>
          <a:xfrm>
            <a:off x="214200" y="4214880"/>
            <a:ext cx="4143600" cy="23875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image009.jpg"/>
          <p:cNvPicPr/>
          <p:nvPr/>
        </p:nvPicPr>
        <p:blipFill>
          <a:blip r:embed="rId2"/>
          <a:stretch/>
        </p:blipFill>
        <p:spPr>
          <a:xfrm>
            <a:off x="4071960" y="4286160"/>
            <a:ext cx="47991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Вертикальный свиток 4"/>
          <p:cNvSpPr/>
          <p:nvPr/>
        </p:nvSpPr>
        <p:spPr>
          <a:xfrm>
            <a:off x="0" y="357120"/>
            <a:ext cx="4286160" cy="14288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н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0760" y="4214520"/>
            <a:ext cx="3900240" cy="15714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развивать внимание, зрительное восприятие, память, связную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28288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84" name="Содержимое 6" descr="SAM_1801.JPG"/>
          <p:cNvPicPr/>
          <p:nvPr/>
        </p:nvPicPr>
        <p:blipFill>
          <a:blip r:embed="rId2"/>
          <a:stretch/>
        </p:blipFill>
        <p:spPr>
          <a:xfrm>
            <a:off x="190440" y="2786040"/>
            <a:ext cx="5024520" cy="37688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SAM_1814.JPG"/>
          <p:cNvPicPr/>
          <p:nvPr/>
        </p:nvPicPr>
        <p:blipFill>
          <a:blip r:embed="rId3"/>
          <a:stretch/>
        </p:blipFill>
        <p:spPr>
          <a:xfrm>
            <a:off x="4286160" y="0"/>
            <a:ext cx="4857840" cy="36432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"/>
          <p:cNvSpPr/>
          <p:nvPr/>
        </p:nvSpPr>
        <p:spPr>
          <a:xfrm>
            <a:off x="6165360" y="214200"/>
            <a:ext cx="293148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предели эмо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357840" y="2214720"/>
            <a:ext cx="359892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Что перепутал худож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Вертикальный свиток 4"/>
          <p:cNvSpPr/>
          <p:nvPr/>
        </p:nvSpPr>
        <p:spPr>
          <a:xfrm>
            <a:off x="0" y="357120"/>
            <a:ext cx="8786880" cy="17146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РАЗВИТИЕ ТВОРЧЕСКОГО ВО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786120" y="2357280"/>
            <a:ext cx="5114880" cy="3786480"/>
          </a:xfrm>
          <a:prstGeom prst="rect">
            <a:avLst/>
          </a:prstGeom>
          <a:solidFill>
            <a:srgbClr val="8eb4e3"/>
          </a:solidFill>
          <a:ln w="381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пример, совпали из взрослых животных зайчиха - из детенышей лисята: «Как могло случиться, что зайчиха стала воспитывать лисят, как она будет о них заботиться, чему станет учить». Заранее сказать детям, что ситуации сказочные, нереальные, значит можно дать волю фантаз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1144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6143760" y="2142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357120" y="22147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640720" y="272880"/>
            <a:ext cx="4608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214200" y="2286000"/>
            <a:ext cx="3357720" cy="1618560"/>
          </a:xfrm>
          <a:prstGeom prst="rect">
            <a:avLst/>
          </a:prstGeom>
          <a:solidFill>
            <a:srgbClr val="8eb4e3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этом случае раскручиваются оба кольца. Далее обсуждается несовместимая на первый взгляд комбин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3"/>
          <p:cNvSpPr/>
          <p:nvPr/>
        </p:nvSpPr>
        <p:spPr>
          <a:xfrm>
            <a:off x="500040" y="4071960"/>
            <a:ext cx="3571920" cy="2533320"/>
          </a:xfrm>
          <a:prstGeom prst="rect">
            <a:avLst/>
          </a:prstGeom>
          <a:solidFill>
            <a:srgbClr val="8eb4e3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жно самостоятельно изобретать свои варианты колец и способы игр и заданий к ним. К этому процессу также могут подключиться и воспитан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Содержимое 5" descr="_BRDmuG4I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1042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357120" y="214200"/>
            <a:ext cx="5429160" cy="14961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Игра- это искра, зажигающая огонёк пытливости и любознательности».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33685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ассовой педагогической практике фиксируется проблема развития творческих способностей детей дошкольного возраста. Это больше всего связано с отсутствием системы методов, которыми можно было увлечь ребенка творческой деятельностью. Дети не могут пользоваться имеющимися у них знаниями, так как они разобщены, не востребованы в полной мере и, следовательно, не являются основой для дальнейших мыслительных операций. Развитие мышления невозможно без формирования умственных операций. Умение классифицировать – одна из составляющих творческих способностей чело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686800" y="1600200"/>
            <a:ext cx="17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2643120" y="3929040"/>
            <a:ext cx="5786640" cy="25333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ьца Луллия – это средство многофункционального характера, его можно применять для воспитания и развития детей по всем разделам программы. С помощью этой игры стало возможным обогатить условия для возрастающей роли интеллектуального развития ребенка и его познавательных интер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357120" y="3000240"/>
            <a:ext cx="6143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Вертикальный свиток 4"/>
          <p:cNvSpPr/>
          <p:nvPr/>
        </p:nvSpPr>
        <p:spPr>
          <a:xfrm>
            <a:off x="0" y="285840"/>
            <a:ext cx="5286240" cy="6072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2600" y="500040"/>
            <a:ext cx="40719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ьца Лулл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одно из средств развития интеллектуально – творческих способностей детей, предложенное авторами ТРИЗ и РТВ для использования в дошкольных учреждениях. Это пособие  вносит элемент игры в образовательную деятельность, помогает поддерживать интерес к изучаемому материа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6" descr="06022008496.jpg"/>
          <p:cNvPicPr/>
          <p:nvPr/>
        </p:nvPicPr>
        <p:blipFill>
          <a:blip r:embed="rId2"/>
          <a:stretch/>
        </p:blipFill>
        <p:spPr>
          <a:xfrm>
            <a:off x="4857840" y="214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4572000" y="3500280"/>
            <a:ext cx="4572000" cy="13136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a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едназначена как для работы с подгруппой детей, так и для самостоятельной дет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214200" y="4929120"/>
            <a:ext cx="8715600" cy="14655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обие используется в работе с детьми 3-7 лет в непосредственной образовательной деятельности педагога с детьми, а также в режимных момен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нный игровой метод обучения способствует созданию заинтересованной, непринуждённой обстановки, снимает психологическое и физическое напряжение, обеспечивает восприятие нового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Вертикальный свиток 4"/>
          <p:cNvSpPr/>
          <p:nvPr/>
        </p:nvSpPr>
        <p:spPr>
          <a:xfrm rot="5400000">
            <a:off x="3071880" y="-2571840"/>
            <a:ext cx="2928960" cy="80726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880" y="428400"/>
            <a:ext cx="7286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ля изготовления пособия были взяты два прямоугольных куска фанеры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шириной, равной диаметру  колец(так же вырезанных из фанеры), и длиной на 2—4 см меньше двух диаметров ко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9" descr="06022008493.jpg"/>
          <p:cNvPicPr/>
          <p:nvPr/>
        </p:nvPicPr>
        <p:blipFill>
          <a:blip r:embed="rId2"/>
          <a:stretch/>
        </p:blipFill>
        <p:spPr>
          <a:xfrm>
            <a:off x="1928880" y="2428920"/>
            <a:ext cx="5643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Вертикальный свиток 4"/>
          <p:cNvSpPr/>
          <p:nvPr/>
        </p:nvSpPr>
        <p:spPr>
          <a:xfrm rot="5400000">
            <a:off x="3071880" y="-2571840"/>
            <a:ext cx="2928960" cy="80726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5880" y="428400"/>
            <a:ext cx="7286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 верхнем прямоугольнике вырезано окошечко так, чтобы были видны совмещенные картинки. Крышка укреплена на небольших петельках.. Круги удобно вращать за выступы, которые образуются в результате того, что ширина пособия на 2—4 см меньше двух диаметров кру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5" descr="06022008497.jpg"/>
          <p:cNvPicPr/>
          <p:nvPr/>
        </p:nvPicPr>
        <p:blipFill>
          <a:blip r:embed="rId2"/>
          <a:stretch/>
        </p:blipFill>
        <p:spPr>
          <a:xfrm>
            <a:off x="1500120" y="2500200"/>
            <a:ext cx="5572080" cy="4179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8429760" y="272520"/>
            <a:ext cx="2570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Вертикальный свиток 4"/>
          <p:cNvSpPr/>
          <p:nvPr/>
        </p:nvSpPr>
        <p:spPr>
          <a:xfrm rot="5400000">
            <a:off x="2928960" y="-2428920"/>
            <a:ext cx="3214800" cy="80726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880" y="285480"/>
            <a:ext cx="7286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Правила игры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одинаковые  во всех темах)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: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1. Установить пособие на столе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2. Поднять крышку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3. На круги сверху уложить выбранные кольца с картинками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4. Закрыть крышкой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5. Прокрутив первый диск в окошечке устанавливается картинка, а прокручивая второй диск, ребенок подбирает правильный от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ластин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7" descr="06022008495.jpg"/>
          <p:cNvPicPr/>
          <p:nvPr/>
        </p:nvPicPr>
        <p:blipFill>
          <a:blip r:embed="rId2"/>
          <a:stretch/>
        </p:blipFill>
        <p:spPr>
          <a:xfrm>
            <a:off x="214200" y="2928960"/>
            <a:ext cx="4786560" cy="3589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06022008496.jpg"/>
          <p:cNvPicPr/>
          <p:nvPr/>
        </p:nvPicPr>
        <p:blipFill>
          <a:blip r:embed="rId3"/>
          <a:stretch/>
        </p:blipFill>
        <p:spPr>
          <a:xfrm>
            <a:off x="4572000" y="3429000"/>
            <a:ext cx="44067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Вертикальный свиток 4"/>
          <p:cNvSpPr/>
          <p:nvPr/>
        </p:nvSpPr>
        <p:spPr>
          <a:xfrm rot="5400000">
            <a:off x="3321360" y="-3107520"/>
            <a:ext cx="2714760" cy="8929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5480" y="214200"/>
            <a:ext cx="8643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 использования пособия: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формирование представлений дошкольников об окружающем мире; развитие творческого мышления и воображения; обогащение словарного запаса; формирование элементарных математических и эколог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5" descr="SAM_1846.JPG"/>
          <p:cNvPicPr/>
          <p:nvPr/>
        </p:nvPicPr>
        <p:blipFill>
          <a:blip r:embed="rId2"/>
          <a:stretch/>
        </p:blipFill>
        <p:spPr>
          <a:xfrm>
            <a:off x="0" y="2625840"/>
            <a:ext cx="4500720" cy="3375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4" name="Рисунок 6" descr="SAM_1847.JPG"/>
          <p:cNvPicPr/>
          <p:nvPr/>
        </p:nvPicPr>
        <p:blipFill>
          <a:blip r:embed="rId3"/>
          <a:stretch/>
        </p:blipFill>
        <p:spPr>
          <a:xfrm>
            <a:off x="4667400" y="2643120"/>
            <a:ext cx="4476600" cy="33577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Вертикальный свиток 4"/>
          <p:cNvSpPr/>
          <p:nvPr/>
        </p:nvSpPr>
        <p:spPr>
          <a:xfrm rot="5400000">
            <a:off x="2143080" y="-1928880"/>
            <a:ext cx="4857840" cy="87156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840" y="713880"/>
            <a:ext cx="86439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 не отметить  универсальность игрового материала. Используя лишь несколько колец, можно получить либо разные варианты игры, либо дополнения к проводимой игре. Детям очень нравится это пособие. Они с удовольствием самостоятельно заменяют кольца, комбинируют задания, пытаются сами определить цель и правила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57760" y="272520"/>
            <a:ext cx="328680" cy="58532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2786040" y="4572000"/>
            <a:ext cx="6143760" cy="180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ов игр множество. Всё зависит от возраста, поставленных задач , пройденного детьми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2:01:02Z</dcterms:created>
  <dc:creator>Константин</dc:creator>
  <dc:description/>
  <dc:language>en-US</dc:language>
  <cp:lastModifiedBy>Компьютер</cp:lastModifiedBy>
  <dcterms:modified xsi:type="dcterms:W3CDTF">2018-12-29T15:49:12Z</dcterms:modified>
  <cp:revision>93</cp:revision>
  <dc:subject/>
  <dc:title>ФЭМП  «НАЗОВИ, СКОЛЬКО» ОО Позновательное развитие»</dc:title>
</cp:coreProperties>
</file>