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gif" ContentType="image/gif"/>
  <Override PartName="/ppt/media/image9.png" ContentType="image/png"/>
  <Override PartName="/ppt/media/image5.gif" ContentType="image/gif"/>
  <Override PartName="/ppt/media/image14.jpeg" ContentType="image/jpeg"/>
  <Override PartName="/ppt/media/image26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4AAC-B275-4998-8993-B88107FAF2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3916-E59F-4E79-966A-96027330CB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89C-B0E0-49D9-9694-894E23CC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401-6F3B-41D2-9981-1229F31E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53B-F727-4B6F-89D9-FDDA7106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646-C86C-4F59-8577-96A374DC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E35-40FE-43F4-AE9F-0BFA4492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D20-1290-4053-9E0C-5A7681B9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943-B9AC-4242-BBB2-E6E995E9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7B3-010B-4167-BD98-577FD5B1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D1C-9AF1-42C3-ADA4-39485B39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DEC-C73F-44F9-BF32-230D63D7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718-35B1-4B15-86AA-877D7C6F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330-C991-4B81-A576-EB7BCDFC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0584-6BDD-4001-B95F-87AFEC23717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92980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БОУ «Тайнинская ООШ»</a:t>
            </a:r>
            <a:br>
              <a:rPr sz="8000"/>
            </a:br>
            <a:r>
              <a:rPr b="0" i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:</a:t>
            </a: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рок России. Моя малая родина»</a:t>
            </a:r>
            <a:br>
              <a:rPr sz="8000"/>
            </a:br>
            <a:br>
              <a:rPr sz="8000"/>
            </a:br>
            <a:br>
              <a:rPr sz="80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 начальных классов  Котлярова Р. С. </a:t>
            </a:r>
            <a:br>
              <a:rPr sz="2400"/>
            </a:br>
            <a:br>
              <a:rPr sz="8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00040" y="28548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Calibri"/>
              </a:rPr>
              <a:t>Флаг Кан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://my.krskstate.ru/upload/iblock/baa/kansky_rayon_gerb.jpg"/>
          <p:cNvPicPr/>
          <p:nvPr/>
        </p:nvPicPr>
        <p:blipFill>
          <a:blip r:embed="rId1"/>
          <a:stretch/>
        </p:blipFill>
        <p:spPr>
          <a:xfrm>
            <a:off x="4479840" y="1500120"/>
            <a:ext cx="4235400" cy="45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152280" y="984240"/>
            <a:ext cx="41338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Open Sans"/>
              </a:rPr>
              <a:t>Золотистый сноп на гербе Канского района символизирует сельское хозяйство, а голубой цвет </a:t>
            </a:r>
            <a:r>
              <a:rPr b="1" lang="ru-RU" sz="2400" spc="-1" strike="noStrike">
                <a:solidFill>
                  <a:srgbClr val="558ed5"/>
                </a:solidFill>
                <a:latin typeface="Arial"/>
              </a:rPr>
              <a:t>—</a:t>
            </a:r>
            <a:r>
              <a:rPr b="1" lang="ru-RU" sz="2400" spc="-1" strike="noStrike">
                <a:solidFill>
                  <a:srgbClr val="558ed5"/>
                </a:solidFill>
                <a:latin typeface="Open Sans"/>
              </a:rPr>
              <a:t> реку К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04384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любопытное наименование у деревни в Канском районе - Тайн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C:\Users\User\Desktop\05.12.2017\DSC05308.JPG"/>
          <p:cNvPicPr/>
          <p:nvPr/>
        </p:nvPicPr>
        <p:blipFill>
          <a:blip r:embed="rId2"/>
          <a:stretch/>
        </p:blipFill>
        <p:spPr>
          <a:xfrm>
            <a:off x="785880" y="1428840"/>
            <a:ext cx="7197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2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3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86800" y="1857240"/>
            <a:ext cx="7142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5143680" y="357120"/>
            <a:ext cx="3643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я моей дерев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725 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864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9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912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931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1941-1945гг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6" descr="0_24f3_24defec0_L.jpg"/>
          <p:cNvPicPr/>
          <p:nvPr/>
        </p:nvPicPr>
        <p:blipFill>
          <a:blip r:embed="rId2"/>
          <a:stretch/>
        </p:blipFill>
        <p:spPr>
          <a:xfrm>
            <a:off x="214200" y="357120"/>
            <a:ext cx="41436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86800" y="1857240"/>
            <a:ext cx="7142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5857920" y="1071720"/>
            <a:ext cx="307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ремя войны на фронтах погибло более 50 человек  муж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:\Users\User\Desktop\06.12.2017\DSC05311.JPG"/>
          <p:cNvPicPr/>
          <p:nvPr/>
        </p:nvPicPr>
        <p:blipFill>
          <a:blip r:embed="rId2"/>
          <a:stretch/>
        </p:blipFill>
        <p:spPr>
          <a:xfrm>
            <a:off x="357120" y="285840"/>
            <a:ext cx="5214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3143160" y="21420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User\Desktop\img08.jpg"/>
          <p:cNvPicPr/>
          <p:nvPr/>
        </p:nvPicPr>
        <p:blipFill>
          <a:blip r:embed="rId2"/>
          <a:stretch/>
        </p:blipFill>
        <p:spPr>
          <a:xfrm>
            <a:off x="214200" y="142920"/>
            <a:ext cx="5715000" cy="3643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User\Desktop\img02.jpg"/>
          <p:cNvPicPr/>
          <p:nvPr/>
        </p:nvPicPr>
        <p:blipFill>
          <a:blip r:embed="rId3"/>
          <a:stretch/>
        </p:blipFill>
        <p:spPr>
          <a:xfrm>
            <a:off x="3429000" y="3892680"/>
            <a:ext cx="55720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User\Desktop\img04.jpg"/>
          <p:cNvPicPr/>
          <p:nvPr/>
        </p:nvPicPr>
        <p:blipFill>
          <a:blip r:embed="rId1"/>
          <a:stretch/>
        </p:blipFill>
        <p:spPr>
          <a:xfrm>
            <a:off x="714240" y="571680"/>
            <a:ext cx="7286760" cy="46051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1143000" y="585792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юди  работают на ферме, всё  автоматизиров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6840" y="285840"/>
            <a:ext cx="6000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«Тайнушка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User\Desktop\Рисунок1.png"/>
          <p:cNvPicPr/>
          <p:nvPr/>
        </p:nvPicPr>
        <p:blipFill>
          <a:blip r:embed="rId1"/>
          <a:stretch/>
        </p:blipFill>
        <p:spPr>
          <a:xfrm>
            <a:off x="-14292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3071880" y="4429080"/>
            <a:ext cx="5857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зимой такая же  красота. Очень приятно сидеть около теплой печки и знать, что на улице трескучий мороз и вьюг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4"/>
          <p:cNvSpPr/>
          <p:nvPr/>
        </p:nvSpPr>
        <p:spPr>
          <a:xfrm>
            <a:off x="142920" y="1643040"/>
            <a:ext cx="33573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смот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какая  школа  наш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стор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ветла,                вели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Шагай по  ступенькам  знаний сме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мни, ученье –             серьезное     де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715160" cy="42861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1928880" y="5572080"/>
            <a:ext cx="528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ОУ «Тайнинская О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86800" y="1857240"/>
            <a:ext cx="7142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071960" y="1500120"/>
            <a:ext cx="46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нас на территории школы установлен памятник погибшим воинам в Великой Отечественной вой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Users\User\Desktop\06.12.2017\DSC05312.JPG"/>
          <p:cNvPicPr/>
          <p:nvPr/>
        </p:nvPicPr>
        <p:blipFill>
          <a:blip r:embed="rId1"/>
          <a:stretch/>
        </p:blipFill>
        <p:spPr>
          <a:xfrm>
            <a:off x="214200" y="500040"/>
            <a:ext cx="3643560" cy="62150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285840" y="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юди, прославившие свою малую род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живём с вами в Великой стране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541440" y="1600200"/>
            <a:ext cx="80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:\Users\Lenovo\Pictures\TT10282121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User\Desktop\Image.jpg"/>
          <p:cNvPicPr/>
          <p:nvPr/>
        </p:nvPicPr>
        <p:blipFill>
          <a:blip r:embed="rId2"/>
          <a:stretch/>
        </p:blipFill>
        <p:spPr>
          <a:xfrm>
            <a:off x="714240" y="1873080"/>
            <a:ext cx="3571920" cy="4305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0" y="287640"/>
            <a:ext cx="89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прославившие свою малую род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0"/>
          <p:cNvSpPr/>
          <p:nvPr/>
        </p:nvSpPr>
        <p:spPr>
          <a:xfrm>
            <a:off x="4714920" y="22147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ид Степанович Хворост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января 1936года  у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 марта 1995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Объект 3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31683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Герб России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162240" cy="362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3695760" cy="31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RGB_XYZ"/>
          <p:cNvPicPr/>
          <p:nvPr/>
        </p:nvPicPr>
        <p:blipFill>
          <a:blip r:embed="rId3"/>
          <a:stretch/>
        </p:blipFill>
        <p:spPr>
          <a:xfrm>
            <a:off x="7885080" y="558972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IRCUM"/>
          <p:cNvPicPr/>
          <p:nvPr/>
        </p:nvPicPr>
        <p:blipFill>
          <a:blip r:embed="rId4"/>
          <a:stretch/>
        </p:blipFill>
        <p:spPr>
          <a:xfrm>
            <a:off x="250920" y="5589720"/>
            <a:ext cx="934920" cy="660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1"/>
          <p:cNvSpPr/>
          <p:nvPr/>
        </p:nvSpPr>
        <p:spPr>
          <a:xfrm>
            <a:off x="5148360" y="393372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Флаг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2987640" y="5950080"/>
            <a:ext cx="352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Гимн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klass39.ru/wp-content/uploads/2017/08/561136-600x337.jpg?9955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494240" cy="5157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70904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Золотой двуглавый орё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25892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3213000"/>
            <a:ext cx="14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кипет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7236000" y="3213000"/>
            <a:ext cx="165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Держав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1187280" y="3716280"/>
            <a:ext cx="1872000" cy="504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7380360" y="1125360"/>
            <a:ext cx="176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вятой Георги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 flipH="1">
            <a:off x="6011640" y="3645000"/>
            <a:ext cx="136836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4571640" y="1700280"/>
            <a:ext cx="2879640" cy="151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500800" y="6191280"/>
            <a:ext cx="511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4500720" y="549360"/>
            <a:ext cx="431640" cy="165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3995280" y="549360"/>
            <a:ext cx="505080" cy="165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klass39.ru/wp-content/uploads/2017/08/48705089cf7e-672x800.png?9955c1"/>
          <p:cNvPicPr/>
          <p:nvPr/>
        </p:nvPicPr>
        <p:blipFill>
          <a:blip r:embed="rId2"/>
          <a:stretch/>
        </p:blipFill>
        <p:spPr>
          <a:xfrm>
            <a:off x="428760" y="21420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Текст Государственного гимна Российской Федерации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Comic Sans MS"/>
              </a:rPr>
              <a:t>(слова С.В.Михалкова, музыка А.В.Александров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195640" y="836640"/>
            <a:ext cx="4897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Россия - священная наша держава.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Россия - любимая наша страна.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Могучая воля, великая слава -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Твое достоянье на все времена!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ff"/>
                </a:solidFill>
                <a:latin typeface="Arial"/>
              </a:rPr>
              <a:t>Припев: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лавься, Отечество наше свободное,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Братских народов союз вековой,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Предками данная мудрость народная!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лавься, страна! Мы гордимся тобой!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От южных морей до полярного края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Раскинулись наши леса и поля.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Одна ты на свете! Одна ты такая-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Хранимая Богом родная земля!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ff"/>
                </a:solidFill>
                <a:latin typeface="Arial"/>
              </a:rPr>
              <a:t>Припев: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Широкий простор для мечты и для жизни 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рядущие нам открывают года.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Нам силу дает наша верность Отчизне.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Так было, так есть и так будет всегда!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ff"/>
                </a:solidFill>
                <a:latin typeface="Arial"/>
              </a:rPr>
              <a:t>Припев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68360" y="6512040"/>
            <a:ext cx="86756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2438280" y="304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имволы Краснояр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ерб Красноярск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F:\Уставный урок\bgrnd\krasnojarg.tif"/>
          <p:cNvPicPr/>
          <p:nvPr/>
        </p:nvPicPr>
        <p:blipFill>
          <a:blip r:embed="rId1"/>
          <a:stretch/>
        </p:blipFill>
        <p:spPr>
          <a:xfrm>
            <a:off x="5381640" y="2286000"/>
            <a:ext cx="2997360" cy="3586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214200" y="1071720"/>
            <a:ext cx="5572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гербе золотой лев 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вол власти, силы, отваги, храбрости 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одуш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авой лапе золот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пата , а в левой– золотой сер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удия труда в лапах ль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ворят о б историчес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х занятия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еления Краснояр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пата указывает на то, чт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еление  промышлял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ляными рабо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п указывает на друго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е занятие – земледел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 геральдике червленый цвет- символ храбрости, мужества и неустрашимости, лев- символ власти, отваги,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храбрости и великодуш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2057400" y="304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имволы Краснояр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лаг Красноярск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0" descr="flag2.tif"/>
          <p:cNvPicPr/>
          <p:nvPr/>
        </p:nvPicPr>
        <p:blipFill>
          <a:blip r:embed="rId1"/>
          <a:stretch/>
        </p:blipFill>
        <p:spPr>
          <a:xfrm>
            <a:off x="4419720" y="1752480"/>
            <a:ext cx="4152960" cy="2605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85840" y="1142640"/>
            <a:ext cx="43574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лаг Красноярского кра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вляетс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осударственным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имволом регион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лаг края – это прямоугольно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лотнище, посередин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лага расположен герб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ая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основе флага цвет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щита – символ земл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асноярь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9:07:36Z</dcterms:created>
  <dc:creator>Котлярова Р. С.</dc:creator>
  <dc:description/>
  <dc:language>en-US</dc:language>
  <cp:lastModifiedBy>User</cp:lastModifiedBy>
  <dcterms:modified xsi:type="dcterms:W3CDTF">2019-01-02T15:55:29Z</dcterms:modified>
  <cp:revision>175</cp:revision>
  <dc:subject/>
  <dc:title>Природа в стихах русских поэтов</dc:title>
</cp:coreProperties>
</file>