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gif" ContentType="image/gif"/>
  <Override PartName="/ppt/media/image9.png" ContentType="image/png"/>
  <Override PartName="/ppt/media/image5.gif" ContentType="image/gif"/>
  <Override PartName="/ppt/media/image14.jpeg" ContentType="image/jpeg"/>
  <Override PartName="/ppt/media/image26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6.jpeg" ContentType="image/jpeg"/>
  <Override PartName="/ppt/media/image10.png" ContentType="image/pn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81DE-0FD9-4FB0-AA3D-12AE623F18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2C67-7400-4C50-9284-49B6D1E00C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A638-4FF3-4FD9-86FB-3A5042A1E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5246-AC98-4412-B433-C2DA8D4D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D4DB-C64B-4F2C-8F43-5ED8B2EA7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E086-7D25-415B-B9D7-2F284E8B4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90C2-1E9F-45EC-BCDE-EAA96C5D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0C4E-1DB1-4E88-8F0A-1CB41F86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1EA7-E2F8-4FC6-9A7D-B52A7FC0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D135-5676-4E2E-B6EB-3E2B71C5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81DE-F633-4D28-A217-B6E8E522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07B1-2A38-4795-8F55-86BEC140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3FA2-310A-4BF1-881C-7AAEEAD6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83A0-80D1-4FC2-8313-4F859422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6A1F-BEA8-4702-9C4E-468F9D3373C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213840"/>
            <a:ext cx="8929800" cy="635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БОУ «Тайнинская ООШ»</a:t>
            </a:r>
            <a:br>
              <a:rPr sz="8000"/>
            </a:br>
            <a:r>
              <a:rPr b="0" i="1" lang="ru-RU" sz="7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ма:</a:t>
            </a:r>
            <a:r>
              <a:rPr b="0" i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Урок России. Моя малая родина»</a:t>
            </a:r>
            <a:br>
              <a:rPr sz="8000"/>
            </a:br>
            <a:br>
              <a:rPr sz="8000"/>
            </a:br>
            <a:br>
              <a:rPr sz="80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учитель начальных классов  Котлярова Р. С. </a:t>
            </a:r>
            <a:br>
              <a:rPr sz="2400"/>
            </a:br>
            <a:br>
              <a:rPr sz="8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00040" y="285480"/>
            <a:ext cx="814392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66"/>
                </a:solidFill>
                <a:latin typeface="Calibri"/>
              </a:rPr>
              <a:t>Флаг Канского муниципального рай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http://my.krskstate.ru/upload/iblock/baa/kansky_rayon_gerb.jpg"/>
          <p:cNvPicPr/>
          <p:nvPr/>
        </p:nvPicPr>
        <p:blipFill>
          <a:blip r:embed="rId1"/>
          <a:stretch/>
        </p:blipFill>
        <p:spPr>
          <a:xfrm>
            <a:off x="4479840" y="1500120"/>
            <a:ext cx="4235400" cy="45007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152280" y="984240"/>
            <a:ext cx="4133880" cy="54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58ed5"/>
                </a:solidFill>
                <a:latin typeface="Open Sans"/>
              </a:rPr>
              <a:t>Золотистый сноп на гербе Канского района символизирует сельское хозяйство, а голубой цвет </a:t>
            </a:r>
            <a:r>
              <a:rPr b="1" lang="ru-RU" sz="2400" spc="-1" strike="noStrike">
                <a:solidFill>
                  <a:srgbClr val="558ed5"/>
                </a:solidFill>
                <a:latin typeface="Arial"/>
              </a:rPr>
              <a:t>—</a:t>
            </a:r>
            <a:r>
              <a:rPr b="1" lang="ru-RU" sz="2400" spc="-1" strike="noStrike">
                <a:solidFill>
                  <a:srgbClr val="558ed5"/>
                </a:solidFill>
                <a:latin typeface="Open Sans"/>
              </a:rPr>
              <a:t> реку К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6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04384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е любопытное наименование у деревни в Канском районе - Тайна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C:\Users\User\Desktop\05.12.2017\DSC05308.JPG"/>
          <p:cNvPicPr/>
          <p:nvPr/>
        </p:nvPicPr>
        <p:blipFill>
          <a:blip r:embed="rId2"/>
          <a:stretch/>
        </p:blipFill>
        <p:spPr>
          <a:xfrm>
            <a:off x="785880" y="1428840"/>
            <a:ext cx="71974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indefinite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2" dur="indefinite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3" dur="indefinite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786800" y="1857240"/>
            <a:ext cx="71424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5143680" y="357120"/>
            <a:ext cx="36432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тория моей дерев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725 </a:t>
            </a:r>
            <a:r>
              <a:rPr b="0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864</a:t>
            </a:r>
            <a:r>
              <a:rPr b="0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9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912</a:t>
            </a:r>
            <a:r>
              <a:rPr b="0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931</a:t>
            </a:r>
            <a:r>
              <a:rPr b="0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1941-1945гг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6" descr="0_24f3_24defec0_L.jpg"/>
          <p:cNvPicPr/>
          <p:nvPr/>
        </p:nvPicPr>
        <p:blipFill>
          <a:blip r:embed="rId2"/>
          <a:stretch/>
        </p:blipFill>
        <p:spPr>
          <a:xfrm>
            <a:off x="214200" y="357120"/>
            <a:ext cx="414360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86800" y="1857240"/>
            <a:ext cx="71424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5"/>
          <p:cNvSpPr/>
          <p:nvPr/>
        </p:nvSpPr>
        <p:spPr>
          <a:xfrm>
            <a:off x="5857920" y="1071720"/>
            <a:ext cx="30718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время войны на фронтах погибло более 50 человек  мужч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C:\Users\User\Desktop\06.12.2017\DSC05311.JPG"/>
          <p:cNvPicPr/>
          <p:nvPr/>
        </p:nvPicPr>
        <p:blipFill>
          <a:blip r:embed="rId2"/>
          <a:stretch/>
        </p:blipFill>
        <p:spPr>
          <a:xfrm>
            <a:off x="357120" y="285840"/>
            <a:ext cx="521496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5"/>
          <p:cNvSpPr/>
          <p:nvPr/>
        </p:nvSpPr>
        <p:spPr>
          <a:xfrm>
            <a:off x="3143160" y="214200"/>
            <a:ext cx="557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C:\Users\User\Desktop\img08.jpg"/>
          <p:cNvPicPr/>
          <p:nvPr/>
        </p:nvPicPr>
        <p:blipFill>
          <a:blip r:embed="rId2"/>
          <a:stretch/>
        </p:blipFill>
        <p:spPr>
          <a:xfrm>
            <a:off x="214200" y="142920"/>
            <a:ext cx="5715000" cy="3643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Users\User\Desktop\img02.jpg"/>
          <p:cNvPicPr/>
          <p:nvPr/>
        </p:nvPicPr>
        <p:blipFill>
          <a:blip r:embed="rId3"/>
          <a:stretch/>
        </p:blipFill>
        <p:spPr>
          <a:xfrm>
            <a:off x="3429000" y="3892680"/>
            <a:ext cx="557208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Users\User\Desktop\img04.jpg"/>
          <p:cNvPicPr/>
          <p:nvPr/>
        </p:nvPicPr>
        <p:blipFill>
          <a:blip r:embed="rId1"/>
          <a:stretch/>
        </p:blipFill>
        <p:spPr>
          <a:xfrm>
            <a:off x="714240" y="571680"/>
            <a:ext cx="7286760" cy="460512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2"/>
          <p:cNvSpPr/>
          <p:nvPr/>
        </p:nvSpPr>
        <p:spPr>
          <a:xfrm>
            <a:off x="1143000" y="585792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Люди  работают на ферме, всё  автоматизирова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56840" y="285840"/>
            <a:ext cx="60008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«Тайнушка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6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6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6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6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User\Desktop\Рисунок1.png"/>
          <p:cNvPicPr/>
          <p:nvPr/>
        </p:nvPicPr>
        <p:blipFill>
          <a:blip r:embed="rId1"/>
          <a:stretch/>
        </p:blipFill>
        <p:spPr>
          <a:xfrm>
            <a:off x="-142920" y="-49320"/>
            <a:ext cx="9144000" cy="690732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2"/>
          <p:cNvSpPr/>
          <p:nvPr/>
        </p:nvSpPr>
        <p:spPr>
          <a:xfrm>
            <a:off x="3071880" y="4429080"/>
            <a:ext cx="5857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ревне зимой такая же  красота. Очень приятно сидеть около теплой печки и знать, что на улице трескучий мороз и вьюг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4"/>
          <p:cNvSpPr/>
          <p:nvPr/>
        </p:nvSpPr>
        <p:spPr>
          <a:xfrm>
            <a:off x="142920" y="1643040"/>
            <a:ext cx="335736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осмотр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какая  школа  наш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ростор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светла,                вели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Шагай по  ступенькам  знаний смел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омни, ученье –             серьезное     дел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928800" y="1071720"/>
            <a:ext cx="7715160" cy="428616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5"/>
          <p:cNvSpPr/>
          <p:nvPr/>
        </p:nvSpPr>
        <p:spPr>
          <a:xfrm>
            <a:off x="1928880" y="5572080"/>
            <a:ext cx="528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БОУ «Тайнинская ООШ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86800" y="1857240"/>
            <a:ext cx="71424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5"/>
          <p:cNvSpPr/>
          <p:nvPr/>
        </p:nvSpPr>
        <p:spPr>
          <a:xfrm>
            <a:off x="4071960" y="1500120"/>
            <a:ext cx="464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нас на территории школы установлен памятник погибшим воинам в Великой Отечественной войн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C:\Users\User\Desktop\06.12.2017\DSC05312.JPG"/>
          <p:cNvPicPr/>
          <p:nvPr/>
        </p:nvPicPr>
        <p:blipFill>
          <a:blip r:embed="rId1"/>
          <a:stretch/>
        </p:blipFill>
        <p:spPr>
          <a:xfrm>
            <a:off x="214200" y="500040"/>
            <a:ext cx="3643560" cy="621504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4"/>
          <p:cNvSpPr/>
          <p:nvPr/>
        </p:nvSpPr>
        <p:spPr>
          <a:xfrm>
            <a:off x="285840" y="0"/>
            <a:ext cx="828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Люди, прославившие свою малую родин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живём с вами в Великой стране 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Объект 3" descr=""/>
          <p:cNvPicPr/>
          <p:nvPr/>
        </p:nvPicPr>
        <p:blipFill>
          <a:blip r:embed="rId1"/>
          <a:stretch/>
        </p:blipFill>
        <p:spPr>
          <a:xfrm>
            <a:off x="541440" y="1600200"/>
            <a:ext cx="8061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cc"/>
              </a:solidFill>
              <a:latin typeface="Times New Roman"/>
              <a:ea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3" descr="C:\Users\Lenovo\Pictures\TT102821219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C:\Users\User\Desktop\Image.jpg"/>
          <p:cNvPicPr/>
          <p:nvPr/>
        </p:nvPicPr>
        <p:blipFill>
          <a:blip r:embed="rId2"/>
          <a:stretch/>
        </p:blipFill>
        <p:spPr>
          <a:xfrm>
            <a:off x="714240" y="1873080"/>
            <a:ext cx="3571920" cy="43056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6"/>
          <p:cNvSpPr/>
          <p:nvPr/>
        </p:nvSpPr>
        <p:spPr>
          <a:xfrm>
            <a:off x="0" y="287640"/>
            <a:ext cx="890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и, прославившие свою малую роди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0"/>
          <p:cNvSpPr/>
          <p:nvPr/>
        </p:nvSpPr>
        <p:spPr>
          <a:xfrm>
            <a:off x="4714920" y="221472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онид Степанович Хворости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 января 1936года  ум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 марта 1995 г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Объект 3" descr=""/>
          <p:cNvPicPr/>
          <p:nvPr/>
        </p:nvPicPr>
        <p:blipFill>
          <a:blip r:embed="rId1"/>
          <a:stretch/>
        </p:blipFill>
        <p:spPr>
          <a:xfrm>
            <a:off x="428760" y="285840"/>
            <a:ext cx="828648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23640" y="3886200"/>
            <a:ext cx="316836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Герб России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162240" cy="3629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2"/>
          <a:stretch/>
        </p:blipFill>
        <p:spPr>
          <a:xfrm>
            <a:off x="4716360" y="620640"/>
            <a:ext cx="3695760" cy="3105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RGB_XYZ"/>
          <p:cNvPicPr/>
          <p:nvPr/>
        </p:nvPicPr>
        <p:blipFill>
          <a:blip r:embed="rId3"/>
          <a:stretch/>
        </p:blipFill>
        <p:spPr>
          <a:xfrm>
            <a:off x="7885080" y="5589720"/>
            <a:ext cx="934920" cy="934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CIRCUM"/>
          <p:cNvPicPr/>
          <p:nvPr/>
        </p:nvPicPr>
        <p:blipFill>
          <a:blip r:embed="rId4"/>
          <a:stretch/>
        </p:blipFill>
        <p:spPr>
          <a:xfrm>
            <a:off x="250920" y="5589720"/>
            <a:ext cx="934920" cy="6602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1"/>
          <p:cNvSpPr/>
          <p:nvPr/>
        </p:nvSpPr>
        <p:spPr>
          <a:xfrm>
            <a:off x="5148360" y="3933720"/>
            <a:ext cx="302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Флаг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2987640" y="5950080"/>
            <a:ext cx="3529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Гимн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www.klass39.ru/wp-content/uploads/2017/08/561136-600x337.jpg?9955c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2268360" y="836640"/>
            <a:ext cx="4494240" cy="5157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7709040" cy="41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Золотой двуглавый орё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1258920" y="23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0" y="3213000"/>
            <a:ext cx="147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Скипетр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"/>
          <p:cNvSpPr/>
          <p:nvPr/>
        </p:nvSpPr>
        <p:spPr>
          <a:xfrm>
            <a:off x="7236000" y="3213000"/>
            <a:ext cx="1657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Держав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2"/>
          <p:cNvSpPr/>
          <p:nvPr/>
        </p:nvSpPr>
        <p:spPr>
          <a:xfrm>
            <a:off x="1187280" y="3716280"/>
            <a:ext cx="1872000" cy="504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3"/>
          <p:cNvSpPr/>
          <p:nvPr/>
        </p:nvSpPr>
        <p:spPr>
          <a:xfrm>
            <a:off x="7380360" y="1125360"/>
            <a:ext cx="176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Святой Георгий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5"/>
          <p:cNvSpPr/>
          <p:nvPr/>
        </p:nvSpPr>
        <p:spPr>
          <a:xfrm flipH="1">
            <a:off x="6011640" y="3645000"/>
            <a:ext cx="1368360" cy="647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6"/>
          <p:cNvSpPr/>
          <p:nvPr/>
        </p:nvSpPr>
        <p:spPr>
          <a:xfrm flipH="1">
            <a:off x="4571640" y="1700280"/>
            <a:ext cx="2879640" cy="1512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7"/>
          <p:cNvSpPr/>
          <p:nvPr/>
        </p:nvSpPr>
        <p:spPr>
          <a:xfrm>
            <a:off x="5500800" y="6191280"/>
            <a:ext cx="5112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8"/>
          <p:cNvSpPr/>
          <p:nvPr/>
        </p:nvSpPr>
        <p:spPr>
          <a:xfrm>
            <a:off x="4500720" y="549360"/>
            <a:ext cx="431640" cy="1655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9"/>
          <p:cNvSpPr/>
          <p:nvPr/>
        </p:nvSpPr>
        <p:spPr>
          <a:xfrm flipH="1">
            <a:off x="3995280" y="549360"/>
            <a:ext cx="505080" cy="1655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7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770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77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770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http://www.klass39.ru/wp-content/uploads/2017/08/48705089cf7e-672x800.png?9955c1"/>
          <p:cNvPicPr/>
          <p:nvPr/>
        </p:nvPicPr>
        <p:blipFill>
          <a:blip r:embed="rId2"/>
          <a:stretch/>
        </p:blipFill>
        <p:spPr>
          <a:xfrm>
            <a:off x="428760" y="214200"/>
            <a:ext cx="82864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6756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omic Sans MS"/>
              </a:rPr>
              <a:t>Текст Государственного гимна Российской Федерации</a:t>
            </a:r>
            <a:br>
              <a:rPr sz="1600"/>
            </a:br>
            <a:r>
              <a:rPr b="0" lang="ru-RU" sz="1600" spc="-1" strike="noStrike">
                <a:solidFill>
                  <a:srgbClr val="0000ff"/>
                </a:solidFill>
                <a:latin typeface="Comic Sans MS"/>
              </a:rPr>
              <a:t>(слова С.В.Михалкова, музыка А.В.Александрова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2195640" y="836640"/>
            <a:ext cx="489744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Россия - священная наша держава.</a:t>
            </a:r>
            <a:br>
              <a:rPr sz="1600"/>
            </a:b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Россия - любимая наша страна.</a:t>
            </a:r>
            <a:br>
              <a:rPr sz="1600"/>
            </a:b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Могучая воля, великая слава -</a:t>
            </a:r>
            <a:br>
              <a:rPr sz="1600"/>
            </a:b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Твое достоянье на все времена!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0000ff"/>
                </a:solidFill>
                <a:latin typeface="Arial"/>
              </a:rPr>
              <a:t>Припев:</a:t>
            </a: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Славься, Отечество наше свободное,</a:t>
            </a:r>
            <a:br>
              <a:rPr sz="1600"/>
            </a:b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Братских народов союз вековой,</a:t>
            </a:r>
            <a:br>
              <a:rPr sz="1600"/>
            </a:b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Предками данная мудрость народная!</a:t>
            </a:r>
            <a:br>
              <a:rPr sz="1600"/>
            </a:b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Славься, страна! Мы гордимся тобой!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От южных морей до полярного края</a:t>
            </a:r>
            <a:br>
              <a:rPr sz="1600"/>
            </a:b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Раскинулись наши леса и поля.</a:t>
            </a:r>
            <a:br>
              <a:rPr sz="1600"/>
            </a:b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Одна ты на свете! Одна ты такая-</a:t>
            </a:r>
            <a:br>
              <a:rPr sz="1600"/>
            </a:b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Хранимая Богом родная земля!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0000ff"/>
                </a:solidFill>
                <a:latin typeface="Arial"/>
              </a:rPr>
              <a:t>Припев:</a:t>
            </a:r>
            <a:br>
              <a:rPr sz="1600"/>
            </a:b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Широкий простор для мечты и для жизни </a:t>
            </a:r>
            <a:br>
              <a:rPr sz="1600"/>
            </a:b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Грядущие нам открывают года.</a:t>
            </a:r>
            <a:br>
              <a:rPr sz="1600"/>
            </a:b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Нам силу дает наша верность Отчизне.</a:t>
            </a:r>
            <a:br>
              <a:rPr sz="1600"/>
            </a:b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Так было, так есть и так будет всегда!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0000ff"/>
                </a:solidFill>
                <a:latin typeface="Arial"/>
              </a:rPr>
              <a:t>Припев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468360" y="6512040"/>
            <a:ext cx="867564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3"/>
          <p:cNvSpPr/>
          <p:nvPr/>
        </p:nvSpPr>
        <p:spPr>
          <a:xfrm>
            <a:off x="2438280" y="3049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имволы Красноярского кр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Герб Красноярского кр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F:\Уставный урок\bgrnd\krasnojarg.tif"/>
          <p:cNvPicPr/>
          <p:nvPr/>
        </p:nvPicPr>
        <p:blipFill>
          <a:blip r:embed="rId1"/>
          <a:stretch/>
        </p:blipFill>
        <p:spPr>
          <a:xfrm>
            <a:off x="5381640" y="2286000"/>
            <a:ext cx="2997360" cy="3586320"/>
          </a:xfrm>
          <a:prstGeom prst="rect">
            <a:avLst/>
          </a:prstGeom>
          <a:ln w="0">
            <a:noFill/>
          </a:ln>
        </p:spPr>
      </p:pic>
      <p:sp>
        <p:nvSpPr>
          <p:cNvPr id="81" name="TextBox 4"/>
          <p:cNvSpPr/>
          <p:nvPr/>
        </p:nvSpPr>
        <p:spPr>
          <a:xfrm>
            <a:off x="214200" y="1071720"/>
            <a:ext cx="55720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гербе золотой лев -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мвол власти, силы, отваги, храбрости и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ликодуши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правой лапе золотая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опата , а в левой– золотой сер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удия труда в лапах льв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ворят о б исторически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ных занятиях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селения Краснояр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опата указывает на то, что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селение  промышляло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емляными рабо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рп указывает на друго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ое занятие – земледел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В геральдике червленый цвет- символ храбрости, мужества и неустрашимости, лев- символ власти, отваги,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храбрости и великодуш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5"/>
          <p:cNvSpPr/>
          <p:nvPr/>
        </p:nvSpPr>
        <p:spPr>
          <a:xfrm>
            <a:off x="2057400" y="30492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имволы Красноярского кр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Флаг Красноярского кр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10" descr="flag2.tif"/>
          <p:cNvPicPr/>
          <p:nvPr/>
        </p:nvPicPr>
        <p:blipFill>
          <a:blip r:embed="rId1"/>
          <a:stretch/>
        </p:blipFill>
        <p:spPr>
          <a:xfrm>
            <a:off x="4419720" y="1752480"/>
            <a:ext cx="4152960" cy="26053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85840" y="1142640"/>
            <a:ext cx="435744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Флаг Красноярского края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является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государственным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имволом регион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Флаг края – это прямоугольное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лотнище, посередине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флага расположен герб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рая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 основе флага цвет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щита – символ земли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расноярья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4T19:07:36Z</dcterms:created>
  <dc:creator>Котлярова Р. С.</dc:creator>
  <dc:description/>
  <dc:language>en-US</dc:language>
  <cp:lastModifiedBy>User</cp:lastModifiedBy>
  <dcterms:modified xsi:type="dcterms:W3CDTF">2019-01-02T15:55:29Z</dcterms:modified>
  <cp:revision>175</cp:revision>
  <dc:subject/>
  <dc:title>Природа в стихах русских поэтов</dc:title>
</cp:coreProperties>
</file>