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EC4-F79F-4796-8A7E-86DBE52B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67E-7553-4CC0-A5E6-84742234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55F-9DAE-453D-824D-10EAC7F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C82-A38E-4B13-B770-549CD49A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A956-43D0-46C5-B20E-AFD9D60C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7F4-B2C0-4815-918B-7339606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B061-6FA6-4E72-A820-3D6DBB53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690D-40F6-42F3-999A-3548BFE0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6DB0-F8C3-4B7A-B8B5-19510F0D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CA62-EC98-4126-92C6-4B36356E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94BC-68BA-4787-BF60-F2E5944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73F-BCFC-421B-B142-777852A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B245-92D4-4471-B502-B7CE885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6023-2D9D-413D-AD52-AA2DAB53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928C-223B-444A-9A30-B653765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E6AB-30A1-4FEA-AA96-8E7E2D16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F200-4738-492B-A9D0-2141057F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F2E-B6D2-46BC-8A04-9E99005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4C4-A361-472B-8CB0-7F8B50C0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EBD-932C-4F51-80D9-EC5E781B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4C1-33D6-4BB1-9A59-FDEBB0C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489-1AC3-4AA6-AC41-D2AAA0E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461-9EAD-4F7E-9696-DE0E242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389-B266-439D-A1E3-D560CB2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8E7-B8AA-4753-94C0-C0BEAFED06F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0A5-1D1B-41F4-83B0-46DB3CFE03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2720" cy="3456000"/>
          </a:xfrm>
          <a:prstGeom prst="rect">
            <a:avLst/>
          </a:prstGeom>
          <a:solidFill>
            <a:srgbClr val="ffef66"/>
          </a:solidFill>
          <a:ln w="9360">
            <a:solidFill>
              <a:srgbClr val="ffffff"/>
            </a:solidFill>
            <a:miter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71440" y="4786200"/>
            <a:ext cx="5429160" cy="188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МКОУ школа-интерна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Московская область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г. Павловский Посад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Составила: 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Суманева В.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332000" y="765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атематика во 2 классе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2195640" y="1989000"/>
            <a:ext cx="50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"Сложение и вычитание</a:t>
            </a:r>
            <a:endParaRPr b="1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 пределах 100"</a:t>
            </a:r>
            <a:endParaRPr b="1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1187280" y="1844640"/>
            <a:ext cx="288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 Т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332000" y="5589720"/>
            <a:ext cx="280656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40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187280" y="3068640"/>
            <a:ext cx="288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100 Л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332000" y="4292640"/>
            <a:ext cx="2808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ЯЯЯЯЯЯ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1297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6"/>
          <p:cNvSpPr/>
          <p:nvPr/>
        </p:nvSpPr>
        <p:spPr>
          <a:xfrm>
            <a:off x="4932360" y="1844640"/>
            <a:ext cx="302436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трит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5003640" y="2997360"/>
            <a:ext cx="295308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тол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4932360" y="4221000"/>
            <a:ext cx="302436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5003640" y="544500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оро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1692360" y="76500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ретий лучи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22d0c"/>
                </a:solidFill>
                <a:latin typeface="Arial"/>
              </a:rPr>
              <a:t>«СМЕКАЛ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529080" cy="4464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826920" y="2133720"/>
            <a:ext cx="3456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СНОЕ ЯБЛО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равился у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900000" y="3860640"/>
            <a:ext cx="3384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Arial"/>
              </a:rPr>
              <a:t>ЗЕЛЁНОЕ ЯБЛО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Arial"/>
              </a:rPr>
              <a:t>не понравился у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152360" cy="129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68360" cy="12970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5"/>
          <p:cNvSpPr txBox="1"/>
          <p:nvPr/>
        </p:nvSpPr>
        <p:spPr>
          <a:xfrm>
            <a:off x="1692360" y="765000"/>
            <a:ext cx="669600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лшебное дерев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826920" y="2133720"/>
            <a:ext cx="3456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СНОЕ ЯБЛО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равился у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69850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979640" y="1787760"/>
            <a:ext cx="54720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«Раз, два, три—отвечай»                                    ( математические развлечения для младших школьников )- Перкова О.И.. Москва : 1994г. Издательство Учебно-научного производственного центра «Энергомаш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Т.Г.Жигалкина «Система игр на уроках математики в 1 и 2 классах». М.,: Новая школа, 199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Т.И.Линго «Игры. Ребусы, загадки для мл. школьников.»--Ярославль: Академ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Интернетресур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1640" y="642600"/>
            <a:ext cx="65530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олгожданный дан звонок-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чинается урок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ы, шутки, всё для вас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работу, в добрый час!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343640" cy="14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Arial"/>
              </a:rPr>
              <a:t>Записать числа в порядке возрастания  20,17,39,61,58,49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786200" y="1989000"/>
            <a:ext cx="3675240" cy="3940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50920" y="2492280"/>
            <a:ext cx="3600360" cy="8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7,20,39,49, 58,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3429000"/>
            <a:ext cx="360036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  Р  У  Ж  Б 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10717200"/>
            <a:ext cx="315720" cy="110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383520" cy="40626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611280" y="620640"/>
            <a:ext cx="74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гра "ДОМИНО"</a:t>
            </a:r>
            <a:endParaRPr b="1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674676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395280" y="333360"/>
            <a:ext cx="784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b2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ческая туманность</a:t>
            </a:r>
            <a:endParaRPr b="1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00b2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5651640" y="3429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3492360" y="350028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7308720" y="213372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7812000" y="350028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4788000" y="1989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2700360" y="2421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5508720" y="4653000"/>
            <a:ext cx="91440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8101080" y="51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91280" cy="15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7fef"/>
                </a:solidFill>
                <a:latin typeface="Arial"/>
              </a:rPr>
              <a:t>Орёл-100б.  Альбатрос-80б. Аист-90б</a:t>
            </a:r>
            <a:r>
              <a:rPr b="1" lang="ru-RU" sz="3600" spc="-1" strike="noStrike">
                <a:solidFill>
                  <a:srgbClr val="4d7fe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90000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197964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305928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421164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521964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6300720" y="26028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7380360" y="115920"/>
            <a:ext cx="1224000" cy="115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57088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72360" cy="468144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971640" y="549360"/>
            <a:ext cx="7416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тематический лабиринт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708360" y="2781360"/>
            <a:ext cx="79236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9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508720" y="1700280"/>
            <a:ext cx="7920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7451640" y="2637000"/>
            <a:ext cx="79236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3203640" y="4076640"/>
            <a:ext cx="79200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8101080" y="3933720"/>
            <a:ext cx="79200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940360" y="5157720"/>
            <a:ext cx="79236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Arial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795240" y="1873080"/>
            <a:ext cx="3098880" cy="3608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1440000" cy="1295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7"/>
          <p:cNvSpPr/>
          <p:nvPr/>
        </p:nvSpPr>
        <p:spPr>
          <a:xfrm>
            <a:off x="2484360" y="1197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Работа с тес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1547640" y="40464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ервый лучи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22d0c"/>
                </a:solidFill>
                <a:latin typeface="Arial"/>
              </a:rPr>
              <a:t>«ЗАДАЧ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9280" y="2060640"/>
            <a:ext cx="3456000" cy="576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+5+5+5+5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50920" y="2924280"/>
            <a:ext cx="2374920" cy="503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х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314352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50920" y="3860640"/>
            <a:ext cx="3673440" cy="22885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такое умножени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т умное сло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дь умней умножить раз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слагать весь целый ч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6" descr=""/>
          <p:cNvPicPr/>
          <p:nvPr/>
        </p:nvPicPr>
        <p:blipFill>
          <a:blip r:embed="rId1"/>
          <a:stretch/>
        </p:blipFill>
        <p:spPr>
          <a:xfrm>
            <a:off x="4643280" y="1643040"/>
            <a:ext cx="3137040" cy="444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04" name="Oval 32"/>
          <p:cNvSpPr/>
          <p:nvPr/>
        </p:nvSpPr>
        <p:spPr>
          <a:xfrm>
            <a:off x="3348000" y="1916280"/>
            <a:ext cx="914400" cy="914400"/>
          </a:xfrm>
          <a:prstGeom prst="ellipse">
            <a:avLst/>
          </a:prstGeom>
          <a:solidFill>
            <a:srgbClr val="45f7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2050920" y="2781360"/>
            <a:ext cx="914400" cy="914400"/>
          </a:xfrm>
          <a:prstGeom prst="ellipse">
            <a:avLst/>
          </a:prstGeom>
          <a:solidFill>
            <a:srgbClr val="45f7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1476360" y="476280"/>
            <a:ext cx="669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торой лучи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22d0c"/>
                </a:solidFill>
                <a:latin typeface="Arial"/>
              </a:rPr>
              <a:t>«ПОСЧИТАЙ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6:26:22Z</dcterms:created>
  <dc:creator>Вера</dc:creator>
  <dc:description/>
  <dc:language>en-US</dc:language>
  <cp:lastModifiedBy>Вера</cp:lastModifiedBy>
  <dcterms:modified xsi:type="dcterms:W3CDTF">2019-01-02T12:17:14Z</dcterms:modified>
  <cp:revision>23</cp:revision>
  <dc:subject/>
  <dc:title>Слайд 1</dc:title>
</cp:coreProperties>
</file>