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A0B-9293-4B2B-81D9-BAE827FD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127-2CE9-4C50-9599-F4E3E103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5F9-D7FD-4BB9-9D69-73CC56F3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FCA-F575-4728-9189-CF32443F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B9D-4FBE-4742-B42F-E60B5364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07F-75CD-43C9-A5D8-C916D9A5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32C-8A56-4B76-81EA-D2CEEE9C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939-B0A9-44EE-9C35-43B5DB1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C09-E652-43FD-9217-96ECA370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A431-AC04-474F-95B9-FF323B2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4333-8473-47AB-B7C7-BE9F240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737-93A7-42A2-991C-65F75E9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42B-15CE-4BE3-A300-0095D06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5797-BF8E-4003-A243-67F54B2F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E75C-E3DE-46C3-8C9A-0CBD2C3D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9F39-432A-4232-B4B9-CEDE168F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BB07-C3DD-4DE7-A0D6-237DF014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9A7-EAAB-46B1-86BE-E05B545B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323-36B3-4FCF-B417-1940D29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E77-7CFF-4542-BDD2-EF4074A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7AE-496E-4066-8A55-D941C33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46E-9AFF-43AE-A257-98A68FE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577-608B-437B-8A5A-BED6912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69B-D2AC-4FF1-99B9-8F42E1D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A634-43CA-4A9E-8560-4E8FFB3F53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241-F6A4-4083-95E1-5E74E6C0DF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2720" cy="345600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71440" y="4786200"/>
            <a:ext cx="5429160" cy="188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МКОУ школа-интерна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Московская область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г. Павловский Посад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Составила: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Суманева В.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332000" y="765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атематика во 2 класс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2195640" y="1989000"/>
            <a:ext cx="50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Сложение и вычитание</a:t>
            </a:r>
            <a:endParaRPr b="1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пределах 100"</a:t>
            </a:r>
            <a:endParaRPr b="1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1187280" y="1844640"/>
            <a:ext cx="288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 Т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332000" y="5589720"/>
            <a:ext cx="28065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40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187280" y="3068640"/>
            <a:ext cx="288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00 Л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332000" y="4292640"/>
            <a:ext cx="2808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ЯЯЯЯЯЯ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297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4932360" y="1844640"/>
            <a:ext cx="302436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трит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5003640" y="2997360"/>
            <a:ext cx="295308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тол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4932360" y="4221000"/>
            <a:ext cx="302436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5003640" y="544500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оро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1692360" y="76500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ретий лучи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СМЕКАЛ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529080" cy="4464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826920" y="2133720"/>
            <a:ext cx="345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С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900000" y="3860640"/>
            <a:ext cx="3384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ЗЕЛЁ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не 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152360" cy="12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68360" cy="1297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5"/>
          <p:cNvSpPr txBox="1"/>
          <p:nvPr/>
        </p:nvSpPr>
        <p:spPr>
          <a:xfrm>
            <a:off x="1692360" y="765000"/>
            <a:ext cx="669600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лшебное дерев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826920" y="2133720"/>
            <a:ext cx="345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С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9850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979640" y="1787760"/>
            <a:ext cx="54720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«Раз, два, три—отвечай»                                    ( математические развлечения для младших школьников )- Перкова О.И.. Москва : 1994г. Издательство Учебно-научного производственного центра «Энергомаш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Т.Г.Жигалкина «Система игр на уроках математики в 1 и 2 классах». М.,: Новая школа, 199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Т.И.Линго «Игры. Ребусы, загадки для мл. школьников.»--Ярославль: Академ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Интернетресур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1640" y="642600"/>
            <a:ext cx="65530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лгожданный дан звонок-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чинается урок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работу, в добрый час!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343640" cy="14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Записать числа в порядке возрастания  20,17,39,61,58,49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786200" y="1989000"/>
            <a:ext cx="3675240" cy="3940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50920" y="2492280"/>
            <a:ext cx="360036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7,20,39,49, 58,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3429000"/>
            <a:ext cx="360036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  Р  У  Ж  Б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10717200"/>
            <a:ext cx="315720" cy="11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83520" cy="40626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611280" y="620640"/>
            <a:ext cx="74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гра "ДОМИНО"</a:t>
            </a:r>
            <a:endParaRPr b="1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674676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395280" y="333360"/>
            <a:ext cx="784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b2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ческая туманность</a:t>
            </a:r>
            <a:endParaRPr b="1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00b2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5651640" y="3429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3492360" y="350028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7308720" y="213372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7812000" y="350028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4788000" y="1989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2700360" y="2421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8101080" y="51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91280" cy="15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7fef"/>
                </a:solidFill>
                <a:latin typeface="Arial"/>
              </a:rPr>
              <a:t>Орёл-100б.  Альбатрос-80б. Аист-90б</a:t>
            </a:r>
            <a:r>
              <a:rPr b="1" lang="ru-RU" sz="3600" spc="-1" strike="noStrike">
                <a:solidFill>
                  <a:srgbClr val="4d7fe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90000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1979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305928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4211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5219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630072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380360" y="115920"/>
            <a:ext cx="122400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708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2360" cy="468144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971640" y="549360"/>
            <a:ext cx="7416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тематический лабиринт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708360" y="2781360"/>
            <a:ext cx="79236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508720" y="1700280"/>
            <a:ext cx="7920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7451640" y="2637000"/>
            <a:ext cx="79236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3203640" y="4076640"/>
            <a:ext cx="79200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8101080" y="3933720"/>
            <a:ext cx="79200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940360" y="5157720"/>
            <a:ext cx="79236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795240" y="1873080"/>
            <a:ext cx="3098880" cy="3608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1440000" cy="1295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7"/>
          <p:cNvSpPr/>
          <p:nvPr/>
        </p:nvSpPr>
        <p:spPr>
          <a:xfrm>
            <a:off x="2484360" y="1197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Работа с тес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1547640" y="40464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ервый лучи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ЗАДАЧ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9280" y="2060640"/>
            <a:ext cx="3456000" cy="57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+5+5+5+5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50920" y="2924280"/>
            <a:ext cx="2374920" cy="50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х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314352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50920" y="3860640"/>
            <a:ext cx="3673440" cy="22885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такое умножени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т умное сло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дь умней умножить раз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слагать весь целый ч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6" descr=""/>
          <p:cNvPicPr/>
          <p:nvPr/>
        </p:nvPicPr>
        <p:blipFill>
          <a:blip r:embed="rId1"/>
          <a:stretch/>
        </p:blipFill>
        <p:spPr>
          <a:xfrm>
            <a:off x="4643280" y="1643040"/>
            <a:ext cx="3137040" cy="444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04" name="Oval 32"/>
          <p:cNvSpPr/>
          <p:nvPr/>
        </p:nvSpPr>
        <p:spPr>
          <a:xfrm>
            <a:off x="3348000" y="1916280"/>
            <a:ext cx="914400" cy="914400"/>
          </a:xfrm>
          <a:prstGeom prst="ellipse">
            <a:avLst/>
          </a:prstGeom>
          <a:solidFill>
            <a:srgbClr val="45f7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2050920" y="2781360"/>
            <a:ext cx="914400" cy="914400"/>
          </a:xfrm>
          <a:prstGeom prst="ellipse">
            <a:avLst/>
          </a:prstGeom>
          <a:solidFill>
            <a:srgbClr val="45f7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476360" y="476280"/>
            <a:ext cx="669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торой лучи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ПОСЧИТАЙ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6:26:22Z</dcterms:created>
  <dc:creator>Вера</dc:creator>
  <dc:description/>
  <dc:language>en-US</dc:language>
  <cp:lastModifiedBy>Вера</cp:lastModifiedBy>
  <dcterms:modified xsi:type="dcterms:W3CDTF">2019-01-02T12:17:14Z</dcterms:modified>
  <cp:revision>23</cp:revision>
  <dc:subject/>
  <dc:title>Слайд 1</dc:title>
</cp:coreProperties>
</file>