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18.gif" ContentType="image/gi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D9B-0565-4392-B2A1-24B12A2F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1A-1785-4C04-B1FC-4D4922EC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E67-1722-4D9A-99B3-B059BCEF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BCB-D309-4CF1-93AF-903DAEA2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C4D2-33B2-4798-A0E5-92C34377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359-7293-4310-8591-B0979A7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E244-B2F9-4874-8B44-5F4447A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3B0-82EA-4F2A-9F70-6F20488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11C5-AD06-4844-815C-47AD4D1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2E8-A1D5-40E4-A218-FD7288D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232-54B3-42EE-B89E-1CCA80C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AF0-072A-4BB2-9B5B-312973D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31D-A335-4F1A-9E38-EB2999B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EC1-495E-4052-8FC1-9C8C084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F56D-7E57-456D-9184-83A1D5AF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18D5-5561-4E0A-8E1E-0ED1BBF8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CF3-BCE6-4FCB-9AC7-6FF7B864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3C3-B09E-46A3-9FA7-F08059C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F2C-C537-4759-B250-71910297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895-C5F6-4C59-BAF9-78ADF60A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37C-0316-49DE-9BE4-22BC0B4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9E6-FB22-4BD1-9C46-4A37B8F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229-96D9-4658-9B7D-A3806DD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7CE-DBC3-4B8F-B671-49AD8DE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8A3-CEC8-46B5-8392-CBCDD5652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2D1A-B1B5-44B1-AFA5-2C74D11D2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43040" y="214200"/>
            <a:ext cx="67867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БОУ «Тайнинская ООШ»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Franklin Gothic Medium"/>
              </a:rPr>
              <a:t>«Современный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Franklin Gothic Medium"/>
              </a:rPr>
              <a:t>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Franklin Gothic Medium"/>
              </a:rPr>
              <a:t>с учётом требований ФГО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для презентаций\картинки школа\kartinki2_002.jpg"/>
          <p:cNvPicPr/>
          <p:nvPr/>
        </p:nvPicPr>
        <p:blipFill>
          <a:blip r:embed="rId1"/>
          <a:stretch/>
        </p:blipFill>
        <p:spPr>
          <a:xfrm>
            <a:off x="4786200" y="3643200"/>
            <a:ext cx="38386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D:\Мои док_На_D\ирина николаевна\материалы для оформления слайдов\школная\умный умный филин 2.bmp"/>
          <p:cNvPicPr/>
          <p:nvPr/>
        </p:nvPicPr>
        <p:blipFill>
          <a:blip r:embed="rId2"/>
          <a:stretch/>
        </p:blipFill>
        <p:spPr>
          <a:xfrm>
            <a:off x="0" y="0"/>
            <a:ext cx="1835280" cy="2630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142920" y="5786280"/>
            <a:ext cx="43578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Котлярова Р.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4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D:\Мои док_На_D\ирина николаевна\материалы для оформления слайдов\школная\умный умный филин 2.bmp"/>
          <p:cNvPicPr/>
          <p:nvPr/>
        </p:nvPicPr>
        <p:blipFill>
          <a:blip r:embed="rId2"/>
          <a:stretch/>
        </p:blipFill>
        <p:spPr>
          <a:xfrm>
            <a:off x="785880" y="30718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4"/>
          <p:cNvSpPr/>
          <p:nvPr/>
        </p:nvSpPr>
        <p:spPr>
          <a:xfrm>
            <a:off x="2643120" y="785880"/>
            <a:ext cx="5961240" cy="3003480"/>
          </a:xfrm>
          <a:prstGeom prst="wedgeEllipseCallout">
            <a:avLst>
              <a:gd name="adj1" fmla="val -31120"/>
              <a:gd name="adj2" fmla="val 65805"/>
            </a:avLst>
          </a:prstGeom>
          <a:solidFill>
            <a:srgbClr val="ffd7e8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2843280" y="1052640"/>
            <a:ext cx="55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50920" y="214200"/>
          <a:ext cx="8712000" cy="6357960"/>
        </p:xfrm>
        <a:graphic>
          <a:graphicData uri="http://schemas.openxmlformats.org/drawingml/2006/table">
            <a:tbl>
              <a:tblPr/>
              <a:tblGrid>
                <a:gridCol w="106200"/>
                <a:gridCol w="8570160"/>
                <a:gridCol w="36000"/>
              </a:tblGrid>
              <a:tr h="635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000"/>
                      </a:b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. момен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Определение темы уро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Актуализация и коррекция опорных знани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Целеполагание. Мотивация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 Закрепление в знакомой ситуации (типовые задания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змененной ситуации (конструктивные задания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 Творческое применение, углубление знаний в новой ситуации (проблемные задания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Информация о домашнем задани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 Рефлекси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666666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фильм В гостях у сказки.wmv" descr=""/>
          <p:cNvPicPr/>
          <p:nvPr/>
        </p:nvPicPr>
        <p:blipFill>
          <a:blip r:embed="rId2"/>
          <a:stretch/>
        </p:blipFill>
        <p:spPr>
          <a:xfrm>
            <a:off x="785880" y="857160"/>
            <a:ext cx="7929360" cy="5500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156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272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РИ – РУ – РЮ – РЯ – РЕ 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-ПА-ДА-ЮТ  ЛИС-ТЬЯ  В  СЕН-ТЯБ-РЕ</a:t>
            </a: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А – ГУ – ГЫ – КА – ГО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Ь   ИГ-РУШ-КИ  У  МАР-ГО</a:t>
            </a: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ИЧ – РЫК – МАК – ТОК – БАК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-ТА-ЕМ  МЫ  НЕ  ПРОС-ТО  ТАК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</a:rPr>
              <a:t>АК – ОК – ИК – КА – УК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 ЛИСТ  У-СЕЛ-СЯ  МАЙ- СКИЙ  ЖУ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Monotype Corsiva"/>
              </a:rPr>
              <a:t>Определите фамилию автора, с произведением которого мы сегодня познакомим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2948040"/>
            <a:ext cx="5832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. Д. Бере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55640" y="3860640"/>
            <a:ext cx="38178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.Н. 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5640" y="4724280"/>
            <a:ext cx="4248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.Л. 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80880" y="2133720"/>
            <a:ext cx="6913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84360" y="202896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.Я.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754680" y="3857760"/>
            <a:ext cx="2106720" cy="26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поиска решения учебной пробл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29600" cy="4456080"/>
        </p:xfrm>
        <a:graphic>
          <a:graphicData uri="http://schemas.openxmlformats.org/drawingml/2006/table">
            <a:tbl>
              <a:tblPr/>
              <a:tblGrid>
                <a:gridCol w="3733920"/>
                <a:gridCol w="4495680"/>
              </a:tblGrid>
              <a:tr h="44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Урок математики в 3 клас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Актуализация знани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аналогич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то сможет подробно объяснить решение этого выражен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(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+6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4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+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=20+3=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один ученик у доски, остальные в тетрад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228600"/>
          <a:ext cx="8458200" cy="6480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=(40+2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=4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+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=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блем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: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(21+21)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:3+21:3=7+7=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: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(27+15)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:3+15:3=9+5=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: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(30+12):3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:3+12:3=10+4=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: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ти: Надо искать другие слагаемые, которые будут дел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возникло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отиворечи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ду знанием и незнание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мотрели все способы. Выбор самого удоб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:2=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сле решения подобных выражений, дети понимают, что делимое надо заменить на сумму удобных слагаемых. А первое из слагаемых должно являться наибольшим числом десятков, делящихся на делитель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13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1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333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1405080" y="115920"/>
            <a:ext cx="66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омашнее задание: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1" name="Picture 4" descr="аним колобок несёт книги"/>
          <p:cNvPicPr/>
          <p:nvPr/>
        </p:nvPicPr>
        <p:blipFill>
          <a:blip r:embed="rId1"/>
          <a:stretch/>
        </p:blipFill>
        <p:spPr>
          <a:xfrm>
            <a:off x="-36360" y="549360"/>
            <a:ext cx="1276200" cy="1895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gbook01"/>
          <p:cNvPicPr/>
          <p:nvPr/>
        </p:nvPicPr>
        <p:blipFill>
          <a:blip r:embed="rId2"/>
          <a:stretch/>
        </p:blipFill>
        <p:spPr>
          <a:xfrm>
            <a:off x="6877080" y="5621400"/>
            <a:ext cx="2266920" cy="1236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692360" y="1143000"/>
            <a:ext cx="691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.60 -64 подготовить выразительное чтение рассказа «На горке»Н. Носова  по ро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785960" y="2514600"/>
            <a:ext cx="7058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 уровень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исовать рисунок к расск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835280" y="3284640"/>
            <a:ext cx="6913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  уровень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Придумать вопросы к тексту рассказ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835280" y="4076640"/>
            <a:ext cx="784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  уровень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вить с товарищами сценку по диалогу Котьки и реб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этого распре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и и выучить с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3:16:58Z</dcterms:created>
  <dc:creator>Admin</dc:creator>
  <dc:description/>
  <dc:language>en-US</dc:language>
  <cp:lastModifiedBy>User</cp:lastModifiedBy>
  <dcterms:modified xsi:type="dcterms:W3CDTF">2019-01-02T07:39:44Z</dcterms:modified>
  <cp:revision>60</cp:revision>
  <dc:subject/>
  <dc:title>Слайд 1</dc:title>
</cp:coreProperties>
</file>