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6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20.wmf" ContentType="image/x-wmf"/>
  <Override PartName="/ppt/media/image18.gif" ContentType="image/gif"/>
  <Override PartName="/ppt/media/image4.png" ContentType="image/png"/>
  <Override PartName="/ppt/media/image19.gif" ContentType="image/gif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B81E-6575-4B7F-AF82-68F4216AD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9D06-ED3A-408D-8F42-D3A004E0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4FAD-6FB1-4851-8A9A-53CB863CA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1D4D-CBD1-4E4A-ACCF-DD6C3354C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26D5-75C4-4BE0-B75C-681108846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932D-7ECD-4DED-A2ED-6DE7F133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FF85-EDCD-4954-823A-34E278D7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2D7A-B374-4041-AE5C-90275DFA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6295-E016-4B4E-BDD9-5D7676B5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D683-CD81-42F5-AEFA-310CA8AA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7A52-8127-4DEE-B6D6-31F42907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DB4C-0D8B-44C1-A806-69C06AE2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3D63-4197-4B9E-9FE0-74B25261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28BE-8537-4D90-AF7E-29B05B31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C8F7-12E0-43E2-8CCA-A810C03C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39CB-7C6F-4773-8294-BB5CC28BD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6466-AE21-410A-9551-42DC6FDD9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9B7B-EF57-48BC-8FAC-DA33B824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5C03-5B35-4245-8A61-F7398694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8C4D-0B10-4C0D-A03E-00724B17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6DC6-263C-4522-9E0F-FE6FE002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6CD7-BE23-4A7B-A1E1-EAC3ED2C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4D71-9304-4731-AFC7-72004ADA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5765-0AF7-4A1D-AF62-7A8A5951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097D-A161-4C0D-8802-4F30980D4B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1D67-0361-4216-B4B2-BCFE867886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4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643040" y="214200"/>
            <a:ext cx="678672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МБОУ «Тайнинская ООШ»</a:t>
            </a:r>
            <a:br>
              <a:rPr sz="4400"/>
            </a:br>
            <a:r>
              <a:rPr b="1" lang="ru-RU" sz="4400" spc="-1" strike="noStrike">
                <a:solidFill>
                  <a:srgbClr val="632523"/>
                </a:solidFill>
                <a:latin typeface="Franklin Gothic Medium"/>
              </a:rPr>
              <a:t>«Современный ур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Franklin Gothic Medium"/>
              </a:rPr>
              <a:t>в начальной школ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Franklin Gothic Medium"/>
              </a:rPr>
              <a:t>с учётом требований ФГОС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D:\для презентаций\картинки школа\kartinki2_002.jpg"/>
          <p:cNvPicPr/>
          <p:nvPr/>
        </p:nvPicPr>
        <p:blipFill>
          <a:blip r:embed="rId1"/>
          <a:stretch/>
        </p:blipFill>
        <p:spPr>
          <a:xfrm>
            <a:off x="4786200" y="3643200"/>
            <a:ext cx="3838680" cy="2857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D:\Мои док_На_D\ирина николаевна\материалы для оформления слайдов\школная\умный умный филин 2.bmp"/>
          <p:cNvPicPr/>
          <p:nvPr/>
        </p:nvPicPr>
        <p:blipFill>
          <a:blip r:embed="rId2"/>
          <a:stretch/>
        </p:blipFill>
        <p:spPr>
          <a:xfrm>
            <a:off x="0" y="0"/>
            <a:ext cx="1835280" cy="263052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4"/>
          <p:cNvSpPr/>
          <p:nvPr/>
        </p:nvSpPr>
        <p:spPr>
          <a:xfrm>
            <a:off x="142920" y="5786280"/>
            <a:ext cx="4357800" cy="914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 Котлярова Р. 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4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D:\Мои док_На_D\ирина николаевна\материалы для оформления слайдов\школная\умный умный филин 2.bmp"/>
          <p:cNvPicPr/>
          <p:nvPr/>
        </p:nvPicPr>
        <p:blipFill>
          <a:blip r:embed="rId2"/>
          <a:stretch/>
        </p:blipFill>
        <p:spPr>
          <a:xfrm>
            <a:off x="785880" y="3071880"/>
            <a:ext cx="2286000" cy="3276360"/>
          </a:xfrm>
          <a:prstGeom prst="rect">
            <a:avLst/>
          </a:prstGeom>
          <a:ln w="0">
            <a:noFill/>
          </a:ln>
        </p:spPr>
      </p:pic>
      <p:sp>
        <p:nvSpPr>
          <p:cNvPr id="129" name="Овальная выноска 4"/>
          <p:cNvSpPr/>
          <p:nvPr/>
        </p:nvSpPr>
        <p:spPr>
          <a:xfrm>
            <a:off x="2643120" y="785880"/>
            <a:ext cx="5961240" cy="3003480"/>
          </a:xfrm>
          <a:prstGeom prst="wedgeEllipseCallout">
            <a:avLst>
              <a:gd name="adj1" fmla="val -31120"/>
              <a:gd name="adj2" fmla="val 65805"/>
            </a:avLst>
          </a:prstGeom>
          <a:solidFill>
            <a:srgbClr val="ffd7e8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5"/>
          <p:cNvSpPr/>
          <p:nvPr/>
        </p:nvSpPr>
        <p:spPr>
          <a:xfrm>
            <a:off x="2843280" y="1052640"/>
            <a:ext cx="5500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omic Sans MS"/>
              </a:rPr>
              <a:t>СПАСИБ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omic Sans MS"/>
              </a:rPr>
              <a:t>З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omic Sans MS"/>
              </a:rPr>
              <a:t>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250920" y="214200"/>
          <a:ext cx="8712000" cy="6357960"/>
        </p:xfrm>
        <a:graphic>
          <a:graphicData uri="http://schemas.openxmlformats.org/drawingml/2006/table">
            <a:tbl>
              <a:tblPr/>
              <a:tblGrid>
                <a:gridCol w="106200"/>
                <a:gridCol w="8570160"/>
                <a:gridCol w="36000"/>
              </a:tblGrid>
              <a:tr h="6357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3000"/>
                      </a:b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гредиенты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. момент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  Определение темы уро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  Актуализация и коррекция опорных знаний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  Целеполагание. Мотивация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  Закрепление в знакомой ситуации (типовые задания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измененной ситуации (конструктивные задания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  Творческое применение, углубление знаний в новой ситуации (проблемные задания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 Информация о домашнем задании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 Рефлексия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666666"/>
                          </a:solidFill>
                          <a:latin typeface="Times New Roman"/>
                          <a:ea typeface="Times New Roman"/>
                        </a:rPr>
                        <a:t>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0_1129e_feaa122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фильм В гостях у сказки.wmv" descr=""/>
          <p:cNvPicPr/>
          <p:nvPr/>
        </p:nvPicPr>
        <p:blipFill>
          <a:blip r:embed="rId2"/>
          <a:stretch/>
        </p:blipFill>
        <p:spPr>
          <a:xfrm>
            <a:off x="785880" y="857160"/>
            <a:ext cx="7929360" cy="5500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61564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0_1129e_feaa122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280" y="981000"/>
            <a:ext cx="7272360" cy="472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Times New Roman"/>
              </a:rPr>
              <a:t>РИ – РУ – РЮ – РЯ – РЕ  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-ПА-ДА-ЮТ  ЛИС-ТЬЯ  В  СЕН-ТЯБ-РЕ</a:t>
            </a:r>
            <a:br>
              <a:rPr sz="1200"/>
            </a:br>
            <a:br>
              <a:rPr sz="12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ГА – ГУ – ГЫ – КА – ГО –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ТЬ   ИГ-РУШ-КИ  У  МАР-ГО</a:t>
            </a:r>
            <a:br>
              <a:rPr sz="1200"/>
            </a:br>
            <a:br>
              <a:rPr sz="1200"/>
            </a:b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ВИЧ – РЫК – МАК – ТОК – БАК –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И-ТА-ЕМ  МЫ  НЕ  ПРОС-ТО  ТАК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2400" spc="-1" strike="noStrike">
                <a:solidFill>
                  <a:srgbClr val="4f81bd"/>
                </a:solidFill>
                <a:latin typeface="Times New Roman"/>
              </a:rPr>
              <a:t>АК – ОК – ИК – КА – УК –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 ЛИСТ  У-СЕЛ-СЯ  МАЙ- СКИЙ  ЖУК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Monotype Corsiva"/>
              </a:rPr>
              <a:t>Определите фамилию автора, с произведением которого мы сегодня познакомимс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684360" y="2948040"/>
            <a:ext cx="583236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. Д. Берес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755640" y="3860640"/>
            <a:ext cx="381780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.Н. Но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755640" y="4724280"/>
            <a:ext cx="424800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.Л. Бар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380880" y="2133720"/>
            <a:ext cx="6913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684360" y="2028960"/>
            <a:ext cx="45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.Я. Марш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1" descr=""/>
          <p:cNvPicPr/>
          <p:nvPr/>
        </p:nvPicPr>
        <p:blipFill>
          <a:blip r:embed="rId1"/>
          <a:stretch/>
        </p:blipFill>
        <p:spPr>
          <a:xfrm>
            <a:off x="6754680" y="3857760"/>
            <a:ext cx="2106720" cy="263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хнология поиска решения учебной пробл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1600200"/>
          <a:ext cx="8229600" cy="4456080"/>
        </p:xfrm>
        <a:graphic>
          <a:graphicData uri="http://schemas.openxmlformats.org/drawingml/2006/table">
            <a:tbl>
              <a:tblPr/>
              <a:tblGrid>
                <a:gridCol w="3733920"/>
                <a:gridCol w="4495680"/>
              </a:tblGrid>
              <a:tr h="445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8000"/>
                          </a:solidFill>
                          <a:latin typeface="Verdana"/>
                        </a:rPr>
                        <a:t>Урок математики в 3 класс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Актуализация знаний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8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=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аналогично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то сможет подробно объяснить решение этого выражения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=(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+6)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4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+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=20+3=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один ученик у доски, остальные в тетрад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04920" y="228600"/>
          <a:ext cx="8458200" cy="6480000"/>
        </p:xfrm>
        <a:graphic>
          <a:graphicData uri="http://schemas.openxmlformats.org/drawingml/2006/table">
            <a:tbl>
              <a:tblPr/>
              <a:tblGrid>
                <a:gridCol w="4228920"/>
                <a:gridCol w="4229280"/>
              </a:tblGrid>
              <a:tr h="648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=(40+2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=4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+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=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роблема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Что делать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:3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(21+21):3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:3+21:3=7+7=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:3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(27+15):3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:3+15:3=9+5=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:3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(30+12):3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:3+12:3=10+4=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:2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ти: Надо искать другие слагаемые, которые будут делитьс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возникло 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противоречие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жду знанием и незнание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ссмотрели все способы. Выбор самого удобног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:2=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После решения подобных выражений, дети понимают, что делимое надо заменить на сумму удобных слагаемых. А первое из слагаемых должно являться наибольшим числом десятков, делящихся на делитель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9" descr="7028_d"/>
          <p:cNvPicPr/>
          <p:nvPr/>
        </p:nvPicPr>
        <p:blipFill>
          <a:blip r:embed="rId1"/>
          <a:srcRect l="0" t="0" r="0" b="14583"/>
          <a:stretch/>
        </p:blipFill>
        <p:spPr>
          <a:xfrm>
            <a:off x="1476360" y="-171360"/>
            <a:ext cx="5904000" cy="6913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blogentry-14-1197334868"/>
          <p:cNvPicPr/>
          <p:nvPr/>
        </p:nvPicPr>
        <p:blipFill>
          <a:blip r:embed="rId2"/>
          <a:stretch/>
        </p:blipFill>
        <p:spPr>
          <a:xfrm rot="817800">
            <a:off x="2669760" y="2857680"/>
            <a:ext cx="1084320" cy="1474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1321_3"/>
          <p:cNvPicPr/>
          <p:nvPr/>
        </p:nvPicPr>
        <p:blipFill>
          <a:blip r:embed="rId3">
            <a:lum bright="-6000"/>
          </a:blip>
          <a:stretch/>
        </p:blipFill>
        <p:spPr>
          <a:xfrm rot="1995600">
            <a:off x="4932000" y="328464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18"/>
          <p:cNvPicPr/>
          <p:nvPr/>
        </p:nvPicPr>
        <p:blipFill>
          <a:blip r:embed="rId4"/>
          <a:srcRect l="14798" t="0" r="14798" b="17878"/>
          <a:stretch/>
        </p:blipFill>
        <p:spPr>
          <a:xfrm>
            <a:off x="4788000" y="1628640"/>
            <a:ext cx="958680" cy="1225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DSC02756"/>
          <p:cNvPicPr/>
          <p:nvPr/>
        </p:nvPicPr>
        <p:blipFill>
          <a:blip r:embed="rId5"/>
          <a:stretch/>
        </p:blipFill>
        <p:spPr>
          <a:xfrm>
            <a:off x="3624120" y="1413000"/>
            <a:ext cx="962280" cy="1147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ball_s"/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3851280" y="2852640"/>
            <a:ext cx="1096920" cy="1284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8" descr="DSC02756"/>
          <p:cNvPicPr/>
          <p:nvPr/>
        </p:nvPicPr>
        <p:blipFill>
          <a:blip r:embed="rId7"/>
          <a:stretch/>
        </p:blipFill>
        <p:spPr>
          <a:xfrm rot="1043400">
            <a:off x="3131640" y="4581360"/>
            <a:ext cx="1263960" cy="1506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9" descr="18"/>
          <p:cNvPicPr/>
          <p:nvPr/>
        </p:nvPicPr>
        <p:blipFill>
          <a:blip r:embed="rId8"/>
          <a:srcRect l="14798" t="0" r="14798" b="17878"/>
          <a:stretch/>
        </p:blipFill>
        <p:spPr>
          <a:xfrm rot="2536800">
            <a:off x="4858920" y="4581360"/>
            <a:ext cx="1376280" cy="1684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0" descr="blogentry-14-1197334868"/>
          <p:cNvPicPr/>
          <p:nvPr/>
        </p:nvPicPr>
        <p:blipFill>
          <a:blip r:embed="rId9"/>
          <a:stretch/>
        </p:blipFill>
        <p:spPr>
          <a:xfrm rot="739800">
            <a:off x="4284360" y="260280"/>
            <a:ext cx="712800" cy="9702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2"/>
          <p:cNvSpPr/>
          <p:nvPr/>
        </p:nvSpPr>
        <p:spPr>
          <a:xfrm>
            <a:off x="4788000" y="189000"/>
            <a:ext cx="331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3" descr="d3365a70f643"/>
          <p:cNvPicPr/>
          <p:nvPr/>
        </p:nvPicPr>
        <p:blipFill>
          <a:blip r:embed="rId10">
            <a:lum bright="18000"/>
          </a:blip>
          <a:srcRect l="7094" t="0" r="0" b="0"/>
          <a:stretch/>
        </p:blipFill>
        <p:spPr>
          <a:xfrm>
            <a:off x="6372360" y="260280"/>
            <a:ext cx="936360" cy="865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4" descr="d3365a70f643"/>
          <p:cNvPicPr/>
          <p:nvPr/>
        </p:nvPicPr>
        <p:blipFill>
          <a:blip r:embed="rId11">
            <a:lum bright="18000"/>
          </a:blip>
          <a:srcRect l="7094" t="0" r="0" b="0"/>
          <a:stretch/>
        </p:blipFill>
        <p:spPr>
          <a:xfrm>
            <a:off x="539640" y="4005360"/>
            <a:ext cx="936720" cy="865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5" descr="d3365a70f643"/>
          <p:cNvPicPr/>
          <p:nvPr/>
        </p:nvPicPr>
        <p:blipFill>
          <a:blip r:embed="rId12">
            <a:lum bright="18000"/>
          </a:blip>
          <a:srcRect l="5525" t="0" r="0" b="0"/>
          <a:stretch/>
        </p:blipFill>
        <p:spPr>
          <a:xfrm>
            <a:off x="7236000" y="2781360"/>
            <a:ext cx="1223640" cy="1111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6" descr="d3365a70f643"/>
          <p:cNvPicPr/>
          <p:nvPr/>
        </p:nvPicPr>
        <p:blipFill>
          <a:blip r:embed="rId13">
            <a:lum bright="18000"/>
          </a:blip>
          <a:srcRect l="5213" t="0" r="0" b="1898"/>
          <a:stretch/>
        </p:blipFill>
        <p:spPr>
          <a:xfrm>
            <a:off x="1042920" y="836640"/>
            <a:ext cx="1297080" cy="1152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7" descr="d3365a70f643"/>
          <p:cNvPicPr/>
          <p:nvPr/>
        </p:nvPicPr>
        <p:blipFill>
          <a:blip r:embed="rId14">
            <a:lum bright="18000"/>
          </a:blip>
          <a:srcRect l="7237" t="0" r="0" b="0"/>
          <a:stretch/>
        </p:blipFill>
        <p:spPr>
          <a:xfrm>
            <a:off x="7524720" y="5445000"/>
            <a:ext cx="934920" cy="865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2" descr=""/>
          <p:cNvPicPr/>
          <p:nvPr/>
        </p:nvPicPr>
        <p:blipFill>
          <a:blip r:embed="rId15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000"/>
                            </p:stCondLst>
                            <p:childTnLst>
                              <p:par>
                                <p:cTn id="10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000"/>
                            </p:stCondLst>
                            <p:childTnLst>
                              <p:par>
                                <p:cTn id="115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9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3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7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1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4000"/>
                            </p:stCondLst>
                            <p:childTnLst>
                              <p:par>
                                <p:cTn id="135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28 -0.17546 C 0.02865 -0.17546 0.08472 -0.10069 0.08472 -0.00879 C 0.08472 0.08311 0.02865 0.15787 -0.04028 0.15787 C -0.1092 0.15787 -0.16528 0.08311 -0.16528 -0.00879 C -0.16528 -0.10069 -0.1092 -0.17546 -0.04028 -0.17546 Z">
                                      <p:cBhvr>
                                        <p:cTn id="136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8000"/>
                            </p:stCondLst>
                            <p:childTnLst>
                              <p:par>
                                <p:cTn id="138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75 -0.11713 C 0.08767 -0.11713 0.14375 -0.04236 0.14375 0.04954 C 0.14375 0.14144 0.08767 0.21621 0.01875 0.21621 C -0.05018 0.21621 -0.10625 0.14144 -0.10625 0.04954 C -0.10625 -0.04236 -0.05018 -0.11713 0.01875 -0.11713 Z">
                                      <p:cBhvr>
                                        <p:cTn id="139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4000"/>
                            </p:stCondLst>
                            <p:childTnLst>
                              <p:par>
                                <p:cTn id="141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8000"/>
                            </p:stCondLst>
                            <p:childTnLst>
                              <p:par>
                                <p:cTn id="145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2000"/>
                            </p:stCondLst>
                            <p:childTnLst>
                              <p:par>
                                <p:cTn id="149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900000" y="333360"/>
            <a:ext cx="727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3"/>
          <p:cNvSpPr txBox="1"/>
          <p:nvPr/>
        </p:nvSpPr>
        <p:spPr>
          <a:xfrm>
            <a:off x="1405080" y="115920"/>
            <a:ext cx="669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Impact"/>
              </a:rPr>
              <a:t>Домашнее задание: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21" name="Picture 4" descr="аним колобок несёт книги"/>
          <p:cNvPicPr/>
          <p:nvPr/>
        </p:nvPicPr>
        <p:blipFill>
          <a:blip r:embed="rId1"/>
          <a:stretch/>
        </p:blipFill>
        <p:spPr>
          <a:xfrm>
            <a:off x="-36360" y="549360"/>
            <a:ext cx="1276200" cy="1895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gbook01"/>
          <p:cNvPicPr/>
          <p:nvPr/>
        </p:nvPicPr>
        <p:blipFill>
          <a:blip r:embed="rId2"/>
          <a:stretch/>
        </p:blipFill>
        <p:spPr>
          <a:xfrm>
            <a:off x="6877080" y="5621400"/>
            <a:ext cx="2266920" cy="12366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1692360" y="1143000"/>
            <a:ext cx="6912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р.60 -64 подготовить выразительное чтение рассказа «На горке»Н. Носова  по рол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1785960" y="2514600"/>
            <a:ext cx="705816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1 уровень: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Нарисовать рисунок к рассказ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835280" y="3284640"/>
            <a:ext cx="691344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2  уровень: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Придумать вопросы к тексту рассказа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1835280" y="4076640"/>
            <a:ext cx="784836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3  уровень: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ставить с товарищами сценку по диалогу Котьки и реб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этого распредел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ли и выучить сло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6T03:16:58Z</dcterms:created>
  <dc:creator>Admin</dc:creator>
  <dc:description/>
  <dc:language>en-US</dc:language>
  <cp:lastModifiedBy>User</cp:lastModifiedBy>
  <dcterms:modified xsi:type="dcterms:W3CDTF">2019-01-02T07:39:44Z</dcterms:modified>
  <cp:revision>60</cp:revision>
  <dc:subject/>
  <dc:title>Слайд 1</dc:title>
</cp:coreProperties>
</file>