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101.wmf" ContentType="image/x-wmf"/>
  <Override PartName="/ppt/media/image79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9B0-60CD-49D6-9D62-28B8567F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E6E-B143-498C-A86E-83A98CA6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CCB-50A7-4A0E-852F-F6B31447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06B-6F70-43AC-BED7-216244F0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5D9-D22C-4418-A06E-FA0E4ABF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8CD-C2B5-4B23-BDFA-11FED30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968-648C-498A-B28A-B7D13306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8AE-82CB-49B7-A177-B92250B7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F01-5F17-45CE-B7D4-7A936AF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7E6-4D8A-44D4-A8EC-67555F8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C02-FC8E-4F6B-8352-A1EC188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884-69F7-472D-93E4-AC3D3DF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d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BF2-BFA3-407E-946B-522AE66946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slide" Target="slide3.xml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0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0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0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0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04.wmf"/><Relationship Id="rId4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1187280" y="260280"/>
            <a:ext cx="6911640" cy="520560"/>
            <a:chOff x="1187280" y="260280"/>
            <a:chExt cx="6911640" cy="520560"/>
          </a:xfrm>
        </p:grpSpPr>
        <p:sp>
          <p:nvSpPr>
            <p:cNvPr id="42" name="Text Box 4"/>
            <p:cNvSpPr/>
            <p:nvPr/>
          </p:nvSpPr>
          <p:spPr>
            <a:xfrm>
              <a:off x="1187280" y="26028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1350360" y="76032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44" name="Text Box 7"/>
          <p:cNvSpPr/>
          <p:nvPr/>
        </p:nvSpPr>
        <p:spPr>
          <a:xfrm>
            <a:off x="468360" y="981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45" name="Object 8"/>
          <p:cNvGraphicFramePr/>
          <p:nvPr/>
        </p:nvGraphicFramePr>
        <p:xfrm>
          <a:off x="3564000" y="90792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90792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9"/>
          <p:cNvGraphicFramePr/>
          <p:nvPr/>
        </p:nvGraphicFramePr>
        <p:xfrm>
          <a:off x="2311560" y="4437000"/>
          <a:ext cx="37130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4437000"/>
                    <a:ext cx="3713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10"/>
          <p:cNvSpPr/>
          <p:nvPr/>
        </p:nvSpPr>
        <p:spPr>
          <a:xfrm>
            <a:off x="53964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ы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5580000" y="1628640"/>
          <a:ext cx="11224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1628640"/>
                    <a:ext cx="11224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3"/>
          <p:cNvGraphicFramePr/>
          <p:nvPr/>
        </p:nvGraphicFramePr>
        <p:xfrm>
          <a:off x="5580000" y="2060640"/>
          <a:ext cx="189864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060640"/>
                    <a:ext cx="189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AutoShape 14"/>
          <p:cNvSpPr/>
          <p:nvPr/>
        </p:nvSpPr>
        <p:spPr>
          <a:xfrm>
            <a:off x="5365800" y="16984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55" name="Object 16"/>
          <p:cNvGraphicFramePr/>
          <p:nvPr/>
        </p:nvGraphicFramePr>
        <p:xfrm>
          <a:off x="2455920" y="2247840"/>
          <a:ext cx="12380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55920" y="2247840"/>
                    <a:ext cx="1238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7"/>
          <p:cNvGraphicFramePr/>
          <p:nvPr/>
        </p:nvGraphicFramePr>
        <p:xfrm>
          <a:off x="2484360" y="2781360"/>
          <a:ext cx="138132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2781360"/>
                    <a:ext cx="13813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AutoShape 18"/>
          <p:cNvSpPr/>
          <p:nvPr/>
        </p:nvSpPr>
        <p:spPr>
          <a:xfrm>
            <a:off x="2298600" y="2346480"/>
            <a:ext cx="216000" cy="86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60" name="Object 20"/>
          <p:cNvGraphicFramePr/>
          <p:nvPr/>
        </p:nvGraphicFramePr>
        <p:xfrm>
          <a:off x="7265880" y="2881440"/>
          <a:ext cx="1468440" cy="461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65880" y="2881440"/>
                    <a:ext cx="1468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21"/>
          <p:cNvGraphicFramePr/>
          <p:nvPr/>
        </p:nvGraphicFramePr>
        <p:xfrm>
          <a:off x="7236000" y="3141720"/>
          <a:ext cx="1726920" cy="89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6000" y="3141720"/>
                    <a:ext cx="1726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AutoShape 22"/>
          <p:cNvSpPr/>
          <p:nvPr/>
        </p:nvSpPr>
        <p:spPr>
          <a:xfrm>
            <a:off x="7048440" y="2924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pSp>
        <p:nvGrpSpPr>
          <p:cNvPr id="65" name="Group 29"/>
          <p:cNvGrpSpPr/>
          <p:nvPr/>
        </p:nvGrpSpPr>
        <p:grpSpPr>
          <a:xfrm>
            <a:off x="2627280" y="1484280"/>
            <a:ext cx="2648160" cy="692280"/>
            <a:chOff x="2627280" y="1484280"/>
            <a:chExt cx="2648160" cy="692280"/>
          </a:xfrm>
        </p:grpSpPr>
        <p:graphicFrame>
          <p:nvGraphicFramePr>
            <p:cNvPr id="66" name="Object 11"/>
            <p:cNvGraphicFramePr/>
            <p:nvPr/>
          </p:nvGraphicFramePr>
          <p:xfrm>
            <a:off x="2627280" y="1484280"/>
            <a:ext cx="2648160" cy="692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627280" y="1484280"/>
                      <a:ext cx="264816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Line 24"/>
            <p:cNvSpPr/>
            <p:nvPr/>
          </p:nvSpPr>
          <p:spPr>
            <a:xfrm>
              <a:off x="2700360" y="2060640"/>
              <a:ext cx="2376360" cy="0"/>
            </a:xfrm>
            <a:prstGeom prst="line">
              <a:avLst/>
            </a:prstGeom>
            <a:ln w="50760">
              <a:solidFill>
                <a:srgbClr val="72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179280" y="2205000"/>
            <a:ext cx="2114640" cy="547560"/>
            <a:chOff x="179280" y="2205000"/>
            <a:chExt cx="2114640" cy="547560"/>
          </a:xfrm>
        </p:grpSpPr>
        <p:graphicFrame>
          <p:nvGraphicFramePr>
            <p:cNvPr id="70" name="Object 15"/>
            <p:cNvGraphicFramePr/>
            <p:nvPr/>
          </p:nvGraphicFramePr>
          <p:xfrm>
            <a:off x="250920" y="2205000"/>
            <a:ext cx="2043000" cy="547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50920" y="2205000"/>
                      <a:ext cx="20430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Line 25"/>
            <p:cNvSpPr/>
            <p:nvPr/>
          </p:nvSpPr>
          <p:spPr>
            <a:xfrm>
              <a:off x="179280" y="2708280"/>
              <a:ext cx="2016360" cy="0"/>
            </a:xfrm>
            <a:prstGeom prst="line">
              <a:avLst/>
            </a:prstGeom>
            <a:ln w="50760">
              <a:solidFill>
                <a:srgbClr val="72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grpSp>
        <p:nvGrpSpPr>
          <p:cNvPr id="73" name="Group 31"/>
          <p:cNvGrpSpPr/>
          <p:nvPr/>
        </p:nvGrpSpPr>
        <p:grpSpPr>
          <a:xfrm>
            <a:off x="4067280" y="2708280"/>
            <a:ext cx="2935080" cy="981000"/>
            <a:chOff x="4067280" y="2708280"/>
            <a:chExt cx="2935080" cy="981000"/>
          </a:xfrm>
        </p:grpSpPr>
        <p:graphicFrame>
          <p:nvGraphicFramePr>
            <p:cNvPr id="74" name="Object 19"/>
            <p:cNvGraphicFramePr/>
            <p:nvPr/>
          </p:nvGraphicFramePr>
          <p:xfrm>
            <a:off x="4067280" y="2708280"/>
            <a:ext cx="2935080" cy="981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67280" y="2708280"/>
                      <a:ext cx="2935080" cy="9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Line 26"/>
            <p:cNvSpPr/>
            <p:nvPr/>
          </p:nvSpPr>
          <p:spPr>
            <a:xfrm>
              <a:off x="4140360" y="3573360"/>
              <a:ext cx="2736720" cy="0"/>
            </a:xfrm>
            <a:prstGeom prst="line">
              <a:avLst/>
            </a:prstGeom>
            <a:ln w="50760">
              <a:solidFill>
                <a:srgbClr val="72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77" name="Text Box 27"/>
          <p:cNvSpPr/>
          <p:nvPr/>
        </p:nvSpPr>
        <p:spPr>
          <a:xfrm>
            <a:off x="395280" y="39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1258920" y="508464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5"/>
          <p:cNvSpPr/>
          <p:nvPr/>
        </p:nvSpPr>
        <p:spPr>
          <a:xfrm>
            <a:off x="5148360" y="4869000"/>
            <a:ext cx="374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80" name="Rectangle 83"/>
          <p:cNvSpPr/>
          <p:nvPr/>
        </p:nvSpPr>
        <p:spPr>
          <a:xfrm>
            <a:off x="5148360" y="342900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82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83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85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24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2" name="Rectangle 81"/>
          <p:cNvSpPr/>
          <p:nvPr/>
        </p:nvSpPr>
        <p:spPr>
          <a:xfrm>
            <a:off x="3635280" y="342900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1692360" y="34257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4" name="Rectangle 74"/>
          <p:cNvSpPr/>
          <p:nvPr/>
        </p:nvSpPr>
        <p:spPr>
          <a:xfrm>
            <a:off x="5148360" y="4005360"/>
            <a:ext cx="374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5" name="Rectangle 72"/>
          <p:cNvSpPr/>
          <p:nvPr/>
        </p:nvSpPr>
        <p:spPr>
          <a:xfrm>
            <a:off x="3635280" y="4005360"/>
            <a:ext cx="15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6" name="Rectangle 70"/>
          <p:cNvSpPr/>
          <p:nvPr/>
        </p:nvSpPr>
        <p:spPr>
          <a:xfrm>
            <a:off x="1692360" y="4005360"/>
            <a:ext cx="194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7" name="Rectangle 63"/>
          <p:cNvSpPr/>
          <p:nvPr/>
        </p:nvSpPr>
        <p:spPr>
          <a:xfrm>
            <a:off x="3635280" y="4869000"/>
            <a:ext cx="151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324000" y="4869000"/>
            <a:ext cx="1368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99" name="Rectangle 35"/>
          <p:cNvSpPr/>
          <p:nvPr/>
        </p:nvSpPr>
        <p:spPr>
          <a:xfrm>
            <a:off x="5148360" y="5734080"/>
            <a:ext cx="37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3635280" y="5734080"/>
            <a:ext cx="15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1692360" y="5734080"/>
            <a:ext cx="194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5148360" y="2421000"/>
            <a:ext cx="3744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слож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3995640" y="2421000"/>
            <a:ext cx="151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Сложн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2195640" y="2421000"/>
            <a:ext cx="1942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прост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900000" y="2421000"/>
            <a:ext cx="1368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ст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6" name="Line 36"/>
          <p:cNvSpPr/>
          <p:nvPr/>
        </p:nvSpPr>
        <p:spPr>
          <a:xfrm>
            <a:off x="826920" y="2421000"/>
            <a:ext cx="806616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 flipV="1">
            <a:off x="826920" y="3425400"/>
            <a:ext cx="80661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8" name="Line 38"/>
          <p:cNvSpPr/>
          <p:nvPr/>
        </p:nvSpPr>
        <p:spPr>
          <a:xfrm>
            <a:off x="826920" y="6453360"/>
            <a:ext cx="806616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>
            <a:off x="826920" y="2421000"/>
            <a:ext cx="0" cy="403236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0" name="Line 40"/>
          <p:cNvSpPr/>
          <p:nvPr/>
        </p:nvSpPr>
        <p:spPr>
          <a:xfrm>
            <a:off x="2268360" y="2421000"/>
            <a:ext cx="0" cy="403236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>
            <a:off x="4067280" y="2421000"/>
            <a:ext cx="0" cy="403236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>
            <a:off x="5508720" y="2421000"/>
            <a:ext cx="0" cy="403236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3" name="Line 43"/>
          <p:cNvSpPr/>
          <p:nvPr/>
        </p:nvSpPr>
        <p:spPr>
          <a:xfrm>
            <a:off x="8893080" y="2421000"/>
            <a:ext cx="0" cy="403236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4" name="Line 60"/>
          <p:cNvSpPr/>
          <p:nvPr/>
        </p:nvSpPr>
        <p:spPr>
          <a:xfrm>
            <a:off x="826920" y="57340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5" name="Line 69"/>
          <p:cNvSpPr/>
          <p:nvPr/>
        </p:nvSpPr>
        <p:spPr>
          <a:xfrm>
            <a:off x="826920" y="4869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16" name="Line 78"/>
          <p:cNvSpPr/>
          <p:nvPr/>
        </p:nvSpPr>
        <p:spPr>
          <a:xfrm>
            <a:off x="826920" y="400536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17" name="Object 139"/>
          <p:cNvGraphicFramePr/>
          <p:nvPr/>
        </p:nvGraphicFramePr>
        <p:xfrm>
          <a:off x="1332000" y="3429000"/>
          <a:ext cx="40320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429000"/>
                    <a:ext cx="403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40"/>
          <p:cNvGraphicFramePr/>
          <p:nvPr/>
        </p:nvGraphicFramePr>
        <p:xfrm>
          <a:off x="2843280" y="3500280"/>
          <a:ext cx="7491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1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500280"/>
                    <a:ext cx="749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41"/>
          <p:cNvGraphicFramePr/>
          <p:nvPr/>
        </p:nvGraphicFramePr>
        <p:xfrm>
          <a:off x="4270320" y="3457440"/>
          <a:ext cx="97812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Object 14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70320" y="3457440"/>
                    <a:ext cx="9781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42"/>
          <p:cNvGraphicFramePr/>
          <p:nvPr/>
        </p:nvGraphicFramePr>
        <p:xfrm>
          <a:off x="5753160" y="3457440"/>
          <a:ext cx="2531880" cy="57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Object 1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3160" y="3457440"/>
                    <a:ext cx="25318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47"/>
          <p:cNvGraphicFramePr/>
          <p:nvPr/>
        </p:nvGraphicFramePr>
        <p:xfrm>
          <a:off x="1332000" y="4005360"/>
          <a:ext cx="33660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Object 1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32000" y="4005360"/>
                    <a:ext cx="336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8"/>
          <p:cNvGraphicFramePr/>
          <p:nvPr/>
        </p:nvGraphicFramePr>
        <p:xfrm>
          <a:off x="2843280" y="4005360"/>
          <a:ext cx="696960" cy="86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" name="Object 1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005360"/>
                    <a:ext cx="696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49"/>
          <p:cNvGraphicFramePr/>
          <p:nvPr/>
        </p:nvGraphicFramePr>
        <p:xfrm>
          <a:off x="4356000" y="4005360"/>
          <a:ext cx="827280" cy="93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" name="Object 14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56000" y="4005360"/>
                    <a:ext cx="827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50"/>
          <p:cNvGraphicFramePr/>
          <p:nvPr/>
        </p:nvGraphicFramePr>
        <p:xfrm>
          <a:off x="6443640" y="4005360"/>
          <a:ext cx="1095480" cy="947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2" name="Object 1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43640" y="4005360"/>
                    <a:ext cx="10954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6"/>
          <p:cNvGraphicFramePr/>
          <p:nvPr/>
        </p:nvGraphicFramePr>
        <p:xfrm>
          <a:off x="1187280" y="5084640"/>
          <a:ext cx="54792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4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87280" y="5084640"/>
                    <a:ext cx="547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7"/>
          <p:cNvGraphicFramePr/>
          <p:nvPr/>
        </p:nvGraphicFramePr>
        <p:xfrm>
          <a:off x="2843280" y="4797360"/>
          <a:ext cx="709560" cy="863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6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43280" y="4797360"/>
                    <a:ext cx="709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58"/>
          <p:cNvGraphicFramePr/>
          <p:nvPr/>
        </p:nvGraphicFramePr>
        <p:xfrm>
          <a:off x="4284720" y="5013360"/>
          <a:ext cx="1008000" cy="611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4720" y="5013360"/>
                    <a:ext cx="10080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59"/>
          <p:cNvGraphicFramePr/>
          <p:nvPr/>
        </p:nvGraphicFramePr>
        <p:xfrm>
          <a:off x="6483240" y="4797360"/>
          <a:ext cx="1144800" cy="1019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83240" y="4797360"/>
                    <a:ext cx="11448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1"/>
          <p:cNvGraphicFramePr/>
          <p:nvPr/>
        </p:nvGraphicFramePr>
        <p:xfrm>
          <a:off x="1187280" y="5877000"/>
          <a:ext cx="749520" cy="401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2" name="Object 16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87280" y="5877000"/>
                    <a:ext cx="7495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62"/>
          <p:cNvGraphicFramePr/>
          <p:nvPr/>
        </p:nvGraphicFramePr>
        <p:xfrm>
          <a:off x="2771640" y="5950080"/>
          <a:ext cx="779760" cy="315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4" name="Object 16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771640" y="5950080"/>
                    <a:ext cx="7797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3"/>
          <p:cNvGraphicFramePr/>
          <p:nvPr/>
        </p:nvGraphicFramePr>
        <p:xfrm>
          <a:off x="4140360" y="5805360"/>
          <a:ext cx="1293480" cy="574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6" name="Object 16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140360" y="5805360"/>
                    <a:ext cx="1293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64"/>
          <p:cNvGraphicFramePr/>
          <p:nvPr/>
        </p:nvGraphicFramePr>
        <p:xfrm>
          <a:off x="5940360" y="5805360"/>
          <a:ext cx="2279880" cy="55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" name="Object 16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940360" y="5805360"/>
                    <a:ext cx="2279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AutoShape 169">
            <a:hlinkClick r:id="rId37" action="ppaction://hlinksldjump"/>
          </p:cNvPr>
          <p:cNvSpPr/>
          <p:nvPr/>
        </p:nvSpPr>
        <p:spPr>
          <a:xfrm>
            <a:off x="324000" y="3429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0" name="AutoShape 170"/>
          <p:cNvSpPr/>
          <p:nvPr/>
        </p:nvSpPr>
        <p:spPr>
          <a:xfrm>
            <a:off x="179280" y="414972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1" name="AutoShape 171"/>
          <p:cNvSpPr/>
          <p:nvPr/>
        </p:nvSpPr>
        <p:spPr>
          <a:xfrm>
            <a:off x="395280" y="5013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2" name="AutoShape 172"/>
          <p:cNvSpPr/>
          <p:nvPr/>
        </p:nvSpPr>
        <p:spPr>
          <a:xfrm>
            <a:off x="179280" y="5877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53" name="AutoShape 173"/>
          <p:cNvSpPr/>
          <p:nvPr/>
        </p:nvSpPr>
        <p:spPr>
          <a:xfrm>
            <a:off x="8388360" y="6237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155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156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5148360" y="3641760"/>
            <a:ext cx="37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635280" y="3641760"/>
            <a:ext cx="15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692360" y="3641760"/>
            <a:ext cx="194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324000" y="364176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5148360" y="2637000"/>
            <a:ext cx="3744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слож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635280" y="2637000"/>
            <a:ext cx="151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Сложн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1692360" y="2637000"/>
            <a:ext cx="1942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ая прост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324000" y="2637000"/>
            <a:ext cx="1368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стая функция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3" name="Line 32"/>
          <p:cNvSpPr/>
          <p:nvPr/>
        </p:nvSpPr>
        <p:spPr>
          <a:xfrm>
            <a:off x="324000" y="2637000"/>
            <a:ext cx="856908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4" name="Line 33"/>
          <p:cNvSpPr/>
          <p:nvPr/>
        </p:nvSpPr>
        <p:spPr>
          <a:xfrm>
            <a:off x="324000" y="3641760"/>
            <a:ext cx="85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324000" y="4361040"/>
            <a:ext cx="8569080" cy="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6" name="Line 35"/>
          <p:cNvSpPr/>
          <p:nvPr/>
        </p:nvSpPr>
        <p:spPr>
          <a:xfrm>
            <a:off x="324000" y="2637000"/>
            <a:ext cx="0" cy="172404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7" name="Line 36"/>
          <p:cNvSpPr/>
          <p:nvPr/>
        </p:nvSpPr>
        <p:spPr>
          <a:xfrm>
            <a:off x="1692360" y="2637000"/>
            <a:ext cx="0" cy="172404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8" name="Line 37"/>
          <p:cNvSpPr/>
          <p:nvPr/>
        </p:nvSpPr>
        <p:spPr>
          <a:xfrm>
            <a:off x="3635280" y="2637000"/>
            <a:ext cx="0" cy="172404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5148360" y="2637000"/>
            <a:ext cx="0" cy="1724040"/>
          </a:xfrm>
          <a:prstGeom prst="line">
            <a:avLst/>
          </a:prstGeom>
          <a:ln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8893080" y="2637000"/>
            <a:ext cx="0" cy="1724040"/>
          </a:xfrm>
          <a:prstGeom prst="line">
            <a:avLst/>
          </a:prstGeom>
          <a:ln cap="sq" w="1260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81" name="Object 43"/>
          <p:cNvGraphicFramePr/>
          <p:nvPr/>
        </p:nvGraphicFramePr>
        <p:xfrm>
          <a:off x="755640" y="3716280"/>
          <a:ext cx="40320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716280"/>
                    <a:ext cx="403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4"/>
          <p:cNvGraphicFramePr/>
          <p:nvPr/>
        </p:nvGraphicFramePr>
        <p:xfrm>
          <a:off x="2411280" y="3716280"/>
          <a:ext cx="74952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3716280"/>
                    <a:ext cx="749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5"/>
          <p:cNvGraphicFramePr/>
          <p:nvPr/>
        </p:nvGraphicFramePr>
        <p:xfrm>
          <a:off x="3852720" y="3645000"/>
          <a:ext cx="1092240" cy="63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2720" y="3645000"/>
                    <a:ext cx="10922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46"/>
          <p:cNvGraphicFramePr/>
          <p:nvPr/>
        </p:nvGraphicFramePr>
        <p:xfrm>
          <a:off x="5765760" y="3673440"/>
          <a:ext cx="253368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5760" y="3673440"/>
                    <a:ext cx="2533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8"/>
          <p:cNvSpPr/>
          <p:nvPr/>
        </p:nvSpPr>
        <p:spPr>
          <a:xfrm>
            <a:off x="324000" y="4508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190" name="Object 49"/>
          <p:cNvGraphicFramePr/>
          <p:nvPr/>
        </p:nvGraphicFramePr>
        <p:xfrm>
          <a:off x="1835280" y="4437000"/>
          <a:ext cx="2305080" cy="63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Object 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4437000"/>
                    <a:ext cx="23050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0"/>
          <p:cNvGraphicFramePr/>
          <p:nvPr/>
        </p:nvGraphicFramePr>
        <p:xfrm>
          <a:off x="250920" y="5373720"/>
          <a:ext cx="2411280" cy="733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920" y="5373720"/>
                    <a:ext cx="2411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51"/>
          <p:cNvGraphicFramePr/>
          <p:nvPr/>
        </p:nvGraphicFramePr>
        <p:xfrm>
          <a:off x="2700360" y="5445000"/>
          <a:ext cx="2808360" cy="57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5" name="Object 5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00360" y="5445000"/>
                    <a:ext cx="28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2"/>
          <p:cNvGraphicFramePr/>
          <p:nvPr/>
        </p:nvGraphicFramePr>
        <p:xfrm>
          <a:off x="5508720" y="5445000"/>
          <a:ext cx="337968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" name="Object 5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5445000"/>
                    <a:ext cx="3379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53"/>
          <p:cNvGraphicFramePr/>
          <p:nvPr/>
        </p:nvGraphicFramePr>
        <p:xfrm>
          <a:off x="4500720" y="4437000"/>
          <a:ext cx="112212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9" name="Object 5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0720" y="4437000"/>
                    <a:ext cx="1122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54"/>
          <p:cNvGraphicFramePr/>
          <p:nvPr/>
        </p:nvGraphicFramePr>
        <p:xfrm>
          <a:off x="4500720" y="4869000"/>
          <a:ext cx="1554120" cy="460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1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00720" y="4869000"/>
                    <a:ext cx="15541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AutoShape 55"/>
          <p:cNvSpPr/>
          <p:nvPr/>
        </p:nvSpPr>
        <p:spPr>
          <a:xfrm>
            <a:off x="4286160" y="450684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03" name="AutoShape 56"/>
          <p:cNvSpPr/>
          <p:nvPr/>
        </p:nvSpPr>
        <p:spPr>
          <a:xfrm>
            <a:off x="7885080" y="6021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205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206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207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2637000"/>
          <a:ext cx="8569080" cy="1946160"/>
        </p:xfrm>
        <a:graphic>
          <a:graphicData uri="http://schemas.openxmlformats.org/drawingml/2006/table">
            <a:tbl>
              <a:tblPr/>
              <a:tblGrid>
                <a:gridCol w="1223640"/>
                <a:gridCol w="1944720"/>
                <a:gridCol w="1511280"/>
                <a:gridCol w="388944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18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</a:t>
                      </a: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755640" y="3573360"/>
          <a:ext cx="345960" cy="89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573360"/>
                    <a:ext cx="34596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2268360" y="3573360"/>
          <a:ext cx="719280" cy="89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573360"/>
                    <a:ext cx="719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0"/>
          <p:cNvGraphicFramePr/>
          <p:nvPr/>
        </p:nvGraphicFramePr>
        <p:xfrm>
          <a:off x="3780000" y="3573360"/>
          <a:ext cx="8920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573360"/>
                    <a:ext cx="892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1"/>
          <p:cNvGraphicFramePr/>
          <p:nvPr/>
        </p:nvGraphicFramePr>
        <p:xfrm>
          <a:off x="5076720" y="3573360"/>
          <a:ext cx="3598920" cy="103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3573360"/>
                    <a:ext cx="35989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32"/>
          <p:cNvSpPr/>
          <p:nvPr/>
        </p:nvSpPr>
        <p:spPr>
          <a:xfrm>
            <a:off x="46836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25" name="Object 33"/>
          <p:cNvGraphicFramePr/>
          <p:nvPr/>
        </p:nvGraphicFramePr>
        <p:xfrm>
          <a:off x="2109960" y="4579920"/>
          <a:ext cx="1785600" cy="89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960" y="4579920"/>
                    <a:ext cx="17856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4"/>
          <p:cNvGraphicFramePr/>
          <p:nvPr/>
        </p:nvGraphicFramePr>
        <p:xfrm>
          <a:off x="388800" y="5688000"/>
          <a:ext cx="1992600" cy="96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800" y="5688000"/>
                    <a:ext cx="1992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5"/>
          <p:cNvGraphicFramePr/>
          <p:nvPr/>
        </p:nvGraphicFramePr>
        <p:xfrm>
          <a:off x="3913200" y="6126120"/>
          <a:ext cx="236520" cy="366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13200" y="6126120"/>
                    <a:ext cx="2365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36"/>
          <p:cNvGraphicFramePr/>
          <p:nvPr/>
        </p:nvGraphicFramePr>
        <p:xfrm>
          <a:off x="4486320" y="4508640"/>
          <a:ext cx="1063440" cy="952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86320" y="4508640"/>
                    <a:ext cx="10634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7"/>
          <p:cNvGraphicFramePr/>
          <p:nvPr/>
        </p:nvGraphicFramePr>
        <p:xfrm>
          <a:off x="4572000" y="5300640"/>
          <a:ext cx="1380960" cy="460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4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5300640"/>
                    <a:ext cx="1380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AutoShape 38"/>
          <p:cNvSpPr/>
          <p:nvPr/>
        </p:nvSpPr>
        <p:spPr>
          <a:xfrm>
            <a:off x="4272120" y="4722840"/>
            <a:ext cx="214200" cy="1009800"/>
          </a:xfrm>
          <a:custGeom>
            <a:avLst/>
            <a:gdLst>
              <a:gd name="textAreaLeft" fmla="*/ 136800 w 214200"/>
              <a:gd name="textAreaRight" fmla="*/ 214560 w 21420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36" name="Object 39"/>
          <p:cNvGraphicFramePr/>
          <p:nvPr/>
        </p:nvGraphicFramePr>
        <p:xfrm>
          <a:off x="2340000" y="5805360"/>
          <a:ext cx="2386080" cy="812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7" name="Object 3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40000" y="5805360"/>
                    <a:ext cx="2386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0"/>
          <p:cNvGraphicFramePr/>
          <p:nvPr/>
        </p:nvGraphicFramePr>
        <p:xfrm>
          <a:off x="4786200" y="5805360"/>
          <a:ext cx="2098800" cy="812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9" name="Object 4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86200" y="5805360"/>
                    <a:ext cx="2098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1"/>
          <p:cNvGraphicFramePr/>
          <p:nvPr/>
        </p:nvGraphicFramePr>
        <p:xfrm>
          <a:off x="6948360" y="5805360"/>
          <a:ext cx="1154160" cy="812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1" name="Object 4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48360" y="5805360"/>
                    <a:ext cx="1154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AutoShape 48"/>
          <p:cNvSpPr/>
          <p:nvPr/>
        </p:nvSpPr>
        <p:spPr>
          <a:xfrm>
            <a:off x="8317080" y="6021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244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246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24000" y="2492280"/>
          <a:ext cx="8569080" cy="187344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513080"/>
                <a:gridCol w="374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Object 28"/>
          <p:cNvGraphicFramePr/>
          <p:nvPr/>
        </p:nvGraphicFramePr>
        <p:xfrm>
          <a:off x="684360" y="3687840"/>
          <a:ext cx="54756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687840"/>
                    <a:ext cx="547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29"/>
          <p:cNvGraphicFramePr/>
          <p:nvPr/>
        </p:nvGraphicFramePr>
        <p:xfrm>
          <a:off x="2268360" y="3429000"/>
          <a:ext cx="779760" cy="94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429000"/>
                    <a:ext cx="77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0"/>
          <p:cNvGraphicFramePr/>
          <p:nvPr/>
        </p:nvGraphicFramePr>
        <p:xfrm>
          <a:off x="3852720" y="3630600"/>
          <a:ext cx="109224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2720" y="3630600"/>
                    <a:ext cx="10922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1"/>
          <p:cNvGraphicFramePr/>
          <p:nvPr/>
        </p:nvGraphicFramePr>
        <p:xfrm>
          <a:off x="5292720" y="3429000"/>
          <a:ext cx="3384720" cy="101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3429000"/>
                    <a:ext cx="3384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2"/>
          <p:cNvSpPr/>
          <p:nvPr/>
        </p:nvSpPr>
        <p:spPr>
          <a:xfrm>
            <a:off x="39528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64" name="Object 33"/>
          <p:cNvGraphicFramePr/>
          <p:nvPr/>
        </p:nvGraphicFramePr>
        <p:xfrm>
          <a:off x="1906560" y="4667400"/>
          <a:ext cx="23050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6560" y="4667400"/>
                    <a:ext cx="23050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4"/>
          <p:cNvGraphicFramePr/>
          <p:nvPr/>
        </p:nvGraphicFramePr>
        <p:xfrm>
          <a:off x="257040" y="5564160"/>
          <a:ext cx="2543400" cy="78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7040" y="5564160"/>
                    <a:ext cx="25434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5"/>
          <p:cNvGraphicFramePr/>
          <p:nvPr/>
        </p:nvGraphicFramePr>
        <p:xfrm>
          <a:off x="2868480" y="5629320"/>
          <a:ext cx="2992680" cy="89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68480" y="5629320"/>
                    <a:ext cx="29926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37"/>
          <p:cNvGraphicFramePr/>
          <p:nvPr/>
        </p:nvGraphicFramePr>
        <p:xfrm>
          <a:off x="4572000" y="4581360"/>
          <a:ext cx="123840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" name="Object 3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4581360"/>
                    <a:ext cx="1238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8"/>
          <p:cNvGraphicFramePr/>
          <p:nvPr/>
        </p:nvGraphicFramePr>
        <p:xfrm>
          <a:off x="4486320" y="5056200"/>
          <a:ext cx="172728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3" name="Object 3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86320" y="5056200"/>
                    <a:ext cx="1727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AutoShape 39"/>
          <p:cNvSpPr/>
          <p:nvPr/>
        </p:nvSpPr>
        <p:spPr>
          <a:xfrm>
            <a:off x="4357800" y="4722840"/>
            <a:ext cx="215640" cy="86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75" name="Object 44"/>
          <p:cNvGraphicFramePr/>
          <p:nvPr/>
        </p:nvGraphicFramePr>
        <p:xfrm>
          <a:off x="5829480" y="5556240"/>
          <a:ext cx="1784160" cy="942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6" name="Object 4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29480" y="5556240"/>
                    <a:ext cx="17841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45"/>
          <p:cNvGraphicFramePr/>
          <p:nvPr/>
        </p:nvGraphicFramePr>
        <p:xfrm>
          <a:off x="7426440" y="5551560"/>
          <a:ext cx="1312920" cy="89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8" name="Object 4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26440" y="5551560"/>
                    <a:ext cx="13129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AutoShape 46"/>
          <p:cNvSpPr/>
          <p:nvPr/>
        </p:nvSpPr>
        <p:spPr>
          <a:xfrm>
            <a:off x="8459640" y="5445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281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282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sp>
        <p:nvSpPr>
          <p:cNvPr id="283" name="Text Box 5"/>
          <p:cNvSpPr/>
          <p:nvPr/>
        </p:nvSpPr>
        <p:spPr>
          <a:xfrm>
            <a:off x="395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Сложная функция: 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84" name="Object 6"/>
          <p:cNvGraphicFramePr/>
          <p:nvPr/>
        </p:nvGraphicFramePr>
        <p:xfrm>
          <a:off x="3564000" y="476280"/>
          <a:ext cx="1987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76280"/>
                    <a:ext cx="198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7"/>
          <p:cNvGraphicFramePr/>
          <p:nvPr/>
        </p:nvGraphicFramePr>
        <p:xfrm>
          <a:off x="179280" y="1484280"/>
          <a:ext cx="37134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37134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8"/>
          <p:cNvSpPr/>
          <p:nvPr/>
        </p:nvSpPr>
        <p:spPr>
          <a:xfrm>
            <a:off x="395280" y="981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авило нахождения производной сложной функции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3887640" y="1413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(производная сложной функции равна 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производной основной функции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23900"/>
                </a:solidFill>
                <a:latin typeface="Arial"/>
              </a:rPr>
              <a:t>на производную внутренней функции)</a:t>
            </a: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3924360" y="1413000"/>
            <a:ext cx="0" cy="936360"/>
          </a:xfrm>
          <a:prstGeom prst="line">
            <a:avLst/>
          </a:prstGeom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24000" y="2492280"/>
          <a:ext cx="8569080" cy="158616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513080"/>
                <a:gridCol w="374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Object 28"/>
          <p:cNvGraphicFramePr/>
          <p:nvPr/>
        </p:nvGraphicFramePr>
        <p:xfrm>
          <a:off x="611280" y="3573360"/>
          <a:ext cx="74916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573360"/>
                    <a:ext cx="749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29"/>
          <p:cNvGraphicFramePr/>
          <p:nvPr/>
        </p:nvGraphicFramePr>
        <p:xfrm>
          <a:off x="2268360" y="3645000"/>
          <a:ext cx="779760" cy="31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645000"/>
                    <a:ext cx="77976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0"/>
          <p:cNvGraphicFramePr/>
          <p:nvPr/>
        </p:nvGraphicFramePr>
        <p:xfrm>
          <a:off x="3780000" y="3500280"/>
          <a:ext cx="129348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500280"/>
                    <a:ext cx="1293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31"/>
          <p:cNvGraphicFramePr/>
          <p:nvPr/>
        </p:nvGraphicFramePr>
        <p:xfrm>
          <a:off x="5940360" y="3500280"/>
          <a:ext cx="2279880" cy="55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3500280"/>
                    <a:ext cx="2279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32"/>
          <p:cNvSpPr/>
          <p:nvPr/>
        </p:nvSpPr>
        <p:spPr>
          <a:xfrm>
            <a:off x="468360" y="43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23900"/>
                </a:solidFill>
                <a:latin typeface="Arial"/>
              </a:rPr>
              <a:t>Пример:</a:t>
            </a:r>
            <a:endParaRPr b="0" i="1" lang="en-US" sz="24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301" name="Object 33"/>
          <p:cNvGraphicFramePr/>
          <p:nvPr/>
        </p:nvGraphicFramePr>
        <p:xfrm>
          <a:off x="1908000" y="4149720"/>
          <a:ext cx="2853000" cy="97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4149720"/>
                    <a:ext cx="2853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4"/>
          <p:cNvGraphicFramePr/>
          <p:nvPr/>
        </p:nvGraphicFramePr>
        <p:xfrm>
          <a:off x="341280" y="5367240"/>
          <a:ext cx="262260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280" y="5367240"/>
                    <a:ext cx="2622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5"/>
          <p:cNvGraphicFramePr/>
          <p:nvPr/>
        </p:nvGraphicFramePr>
        <p:xfrm>
          <a:off x="2916360" y="5300640"/>
          <a:ext cx="3386160" cy="96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5300640"/>
                    <a:ext cx="33861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36"/>
          <p:cNvGraphicFramePr/>
          <p:nvPr/>
        </p:nvGraphicFramePr>
        <p:xfrm>
          <a:off x="5062680" y="4307040"/>
          <a:ext cx="1439640" cy="436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8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62680" y="4307040"/>
                    <a:ext cx="14396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7"/>
          <p:cNvGraphicFramePr/>
          <p:nvPr/>
        </p:nvGraphicFramePr>
        <p:xfrm>
          <a:off x="5076720" y="4546440"/>
          <a:ext cx="1727280" cy="847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76720" y="4546440"/>
                    <a:ext cx="1727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AutoShape 38"/>
          <p:cNvSpPr/>
          <p:nvPr/>
        </p:nvSpPr>
        <p:spPr>
          <a:xfrm>
            <a:off x="4859280" y="4365720"/>
            <a:ext cx="216000" cy="81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  <p:graphicFrame>
        <p:nvGraphicFramePr>
          <p:cNvPr id="312" name="Object 42"/>
          <p:cNvGraphicFramePr/>
          <p:nvPr/>
        </p:nvGraphicFramePr>
        <p:xfrm>
          <a:off x="6300720" y="5373720"/>
          <a:ext cx="1995480" cy="89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3" name="Object 4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373720"/>
                    <a:ext cx="19954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AutoShape 43"/>
          <p:cNvSpPr/>
          <p:nvPr/>
        </p:nvSpPr>
        <p:spPr>
          <a:xfrm>
            <a:off x="8388360" y="6093000"/>
            <a:ext cx="360360" cy="43308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080"/>
              <a:gd name="textAreaBottom" fmla="*/ 2545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187280" y="0"/>
            <a:ext cx="6911640" cy="520560"/>
            <a:chOff x="1187280" y="0"/>
            <a:chExt cx="6911640" cy="520560"/>
          </a:xfrm>
        </p:grpSpPr>
        <p:sp>
          <p:nvSpPr>
            <p:cNvPr id="316" name="Text Box 3"/>
            <p:cNvSpPr/>
            <p:nvPr/>
          </p:nvSpPr>
          <p:spPr>
            <a:xfrm>
              <a:off x="1187280" y="0"/>
              <a:ext cx="69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723900"/>
                  </a:solidFill>
                  <a:latin typeface="Arial"/>
                </a:rPr>
                <a:t>ПРОИЗВОДНАЯ СЛОЖНОЙ ФУНКЦИИ</a:t>
              </a:r>
              <a:endParaRPr b="0" i="1" lang="en-US" sz="2800" spc="-1" strike="noStrike">
                <a:solidFill>
                  <a:srgbClr val="7239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350360" y="500040"/>
              <a:ext cx="6665040" cy="0"/>
            </a:xfrm>
            <a:prstGeom prst="line">
              <a:avLst/>
            </a:prstGeom>
            <a:ln w="50760">
              <a:solidFill>
                <a:srgbClr val="723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7239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324000" y="692280"/>
          <a:ext cx="8569080" cy="569088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513080"/>
                <a:gridCol w="374472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ст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прост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Сложная функция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723900"/>
                          </a:solidFill>
                          <a:latin typeface="Arial"/>
                        </a:rPr>
                        <a:t>Производная сложной функции</a:t>
                      </a: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723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723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3900"/>
                      </a:solidFill>
                    </a:lnL>
                    <a:lnR w="5760">
                      <a:solidFill>
                        <a:srgbClr val="723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23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Object 43"/>
          <p:cNvGraphicFramePr/>
          <p:nvPr/>
        </p:nvGraphicFramePr>
        <p:xfrm>
          <a:off x="755640" y="1700280"/>
          <a:ext cx="403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403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44"/>
          <p:cNvGraphicFramePr/>
          <p:nvPr/>
        </p:nvGraphicFramePr>
        <p:xfrm>
          <a:off x="2411280" y="1700280"/>
          <a:ext cx="7495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1700280"/>
                    <a:ext cx="749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45"/>
          <p:cNvGraphicFramePr/>
          <p:nvPr/>
        </p:nvGraphicFramePr>
        <p:xfrm>
          <a:off x="3909960" y="1728720"/>
          <a:ext cx="97812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9960" y="1728720"/>
                    <a:ext cx="9781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46"/>
          <p:cNvGraphicFramePr/>
          <p:nvPr/>
        </p:nvGraphicFramePr>
        <p:xfrm>
          <a:off x="5753160" y="1728720"/>
          <a:ext cx="2531880" cy="5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6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53160" y="1728720"/>
                    <a:ext cx="25318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7"/>
          <p:cNvGraphicFramePr/>
          <p:nvPr/>
        </p:nvGraphicFramePr>
        <p:xfrm>
          <a:off x="826920" y="2276640"/>
          <a:ext cx="336600" cy="86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8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276640"/>
                    <a:ext cx="336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48"/>
          <p:cNvGraphicFramePr/>
          <p:nvPr/>
        </p:nvGraphicFramePr>
        <p:xfrm>
          <a:off x="2340000" y="2276640"/>
          <a:ext cx="696960" cy="86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0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0000" y="2276640"/>
                    <a:ext cx="696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9"/>
          <p:cNvGraphicFramePr/>
          <p:nvPr/>
        </p:nvGraphicFramePr>
        <p:xfrm>
          <a:off x="3995640" y="2276640"/>
          <a:ext cx="827280" cy="93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2" name="Object 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95640" y="2276640"/>
                    <a:ext cx="827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0"/>
          <p:cNvGraphicFramePr/>
          <p:nvPr/>
        </p:nvGraphicFramePr>
        <p:xfrm>
          <a:off x="6443640" y="2276640"/>
          <a:ext cx="1095480" cy="94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4" name="Object 5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43640" y="2276640"/>
                    <a:ext cx="10954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1"/>
          <p:cNvGraphicFramePr/>
          <p:nvPr/>
        </p:nvGraphicFramePr>
        <p:xfrm>
          <a:off x="684360" y="3355920"/>
          <a:ext cx="547560" cy="51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6" name="Object 5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4360" y="3355920"/>
                    <a:ext cx="547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52"/>
          <p:cNvGraphicFramePr/>
          <p:nvPr/>
        </p:nvGraphicFramePr>
        <p:xfrm>
          <a:off x="2340000" y="3068640"/>
          <a:ext cx="709560" cy="863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3068640"/>
                    <a:ext cx="709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3"/>
          <p:cNvGraphicFramePr/>
          <p:nvPr/>
        </p:nvGraphicFramePr>
        <p:xfrm>
          <a:off x="3851280" y="3284640"/>
          <a:ext cx="1008000" cy="610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0" name="Object 5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3284640"/>
                    <a:ext cx="10080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54"/>
          <p:cNvGraphicFramePr/>
          <p:nvPr/>
        </p:nvGraphicFramePr>
        <p:xfrm>
          <a:off x="6483240" y="3068640"/>
          <a:ext cx="1144800" cy="101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2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83240" y="3068640"/>
                    <a:ext cx="11448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5"/>
          <p:cNvGraphicFramePr/>
          <p:nvPr/>
        </p:nvGraphicFramePr>
        <p:xfrm>
          <a:off x="611280" y="4149720"/>
          <a:ext cx="749160" cy="40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4" name="Object 5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1280" y="4149720"/>
                    <a:ext cx="749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56"/>
          <p:cNvGraphicFramePr/>
          <p:nvPr/>
        </p:nvGraphicFramePr>
        <p:xfrm>
          <a:off x="2268360" y="4221000"/>
          <a:ext cx="779760" cy="316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6" name="Object 5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68360" y="4221000"/>
                    <a:ext cx="7797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7"/>
          <p:cNvGraphicFramePr/>
          <p:nvPr/>
        </p:nvGraphicFramePr>
        <p:xfrm>
          <a:off x="3780000" y="4076640"/>
          <a:ext cx="1293480" cy="574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8" name="Object 5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80000" y="4076640"/>
                    <a:ext cx="12934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58"/>
          <p:cNvGraphicFramePr/>
          <p:nvPr/>
        </p:nvGraphicFramePr>
        <p:xfrm>
          <a:off x="5940360" y="4076640"/>
          <a:ext cx="2279880" cy="555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50" name="Object 5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40360" y="4076640"/>
                    <a:ext cx="2279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77"/>
          <p:cNvGraphicFramePr/>
          <p:nvPr/>
        </p:nvGraphicFramePr>
        <p:xfrm>
          <a:off x="596880" y="4913280"/>
          <a:ext cx="777960" cy="314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52" name="Object 7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6880" y="4913280"/>
                    <a:ext cx="7779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78"/>
          <p:cNvGraphicFramePr/>
          <p:nvPr/>
        </p:nvGraphicFramePr>
        <p:xfrm>
          <a:off x="2166840" y="4898880"/>
          <a:ext cx="982800" cy="40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54" name="Object 7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66840" y="4898880"/>
                    <a:ext cx="982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9"/>
          <p:cNvGraphicFramePr/>
          <p:nvPr/>
        </p:nvGraphicFramePr>
        <p:xfrm>
          <a:off x="3765600" y="4797360"/>
          <a:ext cx="1322280" cy="574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56" name="Object 79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765600" y="4797360"/>
                    <a:ext cx="13222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0"/>
          <p:cNvGraphicFramePr/>
          <p:nvPr/>
        </p:nvGraphicFramePr>
        <p:xfrm>
          <a:off x="5857920" y="4797360"/>
          <a:ext cx="2446200" cy="555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58" name="Object 8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857920" y="4797360"/>
                    <a:ext cx="2446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1"/>
          <p:cNvGraphicFramePr/>
          <p:nvPr/>
        </p:nvGraphicFramePr>
        <p:xfrm>
          <a:off x="755640" y="5805360"/>
          <a:ext cx="517680" cy="4017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60" name="Object 81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55640" y="5805360"/>
                    <a:ext cx="5176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82"/>
          <p:cNvGraphicFramePr/>
          <p:nvPr/>
        </p:nvGraphicFramePr>
        <p:xfrm>
          <a:off x="2195640" y="5445000"/>
          <a:ext cx="982440" cy="889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62" name="Object 82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195640" y="5445000"/>
                    <a:ext cx="982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83"/>
          <p:cNvGraphicFramePr/>
          <p:nvPr/>
        </p:nvGraphicFramePr>
        <p:xfrm>
          <a:off x="3924360" y="5589720"/>
          <a:ext cx="1035000" cy="574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64" name="Object 83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924360" y="5589720"/>
                    <a:ext cx="10350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84"/>
          <p:cNvGraphicFramePr/>
          <p:nvPr/>
        </p:nvGraphicFramePr>
        <p:xfrm>
          <a:off x="5148360" y="5445000"/>
          <a:ext cx="3655800" cy="9273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66" name="Object 84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5148360" y="5445000"/>
                    <a:ext cx="36558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AutoShape 86"/>
          <p:cNvSpPr/>
          <p:nvPr/>
        </p:nvSpPr>
        <p:spPr>
          <a:xfrm>
            <a:off x="7236000" y="6237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50760">
            <a:solidFill>
              <a:srgbClr val="723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7239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7T15:31:06Z</dcterms:modified>
  <cp:revision>34</cp:revision>
  <dc:subject/>
  <dc:title>PowerPoint Presentation</dc:title>
</cp:coreProperties>
</file>