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6B0-07E2-40DA-A4B9-CC45C824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C3D-963C-4A2A-A0C6-9CD324E9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BA6-DE42-4B97-AF03-107B49D0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FE3-52EB-4AEE-BA0F-5D184F50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671-33B3-4786-9819-0F22552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5DC-9E6E-4CFD-88A5-27A5DFD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52F-C8ED-43F1-A8C9-93CC4DDB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E37-AB9D-455A-881B-ABA6FBC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355-680E-477A-974D-AC8C903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C8C-A7E3-4202-974E-3B140B6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631-7B10-4E2F-B4E5-54F8586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77A-5830-4B39-8A52-B86C5CA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B7D-3454-42FF-8E51-100D52F3B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go.mail.ru/search_images?src=go&amp;sbmt=1546434901079&amp;gp=821273&amp;q=&#1087;&#1088;&#1086;&#1092;&#1077;&#1089;&#1089;&#1086;&#1088;+&#1091;&#1095;&#1077;&#1085;&#1072;&#1103;+&#1089;&#1086;&#1074;&#1072;#urlhash=8252857078090307689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vtoruchka.ru/parker_2074_3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математики 3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:Иванова Ан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кт –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2030400"/>
            <a:ext cx="7559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79280" y="907920"/>
            <a:ext cx="7848720" cy="1368720"/>
          </a:xfrm>
          <a:prstGeom prst="rect">
            <a:avLst/>
          </a:prstGeom>
          <a:solidFill>
            <a:srgbClr val="ffc000">
              <a:alpha val="63000"/>
            </a:srgbClr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сегодня узнал(а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79280" y="4653000"/>
            <a:ext cx="8713800" cy="2016000"/>
          </a:xfrm>
          <a:prstGeom prst="rect">
            <a:avLst/>
          </a:prstGeom>
          <a:solidFill>
            <a:srgbClr val="33ccff">
              <a:alpha val="25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2421000"/>
            <a:ext cx="8713800" cy="1944720"/>
          </a:xfrm>
          <a:prstGeom prst="rect">
            <a:avLst/>
          </a:prstGeom>
          <a:solidFill>
            <a:srgbClr val="99ff33">
              <a:alpha val="28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83720" y="4946400"/>
            <a:ext cx="503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я и не знал (а), ч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ерь я знаю, ч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2196360" y="11592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ч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826920" y="33336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00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00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547640" y="33336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58920" y="1916280"/>
            <a:ext cx="91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 желанию придумать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зученных в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20764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484360" y="40464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 –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11280" y="1268280"/>
            <a:ext cx="7993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go.mail.ru/search_images?src=go&amp;sbmt=1546434901079&amp;gp=821273&amp;q=%D0%BF%D1%80%D0%BE%D1%84%D0%B5%D1%81%D1%81%D0%BE%D1%80+%D1%83%D1%87%D0%B5%D0%BD%D0%B0%D1%8F+%D1%81%D0%BE%D0%B2%D0%B0#urlhash=82528570780903076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go.mail.ru/search_images?src=go&amp;sbmt=1546435046881&amp;gp=821273&amp;q=%D0%BF%D1%80%D0%BE%D1%84%D0%B5%D1%81%D1%81%D0%BE%D1%80++#urlhash=71283904442270833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s://go.mail.ru/search_images?src=go&amp;sbmt=1546435131322&amp;gp=821273&amp;q=%D1%83%D1%87%D0%B5%D0%B1%D0%BD%D0%B8%D0%BA+%D0%BC%D0%B0%D1%82%D0%B5%D0%BC%D0%B0%D1%82%D0%B8%D0%BA%D0%B8#urlhash=2905770644226400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ya-uchitel.ru/blog/fizminutka_o_dnjakh_nedeli/2013-11-22-66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332000" y="2013120"/>
            <a:ext cx="1836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одробнее...">
            <a:hlinkClick r:id="rId1"/>
          </p:cNvPr>
          <p:cNvPicPr/>
          <p:nvPr/>
        </p:nvPicPr>
        <p:blipFill>
          <a:blip r:embed="rId2"/>
          <a:stretch/>
        </p:blipFill>
        <p:spPr>
          <a:xfrm rot="919200">
            <a:off x="7812000" y="2923920"/>
            <a:ext cx="393840" cy="3481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301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Проверяй скорей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Ты готов нача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ь на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ь в поряд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Ручка, книжка и тетрад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ли правильно сто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се внимательно 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0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C:\Users\1\Pictures\2013-08-08\Mail0001.JPG"/>
          <p:cNvPicPr/>
          <p:nvPr/>
        </p:nvPicPr>
        <p:blipFill>
          <a:blip r:embed="rId3"/>
          <a:srcRect l="0" t="0" r="6549" b="11848"/>
          <a:stretch/>
        </p:blipFill>
        <p:spPr>
          <a:xfrm>
            <a:off x="857160" y="3429000"/>
            <a:ext cx="2590920" cy="3124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48" name="Рисунок 4" descr="C:\Users\1\Pictures\2013-08-09\Mail.JPG"/>
          <p:cNvPicPr/>
          <p:nvPr/>
        </p:nvPicPr>
        <p:blipFill>
          <a:blip r:embed="rId4"/>
          <a:srcRect l="20265" t="0" r="4463" b="28220"/>
          <a:stretch/>
        </p:blipFill>
        <p:spPr>
          <a:xfrm>
            <a:off x="3714840" y="3786120"/>
            <a:ext cx="1828800" cy="2743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635280" y="1557360"/>
          <a:ext cx="3965760" cy="1295280"/>
        </p:xfrm>
        <a:graphic>
          <a:graphicData uri="http://schemas.openxmlformats.org/drawingml/2006/table">
            <a:tbl>
              <a:tblPr/>
              <a:tblGrid>
                <a:gridCol w="654120"/>
                <a:gridCol w="552600"/>
                <a:gridCol w="550800"/>
                <a:gridCol w="552240"/>
                <a:gridCol w="551160"/>
                <a:gridCol w="552240"/>
                <a:gridCol w="552600"/>
              </a:tblGrid>
              <a:tr h="43164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увеличить в 4 р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08360" y="3645000"/>
          <a:ext cx="4030560" cy="1261800"/>
        </p:xfrm>
        <a:graphic>
          <a:graphicData uri="http://schemas.openxmlformats.org/drawingml/2006/table">
            <a:tbl>
              <a:tblPr/>
              <a:tblGrid>
                <a:gridCol w="663480"/>
                <a:gridCol w="561960"/>
                <a:gridCol w="560520"/>
                <a:gridCol w="561960"/>
                <a:gridCol w="560520"/>
                <a:gridCol w="561960"/>
                <a:gridCol w="560160"/>
              </a:tblGrid>
              <a:tr h="42048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уменьшить в 5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2556000" y="42289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900000" y="662040"/>
            <a:ext cx="64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b0f0"/>
                </a:solidFill>
                <a:latin typeface="Arial"/>
              </a:rPr>
              <a:t>Устный счет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885960" y="3379680"/>
            <a:ext cx="19047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9640" y="1004760"/>
          <a:ext cx="8280360" cy="5686560"/>
        </p:xfrm>
        <a:graphic>
          <a:graphicData uri="http://schemas.openxmlformats.org/drawingml/2006/table">
            <a:tbl>
              <a:tblPr/>
              <a:tblGrid>
                <a:gridCol w="2376720"/>
                <a:gridCol w="2735280"/>
                <a:gridCol w="3168360"/>
              </a:tblGrid>
              <a:tr h="1586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  стоит 8 рублей. Сколько стоят 5 таких альбо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лассе 6 мальчиков, а девочек в 3 раза больше. Сколько девочек в класс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8 рублей купили 7 ручек. Сколько стоит одна руч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денец стоит 4 рублей, а шоколадка  в 6 раз дороже. На сколько дешевле стоит леденец, чем шоколад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одной грядки собрали 45 кг томатов, со второй 9кг. На сколько килограммов  с первой грядки собрали томатов больше, чем со втор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городе собрали 32 кг лука. А  чеснока в 4 раза меньше, чем лука. Сколько всего килограммов овощей собра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ервой полке 64 книги, на второй полке 8 книг. Во сколько раз меньше книг на второй полк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Иры было 5 открыток и 35 наклеек. Во сколько раз больше наклеек, чем открыток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ся за 4 дня прочитал 24 страницы, а Оля за 3 дня прочитала 21 страниц. На сколько страниц больше читает в день Оля, чем Ва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-171360"/>
            <a:ext cx="8498160" cy="154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ult-37"/>
          <p:cNvPicPr/>
          <p:nvPr/>
        </p:nvPicPr>
        <p:blipFill>
          <a:blip r:embed="rId2"/>
          <a:stretch/>
        </p:blipFill>
        <p:spPr>
          <a:xfrm>
            <a:off x="88920" y="0"/>
            <a:ext cx="1674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элт\Desktop\g.jpeg"/>
          <p:cNvPicPr/>
          <p:nvPr/>
        </p:nvPicPr>
        <p:blipFill>
          <a:blip r:embed="rId1"/>
          <a:stretch/>
        </p:blipFill>
        <p:spPr>
          <a:xfrm>
            <a:off x="6012000" y="1395360"/>
            <a:ext cx="1800000" cy="180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Мэлт\Desktop\g.jpeg"/>
          <p:cNvPicPr/>
          <p:nvPr/>
        </p:nvPicPr>
        <p:blipFill>
          <a:blip r:embed="rId2"/>
          <a:stretch/>
        </p:blipFill>
        <p:spPr>
          <a:xfrm>
            <a:off x="3419640" y="1413000"/>
            <a:ext cx="180000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элт\Desktop\g.jpeg"/>
          <p:cNvPicPr/>
          <p:nvPr/>
        </p:nvPicPr>
        <p:blipFill>
          <a:blip r:embed="rId3"/>
          <a:stretch/>
        </p:blipFill>
        <p:spPr>
          <a:xfrm>
            <a:off x="923760" y="1341360"/>
            <a:ext cx="180036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Мэлт\Desktop\i.jpeg"/>
          <p:cNvPicPr/>
          <p:nvPr/>
        </p:nvPicPr>
        <p:blipFill>
          <a:blip r:embed="rId4"/>
          <a:srcRect l="0" t="0" r="49812" b="0"/>
          <a:stretch/>
        </p:blipFill>
        <p:spPr>
          <a:xfrm>
            <a:off x="684360" y="3645000"/>
            <a:ext cx="186984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Мэлт\Desktop\i.jpeg"/>
          <p:cNvPicPr/>
          <p:nvPr/>
        </p:nvPicPr>
        <p:blipFill>
          <a:blip r:embed="rId5"/>
          <a:srcRect l="0" t="0" r="49812" b="0"/>
          <a:stretch/>
        </p:blipFill>
        <p:spPr>
          <a:xfrm>
            <a:off x="2556000" y="3645000"/>
            <a:ext cx="1935000" cy="192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Мэлт\Desktop\i.jpeg"/>
          <p:cNvPicPr/>
          <p:nvPr/>
        </p:nvPicPr>
        <p:blipFill>
          <a:blip r:embed="rId6"/>
          <a:srcRect l="0" t="0" r="49812" b="0"/>
          <a:stretch/>
        </p:blipFill>
        <p:spPr>
          <a:xfrm>
            <a:off x="4572000" y="3645000"/>
            <a:ext cx="187164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Мэлт\Desktop\i.jpeg"/>
          <p:cNvPicPr/>
          <p:nvPr/>
        </p:nvPicPr>
        <p:blipFill>
          <a:blip r:embed="rId7"/>
          <a:srcRect l="0" t="0" r="49812" b="0"/>
          <a:stretch/>
        </p:blipFill>
        <p:spPr>
          <a:xfrm>
            <a:off x="6507000" y="3645000"/>
            <a:ext cx="1887840" cy="1944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150920" y="620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Arial"/>
              </a:rPr>
              <a:t>Сколько денег у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68360" y="981000"/>
            <a:ext cx="820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етский сад привезли 4 коробки конфет, по 9 кг в каждой, и 3 коробки печенья, по 8 кг в каждой. Сколько всего килограммов конфет и печенья привезли в детский са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84360" y="26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Реши задачу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88720" y="981000"/>
            <a:ext cx="851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онедельник я купался, (Изображаем плавани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 вторник — рисовал. (Изображаем рисовани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у долго умывался, (Умываемс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четверг в футбол играл. (Бег на мест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ятницу я прыгал, бегал, (Прыгае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долго танцевал. (Кружимся на мест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субботу, воскресенье (Хлопки в ладош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ый день я отдыхал. (Дети садятся на корточ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и под щеку — засыпаю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232736"/>
          <p:cNvPicPr/>
          <p:nvPr/>
        </p:nvPicPr>
        <p:blipFill>
          <a:blip r:embed="rId1"/>
          <a:stretch/>
        </p:blipFill>
        <p:spPr>
          <a:xfrm>
            <a:off x="7918560" y="5084640"/>
            <a:ext cx="923760" cy="1557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" descr=""/>
          <p:cNvPicPr/>
          <p:nvPr/>
        </p:nvPicPr>
        <p:blipFill>
          <a:blip r:embed="rId2"/>
          <a:stretch/>
        </p:blipFill>
        <p:spPr>
          <a:xfrm>
            <a:off x="2054160" y="371520"/>
            <a:ext cx="582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6"/>
          <p:cNvSpPr/>
          <p:nvPr/>
        </p:nvSpPr>
        <p:spPr>
          <a:xfrm>
            <a:off x="5367240" y="1851120"/>
            <a:ext cx="3237120" cy="129060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042920" y="4076640"/>
            <a:ext cx="3457800" cy="180036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9х7+8х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5148360" y="407664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c00000">
              <a:alpha val="17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8х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395280" y="404640"/>
            <a:ext cx="89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уппов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оставить свои задачи к данным реш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1187280" y="1700280"/>
            <a:ext cx="3384720" cy="1512720"/>
          </a:xfrm>
          <a:prstGeom prst="roundRect">
            <a:avLst>
              <a:gd name="adj" fmla="val 16667"/>
            </a:avLst>
          </a:prstGeom>
          <a:solidFill>
            <a:srgbClr val="c00000">
              <a:alpha val="18000"/>
            </a:srgbClr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9х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7"/>
          <p:cNvSpPr/>
          <p:nvPr/>
        </p:nvSpPr>
        <p:spPr>
          <a:xfrm>
            <a:off x="1042920" y="47628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борник  своих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Мэлт\Desktop\l.jpeg"/>
          <p:cNvPicPr/>
          <p:nvPr/>
        </p:nvPicPr>
        <p:blipFill>
          <a:blip r:embed="rId1"/>
          <a:stretch/>
        </p:blipFill>
        <p:spPr>
          <a:xfrm>
            <a:off x="2627280" y="1373040"/>
            <a:ext cx="3406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19:07Z</dcterms:created>
  <dc:creator>Синецкая Г.Г.</dc:creator>
  <dc:description/>
  <dc:language>en-US</dc:language>
  <cp:lastModifiedBy>Валентина</cp:lastModifiedBy>
  <dcterms:modified xsi:type="dcterms:W3CDTF">2019-01-02T15:34:26Z</dcterms:modified>
  <cp:revision>92</cp:revision>
  <dc:subject>Решение задач в 3 действия</dc:subject>
  <dc:title>Математика. 3 класс</dc:title>
</cp:coreProperties>
</file>