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453-5126-45C0-948F-31CA0BC5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BCF-65C8-41B1-B15D-38943F1B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6F1-31D2-40EB-9498-7B07B8FD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8B8-8E4B-4E4A-9560-26670826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767-9AE8-4EBA-AE98-B070C0C7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00B-D23A-4A82-97AF-3821CB69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FADA-2D04-4FEF-83DE-FD6558C5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EE2-8158-473B-8870-EC6D3064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882-0C8C-462F-BC59-1097596D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1C3-799A-4D06-85EB-CCE44F95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A91-860B-42F4-81BF-D83680E6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0584-E678-4032-BFB2-20188BA5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B583-93B4-418E-A69F-06E5F2911D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go.mail.ru/search_images?src=go&amp;sbmt=1546434901079&amp;gp=821273&amp;q=&#1087;&#1088;&#1086;&#1092;&#1077;&#1089;&#1089;&#1086;&#1088;+&#1091;&#1095;&#1077;&#1085;&#1072;&#1103;+&#1089;&#1086;&#1074;&#1072;#urlhash=8252857078090307689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vtoruchka.ru/parker_2074_3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математики 3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:Иванова Анна Викто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нкт –Петерб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828720" y="2030400"/>
            <a:ext cx="75596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79280" y="907920"/>
            <a:ext cx="7848720" cy="1368720"/>
          </a:xfrm>
          <a:prstGeom prst="rect">
            <a:avLst/>
          </a:prstGeom>
          <a:solidFill>
            <a:srgbClr val="ffc000">
              <a:alpha val="63000"/>
            </a:srgbClr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Я сегодня узнал(а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79280" y="4653000"/>
            <a:ext cx="8713800" cy="2016000"/>
          </a:xfrm>
          <a:prstGeom prst="rect">
            <a:avLst/>
          </a:prstGeom>
          <a:solidFill>
            <a:srgbClr val="33ccff">
              <a:alpha val="25000"/>
            </a:srgbClr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79280" y="2421000"/>
            <a:ext cx="8713800" cy="1944720"/>
          </a:xfrm>
          <a:prstGeom prst="rect">
            <a:avLst/>
          </a:prstGeom>
          <a:solidFill>
            <a:srgbClr val="99ff33">
              <a:alpha val="28000"/>
            </a:srgbClr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 было интересн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783720" y="4946400"/>
            <a:ext cx="503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я и не знал (а), чт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ерь я знаю, чт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2196360" y="115920"/>
            <a:ext cx="501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ончите предлож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826920" y="333360"/>
            <a:ext cx="7561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0000"/>
                </a:solid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90000"/>
              </a:solid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1547640" y="333360"/>
            <a:ext cx="59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Домашнее зад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258920" y="1916280"/>
            <a:ext cx="91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По желанию придумать 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изученных ви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755640" y="3284640"/>
            <a:ext cx="20764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484360" y="404640"/>
            <a:ext cx="51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мые Интернет –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11280" y="1268280"/>
            <a:ext cx="7993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go.mail.ru/search_images?src=go&amp;sbmt=1546434901079&amp;gp=821273&amp;q=%D0%BF%D1%80%D0%BE%D1%84%D0%B5%D1%81%D1%81%D0%BE%D1%80+%D1%83%D1%87%D0%B5%D0%BD%D0%B0%D1%8F+%D1%81%D0%BE%D0%B2%D0%B0#urlhash=825285707809030768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s://go.mail.ru/search_images?src=go&amp;sbmt=1546435046881&amp;gp=821273&amp;q=%D0%BF%D1%80%D0%BE%D1%84%D0%B5%D1%81%D1%81%D0%BE%D1%80++#urlhash=71283904442270833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s://go.mail.ru/search_images?src=go&amp;sbmt=1546435131322&amp;gp=821273&amp;q=%D1%83%D1%87%D0%B5%D0%B1%D0%BD%D0%B8%D0%BA+%D0%BC%D0%B0%D1%82%D0%B5%D0%BC%D0%B0%D1%82%D0%B8%D0%BA%D0%B8#urlhash=29057706442264007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ya-uchitel.ru/blog/fizminutka_o_dnjakh_nedeli/2013-11-22-66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332000" y="2013120"/>
            <a:ext cx="18360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Подробнее...">
            <a:hlinkClick r:id="rId1"/>
          </p:cNvPr>
          <p:cNvPicPr/>
          <p:nvPr/>
        </p:nvPicPr>
        <p:blipFill>
          <a:blip r:embed="rId2"/>
          <a:stretch/>
        </p:blipFill>
        <p:spPr>
          <a:xfrm rot="919200">
            <a:off x="7812000" y="2923920"/>
            <a:ext cx="393840" cy="3481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0" y="30168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Проверяй скорей, друж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Ты готов начать ур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Все ль на мес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Все ль в поряд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Ручка, книжка и тетрад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Все ли правильно стоя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Все внимательно глядя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800" y="9036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3" descr="C:\Users\1\Pictures\2013-08-08\Mail0001.JPG"/>
          <p:cNvPicPr/>
          <p:nvPr/>
        </p:nvPicPr>
        <p:blipFill>
          <a:blip r:embed="rId3"/>
          <a:srcRect l="0" t="0" r="6549" b="11848"/>
          <a:stretch/>
        </p:blipFill>
        <p:spPr>
          <a:xfrm>
            <a:off x="857160" y="3429000"/>
            <a:ext cx="2590920" cy="31240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48" name="Рисунок 4" descr="C:\Users\1\Pictures\2013-08-09\Mail.JPG"/>
          <p:cNvPicPr/>
          <p:nvPr/>
        </p:nvPicPr>
        <p:blipFill>
          <a:blip r:embed="rId4"/>
          <a:srcRect l="20265" t="0" r="4463" b="28220"/>
          <a:stretch/>
        </p:blipFill>
        <p:spPr>
          <a:xfrm>
            <a:off x="3714840" y="3786120"/>
            <a:ext cx="1828800" cy="27432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635280" y="1557360"/>
          <a:ext cx="3965760" cy="1295280"/>
        </p:xfrm>
        <a:graphic>
          <a:graphicData uri="http://schemas.openxmlformats.org/drawingml/2006/table">
            <a:tbl>
              <a:tblPr/>
              <a:tblGrid>
                <a:gridCol w="654120"/>
                <a:gridCol w="552600"/>
                <a:gridCol w="550800"/>
                <a:gridCol w="552240"/>
                <a:gridCol w="551160"/>
                <a:gridCol w="552240"/>
                <a:gridCol w="552600"/>
              </a:tblGrid>
              <a:tr h="431640">
                <a:tc gridSpan="7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увеличить в 4 ра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708360" y="3645000"/>
          <a:ext cx="4030560" cy="1261800"/>
        </p:xfrm>
        <a:graphic>
          <a:graphicData uri="http://schemas.openxmlformats.org/drawingml/2006/table">
            <a:tbl>
              <a:tblPr/>
              <a:tblGrid>
                <a:gridCol w="663480"/>
                <a:gridCol w="561960"/>
                <a:gridCol w="560520"/>
                <a:gridCol w="561960"/>
                <a:gridCol w="560520"/>
                <a:gridCol w="561960"/>
                <a:gridCol w="560160"/>
              </a:tblGrid>
              <a:tr h="420480">
                <a:tc gridSpan="7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уменьшить в 5 р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1"/>
          <p:cNvSpPr/>
          <p:nvPr/>
        </p:nvSpPr>
        <p:spPr>
          <a:xfrm>
            <a:off x="2556000" y="422892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900000" y="662040"/>
            <a:ext cx="64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b0f0"/>
                </a:solidFill>
                <a:latin typeface="Arial"/>
              </a:rPr>
              <a:t>Устный счет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885960" y="3379680"/>
            <a:ext cx="19047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39640" y="1004760"/>
          <a:ext cx="8280360" cy="5686560"/>
        </p:xfrm>
        <a:graphic>
          <a:graphicData uri="http://schemas.openxmlformats.org/drawingml/2006/table">
            <a:tbl>
              <a:tblPr/>
              <a:tblGrid>
                <a:gridCol w="2376720"/>
                <a:gridCol w="2735280"/>
                <a:gridCol w="3168360"/>
              </a:tblGrid>
              <a:tr h="1586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традь  стоит 8 рублей. Сколько стоят 5 таких альбом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лассе 6 мальчиков, а девочек в 3 раза больше. Сколько девочек в класс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28 рублей купили 7 ручек. Сколько стоит одна ручк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78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денец стоит 4 рублей, а шоколадка  в 6 раз дороже. На сколько дешевле стоит леденец, чем шоколадк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одной грядки собрали 45 кг томатов, со второй 9кг. На сколько килограммов  с первой грядки собрали томатов больше, чем со второй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огороде собрали 32 кг лука. А  чеснока в 4 раза меньше, чем лука. Сколько всего килограммов овощей собрал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первой полке 64 книги, на второй полке 8 книг. Во сколько раз меньше книг на второй полк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Иры было 5 открыток и 35 наклеек. Во сколько раз больше наклеек, чем открыток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ся за 4 дня прочитал 24 страницы, а Оля за 3 дня прочитала 21 страниц. На сколько страниц больше читает в день Оля, чем Вас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Прямоугольник 1" descr=""/>
          <p:cNvPicPr/>
          <p:nvPr/>
        </p:nvPicPr>
        <p:blipFill>
          <a:blip r:embed="rId1"/>
          <a:stretch/>
        </p:blipFill>
        <p:spPr>
          <a:xfrm>
            <a:off x="396720" y="-171360"/>
            <a:ext cx="8498160" cy="154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mult-37"/>
          <p:cNvPicPr/>
          <p:nvPr/>
        </p:nvPicPr>
        <p:blipFill>
          <a:blip r:embed="rId2"/>
          <a:stretch/>
        </p:blipFill>
        <p:spPr>
          <a:xfrm>
            <a:off x="88920" y="0"/>
            <a:ext cx="16747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Мэлт\Desktop\g.jpeg"/>
          <p:cNvPicPr/>
          <p:nvPr/>
        </p:nvPicPr>
        <p:blipFill>
          <a:blip r:embed="rId1"/>
          <a:stretch/>
        </p:blipFill>
        <p:spPr>
          <a:xfrm>
            <a:off x="6012000" y="1395360"/>
            <a:ext cx="1800000" cy="180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Мэлт\Desktop\g.jpeg"/>
          <p:cNvPicPr/>
          <p:nvPr/>
        </p:nvPicPr>
        <p:blipFill>
          <a:blip r:embed="rId2"/>
          <a:stretch/>
        </p:blipFill>
        <p:spPr>
          <a:xfrm>
            <a:off x="3419640" y="1413000"/>
            <a:ext cx="1800000" cy="180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Мэлт\Desktop\g.jpeg"/>
          <p:cNvPicPr/>
          <p:nvPr/>
        </p:nvPicPr>
        <p:blipFill>
          <a:blip r:embed="rId3"/>
          <a:stretch/>
        </p:blipFill>
        <p:spPr>
          <a:xfrm>
            <a:off x="923760" y="1341360"/>
            <a:ext cx="1800360" cy="1809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Мэлт\Desktop\i.jpeg"/>
          <p:cNvPicPr/>
          <p:nvPr/>
        </p:nvPicPr>
        <p:blipFill>
          <a:blip r:embed="rId4"/>
          <a:srcRect l="0" t="0" r="49812" b="0"/>
          <a:stretch/>
        </p:blipFill>
        <p:spPr>
          <a:xfrm>
            <a:off x="684360" y="3645000"/>
            <a:ext cx="1869840" cy="194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Мэлт\Desktop\i.jpeg"/>
          <p:cNvPicPr/>
          <p:nvPr/>
        </p:nvPicPr>
        <p:blipFill>
          <a:blip r:embed="rId5"/>
          <a:srcRect l="0" t="0" r="49812" b="0"/>
          <a:stretch/>
        </p:blipFill>
        <p:spPr>
          <a:xfrm>
            <a:off x="2556000" y="3645000"/>
            <a:ext cx="1935000" cy="192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Мэлт\Desktop\i.jpeg"/>
          <p:cNvPicPr/>
          <p:nvPr/>
        </p:nvPicPr>
        <p:blipFill>
          <a:blip r:embed="rId6"/>
          <a:srcRect l="0" t="0" r="49812" b="0"/>
          <a:stretch/>
        </p:blipFill>
        <p:spPr>
          <a:xfrm>
            <a:off x="4572000" y="3645000"/>
            <a:ext cx="1871640" cy="1928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Мэлт\Desktop\i.jpeg"/>
          <p:cNvPicPr/>
          <p:nvPr/>
        </p:nvPicPr>
        <p:blipFill>
          <a:blip r:embed="rId7"/>
          <a:srcRect l="0" t="0" r="49812" b="0"/>
          <a:stretch/>
        </p:blipFill>
        <p:spPr>
          <a:xfrm>
            <a:off x="6507000" y="3645000"/>
            <a:ext cx="1887840" cy="19447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1150920" y="620640"/>
            <a:ext cx="62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f0"/>
                </a:solidFill>
                <a:latin typeface="Arial"/>
              </a:rPr>
              <a:t>Сколько денег у ребен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468360" y="981000"/>
            <a:ext cx="8207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детский сад привезли 4 коробки конфет, по 9 кг в каждой, и 3 коробки печенья, по 8 кг в каждой. Сколько всего килограммов конфет и печенья привезли в детский сад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684360" y="26028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Реши задачу самостоят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88720" y="981000"/>
            <a:ext cx="851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понедельник я купался, (Изображаем плавание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во вторник — рисовал. (Изображаем рисование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реду долго умывался, (Умываемся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в четверг в футбол играл. (Бег на месте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пятницу я прыгал, бегал, (Прыгаем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чень долго танцевал. (Кружимся на месте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в субботу, воскресенье (Хлопки в ладоши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ый день я отдыхал. (Дети садятся на корточ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ки под щеку — засыпаю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J0232736"/>
          <p:cNvPicPr/>
          <p:nvPr/>
        </p:nvPicPr>
        <p:blipFill>
          <a:blip r:embed="rId1"/>
          <a:stretch/>
        </p:blipFill>
        <p:spPr>
          <a:xfrm>
            <a:off x="7918560" y="5084640"/>
            <a:ext cx="923760" cy="15573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1" descr=""/>
          <p:cNvPicPr/>
          <p:nvPr/>
        </p:nvPicPr>
        <p:blipFill>
          <a:blip r:embed="rId2"/>
          <a:stretch/>
        </p:blipFill>
        <p:spPr>
          <a:xfrm>
            <a:off x="2054160" y="371520"/>
            <a:ext cx="5827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6"/>
          <p:cNvSpPr/>
          <p:nvPr/>
        </p:nvSpPr>
        <p:spPr>
          <a:xfrm>
            <a:off x="5367240" y="1851120"/>
            <a:ext cx="3237120" cy="1290600"/>
          </a:xfrm>
          <a:prstGeom prst="roundRect">
            <a:avLst>
              <a:gd name="adj" fmla="val 16667"/>
            </a:avLst>
          </a:prstGeom>
          <a:solidFill>
            <a:srgbClr val="c00000">
              <a:alpha val="18000"/>
            </a:srgbClr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2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1042920" y="4076640"/>
            <a:ext cx="3457800" cy="1800360"/>
          </a:xfrm>
          <a:prstGeom prst="roundRect">
            <a:avLst>
              <a:gd name="adj" fmla="val 16667"/>
            </a:avLst>
          </a:prstGeom>
          <a:solidFill>
            <a:srgbClr val="c00000">
              <a:alpha val="18000"/>
            </a:srgbClr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9х7+8х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5148360" y="4076640"/>
            <a:ext cx="3384360" cy="1800360"/>
          </a:xfrm>
          <a:prstGeom prst="roundRect">
            <a:avLst>
              <a:gd name="adj" fmla="val 16667"/>
            </a:avLst>
          </a:prstGeom>
          <a:solidFill>
            <a:srgbClr val="c00000">
              <a:alpha val="17000"/>
            </a:srgbClr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8х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395280" y="404640"/>
            <a:ext cx="892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руппов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оставить свои задачи к данным решен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1187280" y="1700280"/>
            <a:ext cx="3384720" cy="1512720"/>
          </a:xfrm>
          <a:prstGeom prst="roundRect">
            <a:avLst>
              <a:gd name="adj" fmla="val 16667"/>
            </a:avLst>
          </a:prstGeom>
          <a:solidFill>
            <a:srgbClr val="c00000">
              <a:alpha val="18000"/>
            </a:srgbClr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9х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7"/>
          <p:cNvSpPr/>
          <p:nvPr/>
        </p:nvSpPr>
        <p:spPr>
          <a:xfrm>
            <a:off x="1042920" y="476280"/>
            <a:ext cx="78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борник  своих зада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Users\Мэлт\Desktop\l.jpeg"/>
          <p:cNvPicPr/>
          <p:nvPr/>
        </p:nvPicPr>
        <p:blipFill>
          <a:blip r:embed="rId1"/>
          <a:stretch/>
        </p:blipFill>
        <p:spPr>
          <a:xfrm>
            <a:off x="2627280" y="1373040"/>
            <a:ext cx="34066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7:19:07Z</dcterms:created>
  <dc:creator>Синецкая Г.Г.</dc:creator>
  <dc:description/>
  <dc:language>en-US</dc:language>
  <cp:lastModifiedBy>Валентина</cp:lastModifiedBy>
  <dcterms:modified xsi:type="dcterms:W3CDTF">2019-01-02T15:34:26Z</dcterms:modified>
  <cp:revision>92</cp:revision>
  <dc:subject>Решение задач в 3 действия</dc:subject>
  <dc:title>Математика. 3 класс</dc:title>
</cp:coreProperties>
</file>