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92D-AB8C-4404-889D-0BFE81A2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9CFD-BA48-488E-A53D-599D80A3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EEED-A0F1-425F-8B95-34D800180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03D-31AC-4D10-B0DF-CB3635E6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23B8-541E-442C-BCFB-812D401A6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F174-B9E0-4B88-BF48-B20F12A1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7348-97B5-4E92-897D-75AE3B64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DB4F-452E-4468-A198-1B6B8B65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B3AF-6CE8-41D0-ACD2-7E3E966E5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A5567-40E2-4A45-84B4-EBAC2296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A470-5D0B-4758-9E02-EEB7824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72CD-4499-4AB7-AF9E-C86D266E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7378-EE47-4551-B136-72791A8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9032-9C7F-4DBA-9A4E-6D0A4776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6E44-5658-432A-8409-7E080DEC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37FE-CEAC-49D9-9A72-C5FD1818F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D5E7-2D3C-4781-800D-537187990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3D6-5B39-40E9-9EA9-3107BCD5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EB4D-5B60-43AC-9007-B34CB6A3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E907-B733-4139-BC0C-7060A267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2C7-055C-4F54-A9FC-170D567B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0D0-A6EE-4885-8EF9-8F7780ED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9EAE-0E8F-457C-87C1-933E479F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08F-EEA8-4613-B3DB-732500E6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DDE0D-8910-4A7D-B69D-C9C0E1A44FE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7083-555C-43F8-BD78-29E1C4C90BF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384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99043"/>
                </a:solidFill>
                <a:latin typeface="Garamond"/>
              </a:rPr>
              <a:t>Родительское собрани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3141720"/>
            <a:ext cx="806616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9043"/>
                </a:solidFill>
                <a:latin typeface="Arial"/>
              </a:rPr>
              <a:t>«Умеете ли вы любить своего ребе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9043"/>
                </a:solidFill>
                <a:latin typeface="Arial"/>
              </a:rPr>
              <a:t>Воспитатели старшей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9043"/>
                </a:solidFill>
                <a:latin typeface="Arial"/>
              </a:rPr>
              <a:t>Шандибаева Дабажит Пурбу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9043"/>
                </a:solidFill>
                <a:latin typeface="Arial"/>
              </a:rPr>
              <a:t>Пурбуева Евгения Баировна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baby04"/>
          <p:cNvPicPr/>
          <p:nvPr/>
        </p:nvPicPr>
        <p:blipFill>
          <a:blip r:embed="rId1"/>
          <a:stretch/>
        </p:blipFill>
        <p:spPr>
          <a:xfrm>
            <a:off x="533520" y="0"/>
            <a:ext cx="198108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6</a:t>
            </a:r>
            <a:r>
              <a:rPr b="0" i="1" lang="ru-RU" sz="4000" spc="-1" strike="noStrike">
                <a:solidFill>
                  <a:srgbClr val="006633"/>
                </a:solidFill>
                <a:latin typeface="Garamond"/>
              </a:rPr>
              <a:t>.</a:t>
            </a:r>
            <a:r>
              <a:rPr b="0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«Больше денег - лучше воспитание»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лишком стеснены в средствах, поэтому не можем себе даже позволить побаловать ребенка, постоянно приходится ему во всем отказывать, он донашивает старые вещи и т.п. Словом, будь у нас больше денег, мы бы были лучшими роди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7. 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Ваше настроение.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Можно или нет? Это зависит от настроения».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Garamond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риятности на работе, плохое настроение в семье, как часто взрослые «выпускают пар» на ребенка. Многие уверенны, что в этом нет ничего страшного. Достаточно потом пригласи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ен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купить давно обещанную игрушку, и все будет в поряд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8. 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Слишком мало времени для воспитания ребенка.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К сожалению, у меня совершенно нет времени для тебя».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Многие взрослые очень загружены на работе, но каждую свою свободную минутку стараются проводить с детьми: они отводят их в сад и в школу, готовят для них, стирают, покупают все, что им нужно. Дети должны сами понимать, что у родителей просто нет времени поиграть и почитать с ни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06240" y="277920"/>
            <a:ext cx="7180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99043"/>
                </a:solidFill>
                <a:latin typeface="Garamond"/>
              </a:rPr>
              <a:t>МБДОУ детский сад «Булжамуур»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7200" spc="-1" strike="noStrike">
                <a:solidFill>
                  <a:srgbClr val="ffc000"/>
                </a:solidFill>
                <a:latin typeface="Arial"/>
                <a:ea typeface="Arial"/>
              </a:rPr>
              <a:t>Группа «Наран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psik"/>
          <p:cNvPicPr/>
          <p:nvPr/>
        </p:nvPicPr>
        <p:blipFill>
          <a:blip r:embed="rId1"/>
          <a:stretch/>
        </p:blipFill>
        <p:spPr>
          <a:xfrm>
            <a:off x="228600" y="152280"/>
            <a:ext cx="104616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:\DCIM\100CANON\IMG_3788.JPG"/>
          <p:cNvPicPr/>
          <p:nvPr/>
        </p:nvPicPr>
        <p:blipFill>
          <a:blip r:embed="rId2"/>
          <a:stretch/>
        </p:blipFill>
        <p:spPr>
          <a:xfrm>
            <a:off x="1979640" y="2781360"/>
            <a:ext cx="48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99043"/>
                </a:solidFill>
                <a:latin typeface="Garamond"/>
              </a:rPr>
              <a:t>"Умеете ли вы любить своего ребенка"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еловек меняется не от манипуляций, которые с ним проделывают, не от воздействий, а только от собственных душевных движений, возникающих в его отношениях с людьми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. Соловейч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33"/>
                </a:solidFill>
                <a:uFillTx/>
                <a:latin typeface="Garamond"/>
                <a:ea typeface="Times New Roman"/>
              </a:rPr>
              <a:t>Восемь ошибок в воспитании,</a:t>
            </a:r>
            <a:br>
              <a:rPr sz="3200"/>
            </a:br>
            <a:r>
              <a:rPr b="1" lang="ru-RU" sz="3200" spc="-1" strike="noStrike" u="sng">
                <a:solidFill>
                  <a:srgbClr val="006633"/>
                </a:solidFill>
                <a:uFillTx/>
                <a:latin typeface="Garamond"/>
                <a:ea typeface="Times New Roman"/>
              </a:rPr>
              <a:t> которые все когда-нибудь совершали.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родители воспитывают детей в меру своего умения и понимания жизни и редко задумываются о том, почему в определенных ситуациях поступают так, а не иначе. Однако у каждой мамы бывают в жизни моменты, когда поведение любимого ребенка ставит её в тупик. А может быть, сами взрослые, применяя радикальные методы воспитания, делают нечто такое, из-за чего потом бывает стыдно. В своих ошибках вы не одиноки, все родители их время от времени совершают. Но всегда лучше учиться на чужих ошибках, чем на своих, не правда ли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33"/>
                </a:solidFill>
                <a:latin typeface="Garamond"/>
                <a:ea typeface="Times New Roman"/>
              </a:rPr>
              <a:t>1.  </a:t>
            </a:r>
            <a:r>
              <a:rPr b="1" lang="ru-RU" sz="4800" spc="-1" strike="noStrike">
                <a:solidFill>
                  <a:srgbClr val="006633"/>
                </a:solidFill>
                <a:latin typeface="Garamond"/>
                <a:ea typeface="Times New Roman"/>
              </a:rPr>
              <a:t>Обещание больше не любить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«Если ты не будешь таким, как я хочу, я больше не буду тебя люб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дети так часто спорят по поводу любой нашей просьбы? Может быть, они делают  это нам на зло. Как быть? Призывать к здравому смыслу? Да они просто не слышат, что взрослые им говорят. Угрожать? Это больше не действует. В таких случаях многие используют своеобразную козырную карту: «теперь мамочка больше не будет любить тебя». Как часто многие из нас используют эту фраз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2.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Безразличие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Делай что хочешь, мне все равно</a:t>
            </a:r>
            <a:r>
              <a:rPr b="1" i="1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     </a:t>
            </a: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8686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чем напрягаться? Спорить, искать аргументы, доказывать что-то малышу, нервничать? Ребенок сам должен научиться решать свои проблемы. И вообще, ребенка надо готовить к взрослой жизни, пусть он скорее станет самостоятельным. А нас оставит в по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6043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3. 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Слишком много строгости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Ты должен делать то, что тебе сказали, потому что я в доме главная</a:t>
            </a:r>
            <a:r>
              <a:rPr b="0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должны слушаться старших беспрекословно – это самый важный в воспитании принцип. Дискуссии здесь не допустимы. Неважно, сколько ребенку – 6 или 16 лет. Детям нельзя давать поблажек, иначе они окончательно сядут нам на ше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4.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 Детей надо баловать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Пожалуй, я сделаю это сама. Моему </a:t>
            </a:r>
            <a:r>
              <a:rPr b="0" lang="ru-RU" sz="4000" spc="-1" strike="noStrike">
                <a:solidFill>
                  <a:srgbClr val="cc3300"/>
                </a:solidFill>
                <a:latin typeface="Garamond"/>
              </a:rPr>
              <a:t>ребенку </a:t>
            </a: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это  по силам»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готовы все сделать для нашего малыша, ведь дети должны получать самое лучшее. Детство такая короткая пора, поэтому оно должно быть прекрасным. Нравоучения, неудачи, неудовлетворенность – в наших силах избавить малышей от всех трудностей и неприятностей. Так приятно угадывать и исполнять любое желание ребен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5.</a:t>
            </a:r>
            <a:r>
              <a:rPr b="1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     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Навязанная роль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Мой ребенок - мой лучший друг».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– главное в нашей жизни, он такой смышленый, и с ним можно говорить обо всем. Он понимает нас, прямо как настоящий взрослый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8:52:16Z</dcterms:created>
  <dc:creator>User</dc:creator>
  <dc:description/>
  <dc:language>en-US</dc:language>
  <cp:lastModifiedBy>Работа</cp:lastModifiedBy>
  <dcterms:modified xsi:type="dcterms:W3CDTF">2017-12-13T07:21:23Z</dcterms:modified>
  <cp:revision>30</cp:revision>
  <dc:subject/>
  <dc:title>Родительское собрание</dc:title>
</cp:coreProperties>
</file>