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96D5-07AD-4E9C-8C7D-4F9868755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741-67E9-4575-9BDD-295C18EF0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3AD-F4BD-4BAA-8B79-736C375BC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40EE-A96C-46E9-86AD-E5B5F806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6CD17-7CEC-4371-8BA4-AE5CB99E5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1119-42B1-416E-B61E-6918D7B1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134FA-915B-4599-8A3C-965A4C32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5C03-C538-4511-BC69-EB0C318A8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C09DF-8225-45A0-8810-03BEDB328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0C4-5F25-41E8-BB9E-D79A5C21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22DFB-CC4B-4688-8D01-BB09D915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C82A-4C15-4DFA-B45D-3652D5D0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F5DC-49F0-4F4F-89D3-EE602B04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1AFB-126D-4A30-A668-74DD6942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45C37-ADCF-47C4-9AE6-5FC50A515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A8C0-48F1-45D6-8B94-38E0B929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2687-ACDD-419B-A84E-79B62E6E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1627-017A-4270-9235-C709A6B2D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EEB-6B05-46F1-9F62-D096F887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A050-FFB6-459F-85E2-C4D4E7F4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93EC-847B-458D-BE6D-EEA3AB36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38F3-5503-4ACC-B26D-A0B1A698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B10-3EA5-46E1-ADDF-2EABD4CE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A5ED-5F96-4F13-B52D-66816E68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8677-B24C-4903-B0FB-ECFF81B5E9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6F0E-7978-4E15-AE95-F2F21970A5F7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384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199043"/>
                </a:solidFill>
                <a:latin typeface="Garamond"/>
              </a:rPr>
              <a:t>Родительское собрани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68360" y="3141720"/>
            <a:ext cx="8066160" cy="25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99043"/>
                </a:solidFill>
                <a:latin typeface="Arial"/>
              </a:rPr>
              <a:t>«Умеете ли вы любить своего ребен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Воспитатели старшей групп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Шандибаева Дабажит Пурбу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99043"/>
                </a:solidFill>
                <a:latin typeface="Arial"/>
              </a:rPr>
              <a:t>Пурбуева Евгения Баировна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baby04"/>
          <p:cNvPicPr/>
          <p:nvPr/>
        </p:nvPicPr>
        <p:blipFill>
          <a:blip r:embed="rId1"/>
          <a:stretch/>
        </p:blipFill>
        <p:spPr>
          <a:xfrm>
            <a:off x="533520" y="0"/>
            <a:ext cx="1981080" cy="174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6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</a:rPr>
              <a:t>.</a:t>
            </a:r>
            <a:r>
              <a:rPr b="0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«Больше денег - лучше воспитание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ы слишком стеснены в средствах, поэтому не можем себе даже позволить побаловать ребенка, постоянно приходится ему во всем отказывать, он донашивает старые вещи и т.п. Словом, будь у нас больше денег, мы бы были лучшими родител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7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Ваше настроение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жно или нет? Это зависит от настроения»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Неприятности на работе, плохое настроение в семье, как часто взрослые «выпускают пар» на ребенка. Многие уверенны, что в этом нет ничего страшного. Достаточно потом пригласить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бенк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купить давно обещанную игрушку, и все будет в поряд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8. </a:t>
            </a:r>
            <a:r>
              <a:rPr b="1" lang="ru-RU" sz="36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ало времени для воспитания ребенка.</a:t>
            </a:r>
            <a:br>
              <a:rPr sz="3600"/>
            </a:br>
            <a:r>
              <a:rPr b="0" lang="ru-RU" sz="36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К сожалению, у меня совершенно нет времени для тебя».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9144000" cy="349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Многие взрослые очень загружены на работе, но каждую свою свободную минутку стараются проводить с детьми: они отводят их в сад и в школу, готовят для них, стирают, покупают все, что им нужно. Дети должны сами понимать, что у родителей просто нет времени поиграть и почитать с ним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7030a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06240" y="277920"/>
            <a:ext cx="71802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МБДОУ детский сад «Булжамуур»</a:t>
            </a:r>
            <a:br>
              <a:rPr sz="4200"/>
            </a:b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7200" spc="-1" strike="noStrike">
                <a:solidFill>
                  <a:srgbClr val="ffc000"/>
                </a:solidFill>
                <a:latin typeface="Arial"/>
                <a:ea typeface="Arial"/>
              </a:rPr>
              <a:t>Группа «Наран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upsik"/>
          <p:cNvPicPr/>
          <p:nvPr/>
        </p:nvPicPr>
        <p:blipFill>
          <a:blip r:embed="rId1"/>
          <a:stretch/>
        </p:blipFill>
        <p:spPr>
          <a:xfrm>
            <a:off x="228600" y="152280"/>
            <a:ext cx="104616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F:\DCIM\100CANON\IMG_3788.JPG"/>
          <p:cNvPicPr/>
          <p:nvPr/>
        </p:nvPicPr>
        <p:blipFill>
          <a:blip r:embed="rId2"/>
          <a:stretch/>
        </p:blipFill>
        <p:spPr>
          <a:xfrm>
            <a:off x="1979640" y="2781360"/>
            <a:ext cx="4860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199043"/>
                </a:solidFill>
                <a:latin typeface="Garamond"/>
              </a:rPr>
              <a:t>"Умеете ли вы любить своего ребенка"</a:t>
            </a:r>
            <a:br>
              <a:rPr sz="4200"/>
            </a:b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Человек меняется не от манипуляций, которые с ним проделывают, не от воздействий, а только от собственных душевных движений, возникающих в его отношениях с людьми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. Соловейч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Восемь ошибок в воспитании,</a:t>
            </a:r>
            <a:br>
              <a:rPr sz="3200"/>
            </a:br>
            <a:r>
              <a:rPr b="1" lang="ru-RU" sz="3200" spc="-1" strike="noStrike" u="sng">
                <a:solidFill>
                  <a:srgbClr val="006633"/>
                </a:solidFill>
                <a:uFillTx/>
                <a:latin typeface="Garamond"/>
                <a:ea typeface="Times New Roman"/>
              </a:rPr>
              <a:t> которые все когда-нибудь совершали.</a:t>
            </a:r>
            <a:br>
              <a:rPr sz="3200"/>
            </a:br>
            <a:endParaRPr b="0" lang="en-US" sz="3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Все родители воспитывают детей в меру своего умения и понимания жизни и редко задумываются о том, почему в определенных ситуациях поступают так, а не иначе. Однако у каждой мамы бывают в жизни моменты, когда поведение любимого ребенка ставит её в тупик. А может быть, сами взрослые, применяя радикальные методы воспитания, делают нечто такое, из-за чего потом бывает стыдно. В своих ошибках вы не одиноки, все родители их время от времени совершают. Но всегда лучше учиться на чужих ошибках, чем на своих, не правда ли?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1.  </a:t>
            </a:r>
            <a:r>
              <a:rPr b="1" lang="ru-RU" sz="4800" spc="-1" strike="noStrike">
                <a:solidFill>
                  <a:srgbClr val="006633"/>
                </a:solidFill>
                <a:latin typeface="Garamond"/>
                <a:ea typeface="Times New Roman"/>
              </a:rPr>
              <a:t>Обещание больше не любить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«Если ты не будешь таким, как я хочу, я больше не буду тебя люби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очему дети так часто спорят по поводу любой нашей просьбы? Может быть, они делают  это нам на зло. Как быть? Призывать к здравому смыслу? Да они просто не слышат, что взрослые им говорят. Угрожать? Это больше не действует. В таких случаях многие используют своеобразную козырную карту: «теперь мамочка больше не будет любить тебя». Как часто многие из нас используют эту фразу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2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Безразличие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Делай что хочешь, мне все равно</a:t>
            </a:r>
            <a:r>
              <a:rPr b="1" i="1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     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868680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чем напрягаться? Спорить, искать аргументы, доказывать что-то малышу, нервничать? Ребенок сам должен научиться решать свои проблемы. И вообще, ребенка надо готовить к взрослой жизни, пусть он скорее станет самостоятельным. А нас оставит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60436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3.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Слишком много строгости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Ты должен делать то, что тебе сказали, потому что я в доме главная</a:t>
            </a:r>
            <a:r>
              <a:rPr b="0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»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707920"/>
            <a:ext cx="8229600" cy="34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Дети должны слушаться старших беспрекословно – это самый важный в воспитании принцип. Дискуссии здесь не допустимы. Неважно, сколько ребенку – 6 или 16 лет. Детям нельзя давать поблажек, иначе они окончательно сядут нам на шею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33"/>
                </a:solidFill>
                <a:latin typeface="Garamond"/>
              </a:rPr>
              <a:t>4.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 Детей надо баловат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Пожалуй, я сделаю это сама. Моем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</a:rPr>
              <a:t>ребенку </a:t>
            </a: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это  по силам».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565360"/>
            <a:ext cx="822960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Мы готовы все сделать для нашего малыша, ведь дети должны получать самое лучшее. Детство такая короткая пора, поэтому оно должно быть прекрасным. Нравоучения, неудачи, неудовлетворенность – в наших силах избавить малышей от всех трудностей и неприятностей. Так приятно угадывать и исполнять любое желание ребен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33"/>
                </a:solidFill>
                <a:latin typeface="Garamond"/>
              </a:rPr>
              <a:t>5.</a:t>
            </a:r>
            <a:r>
              <a:rPr b="1" i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     </a:t>
            </a:r>
            <a:r>
              <a:rPr b="1" lang="ru-RU" sz="4000" spc="-1" strike="noStrike">
                <a:solidFill>
                  <a:srgbClr val="006633"/>
                </a:solidFill>
                <a:latin typeface="Garamond"/>
                <a:ea typeface="Times New Roman"/>
              </a:rPr>
              <a:t>Навязанная роль.</a:t>
            </a:r>
            <a:br>
              <a:rPr sz="4000"/>
            </a:br>
            <a:r>
              <a:rPr b="0" lang="ru-RU" sz="4000" spc="-1" strike="noStrike">
                <a:solidFill>
                  <a:srgbClr val="cc3300"/>
                </a:solidFill>
                <a:latin typeface="Garamond"/>
                <a:ea typeface="Times New Roman"/>
              </a:rPr>
              <a:t>«Мой ребенок - мой лучший друг».</a:t>
            </a:r>
            <a:br>
              <a:rPr sz="4000"/>
            </a:b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r>
              <a:rPr b="0" i="1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Мнение родителей. 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Ребенок – главное в нашей жизни, он такой смышленый, и с ним можно говорить обо всем. Он понимает нас, прямо как настоящий взрослый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8:52:16Z</dcterms:created>
  <dc:creator>User</dc:creator>
  <dc:description/>
  <dc:language>en-US</dc:language>
  <cp:lastModifiedBy>Работа</cp:lastModifiedBy>
  <dcterms:modified xsi:type="dcterms:W3CDTF">2017-12-13T07:21:23Z</dcterms:modified>
  <cp:revision>30</cp:revision>
  <dc:subject/>
  <dc:title>Родительское собрание</dc:title>
</cp:coreProperties>
</file>