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CFF-95F4-4F87-8520-5A8E200A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821-790D-4BF2-ACDC-A6A6B2E1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7FD-17C0-47A0-93FE-265064CA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155-F57D-48F2-BDB3-77272D09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05C8-E97C-4D37-95E6-68A04F95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B7CD-A0BC-4F9F-98D0-97371C0C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7624-74EE-486D-963B-5F1FD349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A138-E5AA-4F84-90DB-EDF5A7C8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2B10-35C6-4CA4-9B5A-5BE57525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0A0F-16DE-4C9F-9AD8-69B18B8B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5085-D66D-4DBC-A711-D6702BCE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914-34DA-4337-AF0A-74013164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CFAD-1C5C-4A85-AB8D-3CAFAE4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7551-6701-4F9C-8FD8-DC644E6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695E-BDD3-4193-8613-9F4F9134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D5AF-1C73-4F2D-9215-F946B839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5D47-694E-4BF2-8C87-FC1B2B86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289-684C-462E-9543-ABCB8F1F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8B6-A34D-4BC3-A797-6B68DBEC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AB0-F40C-4596-888C-CA45FFB0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9A3-2059-4E38-8230-5973AA86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E2C-1757-448A-A57D-51AA126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81C-758C-4543-AA38-D044C12D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952-F56D-43E1-9214-3C0409C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6949-3AB4-4753-A198-FA86CCBA45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247E-9553-4829-9C6C-28E5A861978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84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99043"/>
                </a:solidFill>
                <a:latin typeface="Garamond"/>
              </a:rPr>
              <a:t>Родительское собра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3141720"/>
            <a:ext cx="806616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9043"/>
                </a:solidFill>
                <a:latin typeface="Arial"/>
              </a:rPr>
              <a:t>«Умеете ли вы любить своего ребе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Воспитатели старшей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Шандибаева Дабажит Пурбу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Пурбуева Евгения Баировна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baby04"/>
          <p:cNvPicPr/>
          <p:nvPr/>
        </p:nvPicPr>
        <p:blipFill>
          <a:blip r:embed="rId1"/>
          <a:stretch/>
        </p:blipFill>
        <p:spPr>
          <a:xfrm>
            <a:off x="533520" y="0"/>
            <a:ext cx="198108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6</a:t>
            </a:r>
            <a:r>
              <a:rPr b="0" i="1" lang="ru-RU" sz="4000" spc="-1" strike="noStrike">
                <a:solidFill>
                  <a:srgbClr val="006633"/>
                </a:solidFill>
                <a:latin typeface="Garamond"/>
              </a:rPr>
              <a:t>.</a:t>
            </a:r>
            <a:r>
              <a:rPr b="0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«Больше денег - лучше воспитание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лишком стеснены в средствах, поэтому не можем себе даже позволить побаловать ребенка, постоянно приходится ему во всем отказывать, он донашивает старые вещи и т.п. Словом, будь у нас больше денег, мы бы были лучшими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7. 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Ваше настроение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Можно или нет? Это зависит от настроения»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риятности на работе, плохое настроение в семье, как часто взрослые «выпускают пар» на ребенка. Многие уверенны, что в этом нет ничего страшного. Достаточно потом пригласи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купить давно обещанную игрушку, и все будет в поряд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8. 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Слишком мало времени для воспитания ребенка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К сожалению, у меня совершенно нет времени для тебя».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Многие взрослые очень загружены на работе, но каждую свою свободную минутку стараются проводить с детьми: они отводят их в сад и в школу, готовят для них, стирают, покупают все, что им нужно. Дети должны сами понимать, что у родителей просто нет времени поиграть и почитать с ни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6240" y="277920"/>
            <a:ext cx="7180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99043"/>
                </a:solidFill>
                <a:latin typeface="Garamond"/>
              </a:rPr>
              <a:t>МБДОУ детский сад «Булжамуур»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ffc000"/>
                </a:solidFill>
                <a:latin typeface="Arial"/>
                <a:ea typeface="Arial"/>
              </a:rPr>
              <a:t>Группа «Наран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psik"/>
          <p:cNvPicPr/>
          <p:nvPr/>
        </p:nvPicPr>
        <p:blipFill>
          <a:blip r:embed="rId1"/>
          <a:stretch/>
        </p:blipFill>
        <p:spPr>
          <a:xfrm>
            <a:off x="228600" y="152280"/>
            <a:ext cx="104616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:\DCIM\100CANON\IMG_3788.JPG"/>
          <p:cNvPicPr/>
          <p:nvPr/>
        </p:nvPicPr>
        <p:blipFill>
          <a:blip r:embed="rId2"/>
          <a:stretch/>
        </p:blipFill>
        <p:spPr>
          <a:xfrm>
            <a:off x="1979640" y="2781360"/>
            <a:ext cx="48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99043"/>
                </a:solidFill>
                <a:latin typeface="Garamond"/>
              </a:rPr>
              <a:t>"Умеете ли вы любить своего ребенка"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меняется не от манипуляций, которые с ним проделывают, не от воздействий, а только от собственных душевных движений, возникающих в его отношениях с людьми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 Соловейч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33"/>
                </a:solidFill>
                <a:uFillTx/>
                <a:latin typeface="Garamond"/>
                <a:ea typeface="Times New Roman"/>
              </a:rPr>
              <a:t>Восемь ошибок в воспитании,</a:t>
            </a:r>
            <a:br>
              <a:rPr sz="3200"/>
            </a:br>
            <a:r>
              <a:rPr b="1" lang="ru-RU" sz="3200" spc="-1" strike="noStrike" u="sng">
                <a:solidFill>
                  <a:srgbClr val="006633"/>
                </a:solidFill>
                <a:uFillTx/>
                <a:latin typeface="Garamond"/>
                <a:ea typeface="Times New Roman"/>
              </a:rPr>
              <a:t> которые все когда-нибудь совершали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родители воспитывают детей в меру своего умения и понимания жизни и редко задумываются о том, почему в определенных ситуациях поступают так, а не иначе. Однако у каждой мамы бывают в жизни моменты, когда поведение любимого ребенка ставит её в тупик. А может быть, сами взрослые, применяя радикальные методы воспитания, делают нечто такое, из-за чего потом бывает стыдно. В своих ошибках вы не одиноки, все родители их время от времени совершают. Но всегда лучше учиться на чужих ошибках, чем на своих, не правда ли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33"/>
                </a:solidFill>
                <a:latin typeface="Garamond"/>
                <a:ea typeface="Times New Roman"/>
              </a:rPr>
              <a:t>1.  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  <a:ea typeface="Times New Roman"/>
              </a:rPr>
              <a:t>Обещание больше не любить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«Если ты не будешь таким, как я хочу, я больше не буду тебя люб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дети так часто спорят по поводу любой нашей просьбы? Может быть, они делают  это нам на зло. Как быть? Призывать к здравому смыслу? Да они просто не слышат, что взрослые им говорят. Угрожать? Это больше не действует. В таких случаях многие используют своеобразную козырную карту: «теперь мамочка больше не будет любить тебя». Как часто многие из нас используют эту фраз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2.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Безразличие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Делай что хочешь, мне все равно</a:t>
            </a:r>
            <a:r>
              <a:rPr b="1" i="1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     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8686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ем напрягаться? Спорить, искать аргументы, доказывать что-то малышу, нервничать? Ребенок сам должен научиться решать свои проблемы. И вообще, ребенка надо готовить к взрослой жизни, пусть он скорее станет самостоятельным. А нас оставит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3. 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Слишком много строгости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Ты должен делать то, что тебе сказали, потому что я в доме главная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должны слушаться старших беспрекословно – это самый важный в воспитании принцип. Дискуссии здесь не допустимы. Неважно, сколько ребенку – 6 или 16 лет. Детям нельзя давать поблажек, иначе они окончательно сядут нам на ше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4.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 Детей надо баловать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Пожалуй, я сделаю это сама. Моему 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</a:rPr>
              <a:t>ребенку 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это  по силам»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готовы все сделать для нашего малыша, ведь дети должны получать самое лучшее. Детство такая короткая пора, поэтому оно должно быть прекрасным. Нравоучения, неудачи, неудовлетворенность – в наших силах избавить малышей от всех трудностей и неприятностей. Так приятно угадывать и исполнять любое желание ребен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5.</a:t>
            </a: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     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Навязанная роль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Мой ребенок - мой лучший друг».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– главное в нашей жизни, он такой смышленый, и с ним можно говорить обо всем. Он понимает нас, прямо как настоящий взрослы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8:52:16Z</dcterms:created>
  <dc:creator>User</dc:creator>
  <dc:description/>
  <dc:language>en-US</dc:language>
  <cp:lastModifiedBy>Работа</cp:lastModifiedBy>
  <dcterms:modified xsi:type="dcterms:W3CDTF">2017-12-13T07:21:23Z</dcterms:modified>
  <cp:revision>30</cp:revision>
  <dc:subject/>
  <dc:title>Родительское собрание</dc:title>
</cp:coreProperties>
</file>