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8.jpeg" ContentType="image/jpeg"/>
  <Override PartName="/ppt/media/image5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25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27.gif" ContentType="image/gif"/>
  <Override PartName="/ppt/media/image7.png" ContentType="image/png"/>
  <Override PartName="/ppt/media/image22.jpeg" ContentType="image/jpeg"/>
  <Override PartName="/ppt/media/image9.png" ContentType="image/png"/>
  <Override PartName="/ppt/media/image17.wmf" ContentType="image/x-wmf"/>
  <Override PartName="/ppt/media/image31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5.wmf" ContentType="image/x-wmf"/>
  <Override PartName="/ppt/media/image19.gif" ContentType="image/gif"/>
  <Override PartName="/ppt/media/image21.gif" ContentType="image/gif"/>
  <Override PartName="/ppt/media/image14.gif" ContentType="image/gif"/>
  <Override PartName="/ppt/media/image16.gif" ContentType="image/gif"/>
  <Override PartName="/ppt/media/image18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0.jpeg" ContentType="image/jpeg"/>
  <Override PartName="/ppt/media/image26.gif" ContentType="image/gi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25F-CEDF-4170-9642-ABE06340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398-022B-4A13-9782-EF8B93C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2D68B-30AA-4C6C-90C9-2BBBCF35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1EE66-3AEB-42E3-8976-8C65080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0EA98-0EB8-46B3-A14F-8F9B8E36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D8FFE-5AC3-4041-8AD8-C5DDEAD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80296-D4C7-4130-8944-9326591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DDBDF-B992-4C8F-BFE3-1E14691D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7243E-2F3D-4D79-ABB9-93795E23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3F4AA-11F9-45CF-9C51-B95B86DF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3929E-8B85-41FB-A984-4445E9AF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DD1CE-9E8D-41EA-BF51-BFFBAE86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4D0-4BDC-468A-AD77-3B7FECC5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4A60E-FD51-4091-BCF6-B2509D1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503CB-0631-41D3-81A5-9C25DFE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2F4AD-78EC-4F0A-918E-249AF31D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E1B2A-E471-471E-B7B2-8E8A08AF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D3210-610E-4734-8994-514823DE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656BB-E3DE-4CB5-AF33-30437B4C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BABE7-4F0A-438C-8AFF-2606763C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C7B99-4AA9-4AB7-9115-1E4A7D0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AA190-AFD9-4610-B967-EE11822E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CA104-ED87-42E3-AC6F-5489BD88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CCE-7992-4FF4-B40B-810CAF93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1C802-5507-4F4C-828B-10B3B363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69964-0822-4F7B-9ADA-A5754ABD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8F6B-0C73-4E48-A8A2-9B3EF13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AE9A4-712C-4FAE-896D-C2764AD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08638-9110-4A79-B125-DE7B6EC0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1409C-EEF2-4AD9-B669-45BD60B2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461DE-2932-4079-BD32-B523E59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974C2-2C57-4344-90A4-5228E837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5761D-4F2C-4BE5-AAF5-E5C03CF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3148A-030A-4FF8-BFD0-CD020D9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E403-5393-43E1-9E68-E37813B3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4D54E-BC97-44C2-A439-332EF3C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E761B-4DCD-42C9-9A16-35FF8704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32801-2564-4344-BC98-2B991771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5B620-13DD-4AA2-BDE5-2DD3051C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E2D60-9A78-443E-9F5F-FFA9158D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CF9C6-549E-4915-8A96-E96174D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5D939-3D12-455E-9AF9-9A27B09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8B8FE-B904-44A4-82AB-D354B04C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D1E64-FFB8-4EA4-9ED5-234512AF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50CF7-3B8A-427C-A479-31C9AD1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B78D-90F9-462A-8038-8FAEED5A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9657D-8DFD-467A-9960-254190D7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B7F4C-26E2-4BB8-9BAF-E1D99212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2C824-B798-4281-B232-3F24E470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213E5-EEAF-4CF3-B487-3AF981E7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28ADE-4A7C-4CA0-8EE8-963D001E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7683B-2F59-4173-9A4A-905EF77A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90424-5688-47B1-9F56-979C0572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06F1C-A13C-4A74-9CE6-39FDF79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D5338-4CD1-47E9-8263-FAD97C09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8C7B6-38F3-4432-9839-CB1834FC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9C7B-0862-4175-89AE-A3D2D790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C48A7-64BB-499C-9657-1D8560C9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2247D-E9B0-4060-B985-70BE800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C55C0-97C6-4BEF-918B-C8B7E47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B4E45-AEDF-4444-B139-B36AB270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27C7C-73CB-459E-961F-637EA28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15ACE-17BB-4F56-A247-864E97AA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C41EB-7431-4722-945C-508A08E5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C9187-5D8A-41A0-BC52-BF973FBD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A1AA7-61FB-4B0C-93CB-FA03AD5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90793-A324-4CB6-B97F-3E2DBD8A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B8CC-21C7-46F6-8D12-DEDD3729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1A24C-DBAC-40CE-ACD4-9888DC83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DAEEC-17D5-4DFD-87E0-013881C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27FC3-2C24-423E-BB4D-02F46D4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3D9A6-9E94-40F4-85F7-63D89F9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D025E-9CAA-4488-9EEF-DED2808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45BF5-83EB-432C-96DF-94B7617A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7EE9C-2DF0-4660-B1F1-31079B4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A4F00-A9A0-46C2-A6FD-1AC47AE8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A04BE-6C9E-4DCB-8FB7-ACA4AE8C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BD018-708F-4B9D-AE03-A76D716B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BDC8-E2E5-47B0-8E30-75470C8C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595FC-EFCD-4000-8A0E-C0F32110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CEA27-B4C5-4BCF-93B8-8F4C2F27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6DE8E-8255-48CB-8C1D-66FC2BF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6DCFF-BB0B-4522-BF99-470F835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DEDFC-8440-4FB7-9746-79A486D8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E94EC-44DB-46A9-B586-51EAA55E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BC5FB-7070-415E-A083-6E1597D0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591C9-7444-4F29-926B-58E24AD6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0048C-E3DE-40DD-AE13-889FD84B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78BA6-7855-40EF-9924-3E77ECD1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E2BE-B49D-482B-905A-3EBF7DE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32BA0-5ABC-4372-BFFB-AAC68775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CAAC1-0ADD-41F3-AD02-3B925DB4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EDEB3-7FE0-46ED-B3A4-B50FEB3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A2F86-4107-4FCF-8537-B77BA77A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CB041-D100-41A6-A057-67B52D2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E82C6-BCAE-4DDE-B07B-D91471B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99E23-AB27-4AB1-B4CF-8C0754D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BC171-FFA7-47AC-8999-E5ECBE09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8A148-8458-4713-BDA4-E86B0B7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3E4C4-B7B8-41E3-8C35-EB41EA9D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1B0-964E-4D93-829F-DF8F225F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0D80B-B894-4FDE-B7E4-E155BD9A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5E988-877A-4A7E-991B-B8385C84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0ABD8-3AEF-4B55-9F3E-A1458D51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A1A80-F0B0-43F6-B0BA-6D8251E5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D0933-6B87-4D78-9D7A-67593F2C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5BD87-5273-4784-9001-3E697F0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202D6-74DB-4AEC-BEA6-9A5389F7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38F1B-9C3A-40F0-9A72-B52A0EB2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DC6D1-CE22-409C-9482-D817AC79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1766C-406B-4C83-8EE6-F5957C9B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04C-1EEB-46FF-8D11-5D1F8D32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378-95EA-450B-A500-B2152E57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DA18D-D406-486A-9E89-FDE9FB98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BC21E-79B7-423B-BEEA-69ACF00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A3463-F7D6-49E6-B9A0-46B4D8E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D8392-4B00-44F5-9E15-6169248F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2DB73-0384-4263-8C2F-09FE182F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7D57F-06F1-4DE2-8F13-55056CC8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8DB69-2F6E-41CA-BF05-1BBEE977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86F95-C85E-4BC5-9D2C-4A1C3A0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72A72-1BF9-46CF-ABDA-7C2FE45D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9CE66-7B82-48CD-8DFC-7481D001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68B-2460-4A91-9065-E9F98BF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D97E9-295C-4F71-A1F0-30897720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046CA-EF46-488E-8FCE-0DD1291D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B8645-9FAE-48F0-8DBD-C5EAAC3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E566D-AFC4-4C24-A976-034F2E9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D602D-79A9-469E-8CD7-E8FA022E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41261-EE3F-4585-84C8-81E029D9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B3820-0CC2-45B3-99E6-3ED5C4FA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D4EF-25BF-4B53-B1FD-A6971E35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CCD-FBA8-48B7-9C0D-EDC5E1FA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7284-FB38-4001-A8D2-6711CF47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7ABD-5888-4D16-9698-5CC2C8DC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25F8-C0B4-4A8E-9A69-CBF90562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A433-BE6A-4D09-BA8A-B509A713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7B89-A17B-44C9-8E72-9504D3C8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0A4F-EEEC-4A44-8E1A-C4F9AE4A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E41-759F-4BF8-8B05-9E649B03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7F44-9550-4BF2-8C24-018BE3B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005B-B7CD-4CA4-98C3-C33961AC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5270-3E5D-461D-BE9D-E875A16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C707-100C-4C62-A16C-0274C7F2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C3EA-29E2-48ED-A0FA-D27EA2D3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9738-38A4-40F0-8DA8-5FADC366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6551-1EE1-4302-A7C0-B952E78D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D40D-8398-4C44-91D0-BE101D0E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52B2-7408-4420-93C4-19B69BCA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7BD5-3710-49CF-A0F0-29485079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870-7500-465C-9B54-148EF7F3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4E34-48F4-40E6-AF64-8E67890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933FF-2EA8-4068-9A15-10F69DD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0180-2315-4112-8019-69EC4E9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5D59-8583-401B-BF5E-1F76F47A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074B-414F-4608-A523-63C4DBA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6732-4DCB-4F03-8944-020479A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FB4F-6B86-4B5D-8C6D-34D0CABD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D9540-69A3-4FBF-A3B1-264F1C0E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1084-6DCC-4499-BB5C-AD748213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926F-E0C9-4B98-BDA9-74947D23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0B7-FC04-43A6-B759-3E7CB3C7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F708-EA18-4CBC-AEDA-3513841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B0A5B-B5E3-4826-AEF3-B7A6461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C7EE-FAE4-4644-B626-8AD4EA8E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BB4E-EF48-47BD-A62B-A33D9AB8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DFBC-6D12-4606-A1A6-723ADFD3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9ECF5-CE9A-4AF1-A8CF-B7627EA1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5CB82-BA33-4F0E-8CE9-5087D5B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3735-765A-4B2F-8869-DF727CB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2E08-7E3F-414C-8948-BB4ACF35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911C-1D2D-431F-AB0B-69CD2CD5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956-E17F-4B9D-928A-9998977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29B7-577A-4611-9CA2-898FE02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A142-3C5A-4469-A938-3CFD87AD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94928-F005-4F8B-852D-3844F219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DB3E-CB81-4346-AEF7-67664652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1A101-662E-44E0-A1A2-B36B5B59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FB430-73F0-41B4-B569-A826197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5DD61-F038-4710-A8C3-941DE269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EE7E-2411-4A80-BAF4-2219D8C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A0BD-33CB-4C04-8EC7-B6B5BE2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C5DD-ABD0-4A4C-B992-6B1B658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B5A-797A-45CA-94D2-C2177A5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606DC-B33D-4AA4-AA36-DCC11456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9586F-A983-43B2-890E-98FFC83E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3C753-6AAE-4936-BECF-C85EB218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A2FD-76EE-416A-A4C1-80E6BEC4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0E728-EE8C-4FC1-8248-E34C1B5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7CE5-7EFE-4EC4-BA3D-010F23EE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1803-2CE0-46DA-AC67-FC578C64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9D69-667D-43A0-BA1A-14D23090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BD48-E2ED-48E3-AB0D-43EBACE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2C75A-F47E-44EE-9FA2-A0FCD4B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A82-629A-4FDB-A15F-3D47A21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729A0-34EC-4634-BD42-6BBF3802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C0899-1309-4BE7-8EB7-0B2F2A14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0FCA9-7D42-49A4-A7E9-D93828C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14AF-F01D-4C71-875D-1FA99A89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BACB2-E2CB-4895-98CE-227606ED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F2908-A7F8-485B-A800-5CFE2387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45AD9-3B71-4326-AAE1-DF2184CB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098FE-F7E2-404A-8823-6C2382DF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28345-D4D5-4CE0-9964-9110EB86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D4007-6DED-4C1A-A012-B8A53A88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BE2-E69F-44C5-8DA8-7819F11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0437-101C-4C4F-8C7A-DCADD5E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044CB-8096-4D54-A2B3-617E917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A0624-6729-4E00-8377-D16E3AE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3ABBF-A00A-4CA9-8CB0-50828EF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017C4-CE07-4AF0-AE21-1C02222D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80EB-1B08-42F5-89A5-A7FAFB24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2532-738D-4B84-AF75-9A897230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92F8E-49AD-46ED-9869-4C6BD78D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EACFE-530F-4E60-BB3F-12AC4767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60DA2-B573-4B6F-8ED4-2CA763B5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2415-F3D0-4164-B157-9CC82BF153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222-02AF-4D0A-9496-55977FA605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EBF6-B3C4-4257-9A64-3A193987E9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6AE-ED5C-4C5E-88B7-96874A468F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F68-50C6-40D2-8060-3591168886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7E94-D126-4286-9118-1AB23DFA9E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D39F-E5AF-4D52-B9B6-B5C21FDEEA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129D-295C-4E6F-A1AE-966844A446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4572-13CC-4616-B509-C80DDCB419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D9A-AFF9-4D30-BC6C-7738842F97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D8D0-7137-4EE1-AF52-470EE93A50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8977-727A-4AE3-85B7-A5C4B5487F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AD51-EC83-4D24-A0C6-D9343503D1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7A2-2190-47A1-BEB6-6425ED5BC8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B502-49A2-4AA3-85F3-279D65EEE9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E961-14BD-417F-8DA1-08D8AF09F6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136-74AF-423F-8232-6FD6E3E272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54BC-D08D-4FE6-9FC8-71A32DB5EC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4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Прямоугольник 1"/>
          <p:cNvSpPr/>
          <p:nvPr/>
        </p:nvSpPr>
        <p:spPr>
          <a:xfrm>
            <a:off x="900000" y="1557360"/>
            <a:ext cx="76327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00040" indent="-1352520" algn="just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 русского языка в 7 класс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2"/>
          <p:cNvSpPr/>
          <p:nvPr/>
        </p:nvSpPr>
        <p:spPr>
          <a:xfrm>
            <a:off x="3851280" y="486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«Школа № 1795 «Лосиноостров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венкова Диа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519120" y="657360"/>
            <a:ext cx="7940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единять и связывать стараю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равных и неравных в нужный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я совсем не повторяю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ою повторяюсь мног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 flipV="1" rot="10800000">
            <a:off x="6732720" y="5802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Рисунок 1" descr=""/>
          <p:cNvPicPr/>
          <p:nvPr/>
        </p:nvPicPr>
        <p:blipFill>
          <a:blip r:embed="rId1"/>
          <a:stretch/>
        </p:blipFill>
        <p:spPr>
          <a:xfrm>
            <a:off x="5322960" y="1628640"/>
            <a:ext cx="3821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4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оттенки придавать значенья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усилить их без напряж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помочь я форм образовань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гда Глагол на службу призовё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гу вообще подвергнуть отрица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ё то, что кто-нибудь произнес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"/>
          <p:cNvSpPr/>
          <p:nvPr/>
        </p:nvSpPr>
        <p:spPr>
          <a:xfrm flipV="1" rot="10800000">
            <a:off x="7092720" y="56552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Рисунок 1" descr=""/>
          <p:cNvPicPr/>
          <p:nvPr/>
        </p:nvPicPr>
        <p:blipFill>
          <a:blip r:embed="rId1"/>
          <a:stretch/>
        </p:blipFill>
        <p:spPr>
          <a:xfrm>
            <a:off x="4500720" y="3325680"/>
            <a:ext cx="24667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1"/>
          <p:cNvSpPr/>
          <p:nvPr/>
        </p:nvSpPr>
        <p:spPr>
          <a:xfrm>
            <a:off x="111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2"/>
          <p:cNvSpPr/>
          <p:nvPr/>
        </p:nvSpPr>
        <p:spPr>
          <a:xfrm>
            <a:off x="579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1908000" y="2602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Monotype Corsiva"/>
              </a:rPr>
              <a:t>Отредактируйт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14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9" name="Object 22"/>
          <p:cNvGraphicFramePr/>
          <p:nvPr/>
        </p:nvGraphicFramePr>
        <p:xfrm>
          <a:off x="4648320" y="1601640"/>
          <a:ext cx="4038480" cy="21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0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1640"/>
                    <a:ext cx="403848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1" name="Picture 16" descr="AG00090_"/>
          <p:cNvPicPr/>
          <p:nvPr/>
        </p:nvPicPr>
        <p:blipFill>
          <a:blip r:embed="rId4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114480" y="2060640"/>
            <a:ext cx="445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тинная любовь к своя страна немыслима без любовь к свой язык.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К.Пауст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0"/>
          <p:cNvSpPr/>
          <p:nvPr/>
        </p:nvSpPr>
        <p:spPr>
          <a:xfrm>
            <a:off x="4716360" y="1916280"/>
            <a:ext cx="4176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Для я русский язык в неменьшая степень родной с детство, родной на вся жизнь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(Ч.Айтма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3" descr="fairyln"/>
          <p:cNvPicPr/>
          <p:nvPr/>
        </p:nvPicPr>
        <p:blipFill>
          <a:blip r:embed="rId5"/>
          <a:stretch/>
        </p:blipFill>
        <p:spPr>
          <a:xfrm>
            <a:off x="468360" y="5373720"/>
            <a:ext cx="828036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SY00170_"/>
          <p:cNvPicPr/>
          <p:nvPr/>
        </p:nvPicPr>
        <p:blipFill>
          <a:blip r:embed="rId1"/>
          <a:stretch/>
        </p:blipFill>
        <p:spPr>
          <a:xfrm>
            <a:off x="1955880" y="2373480"/>
            <a:ext cx="1041480" cy="6426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" descr="SY00170_"/>
          <p:cNvPicPr/>
          <p:nvPr/>
        </p:nvPicPr>
        <p:blipFill>
          <a:blip r:embed="rId2"/>
          <a:stretch/>
        </p:blipFill>
        <p:spPr>
          <a:xfrm>
            <a:off x="6146640" y="2373480"/>
            <a:ext cx="1041480" cy="6426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4" descr="SY00170_"/>
          <p:cNvPicPr/>
          <p:nvPr/>
        </p:nvPicPr>
        <p:blipFill>
          <a:blip r:embed="rId3"/>
          <a:stretch/>
        </p:blipFill>
        <p:spPr>
          <a:xfrm>
            <a:off x="1957320" y="4713120"/>
            <a:ext cx="1038240" cy="642960"/>
          </a:xfrm>
          <a:prstGeom prst="rect">
            <a:avLst/>
          </a:prstGeom>
          <a:ln w="0">
            <a:noFill/>
          </a:ln>
        </p:spPr>
      </p:pic>
      <p:pic>
        <p:nvPicPr>
          <p:cNvPr id="838" name="Объект 2" descr=""/>
          <p:cNvPicPr/>
          <p:nvPr/>
        </p:nvPicPr>
        <p:blipFill>
          <a:blip r:embed="rId4"/>
          <a:stretch/>
        </p:blipFill>
        <p:spPr>
          <a:xfrm>
            <a:off x="3419640" y="3357720"/>
            <a:ext cx="2322360" cy="342252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5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1"/>
          <p:cNvSpPr/>
          <p:nvPr/>
        </p:nvSpPr>
        <p:spPr>
          <a:xfrm>
            <a:off x="395280" y="568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Если не приложить руки к земле, она не станет золот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519120" y="3881520"/>
            <a:ext cx="290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ыполните синтаксический разбор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34"/>
          <p:cNvSpPr/>
          <p:nvPr/>
        </p:nvSpPr>
        <p:spPr>
          <a:xfrm>
            <a:off x="5992920" y="3808440"/>
            <a:ext cx="290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йдите служебные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4"/>
          <p:cNvSpPr/>
          <p:nvPr/>
        </p:nvSpPr>
        <p:spPr>
          <a:xfrm>
            <a:off x="468360" y="404640"/>
            <a:ext cx="84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се ли части речи вы подчеркну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395280" y="249228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одчеркнули союзы, потому что  они не  указывает на грамматическую роль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юз не станет членом предл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гда свободен, хоть стоит в стр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в сочинении, и в подчи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заменим и помнит рол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6" descr="animflower2"/>
          <p:cNvPicPr/>
          <p:nvPr/>
        </p:nvPicPr>
        <p:blipFill>
          <a:blip r:embed="rId1"/>
          <a:stretch/>
        </p:blipFill>
        <p:spPr>
          <a:xfrm>
            <a:off x="250920" y="5877000"/>
            <a:ext cx="8569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4"/>
          <p:cNvSpPr/>
          <p:nvPr/>
        </p:nvSpPr>
        <p:spPr>
          <a:xfrm>
            <a:off x="179280" y="189000"/>
            <a:ext cx="878544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амостоятельные и  служебные части речи равноп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Служебные части речи имеют общие морфологические признаки с самостоя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лужебные части речи имеют такие же синтаксические функции, как и самостоя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амостоятельные и служебные части речи неравноп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Служебные части речи не бывают членами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К служебным частя речи, как и самостоятельным,  можно задать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Служебные части речи нужны для обслуживания самостоятельных. Они связывают слова, словосочетания в предложения, а так же предложения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К служебным частям речи задать вопрос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5"/>
          <p:cNvSpPr/>
          <p:nvPr/>
        </p:nvSpPr>
        <p:spPr>
          <a:xfrm>
            <a:off x="2987640" y="907920"/>
            <a:ext cx="5918400" cy="315432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Найди правильные отве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10" descr="солнце 219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11"/>
          <p:cNvSpPr/>
          <p:nvPr/>
        </p:nvSpPr>
        <p:spPr>
          <a:xfrm>
            <a:off x="250920" y="4968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179280" y="2492280"/>
            <a:ext cx="194472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изме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2411280" y="2492280"/>
            <a:ext cx="201636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ле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4"/>
          <p:cNvSpPr/>
          <p:nvPr/>
        </p:nvSpPr>
        <p:spPr>
          <a:xfrm>
            <a:off x="4572000" y="2492280"/>
            <a:ext cx="208764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употреб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амостоя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аст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5"/>
          <p:cNvSpPr/>
          <p:nvPr/>
        </p:nvSpPr>
        <p:spPr>
          <a:xfrm>
            <a:off x="6877080" y="2492280"/>
            <a:ext cx="2016000" cy="1441440"/>
          </a:xfrm>
          <a:prstGeom prst="rect">
            <a:avLst/>
          </a:prstGeom>
          <a:solidFill>
            <a:srgbClr val="f4b7ca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а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6"/>
          <p:cNvSpPr/>
          <p:nvPr/>
        </p:nvSpPr>
        <p:spPr>
          <a:xfrm flipH="1">
            <a:off x="1186920" y="907920"/>
            <a:ext cx="280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7"/>
          <p:cNvSpPr/>
          <p:nvPr/>
        </p:nvSpPr>
        <p:spPr>
          <a:xfrm>
            <a:off x="3995640" y="90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8"/>
          <p:cNvSpPr/>
          <p:nvPr/>
        </p:nvSpPr>
        <p:spPr>
          <a:xfrm>
            <a:off x="3995640" y="907920"/>
            <a:ext cx="180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9"/>
          <p:cNvSpPr/>
          <p:nvPr/>
        </p:nvSpPr>
        <p:spPr>
          <a:xfrm>
            <a:off x="4067280" y="836640"/>
            <a:ext cx="38894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6" descr="ship2"/>
          <p:cNvPicPr/>
          <p:nvPr/>
        </p:nvPicPr>
        <p:blipFill>
          <a:blip r:embed="rId2"/>
          <a:stretch/>
        </p:blipFill>
        <p:spPr>
          <a:xfrm>
            <a:off x="500040" y="4786200"/>
            <a:ext cx="2214720" cy="8352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" descr="ship2"/>
          <p:cNvPicPr/>
          <p:nvPr/>
        </p:nvPicPr>
        <p:blipFill>
          <a:blip r:embed="rId3"/>
          <a:stretch/>
        </p:blipFill>
        <p:spPr>
          <a:xfrm flipH="1">
            <a:off x="5143320" y="5143680"/>
            <a:ext cx="2144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4"/>
          <p:cNvSpPr/>
          <p:nvPr/>
        </p:nvSpPr>
        <p:spPr>
          <a:xfrm>
            <a:off x="395280" y="54936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чер  …ночи пробира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члег Иван собра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доль … улице и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т картошку … по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 поля достиг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ки … боки подпир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 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кочкой … п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оком входит … балаг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по – прежнему стоя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й …  … быва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грушка – горб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го вертелся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Arial"/>
                <a:ea typeface="Arial"/>
              </a:rPr>
              <a:t>Слова для спра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105c"/>
                </a:solidFill>
                <a:latin typeface="Arial"/>
                <a:ea typeface="Arial"/>
              </a:rPr>
              <a:t>У, к, вот, на, с, и, по, лишь, словно, но, в, и, не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Рисунок 1" descr=""/>
          <p:cNvPicPr/>
          <p:nvPr/>
        </p:nvPicPr>
        <p:blipFill>
          <a:blip r:embed="rId1"/>
          <a:stretch/>
        </p:blipFill>
        <p:spPr>
          <a:xfrm>
            <a:off x="6462720" y="95400"/>
            <a:ext cx="2681280" cy="268128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5"/>
          <p:cNvSpPr/>
          <p:nvPr/>
        </p:nvSpPr>
        <p:spPr>
          <a:xfrm>
            <a:off x="1042920" y="549360"/>
            <a:ext cx="7129440" cy="5472000"/>
          </a:xfrm>
          <a:prstGeom prst="cloudCallout">
            <a:avLst>
              <a:gd name="adj1" fmla="val 7379"/>
              <a:gd name="adj2" fmla="val -19537"/>
            </a:avLst>
          </a:prstGeom>
          <a:solidFill>
            <a:srgbClr val="ed8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Восстанови текст (по произведению Ершова «Конёк-Горбунок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4" descr="0_980c_38665306_L"/>
          <p:cNvPicPr/>
          <p:nvPr/>
        </p:nvPicPr>
        <p:blipFill>
          <a:blip r:embed="rId1"/>
          <a:stretch/>
        </p:blipFill>
        <p:spPr>
          <a:xfrm>
            <a:off x="0" y="-1108080"/>
            <a:ext cx="18361080" cy="13839840"/>
          </a:xfrm>
          <a:prstGeom prst="rect">
            <a:avLst/>
          </a:prstGeom>
          <a:ln w="0">
            <a:noFill/>
          </a:ln>
        </p:spPr>
      </p:pic>
      <p:sp>
        <p:nvSpPr>
          <p:cNvPr id="864" name="Freeform 8"/>
          <p:cNvSpPr/>
          <p:nvPr/>
        </p:nvSpPr>
        <p:spPr>
          <a:xfrm>
            <a:off x="1176480" y="0"/>
            <a:ext cx="7967520" cy="6837480"/>
          </a:xfrm>
          <a:custGeom>
            <a:avLst/>
            <a:gdLst>
              <a:gd name="textAreaLeft" fmla="*/ 0 w 7967520"/>
              <a:gd name="textAreaRight" fmla="*/ 7967880 w 7967520"/>
              <a:gd name="textAreaTop" fmla="*/ 0 h 6837480"/>
              <a:gd name="textAreaBottom" fmla="*/ 6837840 h 6837480"/>
            </a:gdLst>
            <a:ahLst/>
            <a:rect l="textAreaLeft" t="textAreaTop" r="textAreaRight" b="textAreaBottom"/>
            <a:pathLst>
              <a:path w="5019" h="4307">
                <a:moveTo>
                  <a:pt x="1273" y="1257"/>
                </a:moveTo>
                <a:cubicBezTo>
                  <a:pt x="1259" y="1262"/>
                  <a:pt x="1247" y="1272"/>
                  <a:pt x="1232" y="1272"/>
                </a:cubicBezTo>
                <a:cubicBezTo>
                  <a:pt x="1221" y="1272"/>
                  <a:pt x="1213" y="1261"/>
                  <a:pt x="1203" y="1257"/>
                </a:cubicBezTo>
                <a:cubicBezTo>
                  <a:pt x="1184" y="1248"/>
                  <a:pt x="1172" y="1247"/>
                  <a:pt x="1151" y="1242"/>
                </a:cubicBezTo>
                <a:cubicBezTo>
                  <a:pt x="1086" y="1246"/>
                  <a:pt x="1021" y="1244"/>
                  <a:pt x="959" y="1264"/>
                </a:cubicBezTo>
                <a:cubicBezTo>
                  <a:pt x="957" y="1281"/>
                  <a:pt x="961" y="1301"/>
                  <a:pt x="952" y="1316"/>
                </a:cubicBezTo>
                <a:cubicBezTo>
                  <a:pt x="947" y="1325"/>
                  <a:pt x="932" y="1321"/>
                  <a:pt x="922" y="1323"/>
                </a:cubicBezTo>
                <a:cubicBezTo>
                  <a:pt x="861" y="1335"/>
                  <a:pt x="897" y="1325"/>
                  <a:pt x="856" y="1338"/>
                </a:cubicBezTo>
                <a:cubicBezTo>
                  <a:pt x="834" y="1360"/>
                  <a:pt x="818" y="1383"/>
                  <a:pt x="797" y="1405"/>
                </a:cubicBezTo>
                <a:cubicBezTo>
                  <a:pt x="777" y="1459"/>
                  <a:pt x="765" y="1534"/>
                  <a:pt x="715" y="1567"/>
                </a:cubicBezTo>
                <a:cubicBezTo>
                  <a:pt x="680" y="1620"/>
                  <a:pt x="702" y="1616"/>
                  <a:pt x="642" y="1604"/>
                </a:cubicBezTo>
                <a:cubicBezTo>
                  <a:pt x="634" y="1602"/>
                  <a:pt x="627" y="1599"/>
                  <a:pt x="619" y="1597"/>
                </a:cubicBezTo>
                <a:cubicBezTo>
                  <a:pt x="595" y="1581"/>
                  <a:pt x="570" y="1568"/>
                  <a:pt x="546" y="1552"/>
                </a:cubicBezTo>
                <a:cubicBezTo>
                  <a:pt x="519" y="1513"/>
                  <a:pt x="485" y="1494"/>
                  <a:pt x="442" y="1478"/>
                </a:cubicBezTo>
                <a:cubicBezTo>
                  <a:pt x="388" y="1481"/>
                  <a:pt x="334" y="1480"/>
                  <a:pt x="280" y="1486"/>
                </a:cubicBezTo>
                <a:cubicBezTo>
                  <a:pt x="264" y="1488"/>
                  <a:pt x="235" y="1501"/>
                  <a:pt x="235" y="1501"/>
                </a:cubicBezTo>
                <a:cubicBezTo>
                  <a:pt x="251" y="1560"/>
                  <a:pt x="277" y="1556"/>
                  <a:pt x="331" y="1574"/>
                </a:cubicBezTo>
                <a:cubicBezTo>
                  <a:pt x="346" y="1579"/>
                  <a:pt x="376" y="1589"/>
                  <a:pt x="376" y="1589"/>
                </a:cubicBezTo>
                <a:cubicBezTo>
                  <a:pt x="398" y="1611"/>
                  <a:pt x="414" y="1634"/>
                  <a:pt x="435" y="1656"/>
                </a:cubicBezTo>
                <a:cubicBezTo>
                  <a:pt x="448" y="1698"/>
                  <a:pt x="455" y="1735"/>
                  <a:pt x="487" y="1766"/>
                </a:cubicBezTo>
                <a:cubicBezTo>
                  <a:pt x="489" y="1774"/>
                  <a:pt x="490" y="1782"/>
                  <a:pt x="494" y="1789"/>
                </a:cubicBezTo>
                <a:cubicBezTo>
                  <a:pt x="500" y="1798"/>
                  <a:pt x="512" y="1802"/>
                  <a:pt x="516" y="1811"/>
                </a:cubicBezTo>
                <a:cubicBezTo>
                  <a:pt x="528" y="1838"/>
                  <a:pt x="526" y="1870"/>
                  <a:pt x="531" y="1899"/>
                </a:cubicBezTo>
                <a:cubicBezTo>
                  <a:pt x="515" y="1944"/>
                  <a:pt x="491" y="1993"/>
                  <a:pt x="464" y="2032"/>
                </a:cubicBezTo>
                <a:cubicBezTo>
                  <a:pt x="462" y="2135"/>
                  <a:pt x="461" y="2239"/>
                  <a:pt x="457" y="2342"/>
                </a:cubicBezTo>
                <a:cubicBezTo>
                  <a:pt x="456" y="2370"/>
                  <a:pt x="420" y="2416"/>
                  <a:pt x="420" y="2416"/>
                </a:cubicBezTo>
                <a:cubicBezTo>
                  <a:pt x="422" y="2431"/>
                  <a:pt x="424" y="2471"/>
                  <a:pt x="435" y="2490"/>
                </a:cubicBezTo>
                <a:cubicBezTo>
                  <a:pt x="446" y="2508"/>
                  <a:pt x="472" y="2542"/>
                  <a:pt x="472" y="2542"/>
                </a:cubicBezTo>
                <a:cubicBezTo>
                  <a:pt x="490" y="2597"/>
                  <a:pt x="466" y="2529"/>
                  <a:pt x="494" y="2586"/>
                </a:cubicBezTo>
                <a:cubicBezTo>
                  <a:pt x="512" y="2622"/>
                  <a:pt x="501" y="2643"/>
                  <a:pt x="538" y="2667"/>
                </a:cubicBezTo>
                <a:cubicBezTo>
                  <a:pt x="557" y="2695"/>
                  <a:pt x="574" y="2694"/>
                  <a:pt x="605" y="2704"/>
                </a:cubicBezTo>
                <a:cubicBezTo>
                  <a:pt x="630" y="2744"/>
                  <a:pt x="633" y="2716"/>
                  <a:pt x="656" y="2763"/>
                </a:cubicBezTo>
                <a:cubicBezTo>
                  <a:pt x="654" y="2798"/>
                  <a:pt x="653" y="2832"/>
                  <a:pt x="649" y="2867"/>
                </a:cubicBezTo>
                <a:cubicBezTo>
                  <a:pt x="646" y="2898"/>
                  <a:pt x="617" y="2927"/>
                  <a:pt x="605" y="2955"/>
                </a:cubicBezTo>
                <a:cubicBezTo>
                  <a:pt x="596" y="2974"/>
                  <a:pt x="590" y="2994"/>
                  <a:pt x="583" y="3014"/>
                </a:cubicBezTo>
                <a:cubicBezTo>
                  <a:pt x="580" y="3022"/>
                  <a:pt x="575" y="3037"/>
                  <a:pt x="575" y="3037"/>
                </a:cubicBezTo>
                <a:cubicBezTo>
                  <a:pt x="578" y="3054"/>
                  <a:pt x="575" y="3073"/>
                  <a:pt x="583" y="3088"/>
                </a:cubicBezTo>
                <a:cubicBezTo>
                  <a:pt x="587" y="3095"/>
                  <a:pt x="597" y="3094"/>
                  <a:pt x="605" y="3096"/>
                </a:cubicBezTo>
                <a:cubicBezTo>
                  <a:pt x="649" y="3107"/>
                  <a:pt x="694" y="3108"/>
                  <a:pt x="738" y="3118"/>
                </a:cubicBezTo>
                <a:cubicBezTo>
                  <a:pt x="773" y="3142"/>
                  <a:pt x="776" y="3158"/>
                  <a:pt x="789" y="3199"/>
                </a:cubicBezTo>
                <a:cubicBezTo>
                  <a:pt x="797" y="3225"/>
                  <a:pt x="832" y="3262"/>
                  <a:pt x="848" y="3288"/>
                </a:cubicBezTo>
                <a:cubicBezTo>
                  <a:pt x="862" y="3286"/>
                  <a:pt x="914" y="3284"/>
                  <a:pt x="937" y="3273"/>
                </a:cubicBezTo>
                <a:cubicBezTo>
                  <a:pt x="988" y="3247"/>
                  <a:pt x="926" y="3266"/>
                  <a:pt x="989" y="3251"/>
                </a:cubicBezTo>
                <a:cubicBezTo>
                  <a:pt x="1018" y="3229"/>
                  <a:pt x="1035" y="3215"/>
                  <a:pt x="1070" y="3206"/>
                </a:cubicBezTo>
                <a:cubicBezTo>
                  <a:pt x="1118" y="3175"/>
                  <a:pt x="1140" y="3186"/>
                  <a:pt x="1203" y="3192"/>
                </a:cubicBezTo>
                <a:cubicBezTo>
                  <a:pt x="1228" y="3198"/>
                  <a:pt x="1252" y="3205"/>
                  <a:pt x="1277" y="3214"/>
                </a:cubicBezTo>
                <a:cubicBezTo>
                  <a:pt x="1309" y="3262"/>
                  <a:pt x="1346" y="3303"/>
                  <a:pt x="1373" y="3354"/>
                </a:cubicBezTo>
                <a:cubicBezTo>
                  <a:pt x="1378" y="3393"/>
                  <a:pt x="1387" y="3457"/>
                  <a:pt x="1417" y="3487"/>
                </a:cubicBezTo>
                <a:cubicBezTo>
                  <a:pt x="1424" y="3494"/>
                  <a:pt x="1437" y="3492"/>
                  <a:pt x="1447" y="3494"/>
                </a:cubicBezTo>
                <a:cubicBezTo>
                  <a:pt x="1470" y="3518"/>
                  <a:pt x="1494" y="3526"/>
                  <a:pt x="1513" y="3553"/>
                </a:cubicBezTo>
                <a:cubicBezTo>
                  <a:pt x="1553" y="3684"/>
                  <a:pt x="1722" y="3680"/>
                  <a:pt x="1831" y="3686"/>
                </a:cubicBezTo>
                <a:cubicBezTo>
                  <a:pt x="1873" y="3684"/>
                  <a:pt x="1915" y="3688"/>
                  <a:pt x="1956" y="3679"/>
                </a:cubicBezTo>
                <a:cubicBezTo>
                  <a:pt x="1983" y="3673"/>
                  <a:pt x="2003" y="3648"/>
                  <a:pt x="2030" y="3642"/>
                </a:cubicBezTo>
                <a:cubicBezTo>
                  <a:pt x="2052" y="3620"/>
                  <a:pt x="2074" y="3598"/>
                  <a:pt x="2096" y="3576"/>
                </a:cubicBezTo>
                <a:cubicBezTo>
                  <a:pt x="2121" y="3551"/>
                  <a:pt x="2176" y="3537"/>
                  <a:pt x="2207" y="3517"/>
                </a:cubicBezTo>
                <a:cubicBezTo>
                  <a:pt x="2244" y="3519"/>
                  <a:pt x="2282" y="3515"/>
                  <a:pt x="2318" y="3524"/>
                </a:cubicBezTo>
                <a:cubicBezTo>
                  <a:pt x="2325" y="3526"/>
                  <a:pt x="2320" y="3541"/>
                  <a:pt x="2325" y="3546"/>
                </a:cubicBezTo>
                <a:cubicBezTo>
                  <a:pt x="2330" y="3551"/>
                  <a:pt x="2340" y="3551"/>
                  <a:pt x="2347" y="3553"/>
                </a:cubicBezTo>
                <a:cubicBezTo>
                  <a:pt x="2413" y="3655"/>
                  <a:pt x="2395" y="3605"/>
                  <a:pt x="2599" y="3613"/>
                </a:cubicBezTo>
                <a:cubicBezTo>
                  <a:pt x="2618" y="3672"/>
                  <a:pt x="2589" y="3603"/>
                  <a:pt x="2628" y="3642"/>
                </a:cubicBezTo>
                <a:cubicBezTo>
                  <a:pt x="2649" y="3663"/>
                  <a:pt x="2623" y="3676"/>
                  <a:pt x="2672" y="3694"/>
                </a:cubicBezTo>
                <a:cubicBezTo>
                  <a:pt x="2729" y="3657"/>
                  <a:pt x="2699" y="3652"/>
                  <a:pt x="2776" y="3642"/>
                </a:cubicBezTo>
                <a:cubicBezTo>
                  <a:pt x="2824" y="3651"/>
                  <a:pt x="2829" y="3666"/>
                  <a:pt x="2879" y="3657"/>
                </a:cubicBezTo>
                <a:cubicBezTo>
                  <a:pt x="2891" y="3659"/>
                  <a:pt x="2906" y="3657"/>
                  <a:pt x="2916" y="3664"/>
                </a:cubicBezTo>
                <a:cubicBezTo>
                  <a:pt x="2922" y="3668"/>
                  <a:pt x="2917" y="3681"/>
                  <a:pt x="2923" y="3686"/>
                </a:cubicBezTo>
                <a:cubicBezTo>
                  <a:pt x="2931" y="3693"/>
                  <a:pt x="2943" y="3691"/>
                  <a:pt x="2953" y="3694"/>
                </a:cubicBezTo>
                <a:cubicBezTo>
                  <a:pt x="2971" y="3667"/>
                  <a:pt x="2972" y="3640"/>
                  <a:pt x="2990" y="3613"/>
                </a:cubicBezTo>
                <a:cubicBezTo>
                  <a:pt x="3003" y="3349"/>
                  <a:pt x="2982" y="3552"/>
                  <a:pt x="3027" y="3428"/>
                </a:cubicBezTo>
                <a:cubicBezTo>
                  <a:pt x="3036" y="3369"/>
                  <a:pt x="3075" y="3325"/>
                  <a:pt x="3086" y="3265"/>
                </a:cubicBezTo>
                <a:cubicBezTo>
                  <a:pt x="3089" y="3250"/>
                  <a:pt x="3090" y="3236"/>
                  <a:pt x="3093" y="3221"/>
                </a:cubicBezTo>
                <a:cubicBezTo>
                  <a:pt x="3098" y="3194"/>
                  <a:pt x="3108" y="3140"/>
                  <a:pt x="3108" y="3140"/>
                </a:cubicBezTo>
                <a:cubicBezTo>
                  <a:pt x="3206" y="3146"/>
                  <a:pt x="3235" y="3136"/>
                  <a:pt x="3285" y="3214"/>
                </a:cubicBezTo>
                <a:cubicBezTo>
                  <a:pt x="3296" y="3284"/>
                  <a:pt x="3274" y="3354"/>
                  <a:pt x="3307" y="3421"/>
                </a:cubicBezTo>
                <a:cubicBezTo>
                  <a:pt x="3311" y="3430"/>
                  <a:pt x="3318" y="3461"/>
                  <a:pt x="3330" y="3465"/>
                </a:cubicBezTo>
                <a:cubicBezTo>
                  <a:pt x="3351" y="3472"/>
                  <a:pt x="3374" y="3470"/>
                  <a:pt x="3396" y="3472"/>
                </a:cubicBezTo>
                <a:cubicBezTo>
                  <a:pt x="3451" y="3466"/>
                  <a:pt x="3463" y="3470"/>
                  <a:pt x="3492" y="3428"/>
                </a:cubicBezTo>
                <a:cubicBezTo>
                  <a:pt x="3520" y="3339"/>
                  <a:pt x="3479" y="3477"/>
                  <a:pt x="3507" y="3221"/>
                </a:cubicBezTo>
                <a:cubicBezTo>
                  <a:pt x="3508" y="3211"/>
                  <a:pt x="3534" y="3184"/>
                  <a:pt x="3544" y="3184"/>
                </a:cubicBezTo>
                <a:cubicBezTo>
                  <a:pt x="3729" y="3177"/>
                  <a:pt x="3913" y="3179"/>
                  <a:pt x="4098" y="3177"/>
                </a:cubicBezTo>
                <a:cubicBezTo>
                  <a:pt x="4131" y="3168"/>
                  <a:pt x="4161" y="3156"/>
                  <a:pt x="4194" y="3147"/>
                </a:cubicBezTo>
                <a:cubicBezTo>
                  <a:pt x="4201" y="3142"/>
                  <a:pt x="4215" y="3142"/>
                  <a:pt x="4216" y="3133"/>
                </a:cubicBezTo>
                <a:cubicBezTo>
                  <a:pt x="4218" y="3117"/>
                  <a:pt x="4206" y="3103"/>
                  <a:pt x="4201" y="3088"/>
                </a:cubicBezTo>
                <a:cubicBezTo>
                  <a:pt x="4199" y="3081"/>
                  <a:pt x="4194" y="3066"/>
                  <a:pt x="4194" y="3066"/>
                </a:cubicBezTo>
                <a:cubicBezTo>
                  <a:pt x="4203" y="2999"/>
                  <a:pt x="4206" y="2972"/>
                  <a:pt x="4223" y="2918"/>
                </a:cubicBezTo>
                <a:cubicBezTo>
                  <a:pt x="4206" y="2810"/>
                  <a:pt x="4262" y="2843"/>
                  <a:pt x="4378" y="2830"/>
                </a:cubicBezTo>
                <a:cubicBezTo>
                  <a:pt x="4399" y="2824"/>
                  <a:pt x="4419" y="2821"/>
                  <a:pt x="4437" y="2808"/>
                </a:cubicBezTo>
                <a:cubicBezTo>
                  <a:pt x="4485" y="2773"/>
                  <a:pt x="4433" y="2793"/>
                  <a:pt x="4482" y="2778"/>
                </a:cubicBezTo>
                <a:cubicBezTo>
                  <a:pt x="4513" y="2757"/>
                  <a:pt x="4550" y="2740"/>
                  <a:pt x="4585" y="2726"/>
                </a:cubicBezTo>
                <a:cubicBezTo>
                  <a:pt x="4592" y="2719"/>
                  <a:pt x="4607" y="2714"/>
                  <a:pt x="4607" y="2704"/>
                </a:cubicBezTo>
                <a:cubicBezTo>
                  <a:pt x="4607" y="2692"/>
                  <a:pt x="4594" y="2683"/>
                  <a:pt x="4585" y="2675"/>
                </a:cubicBezTo>
                <a:cubicBezTo>
                  <a:pt x="4545" y="2640"/>
                  <a:pt x="4538" y="2640"/>
                  <a:pt x="4496" y="2623"/>
                </a:cubicBezTo>
                <a:cubicBezTo>
                  <a:pt x="4477" y="2597"/>
                  <a:pt x="4462" y="2569"/>
                  <a:pt x="4445" y="2542"/>
                </a:cubicBezTo>
                <a:cubicBezTo>
                  <a:pt x="4450" y="2525"/>
                  <a:pt x="4447" y="2503"/>
                  <a:pt x="4459" y="2490"/>
                </a:cubicBezTo>
                <a:cubicBezTo>
                  <a:pt x="4471" y="2476"/>
                  <a:pt x="4542" y="2470"/>
                  <a:pt x="4555" y="2468"/>
                </a:cubicBezTo>
                <a:cubicBezTo>
                  <a:pt x="4607" y="2434"/>
                  <a:pt x="4611" y="2433"/>
                  <a:pt x="4674" y="2424"/>
                </a:cubicBezTo>
                <a:cubicBezTo>
                  <a:pt x="4627" y="2408"/>
                  <a:pt x="4646" y="2423"/>
                  <a:pt x="4659" y="2335"/>
                </a:cubicBezTo>
                <a:cubicBezTo>
                  <a:pt x="4660" y="2327"/>
                  <a:pt x="4661" y="2318"/>
                  <a:pt x="4666" y="2313"/>
                </a:cubicBezTo>
                <a:cubicBezTo>
                  <a:pt x="4686" y="2293"/>
                  <a:pt x="4713" y="2281"/>
                  <a:pt x="4733" y="2261"/>
                </a:cubicBezTo>
                <a:cubicBezTo>
                  <a:pt x="4747" y="2203"/>
                  <a:pt x="4764" y="2157"/>
                  <a:pt x="4711" y="2121"/>
                </a:cubicBezTo>
                <a:cubicBezTo>
                  <a:pt x="4696" y="2099"/>
                  <a:pt x="4670" y="2085"/>
                  <a:pt x="4644" y="2077"/>
                </a:cubicBezTo>
                <a:cubicBezTo>
                  <a:pt x="4610" y="2067"/>
                  <a:pt x="4541" y="2054"/>
                  <a:pt x="4541" y="2054"/>
                </a:cubicBezTo>
                <a:cubicBezTo>
                  <a:pt x="4508" y="2033"/>
                  <a:pt x="4474" y="2027"/>
                  <a:pt x="4437" y="2017"/>
                </a:cubicBezTo>
                <a:cubicBezTo>
                  <a:pt x="4403" y="1996"/>
                  <a:pt x="4376" y="1982"/>
                  <a:pt x="4341" y="1958"/>
                </a:cubicBezTo>
                <a:cubicBezTo>
                  <a:pt x="4334" y="1953"/>
                  <a:pt x="4319" y="1944"/>
                  <a:pt x="4319" y="1944"/>
                </a:cubicBezTo>
                <a:cubicBezTo>
                  <a:pt x="4301" y="1917"/>
                  <a:pt x="4287" y="1895"/>
                  <a:pt x="4260" y="1877"/>
                </a:cubicBezTo>
                <a:cubicBezTo>
                  <a:pt x="4238" y="1808"/>
                  <a:pt x="4233" y="1803"/>
                  <a:pt x="4253" y="1700"/>
                </a:cubicBezTo>
                <a:cubicBezTo>
                  <a:pt x="4255" y="1690"/>
                  <a:pt x="4267" y="1685"/>
                  <a:pt x="4275" y="1678"/>
                </a:cubicBezTo>
                <a:cubicBezTo>
                  <a:pt x="4294" y="1662"/>
                  <a:pt x="4314" y="1648"/>
                  <a:pt x="4334" y="1633"/>
                </a:cubicBezTo>
                <a:cubicBezTo>
                  <a:pt x="4386" y="1594"/>
                  <a:pt x="4464" y="1579"/>
                  <a:pt x="4526" y="1567"/>
                </a:cubicBezTo>
                <a:cubicBezTo>
                  <a:pt x="4548" y="1552"/>
                  <a:pt x="4567" y="1546"/>
                  <a:pt x="4592" y="1537"/>
                </a:cubicBezTo>
                <a:cubicBezTo>
                  <a:pt x="4659" y="1487"/>
                  <a:pt x="4724" y="1446"/>
                  <a:pt x="4807" y="1427"/>
                </a:cubicBezTo>
                <a:cubicBezTo>
                  <a:pt x="4841" y="1404"/>
                  <a:pt x="4865" y="1365"/>
                  <a:pt x="4888" y="1331"/>
                </a:cubicBezTo>
                <a:cubicBezTo>
                  <a:pt x="4893" y="1315"/>
                  <a:pt x="4912" y="1303"/>
                  <a:pt x="4910" y="1286"/>
                </a:cubicBezTo>
                <a:cubicBezTo>
                  <a:pt x="4902" y="1197"/>
                  <a:pt x="4778" y="1202"/>
                  <a:pt x="4718" y="1198"/>
                </a:cubicBezTo>
                <a:cubicBezTo>
                  <a:pt x="4720" y="1191"/>
                  <a:pt x="4722" y="1183"/>
                  <a:pt x="4725" y="1176"/>
                </a:cubicBezTo>
                <a:cubicBezTo>
                  <a:pt x="4729" y="1168"/>
                  <a:pt x="4736" y="1161"/>
                  <a:pt x="4740" y="1153"/>
                </a:cubicBezTo>
                <a:cubicBezTo>
                  <a:pt x="4744" y="1144"/>
                  <a:pt x="4741" y="1132"/>
                  <a:pt x="4747" y="1124"/>
                </a:cubicBezTo>
                <a:cubicBezTo>
                  <a:pt x="4752" y="1116"/>
                  <a:pt x="4762" y="1114"/>
                  <a:pt x="4770" y="1109"/>
                </a:cubicBezTo>
                <a:cubicBezTo>
                  <a:pt x="4779" y="1079"/>
                  <a:pt x="4781" y="1054"/>
                  <a:pt x="4799" y="1028"/>
                </a:cubicBezTo>
                <a:cubicBezTo>
                  <a:pt x="4804" y="932"/>
                  <a:pt x="4780" y="718"/>
                  <a:pt x="4851" y="666"/>
                </a:cubicBezTo>
                <a:cubicBezTo>
                  <a:pt x="4885" y="596"/>
                  <a:pt x="4917" y="578"/>
                  <a:pt x="4962" y="518"/>
                </a:cubicBezTo>
                <a:cubicBezTo>
                  <a:pt x="5019" y="443"/>
                  <a:pt x="4953" y="512"/>
                  <a:pt x="5006" y="459"/>
                </a:cubicBezTo>
                <a:cubicBezTo>
                  <a:pt x="4962" y="321"/>
                  <a:pt x="4726" y="388"/>
                  <a:pt x="4615" y="459"/>
                </a:cubicBezTo>
                <a:cubicBezTo>
                  <a:pt x="4577" y="515"/>
                  <a:pt x="4552" y="524"/>
                  <a:pt x="4504" y="555"/>
                </a:cubicBezTo>
                <a:cubicBezTo>
                  <a:pt x="4477" y="594"/>
                  <a:pt x="4465" y="592"/>
                  <a:pt x="4415" y="600"/>
                </a:cubicBezTo>
                <a:cubicBezTo>
                  <a:pt x="4378" y="612"/>
                  <a:pt x="4343" y="617"/>
                  <a:pt x="4304" y="622"/>
                </a:cubicBezTo>
                <a:cubicBezTo>
                  <a:pt x="4271" y="633"/>
                  <a:pt x="4239" y="643"/>
                  <a:pt x="4208" y="659"/>
                </a:cubicBezTo>
                <a:cubicBezTo>
                  <a:pt x="4149" y="654"/>
                  <a:pt x="4088" y="659"/>
                  <a:pt x="4031" y="644"/>
                </a:cubicBezTo>
                <a:cubicBezTo>
                  <a:pt x="4002" y="636"/>
                  <a:pt x="3989" y="602"/>
                  <a:pt x="3965" y="585"/>
                </a:cubicBezTo>
                <a:cubicBezTo>
                  <a:pt x="3937" y="544"/>
                  <a:pt x="3917" y="519"/>
                  <a:pt x="3869" y="504"/>
                </a:cubicBezTo>
                <a:cubicBezTo>
                  <a:pt x="3858" y="487"/>
                  <a:pt x="3851" y="468"/>
                  <a:pt x="3839" y="452"/>
                </a:cubicBezTo>
                <a:cubicBezTo>
                  <a:pt x="3821" y="427"/>
                  <a:pt x="3810" y="429"/>
                  <a:pt x="3787" y="408"/>
                </a:cubicBezTo>
                <a:cubicBezTo>
                  <a:pt x="3749" y="373"/>
                  <a:pt x="3744" y="357"/>
                  <a:pt x="3699" y="341"/>
                </a:cubicBezTo>
                <a:cubicBezTo>
                  <a:pt x="3670" y="312"/>
                  <a:pt x="3645" y="274"/>
                  <a:pt x="3610" y="253"/>
                </a:cubicBezTo>
                <a:cubicBezTo>
                  <a:pt x="3577" y="233"/>
                  <a:pt x="3529" y="228"/>
                  <a:pt x="3492" y="216"/>
                </a:cubicBezTo>
                <a:cubicBezTo>
                  <a:pt x="3403" y="233"/>
                  <a:pt x="3303" y="218"/>
                  <a:pt x="3211" y="223"/>
                </a:cubicBezTo>
                <a:cubicBezTo>
                  <a:pt x="3146" y="239"/>
                  <a:pt x="3078" y="239"/>
                  <a:pt x="3012" y="245"/>
                </a:cubicBezTo>
                <a:cubicBezTo>
                  <a:pt x="2868" y="240"/>
                  <a:pt x="2770" y="232"/>
                  <a:pt x="2635" y="208"/>
                </a:cubicBezTo>
                <a:cubicBezTo>
                  <a:pt x="2572" y="165"/>
                  <a:pt x="2474" y="141"/>
                  <a:pt x="2399" y="127"/>
                </a:cubicBezTo>
                <a:cubicBezTo>
                  <a:pt x="2387" y="122"/>
                  <a:pt x="2375" y="116"/>
                  <a:pt x="2362" y="112"/>
                </a:cubicBezTo>
                <a:cubicBezTo>
                  <a:pt x="2350" y="108"/>
                  <a:pt x="2337" y="109"/>
                  <a:pt x="2325" y="105"/>
                </a:cubicBezTo>
                <a:cubicBezTo>
                  <a:pt x="2317" y="102"/>
                  <a:pt x="2311" y="94"/>
                  <a:pt x="2303" y="90"/>
                </a:cubicBezTo>
                <a:cubicBezTo>
                  <a:pt x="2264" y="73"/>
                  <a:pt x="2211" y="67"/>
                  <a:pt x="2170" y="61"/>
                </a:cubicBezTo>
                <a:cubicBezTo>
                  <a:pt x="2115" y="23"/>
                  <a:pt x="2043" y="40"/>
                  <a:pt x="1986" y="1"/>
                </a:cubicBezTo>
                <a:cubicBezTo>
                  <a:pt x="1966" y="4"/>
                  <a:pt x="1945" y="0"/>
                  <a:pt x="1927" y="9"/>
                </a:cubicBezTo>
                <a:cubicBezTo>
                  <a:pt x="1917" y="14"/>
                  <a:pt x="1918" y="29"/>
                  <a:pt x="1912" y="38"/>
                </a:cubicBezTo>
                <a:cubicBezTo>
                  <a:pt x="1896" y="60"/>
                  <a:pt x="1876" y="82"/>
                  <a:pt x="1853" y="97"/>
                </a:cubicBezTo>
                <a:cubicBezTo>
                  <a:pt x="1840" y="133"/>
                  <a:pt x="1824" y="159"/>
                  <a:pt x="1786" y="171"/>
                </a:cubicBezTo>
                <a:cubicBezTo>
                  <a:pt x="1505" y="141"/>
                  <a:pt x="1955" y="187"/>
                  <a:pt x="1144" y="157"/>
                </a:cubicBezTo>
                <a:cubicBezTo>
                  <a:pt x="1126" y="156"/>
                  <a:pt x="1041" y="129"/>
                  <a:pt x="1018" y="127"/>
                </a:cubicBezTo>
                <a:cubicBezTo>
                  <a:pt x="989" y="118"/>
                  <a:pt x="964" y="110"/>
                  <a:pt x="937" y="97"/>
                </a:cubicBezTo>
                <a:cubicBezTo>
                  <a:pt x="856" y="100"/>
                  <a:pt x="774" y="95"/>
                  <a:pt x="693" y="105"/>
                </a:cubicBezTo>
                <a:cubicBezTo>
                  <a:pt x="674" y="107"/>
                  <a:pt x="683" y="143"/>
                  <a:pt x="671" y="157"/>
                </a:cubicBezTo>
                <a:cubicBezTo>
                  <a:pt x="654" y="177"/>
                  <a:pt x="595" y="185"/>
                  <a:pt x="583" y="186"/>
                </a:cubicBezTo>
                <a:cubicBezTo>
                  <a:pt x="468" y="199"/>
                  <a:pt x="351" y="200"/>
                  <a:pt x="235" y="208"/>
                </a:cubicBezTo>
                <a:cubicBezTo>
                  <a:pt x="202" y="220"/>
                  <a:pt x="172" y="235"/>
                  <a:pt x="139" y="245"/>
                </a:cubicBezTo>
                <a:cubicBezTo>
                  <a:pt x="129" y="277"/>
                  <a:pt x="115" y="299"/>
                  <a:pt x="95" y="326"/>
                </a:cubicBezTo>
                <a:cubicBezTo>
                  <a:pt x="87" y="361"/>
                  <a:pt x="67" y="376"/>
                  <a:pt x="51" y="408"/>
                </a:cubicBezTo>
                <a:cubicBezTo>
                  <a:pt x="48" y="425"/>
                  <a:pt x="48" y="442"/>
                  <a:pt x="43" y="459"/>
                </a:cubicBezTo>
                <a:cubicBezTo>
                  <a:pt x="37" y="479"/>
                  <a:pt x="21" y="518"/>
                  <a:pt x="21" y="518"/>
                </a:cubicBezTo>
                <a:cubicBezTo>
                  <a:pt x="24" y="577"/>
                  <a:pt x="0" y="649"/>
                  <a:pt x="36" y="696"/>
                </a:cubicBezTo>
                <a:cubicBezTo>
                  <a:pt x="66" y="736"/>
                  <a:pt x="77" y="727"/>
                  <a:pt x="95" y="762"/>
                </a:cubicBezTo>
                <a:cubicBezTo>
                  <a:pt x="99" y="769"/>
                  <a:pt x="97" y="778"/>
                  <a:pt x="103" y="784"/>
                </a:cubicBezTo>
                <a:cubicBezTo>
                  <a:pt x="131" y="812"/>
                  <a:pt x="169" y="819"/>
                  <a:pt x="199" y="843"/>
                </a:cubicBezTo>
                <a:cubicBezTo>
                  <a:pt x="232" y="869"/>
                  <a:pt x="207" y="863"/>
                  <a:pt x="243" y="873"/>
                </a:cubicBezTo>
                <a:cubicBezTo>
                  <a:pt x="308" y="892"/>
                  <a:pt x="383" y="891"/>
                  <a:pt x="450" y="895"/>
                </a:cubicBezTo>
                <a:cubicBezTo>
                  <a:pt x="562" y="890"/>
                  <a:pt x="637" y="880"/>
                  <a:pt x="745" y="873"/>
                </a:cubicBezTo>
                <a:cubicBezTo>
                  <a:pt x="791" y="841"/>
                  <a:pt x="798" y="876"/>
                  <a:pt x="841" y="888"/>
                </a:cubicBezTo>
                <a:cubicBezTo>
                  <a:pt x="896" y="904"/>
                  <a:pt x="938" y="925"/>
                  <a:pt x="996" y="932"/>
                </a:cubicBezTo>
                <a:cubicBezTo>
                  <a:pt x="1008" y="942"/>
                  <a:pt x="1020" y="953"/>
                  <a:pt x="1033" y="961"/>
                </a:cubicBezTo>
                <a:cubicBezTo>
                  <a:pt x="1040" y="965"/>
                  <a:pt x="1049" y="963"/>
                  <a:pt x="1055" y="969"/>
                </a:cubicBezTo>
                <a:cubicBezTo>
                  <a:pt x="1101" y="1015"/>
                  <a:pt x="1040" y="987"/>
                  <a:pt x="1092" y="1006"/>
                </a:cubicBezTo>
                <a:cubicBezTo>
                  <a:pt x="1123" y="1127"/>
                  <a:pt x="1093" y="997"/>
                  <a:pt x="1114" y="1168"/>
                </a:cubicBezTo>
                <a:cubicBezTo>
                  <a:pt x="1115" y="1176"/>
                  <a:pt x="1115" y="1187"/>
                  <a:pt x="1122" y="1190"/>
                </a:cubicBezTo>
                <a:cubicBezTo>
                  <a:pt x="1143" y="1198"/>
                  <a:pt x="1166" y="1195"/>
                  <a:pt x="1188" y="1198"/>
                </a:cubicBezTo>
                <a:cubicBezTo>
                  <a:pt x="1198" y="1205"/>
                  <a:pt x="1214" y="1208"/>
                  <a:pt x="1218" y="1220"/>
                </a:cubicBezTo>
                <a:cubicBezTo>
                  <a:pt x="1221" y="1228"/>
                  <a:pt x="1211" y="1245"/>
                  <a:pt x="1203" y="1242"/>
                </a:cubicBezTo>
                <a:cubicBezTo>
                  <a:pt x="1191" y="1237"/>
                  <a:pt x="1178" y="1232"/>
                  <a:pt x="1166" y="1227"/>
                </a:cubicBezTo>
                <a:cubicBezTo>
                  <a:pt x="1176" y="1225"/>
                  <a:pt x="1186" y="1224"/>
                  <a:pt x="1195" y="1220"/>
                </a:cubicBezTo>
                <a:cubicBezTo>
                  <a:pt x="1203" y="1216"/>
                  <a:pt x="1209" y="1206"/>
                  <a:pt x="1218" y="1205"/>
                </a:cubicBezTo>
                <a:cubicBezTo>
                  <a:pt x="1226" y="1204"/>
                  <a:pt x="1233" y="1211"/>
                  <a:pt x="1240" y="1213"/>
                </a:cubicBezTo>
                <a:cubicBezTo>
                  <a:pt x="1289" y="1229"/>
                  <a:pt x="1275" y="1225"/>
                  <a:pt x="1321" y="1235"/>
                </a:cubicBezTo>
                <a:cubicBezTo>
                  <a:pt x="1333" y="1232"/>
                  <a:pt x="1348" y="1235"/>
                  <a:pt x="1358" y="1227"/>
                </a:cubicBezTo>
                <a:cubicBezTo>
                  <a:pt x="1372" y="1216"/>
                  <a:pt x="1387" y="1183"/>
                  <a:pt x="1387" y="1183"/>
                </a:cubicBezTo>
                <a:cubicBezTo>
                  <a:pt x="1454" y="1188"/>
                  <a:pt x="1554" y="1200"/>
                  <a:pt x="1616" y="1183"/>
                </a:cubicBezTo>
                <a:cubicBezTo>
                  <a:pt x="1636" y="1177"/>
                  <a:pt x="1661" y="1139"/>
                  <a:pt x="1661" y="1139"/>
                </a:cubicBezTo>
                <a:cubicBezTo>
                  <a:pt x="1669" y="1105"/>
                  <a:pt x="1658" y="1046"/>
                  <a:pt x="1683" y="1021"/>
                </a:cubicBezTo>
                <a:cubicBezTo>
                  <a:pt x="1697" y="1007"/>
                  <a:pt x="1718" y="1002"/>
                  <a:pt x="1735" y="991"/>
                </a:cubicBezTo>
                <a:cubicBezTo>
                  <a:pt x="1784" y="915"/>
                  <a:pt x="1751" y="885"/>
                  <a:pt x="1764" y="762"/>
                </a:cubicBezTo>
                <a:cubicBezTo>
                  <a:pt x="1766" y="739"/>
                  <a:pt x="1860" y="690"/>
                  <a:pt x="1882" y="673"/>
                </a:cubicBezTo>
                <a:cubicBezTo>
                  <a:pt x="1906" y="608"/>
                  <a:pt x="1890" y="538"/>
                  <a:pt x="1867" y="474"/>
                </a:cubicBezTo>
                <a:cubicBezTo>
                  <a:pt x="1870" y="432"/>
                  <a:pt x="1875" y="391"/>
                  <a:pt x="1875" y="349"/>
                </a:cubicBezTo>
                <a:cubicBezTo>
                  <a:pt x="1875" y="317"/>
                  <a:pt x="1871" y="285"/>
                  <a:pt x="1867" y="253"/>
                </a:cubicBezTo>
                <a:cubicBezTo>
                  <a:pt x="1864" y="230"/>
                  <a:pt x="1819" y="193"/>
                  <a:pt x="1867" y="216"/>
                </a:cubicBezTo>
                <a:cubicBezTo>
                  <a:pt x="1875" y="220"/>
                  <a:pt x="1882" y="225"/>
                  <a:pt x="1890" y="230"/>
                </a:cubicBezTo>
                <a:cubicBezTo>
                  <a:pt x="1897" y="235"/>
                  <a:pt x="1905" y="240"/>
                  <a:pt x="1912" y="245"/>
                </a:cubicBezTo>
                <a:cubicBezTo>
                  <a:pt x="1933" y="276"/>
                  <a:pt x="1935" y="308"/>
                  <a:pt x="1949" y="341"/>
                </a:cubicBezTo>
                <a:cubicBezTo>
                  <a:pt x="1965" y="378"/>
                  <a:pt x="1982" y="416"/>
                  <a:pt x="2000" y="452"/>
                </a:cubicBezTo>
                <a:cubicBezTo>
                  <a:pt x="2013" y="477"/>
                  <a:pt x="2013" y="519"/>
                  <a:pt x="2030" y="541"/>
                </a:cubicBezTo>
                <a:cubicBezTo>
                  <a:pt x="2048" y="565"/>
                  <a:pt x="2102" y="560"/>
                  <a:pt x="2119" y="563"/>
                </a:cubicBezTo>
                <a:cubicBezTo>
                  <a:pt x="2175" y="571"/>
                  <a:pt x="2228" y="581"/>
                  <a:pt x="2281" y="600"/>
                </a:cubicBezTo>
                <a:cubicBezTo>
                  <a:pt x="2315" y="634"/>
                  <a:pt x="2349" y="662"/>
                  <a:pt x="2392" y="681"/>
                </a:cubicBezTo>
                <a:cubicBezTo>
                  <a:pt x="2402" y="685"/>
                  <a:pt x="2412" y="690"/>
                  <a:pt x="2421" y="696"/>
                </a:cubicBezTo>
                <a:cubicBezTo>
                  <a:pt x="2436" y="705"/>
                  <a:pt x="2466" y="725"/>
                  <a:pt x="2466" y="725"/>
                </a:cubicBezTo>
                <a:cubicBezTo>
                  <a:pt x="2489" y="775"/>
                  <a:pt x="2506" y="759"/>
                  <a:pt x="2554" y="777"/>
                </a:cubicBezTo>
                <a:cubicBezTo>
                  <a:pt x="2603" y="770"/>
                  <a:pt x="2623" y="768"/>
                  <a:pt x="2665" y="747"/>
                </a:cubicBezTo>
                <a:cubicBezTo>
                  <a:pt x="2722" y="751"/>
                  <a:pt x="2781" y="744"/>
                  <a:pt x="2835" y="762"/>
                </a:cubicBezTo>
                <a:cubicBezTo>
                  <a:pt x="2843" y="765"/>
                  <a:pt x="2849" y="774"/>
                  <a:pt x="2857" y="777"/>
                </a:cubicBezTo>
                <a:cubicBezTo>
                  <a:pt x="2911" y="800"/>
                  <a:pt x="2972" y="809"/>
                  <a:pt x="3027" y="829"/>
                </a:cubicBezTo>
                <a:cubicBezTo>
                  <a:pt x="3130" y="826"/>
                  <a:pt x="3234" y="826"/>
                  <a:pt x="3337" y="821"/>
                </a:cubicBezTo>
                <a:cubicBezTo>
                  <a:pt x="3399" y="818"/>
                  <a:pt x="3452" y="742"/>
                  <a:pt x="3499" y="710"/>
                </a:cubicBezTo>
                <a:cubicBezTo>
                  <a:pt x="3582" y="721"/>
                  <a:pt x="3566" y="727"/>
                  <a:pt x="3632" y="755"/>
                </a:cubicBezTo>
                <a:cubicBezTo>
                  <a:pt x="3664" y="769"/>
                  <a:pt x="3703" y="772"/>
                  <a:pt x="3736" y="777"/>
                </a:cubicBezTo>
                <a:cubicBezTo>
                  <a:pt x="3778" y="774"/>
                  <a:pt x="3820" y="775"/>
                  <a:pt x="3861" y="769"/>
                </a:cubicBezTo>
                <a:cubicBezTo>
                  <a:pt x="3884" y="766"/>
                  <a:pt x="3894" y="750"/>
                  <a:pt x="3913" y="740"/>
                </a:cubicBezTo>
                <a:cubicBezTo>
                  <a:pt x="3944" y="724"/>
                  <a:pt x="3977" y="711"/>
                  <a:pt x="4009" y="696"/>
                </a:cubicBezTo>
                <a:cubicBezTo>
                  <a:pt x="4036" y="735"/>
                  <a:pt x="4041" y="784"/>
                  <a:pt x="4053" y="829"/>
                </a:cubicBezTo>
                <a:cubicBezTo>
                  <a:pt x="4060" y="853"/>
                  <a:pt x="4071" y="892"/>
                  <a:pt x="4098" y="902"/>
                </a:cubicBezTo>
                <a:cubicBezTo>
                  <a:pt x="4117" y="909"/>
                  <a:pt x="4137" y="908"/>
                  <a:pt x="4157" y="910"/>
                </a:cubicBezTo>
                <a:cubicBezTo>
                  <a:pt x="4182" y="913"/>
                  <a:pt x="4206" y="915"/>
                  <a:pt x="4231" y="917"/>
                </a:cubicBezTo>
                <a:cubicBezTo>
                  <a:pt x="4245" y="1004"/>
                  <a:pt x="4238" y="1121"/>
                  <a:pt x="4319" y="1176"/>
                </a:cubicBezTo>
                <a:cubicBezTo>
                  <a:pt x="4329" y="1213"/>
                  <a:pt x="4325" y="1233"/>
                  <a:pt x="4304" y="1264"/>
                </a:cubicBezTo>
                <a:cubicBezTo>
                  <a:pt x="4295" y="1293"/>
                  <a:pt x="4270" y="1329"/>
                  <a:pt x="4245" y="1345"/>
                </a:cubicBezTo>
                <a:cubicBezTo>
                  <a:pt x="4225" y="1372"/>
                  <a:pt x="4219" y="1389"/>
                  <a:pt x="4208" y="1419"/>
                </a:cubicBezTo>
                <a:cubicBezTo>
                  <a:pt x="4216" y="1462"/>
                  <a:pt x="4227" y="1477"/>
                  <a:pt x="4245" y="1515"/>
                </a:cubicBezTo>
                <a:cubicBezTo>
                  <a:pt x="4255" y="1570"/>
                  <a:pt x="4246" y="1653"/>
                  <a:pt x="4267" y="1700"/>
                </a:cubicBezTo>
                <a:cubicBezTo>
                  <a:pt x="4271" y="1708"/>
                  <a:pt x="4282" y="1710"/>
                  <a:pt x="4290" y="1715"/>
                </a:cubicBezTo>
                <a:cubicBezTo>
                  <a:pt x="4301" y="1682"/>
                  <a:pt x="4294" y="1661"/>
                  <a:pt x="4275" y="1633"/>
                </a:cubicBezTo>
                <a:cubicBezTo>
                  <a:pt x="4104" y="1639"/>
                  <a:pt x="3936" y="1646"/>
                  <a:pt x="3765" y="1626"/>
                </a:cubicBezTo>
                <a:cubicBezTo>
                  <a:pt x="3726" y="1600"/>
                  <a:pt x="3691" y="1559"/>
                  <a:pt x="3647" y="1545"/>
                </a:cubicBezTo>
                <a:cubicBezTo>
                  <a:pt x="3624" y="1522"/>
                  <a:pt x="3592" y="1489"/>
                  <a:pt x="3566" y="1471"/>
                </a:cubicBezTo>
                <a:cubicBezTo>
                  <a:pt x="3538" y="1430"/>
                  <a:pt x="3498" y="1409"/>
                  <a:pt x="3455" y="1390"/>
                </a:cubicBezTo>
                <a:cubicBezTo>
                  <a:pt x="3445" y="1386"/>
                  <a:pt x="3436" y="1379"/>
                  <a:pt x="3426" y="1375"/>
                </a:cubicBezTo>
                <a:cubicBezTo>
                  <a:pt x="3409" y="1369"/>
                  <a:pt x="3374" y="1360"/>
                  <a:pt x="3374" y="1360"/>
                </a:cubicBezTo>
                <a:cubicBezTo>
                  <a:pt x="3325" y="1324"/>
                  <a:pt x="3323" y="1331"/>
                  <a:pt x="3256" y="1338"/>
                </a:cubicBezTo>
                <a:cubicBezTo>
                  <a:pt x="3240" y="1393"/>
                  <a:pt x="3217" y="1445"/>
                  <a:pt x="3204" y="1501"/>
                </a:cubicBezTo>
                <a:cubicBezTo>
                  <a:pt x="3165" y="1498"/>
                  <a:pt x="3125" y="1499"/>
                  <a:pt x="3086" y="1493"/>
                </a:cubicBezTo>
                <a:cubicBezTo>
                  <a:pt x="3050" y="1487"/>
                  <a:pt x="3026" y="1451"/>
                  <a:pt x="2990" y="1441"/>
                </a:cubicBezTo>
                <a:cubicBezTo>
                  <a:pt x="2895" y="1415"/>
                  <a:pt x="2798" y="1401"/>
                  <a:pt x="2702" y="1382"/>
                </a:cubicBezTo>
                <a:cubicBezTo>
                  <a:pt x="2680" y="1385"/>
                  <a:pt x="2655" y="1380"/>
                  <a:pt x="2635" y="1390"/>
                </a:cubicBezTo>
                <a:cubicBezTo>
                  <a:pt x="2626" y="1394"/>
                  <a:pt x="2633" y="1411"/>
                  <a:pt x="2628" y="1419"/>
                </a:cubicBezTo>
                <a:cubicBezTo>
                  <a:pt x="2623" y="1426"/>
                  <a:pt x="2613" y="1429"/>
                  <a:pt x="2606" y="1434"/>
                </a:cubicBezTo>
                <a:cubicBezTo>
                  <a:pt x="2548" y="1429"/>
                  <a:pt x="2512" y="1417"/>
                  <a:pt x="2458" y="1405"/>
                </a:cubicBezTo>
                <a:cubicBezTo>
                  <a:pt x="2426" y="1398"/>
                  <a:pt x="2362" y="1390"/>
                  <a:pt x="2362" y="1390"/>
                </a:cubicBezTo>
                <a:cubicBezTo>
                  <a:pt x="2307" y="1335"/>
                  <a:pt x="2218" y="1338"/>
                  <a:pt x="2148" y="1316"/>
                </a:cubicBezTo>
                <a:cubicBezTo>
                  <a:pt x="2113" y="1291"/>
                  <a:pt x="2084" y="1267"/>
                  <a:pt x="2052" y="1242"/>
                </a:cubicBezTo>
                <a:cubicBezTo>
                  <a:pt x="2038" y="1231"/>
                  <a:pt x="2020" y="1226"/>
                  <a:pt x="2008" y="1213"/>
                </a:cubicBezTo>
                <a:cubicBezTo>
                  <a:pt x="2001" y="1205"/>
                  <a:pt x="1995" y="1195"/>
                  <a:pt x="1986" y="1190"/>
                </a:cubicBezTo>
                <a:cubicBezTo>
                  <a:pt x="1949" y="1169"/>
                  <a:pt x="1859" y="1157"/>
                  <a:pt x="1823" y="1153"/>
                </a:cubicBezTo>
                <a:cubicBezTo>
                  <a:pt x="1800" y="1139"/>
                  <a:pt x="1782" y="1112"/>
                  <a:pt x="1757" y="1102"/>
                </a:cubicBezTo>
                <a:cubicBezTo>
                  <a:pt x="1709" y="1083"/>
                  <a:pt x="1653" y="1072"/>
                  <a:pt x="1602" y="1065"/>
                </a:cubicBezTo>
                <a:cubicBezTo>
                  <a:pt x="1618" y="1116"/>
                  <a:pt x="1595" y="1060"/>
                  <a:pt x="1631" y="1102"/>
                </a:cubicBezTo>
                <a:cubicBezTo>
                  <a:pt x="1661" y="1138"/>
                  <a:pt x="1679" y="1188"/>
                  <a:pt x="1705" y="1227"/>
                </a:cubicBezTo>
                <a:cubicBezTo>
                  <a:pt x="1713" y="1279"/>
                  <a:pt x="1722" y="1327"/>
                  <a:pt x="1683" y="1368"/>
                </a:cubicBezTo>
                <a:cubicBezTo>
                  <a:pt x="1540" y="1358"/>
                  <a:pt x="1526" y="1354"/>
                  <a:pt x="1365" y="1360"/>
                </a:cubicBezTo>
                <a:cubicBezTo>
                  <a:pt x="1343" y="1365"/>
                  <a:pt x="1316" y="1360"/>
                  <a:pt x="1299" y="1375"/>
                </a:cubicBezTo>
                <a:cubicBezTo>
                  <a:pt x="1290" y="1382"/>
                  <a:pt x="1291" y="1396"/>
                  <a:pt x="1284" y="1405"/>
                </a:cubicBezTo>
                <a:cubicBezTo>
                  <a:pt x="1278" y="1412"/>
                  <a:pt x="1269" y="1414"/>
                  <a:pt x="1262" y="1419"/>
                </a:cubicBezTo>
                <a:cubicBezTo>
                  <a:pt x="1257" y="1434"/>
                  <a:pt x="1252" y="1449"/>
                  <a:pt x="1247" y="1464"/>
                </a:cubicBezTo>
                <a:cubicBezTo>
                  <a:pt x="1245" y="1471"/>
                  <a:pt x="1240" y="1486"/>
                  <a:pt x="1240" y="1486"/>
                </a:cubicBezTo>
                <a:cubicBezTo>
                  <a:pt x="1237" y="1515"/>
                  <a:pt x="1236" y="1545"/>
                  <a:pt x="1232" y="1574"/>
                </a:cubicBezTo>
                <a:cubicBezTo>
                  <a:pt x="1223" y="1637"/>
                  <a:pt x="1146" y="1642"/>
                  <a:pt x="1099" y="1648"/>
                </a:cubicBezTo>
                <a:cubicBezTo>
                  <a:pt x="1088" y="1682"/>
                  <a:pt x="1070" y="1715"/>
                  <a:pt x="1048" y="1744"/>
                </a:cubicBezTo>
                <a:cubicBezTo>
                  <a:pt x="1035" y="1779"/>
                  <a:pt x="1013" y="1826"/>
                  <a:pt x="989" y="1855"/>
                </a:cubicBezTo>
                <a:cubicBezTo>
                  <a:pt x="982" y="1863"/>
                  <a:pt x="977" y="1875"/>
                  <a:pt x="967" y="1877"/>
                </a:cubicBezTo>
                <a:cubicBezTo>
                  <a:pt x="926" y="1885"/>
                  <a:pt x="883" y="1882"/>
                  <a:pt x="841" y="1885"/>
                </a:cubicBezTo>
                <a:cubicBezTo>
                  <a:pt x="834" y="1895"/>
                  <a:pt x="828" y="1905"/>
                  <a:pt x="819" y="1914"/>
                </a:cubicBezTo>
                <a:cubicBezTo>
                  <a:pt x="813" y="1920"/>
                  <a:pt x="803" y="1922"/>
                  <a:pt x="797" y="1929"/>
                </a:cubicBezTo>
                <a:cubicBezTo>
                  <a:pt x="743" y="1993"/>
                  <a:pt x="827" y="1921"/>
                  <a:pt x="760" y="1988"/>
                </a:cubicBezTo>
                <a:cubicBezTo>
                  <a:pt x="751" y="1997"/>
                  <a:pt x="738" y="2001"/>
                  <a:pt x="730" y="2010"/>
                </a:cubicBezTo>
                <a:cubicBezTo>
                  <a:pt x="697" y="2047"/>
                  <a:pt x="699" y="2068"/>
                  <a:pt x="649" y="2084"/>
                </a:cubicBezTo>
                <a:cubicBezTo>
                  <a:pt x="580" y="2082"/>
                  <a:pt x="511" y="2084"/>
                  <a:pt x="442" y="2077"/>
                </a:cubicBezTo>
                <a:cubicBezTo>
                  <a:pt x="433" y="2076"/>
                  <a:pt x="428" y="2066"/>
                  <a:pt x="420" y="2062"/>
                </a:cubicBezTo>
                <a:cubicBezTo>
                  <a:pt x="413" y="2058"/>
                  <a:pt x="390" y="2054"/>
                  <a:pt x="398" y="2054"/>
                </a:cubicBezTo>
                <a:cubicBezTo>
                  <a:pt x="460" y="2054"/>
                  <a:pt x="521" y="2059"/>
                  <a:pt x="583" y="2062"/>
                </a:cubicBezTo>
                <a:cubicBezTo>
                  <a:pt x="593" y="2064"/>
                  <a:pt x="612" y="2079"/>
                  <a:pt x="612" y="2069"/>
                </a:cubicBezTo>
                <a:cubicBezTo>
                  <a:pt x="612" y="2058"/>
                  <a:pt x="594" y="2054"/>
                  <a:pt x="583" y="2054"/>
                </a:cubicBezTo>
                <a:cubicBezTo>
                  <a:pt x="560" y="2054"/>
                  <a:pt x="538" y="2064"/>
                  <a:pt x="516" y="2069"/>
                </a:cubicBezTo>
                <a:cubicBezTo>
                  <a:pt x="558" y="2098"/>
                  <a:pt x="531" y="2120"/>
                  <a:pt x="575" y="2136"/>
                </a:cubicBezTo>
                <a:cubicBezTo>
                  <a:pt x="599" y="2160"/>
                  <a:pt x="631" y="2176"/>
                  <a:pt x="664" y="2187"/>
                </a:cubicBezTo>
                <a:cubicBezTo>
                  <a:pt x="692" y="2206"/>
                  <a:pt x="700" y="2238"/>
                  <a:pt x="715" y="2269"/>
                </a:cubicBezTo>
                <a:cubicBezTo>
                  <a:pt x="722" y="2283"/>
                  <a:pt x="720" y="2301"/>
                  <a:pt x="730" y="2313"/>
                </a:cubicBezTo>
                <a:cubicBezTo>
                  <a:pt x="733" y="2317"/>
                  <a:pt x="771" y="2340"/>
                  <a:pt x="775" y="2342"/>
                </a:cubicBezTo>
                <a:cubicBezTo>
                  <a:pt x="784" y="2372"/>
                  <a:pt x="787" y="2397"/>
                  <a:pt x="804" y="2424"/>
                </a:cubicBezTo>
                <a:cubicBezTo>
                  <a:pt x="811" y="2467"/>
                  <a:pt x="819" y="2508"/>
                  <a:pt x="834" y="2549"/>
                </a:cubicBezTo>
                <a:cubicBezTo>
                  <a:pt x="843" y="2639"/>
                  <a:pt x="842" y="2724"/>
                  <a:pt x="893" y="2800"/>
                </a:cubicBezTo>
                <a:cubicBezTo>
                  <a:pt x="901" y="2812"/>
                  <a:pt x="916" y="2840"/>
                  <a:pt x="930" y="2845"/>
                </a:cubicBezTo>
                <a:cubicBezTo>
                  <a:pt x="951" y="2852"/>
                  <a:pt x="974" y="2851"/>
                  <a:pt x="996" y="2852"/>
                </a:cubicBezTo>
                <a:cubicBezTo>
                  <a:pt x="1067" y="2856"/>
                  <a:pt x="1139" y="2857"/>
                  <a:pt x="1210" y="2859"/>
                </a:cubicBezTo>
                <a:cubicBezTo>
                  <a:pt x="1263" y="2868"/>
                  <a:pt x="1264" y="2870"/>
                  <a:pt x="1277" y="2918"/>
                </a:cubicBezTo>
                <a:cubicBezTo>
                  <a:pt x="1290" y="3014"/>
                  <a:pt x="1336" y="3093"/>
                  <a:pt x="1365" y="3184"/>
                </a:cubicBezTo>
                <a:cubicBezTo>
                  <a:pt x="1371" y="3203"/>
                  <a:pt x="1391" y="3213"/>
                  <a:pt x="1402" y="3229"/>
                </a:cubicBezTo>
                <a:cubicBezTo>
                  <a:pt x="1412" y="3275"/>
                  <a:pt x="1440" y="3309"/>
                  <a:pt x="1454" y="3354"/>
                </a:cubicBezTo>
                <a:cubicBezTo>
                  <a:pt x="1444" y="3395"/>
                  <a:pt x="1440" y="3427"/>
                  <a:pt x="1410" y="3457"/>
                </a:cubicBezTo>
                <a:cubicBezTo>
                  <a:pt x="1444" y="3469"/>
                  <a:pt x="1447" y="3452"/>
                  <a:pt x="1483" y="3443"/>
                </a:cubicBezTo>
                <a:cubicBezTo>
                  <a:pt x="1506" y="3428"/>
                  <a:pt x="1528" y="3421"/>
                  <a:pt x="1550" y="3406"/>
                </a:cubicBezTo>
                <a:cubicBezTo>
                  <a:pt x="1627" y="3421"/>
                  <a:pt x="1637" y="3420"/>
                  <a:pt x="1735" y="3413"/>
                </a:cubicBezTo>
                <a:cubicBezTo>
                  <a:pt x="1762" y="3405"/>
                  <a:pt x="1792" y="3406"/>
                  <a:pt x="1816" y="3391"/>
                </a:cubicBezTo>
                <a:cubicBezTo>
                  <a:pt x="1823" y="3386"/>
                  <a:pt x="1824" y="3375"/>
                  <a:pt x="1831" y="3369"/>
                </a:cubicBezTo>
                <a:cubicBezTo>
                  <a:pt x="1852" y="3352"/>
                  <a:pt x="1906" y="3334"/>
                  <a:pt x="1927" y="3325"/>
                </a:cubicBezTo>
                <a:cubicBezTo>
                  <a:pt x="1973" y="3331"/>
                  <a:pt x="2014" y="3343"/>
                  <a:pt x="2059" y="3354"/>
                </a:cubicBezTo>
                <a:cubicBezTo>
                  <a:pt x="2093" y="3376"/>
                  <a:pt x="2108" y="3377"/>
                  <a:pt x="2148" y="3369"/>
                </a:cubicBezTo>
                <a:cubicBezTo>
                  <a:pt x="2163" y="3370"/>
                  <a:pt x="2310" y="3358"/>
                  <a:pt x="2229" y="3413"/>
                </a:cubicBezTo>
                <a:cubicBezTo>
                  <a:pt x="2224" y="3425"/>
                  <a:pt x="2220" y="3438"/>
                  <a:pt x="2215" y="3450"/>
                </a:cubicBezTo>
                <a:cubicBezTo>
                  <a:pt x="2211" y="3460"/>
                  <a:pt x="2193" y="3471"/>
                  <a:pt x="2200" y="3480"/>
                </a:cubicBezTo>
                <a:cubicBezTo>
                  <a:pt x="2209" y="3492"/>
                  <a:pt x="2229" y="3485"/>
                  <a:pt x="2244" y="3487"/>
                </a:cubicBezTo>
                <a:cubicBezTo>
                  <a:pt x="2276" y="3533"/>
                  <a:pt x="2280" y="3524"/>
                  <a:pt x="2340" y="3509"/>
                </a:cubicBezTo>
                <a:cubicBezTo>
                  <a:pt x="2338" y="3502"/>
                  <a:pt x="2329" y="3493"/>
                  <a:pt x="2333" y="3487"/>
                </a:cubicBezTo>
                <a:cubicBezTo>
                  <a:pt x="2343" y="3473"/>
                  <a:pt x="2377" y="3457"/>
                  <a:pt x="2377" y="3457"/>
                </a:cubicBezTo>
                <a:cubicBezTo>
                  <a:pt x="2379" y="3469"/>
                  <a:pt x="2373" y="3488"/>
                  <a:pt x="2384" y="3494"/>
                </a:cubicBezTo>
                <a:cubicBezTo>
                  <a:pt x="2393" y="3499"/>
                  <a:pt x="2397" y="3474"/>
                  <a:pt x="2392" y="3465"/>
                </a:cubicBezTo>
                <a:cubicBezTo>
                  <a:pt x="2387" y="3456"/>
                  <a:pt x="2372" y="3460"/>
                  <a:pt x="2362" y="3457"/>
                </a:cubicBezTo>
                <a:cubicBezTo>
                  <a:pt x="2303" y="3418"/>
                  <a:pt x="2335" y="3430"/>
                  <a:pt x="2266" y="3421"/>
                </a:cubicBezTo>
                <a:cubicBezTo>
                  <a:pt x="2259" y="3416"/>
                  <a:pt x="2250" y="3400"/>
                  <a:pt x="2244" y="3406"/>
                </a:cubicBezTo>
                <a:cubicBezTo>
                  <a:pt x="2238" y="3412"/>
                  <a:pt x="2252" y="3423"/>
                  <a:pt x="2259" y="3428"/>
                </a:cubicBezTo>
                <a:cubicBezTo>
                  <a:pt x="2281" y="3445"/>
                  <a:pt x="2313" y="3439"/>
                  <a:pt x="2340" y="3443"/>
                </a:cubicBezTo>
                <a:cubicBezTo>
                  <a:pt x="2401" y="3462"/>
                  <a:pt x="2304" y="3435"/>
                  <a:pt x="2414" y="3443"/>
                </a:cubicBezTo>
                <a:cubicBezTo>
                  <a:pt x="2429" y="3444"/>
                  <a:pt x="2458" y="3457"/>
                  <a:pt x="2458" y="3457"/>
                </a:cubicBezTo>
                <a:cubicBezTo>
                  <a:pt x="2504" y="3446"/>
                  <a:pt x="2548" y="3450"/>
                  <a:pt x="2591" y="3428"/>
                </a:cubicBezTo>
                <a:cubicBezTo>
                  <a:pt x="2615" y="3363"/>
                  <a:pt x="2654" y="3357"/>
                  <a:pt x="2717" y="3347"/>
                </a:cubicBezTo>
                <a:cubicBezTo>
                  <a:pt x="2748" y="3336"/>
                  <a:pt x="2775" y="3320"/>
                  <a:pt x="2805" y="3310"/>
                </a:cubicBezTo>
                <a:cubicBezTo>
                  <a:pt x="2844" y="3253"/>
                  <a:pt x="2892" y="3283"/>
                  <a:pt x="2968" y="3288"/>
                </a:cubicBezTo>
                <a:cubicBezTo>
                  <a:pt x="3106" y="3279"/>
                  <a:pt x="3057" y="3293"/>
                  <a:pt x="3130" y="3243"/>
                </a:cubicBezTo>
                <a:cubicBezTo>
                  <a:pt x="3142" y="3210"/>
                  <a:pt x="3135" y="3171"/>
                  <a:pt x="3152" y="3140"/>
                </a:cubicBezTo>
                <a:cubicBezTo>
                  <a:pt x="3161" y="3125"/>
                  <a:pt x="3182" y="3096"/>
                  <a:pt x="3182" y="3096"/>
                </a:cubicBezTo>
                <a:cubicBezTo>
                  <a:pt x="3188" y="3077"/>
                  <a:pt x="3191" y="3056"/>
                  <a:pt x="3211" y="3044"/>
                </a:cubicBezTo>
                <a:cubicBezTo>
                  <a:pt x="3227" y="3035"/>
                  <a:pt x="3263" y="3029"/>
                  <a:pt x="3263" y="3029"/>
                </a:cubicBezTo>
                <a:cubicBezTo>
                  <a:pt x="3300" y="3032"/>
                  <a:pt x="3337" y="3031"/>
                  <a:pt x="3374" y="3037"/>
                </a:cubicBezTo>
                <a:cubicBezTo>
                  <a:pt x="3397" y="3041"/>
                  <a:pt x="3403" y="3073"/>
                  <a:pt x="3426" y="3088"/>
                </a:cubicBezTo>
                <a:cubicBezTo>
                  <a:pt x="3469" y="3155"/>
                  <a:pt x="3404" y="3065"/>
                  <a:pt x="3470" y="3118"/>
                </a:cubicBezTo>
                <a:cubicBezTo>
                  <a:pt x="3476" y="3123"/>
                  <a:pt x="3472" y="3135"/>
                  <a:pt x="3477" y="3140"/>
                </a:cubicBezTo>
                <a:cubicBezTo>
                  <a:pt x="3482" y="3145"/>
                  <a:pt x="3492" y="3145"/>
                  <a:pt x="3499" y="3147"/>
                </a:cubicBezTo>
                <a:cubicBezTo>
                  <a:pt x="3509" y="3157"/>
                  <a:pt x="3564" y="3217"/>
                  <a:pt x="3544" y="3155"/>
                </a:cubicBezTo>
                <a:cubicBezTo>
                  <a:pt x="3552" y="3122"/>
                  <a:pt x="3554" y="3107"/>
                  <a:pt x="3588" y="3096"/>
                </a:cubicBezTo>
                <a:cubicBezTo>
                  <a:pt x="3604" y="3085"/>
                  <a:pt x="3625" y="3084"/>
                  <a:pt x="3640" y="3073"/>
                </a:cubicBezTo>
                <a:cubicBezTo>
                  <a:pt x="3680" y="3045"/>
                  <a:pt x="3651" y="3029"/>
                  <a:pt x="3706" y="3014"/>
                </a:cubicBezTo>
                <a:cubicBezTo>
                  <a:pt x="3730" y="2979"/>
                  <a:pt x="3740" y="2941"/>
                  <a:pt x="3758" y="2904"/>
                </a:cubicBezTo>
                <a:cubicBezTo>
                  <a:pt x="3779" y="2861"/>
                  <a:pt x="3797" y="2825"/>
                  <a:pt x="3810" y="2778"/>
                </a:cubicBezTo>
                <a:cubicBezTo>
                  <a:pt x="3786" y="2713"/>
                  <a:pt x="3904" y="2709"/>
                  <a:pt x="3943" y="2697"/>
                </a:cubicBezTo>
                <a:cubicBezTo>
                  <a:pt x="3953" y="2633"/>
                  <a:pt x="3956" y="2661"/>
                  <a:pt x="3987" y="2616"/>
                </a:cubicBezTo>
                <a:cubicBezTo>
                  <a:pt x="3989" y="2606"/>
                  <a:pt x="3990" y="2595"/>
                  <a:pt x="3994" y="2586"/>
                </a:cubicBezTo>
                <a:cubicBezTo>
                  <a:pt x="3997" y="2578"/>
                  <a:pt x="4006" y="2572"/>
                  <a:pt x="4009" y="2564"/>
                </a:cubicBezTo>
                <a:cubicBezTo>
                  <a:pt x="4020" y="2533"/>
                  <a:pt x="4028" y="2499"/>
                  <a:pt x="4039" y="2468"/>
                </a:cubicBezTo>
                <a:cubicBezTo>
                  <a:pt x="4044" y="2435"/>
                  <a:pt x="4050" y="2410"/>
                  <a:pt x="4061" y="2379"/>
                </a:cubicBezTo>
                <a:cubicBezTo>
                  <a:pt x="4069" y="2297"/>
                  <a:pt x="4068" y="2242"/>
                  <a:pt x="4112" y="2173"/>
                </a:cubicBezTo>
                <a:cubicBezTo>
                  <a:pt x="4118" y="2074"/>
                  <a:pt x="4127" y="2016"/>
                  <a:pt x="4120" y="1921"/>
                </a:cubicBezTo>
                <a:cubicBezTo>
                  <a:pt x="4127" y="1879"/>
                  <a:pt x="4128" y="1842"/>
                  <a:pt x="4164" y="1818"/>
                </a:cubicBezTo>
                <a:cubicBezTo>
                  <a:pt x="4172" y="1775"/>
                  <a:pt x="4179" y="1732"/>
                  <a:pt x="4216" y="1707"/>
                </a:cubicBezTo>
                <a:cubicBezTo>
                  <a:pt x="4213" y="1700"/>
                  <a:pt x="4216" y="1686"/>
                  <a:pt x="4208" y="1685"/>
                </a:cubicBezTo>
                <a:cubicBezTo>
                  <a:pt x="4126" y="1675"/>
                  <a:pt x="4038" y="1711"/>
                  <a:pt x="3957" y="1722"/>
                </a:cubicBezTo>
                <a:cubicBezTo>
                  <a:pt x="3918" y="1748"/>
                  <a:pt x="3899" y="1790"/>
                  <a:pt x="3883" y="1833"/>
                </a:cubicBezTo>
                <a:cubicBezTo>
                  <a:pt x="3870" y="1943"/>
                  <a:pt x="3839" y="1948"/>
                  <a:pt x="3780" y="2032"/>
                </a:cubicBezTo>
                <a:cubicBezTo>
                  <a:pt x="3766" y="2053"/>
                  <a:pt x="3741" y="2092"/>
                  <a:pt x="3714" y="2099"/>
                </a:cubicBezTo>
                <a:cubicBezTo>
                  <a:pt x="3696" y="2103"/>
                  <a:pt x="3554" y="2113"/>
                  <a:pt x="3551" y="2113"/>
                </a:cubicBezTo>
                <a:cubicBezTo>
                  <a:pt x="3481" y="2126"/>
                  <a:pt x="3414" y="2149"/>
                  <a:pt x="3344" y="2165"/>
                </a:cubicBezTo>
                <a:cubicBezTo>
                  <a:pt x="3337" y="2170"/>
                  <a:pt x="3330" y="2176"/>
                  <a:pt x="3322" y="2180"/>
                </a:cubicBezTo>
                <a:cubicBezTo>
                  <a:pt x="3313" y="2184"/>
                  <a:pt x="3301" y="2181"/>
                  <a:pt x="3293" y="2187"/>
                </a:cubicBezTo>
                <a:cubicBezTo>
                  <a:pt x="3284" y="2194"/>
                  <a:pt x="3285" y="2208"/>
                  <a:pt x="3278" y="2217"/>
                </a:cubicBezTo>
                <a:cubicBezTo>
                  <a:pt x="3272" y="2224"/>
                  <a:pt x="3263" y="2227"/>
                  <a:pt x="3256" y="2232"/>
                </a:cubicBezTo>
                <a:cubicBezTo>
                  <a:pt x="3245" y="2248"/>
                  <a:pt x="3229" y="2259"/>
                  <a:pt x="3219" y="2276"/>
                </a:cubicBezTo>
                <a:cubicBezTo>
                  <a:pt x="3189" y="2327"/>
                  <a:pt x="3237" y="2288"/>
                  <a:pt x="3189" y="2320"/>
                </a:cubicBezTo>
                <a:cubicBezTo>
                  <a:pt x="3161" y="2364"/>
                  <a:pt x="3132" y="2391"/>
                  <a:pt x="3093" y="2424"/>
                </a:cubicBezTo>
                <a:cubicBezTo>
                  <a:pt x="3085" y="2431"/>
                  <a:pt x="3081" y="2443"/>
                  <a:pt x="3071" y="2446"/>
                </a:cubicBezTo>
                <a:cubicBezTo>
                  <a:pt x="3035" y="2456"/>
                  <a:pt x="2997" y="2456"/>
                  <a:pt x="2960" y="2461"/>
                </a:cubicBezTo>
                <a:cubicBezTo>
                  <a:pt x="2760" y="2455"/>
                  <a:pt x="2659" y="2446"/>
                  <a:pt x="2466" y="2453"/>
                </a:cubicBezTo>
                <a:cubicBezTo>
                  <a:pt x="2433" y="2462"/>
                  <a:pt x="2404" y="2472"/>
                  <a:pt x="2370" y="2461"/>
                </a:cubicBezTo>
                <a:cubicBezTo>
                  <a:pt x="2200" y="2464"/>
                  <a:pt x="1976" y="2441"/>
                  <a:pt x="1801" y="2497"/>
                </a:cubicBezTo>
                <a:cubicBezTo>
                  <a:pt x="1785" y="2508"/>
                  <a:pt x="1765" y="2509"/>
                  <a:pt x="1749" y="2520"/>
                </a:cubicBezTo>
                <a:cubicBezTo>
                  <a:pt x="1704" y="2552"/>
                  <a:pt x="1677" y="2600"/>
                  <a:pt x="1639" y="2638"/>
                </a:cubicBezTo>
                <a:cubicBezTo>
                  <a:pt x="1628" y="2669"/>
                  <a:pt x="1606" y="2679"/>
                  <a:pt x="1579" y="2697"/>
                </a:cubicBezTo>
                <a:cubicBezTo>
                  <a:pt x="1549" y="2745"/>
                  <a:pt x="1474" y="2737"/>
                  <a:pt x="1424" y="2741"/>
                </a:cubicBezTo>
                <a:cubicBezTo>
                  <a:pt x="1383" y="2756"/>
                  <a:pt x="1343" y="2758"/>
                  <a:pt x="1299" y="2763"/>
                </a:cubicBezTo>
                <a:cubicBezTo>
                  <a:pt x="1296" y="2770"/>
                  <a:pt x="1295" y="2778"/>
                  <a:pt x="1291" y="2785"/>
                </a:cubicBezTo>
                <a:cubicBezTo>
                  <a:pt x="1285" y="2796"/>
                  <a:pt x="1274" y="2804"/>
                  <a:pt x="1269" y="2815"/>
                </a:cubicBezTo>
                <a:cubicBezTo>
                  <a:pt x="1265" y="2824"/>
                  <a:pt x="1268" y="2836"/>
                  <a:pt x="1262" y="2845"/>
                </a:cubicBezTo>
                <a:cubicBezTo>
                  <a:pt x="1257" y="2852"/>
                  <a:pt x="1247" y="2854"/>
                  <a:pt x="1240" y="2859"/>
                </a:cubicBezTo>
                <a:cubicBezTo>
                  <a:pt x="1244" y="2837"/>
                  <a:pt x="1255" y="2816"/>
                  <a:pt x="1255" y="2793"/>
                </a:cubicBezTo>
                <a:cubicBezTo>
                  <a:pt x="1255" y="2780"/>
                  <a:pt x="1247" y="2756"/>
                  <a:pt x="1247" y="2756"/>
                </a:cubicBezTo>
                <a:cubicBezTo>
                  <a:pt x="1389" y="3197"/>
                  <a:pt x="1589" y="3611"/>
                  <a:pt x="1720" y="4056"/>
                </a:cubicBezTo>
                <a:cubicBezTo>
                  <a:pt x="1730" y="4208"/>
                  <a:pt x="1727" y="4125"/>
                  <a:pt x="1727" y="4307"/>
                </a:cubicBezTo>
                <a:lnTo>
                  <a:pt x="1227" y="2845"/>
                </a:lnTo>
                <a:lnTo>
                  <a:pt x="1227" y="2800"/>
                </a:lnTo>
                <a:lnTo>
                  <a:pt x="1454" y="2800"/>
                </a:lnTo>
                <a:lnTo>
                  <a:pt x="1227" y="2845"/>
                </a:lnTo>
                <a:lnTo>
                  <a:pt x="1182" y="2845"/>
                </a:lnTo>
                <a:lnTo>
                  <a:pt x="1136" y="2845"/>
                </a:lnTo>
                <a:lnTo>
                  <a:pt x="1227" y="28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 rot="20333400">
            <a:off x="3718440" y="25999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349236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 rot="20025600">
            <a:off x="3734280" y="5295960"/>
            <a:ext cx="14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3"/>
          <p:cNvSpPr/>
          <p:nvPr/>
        </p:nvSpPr>
        <p:spPr>
          <a:xfrm flipV="1" rot="10239000">
            <a:off x="4916160" y="53762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0066"/>
                </a:solidFill>
                <a:latin typeface="Arial"/>
              </a:rPr>
              <a:t>пред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4"/>
          <p:cNvSpPr/>
          <p:nvPr/>
        </p:nvSpPr>
        <p:spPr>
          <a:xfrm flipH="1" rot="16776600">
            <a:off x="6180840" y="4982760"/>
            <a:ext cx="7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5"/>
          <p:cNvSpPr/>
          <p:nvPr/>
        </p:nvSpPr>
        <p:spPr>
          <a:xfrm flipV="1" rot="11269200">
            <a:off x="4787640" y="126684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 rot="1755000">
            <a:off x="1931400" y="29160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мя 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8"/>
          <p:cNvSpPr/>
          <p:nvPr/>
        </p:nvSpPr>
        <p:spPr>
          <a:xfrm rot="19874400">
            <a:off x="1789560" y="230796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9"/>
          <p:cNvSpPr/>
          <p:nvPr/>
        </p:nvSpPr>
        <p:spPr>
          <a:xfrm>
            <a:off x="5002200" y="404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0"/>
          <p:cNvSpPr/>
          <p:nvPr/>
        </p:nvSpPr>
        <p:spPr>
          <a:xfrm flipH="1" rot="17770800">
            <a:off x="7388640" y="1455840"/>
            <a:ext cx="17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епричас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1"/>
          <p:cNvSpPr/>
          <p:nvPr/>
        </p:nvSpPr>
        <p:spPr>
          <a:xfrm rot="18084000">
            <a:off x="6991920" y="368676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тегория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3"/>
          <p:cNvSpPr/>
          <p:nvPr/>
        </p:nvSpPr>
        <p:spPr>
          <a:xfrm flipH="1" rot="14265600">
            <a:off x="1575720" y="4187880"/>
            <a:ext cx="15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Междометие и звукоподраж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WordArt 25"/>
          <p:cNvSpPr txBox="1"/>
          <p:nvPr/>
        </p:nvSpPr>
        <p:spPr>
          <a:xfrm>
            <a:off x="1979640" y="5891040"/>
            <a:ext cx="471492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fcb1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лев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fcb1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WordArt 30"/>
          <p:cNvSpPr txBox="1"/>
          <p:nvPr/>
        </p:nvSpPr>
        <p:spPr>
          <a:xfrm rot="5400000">
            <a:off x="-2506680" y="3019320"/>
            <a:ext cx="65246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орфолог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8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77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77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77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770" fill="hold"/>
                                        <p:tgtEl>
                                          <p:spTgt spid="8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Рисунок 2" descr=""/>
          <p:cNvPicPr/>
          <p:nvPr/>
        </p:nvPicPr>
        <p:blipFill>
          <a:blip r:embed="rId1"/>
          <a:stretch/>
        </p:blipFill>
        <p:spPr>
          <a:xfrm>
            <a:off x="1440" y="68400"/>
            <a:ext cx="5543640" cy="67896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4" descr="C:\Documents and Settings\OEM\Рабочий стол\Анимированные рисунки\Природа, погода\image922.gif"/>
          <p:cNvPicPr/>
          <p:nvPr/>
        </p:nvPicPr>
        <p:blipFill>
          <a:blip r:embed="rId2"/>
          <a:stretch/>
        </p:blipFill>
        <p:spPr>
          <a:xfrm>
            <a:off x="2484360" y="3071880"/>
            <a:ext cx="3167280" cy="230328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5"/>
          <p:cNvSpPr/>
          <p:nvPr/>
        </p:nvSpPr>
        <p:spPr>
          <a:xfrm>
            <a:off x="2916360" y="36054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8080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ЗНАЕТЕ ЛИ ВЫ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5651640" y="721800"/>
            <a:ext cx="3301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ебные части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ходятся в первой десят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частоте употреб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лог занимает четвёрто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ю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едь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ль частиц тоже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4608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НИ НЕДЕЛИМЫ И ЦЕЛЫ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ОРНЕЙ  И ПРИСТАВОК В НИХ НЕТ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ЕЛЬЗЯ ОТЫСКАТЬ В НИХ МОРФЕМЫ –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 В ЭТОМ ИХ ГЛАВНЫЙ СЕКРЕТ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250920" y="476280"/>
            <a:ext cx="871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abe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Каким частям речи посвящается ур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Рисунок 1" descr=""/>
          <p:cNvPicPr/>
          <p:nvPr/>
        </p:nvPicPr>
        <p:blipFill>
          <a:blip r:embed="rId1"/>
          <a:stretch/>
        </p:blipFill>
        <p:spPr>
          <a:xfrm>
            <a:off x="5148360" y="1378080"/>
            <a:ext cx="382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8"/>
          <p:cNvSpPr/>
          <p:nvPr/>
        </p:nvSpPr>
        <p:spPr>
          <a:xfrm>
            <a:off x="611280" y="62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9"/>
          <p:cNvSpPr/>
          <p:nvPr/>
        </p:nvSpPr>
        <p:spPr>
          <a:xfrm>
            <a:off x="324000" y="10526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 конце какого предлога стоит сот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акой предлог является но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акие два предлога укажут на количество лекарства на один пр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К какому предлогу нужно прибавить загородный дом, чтобы получить то, что требует реш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10" descr="17430"/>
          <p:cNvPicPr/>
          <p:nvPr/>
        </p:nvPicPr>
        <p:blipFill>
          <a:blip r:embed="rId1"/>
          <a:stretch/>
        </p:blipFill>
        <p:spPr>
          <a:xfrm>
            <a:off x="7380360" y="3573360"/>
            <a:ext cx="1763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4"/>
          <p:cNvSpPr/>
          <p:nvPr/>
        </p:nvSpPr>
        <p:spPr>
          <a:xfrm>
            <a:off x="179280" y="404640"/>
            <a:ext cx="6048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короткий рассказ по теме нашего урока, использ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юзы:</a:t>
            </a:r>
            <a:r>
              <a:rPr b="0" lang="ru-RU" sz="1800" spc="-1" strike="noStrike">
                <a:solidFill>
                  <a:srgbClr val="3e03b5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и, но, потому что, если, то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едлоги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ля, без, от, п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астицы:</a:t>
            </a:r>
            <a:r>
              <a:rPr b="1" lang="ru-RU" sz="4000" spc="-1" strike="noStrike">
                <a:solidFill>
                  <a:srgbClr val="3e03b5"/>
                </a:solidFill>
                <a:latin typeface="Arial"/>
              </a:rPr>
              <a:t> да как, ну вот, ли, даже, 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5" descr="2F2"/>
          <p:cNvPicPr/>
          <p:nvPr/>
        </p:nvPicPr>
        <p:blipFill>
          <a:blip r:embed="rId1"/>
          <a:stretch/>
        </p:blipFill>
        <p:spPr>
          <a:xfrm>
            <a:off x="6588000" y="692280"/>
            <a:ext cx="2232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cc"/>
                </a:solidFill>
                <a:uFillTx/>
                <a:latin typeface="Georgi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39280" y="907920"/>
            <a:ext cx="769644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w Cen MT"/>
              </a:rPr>
              <a:t>СОСТАВИТЬ СКАЗКУ(5 – 7 ПРЕДЛОЖЕНИЙ) О РОЛИ СЛУЖЕБНЫХ ЧАСТЕЙ РЕЧИ В РУССКОМ ЯЗЫКЕ.</a:t>
            </a:r>
            <a:r>
              <a:rPr b="0" lang="ru-RU" sz="4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90" name="Picture 5" descr="J0292278"/>
          <p:cNvPicPr/>
          <p:nvPr/>
        </p:nvPicPr>
        <p:blipFill>
          <a:blip r:embed="rId1"/>
          <a:stretch/>
        </p:blipFill>
        <p:spPr>
          <a:xfrm>
            <a:off x="2843280" y="4653000"/>
            <a:ext cx="1806480" cy="10796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6" descr="J0285808"/>
          <p:cNvPicPr/>
          <p:nvPr/>
        </p:nvPicPr>
        <p:blipFill>
          <a:blip r:embed="rId2"/>
          <a:stretch/>
        </p:blipFill>
        <p:spPr>
          <a:xfrm>
            <a:off x="755640" y="3716280"/>
            <a:ext cx="1225440" cy="1814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7" descr="J0285822"/>
          <p:cNvPicPr/>
          <p:nvPr/>
        </p:nvPicPr>
        <p:blipFill>
          <a:blip r:embed="rId3"/>
          <a:stretch/>
        </p:blipFill>
        <p:spPr>
          <a:xfrm>
            <a:off x="6084720" y="5516640"/>
            <a:ext cx="1909800" cy="10792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J0285796"/>
          <p:cNvPicPr/>
          <p:nvPr/>
        </p:nvPicPr>
        <p:blipFill>
          <a:blip r:embed="rId4"/>
          <a:stretch/>
        </p:blipFill>
        <p:spPr>
          <a:xfrm>
            <a:off x="6948360" y="3429000"/>
            <a:ext cx="1874880" cy="113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68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68" fill="hold"/>
                                        <p:tgtEl>
                                          <p:spTgt spid="8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68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68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6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6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b6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4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5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6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7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WordArt 6" descr=""/>
          <p:cNvPicPr/>
          <p:nvPr/>
        </p:nvPicPr>
        <p:blipFill>
          <a:blip r:embed="rId1"/>
          <a:stretch/>
        </p:blipFill>
        <p:spPr>
          <a:xfrm>
            <a:off x="208080" y="2054160"/>
            <a:ext cx="8727840" cy="2121120"/>
          </a:xfrm>
          <a:prstGeom prst="rect">
            <a:avLst/>
          </a:prstGeom>
          <a:ln w="0">
            <a:noFill/>
          </a:ln>
        </p:spPr>
      </p:pic>
      <p:pic>
        <p:nvPicPr>
          <p:cNvPr id="788" name="Рисунок 1" descr=""/>
          <p:cNvPicPr/>
          <p:nvPr/>
        </p:nvPicPr>
        <p:blipFill>
          <a:blip r:embed="rId2"/>
          <a:stretch/>
        </p:blipFill>
        <p:spPr>
          <a:xfrm>
            <a:off x="6451560" y="262080"/>
            <a:ext cx="1736640" cy="2203200"/>
          </a:xfrm>
          <a:prstGeom prst="rect">
            <a:avLst/>
          </a:prstGeom>
          <a:ln w="0">
            <a:noFill/>
          </a:ln>
        </p:spPr>
      </p:pic>
      <p:pic>
        <p:nvPicPr>
          <p:cNvPr id="789" name="Рисунок 2" descr=""/>
          <p:cNvPicPr/>
          <p:nvPr/>
        </p:nvPicPr>
        <p:blipFill>
          <a:blip r:embed="rId3"/>
          <a:stretch/>
        </p:blipFill>
        <p:spPr>
          <a:xfrm>
            <a:off x="460440" y="3860640"/>
            <a:ext cx="2671560" cy="27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4b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Цели урока: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бобщить и закрепить знан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по теме “ Служебные части речи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 </a:t>
            </a: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дачи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разовательн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   Обобщить знания учащихся о служебны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частях речи, их функциях, значении, строении,  правописан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 употреблен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звивающ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   Развивать умение учащихся работа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. Совершенствовать монологическую речь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мение участвовать в диалоге, развивать логическо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ышление, расширять словарный запас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спитывающ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  Воспитывать коммуникативность учащихся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работать индивидуально и в коллектив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WordArt 9"/>
          <p:cNvSpPr txBox="1"/>
          <p:nvPr/>
        </p:nvSpPr>
        <p:spPr>
          <a:xfrm>
            <a:off x="3348000" y="54936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Цели урока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798" name="Рисунок 1" descr=""/>
          <p:cNvPicPr/>
          <p:nvPr/>
        </p:nvPicPr>
        <p:blipFill>
          <a:blip r:embed="rId1"/>
          <a:stretch/>
        </p:blipFill>
        <p:spPr>
          <a:xfrm>
            <a:off x="6804000" y="262080"/>
            <a:ext cx="2124000" cy="27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4"/>
          <p:cNvSpPr/>
          <p:nvPr/>
        </p:nvSpPr>
        <p:spPr>
          <a:xfrm>
            <a:off x="395280" y="33336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ни неделимы и цел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орней  и приставок в них не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ельзя отыскать в них морфемы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 в этом их главный сек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5"/>
          <p:cNvSpPr/>
          <p:nvPr/>
        </p:nvSpPr>
        <p:spPr>
          <a:xfrm>
            <a:off x="3225960" y="907920"/>
            <a:ext cx="5918040" cy="315432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cb3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самостоятельные и 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3463920" y="981000"/>
            <a:ext cx="568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самостоятельные части речи вам известны?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чему они так называютс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Объект 2" descr=""/>
          <p:cNvPicPr/>
          <p:nvPr/>
        </p:nvPicPr>
        <p:blipFill>
          <a:blip r:embed="rId1"/>
          <a:stretch/>
        </p:blipFill>
        <p:spPr>
          <a:xfrm>
            <a:off x="0" y="14400"/>
            <a:ext cx="3463920" cy="42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8" dur="20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4"/>
          <p:cNvSpPr/>
          <p:nvPr/>
        </p:nvSpPr>
        <p:spPr>
          <a:xfrm>
            <a:off x="395280" y="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равы ли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231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108000" y="836640"/>
            <a:ext cx="864072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амостоятельные части ре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епричас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8"/>
          <p:cNvSpPr/>
          <p:nvPr/>
        </p:nvSpPr>
        <p:spPr>
          <a:xfrm>
            <a:off x="4664160" y="2060640"/>
            <a:ext cx="865080" cy="4464000"/>
          </a:xfrm>
          <a:custGeom>
            <a:avLst/>
            <a:gdLst>
              <a:gd name="textAreaLeft" fmla="*/ 0 w 865080"/>
              <a:gd name="textAreaRight" fmla="*/ 312480 w 865080"/>
              <a:gd name="textAreaTop" fmla="*/ 127440 h 4464000"/>
              <a:gd name="textAreaBottom" fmla="*/ 43365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7"/>
                  <a:pt x="10800" y="1974"/>
                </a:cubicBezTo>
                <a:lnTo>
                  <a:pt x="10800" y="8826"/>
                </a:lnTo>
                <a:cubicBezTo>
                  <a:pt x="10800" y="9813"/>
                  <a:pt x="16200" y="10800"/>
                  <a:pt x="21600" y="10800"/>
                </a:cubicBezTo>
                <a:cubicBezTo>
                  <a:pt x="16200" y="10800"/>
                  <a:pt x="10800" y="11787"/>
                  <a:pt x="10800" y="12774"/>
                </a:cubicBezTo>
                <a:lnTo>
                  <a:pt x="10800" y="19626"/>
                </a:lnTo>
                <a:cubicBezTo>
                  <a:pt x="10800" y="20613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5219640" y="1944720"/>
            <a:ext cx="392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 они: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являются членам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имеют морфологические призн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 отвечают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Предлоги, союзы, частиц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Все встали в один хоров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лужебные важные лиц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а редкость серьезны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Без них обойтись невозмо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И знают об этом 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Всегда и во всем осторо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игде не гуляют о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Но исподволь и незаме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Значение свое привнес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Здесь свяжут, а рядом разде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Укажут и силу д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47"/>
          <p:cNvSpPr/>
          <p:nvPr/>
        </p:nvSpPr>
        <p:spPr>
          <a:xfrm>
            <a:off x="3225960" y="907920"/>
            <a:ext cx="5918040" cy="3154320"/>
          </a:xfrm>
          <a:prstGeom prst="wedgeEllipseCallout">
            <a:avLst>
              <a:gd name="adj1" fmla="val -51018"/>
              <a:gd name="adj2" fmla="val 7793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кова их роль в предлож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Рисунок 1" descr=""/>
          <p:cNvPicPr/>
          <p:nvPr/>
        </p:nvPicPr>
        <p:blipFill>
          <a:blip r:embed="rId1"/>
          <a:stretch/>
        </p:blipFill>
        <p:spPr>
          <a:xfrm>
            <a:off x="0" y="-219240"/>
            <a:ext cx="2803680" cy="285300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46"/>
          <p:cNvSpPr/>
          <p:nvPr/>
        </p:nvSpPr>
        <p:spPr>
          <a:xfrm flipV="1">
            <a:off x="1403280" y="548280"/>
            <a:ext cx="4897440" cy="4174920"/>
          </a:xfrm>
          <a:prstGeom prst="wedgeEllipseCallout">
            <a:avLst>
              <a:gd name="adj1" fmla="val 74148"/>
              <a:gd name="adj2" fmla="val -33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c339a"/>
                </a:solidFill>
                <a:latin typeface="Comic Sans MS"/>
              </a:rPr>
              <a:t>Найдите в тексте служебны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8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8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8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116676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395280" y="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Arial"/>
              </a:rPr>
              <a:t>Проверим, правы ли 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179280" y="15652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предложении на служ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падежом всегда он в дружб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него показыв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слова все связы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то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 flipV="1" rot="10800000">
            <a:off x="5651280" y="5466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Рисунок 1" descr=""/>
          <p:cNvPicPr/>
          <p:nvPr/>
        </p:nvPicPr>
        <p:blipFill>
          <a:blip r:embed="rId1"/>
          <a:stretch/>
        </p:blipFill>
        <p:spPr>
          <a:xfrm>
            <a:off x="7308720" y="2701800"/>
            <a:ext cx="18352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2:06:08Z</dcterms:created>
  <dc:creator>1</dc:creator>
  <dc:description/>
  <dc:language>en-US</dc:language>
  <cp:lastModifiedBy>Диана</cp:lastModifiedBy>
  <dcterms:modified xsi:type="dcterms:W3CDTF">2019-01-02T19:59:41Z</dcterms:modified>
  <cp:revision>32</cp:revision>
  <dc:subject/>
  <dc:title>Слайд 1</dc:title>
</cp:coreProperties>
</file>