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4.jpeg" ContentType="image/jpeg"/>
  <Override PartName="/ppt/media/image31.jpeg" ContentType="image/jpeg"/>
  <Override PartName="/ppt/media/image25.jpeg" ContentType="image/jpeg"/>
  <Override PartName="/ppt/media/image27.jpeg" ContentType="image/jpeg"/>
  <Override PartName="/ppt/media/image6.jpeg" ContentType="image/jpeg"/>
  <Override PartName="/ppt/media/image23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jpeg" ContentType="image/jpeg"/>
  <Override PartName="/ppt/media/image24.jpeg" ContentType="image/jpeg"/>
  <Override PartName="/ppt/media/image7.png" ContentType="image/png"/>
  <Override PartName="/ppt/media/image22.jpeg" ContentType="image/jpeg"/>
  <Override PartName="/ppt/media/image3.gif" ContentType="image/gif"/>
  <Override PartName="/ppt/media/image12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.gif" ContentType="image/gif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CB96-0392-4B7C-9B30-2A7E120E4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9FF2-1275-4725-99F4-31BECBC41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43F1-1285-44FD-8FF7-1AC32909A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37CA-DDD7-4164-88CD-C319C9FD7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D1209-80D5-4DC6-A68E-61DD096FE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A765C-F0A3-4C5F-8EC3-EA2F10D01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FAAE2-E0D7-4E1C-90C8-D082957FB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EE811-5335-435B-B8EB-35004AEEB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B990D-41BE-4EF0-9A39-A2E49E6D4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C6458-8332-4A3B-BABB-D8F72EA27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DC6A0-0ABC-4202-9C55-711B720B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32D8-6F3B-4F0A-B1DD-44802E5C7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0A319-5C3F-44CF-A12C-A9F0701B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9ECC0-A32D-4991-8C28-8778B52C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54FB6-C217-462B-BF85-17170F85B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782CB-C33A-48D3-9E7E-C67C5E5A7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A259D-87E0-4478-AF8C-5EDAF45D2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4F80-43EB-43CD-8E1C-FA3320EF2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BEAD-11A2-48DB-903D-968AF2A9D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2EB2-B712-4688-BA42-2CBE5B082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F42E-29B8-46E8-87FB-A1A33790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03D7-0DD8-4AE5-897A-3AFD267A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28E1-35DB-4688-9672-7F8515B3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745C-657D-4F59-90E7-7E8B08AB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157CA-4D7D-4F4C-BCBB-BCCA648E5AA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31B3B-F539-4660-91DB-650722D9D2D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10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6.xml"/><Relationship Id="rId9" Type="http://schemas.openxmlformats.org/officeDocument/2006/relationships/slide" Target="slide22.xml"/><Relationship Id="rId10" Type="http://schemas.openxmlformats.org/officeDocument/2006/relationships/slide" Target="slide11.xml"/><Relationship Id="rId11" Type="http://schemas.openxmlformats.org/officeDocument/2006/relationships/slide" Target="slide17.xml"/><Relationship Id="rId12" Type="http://schemas.openxmlformats.org/officeDocument/2006/relationships/slide" Target="slide23.xml"/><Relationship Id="rId13" Type="http://schemas.openxmlformats.org/officeDocument/2006/relationships/slide" Target="slide12.xml"/><Relationship Id="rId14" Type="http://schemas.openxmlformats.org/officeDocument/2006/relationships/slide" Target="slide18.xml"/><Relationship Id="rId15" Type="http://schemas.openxmlformats.org/officeDocument/2006/relationships/slide" Target="slide24.xml"/><Relationship Id="rId16" Type="http://schemas.openxmlformats.org/officeDocument/2006/relationships/slide" Target="slide13.xml"/><Relationship Id="rId17" Type="http://schemas.openxmlformats.org/officeDocument/2006/relationships/slide" Target="slide19.xml"/><Relationship Id="rId18" Type="http://schemas.openxmlformats.org/officeDocument/2006/relationships/slide" Target="slide25.xml"/><Relationship Id="rId19" Type="http://schemas.openxmlformats.org/officeDocument/2006/relationships/slide" Target="slide14.xml"/><Relationship Id="rId20" Type="http://schemas.openxmlformats.org/officeDocument/2006/relationships/slide" Target="slide20.xml"/><Relationship Id="rId21" Type="http://schemas.openxmlformats.org/officeDocument/2006/relationships/slide" Target="slide26.xml"/><Relationship Id="rId22" Type="http://schemas.openxmlformats.org/officeDocument/2006/relationships/slide" Target="slide15.xml"/><Relationship Id="rId23" Type="http://schemas.openxmlformats.org/officeDocument/2006/relationships/slide" Target="slide21.xml"/><Relationship Id="rId24" Type="http://schemas.openxmlformats.org/officeDocument/2006/relationships/slide" Target="slide27.xml"/><Relationship Id="rId25" Type="http://schemas.openxmlformats.org/officeDocument/2006/relationships/slide" Target="slide28.xml"/><Relationship Id="rId26" Type="http://schemas.openxmlformats.org/officeDocument/2006/relationships/image" Target="../media/image5.png"/><Relationship Id="rId2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6"/>
          <p:cNvSpPr txBox="1"/>
          <p:nvPr/>
        </p:nvSpPr>
        <p:spPr>
          <a:xfrm>
            <a:off x="1547640" y="260280"/>
            <a:ext cx="575964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воя иг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1310760" y="2060640"/>
            <a:ext cx="5790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ознавательная игра по тем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«Ты тоже родился в России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для младших школьник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0" y="5118120"/>
            <a:ext cx="492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Times New Roman"/>
              </a:rPr>
              <a:t>Автор: Черемисина Лариса Владимировна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Times New Roman"/>
              </a:rPr>
              <a:t>учитель начальных  классов МКО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cc"/>
                </a:solidFill>
                <a:latin typeface="Times New Roman"/>
              </a:rPr>
              <a:t>«Гимназия №9» г.Шадринс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9" descr="45"/>
          <p:cNvPicPr/>
          <p:nvPr/>
        </p:nvPicPr>
        <p:blipFill>
          <a:blip r:embed="rId1"/>
          <a:stretch/>
        </p:blipFill>
        <p:spPr>
          <a:xfrm>
            <a:off x="5940360" y="4724280"/>
            <a:ext cx="2460600" cy="15876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AutoShape 2">
            <a:hlinkClick r:id="rId1" action="ppaction://hlinksldjump"/>
          </p:cNvPr>
          <p:cNvSpPr/>
          <p:nvPr/>
        </p:nvSpPr>
        <p:spPr>
          <a:xfrm>
            <a:off x="8605800" y="6391440"/>
            <a:ext cx="538200" cy="466560"/>
          </a:xfrm>
          <a:custGeom>
            <a:avLst/>
            <a:gdLst>
              <a:gd name="textAreaLeft" fmla="*/ 30240 w 538200"/>
              <a:gd name="textAreaRight" fmla="*/ 507960 w 53820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24914" h="21600">
                <a:moveTo>
                  <a:pt x="0" y="0"/>
                </a:moveTo>
                <a:lnTo>
                  <a:pt x="24914" y="0"/>
                </a:lnTo>
                <a:lnTo>
                  <a:pt x="24914" y="21600"/>
                </a:lnTo>
                <a:lnTo>
                  <a:pt x="0" y="21600"/>
                </a:lnTo>
                <a:close/>
              </a:path>
              <a:path fill="lightenLess" w="24914" h="21600">
                <a:moveTo>
                  <a:pt x="0" y="0"/>
                </a:moveTo>
                <a:lnTo>
                  <a:pt x="24914" y="0"/>
                </a:lnTo>
                <a:lnTo>
                  <a:pt x="23514" y="1400"/>
                </a:lnTo>
                <a:lnTo>
                  <a:pt x="1400" y="1400"/>
                </a:lnTo>
                <a:close/>
              </a:path>
              <a:path fill="darken" w="24914" h="21600">
                <a:moveTo>
                  <a:pt x="24914" y="0"/>
                </a:moveTo>
                <a:lnTo>
                  <a:pt x="24914" y="21600"/>
                </a:lnTo>
                <a:lnTo>
                  <a:pt x="23514" y="20200"/>
                </a:lnTo>
                <a:lnTo>
                  <a:pt x="23514" y="1400"/>
                </a:lnTo>
                <a:close/>
              </a:path>
              <a:path fill="darkenLess" w="24914" h="21600">
                <a:moveTo>
                  <a:pt x="24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4" y="20200"/>
                </a:lnTo>
                <a:close/>
              </a:path>
              <a:path fill="lighten" w="24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4" h="21600">
                <a:moveTo>
                  <a:pt x="12457" y="3837"/>
                </a:moveTo>
                <a:lnTo>
                  <a:pt x="15033" y="6448"/>
                </a:lnTo>
                <a:lnTo>
                  <a:pt x="15033" y="4707"/>
                </a:lnTo>
                <a:lnTo>
                  <a:pt x="16809" y="4707"/>
                </a:lnTo>
                <a:lnTo>
                  <a:pt x="16809" y="8224"/>
                </a:lnTo>
                <a:lnTo>
                  <a:pt x="19420" y="10800"/>
                </a:lnTo>
                <a:lnTo>
                  <a:pt x="17766" y="10800"/>
                </a:lnTo>
                <a:lnTo>
                  <a:pt x="17766" y="17989"/>
                </a:lnTo>
                <a:lnTo>
                  <a:pt x="7148" y="17989"/>
                </a:lnTo>
                <a:lnTo>
                  <a:pt x="7148" y="10800"/>
                </a:lnTo>
                <a:lnTo>
                  <a:pt x="5494" y="10800"/>
                </a:lnTo>
                <a:close/>
              </a:path>
              <a:path fill="darkenLess" w="24914" h="21600">
                <a:moveTo>
                  <a:pt x="15033" y="6448"/>
                </a:moveTo>
                <a:lnTo>
                  <a:pt x="15033" y="4707"/>
                </a:lnTo>
                <a:lnTo>
                  <a:pt x="16809" y="4707"/>
                </a:lnTo>
                <a:lnTo>
                  <a:pt x="16809" y="8224"/>
                </a:lnTo>
                <a:close/>
              </a:path>
              <a:path fill="darkenLess" w="24914" h="21600">
                <a:moveTo>
                  <a:pt x="11534" y="14299"/>
                </a:moveTo>
                <a:lnTo>
                  <a:pt x="13380" y="14299"/>
                </a:lnTo>
                <a:lnTo>
                  <a:pt x="13380" y="17989"/>
                </a:lnTo>
                <a:lnTo>
                  <a:pt x="17766" y="17989"/>
                </a:lnTo>
                <a:lnTo>
                  <a:pt x="17766" y="10800"/>
                </a:lnTo>
                <a:lnTo>
                  <a:pt x="7148" y="10800"/>
                </a:lnTo>
                <a:lnTo>
                  <a:pt x="7148" y="17989"/>
                </a:lnTo>
                <a:lnTo>
                  <a:pt x="11534" y="17989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AutoShape 3"/>
          <p:cNvSpPr/>
          <p:nvPr/>
        </p:nvSpPr>
        <p:spPr>
          <a:xfrm>
            <a:off x="826920" y="0"/>
            <a:ext cx="6913800" cy="2205000"/>
          </a:xfrm>
          <a:prstGeom prst="horizontalScrol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В последнее воскресенье какого месяц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в России отмечается День матери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6163560" y="234936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Ноябрь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Picture 5" descr="61621364_1279313961_bereza11"/>
          <p:cNvPicPr/>
          <p:nvPr/>
        </p:nvPicPr>
        <p:blipFill>
          <a:blip r:embed="rId2"/>
          <a:stretch/>
        </p:blipFill>
        <p:spPr>
          <a:xfrm>
            <a:off x="1857240" y="2286000"/>
            <a:ext cx="3637080" cy="3814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2">
            <a:hlinkClick r:id="rId1" action="ppaction://hlinksldjump"/>
          </p:cNvPr>
          <p:cNvSpPr/>
          <p:nvPr/>
        </p:nvSpPr>
        <p:spPr>
          <a:xfrm>
            <a:off x="8677440" y="6391440"/>
            <a:ext cx="466560" cy="466560"/>
          </a:xfrm>
          <a:custGeom>
            <a:avLst/>
            <a:gdLst>
              <a:gd name="textAreaLeft" fmla="*/ 30240 w 466560"/>
              <a:gd name="textAreaRight" fmla="*/ 436320 w 46656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AutoShape 3"/>
          <p:cNvSpPr/>
          <p:nvPr/>
        </p:nvSpPr>
        <p:spPr>
          <a:xfrm>
            <a:off x="826920" y="0"/>
            <a:ext cx="7531200" cy="2857680"/>
          </a:xfrm>
          <a:prstGeom prst="horizontalScrol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Этот праздник – проводы русской зимы. В старин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к нему строились первые качели и карусел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екли блины, оладьи, сырники. Кульминаци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раздника – костры. Пока горел костер, кричали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«Молоко сгорело!» или «… сгорела, в Ростов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олетела!» О каком празднике идет речь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6296040" y="2928960"/>
            <a:ext cx="21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Масленица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Picture 5" descr="landishi"/>
          <p:cNvPicPr/>
          <p:nvPr/>
        </p:nvPicPr>
        <p:blipFill>
          <a:blip r:embed="rId2"/>
          <a:stretch/>
        </p:blipFill>
        <p:spPr>
          <a:xfrm>
            <a:off x="1214280" y="2857680"/>
            <a:ext cx="4980240" cy="35002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AutoShape 2"/>
          <p:cNvSpPr/>
          <p:nvPr/>
        </p:nvSpPr>
        <p:spPr>
          <a:xfrm>
            <a:off x="8640720" y="635328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10800" y="3868"/>
                </a:moveTo>
                <a:lnTo>
                  <a:pt x="13376" y="6479"/>
                </a:lnTo>
                <a:lnTo>
                  <a:pt x="13376" y="4738"/>
                </a:lnTo>
                <a:lnTo>
                  <a:pt x="15152" y="4738"/>
                </a:lnTo>
                <a:lnTo>
                  <a:pt x="15152" y="8255"/>
                </a:lnTo>
                <a:lnTo>
                  <a:pt x="17763" y="10831"/>
                </a:lnTo>
                <a:lnTo>
                  <a:pt x="16109" y="10831"/>
                </a:lnTo>
                <a:lnTo>
                  <a:pt x="16109" y="18020"/>
                </a:lnTo>
                <a:lnTo>
                  <a:pt x="5491" y="18020"/>
                </a:lnTo>
                <a:lnTo>
                  <a:pt x="5491" y="10831"/>
                </a:lnTo>
                <a:lnTo>
                  <a:pt x="3837" y="10831"/>
                </a:lnTo>
                <a:close/>
              </a:path>
              <a:path fill="darkenLess" w="21600" h="21662">
                <a:moveTo>
                  <a:pt x="13376" y="6479"/>
                </a:moveTo>
                <a:lnTo>
                  <a:pt x="13376" y="4738"/>
                </a:lnTo>
                <a:lnTo>
                  <a:pt x="15152" y="4738"/>
                </a:lnTo>
                <a:lnTo>
                  <a:pt x="15152" y="8255"/>
                </a:lnTo>
                <a:close/>
              </a:path>
              <a:path fill="darkenLess" w="21600" h="21662">
                <a:moveTo>
                  <a:pt x="9877" y="14330"/>
                </a:moveTo>
                <a:lnTo>
                  <a:pt x="11723" y="14330"/>
                </a:lnTo>
                <a:lnTo>
                  <a:pt x="11723" y="18020"/>
                </a:lnTo>
                <a:lnTo>
                  <a:pt x="16109" y="18020"/>
                </a:lnTo>
                <a:lnTo>
                  <a:pt x="16109" y="10831"/>
                </a:lnTo>
                <a:lnTo>
                  <a:pt x="5491" y="10831"/>
                </a:lnTo>
                <a:lnTo>
                  <a:pt x="5491" y="18020"/>
                </a:lnTo>
                <a:lnTo>
                  <a:pt x="9877" y="1802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AutoShape 3"/>
          <p:cNvSpPr/>
          <p:nvPr/>
        </p:nvSpPr>
        <p:spPr>
          <a:xfrm>
            <a:off x="826920" y="0"/>
            <a:ext cx="6913800" cy="2205000"/>
          </a:xfrm>
          <a:prstGeom prst="horizontalScrol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Какой месяц в старину называли «снегогон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зажги снега, заиграй овражки»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6432840" y="2500200"/>
            <a:ext cx="138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Апрель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Picture 5" descr="74459539_large_70482"/>
          <p:cNvPicPr/>
          <p:nvPr/>
        </p:nvPicPr>
        <p:blipFill>
          <a:blip r:embed="rId1"/>
          <a:stretch/>
        </p:blipFill>
        <p:spPr>
          <a:xfrm>
            <a:off x="1258920" y="2214720"/>
            <a:ext cx="4903920" cy="33130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AutoShape 2"/>
          <p:cNvSpPr/>
          <p:nvPr/>
        </p:nvSpPr>
        <p:spPr>
          <a:xfrm>
            <a:off x="8677440" y="6353280"/>
            <a:ext cx="466560" cy="504720"/>
          </a:xfrm>
          <a:custGeom>
            <a:avLst/>
            <a:gdLst>
              <a:gd name="textAreaLeft" fmla="*/ 30240 w 466560"/>
              <a:gd name="textAreaRight" fmla="*/ 436320 w 466560"/>
              <a:gd name="textAreaTop" fmla="*/ 30240 h 504720"/>
              <a:gd name="textAreaBottom" fmla="*/ 474480 h 504720"/>
            </a:gdLst>
            <a:ahLst/>
            <a:rect l="textAreaLeft" t="textAreaTop" r="textAreaRight" b="textAreaBottom"/>
            <a:pathLst>
              <a:path w="21600" h="23365">
                <a:moveTo>
                  <a:pt x="0" y="0"/>
                </a:moveTo>
                <a:lnTo>
                  <a:pt x="21600" y="0"/>
                </a:lnTo>
                <a:lnTo>
                  <a:pt x="21600" y="23365"/>
                </a:lnTo>
                <a:lnTo>
                  <a:pt x="0" y="23365"/>
                </a:lnTo>
                <a:close/>
              </a:path>
              <a:path fill="lightenLess" w="21600" h="233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65">
                <a:moveTo>
                  <a:pt x="21600" y="0"/>
                </a:moveTo>
                <a:lnTo>
                  <a:pt x="21600" y="23365"/>
                </a:lnTo>
                <a:lnTo>
                  <a:pt x="20200" y="21965"/>
                </a:lnTo>
                <a:lnTo>
                  <a:pt x="20200" y="1400"/>
                </a:lnTo>
                <a:close/>
              </a:path>
              <a:path fill="darkenLess" w="21600" h="23365">
                <a:moveTo>
                  <a:pt x="21600" y="23365"/>
                </a:moveTo>
                <a:lnTo>
                  <a:pt x="0" y="23365"/>
                </a:lnTo>
                <a:lnTo>
                  <a:pt x="1400" y="21965"/>
                </a:lnTo>
                <a:lnTo>
                  <a:pt x="20200" y="21965"/>
                </a:lnTo>
                <a:close/>
              </a:path>
              <a:path fill="lighten" w="21600" h="23365">
                <a:moveTo>
                  <a:pt x="0" y="233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65"/>
                </a:lnTo>
                <a:close/>
              </a:path>
              <a:path fill="darken" w="21600" h="23365">
                <a:moveTo>
                  <a:pt x="10800" y="4720"/>
                </a:moveTo>
                <a:lnTo>
                  <a:pt x="13376" y="7331"/>
                </a:lnTo>
                <a:lnTo>
                  <a:pt x="13376" y="5590"/>
                </a:lnTo>
                <a:lnTo>
                  <a:pt x="15152" y="5590"/>
                </a:lnTo>
                <a:lnTo>
                  <a:pt x="15152" y="9106"/>
                </a:lnTo>
                <a:lnTo>
                  <a:pt x="17763" y="11683"/>
                </a:lnTo>
                <a:lnTo>
                  <a:pt x="16109" y="11683"/>
                </a:lnTo>
                <a:lnTo>
                  <a:pt x="16109" y="18872"/>
                </a:lnTo>
                <a:lnTo>
                  <a:pt x="5491" y="18872"/>
                </a:lnTo>
                <a:lnTo>
                  <a:pt x="5491" y="11683"/>
                </a:lnTo>
                <a:lnTo>
                  <a:pt x="3837" y="11683"/>
                </a:lnTo>
                <a:close/>
              </a:path>
              <a:path fill="darkenLess" w="21600" h="23365">
                <a:moveTo>
                  <a:pt x="13376" y="7331"/>
                </a:moveTo>
                <a:lnTo>
                  <a:pt x="13376" y="5590"/>
                </a:lnTo>
                <a:lnTo>
                  <a:pt x="15152" y="5590"/>
                </a:lnTo>
                <a:lnTo>
                  <a:pt x="15152" y="9106"/>
                </a:lnTo>
                <a:close/>
              </a:path>
              <a:path fill="darkenLess" w="21600" h="23365">
                <a:moveTo>
                  <a:pt x="9877" y="15182"/>
                </a:moveTo>
                <a:lnTo>
                  <a:pt x="11723" y="15182"/>
                </a:lnTo>
                <a:lnTo>
                  <a:pt x="11723" y="18872"/>
                </a:lnTo>
                <a:lnTo>
                  <a:pt x="16109" y="18872"/>
                </a:lnTo>
                <a:lnTo>
                  <a:pt x="16109" y="11683"/>
                </a:lnTo>
                <a:lnTo>
                  <a:pt x="5491" y="11683"/>
                </a:lnTo>
                <a:lnTo>
                  <a:pt x="5491" y="18872"/>
                </a:lnTo>
                <a:lnTo>
                  <a:pt x="9877" y="1887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AutoShape 3"/>
          <p:cNvSpPr/>
          <p:nvPr/>
        </p:nvSpPr>
        <p:spPr>
          <a:xfrm>
            <a:off x="826920" y="0"/>
            <a:ext cx="8031240" cy="3857760"/>
          </a:xfrm>
          <a:prstGeom prst="horizontalScrol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На какой праздник в старину колядовали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ришла коляда, отворяй ворота!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Блин да лепешка кладись на окошко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Коли нет блина, то конец пирог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Коли ж нет пирога, то корову за рога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есню заключали приветствием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Христос народился, рай растворился, Иуда удавилс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С праздником поздравляем, и вам того же желае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6567840" y="3714840"/>
            <a:ext cx="210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Рождество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Picture 5" descr="post-69727-1266421605_thumb"/>
          <p:cNvPicPr/>
          <p:nvPr/>
        </p:nvPicPr>
        <p:blipFill>
          <a:blip r:embed="rId1"/>
          <a:stretch/>
        </p:blipFill>
        <p:spPr>
          <a:xfrm>
            <a:off x="1928880" y="3571920"/>
            <a:ext cx="3929040" cy="29462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2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AutoShape 2"/>
          <p:cNvSpPr/>
          <p:nvPr/>
        </p:nvSpPr>
        <p:spPr>
          <a:xfrm>
            <a:off x="8677440" y="6353280"/>
            <a:ext cx="466560" cy="504720"/>
          </a:xfrm>
          <a:custGeom>
            <a:avLst/>
            <a:gdLst>
              <a:gd name="textAreaLeft" fmla="*/ 30240 w 466560"/>
              <a:gd name="textAreaRight" fmla="*/ 436320 w 466560"/>
              <a:gd name="textAreaTop" fmla="*/ 30240 h 504720"/>
              <a:gd name="textAreaBottom" fmla="*/ 474480 h 504720"/>
            </a:gdLst>
            <a:ahLst/>
            <a:rect l="textAreaLeft" t="textAreaTop" r="textAreaRight" b="textAreaBottom"/>
            <a:pathLst>
              <a:path w="21600" h="23365">
                <a:moveTo>
                  <a:pt x="0" y="0"/>
                </a:moveTo>
                <a:lnTo>
                  <a:pt x="21600" y="0"/>
                </a:lnTo>
                <a:lnTo>
                  <a:pt x="21600" y="23365"/>
                </a:lnTo>
                <a:lnTo>
                  <a:pt x="0" y="23365"/>
                </a:lnTo>
                <a:close/>
              </a:path>
              <a:path fill="lightenLess" w="21600" h="233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65">
                <a:moveTo>
                  <a:pt x="21600" y="0"/>
                </a:moveTo>
                <a:lnTo>
                  <a:pt x="21600" y="23365"/>
                </a:lnTo>
                <a:lnTo>
                  <a:pt x="20200" y="21965"/>
                </a:lnTo>
                <a:lnTo>
                  <a:pt x="20200" y="1400"/>
                </a:lnTo>
                <a:close/>
              </a:path>
              <a:path fill="darkenLess" w="21600" h="23365">
                <a:moveTo>
                  <a:pt x="21600" y="23365"/>
                </a:moveTo>
                <a:lnTo>
                  <a:pt x="0" y="23365"/>
                </a:lnTo>
                <a:lnTo>
                  <a:pt x="1400" y="21965"/>
                </a:lnTo>
                <a:lnTo>
                  <a:pt x="20200" y="21965"/>
                </a:lnTo>
                <a:close/>
              </a:path>
              <a:path fill="lighten" w="21600" h="23365">
                <a:moveTo>
                  <a:pt x="0" y="233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65"/>
                </a:lnTo>
                <a:close/>
              </a:path>
              <a:path fill="darken" w="21600" h="23365">
                <a:moveTo>
                  <a:pt x="10800" y="4720"/>
                </a:moveTo>
                <a:lnTo>
                  <a:pt x="13376" y="7331"/>
                </a:lnTo>
                <a:lnTo>
                  <a:pt x="13376" y="5590"/>
                </a:lnTo>
                <a:lnTo>
                  <a:pt x="15152" y="5590"/>
                </a:lnTo>
                <a:lnTo>
                  <a:pt x="15152" y="9106"/>
                </a:lnTo>
                <a:lnTo>
                  <a:pt x="17763" y="11683"/>
                </a:lnTo>
                <a:lnTo>
                  <a:pt x="16109" y="11683"/>
                </a:lnTo>
                <a:lnTo>
                  <a:pt x="16109" y="18872"/>
                </a:lnTo>
                <a:lnTo>
                  <a:pt x="5491" y="18872"/>
                </a:lnTo>
                <a:lnTo>
                  <a:pt x="5491" y="11683"/>
                </a:lnTo>
                <a:lnTo>
                  <a:pt x="3837" y="11683"/>
                </a:lnTo>
                <a:close/>
              </a:path>
              <a:path fill="darkenLess" w="21600" h="23365">
                <a:moveTo>
                  <a:pt x="13376" y="7331"/>
                </a:moveTo>
                <a:lnTo>
                  <a:pt x="13376" y="5590"/>
                </a:lnTo>
                <a:lnTo>
                  <a:pt x="15152" y="5590"/>
                </a:lnTo>
                <a:lnTo>
                  <a:pt x="15152" y="9106"/>
                </a:lnTo>
                <a:close/>
              </a:path>
              <a:path fill="darkenLess" w="21600" h="23365">
                <a:moveTo>
                  <a:pt x="9877" y="15182"/>
                </a:moveTo>
                <a:lnTo>
                  <a:pt x="11723" y="15182"/>
                </a:lnTo>
                <a:lnTo>
                  <a:pt x="11723" y="18872"/>
                </a:lnTo>
                <a:lnTo>
                  <a:pt x="16109" y="18872"/>
                </a:lnTo>
                <a:lnTo>
                  <a:pt x="16109" y="11683"/>
                </a:lnTo>
                <a:lnTo>
                  <a:pt x="5491" y="11683"/>
                </a:lnTo>
                <a:lnTo>
                  <a:pt x="5491" y="18872"/>
                </a:lnTo>
                <a:lnTo>
                  <a:pt x="9877" y="1887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AutoShape 3"/>
          <p:cNvSpPr/>
          <p:nvPr/>
        </p:nvSpPr>
        <p:spPr>
          <a:xfrm>
            <a:off x="826920" y="0"/>
            <a:ext cx="7888320" cy="3857760"/>
          </a:xfrm>
          <a:prstGeom prst="horizontalScrol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В древней Руси в день именин было принято печь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ироги и рассылать родным и близким, как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своеобразное приглашение на праздник. Тот, кт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риносил пироги, ставил их на стол и говорил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«Именинник приказал кланяться пирогами 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росил хлеба кушать». А во время праздника порог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разламывали над головой именинника и начинк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сыпалась ему на голову. Почему так делали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5500800" y="3714840"/>
            <a:ext cx="3429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Гости в это время приговаривал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«Чтобы на тебя так сыпалось золото и серебро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Picture 5" descr="77062766_large_4524271_17"/>
          <p:cNvPicPr/>
          <p:nvPr/>
        </p:nvPicPr>
        <p:blipFill>
          <a:blip r:embed="rId1"/>
          <a:stretch/>
        </p:blipFill>
        <p:spPr>
          <a:xfrm>
            <a:off x="1357200" y="3571920"/>
            <a:ext cx="4078440" cy="3058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7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AutoShape 2"/>
          <p:cNvSpPr/>
          <p:nvPr/>
        </p:nvSpPr>
        <p:spPr>
          <a:xfrm>
            <a:off x="8677440" y="6353280"/>
            <a:ext cx="466560" cy="504720"/>
          </a:xfrm>
          <a:custGeom>
            <a:avLst/>
            <a:gdLst>
              <a:gd name="textAreaLeft" fmla="*/ 30240 w 466560"/>
              <a:gd name="textAreaRight" fmla="*/ 436320 w 466560"/>
              <a:gd name="textAreaTop" fmla="*/ 30240 h 504720"/>
              <a:gd name="textAreaBottom" fmla="*/ 474480 h 504720"/>
            </a:gdLst>
            <a:ahLst/>
            <a:rect l="textAreaLeft" t="textAreaTop" r="textAreaRight" b="textAreaBottom"/>
            <a:pathLst>
              <a:path w="21600" h="23365">
                <a:moveTo>
                  <a:pt x="0" y="0"/>
                </a:moveTo>
                <a:lnTo>
                  <a:pt x="21600" y="0"/>
                </a:lnTo>
                <a:lnTo>
                  <a:pt x="21600" y="23365"/>
                </a:lnTo>
                <a:lnTo>
                  <a:pt x="0" y="23365"/>
                </a:lnTo>
                <a:close/>
              </a:path>
              <a:path fill="lightenLess" w="21600" h="233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65">
                <a:moveTo>
                  <a:pt x="21600" y="0"/>
                </a:moveTo>
                <a:lnTo>
                  <a:pt x="21600" y="23365"/>
                </a:lnTo>
                <a:lnTo>
                  <a:pt x="20200" y="21965"/>
                </a:lnTo>
                <a:lnTo>
                  <a:pt x="20200" y="1400"/>
                </a:lnTo>
                <a:close/>
              </a:path>
              <a:path fill="darkenLess" w="21600" h="23365">
                <a:moveTo>
                  <a:pt x="21600" y="23365"/>
                </a:moveTo>
                <a:lnTo>
                  <a:pt x="0" y="23365"/>
                </a:lnTo>
                <a:lnTo>
                  <a:pt x="1400" y="21965"/>
                </a:lnTo>
                <a:lnTo>
                  <a:pt x="20200" y="21965"/>
                </a:lnTo>
                <a:close/>
              </a:path>
              <a:path fill="lighten" w="21600" h="23365">
                <a:moveTo>
                  <a:pt x="0" y="233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65"/>
                </a:lnTo>
                <a:close/>
              </a:path>
              <a:path fill="darken" w="21600" h="23365">
                <a:moveTo>
                  <a:pt x="10800" y="4720"/>
                </a:moveTo>
                <a:lnTo>
                  <a:pt x="13376" y="7331"/>
                </a:lnTo>
                <a:lnTo>
                  <a:pt x="13376" y="5590"/>
                </a:lnTo>
                <a:lnTo>
                  <a:pt x="15152" y="5590"/>
                </a:lnTo>
                <a:lnTo>
                  <a:pt x="15152" y="9106"/>
                </a:lnTo>
                <a:lnTo>
                  <a:pt x="17763" y="11683"/>
                </a:lnTo>
                <a:lnTo>
                  <a:pt x="16109" y="11683"/>
                </a:lnTo>
                <a:lnTo>
                  <a:pt x="16109" y="18872"/>
                </a:lnTo>
                <a:lnTo>
                  <a:pt x="5491" y="18872"/>
                </a:lnTo>
                <a:lnTo>
                  <a:pt x="5491" y="11683"/>
                </a:lnTo>
                <a:lnTo>
                  <a:pt x="3837" y="11683"/>
                </a:lnTo>
                <a:close/>
              </a:path>
              <a:path fill="darkenLess" w="21600" h="23365">
                <a:moveTo>
                  <a:pt x="13376" y="7331"/>
                </a:moveTo>
                <a:lnTo>
                  <a:pt x="13376" y="5590"/>
                </a:lnTo>
                <a:lnTo>
                  <a:pt x="15152" y="5590"/>
                </a:lnTo>
                <a:lnTo>
                  <a:pt x="15152" y="9106"/>
                </a:lnTo>
                <a:close/>
              </a:path>
              <a:path fill="darkenLess" w="21600" h="23365">
                <a:moveTo>
                  <a:pt x="9877" y="15182"/>
                </a:moveTo>
                <a:lnTo>
                  <a:pt x="11723" y="15182"/>
                </a:lnTo>
                <a:lnTo>
                  <a:pt x="11723" y="18872"/>
                </a:lnTo>
                <a:lnTo>
                  <a:pt x="16109" y="18872"/>
                </a:lnTo>
                <a:lnTo>
                  <a:pt x="16109" y="11683"/>
                </a:lnTo>
                <a:lnTo>
                  <a:pt x="5491" y="11683"/>
                </a:lnTo>
                <a:lnTo>
                  <a:pt x="5491" y="18872"/>
                </a:lnTo>
                <a:lnTo>
                  <a:pt x="9877" y="1887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AutoShape 3"/>
          <p:cNvSpPr/>
          <p:nvPr/>
        </p:nvSpPr>
        <p:spPr>
          <a:xfrm>
            <a:off x="826920" y="0"/>
            <a:ext cx="7317000" cy="2205000"/>
          </a:xfrm>
          <a:prstGeom prst="horizontalScrol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На Руси, когда вся семья собиралась з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новогодним столом, дети связывали ножки стол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лыковой верёвкой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Что символизировал этот новогодний обычай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5143680" y="2244600"/>
            <a:ext cx="4000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Это означало, что семья в наступающем году будет крепкой и не должна разлучатьс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7" name="Picture 5" descr="valeriana_1"/>
          <p:cNvPicPr/>
          <p:nvPr/>
        </p:nvPicPr>
        <p:blipFill>
          <a:blip r:embed="rId1"/>
          <a:stretch/>
        </p:blipFill>
        <p:spPr>
          <a:xfrm>
            <a:off x="500040" y="2428920"/>
            <a:ext cx="4683240" cy="3429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2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2"/>
          <p:cNvSpPr/>
          <p:nvPr/>
        </p:nvSpPr>
        <p:spPr>
          <a:xfrm>
            <a:off x="8677440" y="6353280"/>
            <a:ext cx="466560" cy="504720"/>
          </a:xfrm>
          <a:custGeom>
            <a:avLst/>
            <a:gdLst>
              <a:gd name="textAreaLeft" fmla="*/ 30240 w 466560"/>
              <a:gd name="textAreaRight" fmla="*/ 436320 w 466560"/>
              <a:gd name="textAreaTop" fmla="*/ 30240 h 504720"/>
              <a:gd name="textAreaBottom" fmla="*/ 474480 h 504720"/>
            </a:gdLst>
            <a:ahLst/>
            <a:rect l="textAreaLeft" t="textAreaTop" r="textAreaRight" b="textAreaBottom"/>
            <a:pathLst>
              <a:path w="21600" h="23365">
                <a:moveTo>
                  <a:pt x="0" y="0"/>
                </a:moveTo>
                <a:lnTo>
                  <a:pt x="21600" y="0"/>
                </a:lnTo>
                <a:lnTo>
                  <a:pt x="21600" y="23365"/>
                </a:lnTo>
                <a:lnTo>
                  <a:pt x="0" y="23365"/>
                </a:lnTo>
                <a:close/>
              </a:path>
              <a:path fill="lightenLess" w="21600" h="233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65">
                <a:moveTo>
                  <a:pt x="21600" y="0"/>
                </a:moveTo>
                <a:lnTo>
                  <a:pt x="21600" y="23365"/>
                </a:lnTo>
                <a:lnTo>
                  <a:pt x="20200" y="21965"/>
                </a:lnTo>
                <a:lnTo>
                  <a:pt x="20200" y="1400"/>
                </a:lnTo>
                <a:close/>
              </a:path>
              <a:path fill="darkenLess" w="21600" h="23365">
                <a:moveTo>
                  <a:pt x="21600" y="23365"/>
                </a:moveTo>
                <a:lnTo>
                  <a:pt x="0" y="23365"/>
                </a:lnTo>
                <a:lnTo>
                  <a:pt x="1400" y="21965"/>
                </a:lnTo>
                <a:lnTo>
                  <a:pt x="20200" y="21965"/>
                </a:lnTo>
                <a:close/>
              </a:path>
              <a:path fill="lighten" w="21600" h="23365">
                <a:moveTo>
                  <a:pt x="0" y="233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65"/>
                </a:lnTo>
                <a:close/>
              </a:path>
              <a:path fill="darken" w="21600" h="23365">
                <a:moveTo>
                  <a:pt x="10800" y="4720"/>
                </a:moveTo>
                <a:lnTo>
                  <a:pt x="13376" y="7331"/>
                </a:lnTo>
                <a:lnTo>
                  <a:pt x="13376" y="5590"/>
                </a:lnTo>
                <a:lnTo>
                  <a:pt x="15152" y="5590"/>
                </a:lnTo>
                <a:lnTo>
                  <a:pt x="15152" y="9106"/>
                </a:lnTo>
                <a:lnTo>
                  <a:pt x="17763" y="11683"/>
                </a:lnTo>
                <a:lnTo>
                  <a:pt x="16109" y="11683"/>
                </a:lnTo>
                <a:lnTo>
                  <a:pt x="16109" y="18872"/>
                </a:lnTo>
                <a:lnTo>
                  <a:pt x="5491" y="18872"/>
                </a:lnTo>
                <a:lnTo>
                  <a:pt x="5491" y="11683"/>
                </a:lnTo>
                <a:lnTo>
                  <a:pt x="3837" y="11683"/>
                </a:lnTo>
                <a:close/>
              </a:path>
              <a:path fill="darkenLess" w="21600" h="23365">
                <a:moveTo>
                  <a:pt x="13376" y="7331"/>
                </a:moveTo>
                <a:lnTo>
                  <a:pt x="13376" y="5590"/>
                </a:lnTo>
                <a:lnTo>
                  <a:pt x="15152" y="5590"/>
                </a:lnTo>
                <a:lnTo>
                  <a:pt x="15152" y="9106"/>
                </a:lnTo>
                <a:close/>
              </a:path>
              <a:path fill="darkenLess" w="21600" h="23365">
                <a:moveTo>
                  <a:pt x="9877" y="15182"/>
                </a:moveTo>
                <a:lnTo>
                  <a:pt x="11723" y="15182"/>
                </a:lnTo>
                <a:lnTo>
                  <a:pt x="11723" y="18872"/>
                </a:lnTo>
                <a:lnTo>
                  <a:pt x="16109" y="18872"/>
                </a:lnTo>
                <a:lnTo>
                  <a:pt x="16109" y="11683"/>
                </a:lnTo>
                <a:lnTo>
                  <a:pt x="5491" y="11683"/>
                </a:lnTo>
                <a:lnTo>
                  <a:pt x="5491" y="18872"/>
                </a:lnTo>
                <a:lnTo>
                  <a:pt x="9877" y="1887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AutoShape 3"/>
          <p:cNvSpPr/>
          <p:nvPr/>
        </p:nvSpPr>
        <p:spPr>
          <a:xfrm>
            <a:off x="826920" y="0"/>
            <a:ext cx="7745760" cy="2428920"/>
          </a:xfrm>
          <a:prstGeom prst="horizontalScrol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Благодаря этому человеку русская литература стал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одной из величайших литератур мира. Его называю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творцом современного русского языка. Он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написал много стихов и сказок. Погиб на дуэл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О ком речь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5500800" y="2643120"/>
            <a:ext cx="316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А.С.Пушки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1" name="Picture 5" descr="6a00d8341bf67c53ef0147e3d0407f970b-800wi"/>
          <p:cNvPicPr/>
          <p:nvPr/>
        </p:nvPicPr>
        <p:blipFill>
          <a:blip r:embed="rId1"/>
          <a:stretch/>
        </p:blipFill>
        <p:spPr>
          <a:xfrm>
            <a:off x="1441440" y="2349360"/>
            <a:ext cx="3571920" cy="42865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9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9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AutoShape 2"/>
          <p:cNvSpPr/>
          <p:nvPr/>
        </p:nvSpPr>
        <p:spPr>
          <a:xfrm>
            <a:off x="8677440" y="6353280"/>
            <a:ext cx="466560" cy="504720"/>
          </a:xfrm>
          <a:custGeom>
            <a:avLst/>
            <a:gdLst>
              <a:gd name="textAreaLeft" fmla="*/ 30240 w 466560"/>
              <a:gd name="textAreaRight" fmla="*/ 436320 w 466560"/>
              <a:gd name="textAreaTop" fmla="*/ 30240 h 504720"/>
              <a:gd name="textAreaBottom" fmla="*/ 474480 h 504720"/>
            </a:gdLst>
            <a:ahLst/>
            <a:rect l="textAreaLeft" t="textAreaTop" r="textAreaRight" b="textAreaBottom"/>
            <a:pathLst>
              <a:path w="21600" h="23365">
                <a:moveTo>
                  <a:pt x="0" y="0"/>
                </a:moveTo>
                <a:lnTo>
                  <a:pt x="21600" y="0"/>
                </a:lnTo>
                <a:lnTo>
                  <a:pt x="21600" y="23365"/>
                </a:lnTo>
                <a:lnTo>
                  <a:pt x="0" y="23365"/>
                </a:lnTo>
                <a:close/>
              </a:path>
              <a:path fill="lightenLess" w="21600" h="233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65">
                <a:moveTo>
                  <a:pt x="21600" y="0"/>
                </a:moveTo>
                <a:lnTo>
                  <a:pt x="21600" y="23365"/>
                </a:lnTo>
                <a:lnTo>
                  <a:pt x="20200" y="21965"/>
                </a:lnTo>
                <a:lnTo>
                  <a:pt x="20200" y="1400"/>
                </a:lnTo>
                <a:close/>
              </a:path>
              <a:path fill="darkenLess" w="21600" h="23365">
                <a:moveTo>
                  <a:pt x="21600" y="23365"/>
                </a:moveTo>
                <a:lnTo>
                  <a:pt x="0" y="23365"/>
                </a:lnTo>
                <a:lnTo>
                  <a:pt x="1400" y="21965"/>
                </a:lnTo>
                <a:lnTo>
                  <a:pt x="20200" y="21965"/>
                </a:lnTo>
                <a:close/>
              </a:path>
              <a:path fill="lighten" w="21600" h="23365">
                <a:moveTo>
                  <a:pt x="0" y="233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65"/>
                </a:lnTo>
                <a:close/>
              </a:path>
              <a:path fill="darken" w="21600" h="23365">
                <a:moveTo>
                  <a:pt x="10800" y="4720"/>
                </a:moveTo>
                <a:lnTo>
                  <a:pt x="13376" y="7331"/>
                </a:lnTo>
                <a:lnTo>
                  <a:pt x="13376" y="5590"/>
                </a:lnTo>
                <a:lnTo>
                  <a:pt x="15152" y="5590"/>
                </a:lnTo>
                <a:lnTo>
                  <a:pt x="15152" y="9106"/>
                </a:lnTo>
                <a:lnTo>
                  <a:pt x="17763" y="11683"/>
                </a:lnTo>
                <a:lnTo>
                  <a:pt x="16109" y="11683"/>
                </a:lnTo>
                <a:lnTo>
                  <a:pt x="16109" y="18872"/>
                </a:lnTo>
                <a:lnTo>
                  <a:pt x="5491" y="18872"/>
                </a:lnTo>
                <a:lnTo>
                  <a:pt x="5491" y="11683"/>
                </a:lnTo>
                <a:lnTo>
                  <a:pt x="3837" y="11683"/>
                </a:lnTo>
                <a:close/>
              </a:path>
              <a:path fill="darkenLess" w="21600" h="23365">
                <a:moveTo>
                  <a:pt x="13376" y="7331"/>
                </a:moveTo>
                <a:lnTo>
                  <a:pt x="13376" y="5590"/>
                </a:lnTo>
                <a:lnTo>
                  <a:pt x="15152" y="5590"/>
                </a:lnTo>
                <a:lnTo>
                  <a:pt x="15152" y="9106"/>
                </a:lnTo>
                <a:close/>
              </a:path>
              <a:path fill="darkenLess" w="21600" h="23365">
                <a:moveTo>
                  <a:pt x="9877" y="15182"/>
                </a:moveTo>
                <a:lnTo>
                  <a:pt x="11723" y="15182"/>
                </a:lnTo>
                <a:lnTo>
                  <a:pt x="11723" y="18872"/>
                </a:lnTo>
                <a:lnTo>
                  <a:pt x="16109" y="18872"/>
                </a:lnTo>
                <a:lnTo>
                  <a:pt x="16109" y="11683"/>
                </a:lnTo>
                <a:lnTo>
                  <a:pt x="5491" y="11683"/>
                </a:lnTo>
                <a:lnTo>
                  <a:pt x="5491" y="18872"/>
                </a:lnTo>
                <a:lnTo>
                  <a:pt x="9877" y="1887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AutoShape 3"/>
          <p:cNvSpPr/>
          <p:nvPr/>
        </p:nvSpPr>
        <p:spPr>
          <a:xfrm>
            <a:off x="826920" y="0"/>
            <a:ext cx="7531200" cy="2205000"/>
          </a:xfrm>
          <a:prstGeom prst="horizontalScrol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Музыкальный вопрос: для вас прозвучит песн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евец, исполнивший ее известен и в России, и з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рубежом. Назовите его имя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6154200" y="2500200"/>
            <a:ext cx="166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Д. Билан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5" name="Picture 5" descr="18(42)"/>
          <p:cNvPicPr/>
          <p:nvPr/>
        </p:nvPicPr>
        <p:blipFill>
          <a:blip r:embed="rId1"/>
          <a:stretch/>
        </p:blipFill>
        <p:spPr>
          <a:xfrm>
            <a:off x="1428840" y="2428920"/>
            <a:ext cx="3998880" cy="3946320"/>
          </a:xfrm>
          <a:prstGeom prst="rect">
            <a:avLst/>
          </a:prstGeom>
          <a:ln w="0">
            <a:noFill/>
          </a:ln>
        </p:spPr>
      </p:pic>
      <p:pic>
        <p:nvPicPr>
          <p:cNvPr id="216" name="dima_bilan_-_tak_ne_byvaet_(zaycev.net).mp3" descr=""/>
          <p:cNvPicPr/>
          <p:nvPr/>
        </p:nvPicPr>
        <p:blipFill>
          <a:blip r:embed="rId2"/>
          <a:stretch/>
        </p:blipFill>
        <p:spPr>
          <a:xfrm>
            <a:off x="5214960" y="15001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9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9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5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426" nodeType="clickEffect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9" dur="344046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AutoShape 2"/>
          <p:cNvSpPr/>
          <p:nvPr/>
        </p:nvSpPr>
        <p:spPr>
          <a:xfrm>
            <a:off x="8677440" y="6353280"/>
            <a:ext cx="466560" cy="504720"/>
          </a:xfrm>
          <a:custGeom>
            <a:avLst/>
            <a:gdLst>
              <a:gd name="textAreaLeft" fmla="*/ 30240 w 466560"/>
              <a:gd name="textAreaRight" fmla="*/ 436320 w 466560"/>
              <a:gd name="textAreaTop" fmla="*/ 30240 h 504720"/>
              <a:gd name="textAreaBottom" fmla="*/ 474480 h 504720"/>
            </a:gdLst>
            <a:ahLst/>
            <a:rect l="textAreaLeft" t="textAreaTop" r="textAreaRight" b="textAreaBottom"/>
            <a:pathLst>
              <a:path w="21600" h="23365">
                <a:moveTo>
                  <a:pt x="0" y="0"/>
                </a:moveTo>
                <a:lnTo>
                  <a:pt x="21600" y="0"/>
                </a:lnTo>
                <a:lnTo>
                  <a:pt x="21600" y="23365"/>
                </a:lnTo>
                <a:lnTo>
                  <a:pt x="0" y="23365"/>
                </a:lnTo>
                <a:close/>
              </a:path>
              <a:path fill="lightenLess" w="21600" h="233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65">
                <a:moveTo>
                  <a:pt x="21600" y="0"/>
                </a:moveTo>
                <a:lnTo>
                  <a:pt x="21600" y="23365"/>
                </a:lnTo>
                <a:lnTo>
                  <a:pt x="20200" y="21965"/>
                </a:lnTo>
                <a:lnTo>
                  <a:pt x="20200" y="1400"/>
                </a:lnTo>
                <a:close/>
              </a:path>
              <a:path fill="darkenLess" w="21600" h="23365">
                <a:moveTo>
                  <a:pt x="21600" y="23365"/>
                </a:moveTo>
                <a:lnTo>
                  <a:pt x="0" y="23365"/>
                </a:lnTo>
                <a:lnTo>
                  <a:pt x="1400" y="21965"/>
                </a:lnTo>
                <a:lnTo>
                  <a:pt x="20200" y="21965"/>
                </a:lnTo>
                <a:close/>
              </a:path>
              <a:path fill="lighten" w="21600" h="23365">
                <a:moveTo>
                  <a:pt x="0" y="233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65"/>
                </a:lnTo>
                <a:close/>
              </a:path>
              <a:path fill="darken" w="21600" h="23365">
                <a:moveTo>
                  <a:pt x="10800" y="4720"/>
                </a:moveTo>
                <a:lnTo>
                  <a:pt x="13376" y="7331"/>
                </a:lnTo>
                <a:lnTo>
                  <a:pt x="13376" y="5590"/>
                </a:lnTo>
                <a:lnTo>
                  <a:pt x="15152" y="5590"/>
                </a:lnTo>
                <a:lnTo>
                  <a:pt x="15152" y="9106"/>
                </a:lnTo>
                <a:lnTo>
                  <a:pt x="17763" y="11683"/>
                </a:lnTo>
                <a:lnTo>
                  <a:pt x="16109" y="11683"/>
                </a:lnTo>
                <a:lnTo>
                  <a:pt x="16109" y="18872"/>
                </a:lnTo>
                <a:lnTo>
                  <a:pt x="5491" y="18872"/>
                </a:lnTo>
                <a:lnTo>
                  <a:pt x="5491" y="11683"/>
                </a:lnTo>
                <a:lnTo>
                  <a:pt x="3837" y="11683"/>
                </a:lnTo>
                <a:close/>
              </a:path>
              <a:path fill="darkenLess" w="21600" h="23365">
                <a:moveTo>
                  <a:pt x="13376" y="7331"/>
                </a:moveTo>
                <a:lnTo>
                  <a:pt x="13376" y="5590"/>
                </a:lnTo>
                <a:lnTo>
                  <a:pt x="15152" y="5590"/>
                </a:lnTo>
                <a:lnTo>
                  <a:pt x="15152" y="9106"/>
                </a:lnTo>
                <a:close/>
              </a:path>
              <a:path fill="darkenLess" w="21600" h="23365">
                <a:moveTo>
                  <a:pt x="9877" y="15182"/>
                </a:moveTo>
                <a:lnTo>
                  <a:pt x="11723" y="15182"/>
                </a:lnTo>
                <a:lnTo>
                  <a:pt x="11723" y="18872"/>
                </a:lnTo>
                <a:lnTo>
                  <a:pt x="16109" y="18872"/>
                </a:lnTo>
                <a:lnTo>
                  <a:pt x="16109" y="11683"/>
                </a:lnTo>
                <a:lnTo>
                  <a:pt x="5491" y="11683"/>
                </a:lnTo>
                <a:lnTo>
                  <a:pt x="5491" y="18872"/>
                </a:lnTo>
                <a:lnTo>
                  <a:pt x="9877" y="1887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AutoShape 3"/>
          <p:cNvSpPr/>
          <p:nvPr/>
        </p:nvSpPr>
        <p:spPr>
          <a:xfrm>
            <a:off x="571680" y="0"/>
            <a:ext cx="8143560" cy="3071880"/>
          </a:xfrm>
          <a:prstGeom prst="horizontalScrol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Он был царем. С самого детства маленького царевич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окружали военные игрушки: солдатики, пушки 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корабли. Он много сделал для России: создал флот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остроил новую столицу, он стриг бороды бояра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и заставлял их носить парики. Благодаря ему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мы сейчас отмечаем Новый год два раза. О ком речь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6220080" y="3143160"/>
            <a:ext cx="13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етр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0" name="Picture 5" descr="82ef9cbbdb9e"/>
          <p:cNvPicPr/>
          <p:nvPr/>
        </p:nvPicPr>
        <p:blipFill>
          <a:blip r:embed="rId1"/>
          <a:stretch/>
        </p:blipFill>
        <p:spPr>
          <a:xfrm>
            <a:off x="1214280" y="2928960"/>
            <a:ext cx="4096080" cy="3357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9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9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AutoShape 2"/>
          <p:cNvSpPr/>
          <p:nvPr/>
        </p:nvSpPr>
        <p:spPr>
          <a:xfrm>
            <a:off x="8677440" y="6353280"/>
            <a:ext cx="466560" cy="504720"/>
          </a:xfrm>
          <a:custGeom>
            <a:avLst/>
            <a:gdLst>
              <a:gd name="textAreaLeft" fmla="*/ 30240 w 466560"/>
              <a:gd name="textAreaRight" fmla="*/ 436320 w 466560"/>
              <a:gd name="textAreaTop" fmla="*/ 30240 h 504720"/>
              <a:gd name="textAreaBottom" fmla="*/ 474480 h 504720"/>
            </a:gdLst>
            <a:ahLst/>
            <a:rect l="textAreaLeft" t="textAreaTop" r="textAreaRight" b="textAreaBottom"/>
            <a:pathLst>
              <a:path w="21600" h="23365">
                <a:moveTo>
                  <a:pt x="0" y="0"/>
                </a:moveTo>
                <a:lnTo>
                  <a:pt x="21600" y="0"/>
                </a:lnTo>
                <a:lnTo>
                  <a:pt x="21600" y="23365"/>
                </a:lnTo>
                <a:lnTo>
                  <a:pt x="0" y="23365"/>
                </a:lnTo>
                <a:close/>
              </a:path>
              <a:path fill="lightenLess" w="21600" h="233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65">
                <a:moveTo>
                  <a:pt x="21600" y="0"/>
                </a:moveTo>
                <a:lnTo>
                  <a:pt x="21600" y="23365"/>
                </a:lnTo>
                <a:lnTo>
                  <a:pt x="20200" y="21965"/>
                </a:lnTo>
                <a:lnTo>
                  <a:pt x="20200" y="1400"/>
                </a:lnTo>
                <a:close/>
              </a:path>
              <a:path fill="darkenLess" w="21600" h="23365">
                <a:moveTo>
                  <a:pt x="21600" y="23365"/>
                </a:moveTo>
                <a:lnTo>
                  <a:pt x="0" y="23365"/>
                </a:lnTo>
                <a:lnTo>
                  <a:pt x="1400" y="21965"/>
                </a:lnTo>
                <a:lnTo>
                  <a:pt x="20200" y="21965"/>
                </a:lnTo>
                <a:close/>
              </a:path>
              <a:path fill="lighten" w="21600" h="23365">
                <a:moveTo>
                  <a:pt x="0" y="233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65"/>
                </a:lnTo>
                <a:close/>
              </a:path>
              <a:path fill="darken" w="21600" h="23365">
                <a:moveTo>
                  <a:pt x="10800" y="4720"/>
                </a:moveTo>
                <a:lnTo>
                  <a:pt x="13376" y="7331"/>
                </a:lnTo>
                <a:lnTo>
                  <a:pt x="13376" y="5590"/>
                </a:lnTo>
                <a:lnTo>
                  <a:pt x="15152" y="5590"/>
                </a:lnTo>
                <a:lnTo>
                  <a:pt x="15152" y="9106"/>
                </a:lnTo>
                <a:lnTo>
                  <a:pt x="17763" y="11683"/>
                </a:lnTo>
                <a:lnTo>
                  <a:pt x="16109" y="11683"/>
                </a:lnTo>
                <a:lnTo>
                  <a:pt x="16109" y="18872"/>
                </a:lnTo>
                <a:lnTo>
                  <a:pt x="5491" y="18872"/>
                </a:lnTo>
                <a:lnTo>
                  <a:pt x="5491" y="11683"/>
                </a:lnTo>
                <a:lnTo>
                  <a:pt x="3837" y="11683"/>
                </a:lnTo>
                <a:close/>
              </a:path>
              <a:path fill="darkenLess" w="21600" h="23365">
                <a:moveTo>
                  <a:pt x="13376" y="7331"/>
                </a:moveTo>
                <a:lnTo>
                  <a:pt x="13376" y="5590"/>
                </a:lnTo>
                <a:lnTo>
                  <a:pt x="15152" y="5590"/>
                </a:lnTo>
                <a:lnTo>
                  <a:pt x="15152" y="9106"/>
                </a:lnTo>
                <a:close/>
              </a:path>
              <a:path fill="darkenLess" w="21600" h="23365">
                <a:moveTo>
                  <a:pt x="9877" y="15182"/>
                </a:moveTo>
                <a:lnTo>
                  <a:pt x="11723" y="15182"/>
                </a:lnTo>
                <a:lnTo>
                  <a:pt x="11723" y="18872"/>
                </a:lnTo>
                <a:lnTo>
                  <a:pt x="16109" y="18872"/>
                </a:lnTo>
                <a:lnTo>
                  <a:pt x="16109" y="11683"/>
                </a:lnTo>
                <a:lnTo>
                  <a:pt x="5491" y="11683"/>
                </a:lnTo>
                <a:lnTo>
                  <a:pt x="5491" y="18872"/>
                </a:lnTo>
                <a:lnTo>
                  <a:pt x="9877" y="1887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AutoShape 3"/>
          <p:cNvSpPr/>
          <p:nvPr/>
        </p:nvSpPr>
        <p:spPr>
          <a:xfrm>
            <a:off x="826920" y="0"/>
            <a:ext cx="7317000" cy="2428920"/>
          </a:xfrm>
          <a:prstGeom prst="horizontalScrol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еред вами портрет русского писателя. Ег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роизведения знакомы всем с детства. Героям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роизведений чаще всего являются животные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лиса, обезьяна, стрекоза, лебедь и другие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Назовите этого писател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5512320" y="2571840"/>
            <a:ext cx="21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И.А.Крылов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Picture 5" descr="77b6d04e82"/>
          <p:cNvPicPr/>
          <p:nvPr/>
        </p:nvPicPr>
        <p:blipFill>
          <a:blip r:embed="rId1"/>
          <a:stretch/>
        </p:blipFill>
        <p:spPr>
          <a:xfrm>
            <a:off x="1403280" y="2316240"/>
            <a:ext cx="3451320" cy="43876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77b6d04e82"/>
          <p:cNvPicPr/>
          <p:nvPr/>
        </p:nvPicPr>
        <p:blipFill>
          <a:blip r:embed="rId2"/>
          <a:stretch/>
        </p:blipFill>
        <p:spPr>
          <a:xfrm>
            <a:off x="1357200" y="2286000"/>
            <a:ext cx="3451320" cy="43876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"/>
          <p:cNvPicPr/>
          <p:nvPr/>
        </p:nvPicPr>
        <p:blipFill>
          <a:blip r:embed="rId3"/>
          <a:stretch/>
        </p:blipFill>
        <p:spPr>
          <a:xfrm>
            <a:off x="1231920" y="2286000"/>
            <a:ext cx="3968640" cy="4572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9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9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9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5"/>
          <p:cNvSpPr/>
          <p:nvPr/>
        </p:nvSpPr>
        <p:spPr>
          <a:xfrm>
            <a:off x="826920" y="260280"/>
            <a:ext cx="7674120" cy="6383520"/>
          </a:xfrm>
          <a:prstGeom prst="verticalScrol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2012 – год российской истор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сердце ты у каждого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одина – Россия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елые березки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лос  золотой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т тебя привольней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т  тебя красивей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т другой на свет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одины такой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.Черницкая «Наша Родина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7" descr="63314441_1283015534_e12581ce357a1"/>
          <p:cNvPicPr/>
          <p:nvPr/>
        </p:nvPicPr>
        <p:blipFill>
          <a:blip r:embed="rId1"/>
          <a:stretch/>
        </p:blipFill>
        <p:spPr>
          <a:xfrm>
            <a:off x="1857240" y="5857920"/>
            <a:ext cx="5515200" cy="7621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11"/>
          <p:cNvPicPr/>
          <p:nvPr/>
        </p:nvPicPr>
        <p:blipFill>
          <a:blip r:embed="rId2"/>
          <a:stretch/>
        </p:blipFill>
        <p:spPr>
          <a:xfrm>
            <a:off x="2928960" y="285840"/>
            <a:ext cx="3771720" cy="68580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5" descr="i.jpeg"/>
          <p:cNvPicPr/>
          <p:nvPr/>
        </p:nvPicPr>
        <p:blipFill>
          <a:blip r:embed="rId3"/>
          <a:stretch/>
        </p:blipFill>
        <p:spPr>
          <a:xfrm>
            <a:off x="1571760" y="2286000"/>
            <a:ext cx="2485800" cy="32148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2"/>
          <p:cNvSpPr/>
          <p:nvPr/>
        </p:nvSpPr>
        <p:spPr>
          <a:xfrm>
            <a:off x="8677440" y="6353280"/>
            <a:ext cx="466560" cy="504720"/>
          </a:xfrm>
          <a:custGeom>
            <a:avLst/>
            <a:gdLst>
              <a:gd name="textAreaLeft" fmla="*/ 30240 w 466560"/>
              <a:gd name="textAreaRight" fmla="*/ 436320 w 466560"/>
              <a:gd name="textAreaTop" fmla="*/ 30240 h 504720"/>
              <a:gd name="textAreaBottom" fmla="*/ 474480 h 504720"/>
            </a:gdLst>
            <a:ahLst/>
            <a:rect l="textAreaLeft" t="textAreaTop" r="textAreaRight" b="textAreaBottom"/>
            <a:pathLst>
              <a:path w="21600" h="23365">
                <a:moveTo>
                  <a:pt x="0" y="0"/>
                </a:moveTo>
                <a:lnTo>
                  <a:pt x="21600" y="0"/>
                </a:lnTo>
                <a:lnTo>
                  <a:pt x="21600" y="23365"/>
                </a:lnTo>
                <a:lnTo>
                  <a:pt x="0" y="23365"/>
                </a:lnTo>
                <a:close/>
              </a:path>
              <a:path fill="lightenLess" w="21600" h="233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65">
                <a:moveTo>
                  <a:pt x="21600" y="0"/>
                </a:moveTo>
                <a:lnTo>
                  <a:pt x="21600" y="23365"/>
                </a:lnTo>
                <a:lnTo>
                  <a:pt x="20200" y="21965"/>
                </a:lnTo>
                <a:lnTo>
                  <a:pt x="20200" y="1400"/>
                </a:lnTo>
                <a:close/>
              </a:path>
              <a:path fill="darkenLess" w="21600" h="23365">
                <a:moveTo>
                  <a:pt x="21600" y="23365"/>
                </a:moveTo>
                <a:lnTo>
                  <a:pt x="0" y="23365"/>
                </a:lnTo>
                <a:lnTo>
                  <a:pt x="1400" y="21965"/>
                </a:lnTo>
                <a:lnTo>
                  <a:pt x="20200" y="21965"/>
                </a:lnTo>
                <a:close/>
              </a:path>
              <a:path fill="lighten" w="21600" h="23365">
                <a:moveTo>
                  <a:pt x="0" y="233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65"/>
                </a:lnTo>
                <a:close/>
              </a:path>
              <a:path fill="darken" w="21600" h="23365">
                <a:moveTo>
                  <a:pt x="10800" y="4720"/>
                </a:moveTo>
                <a:lnTo>
                  <a:pt x="13376" y="7331"/>
                </a:lnTo>
                <a:lnTo>
                  <a:pt x="13376" y="5590"/>
                </a:lnTo>
                <a:lnTo>
                  <a:pt x="15152" y="5590"/>
                </a:lnTo>
                <a:lnTo>
                  <a:pt x="15152" y="9106"/>
                </a:lnTo>
                <a:lnTo>
                  <a:pt x="17763" y="11683"/>
                </a:lnTo>
                <a:lnTo>
                  <a:pt x="16109" y="11683"/>
                </a:lnTo>
                <a:lnTo>
                  <a:pt x="16109" y="18872"/>
                </a:lnTo>
                <a:lnTo>
                  <a:pt x="5491" y="18872"/>
                </a:lnTo>
                <a:lnTo>
                  <a:pt x="5491" y="11683"/>
                </a:lnTo>
                <a:lnTo>
                  <a:pt x="3837" y="11683"/>
                </a:lnTo>
                <a:close/>
              </a:path>
              <a:path fill="darkenLess" w="21600" h="23365">
                <a:moveTo>
                  <a:pt x="13376" y="7331"/>
                </a:moveTo>
                <a:lnTo>
                  <a:pt x="13376" y="5590"/>
                </a:lnTo>
                <a:lnTo>
                  <a:pt x="15152" y="5590"/>
                </a:lnTo>
                <a:lnTo>
                  <a:pt x="15152" y="9106"/>
                </a:lnTo>
                <a:close/>
              </a:path>
              <a:path fill="darkenLess" w="21600" h="23365">
                <a:moveTo>
                  <a:pt x="9877" y="15182"/>
                </a:moveTo>
                <a:lnTo>
                  <a:pt x="11723" y="15182"/>
                </a:lnTo>
                <a:lnTo>
                  <a:pt x="11723" y="18872"/>
                </a:lnTo>
                <a:lnTo>
                  <a:pt x="16109" y="18872"/>
                </a:lnTo>
                <a:lnTo>
                  <a:pt x="16109" y="11683"/>
                </a:lnTo>
                <a:lnTo>
                  <a:pt x="5491" y="11683"/>
                </a:lnTo>
                <a:lnTo>
                  <a:pt x="5491" y="18872"/>
                </a:lnTo>
                <a:lnTo>
                  <a:pt x="9877" y="1887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AutoShape 3"/>
          <p:cNvSpPr/>
          <p:nvPr/>
        </p:nvSpPr>
        <p:spPr>
          <a:xfrm>
            <a:off x="826920" y="0"/>
            <a:ext cx="6913800" cy="2205000"/>
          </a:xfrm>
          <a:prstGeom prst="horizontalScrol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Она стала первой женщиной в мире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которая совершила полет в космос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О ком речь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5572080" y="2571840"/>
            <a:ext cx="3571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алентина Терешков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Picture 5" descr="50385122_animal103"/>
          <p:cNvPicPr/>
          <p:nvPr/>
        </p:nvPicPr>
        <p:blipFill>
          <a:blip r:embed="rId1"/>
          <a:stretch/>
        </p:blipFill>
        <p:spPr>
          <a:xfrm>
            <a:off x="1801800" y="2276640"/>
            <a:ext cx="3111480" cy="4444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9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9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AutoShape 2"/>
          <p:cNvSpPr/>
          <p:nvPr/>
        </p:nvSpPr>
        <p:spPr>
          <a:xfrm>
            <a:off x="8677440" y="6353280"/>
            <a:ext cx="466560" cy="504720"/>
          </a:xfrm>
          <a:custGeom>
            <a:avLst/>
            <a:gdLst>
              <a:gd name="textAreaLeft" fmla="*/ 30240 w 466560"/>
              <a:gd name="textAreaRight" fmla="*/ 436320 w 466560"/>
              <a:gd name="textAreaTop" fmla="*/ 30240 h 504720"/>
              <a:gd name="textAreaBottom" fmla="*/ 474480 h 504720"/>
            </a:gdLst>
            <a:ahLst/>
            <a:rect l="textAreaLeft" t="textAreaTop" r="textAreaRight" b="textAreaBottom"/>
            <a:pathLst>
              <a:path w="21600" h="23365">
                <a:moveTo>
                  <a:pt x="0" y="0"/>
                </a:moveTo>
                <a:lnTo>
                  <a:pt x="21600" y="0"/>
                </a:lnTo>
                <a:lnTo>
                  <a:pt x="21600" y="23365"/>
                </a:lnTo>
                <a:lnTo>
                  <a:pt x="0" y="23365"/>
                </a:lnTo>
                <a:close/>
              </a:path>
              <a:path fill="lightenLess" w="21600" h="233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65">
                <a:moveTo>
                  <a:pt x="21600" y="0"/>
                </a:moveTo>
                <a:lnTo>
                  <a:pt x="21600" y="23365"/>
                </a:lnTo>
                <a:lnTo>
                  <a:pt x="20200" y="21965"/>
                </a:lnTo>
                <a:lnTo>
                  <a:pt x="20200" y="1400"/>
                </a:lnTo>
                <a:close/>
              </a:path>
              <a:path fill="darkenLess" w="21600" h="23365">
                <a:moveTo>
                  <a:pt x="21600" y="23365"/>
                </a:moveTo>
                <a:lnTo>
                  <a:pt x="0" y="23365"/>
                </a:lnTo>
                <a:lnTo>
                  <a:pt x="1400" y="21965"/>
                </a:lnTo>
                <a:lnTo>
                  <a:pt x="20200" y="21965"/>
                </a:lnTo>
                <a:close/>
              </a:path>
              <a:path fill="lighten" w="21600" h="23365">
                <a:moveTo>
                  <a:pt x="0" y="233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65"/>
                </a:lnTo>
                <a:close/>
              </a:path>
              <a:path fill="darken" w="21600" h="23365">
                <a:moveTo>
                  <a:pt x="10800" y="4720"/>
                </a:moveTo>
                <a:lnTo>
                  <a:pt x="13376" y="7331"/>
                </a:lnTo>
                <a:lnTo>
                  <a:pt x="13376" y="5590"/>
                </a:lnTo>
                <a:lnTo>
                  <a:pt x="15152" y="5590"/>
                </a:lnTo>
                <a:lnTo>
                  <a:pt x="15152" y="9106"/>
                </a:lnTo>
                <a:lnTo>
                  <a:pt x="17763" y="11683"/>
                </a:lnTo>
                <a:lnTo>
                  <a:pt x="16109" y="11683"/>
                </a:lnTo>
                <a:lnTo>
                  <a:pt x="16109" y="18872"/>
                </a:lnTo>
                <a:lnTo>
                  <a:pt x="5491" y="18872"/>
                </a:lnTo>
                <a:lnTo>
                  <a:pt x="5491" y="11683"/>
                </a:lnTo>
                <a:lnTo>
                  <a:pt x="3837" y="11683"/>
                </a:lnTo>
                <a:close/>
              </a:path>
              <a:path fill="darkenLess" w="21600" h="23365">
                <a:moveTo>
                  <a:pt x="13376" y="7331"/>
                </a:moveTo>
                <a:lnTo>
                  <a:pt x="13376" y="5590"/>
                </a:lnTo>
                <a:lnTo>
                  <a:pt x="15152" y="5590"/>
                </a:lnTo>
                <a:lnTo>
                  <a:pt x="15152" y="9106"/>
                </a:lnTo>
                <a:close/>
              </a:path>
              <a:path fill="darkenLess" w="21600" h="23365">
                <a:moveTo>
                  <a:pt x="9877" y="15182"/>
                </a:moveTo>
                <a:lnTo>
                  <a:pt x="11723" y="15182"/>
                </a:lnTo>
                <a:lnTo>
                  <a:pt x="11723" y="18872"/>
                </a:lnTo>
                <a:lnTo>
                  <a:pt x="16109" y="18872"/>
                </a:lnTo>
                <a:lnTo>
                  <a:pt x="16109" y="11683"/>
                </a:lnTo>
                <a:lnTo>
                  <a:pt x="5491" y="11683"/>
                </a:lnTo>
                <a:lnTo>
                  <a:pt x="5491" y="18872"/>
                </a:lnTo>
                <a:lnTo>
                  <a:pt x="9877" y="1887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AutoShape 3"/>
          <p:cNvSpPr/>
          <p:nvPr/>
        </p:nvSpPr>
        <p:spPr>
          <a:xfrm>
            <a:off x="826920" y="0"/>
            <a:ext cx="7745760" cy="2205000"/>
          </a:xfrm>
          <a:prstGeom prst="horizontalScrol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Этот известный во всем мире скульптор родилс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в городе Шадринске. Его скульптуры можем увидеть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у городского сада, а также в краеведческом музе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О ком речь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5938920" y="2571840"/>
            <a:ext cx="201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Иван Шад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4" name="Picture 6" descr="rys_04"/>
          <p:cNvPicPr/>
          <p:nvPr/>
        </p:nvPicPr>
        <p:blipFill>
          <a:blip r:embed="rId1"/>
          <a:stretch/>
        </p:blipFill>
        <p:spPr>
          <a:xfrm>
            <a:off x="1476360" y="2405160"/>
            <a:ext cx="3567240" cy="39924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3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9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9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AutoShape 2"/>
          <p:cNvSpPr/>
          <p:nvPr/>
        </p:nvSpPr>
        <p:spPr>
          <a:xfrm>
            <a:off x="8677440" y="6353280"/>
            <a:ext cx="466560" cy="504720"/>
          </a:xfrm>
          <a:custGeom>
            <a:avLst/>
            <a:gdLst>
              <a:gd name="textAreaLeft" fmla="*/ 30240 w 466560"/>
              <a:gd name="textAreaRight" fmla="*/ 436320 w 466560"/>
              <a:gd name="textAreaTop" fmla="*/ 30240 h 504720"/>
              <a:gd name="textAreaBottom" fmla="*/ 474480 h 504720"/>
            </a:gdLst>
            <a:ahLst/>
            <a:rect l="textAreaLeft" t="textAreaTop" r="textAreaRight" b="textAreaBottom"/>
            <a:pathLst>
              <a:path w="21600" h="23365">
                <a:moveTo>
                  <a:pt x="0" y="0"/>
                </a:moveTo>
                <a:lnTo>
                  <a:pt x="21600" y="0"/>
                </a:lnTo>
                <a:lnTo>
                  <a:pt x="21600" y="23365"/>
                </a:lnTo>
                <a:lnTo>
                  <a:pt x="0" y="23365"/>
                </a:lnTo>
                <a:close/>
              </a:path>
              <a:path fill="lightenLess" w="21600" h="233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65">
                <a:moveTo>
                  <a:pt x="21600" y="0"/>
                </a:moveTo>
                <a:lnTo>
                  <a:pt x="21600" y="23365"/>
                </a:lnTo>
                <a:lnTo>
                  <a:pt x="20200" y="21965"/>
                </a:lnTo>
                <a:lnTo>
                  <a:pt x="20200" y="1400"/>
                </a:lnTo>
                <a:close/>
              </a:path>
              <a:path fill="darkenLess" w="21600" h="23365">
                <a:moveTo>
                  <a:pt x="21600" y="23365"/>
                </a:moveTo>
                <a:lnTo>
                  <a:pt x="0" y="23365"/>
                </a:lnTo>
                <a:lnTo>
                  <a:pt x="1400" y="21965"/>
                </a:lnTo>
                <a:lnTo>
                  <a:pt x="20200" y="21965"/>
                </a:lnTo>
                <a:close/>
              </a:path>
              <a:path fill="lighten" w="21600" h="23365">
                <a:moveTo>
                  <a:pt x="0" y="233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65"/>
                </a:lnTo>
                <a:close/>
              </a:path>
              <a:path fill="darken" w="21600" h="23365">
                <a:moveTo>
                  <a:pt x="10800" y="4720"/>
                </a:moveTo>
                <a:lnTo>
                  <a:pt x="13376" y="7331"/>
                </a:lnTo>
                <a:lnTo>
                  <a:pt x="13376" y="5590"/>
                </a:lnTo>
                <a:lnTo>
                  <a:pt x="15152" y="5590"/>
                </a:lnTo>
                <a:lnTo>
                  <a:pt x="15152" y="9106"/>
                </a:lnTo>
                <a:lnTo>
                  <a:pt x="17763" y="11683"/>
                </a:lnTo>
                <a:lnTo>
                  <a:pt x="16109" y="11683"/>
                </a:lnTo>
                <a:lnTo>
                  <a:pt x="16109" y="18872"/>
                </a:lnTo>
                <a:lnTo>
                  <a:pt x="5491" y="18872"/>
                </a:lnTo>
                <a:lnTo>
                  <a:pt x="5491" y="11683"/>
                </a:lnTo>
                <a:lnTo>
                  <a:pt x="3837" y="11683"/>
                </a:lnTo>
                <a:close/>
              </a:path>
              <a:path fill="darkenLess" w="21600" h="23365">
                <a:moveTo>
                  <a:pt x="13376" y="7331"/>
                </a:moveTo>
                <a:lnTo>
                  <a:pt x="13376" y="5590"/>
                </a:lnTo>
                <a:lnTo>
                  <a:pt x="15152" y="5590"/>
                </a:lnTo>
                <a:lnTo>
                  <a:pt x="15152" y="9106"/>
                </a:lnTo>
                <a:close/>
              </a:path>
              <a:path fill="darkenLess" w="21600" h="23365">
                <a:moveTo>
                  <a:pt x="9877" y="15182"/>
                </a:moveTo>
                <a:lnTo>
                  <a:pt x="11723" y="15182"/>
                </a:lnTo>
                <a:lnTo>
                  <a:pt x="11723" y="18872"/>
                </a:lnTo>
                <a:lnTo>
                  <a:pt x="16109" y="18872"/>
                </a:lnTo>
                <a:lnTo>
                  <a:pt x="16109" y="11683"/>
                </a:lnTo>
                <a:lnTo>
                  <a:pt x="5491" y="11683"/>
                </a:lnTo>
                <a:lnTo>
                  <a:pt x="5491" y="18872"/>
                </a:lnTo>
                <a:lnTo>
                  <a:pt x="9877" y="1887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AutoShape 3"/>
          <p:cNvSpPr/>
          <p:nvPr/>
        </p:nvSpPr>
        <p:spPr>
          <a:xfrm>
            <a:off x="826920" y="0"/>
            <a:ext cx="6913800" cy="2205000"/>
          </a:xfrm>
          <a:prstGeom prst="horizontalScrol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Назовите самый известный во всём мир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русский сувенир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6000840" y="2571840"/>
            <a:ext cx="3143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Матрёшк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 2010 году ей исполнилось 120 ле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8" name="Picture 5" descr="pic27053986"/>
          <p:cNvPicPr/>
          <p:nvPr/>
        </p:nvPicPr>
        <p:blipFill>
          <a:blip r:embed="rId1"/>
          <a:stretch/>
        </p:blipFill>
        <p:spPr>
          <a:xfrm>
            <a:off x="1071720" y="2500200"/>
            <a:ext cx="4711680" cy="34401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AutoShape 2"/>
          <p:cNvSpPr/>
          <p:nvPr/>
        </p:nvSpPr>
        <p:spPr>
          <a:xfrm>
            <a:off x="8677440" y="6353280"/>
            <a:ext cx="466560" cy="504720"/>
          </a:xfrm>
          <a:custGeom>
            <a:avLst/>
            <a:gdLst>
              <a:gd name="textAreaLeft" fmla="*/ 30240 w 466560"/>
              <a:gd name="textAreaRight" fmla="*/ 436320 w 466560"/>
              <a:gd name="textAreaTop" fmla="*/ 30240 h 504720"/>
              <a:gd name="textAreaBottom" fmla="*/ 474480 h 504720"/>
            </a:gdLst>
            <a:ahLst/>
            <a:rect l="textAreaLeft" t="textAreaTop" r="textAreaRight" b="textAreaBottom"/>
            <a:pathLst>
              <a:path w="21600" h="23365">
                <a:moveTo>
                  <a:pt x="0" y="0"/>
                </a:moveTo>
                <a:lnTo>
                  <a:pt x="21600" y="0"/>
                </a:lnTo>
                <a:lnTo>
                  <a:pt x="21600" y="23365"/>
                </a:lnTo>
                <a:lnTo>
                  <a:pt x="0" y="23365"/>
                </a:lnTo>
                <a:close/>
              </a:path>
              <a:path fill="lightenLess" w="21600" h="233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65">
                <a:moveTo>
                  <a:pt x="21600" y="0"/>
                </a:moveTo>
                <a:lnTo>
                  <a:pt x="21600" y="23365"/>
                </a:lnTo>
                <a:lnTo>
                  <a:pt x="20200" y="21965"/>
                </a:lnTo>
                <a:lnTo>
                  <a:pt x="20200" y="1400"/>
                </a:lnTo>
                <a:close/>
              </a:path>
              <a:path fill="darkenLess" w="21600" h="23365">
                <a:moveTo>
                  <a:pt x="21600" y="23365"/>
                </a:moveTo>
                <a:lnTo>
                  <a:pt x="0" y="23365"/>
                </a:lnTo>
                <a:lnTo>
                  <a:pt x="1400" y="21965"/>
                </a:lnTo>
                <a:lnTo>
                  <a:pt x="20200" y="21965"/>
                </a:lnTo>
                <a:close/>
              </a:path>
              <a:path fill="lighten" w="21600" h="23365">
                <a:moveTo>
                  <a:pt x="0" y="233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65"/>
                </a:lnTo>
                <a:close/>
              </a:path>
              <a:path fill="darken" w="21600" h="23365">
                <a:moveTo>
                  <a:pt x="10800" y="4720"/>
                </a:moveTo>
                <a:lnTo>
                  <a:pt x="13376" y="7331"/>
                </a:lnTo>
                <a:lnTo>
                  <a:pt x="13376" y="5590"/>
                </a:lnTo>
                <a:lnTo>
                  <a:pt x="15152" y="5590"/>
                </a:lnTo>
                <a:lnTo>
                  <a:pt x="15152" y="9106"/>
                </a:lnTo>
                <a:lnTo>
                  <a:pt x="17763" y="11683"/>
                </a:lnTo>
                <a:lnTo>
                  <a:pt x="16109" y="11683"/>
                </a:lnTo>
                <a:lnTo>
                  <a:pt x="16109" y="18872"/>
                </a:lnTo>
                <a:lnTo>
                  <a:pt x="5491" y="18872"/>
                </a:lnTo>
                <a:lnTo>
                  <a:pt x="5491" y="11683"/>
                </a:lnTo>
                <a:lnTo>
                  <a:pt x="3837" y="11683"/>
                </a:lnTo>
                <a:close/>
              </a:path>
              <a:path fill="darkenLess" w="21600" h="23365">
                <a:moveTo>
                  <a:pt x="13376" y="7331"/>
                </a:moveTo>
                <a:lnTo>
                  <a:pt x="13376" y="5590"/>
                </a:lnTo>
                <a:lnTo>
                  <a:pt x="15152" y="5590"/>
                </a:lnTo>
                <a:lnTo>
                  <a:pt x="15152" y="9106"/>
                </a:lnTo>
                <a:close/>
              </a:path>
              <a:path fill="darkenLess" w="21600" h="23365">
                <a:moveTo>
                  <a:pt x="9877" y="15182"/>
                </a:moveTo>
                <a:lnTo>
                  <a:pt x="11723" y="15182"/>
                </a:lnTo>
                <a:lnTo>
                  <a:pt x="11723" y="18872"/>
                </a:lnTo>
                <a:lnTo>
                  <a:pt x="16109" y="18872"/>
                </a:lnTo>
                <a:lnTo>
                  <a:pt x="16109" y="11683"/>
                </a:lnTo>
                <a:lnTo>
                  <a:pt x="5491" y="11683"/>
                </a:lnTo>
                <a:lnTo>
                  <a:pt x="5491" y="18872"/>
                </a:lnTo>
                <a:lnTo>
                  <a:pt x="9877" y="1887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AutoShape 3"/>
          <p:cNvSpPr/>
          <p:nvPr/>
        </p:nvSpPr>
        <p:spPr>
          <a:xfrm>
            <a:off x="826920" y="0"/>
            <a:ext cx="7102800" cy="2205000"/>
          </a:xfrm>
          <a:prstGeom prst="horizontalScrol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Назовите самый густонаселенный город России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6882840" y="2565360"/>
            <a:ext cx="152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Москва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2" name="Picture 5" descr="3526001"/>
          <p:cNvPicPr/>
          <p:nvPr/>
        </p:nvPicPr>
        <p:blipFill>
          <a:blip r:embed="rId1"/>
          <a:stretch/>
        </p:blipFill>
        <p:spPr>
          <a:xfrm>
            <a:off x="928800" y="2500200"/>
            <a:ext cx="5638680" cy="41259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AutoShape 2"/>
          <p:cNvSpPr/>
          <p:nvPr/>
        </p:nvSpPr>
        <p:spPr>
          <a:xfrm>
            <a:off x="8677440" y="6353280"/>
            <a:ext cx="466560" cy="504720"/>
          </a:xfrm>
          <a:custGeom>
            <a:avLst/>
            <a:gdLst>
              <a:gd name="textAreaLeft" fmla="*/ 30240 w 466560"/>
              <a:gd name="textAreaRight" fmla="*/ 436320 w 466560"/>
              <a:gd name="textAreaTop" fmla="*/ 30240 h 504720"/>
              <a:gd name="textAreaBottom" fmla="*/ 474480 h 504720"/>
            </a:gdLst>
            <a:ahLst/>
            <a:rect l="textAreaLeft" t="textAreaTop" r="textAreaRight" b="textAreaBottom"/>
            <a:pathLst>
              <a:path w="21600" h="23365">
                <a:moveTo>
                  <a:pt x="0" y="0"/>
                </a:moveTo>
                <a:lnTo>
                  <a:pt x="21600" y="0"/>
                </a:lnTo>
                <a:lnTo>
                  <a:pt x="21600" y="23365"/>
                </a:lnTo>
                <a:lnTo>
                  <a:pt x="0" y="23365"/>
                </a:lnTo>
                <a:close/>
              </a:path>
              <a:path fill="lightenLess" w="21600" h="233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65">
                <a:moveTo>
                  <a:pt x="21600" y="0"/>
                </a:moveTo>
                <a:lnTo>
                  <a:pt x="21600" y="23365"/>
                </a:lnTo>
                <a:lnTo>
                  <a:pt x="20200" y="21965"/>
                </a:lnTo>
                <a:lnTo>
                  <a:pt x="20200" y="1400"/>
                </a:lnTo>
                <a:close/>
              </a:path>
              <a:path fill="darkenLess" w="21600" h="23365">
                <a:moveTo>
                  <a:pt x="21600" y="23365"/>
                </a:moveTo>
                <a:lnTo>
                  <a:pt x="0" y="23365"/>
                </a:lnTo>
                <a:lnTo>
                  <a:pt x="1400" y="21965"/>
                </a:lnTo>
                <a:lnTo>
                  <a:pt x="20200" y="21965"/>
                </a:lnTo>
                <a:close/>
              </a:path>
              <a:path fill="lighten" w="21600" h="23365">
                <a:moveTo>
                  <a:pt x="0" y="233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65"/>
                </a:lnTo>
                <a:close/>
              </a:path>
              <a:path fill="darken" w="21600" h="23365">
                <a:moveTo>
                  <a:pt x="10800" y="4720"/>
                </a:moveTo>
                <a:lnTo>
                  <a:pt x="13376" y="7331"/>
                </a:lnTo>
                <a:lnTo>
                  <a:pt x="13376" y="5590"/>
                </a:lnTo>
                <a:lnTo>
                  <a:pt x="15152" y="5590"/>
                </a:lnTo>
                <a:lnTo>
                  <a:pt x="15152" y="9106"/>
                </a:lnTo>
                <a:lnTo>
                  <a:pt x="17763" y="11683"/>
                </a:lnTo>
                <a:lnTo>
                  <a:pt x="16109" y="11683"/>
                </a:lnTo>
                <a:lnTo>
                  <a:pt x="16109" y="18872"/>
                </a:lnTo>
                <a:lnTo>
                  <a:pt x="5491" y="18872"/>
                </a:lnTo>
                <a:lnTo>
                  <a:pt x="5491" y="11683"/>
                </a:lnTo>
                <a:lnTo>
                  <a:pt x="3837" y="11683"/>
                </a:lnTo>
                <a:close/>
              </a:path>
              <a:path fill="darkenLess" w="21600" h="23365">
                <a:moveTo>
                  <a:pt x="13376" y="7331"/>
                </a:moveTo>
                <a:lnTo>
                  <a:pt x="13376" y="5590"/>
                </a:lnTo>
                <a:lnTo>
                  <a:pt x="15152" y="5590"/>
                </a:lnTo>
                <a:lnTo>
                  <a:pt x="15152" y="9106"/>
                </a:lnTo>
                <a:close/>
              </a:path>
              <a:path fill="darkenLess" w="21600" h="23365">
                <a:moveTo>
                  <a:pt x="9877" y="15182"/>
                </a:moveTo>
                <a:lnTo>
                  <a:pt x="11723" y="15182"/>
                </a:lnTo>
                <a:lnTo>
                  <a:pt x="11723" y="18872"/>
                </a:lnTo>
                <a:lnTo>
                  <a:pt x="16109" y="18872"/>
                </a:lnTo>
                <a:lnTo>
                  <a:pt x="16109" y="11683"/>
                </a:lnTo>
                <a:lnTo>
                  <a:pt x="5491" y="11683"/>
                </a:lnTo>
                <a:lnTo>
                  <a:pt x="5491" y="18872"/>
                </a:lnTo>
                <a:lnTo>
                  <a:pt x="9877" y="1887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AutoShape 3"/>
          <p:cNvSpPr/>
          <p:nvPr/>
        </p:nvSpPr>
        <p:spPr>
          <a:xfrm>
            <a:off x="857160" y="0"/>
            <a:ext cx="6913800" cy="2205000"/>
          </a:xfrm>
          <a:prstGeom prst="horizontalScrol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Назовите самое глубокое озеро в мире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источник  пресных во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6793920" y="2571840"/>
            <a:ext cx="185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Байкал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Picture 5" descr="0_52cb9_32f88c1_XL"/>
          <p:cNvPicPr/>
          <p:nvPr/>
        </p:nvPicPr>
        <p:blipFill>
          <a:blip r:embed="rId1"/>
          <a:stretch/>
        </p:blipFill>
        <p:spPr>
          <a:xfrm>
            <a:off x="714240" y="2500200"/>
            <a:ext cx="6097680" cy="40658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0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AutoShape 2"/>
          <p:cNvSpPr/>
          <p:nvPr/>
        </p:nvSpPr>
        <p:spPr>
          <a:xfrm>
            <a:off x="8677440" y="6353280"/>
            <a:ext cx="466560" cy="504720"/>
          </a:xfrm>
          <a:custGeom>
            <a:avLst/>
            <a:gdLst>
              <a:gd name="textAreaLeft" fmla="*/ 30240 w 466560"/>
              <a:gd name="textAreaRight" fmla="*/ 436320 w 466560"/>
              <a:gd name="textAreaTop" fmla="*/ 30240 h 504720"/>
              <a:gd name="textAreaBottom" fmla="*/ 474480 h 504720"/>
            </a:gdLst>
            <a:ahLst/>
            <a:rect l="textAreaLeft" t="textAreaTop" r="textAreaRight" b="textAreaBottom"/>
            <a:pathLst>
              <a:path w="21600" h="23365">
                <a:moveTo>
                  <a:pt x="0" y="0"/>
                </a:moveTo>
                <a:lnTo>
                  <a:pt x="21600" y="0"/>
                </a:lnTo>
                <a:lnTo>
                  <a:pt x="21600" y="23365"/>
                </a:lnTo>
                <a:lnTo>
                  <a:pt x="0" y="23365"/>
                </a:lnTo>
                <a:close/>
              </a:path>
              <a:path fill="lightenLess" w="21600" h="233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65">
                <a:moveTo>
                  <a:pt x="21600" y="0"/>
                </a:moveTo>
                <a:lnTo>
                  <a:pt x="21600" y="23365"/>
                </a:lnTo>
                <a:lnTo>
                  <a:pt x="20200" y="21965"/>
                </a:lnTo>
                <a:lnTo>
                  <a:pt x="20200" y="1400"/>
                </a:lnTo>
                <a:close/>
              </a:path>
              <a:path fill="darkenLess" w="21600" h="23365">
                <a:moveTo>
                  <a:pt x="21600" y="23365"/>
                </a:moveTo>
                <a:lnTo>
                  <a:pt x="0" y="23365"/>
                </a:lnTo>
                <a:lnTo>
                  <a:pt x="1400" y="21965"/>
                </a:lnTo>
                <a:lnTo>
                  <a:pt x="20200" y="21965"/>
                </a:lnTo>
                <a:close/>
              </a:path>
              <a:path fill="lighten" w="21600" h="23365">
                <a:moveTo>
                  <a:pt x="0" y="233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65"/>
                </a:lnTo>
                <a:close/>
              </a:path>
              <a:path fill="darken" w="21600" h="23365">
                <a:moveTo>
                  <a:pt x="10800" y="4720"/>
                </a:moveTo>
                <a:lnTo>
                  <a:pt x="13376" y="7331"/>
                </a:lnTo>
                <a:lnTo>
                  <a:pt x="13376" y="5590"/>
                </a:lnTo>
                <a:lnTo>
                  <a:pt x="15152" y="5590"/>
                </a:lnTo>
                <a:lnTo>
                  <a:pt x="15152" y="9106"/>
                </a:lnTo>
                <a:lnTo>
                  <a:pt x="17763" y="11683"/>
                </a:lnTo>
                <a:lnTo>
                  <a:pt x="16109" y="11683"/>
                </a:lnTo>
                <a:lnTo>
                  <a:pt x="16109" y="18872"/>
                </a:lnTo>
                <a:lnTo>
                  <a:pt x="5491" y="18872"/>
                </a:lnTo>
                <a:lnTo>
                  <a:pt x="5491" y="11683"/>
                </a:lnTo>
                <a:lnTo>
                  <a:pt x="3837" y="11683"/>
                </a:lnTo>
                <a:close/>
              </a:path>
              <a:path fill="darkenLess" w="21600" h="23365">
                <a:moveTo>
                  <a:pt x="13376" y="7331"/>
                </a:moveTo>
                <a:lnTo>
                  <a:pt x="13376" y="5590"/>
                </a:lnTo>
                <a:lnTo>
                  <a:pt x="15152" y="5590"/>
                </a:lnTo>
                <a:lnTo>
                  <a:pt x="15152" y="9106"/>
                </a:lnTo>
                <a:close/>
              </a:path>
              <a:path fill="darkenLess" w="21600" h="23365">
                <a:moveTo>
                  <a:pt x="9877" y="15182"/>
                </a:moveTo>
                <a:lnTo>
                  <a:pt x="11723" y="15182"/>
                </a:lnTo>
                <a:lnTo>
                  <a:pt x="11723" y="18872"/>
                </a:lnTo>
                <a:lnTo>
                  <a:pt x="16109" y="18872"/>
                </a:lnTo>
                <a:lnTo>
                  <a:pt x="16109" y="11683"/>
                </a:lnTo>
                <a:lnTo>
                  <a:pt x="5491" y="11683"/>
                </a:lnTo>
                <a:lnTo>
                  <a:pt x="5491" y="18872"/>
                </a:lnTo>
                <a:lnTo>
                  <a:pt x="9877" y="1887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AutoShape 3"/>
          <p:cNvSpPr/>
          <p:nvPr/>
        </p:nvSpPr>
        <p:spPr>
          <a:xfrm>
            <a:off x="857160" y="0"/>
            <a:ext cx="7572600" cy="2205000"/>
          </a:xfrm>
          <a:prstGeom prst="horizontalScrol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Назовите самую длинную горную систему России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расположенную между Западно-Сибирской 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Восточно-Европейской равнинам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6451560" y="2421000"/>
            <a:ext cx="27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Уральские гор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0" name="Picture 5" descr="1560"/>
          <p:cNvPicPr/>
          <p:nvPr/>
        </p:nvPicPr>
        <p:blipFill>
          <a:blip r:embed="rId1"/>
          <a:stretch/>
        </p:blipFill>
        <p:spPr>
          <a:xfrm>
            <a:off x="785880" y="2428920"/>
            <a:ext cx="5545080" cy="35845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AutoShape 2"/>
          <p:cNvSpPr/>
          <p:nvPr/>
        </p:nvSpPr>
        <p:spPr>
          <a:xfrm>
            <a:off x="8677440" y="6353280"/>
            <a:ext cx="466560" cy="504720"/>
          </a:xfrm>
          <a:custGeom>
            <a:avLst/>
            <a:gdLst>
              <a:gd name="textAreaLeft" fmla="*/ 30240 w 466560"/>
              <a:gd name="textAreaRight" fmla="*/ 436320 w 466560"/>
              <a:gd name="textAreaTop" fmla="*/ 30240 h 504720"/>
              <a:gd name="textAreaBottom" fmla="*/ 474480 h 504720"/>
            </a:gdLst>
            <a:ahLst/>
            <a:rect l="textAreaLeft" t="textAreaTop" r="textAreaRight" b="textAreaBottom"/>
            <a:pathLst>
              <a:path w="21600" h="23365">
                <a:moveTo>
                  <a:pt x="0" y="0"/>
                </a:moveTo>
                <a:lnTo>
                  <a:pt x="21600" y="0"/>
                </a:lnTo>
                <a:lnTo>
                  <a:pt x="21600" y="23365"/>
                </a:lnTo>
                <a:lnTo>
                  <a:pt x="0" y="23365"/>
                </a:lnTo>
                <a:close/>
              </a:path>
              <a:path fill="lightenLess" w="21600" h="233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65">
                <a:moveTo>
                  <a:pt x="21600" y="0"/>
                </a:moveTo>
                <a:lnTo>
                  <a:pt x="21600" y="23365"/>
                </a:lnTo>
                <a:lnTo>
                  <a:pt x="20200" y="21965"/>
                </a:lnTo>
                <a:lnTo>
                  <a:pt x="20200" y="1400"/>
                </a:lnTo>
                <a:close/>
              </a:path>
              <a:path fill="darkenLess" w="21600" h="23365">
                <a:moveTo>
                  <a:pt x="21600" y="23365"/>
                </a:moveTo>
                <a:lnTo>
                  <a:pt x="0" y="23365"/>
                </a:lnTo>
                <a:lnTo>
                  <a:pt x="1400" y="21965"/>
                </a:lnTo>
                <a:lnTo>
                  <a:pt x="20200" y="21965"/>
                </a:lnTo>
                <a:close/>
              </a:path>
              <a:path fill="lighten" w="21600" h="23365">
                <a:moveTo>
                  <a:pt x="0" y="233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65"/>
                </a:lnTo>
                <a:close/>
              </a:path>
              <a:path fill="darken" w="21600" h="23365">
                <a:moveTo>
                  <a:pt x="10800" y="4720"/>
                </a:moveTo>
                <a:lnTo>
                  <a:pt x="13376" y="7331"/>
                </a:lnTo>
                <a:lnTo>
                  <a:pt x="13376" y="5590"/>
                </a:lnTo>
                <a:lnTo>
                  <a:pt x="15152" y="5590"/>
                </a:lnTo>
                <a:lnTo>
                  <a:pt x="15152" y="9106"/>
                </a:lnTo>
                <a:lnTo>
                  <a:pt x="17763" y="11683"/>
                </a:lnTo>
                <a:lnTo>
                  <a:pt x="16109" y="11683"/>
                </a:lnTo>
                <a:lnTo>
                  <a:pt x="16109" y="18872"/>
                </a:lnTo>
                <a:lnTo>
                  <a:pt x="5491" y="18872"/>
                </a:lnTo>
                <a:lnTo>
                  <a:pt x="5491" y="11683"/>
                </a:lnTo>
                <a:lnTo>
                  <a:pt x="3837" y="11683"/>
                </a:lnTo>
                <a:close/>
              </a:path>
              <a:path fill="darkenLess" w="21600" h="23365">
                <a:moveTo>
                  <a:pt x="13376" y="7331"/>
                </a:moveTo>
                <a:lnTo>
                  <a:pt x="13376" y="5590"/>
                </a:lnTo>
                <a:lnTo>
                  <a:pt x="15152" y="5590"/>
                </a:lnTo>
                <a:lnTo>
                  <a:pt x="15152" y="9106"/>
                </a:lnTo>
                <a:close/>
              </a:path>
              <a:path fill="darkenLess" w="21600" h="23365">
                <a:moveTo>
                  <a:pt x="9877" y="15182"/>
                </a:moveTo>
                <a:lnTo>
                  <a:pt x="11723" y="15182"/>
                </a:lnTo>
                <a:lnTo>
                  <a:pt x="11723" y="18872"/>
                </a:lnTo>
                <a:lnTo>
                  <a:pt x="16109" y="18872"/>
                </a:lnTo>
                <a:lnTo>
                  <a:pt x="16109" y="11683"/>
                </a:lnTo>
                <a:lnTo>
                  <a:pt x="5491" y="11683"/>
                </a:lnTo>
                <a:lnTo>
                  <a:pt x="5491" y="18872"/>
                </a:lnTo>
                <a:lnTo>
                  <a:pt x="9877" y="1887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AutoShape 3"/>
          <p:cNvSpPr/>
          <p:nvPr/>
        </p:nvSpPr>
        <p:spPr>
          <a:xfrm>
            <a:off x="857160" y="0"/>
            <a:ext cx="7572600" cy="2205000"/>
          </a:xfrm>
          <a:prstGeom prst="horizontalScrol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Какая российская  дрессировщица впервые в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истории цирка начала работать со слонами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6443640" y="2421000"/>
            <a:ext cx="270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Наталья Юрьевна Дуров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4" name="Picture 5" descr="1560"/>
          <p:cNvPicPr/>
          <p:nvPr/>
        </p:nvPicPr>
        <p:blipFill>
          <a:blip r:embed="rId1"/>
          <a:stretch/>
        </p:blipFill>
        <p:spPr>
          <a:xfrm>
            <a:off x="1571760" y="2286000"/>
            <a:ext cx="4611600" cy="35845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AutoShape 2"/>
          <p:cNvSpPr/>
          <p:nvPr/>
        </p:nvSpPr>
        <p:spPr>
          <a:xfrm>
            <a:off x="8677440" y="6353280"/>
            <a:ext cx="466560" cy="504720"/>
          </a:xfrm>
          <a:custGeom>
            <a:avLst/>
            <a:gdLst>
              <a:gd name="textAreaLeft" fmla="*/ 30240 w 466560"/>
              <a:gd name="textAreaRight" fmla="*/ 436320 w 466560"/>
              <a:gd name="textAreaTop" fmla="*/ 30240 h 504720"/>
              <a:gd name="textAreaBottom" fmla="*/ 474480 h 504720"/>
            </a:gdLst>
            <a:ahLst/>
            <a:rect l="textAreaLeft" t="textAreaTop" r="textAreaRight" b="textAreaBottom"/>
            <a:pathLst>
              <a:path w="21600" h="23365">
                <a:moveTo>
                  <a:pt x="0" y="0"/>
                </a:moveTo>
                <a:lnTo>
                  <a:pt x="21600" y="0"/>
                </a:lnTo>
                <a:lnTo>
                  <a:pt x="21600" y="23365"/>
                </a:lnTo>
                <a:lnTo>
                  <a:pt x="0" y="23365"/>
                </a:lnTo>
                <a:close/>
              </a:path>
              <a:path fill="lightenLess" w="21600" h="233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65">
                <a:moveTo>
                  <a:pt x="21600" y="0"/>
                </a:moveTo>
                <a:lnTo>
                  <a:pt x="21600" y="23365"/>
                </a:lnTo>
                <a:lnTo>
                  <a:pt x="20200" y="21965"/>
                </a:lnTo>
                <a:lnTo>
                  <a:pt x="20200" y="1400"/>
                </a:lnTo>
                <a:close/>
              </a:path>
              <a:path fill="darkenLess" w="21600" h="23365">
                <a:moveTo>
                  <a:pt x="21600" y="23365"/>
                </a:moveTo>
                <a:lnTo>
                  <a:pt x="0" y="23365"/>
                </a:lnTo>
                <a:lnTo>
                  <a:pt x="1400" y="21965"/>
                </a:lnTo>
                <a:lnTo>
                  <a:pt x="20200" y="21965"/>
                </a:lnTo>
                <a:close/>
              </a:path>
              <a:path fill="lighten" w="21600" h="23365">
                <a:moveTo>
                  <a:pt x="0" y="233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65"/>
                </a:lnTo>
                <a:close/>
              </a:path>
              <a:path fill="darken" w="21600" h="23365">
                <a:moveTo>
                  <a:pt x="10800" y="4720"/>
                </a:moveTo>
                <a:lnTo>
                  <a:pt x="13376" y="7331"/>
                </a:lnTo>
                <a:lnTo>
                  <a:pt x="13376" y="5590"/>
                </a:lnTo>
                <a:lnTo>
                  <a:pt x="15152" y="5590"/>
                </a:lnTo>
                <a:lnTo>
                  <a:pt x="15152" y="9106"/>
                </a:lnTo>
                <a:lnTo>
                  <a:pt x="17763" y="11683"/>
                </a:lnTo>
                <a:lnTo>
                  <a:pt x="16109" y="11683"/>
                </a:lnTo>
                <a:lnTo>
                  <a:pt x="16109" y="18872"/>
                </a:lnTo>
                <a:lnTo>
                  <a:pt x="5491" y="18872"/>
                </a:lnTo>
                <a:lnTo>
                  <a:pt x="5491" y="11683"/>
                </a:lnTo>
                <a:lnTo>
                  <a:pt x="3837" y="11683"/>
                </a:lnTo>
                <a:close/>
              </a:path>
              <a:path fill="darkenLess" w="21600" h="23365">
                <a:moveTo>
                  <a:pt x="13376" y="7331"/>
                </a:moveTo>
                <a:lnTo>
                  <a:pt x="13376" y="5590"/>
                </a:lnTo>
                <a:lnTo>
                  <a:pt x="15152" y="5590"/>
                </a:lnTo>
                <a:lnTo>
                  <a:pt x="15152" y="9106"/>
                </a:lnTo>
                <a:close/>
              </a:path>
              <a:path fill="darkenLess" w="21600" h="23365">
                <a:moveTo>
                  <a:pt x="9877" y="15182"/>
                </a:moveTo>
                <a:lnTo>
                  <a:pt x="11723" y="15182"/>
                </a:lnTo>
                <a:lnTo>
                  <a:pt x="11723" y="18872"/>
                </a:lnTo>
                <a:lnTo>
                  <a:pt x="16109" y="18872"/>
                </a:lnTo>
                <a:lnTo>
                  <a:pt x="16109" y="11683"/>
                </a:lnTo>
                <a:lnTo>
                  <a:pt x="5491" y="11683"/>
                </a:lnTo>
                <a:lnTo>
                  <a:pt x="5491" y="18872"/>
                </a:lnTo>
                <a:lnTo>
                  <a:pt x="9877" y="1887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AutoShape 3"/>
          <p:cNvSpPr/>
          <p:nvPr/>
        </p:nvSpPr>
        <p:spPr>
          <a:xfrm>
            <a:off x="857160" y="0"/>
            <a:ext cx="7572600" cy="2205000"/>
          </a:xfrm>
          <a:prstGeom prst="horizontalScrol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Какое название российских супов являетс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самым древним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5786280" y="2421000"/>
            <a:ext cx="3357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Уха. Вплоть до XIX века ухой на Руси называли всякий мясной, овощной и рыбный суп. Сегодня уха  – это особый рыбный суп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Picture 5" descr="1560"/>
          <p:cNvPicPr/>
          <p:nvPr/>
        </p:nvPicPr>
        <p:blipFill>
          <a:blip r:embed="rId1"/>
          <a:stretch/>
        </p:blipFill>
        <p:spPr>
          <a:xfrm>
            <a:off x="1214280" y="2428920"/>
            <a:ext cx="4494240" cy="33703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1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WordArt 5"/>
          <p:cNvSpPr txBox="1"/>
          <p:nvPr/>
        </p:nvSpPr>
        <p:spPr>
          <a:xfrm>
            <a:off x="900000" y="1268280"/>
            <a:ext cx="7488360" cy="396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гра окончена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   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цы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cc"/>
                </a:solidFill>
                <a:latin typeface="Arial"/>
              </a:rPr>
              <a:t>Выбирай тему и номер загадк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25"/>
          <p:cNvSpPr/>
          <p:nvPr/>
        </p:nvSpPr>
        <p:spPr>
          <a:xfrm>
            <a:off x="0" y="1268280"/>
            <a:ext cx="178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cc"/>
                </a:solidFill>
                <a:latin typeface="Times New Roman"/>
              </a:rPr>
              <a:t>Символика Росси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26"/>
          <p:cNvSpPr/>
          <p:nvPr/>
        </p:nvSpPr>
        <p:spPr>
          <a:xfrm>
            <a:off x="0" y="2637000"/>
            <a:ext cx="18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cc"/>
                </a:solidFill>
                <a:latin typeface="Times New Roman"/>
              </a:rPr>
              <a:t>Традиции и обыча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27"/>
          <p:cNvSpPr/>
          <p:nvPr/>
        </p:nvSpPr>
        <p:spPr>
          <a:xfrm>
            <a:off x="0" y="4149720"/>
            <a:ext cx="200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cc"/>
                </a:solidFill>
                <a:latin typeface="Times New Roman"/>
              </a:rPr>
              <a:t>Знаменитые россиян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28"/>
          <p:cNvSpPr/>
          <p:nvPr/>
        </p:nvSpPr>
        <p:spPr>
          <a:xfrm>
            <a:off x="-181080" y="5286240"/>
            <a:ext cx="21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cc"/>
                </a:solidFill>
                <a:latin typeface="Times New Roman"/>
              </a:rPr>
              <a:t>Рекорды Росси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AutoShape 30">
            <a:hlinkClick r:id="rId1" action="ppaction://hlinksldjump"/>
          </p:cNvPr>
          <p:cNvSpPr/>
          <p:nvPr/>
        </p:nvSpPr>
        <p:spPr>
          <a:xfrm>
            <a:off x="1835280" y="1197000"/>
            <a:ext cx="1008000" cy="865080"/>
          </a:xfrm>
          <a:prstGeom prst="bevel">
            <a:avLst>
              <a:gd name="adj" fmla="val 12500"/>
            </a:avLst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AutoShape 31">
            <a:hlinkClick r:id="rId2" action="ppaction://hlinksldjump"/>
          </p:cNvPr>
          <p:cNvSpPr/>
          <p:nvPr/>
        </p:nvSpPr>
        <p:spPr>
          <a:xfrm>
            <a:off x="3059280" y="1197000"/>
            <a:ext cx="1008000" cy="865080"/>
          </a:xfrm>
          <a:prstGeom prst="bevel">
            <a:avLst>
              <a:gd name="adj" fmla="val 12500"/>
            </a:avLst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AutoShape 32">
            <a:hlinkClick r:id="rId3" action="ppaction://hlinksldjump"/>
          </p:cNvPr>
          <p:cNvSpPr/>
          <p:nvPr/>
        </p:nvSpPr>
        <p:spPr>
          <a:xfrm>
            <a:off x="1908000" y="2565360"/>
            <a:ext cx="1008360" cy="865080"/>
          </a:xfrm>
          <a:prstGeom prst="bevel">
            <a:avLst>
              <a:gd name="adj" fmla="val 12500"/>
            </a:avLst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AutoShape 33">
            <a:hlinkClick r:id="rId4" action="ppaction://hlinksldjump"/>
          </p:cNvPr>
          <p:cNvSpPr/>
          <p:nvPr/>
        </p:nvSpPr>
        <p:spPr>
          <a:xfrm>
            <a:off x="4356000" y="1197000"/>
            <a:ext cx="1008000" cy="86508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AutoShape 34">
            <a:hlinkClick r:id="rId5" action="ppaction://hlinksldjump"/>
          </p:cNvPr>
          <p:cNvSpPr/>
          <p:nvPr/>
        </p:nvSpPr>
        <p:spPr>
          <a:xfrm>
            <a:off x="5580000" y="1197000"/>
            <a:ext cx="1008000" cy="865080"/>
          </a:xfrm>
          <a:prstGeom prst="bevel">
            <a:avLst>
              <a:gd name="adj" fmla="val 12500"/>
            </a:avLst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AutoShape 35">
            <a:hlinkClick r:id="rId6" action="ppaction://hlinksldjump"/>
          </p:cNvPr>
          <p:cNvSpPr/>
          <p:nvPr/>
        </p:nvSpPr>
        <p:spPr>
          <a:xfrm>
            <a:off x="6732720" y="1197000"/>
            <a:ext cx="1008000" cy="86508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AutoShape 36">
            <a:hlinkClick r:id="rId7" action="ppaction://hlinksldjump"/>
          </p:cNvPr>
          <p:cNvSpPr/>
          <p:nvPr/>
        </p:nvSpPr>
        <p:spPr>
          <a:xfrm>
            <a:off x="7885080" y="1197000"/>
            <a:ext cx="1008000" cy="865080"/>
          </a:xfrm>
          <a:prstGeom prst="bevel">
            <a:avLst>
              <a:gd name="adj" fmla="val 12500"/>
            </a:avLst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6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AutoShape 37">
            <a:hlinkClick r:id="rId8" action="ppaction://hlinksldjump"/>
          </p:cNvPr>
          <p:cNvSpPr/>
          <p:nvPr/>
        </p:nvSpPr>
        <p:spPr>
          <a:xfrm>
            <a:off x="1979640" y="4005360"/>
            <a:ext cx="1008000" cy="865080"/>
          </a:xfrm>
          <a:prstGeom prst="bevel">
            <a:avLst>
              <a:gd name="adj" fmla="val 12500"/>
            </a:avLst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AutoShape 38">
            <a:hlinkClick r:id="rId9" action="ppaction://hlinksldjump"/>
          </p:cNvPr>
          <p:cNvSpPr/>
          <p:nvPr/>
        </p:nvSpPr>
        <p:spPr>
          <a:xfrm>
            <a:off x="1979640" y="5373720"/>
            <a:ext cx="1008000" cy="865080"/>
          </a:xfrm>
          <a:prstGeom prst="bevel">
            <a:avLst>
              <a:gd name="adj" fmla="val 12500"/>
            </a:avLst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AutoShape 39">
            <a:hlinkClick r:id="rId10" action="ppaction://hlinksldjump"/>
          </p:cNvPr>
          <p:cNvSpPr/>
          <p:nvPr/>
        </p:nvSpPr>
        <p:spPr>
          <a:xfrm>
            <a:off x="3059280" y="2565360"/>
            <a:ext cx="1008000" cy="865080"/>
          </a:xfrm>
          <a:prstGeom prst="bevel">
            <a:avLst>
              <a:gd name="adj" fmla="val 12500"/>
            </a:avLst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AutoShape 40">
            <a:hlinkClick r:id="rId11" action="ppaction://hlinksldjump"/>
          </p:cNvPr>
          <p:cNvSpPr/>
          <p:nvPr/>
        </p:nvSpPr>
        <p:spPr>
          <a:xfrm>
            <a:off x="3132000" y="4005360"/>
            <a:ext cx="1008360" cy="865080"/>
          </a:xfrm>
          <a:prstGeom prst="bevel">
            <a:avLst>
              <a:gd name="adj" fmla="val 12500"/>
            </a:avLst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AutoShape 41">
            <a:hlinkClick r:id="rId12" action="ppaction://hlinksldjump"/>
          </p:cNvPr>
          <p:cNvSpPr/>
          <p:nvPr/>
        </p:nvSpPr>
        <p:spPr>
          <a:xfrm>
            <a:off x="3132000" y="5373720"/>
            <a:ext cx="1008360" cy="865080"/>
          </a:xfrm>
          <a:prstGeom prst="bevel">
            <a:avLst>
              <a:gd name="adj" fmla="val 12500"/>
            </a:avLst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AutoShape 42">
            <a:hlinkClick r:id="rId13" action="ppaction://hlinksldjump"/>
          </p:cNvPr>
          <p:cNvSpPr/>
          <p:nvPr/>
        </p:nvSpPr>
        <p:spPr>
          <a:xfrm>
            <a:off x="4356000" y="2565360"/>
            <a:ext cx="1008000" cy="86508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AutoShape 43">
            <a:hlinkClick r:id="rId14" action="ppaction://hlinksldjump"/>
          </p:cNvPr>
          <p:cNvSpPr/>
          <p:nvPr/>
        </p:nvSpPr>
        <p:spPr>
          <a:xfrm>
            <a:off x="4356000" y="4005360"/>
            <a:ext cx="1008000" cy="86508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AutoShape 44">
            <a:hlinkClick r:id="rId15" action="ppaction://hlinksldjump"/>
          </p:cNvPr>
          <p:cNvSpPr/>
          <p:nvPr/>
        </p:nvSpPr>
        <p:spPr>
          <a:xfrm>
            <a:off x="4356000" y="5373720"/>
            <a:ext cx="1008000" cy="86508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AutoShape 45">
            <a:hlinkClick r:id="rId16" action="ppaction://hlinksldjump"/>
          </p:cNvPr>
          <p:cNvSpPr/>
          <p:nvPr/>
        </p:nvSpPr>
        <p:spPr>
          <a:xfrm>
            <a:off x="5580000" y="2565360"/>
            <a:ext cx="1008000" cy="865080"/>
          </a:xfrm>
          <a:prstGeom prst="bevel">
            <a:avLst>
              <a:gd name="adj" fmla="val 12500"/>
            </a:avLst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AutoShape 46">
            <a:hlinkClick r:id="rId17" action="ppaction://hlinksldjump"/>
          </p:cNvPr>
          <p:cNvSpPr/>
          <p:nvPr/>
        </p:nvSpPr>
        <p:spPr>
          <a:xfrm>
            <a:off x="5580000" y="4005360"/>
            <a:ext cx="1008000" cy="865080"/>
          </a:xfrm>
          <a:prstGeom prst="bevel">
            <a:avLst>
              <a:gd name="adj" fmla="val 12500"/>
            </a:avLst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AutoShape 47">
            <a:hlinkClick r:id="rId18" action="ppaction://hlinksldjump"/>
          </p:cNvPr>
          <p:cNvSpPr/>
          <p:nvPr/>
        </p:nvSpPr>
        <p:spPr>
          <a:xfrm>
            <a:off x="5580000" y="5373720"/>
            <a:ext cx="1008000" cy="865080"/>
          </a:xfrm>
          <a:prstGeom prst="bevel">
            <a:avLst>
              <a:gd name="adj" fmla="val 12500"/>
            </a:avLst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AutoShape 48">
            <a:hlinkClick r:id="rId19" action="ppaction://hlinksldjump"/>
          </p:cNvPr>
          <p:cNvSpPr/>
          <p:nvPr/>
        </p:nvSpPr>
        <p:spPr>
          <a:xfrm>
            <a:off x="6732720" y="2565360"/>
            <a:ext cx="1008000" cy="86508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AutoShape 49">
            <a:hlinkClick r:id="rId20" action="ppaction://hlinksldjump"/>
          </p:cNvPr>
          <p:cNvSpPr/>
          <p:nvPr/>
        </p:nvSpPr>
        <p:spPr>
          <a:xfrm>
            <a:off x="6804000" y="4005360"/>
            <a:ext cx="1008000" cy="86508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AutoShape 50">
            <a:hlinkClick r:id="rId21" action="ppaction://hlinksldjump"/>
          </p:cNvPr>
          <p:cNvSpPr/>
          <p:nvPr/>
        </p:nvSpPr>
        <p:spPr>
          <a:xfrm>
            <a:off x="6804000" y="5373720"/>
            <a:ext cx="1008000" cy="86508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AutoShape 51">
            <a:hlinkClick r:id="rId22" action="ppaction://hlinksldjump"/>
          </p:cNvPr>
          <p:cNvSpPr/>
          <p:nvPr/>
        </p:nvSpPr>
        <p:spPr>
          <a:xfrm>
            <a:off x="7956720" y="2565360"/>
            <a:ext cx="1008000" cy="865080"/>
          </a:xfrm>
          <a:prstGeom prst="bevel">
            <a:avLst>
              <a:gd name="adj" fmla="val 12500"/>
            </a:avLst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6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AutoShape 52">
            <a:hlinkClick r:id="rId23" action="ppaction://hlinksldjump"/>
          </p:cNvPr>
          <p:cNvSpPr/>
          <p:nvPr/>
        </p:nvSpPr>
        <p:spPr>
          <a:xfrm>
            <a:off x="7956720" y="4005360"/>
            <a:ext cx="1008000" cy="865080"/>
          </a:xfrm>
          <a:prstGeom prst="bevel">
            <a:avLst>
              <a:gd name="adj" fmla="val 12500"/>
            </a:avLst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6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AutoShape 53">
            <a:hlinkClick r:id="rId24" action="ppaction://hlinksldjump"/>
          </p:cNvPr>
          <p:cNvSpPr/>
          <p:nvPr/>
        </p:nvSpPr>
        <p:spPr>
          <a:xfrm>
            <a:off x="7956720" y="5373720"/>
            <a:ext cx="1008000" cy="865080"/>
          </a:xfrm>
          <a:prstGeom prst="bevel">
            <a:avLst>
              <a:gd name="adj" fmla="val 12500"/>
            </a:avLst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6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Picture 54" descr="58">
            <a:hlinkClick r:id="rId25" action="ppaction://hlinksldjump"/>
          </p:cNvPr>
          <p:cNvPicPr/>
          <p:nvPr/>
        </p:nvPicPr>
        <p:blipFill>
          <a:blip r:embed="rId26"/>
          <a:stretch/>
        </p:blipFill>
        <p:spPr>
          <a:xfrm>
            <a:off x="684360" y="6188040"/>
            <a:ext cx="779400" cy="66996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5"/>
          <p:cNvSpPr/>
          <p:nvPr/>
        </p:nvSpPr>
        <p:spPr>
          <a:xfrm>
            <a:off x="1615680" y="6329520"/>
            <a:ext cx="130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Финиш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2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18" nodeType="clickEffect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28" nodeType="clickEffect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38" nodeType="clickEffect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48" nodeType="clickEffect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53" nodeType="clickEffect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2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58" nodeType="clickEffect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2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68" nodeType="clickEffect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73" nodeType="clickEffect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2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78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83" nodeType="clickEffect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2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88" nodeType="clickEffect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" dur="2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93" nodeType="clickEffect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98" nodeType="clickEffect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103" nodeType="clickEffect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108" nodeType="clickEffect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" dur="2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113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118" nodeType="clickEffect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AutoShape 5">
            <a:hlinkClick r:id="rId1" action="ppaction://hlinksldjump"/>
          </p:cNvPr>
          <p:cNvSpPr/>
          <p:nvPr/>
        </p:nvSpPr>
        <p:spPr>
          <a:xfrm>
            <a:off x="8532720" y="6391440"/>
            <a:ext cx="611280" cy="466560"/>
          </a:xfrm>
          <a:custGeom>
            <a:avLst/>
            <a:gdLst>
              <a:gd name="textAreaLeft" fmla="*/ 30240 w 611280"/>
              <a:gd name="textAreaRight" fmla="*/ 581040 w 61128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28295" h="21600">
                <a:moveTo>
                  <a:pt x="0" y="0"/>
                </a:moveTo>
                <a:lnTo>
                  <a:pt x="28295" y="0"/>
                </a:lnTo>
                <a:lnTo>
                  <a:pt x="28295" y="21600"/>
                </a:lnTo>
                <a:lnTo>
                  <a:pt x="0" y="21600"/>
                </a:lnTo>
                <a:close/>
              </a:path>
              <a:path fill="lightenLess" w="28295" h="21600">
                <a:moveTo>
                  <a:pt x="0" y="0"/>
                </a:moveTo>
                <a:lnTo>
                  <a:pt x="28295" y="0"/>
                </a:lnTo>
                <a:lnTo>
                  <a:pt x="26895" y="1400"/>
                </a:lnTo>
                <a:lnTo>
                  <a:pt x="1400" y="1400"/>
                </a:lnTo>
                <a:close/>
              </a:path>
              <a:path fill="darken" w="28295" h="21600">
                <a:moveTo>
                  <a:pt x="28295" y="0"/>
                </a:moveTo>
                <a:lnTo>
                  <a:pt x="28295" y="21600"/>
                </a:lnTo>
                <a:lnTo>
                  <a:pt x="26895" y="20200"/>
                </a:lnTo>
                <a:lnTo>
                  <a:pt x="26895" y="1400"/>
                </a:lnTo>
                <a:close/>
              </a:path>
              <a:path fill="darkenLess" w="28295" h="21600">
                <a:moveTo>
                  <a:pt x="282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95" y="20200"/>
                </a:lnTo>
                <a:close/>
              </a:path>
              <a:path fill="lighten" w="282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95" h="21600">
                <a:moveTo>
                  <a:pt x="14147" y="3837"/>
                </a:moveTo>
                <a:lnTo>
                  <a:pt x="16724" y="6448"/>
                </a:lnTo>
                <a:lnTo>
                  <a:pt x="16724" y="4707"/>
                </a:lnTo>
                <a:lnTo>
                  <a:pt x="18499" y="4707"/>
                </a:lnTo>
                <a:lnTo>
                  <a:pt x="18499" y="8224"/>
                </a:lnTo>
                <a:lnTo>
                  <a:pt x="21110" y="10800"/>
                </a:lnTo>
                <a:lnTo>
                  <a:pt x="19457" y="10800"/>
                </a:lnTo>
                <a:lnTo>
                  <a:pt x="19457" y="17989"/>
                </a:lnTo>
                <a:lnTo>
                  <a:pt x="8838" y="17989"/>
                </a:lnTo>
                <a:lnTo>
                  <a:pt x="8838" y="10800"/>
                </a:lnTo>
                <a:lnTo>
                  <a:pt x="7184" y="10800"/>
                </a:lnTo>
                <a:close/>
              </a:path>
              <a:path fill="darkenLess" w="28295" h="21600">
                <a:moveTo>
                  <a:pt x="16724" y="6448"/>
                </a:moveTo>
                <a:lnTo>
                  <a:pt x="16724" y="4707"/>
                </a:lnTo>
                <a:lnTo>
                  <a:pt x="18499" y="4707"/>
                </a:lnTo>
                <a:lnTo>
                  <a:pt x="18499" y="8224"/>
                </a:lnTo>
                <a:close/>
              </a:path>
              <a:path fill="darkenLess" w="28295" h="21600">
                <a:moveTo>
                  <a:pt x="13225" y="14299"/>
                </a:moveTo>
                <a:lnTo>
                  <a:pt x="15070" y="14299"/>
                </a:lnTo>
                <a:lnTo>
                  <a:pt x="15070" y="17989"/>
                </a:lnTo>
                <a:lnTo>
                  <a:pt x="19457" y="17989"/>
                </a:lnTo>
                <a:lnTo>
                  <a:pt x="19457" y="10800"/>
                </a:lnTo>
                <a:lnTo>
                  <a:pt x="8838" y="10800"/>
                </a:lnTo>
                <a:lnTo>
                  <a:pt x="8838" y="17989"/>
                </a:lnTo>
                <a:lnTo>
                  <a:pt x="13225" y="17989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AutoShape 6"/>
          <p:cNvSpPr/>
          <p:nvPr/>
        </p:nvSpPr>
        <p:spPr>
          <a:xfrm>
            <a:off x="1116000" y="0"/>
            <a:ext cx="6527880" cy="2664000"/>
          </a:xfrm>
          <a:prstGeom prst="horizontalScrol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Один из государственных символов – гимн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родемонстрируйте, что должны сделать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люди, когда звучит гимн, чтобы отметить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свое уважение стран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5724000" y="2857680"/>
            <a:ext cx="255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Люди должн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стат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8" descr="0012-025-Pereljotnye-ptitsy"/>
          <p:cNvPicPr/>
          <p:nvPr/>
        </p:nvPicPr>
        <p:blipFill>
          <a:blip r:embed="rId2"/>
          <a:stretch/>
        </p:blipFill>
        <p:spPr>
          <a:xfrm>
            <a:off x="1357200" y="3000240"/>
            <a:ext cx="4152960" cy="2757600"/>
          </a:xfrm>
          <a:prstGeom prst="rect">
            <a:avLst/>
          </a:prstGeom>
          <a:ln w="0">
            <a:noFill/>
          </a:ln>
        </p:spPr>
      </p:pic>
      <p:pic>
        <p:nvPicPr>
          <p:cNvPr id="163" name="gimn_-_rossii_(zaycev.net).mp3" descr=""/>
          <p:cNvPicPr/>
          <p:nvPr/>
        </p:nvPicPr>
        <p:blipFill>
          <a:blip r:embed="rId3"/>
          <a:stretch/>
        </p:blipFill>
        <p:spPr>
          <a:xfrm>
            <a:off x="4786200" y="1857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140" nodeType="clickEffect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" dur="191094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2">
            <a:hlinkClick r:id="rId1" action="ppaction://hlinksldjump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12236" y="3837"/>
                </a:moveTo>
                <a:lnTo>
                  <a:pt x="14812" y="6448"/>
                </a:lnTo>
                <a:lnTo>
                  <a:pt x="14812" y="4707"/>
                </a:lnTo>
                <a:lnTo>
                  <a:pt x="16588" y="4707"/>
                </a:lnTo>
                <a:lnTo>
                  <a:pt x="16588" y="8224"/>
                </a:lnTo>
                <a:lnTo>
                  <a:pt x="19199" y="10800"/>
                </a:lnTo>
                <a:lnTo>
                  <a:pt x="17545" y="10800"/>
                </a:lnTo>
                <a:lnTo>
                  <a:pt x="17545" y="17989"/>
                </a:lnTo>
                <a:lnTo>
                  <a:pt x="6926" y="17989"/>
                </a:lnTo>
                <a:lnTo>
                  <a:pt x="6926" y="10800"/>
                </a:lnTo>
                <a:lnTo>
                  <a:pt x="5273" y="10800"/>
                </a:lnTo>
                <a:close/>
              </a:path>
              <a:path fill="darkenLess" w="24471" h="21600">
                <a:moveTo>
                  <a:pt x="14812" y="6448"/>
                </a:moveTo>
                <a:lnTo>
                  <a:pt x="14812" y="4707"/>
                </a:lnTo>
                <a:lnTo>
                  <a:pt x="16588" y="4707"/>
                </a:lnTo>
                <a:lnTo>
                  <a:pt x="16588" y="8224"/>
                </a:lnTo>
                <a:close/>
              </a:path>
              <a:path fill="darkenLess" w="24471" h="21600">
                <a:moveTo>
                  <a:pt x="11313" y="14299"/>
                </a:moveTo>
                <a:lnTo>
                  <a:pt x="13158" y="14299"/>
                </a:lnTo>
                <a:lnTo>
                  <a:pt x="13158" y="17989"/>
                </a:lnTo>
                <a:lnTo>
                  <a:pt x="17545" y="17989"/>
                </a:lnTo>
                <a:lnTo>
                  <a:pt x="17545" y="10800"/>
                </a:lnTo>
                <a:lnTo>
                  <a:pt x="6926" y="10800"/>
                </a:lnTo>
                <a:lnTo>
                  <a:pt x="6926" y="17989"/>
                </a:lnTo>
                <a:lnTo>
                  <a:pt x="11313" y="17989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AutoShape 3"/>
          <p:cNvSpPr/>
          <p:nvPr/>
        </p:nvSpPr>
        <p:spPr>
          <a:xfrm>
            <a:off x="857160" y="0"/>
            <a:ext cx="7358040" cy="2500200"/>
          </a:xfrm>
          <a:prstGeom prst="horizontalScrol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Герб России представлен щитом красного цвет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на фоне которого изображен золотой двуглавы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орел. Правой лапой орел сжимает скипетр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левой – державу. А над головами орла – корон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Сколько корон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4714920" y="2500200"/>
            <a:ext cx="4429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Три короны над головами орла, скрепленные единой лентой, символизируют кровное братство и единую историю трех восточнославянских народов – русских, украинцев и белорус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Picture 5" descr="m-591076"/>
          <p:cNvPicPr/>
          <p:nvPr/>
        </p:nvPicPr>
        <p:blipFill>
          <a:blip r:embed="rId2"/>
          <a:stretch/>
        </p:blipFill>
        <p:spPr>
          <a:xfrm>
            <a:off x="1143000" y="2500200"/>
            <a:ext cx="3463920" cy="4157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AutoShape 2">
            <a:hlinkClick r:id="rId1" action="ppaction://hlinksldjump"/>
          </p:cNvPr>
          <p:cNvSpPr/>
          <p:nvPr/>
        </p:nvSpPr>
        <p:spPr>
          <a:xfrm>
            <a:off x="8677440" y="6391440"/>
            <a:ext cx="466560" cy="466560"/>
          </a:xfrm>
          <a:custGeom>
            <a:avLst/>
            <a:gdLst>
              <a:gd name="textAreaLeft" fmla="*/ 30240 w 466560"/>
              <a:gd name="textAreaRight" fmla="*/ 436320 w 46656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AutoShape 3"/>
          <p:cNvSpPr/>
          <p:nvPr/>
        </p:nvSpPr>
        <p:spPr>
          <a:xfrm>
            <a:off x="900000" y="0"/>
            <a:ext cx="7743960" cy="2786040"/>
          </a:xfrm>
          <a:prstGeom prst="horizontalScrol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На гербе России изображен орел, а на груди орл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омещено изображение всадника на фоне красног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щита. Это святой Георгий Победоносец. Он на бело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коне, за его плечами развивается синий плащ, 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равой руке у него копье, которым он победил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Кого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5143680" y="2714760"/>
            <a:ext cx="4028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Черный змей, ил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Дракон – символ зл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Picture 5" descr="0_58c9_b67783d8_XL"/>
          <p:cNvPicPr/>
          <p:nvPr/>
        </p:nvPicPr>
        <p:blipFill>
          <a:blip r:embed="rId2"/>
          <a:stretch/>
        </p:blipFill>
        <p:spPr>
          <a:xfrm>
            <a:off x="1285920" y="2728800"/>
            <a:ext cx="3495600" cy="41292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2">
            <a:hlinkClick r:id="rId1" action="ppaction://hlinksldjump"/>
          </p:cNvPr>
          <p:cNvSpPr/>
          <p:nvPr/>
        </p:nvSpPr>
        <p:spPr>
          <a:xfrm>
            <a:off x="8677440" y="6391440"/>
            <a:ext cx="466560" cy="466560"/>
          </a:xfrm>
          <a:custGeom>
            <a:avLst/>
            <a:gdLst>
              <a:gd name="textAreaLeft" fmla="*/ 30240 w 466560"/>
              <a:gd name="textAreaRight" fmla="*/ 436320 w 46656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AutoShape 3"/>
          <p:cNvSpPr/>
          <p:nvPr/>
        </p:nvSpPr>
        <p:spPr>
          <a:xfrm>
            <a:off x="826920" y="0"/>
            <a:ext cx="7129800" cy="1873080"/>
          </a:xfrm>
          <a:prstGeom prst="horizontalScrol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Кто автор слов гимна России?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5654160" y="2214720"/>
            <a:ext cx="31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ергей   Михалков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Picture 5" descr="275px-Tawny_wiki"/>
          <p:cNvPicPr/>
          <p:nvPr/>
        </p:nvPicPr>
        <p:blipFill>
          <a:blip r:embed="rId2"/>
          <a:stretch/>
        </p:blipFill>
        <p:spPr>
          <a:xfrm>
            <a:off x="1571760" y="2174760"/>
            <a:ext cx="3524040" cy="41958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AutoShape 2">
            <a:hlinkClick r:id="rId1" action="ppaction://hlinksldjump"/>
          </p:cNvPr>
          <p:cNvSpPr/>
          <p:nvPr/>
        </p:nvSpPr>
        <p:spPr>
          <a:xfrm>
            <a:off x="8677440" y="6389640"/>
            <a:ext cx="466560" cy="468360"/>
          </a:xfrm>
          <a:custGeom>
            <a:avLst/>
            <a:gdLst>
              <a:gd name="textAreaLeft" fmla="*/ 30240 w 466560"/>
              <a:gd name="textAreaRight" fmla="*/ 436320 w 46656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21600" h="21683">
                <a:moveTo>
                  <a:pt x="0" y="0"/>
                </a:moveTo>
                <a:lnTo>
                  <a:pt x="21600" y="0"/>
                </a:lnTo>
                <a:lnTo>
                  <a:pt x="21600" y="21683"/>
                </a:lnTo>
                <a:lnTo>
                  <a:pt x="0" y="21683"/>
                </a:lnTo>
                <a:close/>
              </a:path>
              <a:path fill="lightenLess" w="21600" h="216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83">
                <a:moveTo>
                  <a:pt x="21600" y="0"/>
                </a:moveTo>
                <a:lnTo>
                  <a:pt x="21600" y="21683"/>
                </a:lnTo>
                <a:lnTo>
                  <a:pt x="20200" y="20283"/>
                </a:lnTo>
                <a:lnTo>
                  <a:pt x="20200" y="1400"/>
                </a:lnTo>
                <a:close/>
              </a:path>
              <a:path fill="darkenLess" w="21600" h="21683">
                <a:moveTo>
                  <a:pt x="21600" y="21683"/>
                </a:moveTo>
                <a:lnTo>
                  <a:pt x="0" y="21683"/>
                </a:lnTo>
                <a:lnTo>
                  <a:pt x="1400" y="20283"/>
                </a:lnTo>
                <a:lnTo>
                  <a:pt x="20200" y="20283"/>
                </a:lnTo>
                <a:close/>
              </a:path>
              <a:path fill="lighten" w="21600" h="21683">
                <a:moveTo>
                  <a:pt x="0" y="216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83"/>
                </a:lnTo>
                <a:close/>
              </a:path>
              <a:path fill="darken" w="21600" h="21683">
                <a:moveTo>
                  <a:pt x="10800" y="3879"/>
                </a:moveTo>
                <a:lnTo>
                  <a:pt x="13376" y="6490"/>
                </a:lnTo>
                <a:lnTo>
                  <a:pt x="13376" y="4749"/>
                </a:lnTo>
                <a:lnTo>
                  <a:pt x="15152" y="4749"/>
                </a:lnTo>
                <a:lnTo>
                  <a:pt x="15152" y="8265"/>
                </a:lnTo>
                <a:lnTo>
                  <a:pt x="17763" y="10842"/>
                </a:lnTo>
                <a:lnTo>
                  <a:pt x="16109" y="10842"/>
                </a:lnTo>
                <a:lnTo>
                  <a:pt x="16109" y="18031"/>
                </a:lnTo>
                <a:lnTo>
                  <a:pt x="5491" y="18031"/>
                </a:lnTo>
                <a:lnTo>
                  <a:pt x="5491" y="10842"/>
                </a:lnTo>
                <a:lnTo>
                  <a:pt x="3837" y="10842"/>
                </a:lnTo>
                <a:close/>
              </a:path>
              <a:path fill="darkenLess" w="21600" h="21683">
                <a:moveTo>
                  <a:pt x="13376" y="6490"/>
                </a:moveTo>
                <a:lnTo>
                  <a:pt x="13376" y="4749"/>
                </a:lnTo>
                <a:lnTo>
                  <a:pt x="15152" y="4749"/>
                </a:lnTo>
                <a:lnTo>
                  <a:pt x="15152" y="8265"/>
                </a:lnTo>
                <a:close/>
              </a:path>
              <a:path fill="darkenLess" w="21600" h="21683">
                <a:moveTo>
                  <a:pt x="9877" y="14341"/>
                </a:moveTo>
                <a:lnTo>
                  <a:pt x="11723" y="14341"/>
                </a:lnTo>
                <a:lnTo>
                  <a:pt x="11723" y="18031"/>
                </a:lnTo>
                <a:lnTo>
                  <a:pt x="16109" y="18031"/>
                </a:lnTo>
                <a:lnTo>
                  <a:pt x="16109" y="10842"/>
                </a:lnTo>
                <a:lnTo>
                  <a:pt x="5491" y="10842"/>
                </a:lnTo>
                <a:lnTo>
                  <a:pt x="5491" y="18031"/>
                </a:lnTo>
                <a:lnTo>
                  <a:pt x="9877" y="1803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AutoShape 3"/>
          <p:cNvSpPr/>
          <p:nvPr/>
        </p:nvSpPr>
        <p:spPr>
          <a:xfrm>
            <a:off x="500040" y="0"/>
            <a:ext cx="8072640" cy="2500200"/>
          </a:xfrm>
          <a:prstGeom prst="horizontalScrol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Ныне над Россией развивается бело-сине-красны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флаг, именуемый триколором. Цвет полос несет в себ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глубокий смысл. Белый цвет - символ чистоты,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равды, мира. Синий цвет – верность, постоянство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вера. А что символизирует красный цвет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6286680" y="2643120"/>
            <a:ext cx="2857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Державность, отвага,  героизм, жертвенность, кров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Picture 5" descr="894"/>
          <p:cNvPicPr/>
          <p:nvPr/>
        </p:nvPicPr>
        <p:blipFill>
          <a:blip r:embed="rId2"/>
          <a:stretch/>
        </p:blipFill>
        <p:spPr>
          <a:xfrm>
            <a:off x="971640" y="2717640"/>
            <a:ext cx="5184720" cy="3456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>
            <a:hlinkClick r:id="rId1" action="ppaction://hlinksldjump"/>
          </p:cNvPr>
          <p:cNvSpPr/>
          <p:nvPr/>
        </p:nvSpPr>
        <p:spPr>
          <a:xfrm>
            <a:off x="8677440" y="6389640"/>
            <a:ext cx="466560" cy="468360"/>
          </a:xfrm>
          <a:custGeom>
            <a:avLst/>
            <a:gdLst>
              <a:gd name="textAreaLeft" fmla="*/ 30240 w 466560"/>
              <a:gd name="textAreaRight" fmla="*/ 436320 w 46656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21600" h="21683">
                <a:moveTo>
                  <a:pt x="0" y="0"/>
                </a:moveTo>
                <a:lnTo>
                  <a:pt x="21600" y="0"/>
                </a:lnTo>
                <a:lnTo>
                  <a:pt x="21600" y="21683"/>
                </a:lnTo>
                <a:lnTo>
                  <a:pt x="0" y="21683"/>
                </a:lnTo>
                <a:close/>
              </a:path>
              <a:path fill="lightenLess" w="21600" h="216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83">
                <a:moveTo>
                  <a:pt x="21600" y="0"/>
                </a:moveTo>
                <a:lnTo>
                  <a:pt x="21600" y="21683"/>
                </a:lnTo>
                <a:lnTo>
                  <a:pt x="20200" y="20283"/>
                </a:lnTo>
                <a:lnTo>
                  <a:pt x="20200" y="1400"/>
                </a:lnTo>
                <a:close/>
              </a:path>
              <a:path fill="darkenLess" w="21600" h="21683">
                <a:moveTo>
                  <a:pt x="21600" y="21683"/>
                </a:moveTo>
                <a:lnTo>
                  <a:pt x="0" y="21683"/>
                </a:lnTo>
                <a:lnTo>
                  <a:pt x="1400" y="20283"/>
                </a:lnTo>
                <a:lnTo>
                  <a:pt x="20200" y="20283"/>
                </a:lnTo>
                <a:close/>
              </a:path>
              <a:path fill="lighten" w="21600" h="21683">
                <a:moveTo>
                  <a:pt x="0" y="216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83"/>
                </a:lnTo>
                <a:close/>
              </a:path>
              <a:path fill="darken" w="21600" h="21683">
                <a:moveTo>
                  <a:pt x="10800" y="3879"/>
                </a:moveTo>
                <a:lnTo>
                  <a:pt x="13376" y="6490"/>
                </a:lnTo>
                <a:lnTo>
                  <a:pt x="13376" y="4749"/>
                </a:lnTo>
                <a:lnTo>
                  <a:pt x="15152" y="4749"/>
                </a:lnTo>
                <a:lnTo>
                  <a:pt x="15152" y="8265"/>
                </a:lnTo>
                <a:lnTo>
                  <a:pt x="17763" y="10842"/>
                </a:lnTo>
                <a:lnTo>
                  <a:pt x="16109" y="10842"/>
                </a:lnTo>
                <a:lnTo>
                  <a:pt x="16109" y="18031"/>
                </a:lnTo>
                <a:lnTo>
                  <a:pt x="5491" y="18031"/>
                </a:lnTo>
                <a:lnTo>
                  <a:pt x="5491" y="10842"/>
                </a:lnTo>
                <a:lnTo>
                  <a:pt x="3837" y="10842"/>
                </a:lnTo>
                <a:close/>
              </a:path>
              <a:path fill="darkenLess" w="21600" h="21683">
                <a:moveTo>
                  <a:pt x="13376" y="6490"/>
                </a:moveTo>
                <a:lnTo>
                  <a:pt x="13376" y="4749"/>
                </a:lnTo>
                <a:lnTo>
                  <a:pt x="15152" y="4749"/>
                </a:lnTo>
                <a:lnTo>
                  <a:pt x="15152" y="8265"/>
                </a:lnTo>
                <a:close/>
              </a:path>
              <a:path fill="darkenLess" w="21600" h="21683">
                <a:moveTo>
                  <a:pt x="9877" y="14341"/>
                </a:moveTo>
                <a:lnTo>
                  <a:pt x="11723" y="14341"/>
                </a:lnTo>
                <a:lnTo>
                  <a:pt x="11723" y="18031"/>
                </a:lnTo>
                <a:lnTo>
                  <a:pt x="16109" y="18031"/>
                </a:lnTo>
                <a:lnTo>
                  <a:pt x="16109" y="10842"/>
                </a:lnTo>
                <a:lnTo>
                  <a:pt x="5491" y="10842"/>
                </a:lnTo>
                <a:lnTo>
                  <a:pt x="5491" y="18031"/>
                </a:lnTo>
                <a:lnTo>
                  <a:pt x="9877" y="1803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AutoShape 3"/>
          <p:cNvSpPr/>
          <p:nvPr/>
        </p:nvSpPr>
        <p:spPr>
          <a:xfrm>
            <a:off x="500040" y="0"/>
            <a:ext cx="8072640" cy="2000160"/>
          </a:xfrm>
          <a:prstGeom prst="horizontalScrol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В настоящее время у каждого региона Росси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есть свои символы. В том числе и у Курганско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области, которой в 2013 году исполнится 70 ле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Что изображено на гербе Курганской области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4643280" y="1785960"/>
            <a:ext cx="450072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Герб Курганской области представляет собой геральдический щит зеленого цвета, в поле которого изображены исторические символы старейших городов Зауралья. Серебряная оконечность щита с "кремлевскими" зубцами - стилизация Долматовского монастыря и одновременно знак пограничного положения Курганской области, бегущая куница - из герба Шадринска, два серебряных холма - из герба Кургана. Щит обрамлен золотыми дубовыми ветвями, перевитыми лазоревой андреевской ленто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Picture 5" descr="894"/>
          <p:cNvPicPr/>
          <p:nvPr/>
        </p:nvPicPr>
        <p:blipFill>
          <a:blip r:embed="rId2"/>
          <a:stretch/>
        </p:blipFill>
        <p:spPr>
          <a:xfrm>
            <a:off x="857160" y="2214720"/>
            <a:ext cx="3584520" cy="36082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16:05:17Z</dcterms:created>
  <dc:creator>техносила</dc:creator>
  <dc:description/>
  <dc:language>en-US</dc:language>
  <cp:lastModifiedBy>ALYONA</cp:lastModifiedBy>
  <dcterms:modified xsi:type="dcterms:W3CDTF">2019-01-02T17:39:32Z</dcterms:modified>
  <cp:revision>47</cp:revision>
  <dc:subject/>
  <dc:title>Слайд 1</dc:title>
</cp:coreProperties>
</file>