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C32-B7FC-4579-8948-449522D5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6E1-AA52-4BFE-B420-2177FFB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81A-1807-4629-9C79-A40EBE7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5B6-9183-4097-95BD-99D9D64A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BE32-EA87-4619-A300-61C5F3B5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0D47-25B2-4993-917B-EB58589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83C-F747-4C72-A4BF-79D8824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6FC2-BCF4-4652-AB92-BBF7105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A4D-3F2D-447F-A261-AEF3723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C5CF-16BB-438F-8939-914330CD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156-DA52-4EFA-940D-98E8F56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120-6737-44C5-B8BC-D390A831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41EC-0CD9-477E-8D83-C2489CC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60D-C7CB-44DB-9618-826A063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3AA-8C77-4CAA-BE48-FED337A6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37B1-7827-4A9C-8A5E-B887134B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778-133C-4EC9-898A-52F6E99A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554-EB5F-41B0-AEB8-57837163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307-5FFB-441B-AE52-3258625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B7D-EBBA-48A1-ABE5-2AC3680A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606-A104-4744-A406-6A74892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EBF-BAA4-41FC-AFA7-290E3E2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996-2BEA-4CFB-B5D5-19B0B0A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993-A455-4E59-AE52-5541EF4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BB6-B1C2-45D7-A655-9D1610F9C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0B6-BAA2-41AF-A7FB-787E42878C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6.xml"/><Relationship Id="rId9" Type="http://schemas.openxmlformats.org/officeDocument/2006/relationships/slide" Target="slide22.xml"/><Relationship Id="rId10" Type="http://schemas.openxmlformats.org/officeDocument/2006/relationships/slide" Target="slide11.xml"/><Relationship Id="rId11" Type="http://schemas.openxmlformats.org/officeDocument/2006/relationships/slide" Target="slide17.xml"/><Relationship Id="rId12" Type="http://schemas.openxmlformats.org/officeDocument/2006/relationships/slide" Target="slide23.xml"/><Relationship Id="rId13" Type="http://schemas.openxmlformats.org/officeDocument/2006/relationships/slide" Target="slide12.xml"/><Relationship Id="rId14" Type="http://schemas.openxmlformats.org/officeDocument/2006/relationships/slide" Target="slide18.xml"/><Relationship Id="rId15" Type="http://schemas.openxmlformats.org/officeDocument/2006/relationships/slide" Target="slide24.xml"/><Relationship Id="rId16" Type="http://schemas.openxmlformats.org/officeDocument/2006/relationships/slide" Target="slide13.xml"/><Relationship Id="rId17" Type="http://schemas.openxmlformats.org/officeDocument/2006/relationships/slide" Target="slide19.xml"/><Relationship Id="rId18" Type="http://schemas.openxmlformats.org/officeDocument/2006/relationships/slide" Target="slide25.xml"/><Relationship Id="rId19" Type="http://schemas.openxmlformats.org/officeDocument/2006/relationships/slide" Target="slide14.xml"/><Relationship Id="rId20" Type="http://schemas.openxmlformats.org/officeDocument/2006/relationships/slide" Target="slide20.xml"/><Relationship Id="rId21" Type="http://schemas.openxmlformats.org/officeDocument/2006/relationships/slide" Target="slide26.xml"/><Relationship Id="rId22" Type="http://schemas.openxmlformats.org/officeDocument/2006/relationships/slide" Target="slide15.xml"/><Relationship Id="rId23" Type="http://schemas.openxmlformats.org/officeDocument/2006/relationships/slide" Target="slide21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6"/>
          <p:cNvSpPr txBox="1"/>
          <p:nvPr/>
        </p:nvSpPr>
        <p:spPr>
          <a:xfrm>
            <a:off x="1547640" y="260280"/>
            <a:ext cx="5759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10760" y="2060640"/>
            <a:ext cx="579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знавательная игра по тем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Ты тоже родился в Росси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младших школь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51181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Автор: Черемисина Лариса Владимировн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учитель начальных  классов МКО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«Гимназия №9» г.Шадрин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9" descr="45"/>
          <p:cNvPicPr/>
          <p:nvPr/>
        </p:nvPicPr>
        <p:blipFill>
          <a:blip r:embed="rId1"/>
          <a:stretch/>
        </p:blipFill>
        <p:spPr>
          <a:xfrm>
            <a:off x="5940360" y="4724280"/>
            <a:ext cx="2460600" cy="1587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rId1" action="ppaction://hlinksldjump"/>
          </p:cNvPr>
          <p:cNvSpPr/>
          <p:nvPr/>
        </p:nvSpPr>
        <p:spPr>
          <a:xfrm>
            <a:off x="8605800" y="6391440"/>
            <a:ext cx="538200" cy="466560"/>
          </a:xfrm>
          <a:custGeom>
            <a:avLst/>
            <a:gdLst>
              <a:gd name="textAreaLeft" fmla="*/ 30240 w 538200"/>
              <a:gd name="textAreaRight" fmla="*/ 507960 w 5382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4914" h="21600">
                <a:moveTo>
                  <a:pt x="0" y="0"/>
                </a:moveTo>
                <a:lnTo>
                  <a:pt x="24914" y="0"/>
                </a:lnTo>
                <a:lnTo>
                  <a:pt x="24914" y="21600"/>
                </a:lnTo>
                <a:lnTo>
                  <a:pt x="0" y="21600"/>
                </a:lnTo>
                <a:close/>
              </a:path>
              <a:path fill="lightenLess" w="24914" h="21600">
                <a:moveTo>
                  <a:pt x="0" y="0"/>
                </a:moveTo>
                <a:lnTo>
                  <a:pt x="24914" y="0"/>
                </a:lnTo>
                <a:lnTo>
                  <a:pt x="23514" y="1400"/>
                </a:lnTo>
                <a:lnTo>
                  <a:pt x="1400" y="1400"/>
                </a:lnTo>
                <a:close/>
              </a:path>
              <a:path fill="darken" w="24914" h="21600">
                <a:moveTo>
                  <a:pt x="24914" y="0"/>
                </a:moveTo>
                <a:lnTo>
                  <a:pt x="24914" y="21600"/>
                </a:lnTo>
                <a:lnTo>
                  <a:pt x="23514" y="20200"/>
                </a:lnTo>
                <a:lnTo>
                  <a:pt x="23514" y="1400"/>
                </a:lnTo>
                <a:close/>
              </a:path>
              <a:path fill="darkenLess" w="24914" h="21600">
                <a:moveTo>
                  <a:pt x="24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4" y="20200"/>
                </a:lnTo>
                <a:close/>
              </a:path>
              <a:path fill="lighten" w="24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4" h="21600">
                <a:moveTo>
                  <a:pt x="12457" y="3837"/>
                </a:moveTo>
                <a:lnTo>
                  <a:pt x="15033" y="6448"/>
                </a:ln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lnTo>
                  <a:pt x="19420" y="10800"/>
                </a:lnTo>
                <a:lnTo>
                  <a:pt x="17766" y="10800"/>
                </a:lnTo>
                <a:lnTo>
                  <a:pt x="17766" y="17989"/>
                </a:lnTo>
                <a:lnTo>
                  <a:pt x="7148" y="17989"/>
                </a:lnTo>
                <a:lnTo>
                  <a:pt x="7148" y="10800"/>
                </a:lnTo>
                <a:lnTo>
                  <a:pt x="5494" y="10800"/>
                </a:lnTo>
                <a:close/>
              </a:path>
              <a:path fill="darkenLess" w="24914" h="21600">
                <a:moveTo>
                  <a:pt x="15033" y="6448"/>
                </a:move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close/>
              </a:path>
              <a:path fill="darkenLess" w="24914" h="21600">
                <a:moveTo>
                  <a:pt x="11534" y="14299"/>
                </a:moveTo>
                <a:lnTo>
                  <a:pt x="13380" y="14299"/>
                </a:lnTo>
                <a:lnTo>
                  <a:pt x="13380" y="17989"/>
                </a:lnTo>
                <a:lnTo>
                  <a:pt x="17766" y="17989"/>
                </a:lnTo>
                <a:lnTo>
                  <a:pt x="17766" y="10800"/>
                </a:lnTo>
                <a:lnTo>
                  <a:pt x="7148" y="10800"/>
                </a:lnTo>
                <a:lnTo>
                  <a:pt x="7148" y="17989"/>
                </a:lnTo>
                <a:lnTo>
                  <a:pt x="11534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последнее воскресенье какого меся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России отмечается День матер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163560" y="234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ябрь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61621364_1279313961_bereza11"/>
          <p:cNvPicPr/>
          <p:nvPr/>
        </p:nvPicPr>
        <p:blipFill>
          <a:blip r:embed="rId2"/>
          <a:stretch/>
        </p:blipFill>
        <p:spPr>
          <a:xfrm>
            <a:off x="1857240" y="2286000"/>
            <a:ext cx="3637080" cy="381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826920" y="0"/>
            <a:ext cx="7531200" cy="28576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от праздник – проводы русской зимы. В старин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 нему строились первые качели и карусе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кли блины, оладьи, сырники. Кульмина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здника – костры. Пока горел костер, крича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Молоко сгорело!» или «… сгорела, в Рост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летела!» О каком празднике идет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296040" y="292896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слениц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landishi"/>
          <p:cNvPicPr/>
          <p:nvPr/>
        </p:nvPicPr>
        <p:blipFill>
          <a:blip r:embed="rId2"/>
          <a:stretch/>
        </p:blipFill>
        <p:spPr>
          <a:xfrm>
            <a:off x="1214280" y="2857680"/>
            <a:ext cx="4980240" cy="3500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8640720" y="635328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3868"/>
                </a:moveTo>
                <a:lnTo>
                  <a:pt x="13376" y="6479"/>
                </a:ln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lnTo>
                  <a:pt x="17763" y="10831"/>
                </a:lnTo>
                <a:lnTo>
                  <a:pt x="16109" y="10831"/>
                </a:lnTo>
                <a:lnTo>
                  <a:pt x="16109" y="18020"/>
                </a:lnTo>
                <a:lnTo>
                  <a:pt x="5491" y="18020"/>
                </a:lnTo>
                <a:lnTo>
                  <a:pt x="5491" y="10831"/>
                </a:lnTo>
                <a:lnTo>
                  <a:pt x="3837" y="10831"/>
                </a:lnTo>
                <a:close/>
              </a:path>
              <a:path fill="darkenLess" w="21600" h="21662">
                <a:moveTo>
                  <a:pt x="13376" y="6479"/>
                </a:move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close/>
              </a:path>
              <a:path fill="darkenLess" w="21600" h="21662">
                <a:moveTo>
                  <a:pt x="9877" y="14330"/>
                </a:moveTo>
                <a:lnTo>
                  <a:pt x="11723" y="14330"/>
                </a:lnTo>
                <a:lnTo>
                  <a:pt x="11723" y="18020"/>
                </a:lnTo>
                <a:lnTo>
                  <a:pt x="16109" y="18020"/>
                </a:lnTo>
                <a:lnTo>
                  <a:pt x="16109" y="10831"/>
                </a:lnTo>
                <a:lnTo>
                  <a:pt x="5491" y="10831"/>
                </a:lnTo>
                <a:lnTo>
                  <a:pt x="5491" y="18020"/>
                </a:lnTo>
                <a:lnTo>
                  <a:pt x="9877" y="180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ой месяц в старину называли «снегого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жги снега, заиграй овражки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32840" y="2500200"/>
            <a:ext cx="13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прел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5" descr="74459539_large_70482"/>
          <p:cNvPicPr/>
          <p:nvPr/>
        </p:nvPicPr>
        <p:blipFill>
          <a:blip r:embed="rId1"/>
          <a:stretch/>
        </p:blipFill>
        <p:spPr>
          <a:xfrm>
            <a:off x="1258920" y="2214720"/>
            <a:ext cx="4903920" cy="331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826920" y="0"/>
            <a:ext cx="8031240" cy="38577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какой праздник в старину колядова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шла коляда, отворяй ворота!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ин да лепешка кладись на окошк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ли нет блина, то конец пирог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ли ж нет пирога, то корову за рог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сню заключали приветствие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Христос народился, рай растворился, Иуда удавил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 праздником поздравляем, и вам того же жела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567840" y="371484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ождеств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post-69727-1266421605_thumb"/>
          <p:cNvPicPr/>
          <p:nvPr/>
        </p:nvPicPr>
        <p:blipFill>
          <a:blip r:embed="rId1"/>
          <a:stretch/>
        </p:blipFill>
        <p:spPr>
          <a:xfrm>
            <a:off x="192888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26920" y="0"/>
            <a:ext cx="7888320" cy="38577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древней Руси в день именин было принято печ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ироги и рассылать родным и близким, ка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воеобразное приглашение на праздник. Тот, кт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носил пироги, ставил их на стол и говорил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Именинник приказал кланяться пирогами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ил хлеба кушать». А во время праздника поро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зламывали над головой именинника и начи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ыпалась ему на голову. Почему так делал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500800" y="371484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ости в это время приговарив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Чтобы на тебя так сыпалось золото и серебр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77062766_large_4524271_17"/>
          <p:cNvPicPr/>
          <p:nvPr/>
        </p:nvPicPr>
        <p:blipFill>
          <a:blip r:embed="rId1"/>
          <a:stretch/>
        </p:blipFill>
        <p:spPr>
          <a:xfrm>
            <a:off x="1357200" y="3571920"/>
            <a:ext cx="4078440" cy="305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826920" y="0"/>
            <a:ext cx="73170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Руси, когда вся семья собиралась 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вогодним столом, дети связывали ножки сто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ыковой верёв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символизировал этот новогодний обыча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143680" y="2244600"/>
            <a:ext cx="400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 означало, что семья в наступающем году будет крепкой и не должна разлуча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5" descr="valeriana_1"/>
          <p:cNvPicPr/>
          <p:nvPr/>
        </p:nvPicPr>
        <p:blipFill>
          <a:blip r:embed="rId1"/>
          <a:stretch/>
        </p:blipFill>
        <p:spPr>
          <a:xfrm>
            <a:off x="500040" y="2428920"/>
            <a:ext cx="4683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826920" y="0"/>
            <a:ext cx="7745760" cy="242892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агодаря этому человеку русская литература ст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дной из величайших литератур мира. Его называю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ворцом современного русского языка. О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писал много стихов и сказок. Погиб на дуэ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500800" y="2643120"/>
            <a:ext cx="31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5" descr="6a00d8341bf67c53ef0147e3d0407f970b-800wi"/>
          <p:cNvPicPr/>
          <p:nvPr/>
        </p:nvPicPr>
        <p:blipFill>
          <a:blip r:embed="rId1"/>
          <a:stretch/>
        </p:blipFill>
        <p:spPr>
          <a:xfrm>
            <a:off x="1441440" y="2349360"/>
            <a:ext cx="3571920" cy="428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826920" y="0"/>
            <a:ext cx="75312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узыкальный вопрос: для вас прозвучит пес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вец, исполнивший ее известен и в России, и 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убежом. Назовите его им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54200" y="2500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. Била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18(42)"/>
          <p:cNvPicPr/>
          <p:nvPr/>
        </p:nvPicPr>
        <p:blipFill>
          <a:blip r:embed="rId1"/>
          <a:stretch/>
        </p:blipFill>
        <p:spPr>
          <a:xfrm>
            <a:off x="1428840" y="2428920"/>
            <a:ext cx="3998880" cy="3946320"/>
          </a:xfrm>
          <a:prstGeom prst="rect">
            <a:avLst/>
          </a:prstGeom>
          <a:ln w="0">
            <a:noFill/>
          </a:ln>
        </p:spPr>
      </p:pic>
      <p:pic>
        <p:nvPicPr>
          <p:cNvPr id="216" name="dima_bilan_-_tak_ne_byvaet_(zaycev.net).mp3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34404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571680" y="0"/>
            <a:ext cx="8143560" cy="30718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н был царем. С самого детства маленького царевич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кружали военные игрушки: солдатики, пушки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рабли. Он много сделал для России: создал фло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роил новую столицу, он стриг бороды боя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ставлял их носить парики. Благодаря ем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ы сейчас отмечаем Новый год два раза. 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220080" y="314316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тр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82ef9cbbdb9e"/>
          <p:cNvPicPr/>
          <p:nvPr/>
        </p:nvPicPr>
        <p:blipFill>
          <a:blip r:embed="rId1"/>
          <a:stretch/>
        </p:blipFill>
        <p:spPr>
          <a:xfrm>
            <a:off x="1214280" y="2928960"/>
            <a:ext cx="4096080" cy="335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826920" y="0"/>
            <a:ext cx="7317000" cy="242892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ред вами портрет русского писателя. 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изведения знакомы всем с детства. Героя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изведений чаще всего являются животны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иса, обезьяна, стрекоза, лебедь и друг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этого пис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512320" y="257184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.А.Крыло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5" descr="77b6d04e82"/>
          <p:cNvPicPr/>
          <p:nvPr/>
        </p:nvPicPr>
        <p:blipFill>
          <a:blip r:embed="rId1"/>
          <a:stretch/>
        </p:blipFill>
        <p:spPr>
          <a:xfrm>
            <a:off x="1403280" y="2316240"/>
            <a:ext cx="3451320" cy="43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77b6d04e82"/>
          <p:cNvPicPr/>
          <p:nvPr/>
        </p:nvPicPr>
        <p:blipFill>
          <a:blip r:embed="rId2"/>
          <a:stretch/>
        </p:blipFill>
        <p:spPr>
          <a:xfrm>
            <a:off x="1357200" y="2286000"/>
            <a:ext cx="3451320" cy="43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1231920" y="2286000"/>
            <a:ext cx="396864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826920" y="260280"/>
            <a:ext cx="7674120" cy="638352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2012 – год российской ист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рдце ты у каждог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а – Росс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ые берез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ос  золотой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тебя привольне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 тебя красив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другой на све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ны тако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Черницкая «Наша Родин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63314441_1283015534_e12581ce357a1"/>
          <p:cNvPicPr/>
          <p:nvPr/>
        </p:nvPicPr>
        <p:blipFill>
          <a:blip r:embed="rId1"/>
          <a:stretch/>
        </p:blipFill>
        <p:spPr>
          <a:xfrm>
            <a:off x="1857240" y="5857920"/>
            <a:ext cx="551520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11"/>
          <p:cNvPicPr/>
          <p:nvPr/>
        </p:nvPicPr>
        <p:blipFill>
          <a:blip r:embed="rId2"/>
          <a:stretch/>
        </p:blipFill>
        <p:spPr>
          <a:xfrm>
            <a:off x="2928960" y="285840"/>
            <a:ext cx="377172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i.jpeg"/>
          <p:cNvPicPr/>
          <p:nvPr/>
        </p:nvPicPr>
        <p:blipFill>
          <a:blip r:embed="rId3"/>
          <a:stretch/>
        </p:blipFill>
        <p:spPr>
          <a:xfrm>
            <a:off x="1571760" y="2286000"/>
            <a:ext cx="2485800" cy="32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на стала первой женщиной в ми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торая совершила полет в косм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572080" y="257184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алентина Терешк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50385122_animal103"/>
          <p:cNvPicPr/>
          <p:nvPr/>
        </p:nvPicPr>
        <p:blipFill>
          <a:blip r:embed="rId1"/>
          <a:stretch/>
        </p:blipFill>
        <p:spPr>
          <a:xfrm>
            <a:off x="1801800" y="2276640"/>
            <a:ext cx="3111480" cy="444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826920" y="0"/>
            <a:ext cx="774576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от известный во всем мире скульптор родил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городе Шадринске. Его скульптуры можем увиде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городского сада, а также в краеведческом муз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 ком реч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938920" y="257184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ван Ша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rys_04"/>
          <p:cNvPicPr/>
          <p:nvPr/>
        </p:nvPicPr>
        <p:blipFill>
          <a:blip r:embed="rId1"/>
          <a:stretch/>
        </p:blipFill>
        <p:spPr>
          <a:xfrm>
            <a:off x="1476360" y="2405160"/>
            <a:ext cx="3567240" cy="3992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82692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ый известный во всём ми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усский сувени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00840" y="2571840"/>
            <a:ext cx="314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трёш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2010 году ей исполнилось 120 л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5" descr="pic27053986"/>
          <p:cNvPicPr/>
          <p:nvPr/>
        </p:nvPicPr>
        <p:blipFill>
          <a:blip r:embed="rId1"/>
          <a:stretch/>
        </p:blipFill>
        <p:spPr>
          <a:xfrm>
            <a:off x="1071720" y="2500200"/>
            <a:ext cx="4711680" cy="344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826920" y="0"/>
            <a:ext cx="7102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ый густонаселенный город Росс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82840" y="25653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оскв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3526001"/>
          <p:cNvPicPr/>
          <p:nvPr/>
        </p:nvPicPr>
        <p:blipFill>
          <a:blip r:embed="rId1"/>
          <a:stretch/>
        </p:blipFill>
        <p:spPr>
          <a:xfrm>
            <a:off x="928800" y="2500200"/>
            <a:ext cx="5638680" cy="4125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857160" y="0"/>
            <a:ext cx="69138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ое глубокое озеро в мир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точник  пресных в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793920" y="257184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йка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0_52cb9_32f88c1_XL"/>
          <p:cNvPicPr/>
          <p:nvPr/>
        </p:nvPicPr>
        <p:blipFill>
          <a:blip r:embed="rId1"/>
          <a:stretch/>
        </p:blipFill>
        <p:spPr>
          <a:xfrm>
            <a:off x="714240" y="2500200"/>
            <a:ext cx="6097680" cy="4065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зовите самую длинную горную систему Росси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положенную между Западно-Сибирской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осточно-Европейской равнин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451560" y="24210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льские го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1560"/>
          <p:cNvPicPr/>
          <p:nvPr/>
        </p:nvPicPr>
        <p:blipFill>
          <a:blip r:embed="rId1"/>
          <a:stretch/>
        </p:blipFill>
        <p:spPr>
          <a:xfrm>
            <a:off x="785880" y="2428920"/>
            <a:ext cx="5545080" cy="35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ая российская  дрессировщица впервые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стории цирка начала работать со слона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443640" y="2421000"/>
            <a:ext cx="27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талья Юрьевна Дур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1560"/>
          <p:cNvPicPr/>
          <p:nvPr/>
        </p:nvPicPr>
        <p:blipFill>
          <a:blip r:embed="rId1"/>
          <a:stretch/>
        </p:blipFill>
        <p:spPr>
          <a:xfrm>
            <a:off x="1571760" y="2286000"/>
            <a:ext cx="4611600" cy="358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8677440" y="6353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10800" y="4720"/>
                </a:moveTo>
                <a:lnTo>
                  <a:pt x="13376" y="7331"/>
                </a:ln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lnTo>
                  <a:pt x="17763" y="11683"/>
                </a:lnTo>
                <a:lnTo>
                  <a:pt x="16109" y="11683"/>
                </a:lnTo>
                <a:lnTo>
                  <a:pt x="16109" y="18872"/>
                </a:lnTo>
                <a:lnTo>
                  <a:pt x="5491" y="18872"/>
                </a:lnTo>
                <a:lnTo>
                  <a:pt x="5491" y="11683"/>
                </a:lnTo>
                <a:lnTo>
                  <a:pt x="3837" y="11683"/>
                </a:lnTo>
                <a:close/>
              </a:path>
              <a:path fill="darkenLess" w="21600" h="23365">
                <a:moveTo>
                  <a:pt x="13376" y="7331"/>
                </a:moveTo>
                <a:lnTo>
                  <a:pt x="13376" y="5590"/>
                </a:lnTo>
                <a:lnTo>
                  <a:pt x="15152" y="5590"/>
                </a:lnTo>
                <a:lnTo>
                  <a:pt x="15152" y="9106"/>
                </a:lnTo>
                <a:close/>
              </a:path>
              <a:path fill="darkenLess" w="21600" h="23365">
                <a:moveTo>
                  <a:pt x="9877" y="15182"/>
                </a:moveTo>
                <a:lnTo>
                  <a:pt x="11723" y="15182"/>
                </a:lnTo>
                <a:lnTo>
                  <a:pt x="11723" y="18872"/>
                </a:lnTo>
                <a:lnTo>
                  <a:pt x="16109" y="18872"/>
                </a:lnTo>
                <a:lnTo>
                  <a:pt x="16109" y="11683"/>
                </a:lnTo>
                <a:lnTo>
                  <a:pt x="5491" y="11683"/>
                </a:lnTo>
                <a:lnTo>
                  <a:pt x="5491" y="18872"/>
                </a:lnTo>
                <a:lnTo>
                  <a:pt x="9877" y="1887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857160" y="0"/>
            <a:ext cx="7572600" cy="2205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ое название российских супов являе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амым древн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786280" y="2421000"/>
            <a:ext cx="335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ха. Вплоть до XIX века ухой на Руси называли всякий мясной, овощной и рыбный суп. Сегодня уха  – это особый рыбный су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1560"/>
          <p:cNvPicPr/>
          <p:nvPr/>
        </p:nvPicPr>
        <p:blipFill>
          <a:blip r:embed="rId1"/>
          <a:stretch/>
        </p:blipFill>
        <p:spPr>
          <a:xfrm>
            <a:off x="1214280" y="2428920"/>
            <a:ext cx="4494240" cy="3370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900000" y="1268280"/>
            <a:ext cx="7488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окончен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бирай тему и номер загад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0" y="126828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Символика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0" y="26370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Традиции и обыча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0" y="41497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наменитые россия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-181080" y="5286240"/>
            <a:ext cx="21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Рекорды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30">
            <a:hlinkClick r:id="rId1" action="ppaction://hlinksldjump"/>
          </p:cNvPr>
          <p:cNvSpPr/>
          <p:nvPr/>
        </p:nvSpPr>
        <p:spPr>
          <a:xfrm>
            <a:off x="18352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31">
            <a:hlinkClick r:id="rId2" action="ppaction://hlinksldjump"/>
          </p:cNvPr>
          <p:cNvSpPr/>
          <p:nvPr/>
        </p:nvSpPr>
        <p:spPr>
          <a:xfrm>
            <a:off x="30592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32">
            <a:hlinkClick r:id="rId3" action="ppaction://hlinksldjump"/>
          </p:cNvPr>
          <p:cNvSpPr/>
          <p:nvPr/>
        </p:nvSpPr>
        <p:spPr>
          <a:xfrm>
            <a:off x="1908000" y="2565360"/>
            <a:ext cx="100836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33">
            <a:hlinkClick r:id="rId4" action="ppaction://hlinksldjump"/>
          </p:cNvPr>
          <p:cNvSpPr/>
          <p:nvPr/>
        </p:nvSpPr>
        <p:spPr>
          <a:xfrm>
            <a:off x="435600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34">
            <a:hlinkClick r:id="rId5" action="ppaction://hlinksldjump"/>
          </p:cNvPr>
          <p:cNvSpPr/>
          <p:nvPr/>
        </p:nvSpPr>
        <p:spPr>
          <a:xfrm>
            <a:off x="558000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35">
            <a:hlinkClick r:id="rId6" action="ppaction://hlinksldjump"/>
          </p:cNvPr>
          <p:cNvSpPr/>
          <p:nvPr/>
        </p:nvSpPr>
        <p:spPr>
          <a:xfrm>
            <a:off x="673272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36">
            <a:hlinkClick r:id="rId7" action="ppaction://hlinksldjump"/>
          </p:cNvPr>
          <p:cNvSpPr/>
          <p:nvPr/>
        </p:nvSpPr>
        <p:spPr>
          <a:xfrm>
            <a:off x="7885080" y="119700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37">
            <a:hlinkClick r:id="rId8" action="ppaction://hlinksldjump"/>
          </p:cNvPr>
          <p:cNvSpPr/>
          <p:nvPr/>
        </p:nvSpPr>
        <p:spPr>
          <a:xfrm>
            <a:off x="197964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38">
            <a:hlinkClick r:id="rId9" action="ppaction://hlinksldjump"/>
          </p:cNvPr>
          <p:cNvSpPr/>
          <p:nvPr/>
        </p:nvSpPr>
        <p:spPr>
          <a:xfrm>
            <a:off x="197964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39">
            <a:hlinkClick r:id="rId10" action="ppaction://hlinksldjump"/>
          </p:cNvPr>
          <p:cNvSpPr/>
          <p:nvPr/>
        </p:nvSpPr>
        <p:spPr>
          <a:xfrm>
            <a:off x="305928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40">
            <a:hlinkClick r:id="rId11" action="ppaction://hlinksldjump"/>
          </p:cNvPr>
          <p:cNvSpPr/>
          <p:nvPr/>
        </p:nvSpPr>
        <p:spPr>
          <a:xfrm>
            <a:off x="3132000" y="4005360"/>
            <a:ext cx="100836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1">
            <a:hlinkClick r:id="rId12" action="ppaction://hlinksldjump"/>
          </p:cNvPr>
          <p:cNvSpPr/>
          <p:nvPr/>
        </p:nvSpPr>
        <p:spPr>
          <a:xfrm>
            <a:off x="3132000" y="5373720"/>
            <a:ext cx="1008360" cy="865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42">
            <a:hlinkClick r:id="rId13" action="ppaction://hlinksldjump"/>
          </p:cNvPr>
          <p:cNvSpPr/>
          <p:nvPr/>
        </p:nvSpPr>
        <p:spPr>
          <a:xfrm>
            <a:off x="435600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3">
            <a:hlinkClick r:id="rId14" action="ppaction://hlinksldjump"/>
          </p:cNvPr>
          <p:cNvSpPr/>
          <p:nvPr/>
        </p:nvSpPr>
        <p:spPr>
          <a:xfrm>
            <a:off x="4356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4">
            <a:hlinkClick r:id="rId15" action="ppaction://hlinksldjump"/>
          </p:cNvPr>
          <p:cNvSpPr/>
          <p:nvPr/>
        </p:nvSpPr>
        <p:spPr>
          <a:xfrm>
            <a:off x="4356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45">
            <a:hlinkClick r:id="rId16" action="ppaction://hlinksldjump"/>
          </p:cNvPr>
          <p:cNvSpPr/>
          <p:nvPr/>
        </p:nvSpPr>
        <p:spPr>
          <a:xfrm>
            <a:off x="558000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46">
            <a:hlinkClick r:id="rId17" action="ppaction://hlinksldjump"/>
          </p:cNvPr>
          <p:cNvSpPr/>
          <p:nvPr/>
        </p:nvSpPr>
        <p:spPr>
          <a:xfrm>
            <a:off x="5580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7">
            <a:hlinkClick r:id="rId18" action="ppaction://hlinksldjump"/>
          </p:cNvPr>
          <p:cNvSpPr/>
          <p:nvPr/>
        </p:nvSpPr>
        <p:spPr>
          <a:xfrm>
            <a:off x="5580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8">
            <a:hlinkClick r:id="rId19" action="ppaction://hlinksldjump"/>
          </p:cNvPr>
          <p:cNvSpPr/>
          <p:nvPr/>
        </p:nvSpPr>
        <p:spPr>
          <a:xfrm>
            <a:off x="673272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49">
            <a:hlinkClick r:id="rId20" action="ppaction://hlinksldjump"/>
          </p:cNvPr>
          <p:cNvSpPr/>
          <p:nvPr/>
        </p:nvSpPr>
        <p:spPr>
          <a:xfrm>
            <a:off x="680400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50">
            <a:hlinkClick r:id="rId21" action="ppaction://hlinksldjump"/>
          </p:cNvPr>
          <p:cNvSpPr/>
          <p:nvPr/>
        </p:nvSpPr>
        <p:spPr>
          <a:xfrm>
            <a:off x="680400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51">
            <a:hlinkClick r:id="rId22" action="ppaction://hlinksldjump"/>
          </p:cNvPr>
          <p:cNvSpPr/>
          <p:nvPr/>
        </p:nvSpPr>
        <p:spPr>
          <a:xfrm>
            <a:off x="7956720" y="256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2">
            <a:hlinkClick r:id="rId23" action="ppaction://hlinksldjump"/>
          </p:cNvPr>
          <p:cNvSpPr/>
          <p:nvPr/>
        </p:nvSpPr>
        <p:spPr>
          <a:xfrm>
            <a:off x="7956720" y="400536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53">
            <a:hlinkClick r:id="rId24" action="ppaction://hlinksldjump"/>
          </p:cNvPr>
          <p:cNvSpPr/>
          <p:nvPr/>
        </p:nvSpPr>
        <p:spPr>
          <a:xfrm>
            <a:off x="7956720" y="5373720"/>
            <a:ext cx="1008000" cy="8650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4" descr="58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84360" y="6188040"/>
            <a:ext cx="779400" cy="669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5"/>
          <p:cNvSpPr/>
          <p:nvPr/>
        </p:nvSpPr>
        <p:spPr>
          <a:xfrm>
            <a:off x="1615680" y="63295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ниш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8532720" y="639144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14147" y="3837"/>
                </a:moveTo>
                <a:lnTo>
                  <a:pt x="16724" y="6448"/>
                </a:lnTo>
                <a:lnTo>
                  <a:pt x="16724" y="4707"/>
                </a:lnTo>
                <a:lnTo>
                  <a:pt x="18499" y="4707"/>
                </a:lnTo>
                <a:lnTo>
                  <a:pt x="18499" y="8224"/>
                </a:lnTo>
                <a:lnTo>
                  <a:pt x="21110" y="10800"/>
                </a:lnTo>
                <a:lnTo>
                  <a:pt x="19457" y="10800"/>
                </a:lnTo>
                <a:lnTo>
                  <a:pt x="19457" y="17989"/>
                </a:lnTo>
                <a:lnTo>
                  <a:pt x="8838" y="17989"/>
                </a:lnTo>
                <a:lnTo>
                  <a:pt x="8838" y="10800"/>
                </a:lnTo>
                <a:lnTo>
                  <a:pt x="7184" y="10800"/>
                </a:lnTo>
                <a:close/>
              </a:path>
              <a:path fill="darkenLess" w="28295" h="21600">
                <a:moveTo>
                  <a:pt x="16724" y="6448"/>
                </a:moveTo>
                <a:lnTo>
                  <a:pt x="16724" y="4707"/>
                </a:lnTo>
                <a:lnTo>
                  <a:pt x="18499" y="4707"/>
                </a:lnTo>
                <a:lnTo>
                  <a:pt x="18499" y="8224"/>
                </a:lnTo>
                <a:close/>
              </a:path>
              <a:path fill="darkenLess" w="28295" h="21600">
                <a:moveTo>
                  <a:pt x="13225" y="14299"/>
                </a:moveTo>
                <a:lnTo>
                  <a:pt x="15070" y="14299"/>
                </a:lnTo>
                <a:lnTo>
                  <a:pt x="15070" y="17989"/>
                </a:lnTo>
                <a:lnTo>
                  <a:pt x="19457" y="17989"/>
                </a:lnTo>
                <a:lnTo>
                  <a:pt x="19457" y="10800"/>
                </a:lnTo>
                <a:lnTo>
                  <a:pt x="8838" y="10800"/>
                </a:lnTo>
                <a:lnTo>
                  <a:pt x="8838" y="17989"/>
                </a:lnTo>
                <a:lnTo>
                  <a:pt x="13225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1116000" y="0"/>
            <a:ext cx="6527880" cy="26640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дин из государственных символов – гим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демонстрируйте, что должны с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юди, когда звучит гимн, чтобы отмети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вое уважение стра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000" y="2857680"/>
            <a:ext cx="25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ди долж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т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8" descr="0012-025-Pereljotnye-ptitsy"/>
          <p:cNvPicPr/>
          <p:nvPr/>
        </p:nvPicPr>
        <p:blipFill>
          <a:blip r:embed="rId2"/>
          <a:stretch/>
        </p:blipFill>
        <p:spPr>
          <a:xfrm>
            <a:off x="1357200" y="3000240"/>
            <a:ext cx="4152960" cy="2757600"/>
          </a:xfrm>
          <a:prstGeom prst="rect">
            <a:avLst/>
          </a:prstGeom>
          <a:ln w="0">
            <a:noFill/>
          </a:ln>
        </p:spPr>
      </p:pic>
      <p:pic>
        <p:nvPicPr>
          <p:cNvPr id="163" name="gimn_-_rossii_(zaycev.net).mp3" descr=""/>
          <p:cNvPicPr/>
          <p:nvPr/>
        </p:nvPicPr>
        <p:blipFill>
          <a:blip r:embed="rId3"/>
          <a:stretch/>
        </p:blipFill>
        <p:spPr>
          <a:xfrm>
            <a:off x="4786200" y="185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9109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837"/>
                </a:moveTo>
                <a:lnTo>
                  <a:pt x="14812" y="6448"/>
                </a:ln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lnTo>
                  <a:pt x="19199" y="10800"/>
                </a:lnTo>
                <a:lnTo>
                  <a:pt x="17545" y="10800"/>
                </a:lnTo>
                <a:lnTo>
                  <a:pt x="17545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3" y="10800"/>
                </a:lnTo>
                <a:close/>
              </a:path>
              <a:path fill="darkenLess" w="24471" h="21600">
                <a:moveTo>
                  <a:pt x="14812" y="6448"/>
                </a:moveTo>
                <a:lnTo>
                  <a:pt x="14812" y="4707"/>
                </a:lnTo>
                <a:lnTo>
                  <a:pt x="16588" y="4707"/>
                </a:lnTo>
                <a:lnTo>
                  <a:pt x="16588" y="8224"/>
                </a:lnTo>
                <a:close/>
              </a:path>
              <a:path fill="darkenLess" w="24471" h="21600">
                <a:moveTo>
                  <a:pt x="11313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5" y="17989"/>
                </a:lnTo>
                <a:lnTo>
                  <a:pt x="17545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3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857160" y="0"/>
            <a:ext cx="7358040" cy="25002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ерб России представлен щитом красного цв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фоне которого изображен золотой двуглав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рел. Правой лапой орел сжимает скипет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евой – державу. А над головами орла – коро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колько коро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714920" y="2500200"/>
            <a:ext cx="44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и короны над головами орла, скрепленные единой лентой, символизируют кровное братство и единую историю трех восточнославянских народов – русских, украинцев и белору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m-591076"/>
          <p:cNvPicPr/>
          <p:nvPr/>
        </p:nvPicPr>
        <p:blipFill>
          <a:blip r:embed="rId2"/>
          <a:stretch/>
        </p:blipFill>
        <p:spPr>
          <a:xfrm>
            <a:off x="1143000" y="2500200"/>
            <a:ext cx="3463920" cy="415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900000" y="0"/>
            <a:ext cx="7743960" cy="278604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гербе России изображен орел, а на груди ор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мещено изображение всадника на фоне крас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щита. Это святой Георгий Победоносец. Он на бел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не, за его плечами развивается синий плащ,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вой руке у него копье, которым он победи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г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143680" y="271476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ерный змей, 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акон – символ з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0_58c9_b67783d8_XL"/>
          <p:cNvPicPr/>
          <p:nvPr/>
        </p:nvPicPr>
        <p:blipFill>
          <a:blip r:embed="rId2"/>
          <a:stretch/>
        </p:blipFill>
        <p:spPr>
          <a:xfrm>
            <a:off x="1285920" y="2728800"/>
            <a:ext cx="3495600" cy="41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rId1" action="ppaction://hlinksldjump"/>
          </p:cNvPr>
          <p:cNvSpPr/>
          <p:nvPr/>
        </p:nvSpPr>
        <p:spPr>
          <a:xfrm>
            <a:off x="8677440" y="6391440"/>
            <a:ext cx="466560" cy="4665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826920" y="0"/>
            <a:ext cx="7129800" cy="18730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автор слов гимна России?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654160" y="221472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ргей   Михал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275px-Tawny_wiki"/>
          <p:cNvPicPr/>
          <p:nvPr/>
        </p:nvPicPr>
        <p:blipFill>
          <a:blip r:embed="rId2"/>
          <a:stretch/>
        </p:blipFill>
        <p:spPr>
          <a:xfrm>
            <a:off x="1571760" y="2174760"/>
            <a:ext cx="3524040" cy="4195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rId1" action="ppaction://hlinksldjump"/>
          </p:cNvPr>
          <p:cNvSpPr/>
          <p:nvPr/>
        </p:nvSpPr>
        <p:spPr>
          <a:xfrm>
            <a:off x="8677440" y="6389640"/>
            <a:ext cx="466560" cy="468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83">
                <a:moveTo>
                  <a:pt x="0" y="0"/>
                </a:moveTo>
                <a:lnTo>
                  <a:pt x="21600" y="0"/>
                </a:lnTo>
                <a:lnTo>
                  <a:pt x="21600" y="21683"/>
                </a:lnTo>
                <a:lnTo>
                  <a:pt x="0" y="21683"/>
                </a:lnTo>
                <a:close/>
              </a:path>
              <a:path fill="lightenLess" w="21600" h="21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3">
                <a:moveTo>
                  <a:pt x="21600" y="0"/>
                </a:moveTo>
                <a:lnTo>
                  <a:pt x="21600" y="21683"/>
                </a:lnTo>
                <a:lnTo>
                  <a:pt x="20200" y="20283"/>
                </a:lnTo>
                <a:lnTo>
                  <a:pt x="20200" y="1400"/>
                </a:lnTo>
                <a:close/>
              </a:path>
              <a:path fill="darkenLess" w="21600" h="21683">
                <a:moveTo>
                  <a:pt x="21600" y="21683"/>
                </a:moveTo>
                <a:lnTo>
                  <a:pt x="0" y="21683"/>
                </a:lnTo>
                <a:lnTo>
                  <a:pt x="1400" y="20283"/>
                </a:lnTo>
                <a:lnTo>
                  <a:pt x="20200" y="20283"/>
                </a:lnTo>
                <a:close/>
              </a:path>
              <a:path fill="lighten" w="21600" h="21683">
                <a:moveTo>
                  <a:pt x="0" y="21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3"/>
                </a:lnTo>
                <a:close/>
              </a:path>
              <a:path fill="darken" w="21600" h="21683">
                <a:moveTo>
                  <a:pt x="10800" y="3879"/>
                </a:moveTo>
                <a:lnTo>
                  <a:pt x="13376" y="6490"/>
                </a:ln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lnTo>
                  <a:pt x="17763" y="10842"/>
                </a:lnTo>
                <a:lnTo>
                  <a:pt x="16109" y="10842"/>
                </a:lnTo>
                <a:lnTo>
                  <a:pt x="16109" y="18031"/>
                </a:lnTo>
                <a:lnTo>
                  <a:pt x="5491" y="18031"/>
                </a:lnTo>
                <a:lnTo>
                  <a:pt x="5491" y="10842"/>
                </a:lnTo>
                <a:lnTo>
                  <a:pt x="3837" y="10842"/>
                </a:lnTo>
                <a:close/>
              </a:path>
              <a:path fill="darkenLess" w="21600" h="21683">
                <a:moveTo>
                  <a:pt x="13376" y="6490"/>
                </a:move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close/>
              </a:path>
              <a:path fill="darkenLess" w="21600" h="21683">
                <a:moveTo>
                  <a:pt x="9877" y="14341"/>
                </a:moveTo>
                <a:lnTo>
                  <a:pt x="11723" y="14341"/>
                </a:lnTo>
                <a:lnTo>
                  <a:pt x="11723" y="18031"/>
                </a:lnTo>
                <a:lnTo>
                  <a:pt x="16109" y="18031"/>
                </a:lnTo>
                <a:lnTo>
                  <a:pt x="16109" y="10842"/>
                </a:lnTo>
                <a:lnTo>
                  <a:pt x="5491" y="10842"/>
                </a:lnTo>
                <a:lnTo>
                  <a:pt x="5491" y="18031"/>
                </a:lnTo>
                <a:lnTo>
                  <a:pt x="9877" y="180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500040" y="0"/>
            <a:ext cx="8072640" cy="25002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ыне над Россией развивается бело-сине-крас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флаг, именуемый триколором. Цвет полос несет в себ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лубокий смысл. Белый цвет - символ чистоты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авды, мира. Синий цвет – верность, постоян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ра. А что символизирует красный цв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286680" y="2643120"/>
            <a:ext cx="285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ржавность, отвага,  героизм, жертвенность, кр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894"/>
          <p:cNvPicPr/>
          <p:nvPr/>
        </p:nvPicPr>
        <p:blipFill>
          <a:blip r:embed="rId2"/>
          <a:stretch/>
        </p:blipFill>
        <p:spPr>
          <a:xfrm>
            <a:off x="971640" y="271764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rId1" action="ppaction://hlinksldjump"/>
          </p:cNvPr>
          <p:cNvSpPr/>
          <p:nvPr/>
        </p:nvSpPr>
        <p:spPr>
          <a:xfrm>
            <a:off x="8677440" y="6389640"/>
            <a:ext cx="466560" cy="468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83">
                <a:moveTo>
                  <a:pt x="0" y="0"/>
                </a:moveTo>
                <a:lnTo>
                  <a:pt x="21600" y="0"/>
                </a:lnTo>
                <a:lnTo>
                  <a:pt x="21600" y="21683"/>
                </a:lnTo>
                <a:lnTo>
                  <a:pt x="0" y="21683"/>
                </a:lnTo>
                <a:close/>
              </a:path>
              <a:path fill="lightenLess" w="21600" h="21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3">
                <a:moveTo>
                  <a:pt x="21600" y="0"/>
                </a:moveTo>
                <a:lnTo>
                  <a:pt x="21600" y="21683"/>
                </a:lnTo>
                <a:lnTo>
                  <a:pt x="20200" y="20283"/>
                </a:lnTo>
                <a:lnTo>
                  <a:pt x="20200" y="1400"/>
                </a:lnTo>
                <a:close/>
              </a:path>
              <a:path fill="darkenLess" w="21600" h="21683">
                <a:moveTo>
                  <a:pt x="21600" y="21683"/>
                </a:moveTo>
                <a:lnTo>
                  <a:pt x="0" y="21683"/>
                </a:lnTo>
                <a:lnTo>
                  <a:pt x="1400" y="20283"/>
                </a:lnTo>
                <a:lnTo>
                  <a:pt x="20200" y="20283"/>
                </a:lnTo>
                <a:close/>
              </a:path>
              <a:path fill="lighten" w="21600" h="21683">
                <a:moveTo>
                  <a:pt x="0" y="21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3"/>
                </a:lnTo>
                <a:close/>
              </a:path>
              <a:path fill="darken" w="21600" h="21683">
                <a:moveTo>
                  <a:pt x="10800" y="3879"/>
                </a:moveTo>
                <a:lnTo>
                  <a:pt x="13376" y="6490"/>
                </a:ln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lnTo>
                  <a:pt x="17763" y="10842"/>
                </a:lnTo>
                <a:lnTo>
                  <a:pt x="16109" y="10842"/>
                </a:lnTo>
                <a:lnTo>
                  <a:pt x="16109" y="18031"/>
                </a:lnTo>
                <a:lnTo>
                  <a:pt x="5491" y="18031"/>
                </a:lnTo>
                <a:lnTo>
                  <a:pt x="5491" y="10842"/>
                </a:lnTo>
                <a:lnTo>
                  <a:pt x="3837" y="10842"/>
                </a:lnTo>
                <a:close/>
              </a:path>
              <a:path fill="darkenLess" w="21600" h="21683">
                <a:moveTo>
                  <a:pt x="13376" y="6490"/>
                </a:moveTo>
                <a:lnTo>
                  <a:pt x="13376" y="4749"/>
                </a:lnTo>
                <a:lnTo>
                  <a:pt x="15152" y="4749"/>
                </a:lnTo>
                <a:lnTo>
                  <a:pt x="15152" y="8265"/>
                </a:lnTo>
                <a:close/>
              </a:path>
              <a:path fill="darkenLess" w="21600" h="21683">
                <a:moveTo>
                  <a:pt x="9877" y="14341"/>
                </a:moveTo>
                <a:lnTo>
                  <a:pt x="11723" y="14341"/>
                </a:lnTo>
                <a:lnTo>
                  <a:pt x="11723" y="18031"/>
                </a:lnTo>
                <a:lnTo>
                  <a:pt x="16109" y="18031"/>
                </a:lnTo>
                <a:lnTo>
                  <a:pt x="16109" y="10842"/>
                </a:lnTo>
                <a:lnTo>
                  <a:pt x="5491" y="10842"/>
                </a:lnTo>
                <a:lnTo>
                  <a:pt x="5491" y="18031"/>
                </a:lnTo>
                <a:lnTo>
                  <a:pt x="9877" y="180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00040" y="0"/>
            <a:ext cx="8072640" cy="20001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настоящее время у каждого региона Росс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ть свои символы. В том числе и у Курган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ласти, которой в 2013 году исполнится 70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изображено на гербе Курганской област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643280" y="1785960"/>
            <a:ext cx="45007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ерб Курганской области представляет собой геральдический щит зеленого цвета, в поле которого изображены исторические символы старейших городов Зауралья. Серебряная оконечность щита с "кремлевскими" зубцами - стилизация Долматовского монастыря и одновременно знак пограничного положения Курганской области, бегущая куница - из герба Шадринска, два серебряных холма - из герба Кургана. Щит обрамлен золотыми дубовыми ветвями, перевитыми лазоревой андреевской лент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894"/>
          <p:cNvPicPr/>
          <p:nvPr/>
        </p:nvPicPr>
        <p:blipFill>
          <a:blip r:embed="rId2"/>
          <a:stretch/>
        </p:blipFill>
        <p:spPr>
          <a:xfrm>
            <a:off x="857160" y="2214720"/>
            <a:ext cx="3584520" cy="3608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05:17Z</dcterms:created>
  <dc:creator>техносила</dc:creator>
  <dc:description/>
  <dc:language>en-US</dc:language>
  <cp:lastModifiedBy>ALYONA</cp:lastModifiedBy>
  <dcterms:modified xsi:type="dcterms:W3CDTF">2019-01-02T17:39:32Z</dcterms:modified>
  <cp:revision>47</cp:revision>
  <dc:subject/>
  <dc:title>Слайд 1</dc:title>
</cp:coreProperties>
</file>