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2.png" ContentType="image/png"/>
  <Override PartName="/ppt/media/image20.jpeg" ContentType="image/jpeg"/>
  <Override PartName="/ppt/media/image21.wmf" ContentType="image/x-wmf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8B13-8BC4-45C5-9343-D95586D47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8C05-B173-4907-854C-DBEB2EBB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1778-7477-4316-8197-35ADAB16D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1F80-E236-4508-AC2E-DE937B32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6D08-CEB3-4DA0-A6AA-396D7F88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3494-1B6A-4EE1-BA10-7894529D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EDC3-B0E8-4F19-89D0-1CFF1C21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F0AE-9FAD-455D-AEC7-AA0CBDAA2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098-0D2E-40A8-B787-E9410A44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A061-7122-4297-975B-A8741343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8623-5C42-4039-B5EA-64172C4B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DDC9-F2A7-4D7F-A1D7-CBE536D97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FEE8-76F2-4825-9218-DFBEF2B943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43280" y="765000"/>
            <a:ext cx="410544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Образование в жизни чело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0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4249800" cy="52578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4929120" y="6213960"/>
            <a:ext cx="4214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ель истории МАОУСОШ № 2 им. Ю.А. Гагари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муниципального образования Успенский рай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Пелых Валерия Николае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6" descr="Н"/>
          <p:cNvPicPr/>
          <p:nvPr/>
        </p:nvPicPr>
        <p:blipFill>
          <a:blip r:embed="rId1"/>
          <a:stretch/>
        </p:blipFill>
        <p:spPr>
          <a:xfrm>
            <a:off x="826920" y="682560"/>
            <a:ext cx="7777440" cy="598644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2"/>
          <p:cNvSpPr/>
          <p:nvPr/>
        </p:nvSpPr>
        <p:spPr>
          <a:xfrm>
            <a:off x="2211120" y="0"/>
            <a:ext cx="51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. Богданов-Бельский В ШКО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000" y="692280"/>
            <a:ext cx="460836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ты научишься в школе, зависит от тебя сам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ценки за твою учебу тебе будет ставить сама жиз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3168720" cy="2737080"/>
          </a:xfrm>
          <a:prstGeom prst="rect">
            <a:avLst/>
          </a:prstGeom>
          <a:ln w="0">
            <a:noFill/>
          </a:ln>
        </p:spPr>
      </p:pic>
      <p:sp>
        <p:nvSpPr>
          <p:cNvPr id="79" name="TextBox 6"/>
          <p:cNvSpPr/>
          <p:nvPr/>
        </p:nvSpPr>
        <p:spPr>
          <a:xfrm>
            <a:off x="468360" y="2781360"/>
            <a:ext cx="424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ли сделать вывод, что твоя успешная учеба в школе важна не только для тебя самого, но и для обществ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99"/>
                </a:solidFill>
                <a:latin typeface="Arial"/>
              </a:rPr>
              <a:t>Учись учитьс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0" y="1700280"/>
            <a:ext cx="482436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а – твой основной труд, можно сказать – твоя професс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овладеть профессией надо проявить старание, развивать в себе силу воли, настойчив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1280" y="4941720"/>
            <a:ext cx="787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Твоя школьная отметка – это результат твоего труда!!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2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3456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2160720" cy="2592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10920" y="475920"/>
            <a:ext cx="650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ак ты поступаешь, когда не понимаешь материал, делаешь ошибки и т.д.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781000"/>
            <a:ext cx="822960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– то равнодушно скажет «Ну и что, подумаешь» и отложит тетрад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гого начинают мучить мысли «Я ничего не могу, я не на что не способе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, испытывает досаду, огорчение, но пытается разобраться в том, что непонятно, в причине ошибки. И для этого проявляет усилия: перечитывает текст, спрашивает у учителя, обращается за помощью к родителям или одноклассни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19640" y="1483920"/>
            <a:ext cx="4968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Труд ученика состоит из занятий в школе и подготовки уроков до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428760" y="1428840"/>
            <a:ext cx="2952720" cy="2581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3"/>
          <p:cNvSpPr/>
          <p:nvPr/>
        </p:nvSpPr>
        <p:spPr>
          <a:xfrm>
            <a:off x="539640" y="472428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отрите рисунки на с. 56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ли сказать, что эти школьники правильно организуют свой труд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6084720" y="3933720"/>
            <a:ext cx="3059280" cy="2664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Уметь учиться – это правильно организовать свой труд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66243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 правильной организации труда зависит не только твоя успеваемость, но и твое самочув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е подходящее время для выполнения домашнего задания с 15(16) часов до 17(18) ча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чером память ослабевает, внимание рассеивается, снижается работоспособность. И если это происходит изо дня в день, то в результате не только неудачи в учебе, но и физическая устал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39640" y="1268280"/>
            <a:ext cx="4608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учиться – это и хорошо развитые умения читать, считать, писа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3" descr=""/>
          <p:cNvPicPr/>
          <p:nvPr/>
        </p:nvPicPr>
        <p:blipFill>
          <a:blip r:embed="rId1"/>
          <a:stretch/>
        </p:blipFill>
        <p:spPr>
          <a:xfrm>
            <a:off x="5651640" y="333360"/>
            <a:ext cx="3168360" cy="2736720"/>
          </a:xfrm>
          <a:prstGeom prst="rect">
            <a:avLst/>
          </a:prstGeom>
          <a:ln w="0">
            <a:noFill/>
          </a:ln>
        </p:spPr>
      </p:pic>
      <p:sp>
        <p:nvSpPr>
          <p:cNvPr id="95" name="TextBox 6"/>
          <p:cNvSpPr/>
          <p:nvPr/>
        </p:nvSpPr>
        <p:spPr>
          <a:xfrm>
            <a:off x="324000" y="3284640"/>
            <a:ext cx="842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ы чувствуешь, что умение учиться сформировано у тебя не достаточно, то займись его развитием: больше читай, разгадывай кроссворды, играй в шахматы, учи стихи, беседуй на разные темы с друзьями и взрослыми. Вскоре ты заметишь, что стал лучше учить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0" y="260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Задание.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тветьте на вопросы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0" y="148428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гда ты садишься за урок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аешь ли ты перерывы во время выполнения домашних заданий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ерерывах предпочитаешь полежать, заняться домашним хозяйством или посмотреть телевизор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товишь ли ты рабочее место или не об­ращаешь на это внимание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лаешь задания сначала на черновике или сразу в тетради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ключаешь радио, телевизор или работаешь в тишин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0" y="0"/>
            <a:ext cx="51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ссмотри рисун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ожно ли сказать, что эти школьники правильно организуют свой труд? Ответ пояс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image64"/>
          <p:cNvPicPr/>
          <p:nvPr/>
        </p:nvPicPr>
        <p:blipFill>
          <a:blip r:embed="rId1"/>
          <a:stretch/>
        </p:blipFill>
        <p:spPr>
          <a:xfrm>
            <a:off x="231840" y="2343240"/>
            <a:ext cx="5656320" cy="423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http://www.lexxfans.com/img/img_220f6cc08f6d0ea0455ca1a2cc529f55.jpg"/>
          <p:cNvPicPr/>
          <p:nvPr/>
        </p:nvPicPr>
        <p:blipFill>
          <a:blip r:embed="rId2"/>
          <a:stretch/>
        </p:blipFill>
        <p:spPr>
          <a:xfrm>
            <a:off x="6012000" y="260280"/>
            <a:ext cx="2876400" cy="1925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http://stat17.privet.ru/lr/093355efeee0d1baa0d519a4b3de573d"/>
          <p:cNvPicPr/>
          <p:nvPr/>
        </p:nvPicPr>
        <p:blipFill>
          <a:blip r:embed="rId3"/>
          <a:stretch/>
        </p:blipFill>
        <p:spPr>
          <a:xfrm>
            <a:off x="6480000" y="3860640"/>
            <a:ext cx="2664000" cy="20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539640" y="189000"/>
            <a:ext cx="2160720" cy="259236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10920" y="475920"/>
            <a:ext cx="6502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8360" y="306864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§ 6, вопросы – уст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айти 5 пословиц об учен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авление рассказов на тему «Школа моей мечты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1042920" y="907920"/>
            <a:ext cx="676908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Цель урок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крыть значение образования в жизни человека на конкретных примерах. Описать ступеньки школьного образ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http://istok.ru/netcat_files/339/h_509eb6dcec4ba762b42523c1a67b67fd"/>
          <p:cNvPicPr/>
          <p:nvPr/>
        </p:nvPicPr>
        <p:blipFill>
          <a:blip r:embed="rId1"/>
          <a:stretch/>
        </p:blipFill>
        <p:spPr>
          <a:xfrm>
            <a:off x="5219640" y="3141720"/>
            <a:ext cx="3456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одержимое 3" descr="14903999.png"/>
          <p:cNvPicPr/>
          <p:nvPr/>
        </p:nvPicPr>
        <p:blipFill>
          <a:blip r:embed="rId1"/>
          <a:stretch/>
        </p:blipFill>
        <p:spPr>
          <a:xfrm>
            <a:off x="324000" y="907920"/>
            <a:ext cx="2987640" cy="29894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1619280" y="404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5" descr="i (8).jpg"/>
          <p:cNvPicPr/>
          <p:nvPr/>
        </p:nvPicPr>
        <p:blipFill>
          <a:blip r:embed="rId2"/>
          <a:stretch/>
        </p:blipFill>
        <p:spPr>
          <a:xfrm>
            <a:off x="3635280" y="2403360"/>
            <a:ext cx="2376720" cy="2281320"/>
          </a:xfrm>
          <a:prstGeom prst="rect">
            <a:avLst/>
          </a:prstGeom>
          <a:ln w="0">
            <a:noFill/>
          </a:ln>
        </p:spPr>
      </p:pic>
      <p:sp>
        <p:nvSpPr>
          <p:cNvPr id="108" name="TextBox 6"/>
          <p:cNvSpPr/>
          <p:nvPr/>
        </p:nvSpPr>
        <p:spPr>
          <a:xfrm>
            <a:off x="4500720" y="170028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7" descr="img.jpg"/>
          <p:cNvPicPr/>
          <p:nvPr/>
        </p:nvPicPr>
        <p:blipFill>
          <a:blip r:embed="rId3"/>
          <a:stretch/>
        </p:blipFill>
        <p:spPr>
          <a:xfrm>
            <a:off x="6146640" y="3141720"/>
            <a:ext cx="2997360" cy="29955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8"/>
          <p:cNvSpPr/>
          <p:nvPr/>
        </p:nvSpPr>
        <p:spPr>
          <a:xfrm>
            <a:off x="7308720" y="2565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1"/>
          <p:cNvSpPr/>
          <p:nvPr/>
        </p:nvSpPr>
        <p:spPr>
          <a:xfrm>
            <a:off x="0" y="1413000"/>
            <a:ext cx="889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rbel"/>
              </a:rPr>
              <a:t>Спасибо за урок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2143080" y="2786040"/>
            <a:ext cx="334476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Школьное образов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826920" y="1484280"/>
            <a:ext cx="4319640" cy="37450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5003640" y="1413000"/>
            <a:ext cx="360072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альная ш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- 4 кла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5076720" y="3284640"/>
            <a:ext cx="359892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ая ш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- 9 кла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5148360" y="5157720"/>
            <a:ext cx="3600360" cy="1373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едняя (полная) шко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0- 11 клас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Стрелка вниз 6"/>
          <p:cNvSpPr/>
          <p:nvPr/>
        </p:nvSpPr>
        <p:spPr>
          <a:xfrm>
            <a:off x="6516720" y="2421000"/>
            <a:ext cx="576360" cy="79200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Стрелка вниз 7"/>
          <p:cNvSpPr/>
          <p:nvPr/>
        </p:nvSpPr>
        <p:spPr>
          <a:xfrm>
            <a:off x="6588000" y="4292640"/>
            <a:ext cx="576360" cy="79200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26267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8"/>
          <p:cNvSpPr/>
          <p:nvPr/>
        </p:nvSpPr>
        <p:spPr>
          <a:xfrm>
            <a:off x="250920" y="5084640"/>
            <a:ext cx="475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е образование в нашей стране обязательно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5904000" y="4699080"/>
            <a:ext cx="3240000" cy="21589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900000" y="5013360"/>
            <a:ext cx="359892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евузовское 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826920" y="2924280"/>
            <a:ext cx="3598920" cy="9471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шее 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611280" y="404640"/>
            <a:ext cx="3887640" cy="137376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еднее профессиональное 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трелка вниз 7"/>
          <p:cNvSpPr/>
          <p:nvPr/>
        </p:nvSpPr>
        <p:spPr>
          <a:xfrm>
            <a:off x="2050920" y="1844640"/>
            <a:ext cx="865440" cy="100800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трелка вниз 8"/>
          <p:cNvSpPr/>
          <p:nvPr/>
        </p:nvSpPr>
        <p:spPr>
          <a:xfrm>
            <a:off x="2050920" y="3933720"/>
            <a:ext cx="865440" cy="100800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3333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5003640" y="260280"/>
            <a:ext cx="3745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получив высшего образования, нельзя стать врачом, юристом, инженером, психологом, уче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Путешествие в прошло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 предметы, которые изучали в школ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VII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ка, с теми которые изучают в начальной школе тепер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ое образование можно считать более широким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6084720" y="3933720"/>
            <a:ext cx="30592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19640" y="1483920"/>
            <a:ext cx="49687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4800" spc="-1" strike="noStrike">
                <a:solidFill>
                  <a:srgbClr val="333399"/>
                </a:solidFill>
                <a:latin typeface="Arial"/>
              </a:rPr>
              <a:t>Чему учит школа сегодн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2952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Раньше вместо слов 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пойти в школу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 говорили «</a:t>
            </a:r>
            <a:r>
              <a:rPr b="1" i="1" lang="ru-RU" sz="3200" spc="-1" strike="noStrike">
                <a:solidFill>
                  <a:srgbClr val="333399"/>
                </a:solidFill>
                <a:latin typeface="Arial"/>
              </a:rPr>
              <a:t>отдать в учение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6012000" y="4530600"/>
            <a:ext cx="3132000" cy="2327400"/>
          </a:xfrm>
          <a:prstGeom prst="rect">
            <a:avLst/>
          </a:prstGeom>
          <a:ln w="0">
            <a:noFill/>
          </a:ln>
        </p:spPr>
      </p:pic>
      <p:sp>
        <p:nvSpPr>
          <p:cNvPr id="68" name="Стрелка вниз 4"/>
          <p:cNvSpPr/>
          <p:nvPr/>
        </p:nvSpPr>
        <p:spPr>
          <a:xfrm>
            <a:off x="4140360" y="1413000"/>
            <a:ext cx="576000" cy="93636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ff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324000" y="2492280"/>
            <a:ext cx="8208720" cy="642600"/>
          </a:xfrm>
          <a:prstGeom prst="rect">
            <a:avLst/>
          </a:prstGeom>
          <a:noFill/>
          <a:ln w="7632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учить чему- то важному для жи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250920" y="3317760"/>
            <a:ext cx="5329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у приходится учиться всему, поэтому школ у каждого в жизни много и учителей много. Школой для нас становится не только здание, но и сама жизнь. Так и говоря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Прошел хорошую жизненную школ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539640" y="932040"/>
            <a:ext cx="8131320" cy="592596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468360" y="26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.М. Кустодиев Земская школа в Московской Руси.190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6" descr="Г"/>
          <p:cNvPicPr/>
          <p:nvPr/>
        </p:nvPicPr>
        <p:blipFill>
          <a:blip r:embed="rId1"/>
          <a:stretch/>
        </p:blipFill>
        <p:spPr>
          <a:xfrm>
            <a:off x="1332000" y="735120"/>
            <a:ext cx="6553080" cy="586728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2"/>
          <p:cNvSpPr/>
          <p:nvPr/>
        </p:nvSpPr>
        <p:spPr>
          <a:xfrm>
            <a:off x="1403280" y="189000"/>
            <a:ext cx="615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. Рыбаков ВОЗВРАЩЕНИЕ ИЗ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0T10:34:16Z</dcterms:created>
  <dc:creator>Татьяна Георгиевна</dc:creator>
  <dc:description/>
  <dc:language>en-US</dc:language>
  <cp:lastModifiedBy>ТатьянА</cp:lastModifiedBy>
  <dcterms:modified xsi:type="dcterms:W3CDTF">2019-01-02T18:04:00Z</dcterms:modified>
  <cp:revision>33</cp:revision>
  <dc:subject/>
  <dc:title>Технологическая карта урока</dc:title>
</cp:coreProperties>
</file>