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21.wmf" ContentType="image/x-wmf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E208-7CFF-4993-B0D6-7D2EC995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084E-DDAE-42C8-9401-2BD33915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EEB9-721D-4D39-B21E-8A152CD9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89AC-79D1-4742-80D6-DE7EEA74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E806-F5B2-48EB-AD50-57FBC01F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D071-E9E1-4519-8E75-A76FBC30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B60A-CFBD-403A-BB66-8EC700B5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A7A-A293-4E42-B555-480B5A88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3686-B9D0-4836-857B-23A5F0BE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D0B3-46A5-4541-989D-98827FF5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78EE-E366-4C34-887E-A0AC2B35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9D33-1BA1-493F-B32F-A8774B3D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9B85-2971-48D5-8CA0-90F60C9994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3280" y="765000"/>
            <a:ext cx="41054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бразование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24980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4929120" y="6213960"/>
            <a:ext cx="421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Н"/>
          <p:cNvPicPr/>
          <p:nvPr/>
        </p:nvPicPr>
        <p:blipFill>
          <a:blip r:embed="rId1"/>
          <a:stretch/>
        </p:blipFill>
        <p:spPr>
          <a:xfrm>
            <a:off x="826920" y="682560"/>
            <a:ext cx="7777440" cy="5986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2211120" y="0"/>
            <a:ext cx="51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. Богданов-Бельский В ШК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460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ты научишься в школе, зависит от тебя сам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ценки за твою учебу тебе будет ставить сама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168720" cy="2737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468360" y="2781360"/>
            <a:ext cx="42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сделать вывод, что твоя успешная учеба в школе важна не только для тебя самого, но и для обще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Учись учи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0" y="1700280"/>
            <a:ext cx="4824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а – твой основной труд, можно сказать – твоя профе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владеть профессией надо проявить старание, развивать в себе силу воли, настойч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4941720"/>
            <a:ext cx="787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воя школьная отметка – это результат твоего труда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456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0920" y="475920"/>
            <a:ext cx="65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ты поступаешь, когда не понимаешь материал, делаешь ошибки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– то равнодушно скажет «Ну и что, подумаешь» и отложит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ачинают мучить мысли «Я ничего не могу, я не на что не способ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, испытывает досаду, огорчение, но пытается разобраться в том, что непонятно, в причине ошибки. И для этого проявляет усилия: перечитывает текст, спрашивает у учителя, обращается за помощью к родителям или однокласс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19640" y="1483920"/>
            <a:ext cx="496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Труд ученика состоит из занятий в школе и подготовки уроков до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2952720" cy="2581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539640" y="4724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рисунки на с. 5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сказать, что эти школьники правильно организуют свой тру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3059280" cy="2664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меть учиться – это правильно организовать свой тру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662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равильной организации труда зависит не только твоя успеваемость, но и тв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е подходящее время для выполнения домашнего задания с 15(16) часов до 17(18)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память ослабевает, внимание рассеивается, снижается работоспособность. И если это происходит изо дня в день, то в результате не только неудачи в учебе, но и физическая уста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4608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учиться – это и хорошо развитые умения читать, считать, пис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168360" cy="2736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324000" y="328464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чувствуешь, что умение учиться сформировано у тебя не достаточно, то займись его развитием: больше читай, разгадывай кроссворды, играй в шахматы, учи стихи, беседуй на разные темы с друзьями и взрослыми. Вскоре ты заметишь, что стал лучше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ние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ветьте на вопросы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0" y="1484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ты садишься за уро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ешь ли ты перерывы во время выполнения домашних задан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ерывах предпочитаешь полежать, заняться домашним хозяйством или посмотреть телевиз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ишь ли ты рабочее место или не об­ращаешь на это внима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ешь задания сначала на черновике или сразу в тетрад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шь радио, телевизор или работаешь в тиш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0" y="0"/>
            <a:ext cx="51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смотри рисун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жно ли сказать, что эти школьники правильно организуют свой труд? Ответ поя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image64"/>
          <p:cNvPicPr/>
          <p:nvPr/>
        </p:nvPicPr>
        <p:blipFill>
          <a:blip r:embed="rId1"/>
          <a:stretch/>
        </p:blipFill>
        <p:spPr>
          <a:xfrm>
            <a:off x="231840" y="2343240"/>
            <a:ext cx="5656320" cy="423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www.lexxfans.com/img/img_220f6cc08f6d0ea0455ca1a2cc529f55.jpg"/>
          <p:cNvPicPr/>
          <p:nvPr/>
        </p:nvPicPr>
        <p:blipFill>
          <a:blip r:embed="rId2"/>
          <a:stretch/>
        </p:blipFill>
        <p:spPr>
          <a:xfrm>
            <a:off x="6012000" y="260280"/>
            <a:ext cx="2876400" cy="192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stat17.privet.ru/lr/093355efeee0d1baa0d519a4b3de573d"/>
          <p:cNvPicPr/>
          <p:nvPr/>
        </p:nvPicPr>
        <p:blipFill>
          <a:blip r:embed="rId3"/>
          <a:stretch/>
        </p:blipFill>
        <p:spPr>
          <a:xfrm>
            <a:off x="6480000" y="3860640"/>
            <a:ext cx="2664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0920" y="475920"/>
            <a:ext cx="65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3068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§ 6, вопросы – уст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ти 5 пословиц об уче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ов на тему «Школа моей меч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42920" y="907920"/>
            <a:ext cx="6769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ования в жизни человека на конкретных примерах. Описать ступеньки 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istok.ru/netcat_files/339/h_509eb6dcec4ba762b42523c1a67b67fd"/>
          <p:cNvPicPr/>
          <p:nvPr/>
        </p:nvPicPr>
        <p:blipFill>
          <a:blip r:embed="rId1"/>
          <a:stretch/>
        </p:blipFill>
        <p:spPr>
          <a:xfrm>
            <a:off x="5219640" y="314172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14903999.png"/>
          <p:cNvPicPr/>
          <p:nvPr/>
        </p:nvPicPr>
        <p:blipFill>
          <a:blip r:embed="rId1"/>
          <a:stretch/>
        </p:blipFill>
        <p:spPr>
          <a:xfrm>
            <a:off x="324000" y="907920"/>
            <a:ext cx="2987640" cy="29894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619280" y="40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i (8).jpg"/>
          <p:cNvPicPr/>
          <p:nvPr/>
        </p:nvPicPr>
        <p:blipFill>
          <a:blip r:embed="rId2"/>
          <a:stretch/>
        </p:blipFill>
        <p:spPr>
          <a:xfrm>
            <a:off x="3635280" y="2403360"/>
            <a:ext cx="2376720" cy="2281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4500720" y="17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img.jpg"/>
          <p:cNvPicPr/>
          <p:nvPr/>
        </p:nvPicPr>
        <p:blipFill>
          <a:blip r:embed="rId3"/>
          <a:stretch/>
        </p:blipFill>
        <p:spPr>
          <a:xfrm>
            <a:off x="6146640" y="3141720"/>
            <a:ext cx="2997360" cy="2995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8"/>
          <p:cNvSpPr/>
          <p:nvPr/>
        </p:nvSpPr>
        <p:spPr>
          <a:xfrm>
            <a:off x="730872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0" y="141300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143080" y="2786040"/>
            <a:ext cx="33447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Школьное 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319640" cy="3745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03640" y="1413000"/>
            <a:ext cx="36007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 4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076720" y="3284640"/>
            <a:ext cx="35989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- 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148360" y="5157720"/>
            <a:ext cx="360036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яя (полная)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- 11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6"/>
          <p:cNvSpPr/>
          <p:nvPr/>
        </p:nvSpPr>
        <p:spPr>
          <a:xfrm>
            <a:off x="6516720" y="242100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7"/>
          <p:cNvSpPr/>
          <p:nvPr/>
        </p:nvSpPr>
        <p:spPr>
          <a:xfrm>
            <a:off x="6588000" y="429264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50920" y="508464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е образование в нашей стране обязательн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904000" y="4699080"/>
            <a:ext cx="3240000" cy="2158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900000" y="5013360"/>
            <a:ext cx="35989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вузовск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826920" y="2924280"/>
            <a:ext cx="35989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е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11280" y="404640"/>
            <a:ext cx="388764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ее профессиональн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7"/>
          <p:cNvSpPr/>
          <p:nvPr/>
        </p:nvSpPr>
        <p:spPr>
          <a:xfrm>
            <a:off x="2050920" y="1844640"/>
            <a:ext cx="865440" cy="10080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8"/>
          <p:cNvSpPr/>
          <p:nvPr/>
        </p:nvSpPr>
        <p:spPr>
          <a:xfrm>
            <a:off x="2050920" y="3933720"/>
            <a:ext cx="865440" cy="10080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003640" y="260280"/>
            <a:ext cx="37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лучив высшего образования, нельзя стать врачом, юристом, инженером, психологом, уче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утешествие в прошл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 предметы, которые изучали в шко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а, с теми которые изучают в начальной школе тепер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образование можно считать более широ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305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19640" y="1483920"/>
            <a:ext cx="496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Чему учит школа сегод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95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ньше вместо слов 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ойти в школу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 говорили 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отдать в учение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012000" y="4530600"/>
            <a:ext cx="3132000" cy="2327400"/>
          </a:xfrm>
          <a:prstGeom prst="rect">
            <a:avLst/>
          </a:prstGeom>
          <a:ln w="0">
            <a:noFill/>
          </a:ln>
        </p:spPr>
      </p:pic>
      <p:sp>
        <p:nvSpPr>
          <p:cNvPr id="68" name="Стрелка вниз 4"/>
          <p:cNvSpPr/>
          <p:nvPr/>
        </p:nvSpPr>
        <p:spPr>
          <a:xfrm>
            <a:off x="4140360" y="1413000"/>
            <a:ext cx="576000" cy="936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24000" y="2492280"/>
            <a:ext cx="8208720" cy="642600"/>
          </a:xfrm>
          <a:prstGeom prst="rect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чить чему- то важному для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50920" y="3317760"/>
            <a:ext cx="532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у приходится учиться всему, поэтому школ у каждого в жизни много и учителей много. Школой для нас становится не только здание, но и сама жизнь. Так и говоря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рошел хорошую жизненную школ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9640" y="932040"/>
            <a:ext cx="8131320" cy="5925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46836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М. Кустодиев Земская школа в Московской Руси.19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Г"/>
          <p:cNvPicPr/>
          <p:nvPr/>
        </p:nvPicPr>
        <p:blipFill>
          <a:blip r:embed="rId1"/>
          <a:stretch/>
        </p:blipFill>
        <p:spPr>
          <a:xfrm>
            <a:off x="1332000" y="735120"/>
            <a:ext cx="6553080" cy="5867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1403280" y="18900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. Рыбаков ВОЗВРАЩЕНИЕ ИЗ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0:34:16Z</dcterms:created>
  <dc:creator>Татьяна Георгиевна</dc:creator>
  <dc:description/>
  <dc:language>en-US</dc:language>
  <cp:lastModifiedBy>ТатьянА</cp:lastModifiedBy>
  <dcterms:modified xsi:type="dcterms:W3CDTF">2019-01-02T18:04:00Z</dcterms:modified>
  <cp:revision>33</cp:revision>
  <dc:subject/>
  <dc:title>Технологическая карта урока</dc:title>
</cp:coreProperties>
</file>