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227C-9A14-4763-8268-9246475F4E21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историческим источником (Из сочинения Диодора Сицилийского) и материалом учебника (с. 33, пункт 1). Беседа по содержанию документа и параллельно работа по карте (с. 31 «Древний Вост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4EE0-3568-4AA6-8051-E68B7B5E7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E2C-0B17-4EF2-953A-CB2BD991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7C7-8FE5-4FCA-AA25-51BBA13F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93F-7610-40E2-9F5B-DDAAC4A1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E80-FDEB-43E2-81E7-461228FC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311-7FE2-431B-9005-5F564DD3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28C-F6C5-4B1E-AEB1-4800ACD7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8CE-FE6A-4D54-82DC-5A6D9750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754-1513-45A6-B0C4-FB68846B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A5B-C9E0-4EEA-B61B-CC09E432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A39-891C-4360-AFAD-C461949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29A-AFB6-416F-93FD-666F85C4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E82-707C-4427-9E54-1D2742CA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9013-3493-4507-9513-BB3024B25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24000" y="1125000"/>
            <a:ext cx="4987800" cy="22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Государство на берегах Нила.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Древний Егип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5"/>
          <p:cNvPicPr/>
          <p:nvPr/>
        </p:nvPicPr>
        <p:blipFill>
          <a:blip r:embed="rId1"/>
          <a:stretch/>
        </p:blipFill>
        <p:spPr>
          <a:xfrm>
            <a:off x="-324000" y="0"/>
            <a:ext cx="4480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603360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истории МАОУСОШ № 2 им. Ю.А. Гаг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го образования Успен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лых Валери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Обстоятельства возникновения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хема 1" descr=""/>
          <p:cNvPicPr/>
          <p:nvPr/>
        </p:nvPicPr>
        <p:blipFill>
          <a:blip r:embed="rId1"/>
          <a:stretch/>
        </p:blipFill>
        <p:spPr>
          <a:xfrm>
            <a:off x="324000" y="1596960"/>
            <a:ext cx="841824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Страна Егип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0" y="20574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80880" y="1720800"/>
            <a:ext cx="4032360" cy="4952880"/>
          </a:xfrm>
          <a:prstGeom prst="rect">
            <a:avLst/>
          </a:prstGeom>
          <a:ln w="50760">
            <a:solidFill>
              <a:srgbClr val="222268"/>
            </a:solidFill>
            <a:miter/>
          </a:ln>
        </p:spPr>
      </p:pic>
      <p:sp>
        <p:nvSpPr>
          <p:cNvPr id="153" name="Прямоугольник 5"/>
          <p:cNvSpPr/>
          <p:nvPr/>
        </p:nvSpPr>
        <p:spPr>
          <a:xfrm>
            <a:off x="4800600" y="1752480"/>
            <a:ext cx="4038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ревние цивилизации возникали в долинах рек. Одна из древнейших цивилизаций мира – египетская.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Египет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страна, которая располагалась на берегах реки Нил от первого порога до Средиземного мор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1143000" y="3581280"/>
            <a:ext cx="1752480" cy="3016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55" name="Группа 9"/>
          <p:cNvGrpSpPr/>
          <p:nvPr/>
        </p:nvGrpSpPr>
        <p:grpSpPr>
          <a:xfrm>
            <a:off x="4800600" y="1676520"/>
            <a:ext cx="3962520" cy="4952880"/>
            <a:chOff x="4800600" y="1676520"/>
            <a:chExt cx="3962520" cy="4952880"/>
          </a:xfrm>
        </p:grpSpPr>
        <p:pic>
          <p:nvPicPr>
            <p:cNvPr id="156" name="Picture 3" descr=""/>
            <p:cNvPicPr/>
            <p:nvPr/>
          </p:nvPicPr>
          <p:blipFill>
            <a:blip r:embed="rId2"/>
            <a:stretch/>
          </p:blipFill>
          <p:spPr>
            <a:xfrm>
              <a:off x="4800600" y="1676520"/>
              <a:ext cx="3962520" cy="4952880"/>
            </a:xfrm>
            <a:prstGeom prst="rect">
              <a:avLst/>
            </a:prstGeom>
            <a:ln w="50760">
              <a:solidFill>
                <a:srgbClr val="222268"/>
              </a:solidFill>
              <a:miter/>
            </a:ln>
          </p:spPr>
        </p:pic>
        <p:sp>
          <p:nvSpPr>
            <p:cNvPr id="157" name="Прямоугольник 3"/>
            <p:cNvSpPr/>
            <p:nvPr/>
          </p:nvSpPr>
          <p:spPr>
            <a:xfrm>
              <a:off x="4947120" y="6029280"/>
              <a:ext cx="3816000" cy="55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entury Schoolbook"/>
                </a:rPr>
                <a:t>Современная политическая карта Африки</a:t>
              </a:r>
              <a:endParaRPr b="0" lang="en-US" sz="15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58" name="Группа 13"/>
          <p:cNvGrpSpPr/>
          <p:nvPr/>
        </p:nvGrpSpPr>
        <p:grpSpPr>
          <a:xfrm>
            <a:off x="4572000" y="1600200"/>
            <a:ext cx="4343400" cy="5257800"/>
            <a:chOff x="4572000" y="1600200"/>
            <a:chExt cx="4343400" cy="5257800"/>
          </a:xfrm>
        </p:grpSpPr>
        <p:sp>
          <p:nvSpPr>
            <p:cNvPr id="159" name="Прямоугольник 14"/>
            <p:cNvSpPr/>
            <p:nvPr/>
          </p:nvSpPr>
          <p:spPr>
            <a:xfrm>
              <a:off x="4572000" y="1600200"/>
              <a:ext cx="434340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pic>
          <p:nvPicPr>
            <p:cNvPr id="160" name="Picture 3" descr=""/>
            <p:cNvPicPr/>
            <p:nvPr/>
          </p:nvPicPr>
          <p:blipFill>
            <a:blip r:embed="rId3"/>
            <a:stretch/>
          </p:blipFill>
          <p:spPr>
            <a:xfrm>
              <a:off x="4651200" y="1680840"/>
              <a:ext cx="4184640" cy="3571920"/>
            </a:xfrm>
            <a:prstGeom prst="rect">
              <a:avLst/>
            </a:prstGeom>
            <a:ln w="50760">
              <a:solidFill>
                <a:srgbClr val="222268"/>
              </a:solidFill>
              <a:miter/>
            </a:ln>
          </p:spPr>
        </p:pic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170"/>
          <p:cNvPicPr/>
          <p:nvPr/>
        </p:nvPicPr>
        <p:blipFill>
          <a:blip r:embed="rId1"/>
          <a:stretch/>
        </p:blipFill>
        <p:spPr>
          <a:xfrm>
            <a:off x="0" y="1155600"/>
            <a:ext cx="6012000" cy="5702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nile"/>
          <p:cNvPicPr/>
          <p:nvPr/>
        </p:nvPicPr>
        <p:blipFill>
          <a:blip r:embed="rId2"/>
          <a:stretch/>
        </p:blipFill>
        <p:spPr>
          <a:xfrm>
            <a:off x="5425920" y="3213000"/>
            <a:ext cx="3632400" cy="35164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4"/>
          <p:cNvSpPr/>
          <p:nvPr/>
        </p:nvSpPr>
        <p:spPr>
          <a:xfrm>
            <a:off x="571680" y="0"/>
            <a:ext cx="75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Нил – самая длинная река в мир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овторение</a:t>
            </a:r>
            <a:r>
              <a:rPr b="1" i="1" lang="ru-RU" sz="4400" spc="-1" strike="noStrike">
                <a:solidFill>
                  <a:srgbClr val="333399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ройденного</a:t>
            </a:r>
            <a:r>
              <a:rPr b="1" i="1" lang="ru-RU" sz="4400" spc="-1" strike="noStrike">
                <a:solidFill>
                  <a:srgbClr val="333399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AutoShape 4"/>
          <p:cNvGrpSpPr/>
          <p:nvPr/>
        </p:nvGrpSpPr>
        <p:grpSpPr>
          <a:xfrm>
            <a:off x="512640" y="1054080"/>
            <a:ext cx="7929720" cy="1414440"/>
            <a:chOff x="512640" y="1054080"/>
            <a:chExt cx="7929720" cy="1414440"/>
          </a:xfrm>
        </p:grpSpPr>
        <p:pic>
          <p:nvPicPr>
            <p:cNvPr id="53" name="AutoShape 4" descr=""/>
            <p:cNvPicPr/>
            <p:nvPr/>
          </p:nvPicPr>
          <p:blipFill>
            <a:blip r:embed="rId1"/>
            <a:stretch/>
          </p:blipFill>
          <p:spPr>
            <a:xfrm>
              <a:off x="512640" y="1054080"/>
              <a:ext cx="79297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38280" y="1155600"/>
              <a:ext cx="76867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Что такое хронология?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5" name="AutoShape 11"/>
          <p:cNvGrpSpPr/>
          <p:nvPr/>
        </p:nvGrpSpPr>
        <p:grpSpPr>
          <a:xfrm>
            <a:off x="281160" y="3090960"/>
            <a:ext cx="8393040" cy="2809800"/>
            <a:chOff x="281160" y="3090960"/>
            <a:chExt cx="8393040" cy="2809800"/>
          </a:xfrm>
        </p:grpSpPr>
        <p:pic>
          <p:nvPicPr>
            <p:cNvPr id="56" name="AutoShape 11" descr=""/>
            <p:cNvPicPr/>
            <p:nvPr/>
          </p:nvPicPr>
          <p:blipFill>
            <a:blip r:embed="rId2"/>
            <a:stretch/>
          </p:blipFill>
          <p:spPr>
            <a:xfrm>
              <a:off x="281160" y="3090960"/>
              <a:ext cx="839304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4360" y="3467160"/>
              <a:ext cx="75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Хронология – наука о времени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8" name="AutoShape 4"/>
          <p:cNvGrpSpPr/>
          <p:nvPr/>
        </p:nvGrpSpPr>
        <p:grpSpPr>
          <a:xfrm>
            <a:off x="512640" y="969840"/>
            <a:ext cx="8290080" cy="1408320"/>
            <a:chOff x="512640" y="969840"/>
            <a:chExt cx="8290080" cy="1408320"/>
          </a:xfrm>
        </p:grpSpPr>
        <p:pic>
          <p:nvPicPr>
            <p:cNvPr id="59" name="AutoShape 4" descr=""/>
            <p:cNvPicPr/>
            <p:nvPr/>
          </p:nvPicPr>
          <p:blipFill>
            <a:blip r:embed="rId3"/>
            <a:stretch/>
          </p:blipFill>
          <p:spPr>
            <a:xfrm>
              <a:off x="512640" y="969840"/>
              <a:ext cx="82900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38280" y="1069920"/>
              <a:ext cx="8047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Какое летоисчисление было у римлян и египтян?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" name="AutoShape 11"/>
          <p:cNvGrpSpPr/>
          <p:nvPr/>
        </p:nvGrpSpPr>
        <p:grpSpPr>
          <a:xfrm>
            <a:off x="-42840" y="3090960"/>
            <a:ext cx="9296280" cy="2809800"/>
            <a:chOff x="-42840" y="3090960"/>
            <a:chExt cx="9296280" cy="2809800"/>
          </a:xfrm>
        </p:grpSpPr>
        <p:pic>
          <p:nvPicPr>
            <p:cNvPr id="62" name="AutoShape 11" descr=""/>
            <p:cNvPicPr/>
            <p:nvPr/>
          </p:nvPicPr>
          <p:blipFill>
            <a:blip r:embed="rId4"/>
            <a:stretch/>
          </p:blipFill>
          <p:spPr>
            <a:xfrm>
              <a:off x="-42840" y="309096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60360" y="346536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Древние римляне вели отсчёт от основания Рима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 753 г. до н.э. Древние египтяне, начинали отсчёт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лет заново каждый раз с правлением нового фараона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4" name="AutoShape 4"/>
          <p:cNvGrpSpPr/>
          <p:nvPr/>
        </p:nvGrpSpPr>
        <p:grpSpPr>
          <a:xfrm>
            <a:off x="512640" y="1054080"/>
            <a:ext cx="8290080" cy="1414440"/>
            <a:chOff x="512640" y="1054080"/>
            <a:chExt cx="8290080" cy="1414440"/>
          </a:xfrm>
        </p:grpSpPr>
        <p:pic>
          <p:nvPicPr>
            <p:cNvPr id="65" name="AutoShape 4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290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38280" y="1155600"/>
              <a:ext cx="8047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Расшифруйте значение словосочетания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«наша эра», «до нашей эры»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" name="AutoShape 11"/>
          <p:cNvGrpSpPr/>
          <p:nvPr/>
        </p:nvGrpSpPr>
        <p:grpSpPr>
          <a:xfrm>
            <a:off x="-42840" y="3230640"/>
            <a:ext cx="9296280" cy="2809800"/>
            <a:chOff x="-42840" y="3230640"/>
            <a:chExt cx="9296280" cy="2809800"/>
          </a:xfrm>
        </p:grpSpPr>
        <p:pic>
          <p:nvPicPr>
            <p:cNvPr id="68" name="AutoShape 11" descr=""/>
            <p:cNvPicPr/>
            <p:nvPr/>
          </p:nvPicPr>
          <p:blipFill>
            <a:blip r:embed="rId6"/>
            <a:stretch/>
          </p:blipFill>
          <p:spPr>
            <a:xfrm>
              <a:off x="-42840" y="323064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60360" y="361008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ремя от рождения Христа до наших дней – наша эра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ремя до рождения Христа – до нашей эры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Century Schoolbook"/>
              </a:rPr>
              <a:t>Задания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на</a:t>
            </a:r>
            <a:r>
              <a:rPr b="1" i="1" lang="ru-RU" sz="3200" spc="-1" strike="noStrike">
                <a:solidFill>
                  <a:srgbClr val="333399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вычисления и работа с датами на «линии време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508720" y="29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781440" y="3860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" name="AutoShape 4"/>
          <p:cNvGrpSpPr/>
          <p:nvPr/>
        </p:nvGrpSpPr>
        <p:grpSpPr>
          <a:xfrm>
            <a:off x="189000" y="1378080"/>
            <a:ext cx="8686800" cy="1919160"/>
            <a:chOff x="189000" y="1378080"/>
            <a:chExt cx="8686800" cy="1919160"/>
          </a:xfrm>
        </p:grpSpPr>
        <p:pic>
          <p:nvPicPr>
            <p:cNvPr id="74" name="AutoShape 4" descr=""/>
            <p:cNvPicPr/>
            <p:nvPr/>
          </p:nvPicPr>
          <p:blipFill>
            <a:blip r:embed="rId1"/>
            <a:stretch/>
          </p:blipFill>
          <p:spPr>
            <a:xfrm>
              <a:off x="189000" y="1378080"/>
              <a:ext cx="868680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39840" y="1501920"/>
              <a:ext cx="839124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Найдите на «линии времени» 100-й год нашей эры и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100-й год до нашей эры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76" name="Рисунок 10" descr=""/>
          <p:cNvPicPr/>
          <p:nvPr/>
        </p:nvPicPr>
        <p:blipFill>
          <a:blip r:embed="rId2"/>
          <a:srcRect l="0" t="35438" r="0" b="0"/>
          <a:stretch/>
        </p:blipFill>
        <p:spPr>
          <a:xfrm>
            <a:off x="212760" y="3573360"/>
            <a:ext cx="8572320" cy="1962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11"/>
          <p:cNvSpPr/>
          <p:nvPr/>
        </p:nvSpPr>
        <p:spPr>
          <a:xfrm>
            <a:off x="2506680" y="4005360"/>
            <a:ext cx="0" cy="58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Прямая соединительная линия 14"/>
          <p:cNvSpPr/>
          <p:nvPr/>
        </p:nvSpPr>
        <p:spPr>
          <a:xfrm>
            <a:off x="2987640" y="4005360"/>
            <a:ext cx="0" cy="58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2705400" y="3454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2003760" y="3454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Century Schoolbook"/>
              </a:rPr>
              <a:t>Задания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на</a:t>
            </a:r>
            <a:r>
              <a:rPr b="1" i="1" lang="ru-RU" sz="3200" spc="-1" strike="noStrike">
                <a:solidFill>
                  <a:srgbClr val="333399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вычисления и работа с датами на «линии време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508720" y="29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781440" y="3860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84" name="AutoShape 4"/>
          <p:cNvGrpSpPr/>
          <p:nvPr/>
        </p:nvGrpSpPr>
        <p:grpSpPr>
          <a:xfrm>
            <a:off x="165240" y="1378080"/>
            <a:ext cx="8740800" cy="1919160"/>
            <a:chOff x="165240" y="1378080"/>
            <a:chExt cx="8740800" cy="1919160"/>
          </a:xfrm>
        </p:grpSpPr>
        <p:pic>
          <p:nvPicPr>
            <p:cNvPr id="85" name="AutoShape 4" descr=""/>
            <p:cNvPicPr/>
            <p:nvPr/>
          </p:nvPicPr>
          <p:blipFill>
            <a:blip r:embed="rId1"/>
            <a:stretch/>
          </p:blipFill>
          <p:spPr>
            <a:xfrm>
              <a:off x="165240" y="1378080"/>
              <a:ext cx="874080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9840" y="1501920"/>
              <a:ext cx="839124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Первое упоминание в летописи о Москве относится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К 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Arial"/>
                </a:rPr>
                <a:t>1147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 году. Найдите на «линии времени» это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од. Подсчитайте, сколько лет исполнилось Москве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в 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Arial"/>
                </a:rPr>
                <a:t>1997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 году.      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87" name="Рисунок 1" descr=""/>
          <p:cNvPicPr/>
          <p:nvPr/>
        </p:nvPicPr>
        <p:blipFill>
          <a:blip r:embed="rId2"/>
          <a:srcRect l="0" t="35438" r="0" b="0"/>
          <a:stretch/>
        </p:blipFill>
        <p:spPr>
          <a:xfrm>
            <a:off x="212760" y="3573360"/>
            <a:ext cx="8572320" cy="1962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3"/>
          <p:cNvSpPr/>
          <p:nvPr/>
        </p:nvSpPr>
        <p:spPr>
          <a:xfrm>
            <a:off x="5560920" y="3971880"/>
            <a:ext cx="0" cy="58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264280" y="3510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114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90" name="AutoShape 11"/>
          <p:cNvGrpSpPr/>
          <p:nvPr/>
        </p:nvGrpSpPr>
        <p:grpSpPr>
          <a:xfrm>
            <a:off x="-42840" y="5535720"/>
            <a:ext cx="9150480" cy="1371600"/>
            <a:chOff x="-42840" y="5535720"/>
            <a:chExt cx="9150480" cy="1371600"/>
          </a:xfrm>
        </p:grpSpPr>
        <p:pic>
          <p:nvPicPr>
            <p:cNvPr id="91" name="AutoShape 11" descr=""/>
            <p:cNvPicPr/>
            <p:nvPr/>
          </p:nvPicPr>
          <p:blipFill>
            <a:blip r:embed="rId3"/>
            <a:stretch/>
          </p:blipFill>
          <p:spPr>
            <a:xfrm>
              <a:off x="-42840" y="5535720"/>
              <a:ext cx="9150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90520" y="5843520"/>
              <a:ext cx="849168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22268"/>
                  </a:solidFill>
                  <a:latin typeface="Arial"/>
                </a:rPr>
                <a:t>В 1997 году Москве исполнилось 850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Задание на вычисл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AutoShape 4" descr=""/>
          <p:cNvPicPr/>
          <p:nvPr/>
        </p:nvPicPr>
        <p:blipFill>
          <a:blip r:embed="rId1"/>
          <a:stretch/>
        </p:blipFill>
        <p:spPr>
          <a:xfrm>
            <a:off x="262080" y="1305000"/>
            <a:ext cx="8686800" cy="1693800"/>
          </a:xfrm>
          <a:prstGeom prst="rect">
            <a:avLst/>
          </a:prstGeom>
          <a:ln w="0">
            <a:noFill/>
          </a:ln>
        </p:spPr>
      </p:pic>
      <p:grpSp>
        <p:nvGrpSpPr>
          <p:cNvPr id="95" name="AutoShape 11"/>
          <p:cNvGrpSpPr/>
          <p:nvPr/>
        </p:nvGrpSpPr>
        <p:grpSpPr>
          <a:xfrm>
            <a:off x="-42840" y="3230640"/>
            <a:ext cx="9296280" cy="2809800"/>
            <a:chOff x="-42840" y="3230640"/>
            <a:chExt cx="9296280" cy="2809800"/>
          </a:xfrm>
        </p:grpSpPr>
        <p:pic>
          <p:nvPicPr>
            <p:cNvPr id="96" name="AutoShape 11" descr=""/>
            <p:cNvPicPr/>
            <p:nvPr/>
          </p:nvPicPr>
          <p:blipFill>
            <a:blip r:embed="rId2"/>
            <a:stretch/>
          </p:blipFill>
          <p:spPr>
            <a:xfrm>
              <a:off x="-42840" y="323064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60360" y="361008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65 год до н.э. был раньше на 105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65+40=105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98" name="AutoShape 4" descr=""/>
          <p:cNvPicPr/>
          <p:nvPr/>
        </p:nvPicPr>
        <p:blipFill>
          <a:blip r:embed="rId3"/>
          <a:stretch/>
        </p:blipFill>
        <p:spPr>
          <a:xfrm>
            <a:off x="291960" y="1316160"/>
            <a:ext cx="8974440" cy="1768320"/>
          </a:xfrm>
          <a:prstGeom prst="rect">
            <a:avLst/>
          </a:prstGeom>
          <a:ln w="0">
            <a:noFill/>
          </a:ln>
        </p:spPr>
      </p:pic>
      <p:grpSp>
        <p:nvGrpSpPr>
          <p:cNvPr id="99" name="AutoShape 11"/>
          <p:cNvGrpSpPr/>
          <p:nvPr/>
        </p:nvGrpSpPr>
        <p:grpSpPr>
          <a:xfrm>
            <a:off x="-79200" y="3230640"/>
            <a:ext cx="9289800" cy="2809800"/>
            <a:chOff x="-79200" y="3230640"/>
            <a:chExt cx="9289800" cy="2809800"/>
          </a:xfrm>
        </p:grpSpPr>
        <p:pic>
          <p:nvPicPr>
            <p:cNvPr id="100" name="AutoShape 11" descr=""/>
            <p:cNvPicPr/>
            <p:nvPr/>
          </p:nvPicPr>
          <p:blipFill>
            <a:blip r:embed="rId4"/>
            <a:stretch/>
          </p:blipFill>
          <p:spPr>
            <a:xfrm>
              <a:off x="-79200" y="3230640"/>
              <a:ext cx="928980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24000" y="3610080"/>
              <a:ext cx="84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Второе захоронение было сделано раньше на 136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1985-784=1201 г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262673"/>
                  </a:solidFill>
                  <a:latin typeface="Arial"/>
                </a:rPr>
                <a:t>1985-920=1065 г.</a:t>
              </a:r>
              <a:r>
                <a:rPr b="1" i="1" lang="ru-RU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333399"/>
                  </a:solidFill>
                  <a:latin typeface="Arial"/>
                </a:rPr>
                <a:t>1201-1065 = 136 л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AutoShape 4"/>
          <p:cNvGrpSpPr/>
          <p:nvPr/>
        </p:nvGrpSpPr>
        <p:grpSpPr>
          <a:xfrm>
            <a:off x="317520" y="944640"/>
            <a:ext cx="8290080" cy="1262160"/>
            <a:chOff x="317520" y="944640"/>
            <a:chExt cx="8290080" cy="1262160"/>
          </a:xfrm>
        </p:grpSpPr>
        <p:pic>
          <p:nvPicPr>
            <p:cNvPr id="104" name="AutoShape 4" descr=""/>
            <p:cNvPicPr/>
            <p:nvPr/>
          </p:nvPicPr>
          <p:blipFill>
            <a:blip r:embed="rId1"/>
            <a:stretch/>
          </p:blipFill>
          <p:spPr>
            <a:xfrm>
              <a:off x="317520" y="944640"/>
              <a:ext cx="82900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3440" y="103680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т первобытности к цивилизации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6" name="AutoShape 4"/>
          <p:cNvGrpSpPr/>
          <p:nvPr/>
        </p:nvGrpSpPr>
        <p:grpSpPr>
          <a:xfrm>
            <a:off x="334800" y="2243160"/>
            <a:ext cx="8291520" cy="1262160"/>
            <a:chOff x="334800" y="2243160"/>
            <a:chExt cx="8291520" cy="1262160"/>
          </a:xfrm>
        </p:grpSpPr>
        <p:pic>
          <p:nvPicPr>
            <p:cNvPr id="107" name="AutoShape 4" descr=""/>
            <p:cNvPicPr/>
            <p:nvPr/>
          </p:nvPicPr>
          <p:blipFill>
            <a:blip r:embed="rId2"/>
            <a:stretch/>
          </p:blipFill>
          <p:spPr>
            <a:xfrm>
              <a:off x="334800" y="2243160"/>
              <a:ext cx="82915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2520" y="2333520"/>
              <a:ext cx="805968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Страна Египет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9" name="AutoShape 4"/>
          <p:cNvGrpSpPr/>
          <p:nvPr/>
        </p:nvGrpSpPr>
        <p:grpSpPr>
          <a:xfrm>
            <a:off x="334800" y="3535200"/>
            <a:ext cx="8291520" cy="1262160"/>
            <a:chOff x="334800" y="3535200"/>
            <a:chExt cx="8291520" cy="1262160"/>
          </a:xfrm>
        </p:grpSpPr>
        <p:pic>
          <p:nvPicPr>
            <p:cNvPr id="110" name="AutoShape 4" descr=""/>
            <p:cNvPicPr/>
            <p:nvPr/>
          </p:nvPicPr>
          <p:blipFill>
            <a:blip r:embed="rId3"/>
            <a:stretch/>
          </p:blipFill>
          <p:spPr>
            <a:xfrm>
              <a:off x="334800" y="3535200"/>
              <a:ext cx="82915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2520" y="362916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Разливы Нила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12" name="AutoShape 4"/>
          <p:cNvGrpSpPr/>
          <p:nvPr/>
        </p:nvGrpSpPr>
        <p:grpSpPr>
          <a:xfrm>
            <a:off x="334800" y="4906800"/>
            <a:ext cx="8291520" cy="1262160"/>
            <a:chOff x="334800" y="4906800"/>
            <a:chExt cx="8291520" cy="1262160"/>
          </a:xfrm>
        </p:grpSpPr>
        <p:pic>
          <p:nvPicPr>
            <p:cNvPr id="113" name="AutoShape 4" descr=""/>
            <p:cNvPicPr/>
            <p:nvPr/>
          </p:nvPicPr>
          <p:blipFill>
            <a:blip r:embed="rId4"/>
            <a:stretch/>
          </p:blipFill>
          <p:spPr>
            <a:xfrm>
              <a:off x="334800" y="4906800"/>
              <a:ext cx="82915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52520" y="499752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бъединение Египта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ереход от первобытности к циви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258920" y="3762360"/>
            <a:ext cx="604980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6300720" y="2901960"/>
            <a:ext cx="432000" cy="90792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763640" y="2852280"/>
            <a:ext cx="432000" cy="90972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3203640" y="2868120"/>
            <a:ext cx="433440" cy="908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788000" y="2901960"/>
            <a:ext cx="431640" cy="90792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6516720" y="3776760"/>
            <a:ext cx="360360" cy="90144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1979640" y="3762360"/>
            <a:ext cx="360360" cy="9000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3492360" y="3809880"/>
            <a:ext cx="360360" cy="9018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5003640" y="3809880"/>
            <a:ext cx="360360" cy="9018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Скругленный прямоугольник 1"/>
          <p:cNvSpPr/>
          <p:nvPr/>
        </p:nvSpPr>
        <p:spPr>
          <a:xfrm>
            <a:off x="6227640" y="1557360"/>
            <a:ext cx="2089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оявления неравенства в обществе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Скругленный прямоугольник 45"/>
          <p:cNvSpPr/>
          <p:nvPr/>
        </p:nvSpPr>
        <p:spPr>
          <a:xfrm>
            <a:off x="4500720" y="1557360"/>
            <a:ext cx="165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емледелие –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лавное заняти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Скругленный прямоугольник 47"/>
          <p:cNvSpPr/>
          <p:nvPr/>
        </p:nvSpPr>
        <p:spPr>
          <a:xfrm>
            <a:off x="2700360" y="1557360"/>
            <a:ext cx="17272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оявление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сударства более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5.000 л.н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Скругленный прямоугольник 48"/>
          <p:cNvSpPr/>
          <p:nvPr/>
        </p:nvSpPr>
        <p:spPr>
          <a:xfrm>
            <a:off x="900000" y="1557360"/>
            <a:ext cx="17272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ивилизация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Скругленный прямоугольник 49"/>
          <p:cNvSpPr/>
          <p:nvPr/>
        </p:nvSpPr>
        <p:spPr>
          <a:xfrm>
            <a:off x="6453360" y="4941720"/>
            <a:ext cx="20062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Не все в одинаковой мере пользовались результатами хозяйственных достижений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Скругленный прямоугольник 50"/>
          <p:cNvSpPr/>
          <p:nvPr/>
        </p:nvSpPr>
        <p:spPr>
          <a:xfrm>
            <a:off x="4643280" y="4941720"/>
            <a:ext cx="17290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очва даёт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ысокий урожай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Скругленный прямоугольник 51"/>
          <p:cNvSpPr/>
          <p:nvPr/>
        </p:nvSpPr>
        <p:spPr>
          <a:xfrm>
            <a:off x="2843280" y="4941720"/>
            <a:ext cx="1728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Успехи в хозяйственной деятельности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Скругленный прямоугольник 52"/>
          <p:cNvSpPr/>
          <p:nvPr/>
        </p:nvSpPr>
        <p:spPr>
          <a:xfrm>
            <a:off x="900000" y="4941720"/>
            <a:ext cx="1871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бъединения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людей связанных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бщей культурой,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языком, традициям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3" name="Блок-схема: сохраненные данные 4" descr=""/>
          <p:cNvPicPr/>
          <p:nvPr/>
        </p:nvPicPr>
        <p:blipFill>
          <a:blip r:embed="rId1"/>
          <a:stretch/>
        </p:blipFill>
        <p:spPr>
          <a:xfrm>
            <a:off x="-66600" y="2462040"/>
            <a:ext cx="1955880" cy="2603520"/>
          </a:xfrm>
          <a:prstGeom prst="rect">
            <a:avLst/>
          </a:prstGeom>
          <a:ln w="0">
            <a:noFill/>
          </a:ln>
        </p:spPr>
      </p:pic>
      <p:pic>
        <p:nvPicPr>
          <p:cNvPr id="134" name="Блок-схема: данные 5" descr=""/>
          <p:cNvPicPr/>
          <p:nvPr/>
        </p:nvPicPr>
        <p:blipFill>
          <a:blip r:embed="rId2"/>
          <a:stretch/>
        </p:blipFill>
        <p:spPr>
          <a:xfrm>
            <a:off x="6931080" y="865080"/>
            <a:ext cx="219384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entury Schoolbook"/>
              </a:rPr>
              <a:t>Переход от первобытности к циви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4"/>
          <p:cNvGrpSpPr/>
          <p:nvPr/>
        </p:nvGrpSpPr>
        <p:grpSpPr>
          <a:xfrm>
            <a:off x="189000" y="1878120"/>
            <a:ext cx="8686800" cy="3998880"/>
            <a:chOff x="189000" y="1878120"/>
            <a:chExt cx="8686800" cy="3998880"/>
          </a:xfrm>
        </p:grpSpPr>
        <p:pic>
          <p:nvPicPr>
            <p:cNvPr id="137" name="AutoShape 4" descr=""/>
            <p:cNvPicPr/>
            <p:nvPr/>
          </p:nvPicPr>
          <p:blipFill>
            <a:blip r:embed="rId1"/>
            <a:stretch/>
          </p:blipFill>
          <p:spPr>
            <a:xfrm>
              <a:off x="189000" y="1878120"/>
              <a:ext cx="868680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1360" y="2106720"/>
              <a:ext cx="8190000" cy="35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лавное условие перехода от первобытности к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Цивилизации – появление более 5.000 лет назад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осударства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ff114"/>
                  </a:solidFill>
                  <a:latin typeface="Arial"/>
                </a:rPr>
                <a:t>ГОСУДАРСТВО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 – политическая организация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бщества, распространяющая свою власть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на страну и населения с помощью особого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аппарата управления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104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ход от первобытности к цивилиз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99072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спомните, что называют эпохой первобытности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1219320" y="22096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Первобытност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это время до появления первых государств, больших городов, письменно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WordArt 28"/>
          <p:cNvSpPr txBox="1"/>
          <p:nvPr/>
        </p:nvSpPr>
        <p:spPr>
          <a:xfrm>
            <a:off x="609480" y="1523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500040" y="292896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ые государства появились более пяти тысяч лет назад. С появлением государств начинается переход от первобытности к цивилиза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44" name="Группа 10"/>
          <p:cNvGrpSpPr/>
          <p:nvPr/>
        </p:nvGrpSpPr>
        <p:grpSpPr>
          <a:xfrm>
            <a:off x="380880" y="4267080"/>
            <a:ext cx="8763120" cy="838440"/>
            <a:chOff x="380880" y="4267080"/>
            <a:chExt cx="8763120" cy="838440"/>
          </a:xfrm>
        </p:grpSpPr>
        <p:sp>
          <p:nvSpPr>
            <p:cNvPr id="145" name="Прямоугольник 8"/>
            <p:cNvSpPr/>
            <p:nvPr/>
          </p:nvSpPr>
          <p:spPr>
            <a:xfrm>
              <a:off x="838080" y="426708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entury Schoolbook"/>
                </a:rPr>
                <a:t>Что называют «цивилизацией»?</a:t>
              </a:r>
              <a:endParaRPr b="0" lang="en-US" sz="2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46" name="WordArt 28"/>
            <p:cNvSpPr txBox="1"/>
            <p:nvPr/>
          </p:nvSpPr>
          <p:spPr>
            <a:xfrm>
              <a:off x="380880" y="4343040"/>
              <a:ext cx="609480" cy="76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?</a:t>
              </a:r>
              <a:endPara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47" name="TextBox 11"/>
          <p:cNvSpPr/>
          <p:nvPr/>
        </p:nvSpPr>
        <p:spPr>
          <a:xfrm>
            <a:off x="609480" y="54864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Цивилиза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 объединение людей, связанных общей культурой, языком, традицией управл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9:39:00Z</dcterms:created>
  <dc:creator>Admin</dc:creator>
  <dc:description/>
  <dc:language>en-US</dc:language>
  <cp:lastModifiedBy>ТатьянА</cp:lastModifiedBy>
  <dcterms:modified xsi:type="dcterms:W3CDTF">2019-01-02T12:09:47Z</dcterms:modified>
  <cp:revision>65</cp:revision>
  <dc:subject/>
  <dc:title>Государство на берегах Нила. Древний Египет.</dc:title>
</cp:coreProperties>
</file>