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F68B-E7F6-480A-A4FD-FA975496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E4AE-CA4A-4EE5-B0E6-A0A5146E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A46C-B17E-4A6B-9D2A-DF46BF6C9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156B-BC7F-4066-AC5A-41A74C75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BA256-C851-4E9D-937F-FDED0BBA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44D1-8AF3-4900-80ED-D2DDCB13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1581-0915-4E56-A998-BA2C2F87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65914-DF09-4973-B17E-31221179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4188-BC9D-47C6-AD38-5C564F87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2AC2C-0E8C-4AA2-B0DE-0D01BBF84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822D-7912-46B0-8746-D788D04E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EEED-FEC9-419B-ACD9-E17CD2B9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FF9EB-E5B8-436E-8568-582719F7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E7E4-9807-4117-9E34-496DDB77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54B9-C7F9-4671-8738-ABD8709D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37CB-E855-4B24-86BF-CC6131544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E1AA-D846-42C6-BA37-32095D3F6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322C7-22A7-4659-A77B-6A4DB6C44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C622E-F3AC-492A-84CE-FD7398D7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2D2E6-40A3-4109-BBF3-3ADBCCB8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9BAB2-FFEB-4E7E-97E6-4A51A5BA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7714C-B18E-458A-B761-6A62CE90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0AED-A702-4974-BE16-35CC6D89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9FE01-6F98-4DD4-BF57-BB446567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F7C85-7903-4B92-9582-D9C638230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79EFD-02F8-470E-8A91-C1D1F8E10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7822A-C9AD-4281-A872-A489D7DCE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9D694-B29C-41DA-9663-3E752D7B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A2B73-F9CA-4AF7-9A21-A8AD5B45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87837-8FCD-41F8-87DA-E49C9D655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70312-2749-474A-83B4-805730DD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5E55E-2C53-4229-A7B5-AF65C6B3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E8088-FBFA-4CA9-AD3E-9C3D6B8E4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57B0-EE3F-4661-8C53-900A8991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49DF5-9613-45BC-8446-0DBF0490B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9A44C-1F55-4191-8B42-32E264A72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01472-188D-4DAE-ABCE-99CCFBE7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EFCE6-A6BD-4643-B8F4-C096CEBE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47118-32FC-46C5-8BD6-BDBB37BA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DB3F1-F5CA-4905-B548-7158008E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D137E-579D-437D-927E-C3898CF8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6F860-08EC-4A90-A89E-A30C330C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D421D5-0BC1-49D6-84E8-504FEB420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9A231-52D7-4A67-960A-EC1D45479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2BC1-522A-4A7D-B5AE-B9E2F371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DE4CF-62FF-4654-B835-4F935AEB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6BAD8-681F-4A49-BE9F-5E399BCE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F70E8-D48E-4DBD-AAE8-7856CAD4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3DBFF-4C2D-45D0-BFEC-5B4D9283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936D4-D429-4F3E-A073-F40A1F2E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BB041-F36E-4EBA-A45E-D082DD0E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DE2C3-443D-4C67-92D2-26E3F818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4E41F-C6D8-4A6D-9339-757545F2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6E101-98C1-416E-92BE-63EB6D9B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7B1FD-9A38-420A-859C-CC0C15483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B6AD-2854-4984-8365-1342D7581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25428-EC75-4034-AB20-8E0B0A40D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44BE-7061-4BA5-AB72-605A6964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5F7E-3795-4A27-863B-D6A33C3F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F35A-29C3-424A-8809-17F65C6C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4D72-9562-4C8C-A399-5DBF6C763F79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FE8B-31F5-4EE9-828B-791A88F45ABD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B5C4-8AE4-4EDF-A925-8196951825EA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A611-43B1-4190-8AB3-BA7976A1E5D7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6355-CEB2-4C58-A258-8A648EFA0E47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одзаголовок 4"/>
          <p:cNvSpPr/>
          <p:nvPr/>
        </p:nvSpPr>
        <p:spPr>
          <a:xfrm>
            <a:off x="1785960" y="5786280"/>
            <a:ext cx="6400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Учитель истории МАОУСОШ № 2 им. Ю.А. Гагар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муниципального образования Успенский рай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елых Валерия Никола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Rectangle 2" descr=""/>
          <p:cNvPicPr/>
          <p:nvPr/>
        </p:nvPicPr>
        <p:blipFill>
          <a:blip r:embed="rId1"/>
          <a:stretch/>
        </p:blipFill>
        <p:spPr>
          <a:xfrm>
            <a:off x="1066680" y="811080"/>
            <a:ext cx="672480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s://ds04.infourok.ru/uploads/ex/00ae/000a60ed-790f0ba0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Box 1"/>
          <p:cNvSpPr/>
          <p:nvPr/>
        </p:nvSpPr>
        <p:spPr>
          <a:xfrm>
            <a:off x="214200" y="642960"/>
            <a:ext cx="842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пределение века и г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3"/>
          <p:cNvSpPr/>
          <p:nvPr/>
        </p:nvSpPr>
        <p:spPr>
          <a:xfrm>
            <a:off x="357120" y="142884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467 г. Какой это век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4"/>
          <p:cNvSpPr/>
          <p:nvPr/>
        </p:nvSpPr>
        <p:spPr>
          <a:xfrm>
            <a:off x="214200" y="2286000"/>
            <a:ext cx="828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rebuchet MS"/>
              </a:rPr>
              <a:t>Правил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6"/>
          <p:cNvSpPr/>
          <p:nvPr/>
        </p:nvSpPr>
        <p:spPr>
          <a:xfrm>
            <a:off x="357120" y="3071880"/>
            <a:ext cx="8358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определить какой это век, нужно закрыть две последние циф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тается цифра – 14, значит прошло 14 полных веков, а идет 15-й, значит 1467 г. - это 15 ве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люс 8"/>
          <p:cNvSpPr/>
          <p:nvPr/>
        </p:nvSpPr>
        <p:spPr>
          <a:xfrm>
            <a:off x="3143160" y="5500800"/>
            <a:ext cx="1143000" cy="107136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9"/>
          <p:cNvSpPr/>
          <p:nvPr/>
        </p:nvSpPr>
        <p:spPr>
          <a:xfrm>
            <a:off x="4286160" y="5500800"/>
            <a:ext cx="285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9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1"/>
          <p:cNvSpPr/>
          <p:nvPr/>
        </p:nvSpPr>
        <p:spPr>
          <a:xfrm>
            <a:off x="721440" y="642960"/>
            <a:ext cx="53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42 г. Какой это век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2"/>
          <p:cNvSpPr/>
          <p:nvPr/>
        </p:nvSpPr>
        <p:spPr>
          <a:xfrm>
            <a:off x="6215040" y="71424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в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4"/>
          <p:cNvSpPr/>
          <p:nvPr/>
        </p:nvSpPr>
        <p:spPr>
          <a:xfrm>
            <a:off x="721440" y="1643040"/>
            <a:ext cx="53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870 г. Какой это век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5"/>
          <p:cNvSpPr/>
          <p:nvPr/>
        </p:nvSpPr>
        <p:spPr>
          <a:xfrm>
            <a:off x="6500880" y="164304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IX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6"/>
          <p:cNvSpPr/>
          <p:nvPr/>
        </p:nvSpPr>
        <p:spPr>
          <a:xfrm>
            <a:off x="665280" y="2571840"/>
            <a:ext cx="563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980 г. Какой это век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7"/>
          <p:cNvSpPr/>
          <p:nvPr/>
        </p:nvSpPr>
        <p:spPr>
          <a:xfrm>
            <a:off x="6572160" y="264312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9"/>
          <p:cNvSpPr/>
          <p:nvPr/>
        </p:nvSpPr>
        <p:spPr>
          <a:xfrm>
            <a:off x="649800" y="3571920"/>
            <a:ext cx="53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621 г. Какой это век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0"/>
          <p:cNvSpPr/>
          <p:nvPr/>
        </p:nvSpPr>
        <p:spPr>
          <a:xfrm>
            <a:off x="6429240" y="36432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11"/>
          <p:cNvSpPr/>
          <p:nvPr/>
        </p:nvSpPr>
        <p:spPr>
          <a:xfrm>
            <a:off x="649800" y="4643280"/>
            <a:ext cx="53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36 г. Какой это век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2"/>
          <p:cNvSpPr/>
          <p:nvPr/>
        </p:nvSpPr>
        <p:spPr>
          <a:xfrm>
            <a:off x="6286680" y="464328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13"/>
          <p:cNvSpPr/>
          <p:nvPr/>
        </p:nvSpPr>
        <p:spPr>
          <a:xfrm>
            <a:off x="665280" y="5572080"/>
            <a:ext cx="563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018 г. Какой это век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4"/>
          <p:cNvSpPr/>
          <p:nvPr/>
        </p:nvSpPr>
        <p:spPr>
          <a:xfrm>
            <a:off x="6643800" y="564372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XXI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Прямоугольник 1"/>
          <p:cNvSpPr/>
          <p:nvPr/>
        </p:nvSpPr>
        <p:spPr>
          <a:xfrm>
            <a:off x="792000" y="642960"/>
            <a:ext cx="604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6 век. Какой это год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500040" y="1571760"/>
            <a:ext cx="7858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XVI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век – 1 = 15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XXI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век – 1 = 20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век -1 = 2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4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4"/>
          <p:cNvSpPr/>
          <p:nvPr/>
        </p:nvSpPr>
        <p:spPr>
          <a:xfrm>
            <a:off x="4429080" y="4500720"/>
            <a:ext cx="285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инус 5"/>
          <p:cNvSpPr/>
          <p:nvPr/>
        </p:nvSpPr>
        <p:spPr>
          <a:xfrm>
            <a:off x="2500200" y="4500720"/>
            <a:ext cx="1643040" cy="100008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Rectangle 2" descr=""/>
          <p:cNvPicPr/>
          <p:nvPr/>
        </p:nvPicPr>
        <p:blipFill>
          <a:blip r:embed="rId1"/>
          <a:stretch/>
        </p:blipFill>
        <p:spPr>
          <a:xfrm>
            <a:off x="3919680" y="1122480"/>
            <a:ext cx="5297400" cy="23097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7" descr="5"/>
          <p:cNvPicPr/>
          <p:nvPr/>
        </p:nvPicPr>
        <p:blipFill>
          <a:blip r:embed="rId2"/>
          <a:stretch/>
        </p:blipFill>
        <p:spPr>
          <a:xfrm>
            <a:off x="-324000" y="0"/>
            <a:ext cx="44802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Подзаголовок 4"/>
          <p:cNvSpPr/>
          <p:nvPr/>
        </p:nvSpPr>
        <p:spPr>
          <a:xfrm>
            <a:off x="2743200" y="5857920"/>
            <a:ext cx="6400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Учитель истории МАОУСОШ № 2 им. Ю.А. Гагар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муниципального образования Успенский рай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елых Валерия Никола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Rectangle 2" descr=""/>
          <p:cNvPicPr/>
          <p:nvPr/>
        </p:nvPicPr>
        <p:blipFill>
          <a:blip r:embed="rId1"/>
          <a:stretch/>
        </p:blipFill>
        <p:spPr>
          <a:xfrm>
            <a:off x="255600" y="-171360"/>
            <a:ext cx="8474040" cy="1158840"/>
          </a:xfrm>
          <a:prstGeom prst="rect">
            <a:avLst/>
          </a:prstGeom>
          <a:ln w="0">
            <a:noFill/>
          </a:ln>
        </p:spPr>
      </p:pic>
      <p:grpSp>
        <p:nvGrpSpPr>
          <p:cNvPr id="324" name="AutoShape 4"/>
          <p:cNvGrpSpPr/>
          <p:nvPr/>
        </p:nvGrpSpPr>
        <p:grpSpPr>
          <a:xfrm>
            <a:off x="517680" y="1060560"/>
            <a:ext cx="7920000" cy="1414440"/>
            <a:chOff x="517680" y="1060560"/>
            <a:chExt cx="7920000" cy="1414440"/>
          </a:xfrm>
        </p:grpSpPr>
        <p:pic>
          <p:nvPicPr>
            <p:cNvPr id="325" name="AutoShape 4" descr=""/>
            <p:cNvPicPr/>
            <p:nvPr/>
          </p:nvPicPr>
          <p:blipFill>
            <a:blip r:embed="rId2"/>
            <a:stretch/>
          </p:blipFill>
          <p:spPr>
            <a:xfrm>
              <a:off x="517680" y="1060560"/>
              <a:ext cx="792000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638280" y="1155600"/>
              <a:ext cx="768672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Trebuchet MS"/>
                </a:rPr>
                <a:t>Что такое хронология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AutoShape 11"/>
          <p:cNvGrpSpPr/>
          <p:nvPr/>
        </p:nvGrpSpPr>
        <p:grpSpPr>
          <a:xfrm>
            <a:off x="281160" y="3090960"/>
            <a:ext cx="8393040" cy="2809800"/>
            <a:chOff x="281160" y="3090960"/>
            <a:chExt cx="8393040" cy="2809800"/>
          </a:xfrm>
        </p:grpSpPr>
        <p:pic>
          <p:nvPicPr>
            <p:cNvPr id="328" name="AutoShape 11" descr=""/>
            <p:cNvPicPr/>
            <p:nvPr/>
          </p:nvPicPr>
          <p:blipFill>
            <a:blip r:embed="rId3"/>
            <a:stretch/>
          </p:blipFill>
          <p:spPr>
            <a:xfrm>
              <a:off x="281160" y="3090960"/>
              <a:ext cx="8393040" cy="28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684360" y="3467160"/>
              <a:ext cx="7594560" cy="20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e36406"/>
                  </a:solidFill>
                  <a:latin typeface="Trebuchet MS"/>
                </a:rPr>
                <a:t>Хронология – наука о време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AutoShape 4"/>
          <p:cNvGrpSpPr/>
          <p:nvPr/>
        </p:nvGrpSpPr>
        <p:grpSpPr>
          <a:xfrm>
            <a:off x="517680" y="974880"/>
            <a:ext cx="8278560" cy="1407960"/>
            <a:chOff x="517680" y="974880"/>
            <a:chExt cx="8278560" cy="1407960"/>
          </a:xfrm>
        </p:grpSpPr>
        <p:pic>
          <p:nvPicPr>
            <p:cNvPr id="331" name="AutoShape 4" descr=""/>
            <p:cNvPicPr/>
            <p:nvPr/>
          </p:nvPicPr>
          <p:blipFill>
            <a:blip r:embed="rId4"/>
            <a:stretch/>
          </p:blipFill>
          <p:spPr>
            <a:xfrm>
              <a:off x="517680" y="974880"/>
              <a:ext cx="827856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638280" y="1069920"/>
              <a:ext cx="804708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Trebuchet MS"/>
                </a:rPr>
                <a:t>Какое летоисчисление было у римлян и египтян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AutoShape 11"/>
          <p:cNvGrpSpPr/>
          <p:nvPr/>
        </p:nvGrpSpPr>
        <p:grpSpPr>
          <a:xfrm>
            <a:off x="-42840" y="3090960"/>
            <a:ext cx="9296280" cy="2809800"/>
            <a:chOff x="-42840" y="3090960"/>
            <a:chExt cx="9296280" cy="2809800"/>
          </a:xfrm>
        </p:grpSpPr>
        <p:pic>
          <p:nvPicPr>
            <p:cNvPr id="334" name="AutoShape 11" descr=""/>
            <p:cNvPicPr/>
            <p:nvPr/>
          </p:nvPicPr>
          <p:blipFill>
            <a:blip r:embed="rId5"/>
            <a:stretch/>
          </p:blipFill>
          <p:spPr>
            <a:xfrm>
              <a:off x="-42840" y="3090960"/>
              <a:ext cx="9296280" cy="28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60360" y="3465360"/>
              <a:ext cx="8494560" cy="20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0000"/>
                  </a:solidFill>
                  <a:latin typeface="Trebuchet MS"/>
                </a:rPr>
                <a:t>Древние римляне вели отсчёт от основания Рим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0000"/>
                  </a:solidFill>
                  <a:latin typeface="Trebuchet MS"/>
                </a:rPr>
                <a:t>в 753 г. до н.э. Древние египтяне, начинали отсчё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0000"/>
                  </a:solidFill>
                  <a:latin typeface="Trebuchet MS"/>
                </a:rPr>
                <a:t>лет заново каждый раз с правлением нового фарао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AutoShape 4"/>
          <p:cNvGrpSpPr/>
          <p:nvPr/>
        </p:nvGrpSpPr>
        <p:grpSpPr>
          <a:xfrm>
            <a:off x="517680" y="1060560"/>
            <a:ext cx="8278560" cy="1414440"/>
            <a:chOff x="517680" y="1060560"/>
            <a:chExt cx="8278560" cy="1414440"/>
          </a:xfrm>
        </p:grpSpPr>
        <p:pic>
          <p:nvPicPr>
            <p:cNvPr id="337" name="AutoShape 4" descr=""/>
            <p:cNvPicPr/>
            <p:nvPr/>
          </p:nvPicPr>
          <p:blipFill>
            <a:blip r:embed="rId6"/>
            <a:stretch/>
          </p:blipFill>
          <p:spPr>
            <a:xfrm>
              <a:off x="517680" y="1060560"/>
              <a:ext cx="827856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638280" y="1155600"/>
              <a:ext cx="804708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rebuchet MS"/>
                </a:rPr>
                <a:t>Расшифруйте значение словосочет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rebuchet MS"/>
                </a:rPr>
                <a:t>«наша эра», «до нашей эры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AutoShape 11"/>
          <p:cNvGrpSpPr/>
          <p:nvPr/>
        </p:nvGrpSpPr>
        <p:grpSpPr>
          <a:xfrm>
            <a:off x="-79200" y="3090960"/>
            <a:ext cx="9289800" cy="2809800"/>
            <a:chOff x="-79200" y="3090960"/>
            <a:chExt cx="9289800" cy="2809800"/>
          </a:xfrm>
        </p:grpSpPr>
        <p:pic>
          <p:nvPicPr>
            <p:cNvPr id="340" name="AutoShape 11" descr=""/>
            <p:cNvPicPr/>
            <p:nvPr/>
          </p:nvPicPr>
          <p:blipFill>
            <a:blip r:embed="rId7"/>
            <a:stretch/>
          </p:blipFill>
          <p:spPr>
            <a:xfrm>
              <a:off x="-79200" y="3090960"/>
              <a:ext cx="9289800" cy="28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324000" y="3467160"/>
              <a:ext cx="8494560" cy="20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0000"/>
                  </a:solidFill>
                  <a:latin typeface="Trebuchet MS"/>
                </a:rPr>
                <a:t>Время от рождения Христа до наших дней – наша эр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0000"/>
                  </a:solidFill>
                  <a:latin typeface="Trebuchet MS"/>
                </a:rPr>
                <a:t>Время до рождения Христа – до нашей э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2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7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1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5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s://fs00.infourok.ru/images/doc/159/183387/img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214200" y="714240"/>
            <a:ext cx="842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rebuchet MS"/>
              </a:rPr>
              <a:t>Прави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"/>
          <p:cNvSpPr/>
          <p:nvPr/>
        </p:nvSpPr>
        <p:spPr>
          <a:xfrm>
            <a:off x="285840" y="1428840"/>
            <a:ext cx="8286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Если в задачи одинаковые эры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н.э и н.э / до н.э и до н.э) то мы при решении задачи ставим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знак «-»,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.е действие отнима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ример: 35 н.э – 32 н.э =3 н.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214200" y="4143240"/>
            <a:ext cx="8286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Если в задачи разные эры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н.э и до н.э), то мы при решении задачи ставим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знак «+»,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.е действие суммиру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мер: 32 до н.э и 35 н.э = 67 лет н.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43200" y="500040"/>
            <a:ext cx="50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4.Решим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"/>
          <p:cNvSpPr/>
          <p:nvPr/>
        </p:nvSpPr>
        <p:spPr>
          <a:xfrm>
            <a:off x="214200" y="171468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1.Какой год был раньше и на сколько был раньше: 33 г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до н.э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или 33 г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н.э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Прямая со стрелкой 4"/>
          <p:cNvCxnSpPr/>
          <p:nvPr/>
        </p:nvCxnSpPr>
        <p:spPr>
          <a:xfrm>
            <a:off x="714240" y="3785760"/>
            <a:ext cx="678744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9" name="Прямая соединительная линия 8"/>
          <p:cNvSpPr/>
          <p:nvPr/>
        </p:nvSpPr>
        <p:spPr>
          <a:xfrm flipH="1">
            <a:off x="4141800" y="3645000"/>
            <a:ext cx="1440" cy="285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9"/>
          <p:cNvSpPr/>
          <p:nvPr/>
        </p:nvSpPr>
        <p:spPr>
          <a:xfrm flipH="1">
            <a:off x="2286000" y="3643200"/>
            <a:ext cx="144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10"/>
          <p:cNvSpPr/>
          <p:nvPr/>
        </p:nvSpPr>
        <p:spPr>
          <a:xfrm flipH="1">
            <a:off x="6215040" y="3643200"/>
            <a:ext cx="144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1"/>
          <p:cNvSpPr/>
          <p:nvPr/>
        </p:nvSpPr>
        <p:spPr>
          <a:xfrm>
            <a:off x="1643040" y="400068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до н.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3"/>
          <p:cNvSpPr/>
          <p:nvPr/>
        </p:nvSpPr>
        <p:spPr>
          <a:xfrm>
            <a:off x="5715000" y="400068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.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Выгнутая вверх стрелка 15"/>
          <p:cNvSpPr/>
          <p:nvPr/>
        </p:nvSpPr>
        <p:spPr>
          <a:xfrm>
            <a:off x="2214720" y="2928960"/>
            <a:ext cx="4143240" cy="785880"/>
          </a:xfrm>
          <a:custGeom>
            <a:avLst/>
            <a:gdLst>
              <a:gd name="textAreaLeft" fmla="*/ 961920 w 4143240"/>
              <a:gd name="textAreaRight" fmla="*/ 3083040 w 4143240"/>
              <a:gd name="textAreaTop" fmla="*/ 105120 h 785880"/>
              <a:gd name="textAreaBottom" fmla="*/ 680760 h 785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32" hR="21600" stAng="10800000" swAng="5400000"/>
                <a:lnTo>
                  <a:pt x="11056" y="0"/>
                </a:lnTo>
                <a:arcTo wR="10032" hR="21600" stAng="-5400000" swAng="3655739"/>
                <a:lnTo>
                  <a:pt x="21281" y="16200"/>
                </a:lnTo>
                <a:lnTo>
                  <a:pt x="20576" y="21600"/>
                </a:lnTo>
                <a:lnTo>
                  <a:pt x="19233" y="16200"/>
                </a:lnTo>
                <a:lnTo>
                  <a:pt x="19745" y="16200"/>
                </a:lnTo>
                <a:arcTo wR="10032" hR="21600" stAng="-1744261" swAng="-3574160"/>
                <a:lnTo>
                  <a:pt x="10544" y="28"/>
                </a:lnTo>
                <a:arcTo wR="10032" hR="21600" stAng="-5481578" swAng="-5318422"/>
                <a:close/>
              </a:path>
              <a:path fill="darkenLess" w="21600" h="21600">
                <a:moveTo>
                  <a:pt x="0" y="21600"/>
                </a:moveTo>
                <a:arcTo wR="10032" hR="21600" stAng="10800000" swAng="5400000"/>
                <a:lnTo>
                  <a:pt x="10032" y="0"/>
                </a:lnTo>
                <a:arcTo wR="10032" hR="21600" stAng="-5400000" swAng="81578"/>
                <a:lnTo>
                  <a:pt x="10544" y="28"/>
                </a:lnTo>
                <a:arcTo wR="10032" hR="21600" stAng="-5481578" swAng="-5318422"/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люс 16"/>
          <p:cNvSpPr/>
          <p:nvPr/>
        </p:nvSpPr>
        <p:spPr>
          <a:xfrm>
            <a:off x="3929040" y="3071880"/>
            <a:ext cx="571680" cy="57132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7"/>
          <p:cNvSpPr/>
          <p:nvPr/>
        </p:nvSpPr>
        <p:spPr>
          <a:xfrm>
            <a:off x="1643040" y="314316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6215040" y="321480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285840" y="4857840"/>
            <a:ext cx="778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ешение: 33 до н.э + 33 н.э = 66 л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твет 33 г до н.э был раньше на 66 л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43200" y="500040"/>
            <a:ext cx="50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4.Решим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"/>
          <p:cNvSpPr/>
          <p:nvPr/>
        </p:nvSpPr>
        <p:spPr>
          <a:xfrm>
            <a:off x="214200" y="128592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Какой год раньше и на сколько раньше: 33 г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до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.э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или 14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до н.э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Прямая со стрелкой 4"/>
          <p:cNvCxnSpPr/>
          <p:nvPr/>
        </p:nvCxnSpPr>
        <p:spPr>
          <a:xfrm>
            <a:off x="714240" y="3785760"/>
            <a:ext cx="678744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2" name="Прямая соединительная линия 9"/>
          <p:cNvSpPr/>
          <p:nvPr/>
        </p:nvSpPr>
        <p:spPr>
          <a:xfrm flipH="1">
            <a:off x="2286000" y="3643200"/>
            <a:ext cx="144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ая соединительная линия 10"/>
          <p:cNvSpPr/>
          <p:nvPr/>
        </p:nvSpPr>
        <p:spPr>
          <a:xfrm flipH="1">
            <a:off x="6215040" y="3643200"/>
            <a:ext cx="144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1"/>
          <p:cNvSpPr/>
          <p:nvPr/>
        </p:nvSpPr>
        <p:spPr>
          <a:xfrm>
            <a:off x="1643040" y="400068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до н.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3"/>
          <p:cNvSpPr/>
          <p:nvPr/>
        </p:nvSpPr>
        <p:spPr>
          <a:xfrm>
            <a:off x="5715000" y="400068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до н.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Выгнутая вверх стрелка 15"/>
          <p:cNvSpPr/>
          <p:nvPr/>
        </p:nvSpPr>
        <p:spPr>
          <a:xfrm>
            <a:off x="2214720" y="2928960"/>
            <a:ext cx="4143240" cy="785880"/>
          </a:xfrm>
          <a:custGeom>
            <a:avLst/>
            <a:gdLst>
              <a:gd name="textAreaLeft" fmla="*/ 961920 w 4143240"/>
              <a:gd name="textAreaRight" fmla="*/ 3083040 w 4143240"/>
              <a:gd name="textAreaTop" fmla="*/ 105120 h 785880"/>
              <a:gd name="textAreaBottom" fmla="*/ 680760 h 785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32" hR="21600" stAng="10800000" swAng="5400000"/>
                <a:lnTo>
                  <a:pt x="11056" y="0"/>
                </a:lnTo>
                <a:arcTo wR="10032" hR="21600" stAng="-5400000" swAng="3655739"/>
                <a:lnTo>
                  <a:pt x="21281" y="16200"/>
                </a:lnTo>
                <a:lnTo>
                  <a:pt x="20576" y="21600"/>
                </a:lnTo>
                <a:lnTo>
                  <a:pt x="19233" y="16200"/>
                </a:lnTo>
                <a:lnTo>
                  <a:pt x="19745" y="16200"/>
                </a:lnTo>
                <a:arcTo wR="10032" hR="21600" stAng="-1744261" swAng="-3574160"/>
                <a:lnTo>
                  <a:pt x="10544" y="28"/>
                </a:lnTo>
                <a:arcTo wR="10032" hR="21600" stAng="-5481578" swAng="-5318422"/>
                <a:close/>
              </a:path>
              <a:path fill="darkenLess" w="21600" h="21600">
                <a:moveTo>
                  <a:pt x="0" y="21600"/>
                </a:moveTo>
                <a:arcTo wR="10032" hR="21600" stAng="10800000" swAng="5400000"/>
                <a:lnTo>
                  <a:pt x="10032" y="0"/>
                </a:lnTo>
                <a:arcTo wR="10032" hR="21600" stAng="-5400000" swAng="81578"/>
                <a:lnTo>
                  <a:pt x="10544" y="28"/>
                </a:lnTo>
                <a:arcTo wR="10032" hR="21600" stAng="-5481578" swAng="-5318422"/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7"/>
          <p:cNvSpPr/>
          <p:nvPr/>
        </p:nvSpPr>
        <p:spPr>
          <a:xfrm>
            <a:off x="1643040" y="314316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8"/>
          <p:cNvSpPr/>
          <p:nvPr/>
        </p:nvSpPr>
        <p:spPr>
          <a:xfrm>
            <a:off x="6215040" y="321480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9"/>
          <p:cNvSpPr/>
          <p:nvPr/>
        </p:nvSpPr>
        <p:spPr>
          <a:xfrm>
            <a:off x="285840" y="4857840"/>
            <a:ext cx="778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ешение: 33 до н.э - 14 н.э = 19 л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твет 33 г до н.э был раньше на 19 л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инус 14"/>
          <p:cNvSpPr/>
          <p:nvPr/>
        </p:nvSpPr>
        <p:spPr>
          <a:xfrm>
            <a:off x="3714840" y="3071880"/>
            <a:ext cx="714240" cy="5000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1"/>
          <p:cNvSpPr/>
          <p:nvPr/>
        </p:nvSpPr>
        <p:spPr>
          <a:xfrm>
            <a:off x="43200" y="500040"/>
            <a:ext cx="50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4.Решим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"/>
          <p:cNvSpPr/>
          <p:nvPr/>
        </p:nvSpPr>
        <p:spPr>
          <a:xfrm>
            <a:off x="214200" y="128592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Сколько лет тому назад произошла Марафонская битва (490 г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до н.э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Прямая со стрелкой 4"/>
          <p:cNvCxnSpPr/>
          <p:nvPr/>
        </p:nvCxnSpPr>
        <p:spPr>
          <a:xfrm>
            <a:off x="714240" y="3785760"/>
            <a:ext cx="678744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4" name="Прямая соединительная линия 9"/>
          <p:cNvSpPr/>
          <p:nvPr/>
        </p:nvSpPr>
        <p:spPr>
          <a:xfrm flipH="1">
            <a:off x="2286000" y="3643200"/>
            <a:ext cx="144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10"/>
          <p:cNvSpPr/>
          <p:nvPr/>
        </p:nvSpPr>
        <p:spPr>
          <a:xfrm flipH="1">
            <a:off x="6215040" y="3643200"/>
            <a:ext cx="144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1"/>
          <p:cNvSpPr/>
          <p:nvPr/>
        </p:nvSpPr>
        <p:spPr>
          <a:xfrm>
            <a:off x="1643040" y="400068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до н.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3"/>
          <p:cNvSpPr/>
          <p:nvPr/>
        </p:nvSpPr>
        <p:spPr>
          <a:xfrm>
            <a:off x="6143760" y="392904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.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Выгнутая вверх стрелка 15"/>
          <p:cNvSpPr/>
          <p:nvPr/>
        </p:nvSpPr>
        <p:spPr>
          <a:xfrm>
            <a:off x="2214720" y="2928960"/>
            <a:ext cx="4143240" cy="785880"/>
          </a:xfrm>
          <a:custGeom>
            <a:avLst/>
            <a:gdLst>
              <a:gd name="textAreaLeft" fmla="*/ 961920 w 4143240"/>
              <a:gd name="textAreaRight" fmla="*/ 3083040 w 4143240"/>
              <a:gd name="textAreaTop" fmla="*/ 105120 h 785880"/>
              <a:gd name="textAreaBottom" fmla="*/ 680760 h 785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32" hR="21600" stAng="10800000" swAng="5400000"/>
                <a:lnTo>
                  <a:pt x="11056" y="0"/>
                </a:lnTo>
                <a:arcTo wR="10032" hR="21600" stAng="-5400000" swAng="3655739"/>
                <a:lnTo>
                  <a:pt x="21281" y="16200"/>
                </a:lnTo>
                <a:lnTo>
                  <a:pt x="20576" y="21600"/>
                </a:lnTo>
                <a:lnTo>
                  <a:pt x="19233" y="16200"/>
                </a:lnTo>
                <a:lnTo>
                  <a:pt x="19745" y="16200"/>
                </a:lnTo>
                <a:arcTo wR="10032" hR="21600" stAng="-1744261" swAng="-3574160"/>
                <a:lnTo>
                  <a:pt x="10544" y="28"/>
                </a:lnTo>
                <a:arcTo wR="10032" hR="21600" stAng="-5481578" swAng="-5318422"/>
                <a:close/>
              </a:path>
              <a:path fill="darkenLess" w="21600" h="21600">
                <a:moveTo>
                  <a:pt x="0" y="21600"/>
                </a:moveTo>
                <a:arcTo wR="10032" hR="21600" stAng="10800000" swAng="5400000"/>
                <a:lnTo>
                  <a:pt x="10032" y="0"/>
                </a:lnTo>
                <a:arcTo wR="10032" hR="21600" stAng="-5400000" swAng="81578"/>
                <a:lnTo>
                  <a:pt x="10544" y="28"/>
                </a:lnTo>
                <a:arcTo wR="10032" hR="21600" stAng="-5481578" swAng="-5318422"/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7"/>
          <p:cNvSpPr/>
          <p:nvPr/>
        </p:nvSpPr>
        <p:spPr>
          <a:xfrm>
            <a:off x="1143000" y="314316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4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8"/>
          <p:cNvSpPr/>
          <p:nvPr/>
        </p:nvSpPr>
        <p:spPr>
          <a:xfrm>
            <a:off x="6215040" y="321480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201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9"/>
          <p:cNvSpPr/>
          <p:nvPr/>
        </p:nvSpPr>
        <p:spPr>
          <a:xfrm>
            <a:off x="285840" y="4857840"/>
            <a:ext cx="778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ешение: 490 до н.э + 2018  н.э = 2508 л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твет: 2508 лет назад произошла Марафонская би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люс 16"/>
          <p:cNvSpPr/>
          <p:nvPr/>
        </p:nvSpPr>
        <p:spPr>
          <a:xfrm>
            <a:off x="3857760" y="3071880"/>
            <a:ext cx="571320" cy="57132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ая соединительная линия 20"/>
          <p:cNvSpPr/>
          <p:nvPr/>
        </p:nvSpPr>
        <p:spPr>
          <a:xfrm flipH="1">
            <a:off x="4141800" y="3645000"/>
            <a:ext cx="1440" cy="285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3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1"/>
          <p:cNvSpPr/>
          <p:nvPr/>
        </p:nvSpPr>
        <p:spPr>
          <a:xfrm>
            <a:off x="43200" y="500040"/>
            <a:ext cx="50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4.Решим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"/>
          <p:cNvSpPr/>
          <p:nvPr/>
        </p:nvSpPr>
        <p:spPr>
          <a:xfrm>
            <a:off x="214200" y="128592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.Сколько лет тому назад закончилась Северная война (1721 г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.э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6" name="Прямая со стрелкой 4"/>
          <p:cNvCxnSpPr/>
          <p:nvPr/>
        </p:nvCxnSpPr>
        <p:spPr>
          <a:xfrm>
            <a:off x="714240" y="3785760"/>
            <a:ext cx="678744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7" name="Прямая соединительная линия 9"/>
          <p:cNvSpPr/>
          <p:nvPr/>
        </p:nvSpPr>
        <p:spPr>
          <a:xfrm flipH="1">
            <a:off x="2286000" y="3643200"/>
            <a:ext cx="144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10"/>
          <p:cNvSpPr/>
          <p:nvPr/>
        </p:nvSpPr>
        <p:spPr>
          <a:xfrm flipH="1">
            <a:off x="6215040" y="3643200"/>
            <a:ext cx="144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1"/>
          <p:cNvSpPr/>
          <p:nvPr/>
        </p:nvSpPr>
        <p:spPr>
          <a:xfrm>
            <a:off x="1928880" y="392904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.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3"/>
          <p:cNvSpPr/>
          <p:nvPr/>
        </p:nvSpPr>
        <p:spPr>
          <a:xfrm>
            <a:off x="6143760" y="392904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.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Выгнутая вверх стрелка 15"/>
          <p:cNvSpPr/>
          <p:nvPr/>
        </p:nvSpPr>
        <p:spPr>
          <a:xfrm>
            <a:off x="2214720" y="2928960"/>
            <a:ext cx="4143240" cy="785880"/>
          </a:xfrm>
          <a:custGeom>
            <a:avLst/>
            <a:gdLst>
              <a:gd name="textAreaLeft" fmla="*/ 961920 w 4143240"/>
              <a:gd name="textAreaRight" fmla="*/ 3083040 w 4143240"/>
              <a:gd name="textAreaTop" fmla="*/ 105120 h 785880"/>
              <a:gd name="textAreaBottom" fmla="*/ 680760 h 785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32" hR="21600" stAng="10800000" swAng="5400000"/>
                <a:lnTo>
                  <a:pt x="11056" y="0"/>
                </a:lnTo>
                <a:arcTo wR="10032" hR="21600" stAng="-5400000" swAng="3655739"/>
                <a:lnTo>
                  <a:pt x="21281" y="16200"/>
                </a:lnTo>
                <a:lnTo>
                  <a:pt x="20576" y="21600"/>
                </a:lnTo>
                <a:lnTo>
                  <a:pt x="19233" y="16200"/>
                </a:lnTo>
                <a:lnTo>
                  <a:pt x="19745" y="16200"/>
                </a:lnTo>
                <a:arcTo wR="10032" hR="21600" stAng="-1744261" swAng="-3574160"/>
                <a:lnTo>
                  <a:pt x="10544" y="28"/>
                </a:lnTo>
                <a:arcTo wR="10032" hR="21600" stAng="-5481578" swAng="-5318422"/>
                <a:close/>
              </a:path>
              <a:path fill="darkenLess" w="21600" h="21600">
                <a:moveTo>
                  <a:pt x="0" y="21600"/>
                </a:moveTo>
                <a:arcTo wR="10032" hR="21600" stAng="10800000" swAng="5400000"/>
                <a:lnTo>
                  <a:pt x="10032" y="0"/>
                </a:lnTo>
                <a:arcTo wR="10032" hR="21600" stAng="-5400000" swAng="81578"/>
                <a:lnTo>
                  <a:pt x="10544" y="28"/>
                </a:lnTo>
                <a:arcTo wR="10032" hR="21600" stAng="-5481578" swAng="-5318422"/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7"/>
          <p:cNvSpPr/>
          <p:nvPr/>
        </p:nvSpPr>
        <p:spPr>
          <a:xfrm>
            <a:off x="1143000" y="314316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7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8"/>
          <p:cNvSpPr/>
          <p:nvPr/>
        </p:nvSpPr>
        <p:spPr>
          <a:xfrm>
            <a:off x="6215040" y="321480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201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9"/>
          <p:cNvSpPr/>
          <p:nvPr/>
        </p:nvSpPr>
        <p:spPr>
          <a:xfrm>
            <a:off x="285840" y="4857840"/>
            <a:ext cx="778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ешение: 2018 н.э – 1721 н.э = 297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твет: 297 лет назад произошла Северная вой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инус 21"/>
          <p:cNvSpPr/>
          <p:nvPr/>
        </p:nvSpPr>
        <p:spPr>
          <a:xfrm>
            <a:off x="3714840" y="3071880"/>
            <a:ext cx="714240" cy="5000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9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оугольник 1"/>
          <p:cNvSpPr/>
          <p:nvPr/>
        </p:nvSpPr>
        <p:spPr>
          <a:xfrm>
            <a:off x="43200" y="500040"/>
            <a:ext cx="50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4.Решим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"/>
          <p:cNvSpPr/>
          <p:nvPr/>
        </p:nvSpPr>
        <p:spPr>
          <a:xfrm>
            <a:off x="214200" y="1285920"/>
            <a:ext cx="864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.Какое событие было раньше и на сколько: Куликовская битва (1380 г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.э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) или основание Санкт-Петербурга (1703 г. н.э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Прямая со стрелкой 4"/>
          <p:cNvCxnSpPr/>
          <p:nvPr/>
        </p:nvCxnSpPr>
        <p:spPr>
          <a:xfrm>
            <a:off x="714240" y="3785760"/>
            <a:ext cx="678744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9" name="Прямая соединительная линия 9"/>
          <p:cNvSpPr/>
          <p:nvPr/>
        </p:nvSpPr>
        <p:spPr>
          <a:xfrm flipH="1">
            <a:off x="2286000" y="3643200"/>
            <a:ext cx="144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ая соединительная линия 10"/>
          <p:cNvSpPr/>
          <p:nvPr/>
        </p:nvSpPr>
        <p:spPr>
          <a:xfrm flipH="1">
            <a:off x="6215040" y="3643200"/>
            <a:ext cx="144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1"/>
          <p:cNvSpPr/>
          <p:nvPr/>
        </p:nvSpPr>
        <p:spPr>
          <a:xfrm>
            <a:off x="1928880" y="392904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.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3"/>
          <p:cNvSpPr/>
          <p:nvPr/>
        </p:nvSpPr>
        <p:spPr>
          <a:xfrm>
            <a:off x="6143760" y="392904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.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Выгнутая вверх стрелка 15"/>
          <p:cNvSpPr/>
          <p:nvPr/>
        </p:nvSpPr>
        <p:spPr>
          <a:xfrm>
            <a:off x="2214720" y="2928960"/>
            <a:ext cx="4143240" cy="785880"/>
          </a:xfrm>
          <a:custGeom>
            <a:avLst/>
            <a:gdLst>
              <a:gd name="textAreaLeft" fmla="*/ 961920 w 4143240"/>
              <a:gd name="textAreaRight" fmla="*/ 3083040 w 4143240"/>
              <a:gd name="textAreaTop" fmla="*/ 105120 h 785880"/>
              <a:gd name="textAreaBottom" fmla="*/ 680760 h 785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32" hR="21600" stAng="10800000" swAng="5400000"/>
                <a:lnTo>
                  <a:pt x="11056" y="0"/>
                </a:lnTo>
                <a:arcTo wR="10032" hR="21600" stAng="-5400000" swAng="3655739"/>
                <a:lnTo>
                  <a:pt x="21281" y="16200"/>
                </a:lnTo>
                <a:lnTo>
                  <a:pt x="20576" y="21600"/>
                </a:lnTo>
                <a:lnTo>
                  <a:pt x="19233" y="16200"/>
                </a:lnTo>
                <a:lnTo>
                  <a:pt x="19745" y="16200"/>
                </a:lnTo>
                <a:arcTo wR="10032" hR="21600" stAng="-1744261" swAng="-3574160"/>
                <a:lnTo>
                  <a:pt x="10544" y="28"/>
                </a:lnTo>
                <a:arcTo wR="10032" hR="21600" stAng="-5481578" swAng="-5318422"/>
                <a:close/>
              </a:path>
              <a:path fill="darkenLess" w="21600" h="21600">
                <a:moveTo>
                  <a:pt x="0" y="21600"/>
                </a:moveTo>
                <a:arcTo wR="10032" hR="21600" stAng="10800000" swAng="5400000"/>
                <a:lnTo>
                  <a:pt x="10032" y="0"/>
                </a:lnTo>
                <a:arcTo wR="10032" hR="21600" stAng="-5400000" swAng="81578"/>
                <a:lnTo>
                  <a:pt x="10544" y="28"/>
                </a:lnTo>
                <a:arcTo wR="10032" hR="21600" stAng="-5481578" swAng="-5318422"/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7"/>
          <p:cNvSpPr/>
          <p:nvPr/>
        </p:nvSpPr>
        <p:spPr>
          <a:xfrm>
            <a:off x="1143000" y="314316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3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8"/>
          <p:cNvSpPr/>
          <p:nvPr/>
        </p:nvSpPr>
        <p:spPr>
          <a:xfrm>
            <a:off x="6215040" y="321480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703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9"/>
          <p:cNvSpPr/>
          <p:nvPr/>
        </p:nvSpPr>
        <p:spPr>
          <a:xfrm>
            <a:off x="285840" y="4857840"/>
            <a:ext cx="778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ешение: 1703н.э – 1380 н.э = 323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твет: Куликовская битва произошла раньше, чем основание Санкт – Петербурга на 323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инус 21"/>
          <p:cNvSpPr/>
          <p:nvPr/>
        </p:nvSpPr>
        <p:spPr>
          <a:xfrm>
            <a:off x="3714840" y="3071880"/>
            <a:ext cx="714240" cy="5000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7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3"/>
          <p:cNvSpPr/>
          <p:nvPr/>
        </p:nvSpPr>
        <p:spPr>
          <a:xfrm>
            <a:off x="285840" y="100008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6. Какой год наступает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з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 г. до н.э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0" y="2286000"/>
            <a:ext cx="89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твет: после 5 г до н.э наступает 5 г до н.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3"/>
          <p:cNvSpPr/>
          <p:nvPr/>
        </p:nvSpPr>
        <p:spPr>
          <a:xfrm>
            <a:off x="223920" y="3071880"/>
            <a:ext cx="66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7.Какой год наступает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до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5 г. до н.э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https://fs00.infourok.ru/images/doc/159/183387/img7.jpg"/>
          <p:cNvPicPr/>
          <p:nvPr/>
        </p:nvPicPr>
        <p:blipFill>
          <a:blip r:embed="rId1"/>
          <a:srcRect l="4689" t="30210" r="55472" b="58336"/>
          <a:stretch/>
        </p:blipFill>
        <p:spPr>
          <a:xfrm>
            <a:off x="500040" y="4929120"/>
            <a:ext cx="3643200" cy="785880"/>
          </a:xfrm>
          <a:prstGeom prst="rect">
            <a:avLst/>
          </a:prstGeom>
          <a:ln w="0">
            <a:noFill/>
          </a:ln>
        </p:spPr>
      </p:pic>
      <p:sp>
        <p:nvSpPr>
          <p:cNvPr id="292" name="Прямая соединительная линия 7"/>
          <p:cNvSpPr/>
          <p:nvPr/>
        </p:nvSpPr>
        <p:spPr>
          <a:xfrm flipH="1">
            <a:off x="1428840" y="5286240"/>
            <a:ext cx="1440" cy="285840"/>
          </a:xfrm>
          <a:prstGeom prst="line">
            <a:avLst/>
          </a:prstGeom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ая соединительная линия 9"/>
          <p:cNvSpPr/>
          <p:nvPr/>
        </p:nvSpPr>
        <p:spPr>
          <a:xfrm flipH="1">
            <a:off x="1143000" y="5286240"/>
            <a:ext cx="1440" cy="285840"/>
          </a:xfrm>
          <a:prstGeom prst="line">
            <a:avLst/>
          </a:prstGeom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0"/>
          <p:cNvSpPr/>
          <p:nvPr/>
        </p:nvSpPr>
        <p:spPr>
          <a:xfrm>
            <a:off x="1285920" y="50007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1"/>
          <p:cNvSpPr/>
          <p:nvPr/>
        </p:nvSpPr>
        <p:spPr>
          <a:xfrm>
            <a:off x="1000080" y="500076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2"/>
          <p:cNvSpPr/>
          <p:nvPr/>
        </p:nvSpPr>
        <p:spPr>
          <a:xfrm>
            <a:off x="214200" y="3714840"/>
            <a:ext cx="89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твет: до 5 г до н.э наступает 6 г до н.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4T07:29:52Z</dcterms:created>
  <dc:creator>Admin</dc:creator>
  <dc:description/>
  <dc:language>en-US</dc:language>
  <cp:lastModifiedBy>ТатьянА</cp:lastModifiedBy>
  <dcterms:modified xsi:type="dcterms:W3CDTF">2019-01-02T12:20:48Z</dcterms:modified>
  <cp:revision>8</cp:revision>
  <dc:subject/>
  <dc:title>Слайд 1</dc:title>
</cp:coreProperties>
</file>