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C13E-F4F6-4272-847B-086DB4C62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CFCF-210C-4D99-9CE4-740120290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9E13-1F10-4853-AC21-13935C8A0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46C0-B966-45ED-8311-EB217B928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1204-72D8-4BAF-BADE-9426AAAF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4603-F24A-4D99-A494-FA65AC446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5E05-EE93-4AA9-96FC-B484F19C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B071-9470-4F11-B50C-07FA83CF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A0F6-0556-4245-9846-03A1FCFBC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0789F-F71C-4B45-937A-75B14919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035D-0998-46B6-A272-826CE69F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EC87-6260-4E11-A8B1-BC74489DE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0DCF-B8C0-43B3-9D8A-4CC73F37C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8ED1-B85B-4C84-AE68-04788076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EE45-3EAC-401B-9138-18AA4FEC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1D145-A4CA-4192-B2B2-0C04C7F0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958A-980B-4642-8470-CA779D8D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A2CDB-6653-41B3-B0B1-D61D5917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B7CFE-8BA7-45F7-B955-B946366F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39D4B-C80A-40FA-A4E2-97D078041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A44E8-C8EB-479A-9C7E-47185F06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3391E-B60D-4813-8D19-5432FC35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B86-6885-4561-82DE-D515E090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38955-A439-4342-8C8B-3C8F8AFD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8C449-F456-490F-9BF1-C78DDBFA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D23BA-B5E3-4BCB-9E41-4337922B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4D1BB-C91F-4A88-89C5-C9A341F1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F10C3-9B45-462A-8613-8610FD68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DFAC2-7C1A-423E-8FCB-F1C0437C1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AA65A-F10B-4384-96D5-D8C9499A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F5E35-586E-44BF-AE8F-DFF1B0DA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FD641-9FBC-4C75-B465-0F64D5509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103E7-0A13-405D-9F8E-1E2D4D48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1095-7459-46DA-9C67-F0987FE2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35128-0369-4F00-86B2-848884FC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7B8DC-9918-41BD-AF66-351A75C3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47DD8-8CD8-49C1-B3C4-50A24C66E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A516E-F379-4AFD-9E9E-20BC94ED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01B7A-562E-4574-9E43-89E60A35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6B719-5599-4ED1-9168-D96C0C33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08EF8-EC67-4BE3-A0AC-17A63261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8E3E1-AFDB-4AF8-9DE6-AE9C68A2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E460B-4BAB-4285-AD88-B2614EB35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5A3D4-D64F-43AF-88D4-951FBACC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6D57-6952-4A7D-972C-77555B20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687EF-3D4C-4B8D-9E54-8F17F72DD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4350B-BF82-4EB5-82F7-B6E5D2E4A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44743-6C5B-48E2-8226-96308A1E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BEDEA-D32B-4973-9426-F22654B3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27412B-36AC-478A-97AA-2074B55F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46E06-BDC3-48A3-A537-21DFEFC4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3509B-57B0-43B8-A10A-B9727FA1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C3AB9-E26F-4A7A-9C7C-9F3B34BB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D6B8C2-676F-4018-BE71-49A00298A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76802-38C5-4FBD-B019-E1C78EBC0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8632-2731-4622-80AF-82D1A3DD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07858-F5EA-4A82-ADA1-C51D0BCE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FE4-76C1-4969-8E05-B7BB08F3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76BA-0894-4451-95FD-464ECC96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9CDE-E265-4F31-87CB-2DB74EAD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877F2-E6D0-4601-84FE-00D277B1F534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B691F-C486-4E8C-8CE9-6DC30E3D5550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55EC-D26A-4D26-A199-1710BAFDB2C5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6C651-B557-4162-83E6-7C2CF4119A2A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14B3-B8E3-4BAF-99AA-346E70171A58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одзаголовок 4"/>
          <p:cNvSpPr/>
          <p:nvPr/>
        </p:nvSpPr>
        <p:spPr>
          <a:xfrm>
            <a:off x="1785960" y="5786280"/>
            <a:ext cx="64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читель истории МАОУСОШ № 2 им. Ю.А. Гаг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муниципального образования Успенский рай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елых Валерия Никол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Rectangle 2" descr=""/>
          <p:cNvPicPr/>
          <p:nvPr/>
        </p:nvPicPr>
        <p:blipFill>
          <a:blip r:embed="rId1"/>
          <a:stretch/>
        </p:blipFill>
        <p:spPr>
          <a:xfrm>
            <a:off x="1066680" y="811080"/>
            <a:ext cx="6724800" cy="14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s://ds04.infourok.ru/uploads/ex/00ae/000a60ed-790f0ba0/img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extBox 1"/>
          <p:cNvSpPr/>
          <p:nvPr/>
        </p:nvSpPr>
        <p:spPr>
          <a:xfrm>
            <a:off x="214200" y="642960"/>
            <a:ext cx="842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Определение века и г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3"/>
          <p:cNvSpPr/>
          <p:nvPr/>
        </p:nvSpPr>
        <p:spPr>
          <a:xfrm>
            <a:off x="357120" y="142884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1467 г. Какой это век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4"/>
          <p:cNvSpPr/>
          <p:nvPr/>
        </p:nvSpPr>
        <p:spPr>
          <a:xfrm>
            <a:off x="214200" y="2286000"/>
            <a:ext cx="828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rebuchet MS"/>
              </a:rPr>
              <a:t>Правило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6"/>
          <p:cNvSpPr/>
          <p:nvPr/>
        </p:nvSpPr>
        <p:spPr>
          <a:xfrm>
            <a:off x="357120" y="3071880"/>
            <a:ext cx="8358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бы определить какой это век, нужно закрыть две последние цифр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тается цифра – 14, значит прошло 14 полных веков, а идет 15-й, значит 1467 г. - это 15 ве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люс 8"/>
          <p:cNvSpPr/>
          <p:nvPr/>
        </p:nvSpPr>
        <p:spPr>
          <a:xfrm>
            <a:off x="3143160" y="5500800"/>
            <a:ext cx="1143000" cy="107136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9"/>
          <p:cNvSpPr/>
          <p:nvPr/>
        </p:nvSpPr>
        <p:spPr>
          <a:xfrm>
            <a:off x="4286160" y="5500800"/>
            <a:ext cx="285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1"/>
          <p:cNvSpPr/>
          <p:nvPr/>
        </p:nvSpPr>
        <p:spPr>
          <a:xfrm>
            <a:off x="721440" y="642960"/>
            <a:ext cx="53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42 г. Какой это век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"/>
          <p:cNvSpPr/>
          <p:nvPr/>
        </p:nvSpPr>
        <p:spPr>
          <a:xfrm>
            <a:off x="6215040" y="71424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4"/>
          <p:cNvSpPr/>
          <p:nvPr/>
        </p:nvSpPr>
        <p:spPr>
          <a:xfrm>
            <a:off x="721440" y="1643040"/>
            <a:ext cx="53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870 г. Какой это век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5"/>
          <p:cNvSpPr/>
          <p:nvPr/>
        </p:nvSpPr>
        <p:spPr>
          <a:xfrm>
            <a:off x="6500880" y="164304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X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6"/>
          <p:cNvSpPr/>
          <p:nvPr/>
        </p:nvSpPr>
        <p:spPr>
          <a:xfrm>
            <a:off x="665280" y="2571840"/>
            <a:ext cx="563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980 г. Какой это век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7"/>
          <p:cNvSpPr/>
          <p:nvPr/>
        </p:nvSpPr>
        <p:spPr>
          <a:xfrm>
            <a:off x="6572160" y="264312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9"/>
          <p:cNvSpPr/>
          <p:nvPr/>
        </p:nvSpPr>
        <p:spPr>
          <a:xfrm>
            <a:off x="649800" y="3571920"/>
            <a:ext cx="53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621 г. Какой это век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0"/>
          <p:cNvSpPr/>
          <p:nvPr/>
        </p:nvSpPr>
        <p:spPr>
          <a:xfrm>
            <a:off x="6429240" y="364320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VII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Прямоугольник 11"/>
          <p:cNvSpPr/>
          <p:nvPr/>
        </p:nvSpPr>
        <p:spPr>
          <a:xfrm>
            <a:off x="649800" y="4643280"/>
            <a:ext cx="53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136 г. Какой это век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2"/>
          <p:cNvSpPr/>
          <p:nvPr/>
        </p:nvSpPr>
        <p:spPr>
          <a:xfrm>
            <a:off x="6286680" y="464328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Прямоугольник 13"/>
          <p:cNvSpPr/>
          <p:nvPr/>
        </p:nvSpPr>
        <p:spPr>
          <a:xfrm>
            <a:off x="665280" y="5572080"/>
            <a:ext cx="563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2018 г. Какой это век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4"/>
          <p:cNvSpPr/>
          <p:nvPr/>
        </p:nvSpPr>
        <p:spPr>
          <a:xfrm>
            <a:off x="6643800" y="564372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alibri"/>
              </a:rPr>
              <a:t>XXI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в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2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4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Прямоугольник 1"/>
          <p:cNvSpPr/>
          <p:nvPr/>
        </p:nvSpPr>
        <p:spPr>
          <a:xfrm>
            <a:off x="792000" y="642960"/>
            <a:ext cx="604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16 век. Какой это год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"/>
          <p:cNvSpPr/>
          <p:nvPr/>
        </p:nvSpPr>
        <p:spPr>
          <a:xfrm>
            <a:off x="500040" y="1571760"/>
            <a:ext cx="7858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XVI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век – 1 = 15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XXI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век – 1 = 20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век -1 = 2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4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4"/>
          <p:cNvSpPr/>
          <p:nvPr/>
        </p:nvSpPr>
        <p:spPr>
          <a:xfrm>
            <a:off x="4429080" y="4500720"/>
            <a:ext cx="2857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инус 5"/>
          <p:cNvSpPr/>
          <p:nvPr/>
        </p:nvSpPr>
        <p:spPr>
          <a:xfrm>
            <a:off x="2500200" y="4500720"/>
            <a:ext cx="1643040" cy="100008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Rectangle 2" descr=""/>
          <p:cNvPicPr/>
          <p:nvPr/>
        </p:nvPicPr>
        <p:blipFill>
          <a:blip r:embed="rId1"/>
          <a:stretch/>
        </p:blipFill>
        <p:spPr>
          <a:xfrm>
            <a:off x="3919680" y="1122480"/>
            <a:ext cx="5297400" cy="23097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7" descr="5"/>
          <p:cNvPicPr/>
          <p:nvPr/>
        </p:nvPicPr>
        <p:blipFill>
          <a:blip r:embed="rId2"/>
          <a:stretch/>
        </p:blipFill>
        <p:spPr>
          <a:xfrm>
            <a:off x="-324000" y="0"/>
            <a:ext cx="4480200" cy="6858000"/>
          </a:xfrm>
          <a:prstGeom prst="rect">
            <a:avLst/>
          </a:prstGeom>
          <a:ln w="0">
            <a:noFill/>
          </a:ln>
        </p:spPr>
      </p:pic>
      <p:sp>
        <p:nvSpPr>
          <p:cNvPr id="322" name="Подзаголовок 4"/>
          <p:cNvSpPr/>
          <p:nvPr/>
        </p:nvSpPr>
        <p:spPr>
          <a:xfrm>
            <a:off x="2743200" y="5857920"/>
            <a:ext cx="6400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Учитель истории МАОУСОШ № 2 им. Ю.А. Гагар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муниципального образования Успенский рай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Пелых Валерия Никола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Rectangle 2" descr=""/>
          <p:cNvPicPr/>
          <p:nvPr/>
        </p:nvPicPr>
        <p:blipFill>
          <a:blip r:embed="rId1"/>
          <a:stretch/>
        </p:blipFill>
        <p:spPr>
          <a:xfrm>
            <a:off x="255600" y="-171360"/>
            <a:ext cx="8474040" cy="1158840"/>
          </a:xfrm>
          <a:prstGeom prst="rect">
            <a:avLst/>
          </a:prstGeom>
          <a:ln w="0">
            <a:noFill/>
          </a:ln>
        </p:spPr>
      </p:pic>
      <p:grpSp>
        <p:nvGrpSpPr>
          <p:cNvPr id="324" name="AutoShape 4"/>
          <p:cNvGrpSpPr/>
          <p:nvPr/>
        </p:nvGrpSpPr>
        <p:grpSpPr>
          <a:xfrm>
            <a:off x="517680" y="1060560"/>
            <a:ext cx="7920000" cy="1414440"/>
            <a:chOff x="517680" y="1060560"/>
            <a:chExt cx="7920000" cy="1414440"/>
          </a:xfrm>
        </p:grpSpPr>
        <p:pic>
          <p:nvPicPr>
            <p:cNvPr id="325" name="AutoShape 4" descr=""/>
            <p:cNvPicPr/>
            <p:nvPr/>
          </p:nvPicPr>
          <p:blipFill>
            <a:blip r:embed="rId2"/>
            <a:stretch/>
          </p:blipFill>
          <p:spPr>
            <a:xfrm>
              <a:off x="517680" y="1060560"/>
              <a:ext cx="792000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638280" y="1155600"/>
              <a:ext cx="768672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Trebuchet MS"/>
                </a:rPr>
                <a:t>Что такое хронология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AutoShape 11"/>
          <p:cNvGrpSpPr/>
          <p:nvPr/>
        </p:nvGrpSpPr>
        <p:grpSpPr>
          <a:xfrm>
            <a:off x="281160" y="3090960"/>
            <a:ext cx="8393040" cy="2809800"/>
            <a:chOff x="281160" y="3090960"/>
            <a:chExt cx="8393040" cy="2809800"/>
          </a:xfrm>
        </p:grpSpPr>
        <p:pic>
          <p:nvPicPr>
            <p:cNvPr id="328" name="AutoShape 11" descr=""/>
            <p:cNvPicPr/>
            <p:nvPr/>
          </p:nvPicPr>
          <p:blipFill>
            <a:blip r:embed="rId3"/>
            <a:stretch/>
          </p:blipFill>
          <p:spPr>
            <a:xfrm>
              <a:off x="281160" y="3090960"/>
              <a:ext cx="839304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684360" y="3467160"/>
              <a:ext cx="759456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e36406"/>
                  </a:solidFill>
                  <a:latin typeface="Trebuchet MS"/>
                </a:rPr>
                <a:t>Хронология – наука о времен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AutoShape 4"/>
          <p:cNvGrpSpPr/>
          <p:nvPr/>
        </p:nvGrpSpPr>
        <p:grpSpPr>
          <a:xfrm>
            <a:off x="517680" y="974880"/>
            <a:ext cx="8278560" cy="1407960"/>
            <a:chOff x="517680" y="974880"/>
            <a:chExt cx="8278560" cy="1407960"/>
          </a:xfrm>
        </p:grpSpPr>
        <p:pic>
          <p:nvPicPr>
            <p:cNvPr id="331" name="AutoShape 4" descr=""/>
            <p:cNvPicPr/>
            <p:nvPr/>
          </p:nvPicPr>
          <p:blipFill>
            <a:blip r:embed="rId4"/>
            <a:stretch/>
          </p:blipFill>
          <p:spPr>
            <a:xfrm>
              <a:off x="517680" y="974880"/>
              <a:ext cx="827856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638280" y="1069920"/>
              <a:ext cx="804708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Trebuchet MS"/>
                </a:rPr>
                <a:t>Какое летоисчисление было у римлян и египтян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AutoShape 11"/>
          <p:cNvGrpSpPr/>
          <p:nvPr/>
        </p:nvGrpSpPr>
        <p:grpSpPr>
          <a:xfrm>
            <a:off x="-42840" y="3090960"/>
            <a:ext cx="9296280" cy="2809800"/>
            <a:chOff x="-42840" y="3090960"/>
            <a:chExt cx="9296280" cy="2809800"/>
          </a:xfrm>
        </p:grpSpPr>
        <p:pic>
          <p:nvPicPr>
            <p:cNvPr id="334" name="AutoShape 11" descr=""/>
            <p:cNvPicPr/>
            <p:nvPr/>
          </p:nvPicPr>
          <p:blipFill>
            <a:blip r:embed="rId5"/>
            <a:stretch/>
          </p:blipFill>
          <p:spPr>
            <a:xfrm>
              <a:off x="-42840" y="3090960"/>
              <a:ext cx="929628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360360" y="3465360"/>
              <a:ext cx="849456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Trebuchet MS"/>
                </a:rPr>
                <a:t>Древние римляне вели отсчёт от основания Рима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Trebuchet MS"/>
                </a:rPr>
                <a:t>в 753 г. до н.э. Древние египтяне, начинали отсчё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Trebuchet MS"/>
                </a:rPr>
                <a:t>лет заново каждый раз с правлением нового фараон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AutoShape 4"/>
          <p:cNvGrpSpPr/>
          <p:nvPr/>
        </p:nvGrpSpPr>
        <p:grpSpPr>
          <a:xfrm>
            <a:off x="517680" y="1060560"/>
            <a:ext cx="8278560" cy="1414440"/>
            <a:chOff x="517680" y="1060560"/>
            <a:chExt cx="8278560" cy="1414440"/>
          </a:xfrm>
        </p:grpSpPr>
        <p:pic>
          <p:nvPicPr>
            <p:cNvPr id="337" name="AutoShape 4" descr=""/>
            <p:cNvPicPr/>
            <p:nvPr/>
          </p:nvPicPr>
          <p:blipFill>
            <a:blip r:embed="rId6"/>
            <a:stretch/>
          </p:blipFill>
          <p:spPr>
            <a:xfrm>
              <a:off x="517680" y="1060560"/>
              <a:ext cx="827856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638280" y="1155600"/>
              <a:ext cx="8047080" cy="11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rebuchet MS"/>
                </a:rPr>
                <a:t>Расшифруйте значение словосочет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rebuchet MS"/>
                </a:rPr>
                <a:t> </a:t>
              </a:r>
              <a:r>
                <a:rPr b="1" i="1" lang="ru-RU" sz="2400" spc="-1" strike="noStrike">
                  <a:solidFill>
                    <a:srgbClr val="000000"/>
                  </a:solidFill>
                  <a:latin typeface="Trebuchet MS"/>
                </a:rPr>
                <a:t>«наша эра», «до нашей эры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AutoShape 11"/>
          <p:cNvGrpSpPr/>
          <p:nvPr/>
        </p:nvGrpSpPr>
        <p:grpSpPr>
          <a:xfrm>
            <a:off x="-79200" y="3090960"/>
            <a:ext cx="9289800" cy="2809800"/>
            <a:chOff x="-79200" y="3090960"/>
            <a:chExt cx="9289800" cy="2809800"/>
          </a:xfrm>
        </p:grpSpPr>
        <p:pic>
          <p:nvPicPr>
            <p:cNvPr id="340" name="AutoShape 11" descr=""/>
            <p:cNvPicPr/>
            <p:nvPr/>
          </p:nvPicPr>
          <p:blipFill>
            <a:blip r:embed="rId7"/>
            <a:stretch/>
          </p:blipFill>
          <p:spPr>
            <a:xfrm>
              <a:off x="-79200" y="3090960"/>
              <a:ext cx="928980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324000" y="3467160"/>
              <a:ext cx="849456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Trebuchet MS"/>
                </a:rPr>
                <a:t>Время от рождения Христа до наших дней – наша эра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Trebuchet MS"/>
                </a:rPr>
                <a:t>Время до рождения Христа – до нашей э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7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2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6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1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0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s://fs00.infourok.ru/images/doc/159/183387/img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214200" y="714240"/>
            <a:ext cx="842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rebuchet MS"/>
              </a:rPr>
              <a:t>Правил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285840" y="1428840"/>
            <a:ext cx="82868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Если в задачи одинаковые эры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(н.э и н.э / до н.э и до н.э) то мы при решении задачи ставим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знак «-»,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т.е действие отнима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имер: 35 н.э – 32 н.э =3 н.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214200" y="4143240"/>
            <a:ext cx="828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Если в задачи разные эры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(н.э и до н.э), то мы при решении задачи ставим 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знак «+»,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т.е действие суммиру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имер: 32 до н.э и 35 н.э = 67 лет н.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1"/>
          <p:cNvSpPr/>
          <p:nvPr/>
        </p:nvSpPr>
        <p:spPr>
          <a:xfrm>
            <a:off x="43200" y="500040"/>
            <a:ext cx="50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4.Решим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214200" y="171468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1.Какой год был раньше и на сколько был раньше: 33 г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до н.э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или 33 г </a:t>
            </a: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н.э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8" name="Прямая со стрелкой 4"/>
          <p:cNvCxnSpPr/>
          <p:nvPr/>
        </p:nvCxnSpPr>
        <p:spPr>
          <a:xfrm>
            <a:off x="714240" y="3785760"/>
            <a:ext cx="678744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9" name="Прямая соединительная линия 8"/>
          <p:cNvSpPr/>
          <p:nvPr/>
        </p:nvSpPr>
        <p:spPr>
          <a:xfrm flipH="1">
            <a:off x="4141800" y="3645000"/>
            <a:ext cx="1440" cy="285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ая соединительная линия 9"/>
          <p:cNvSpPr/>
          <p:nvPr/>
        </p:nvSpPr>
        <p:spPr>
          <a:xfrm flipH="1">
            <a:off x="2286000" y="3643200"/>
            <a:ext cx="144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ая соединительная линия 10"/>
          <p:cNvSpPr/>
          <p:nvPr/>
        </p:nvSpPr>
        <p:spPr>
          <a:xfrm flipH="1">
            <a:off x="6215040" y="3643200"/>
            <a:ext cx="144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1"/>
          <p:cNvSpPr/>
          <p:nvPr/>
        </p:nvSpPr>
        <p:spPr>
          <a:xfrm>
            <a:off x="1643040" y="400068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о н.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3"/>
          <p:cNvSpPr/>
          <p:nvPr/>
        </p:nvSpPr>
        <p:spPr>
          <a:xfrm>
            <a:off x="5715000" y="400068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.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Выгнутая вверх стрелка 15"/>
          <p:cNvSpPr/>
          <p:nvPr/>
        </p:nvSpPr>
        <p:spPr>
          <a:xfrm>
            <a:off x="2214720" y="2928960"/>
            <a:ext cx="4143240" cy="785880"/>
          </a:xfrm>
          <a:custGeom>
            <a:avLst/>
            <a:gdLst>
              <a:gd name="textAreaLeft" fmla="*/ 961920 w 4143240"/>
              <a:gd name="textAreaRight" fmla="*/ 3083040 w 414324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32" hR="21600" stAng="10800000" swAng="5400000"/>
                <a:lnTo>
                  <a:pt x="11056" y="0"/>
                </a:lnTo>
                <a:arcTo wR="10032" hR="21600" stAng="-5400000" swAng="3655739"/>
                <a:lnTo>
                  <a:pt x="21281" y="16200"/>
                </a:lnTo>
                <a:lnTo>
                  <a:pt x="20576" y="21600"/>
                </a:lnTo>
                <a:lnTo>
                  <a:pt x="19233" y="16200"/>
                </a:lnTo>
                <a:lnTo>
                  <a:pt x="19745" y="16200"/>
                </a:lnTo>
                <a:arcTo wR="10032" hR="21600" stAng="-1744261" swAng="-3574160"/>
                <a:lnTo>
                  <a:pt x="10544" y="28"/>
                </a:lnTo>
                <a:arcTo wR="10032" hR="21600" stAng="-5481578" swAng="-5318422"/>
                <a:close/>
              </a:path>
              <a:path fill="darkenLess" w="21600" h="21600">
                <a:moveTo>
                  <a:pt x="0" y="21600"/>
                </a:moveTo>
                <a:arcTo wR="10032" hR="21600" stAng="10800000" swAng="5400000"/>
                <a:lnTo>
                  <a:pt x="10032" y="0"/>
                </a:lnTo>
                <a:arcTo wR="10032" hR="21600" stAng="-5400000" swAng="81578"/>
                <a:lnTo>
                  <a:pt x="10544" y="28"/>
                </a:lnTo>
                <a:arcTo wR="10032" hR="21600" stAng="-5481578" swAng="-5318422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люс 16"/>
          <p:cNvSpPr/>
          <p:nvPr/>
        </p:nvSpPr>
        <p:spPr>
          <a:xfrm>
            <a:off x="3929040" y="3071880"/>
            <a:ext cx="571680" cy="5713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7"/>
          <p:cNvSpPr/>
          <p:nvPr/>
        </p:nvSpPr>
        <p:spPr>
          <a:xfrm>
            <a:off x="1643040" y="31431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6215040" y="321480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285840" y="4857840"/>
            <a:ext cx="77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ешение: 33 до н.э + 33 н.э = 66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твет 33 г до н.э был раньше на 66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Прямоугольник 1"/>
          <p:cNvSpPr/>
          <p:nvPr/>
        </p:nvSpPr>
        <p:spPr>
          <a:xfrm>
            <a:off x="43200" y="500040"/>
            <a:ext cx="50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4.Решим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"/>
          <p:cNvSpPr/>
          <p:nvPr/>
        </p:nvSpPr>
        <p:spPr>
          <a:xfrm>
            <a:off x="214200" y="128592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. Какой год раньше и на сколько раньше: 33 г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.э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или 14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о н.э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1" name="Прямая со стрелкой 4"/>
          <p:cNvCxnSpPr/>
          <p:nvPr/>
        </p:nvCxnSpPr>
        <p:spPr>
          <a:xfrm>
            <a:off x="714240" y="3785760"/>
            <a:ext cx="678744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2" name="Прямая соединительная линия 9"/>
          <p:cNvSpPr/>
          <p:nvPr/>
        </p:nvSpPr>
        <p:spPr>
          <a:xfrm flipH="1">
            <a:off x="2286000" y="3643200"/>
            <a:ext cx="144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ая соединительная линия 10"/>
          <p:cNvSpPr/>
          <p:nvPr/>
        </p:nvSpPr>
        <p:spPr>
          <a:xfrm flipH="1">
            <a:off x="6215040" y="3643200"/>
            <a:ext cx="144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1"/>
          <p:cNvSpPr/>
          <p:nvPr/>
        </p:nvSpPr>
        <p:spPr>
          <a:xfrm>
            <a:off x="1643040" y="400068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о н.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3"/>
          <p:cNvSpPr/>
          <p:nvPr/>
        </p:nvSpPr>
        <p:spPr>
          <a:xfrm>
            <a:off x="5715000" y="400068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о н.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Выгнутая вверх стрелка 15"/>
          <p:cNvSpPr/>
          <p:nvPr/>
        </p:nvSpPr>
        <p:spPr>
          <a:xfrm>
            <a:off x="2214720" y="2928960"/>
            <a:ext cx="4143240" cy="785880"/>
          </a:xfrm>
          <a:custGeom>
            <a:avLst/>
            <a:gdLst>
              <a:gd name="textAreaLeft" fmla="*/ 961920 w 4143240"/>
              <a:gd name="textAreaRight" fmla="*/ 3083040 w 414324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32" hR="21600" stAng="10800000" swAng="5400000"/>
                <a:lnTo>
                  <a:pt x="11056" y="0"/>
                </a:lnTo>
                <a:arcTo wR="10032" hR="21600" stAng="-5400000" swAng="3655739"/>
                <a:lnTo>
                  <a:pt x="21281" y="16200"/>
                </a:lnTo>
                <a:lnTo>
                  <a:pt x="20576" y="21600"/>
                </a:lnTo>
                <a:lnTo>
                  <a:pt x="19233" y="16200"/>
                </a:lnTo>
                <a:lnTo>
                  <a:pt x="19745" y="16200"/>
                </a:lnTo>
                <a:arcTo wR="10032" hR="21600" stAng="-1744261" swAng="-3574160"/>
                <a:lnTo>
                  <a:pt x="10544" y="28"/>
                </a:lnTo>
                <a:arcTo wR="10032" hR="21600" stAng="-5481578" swAng="-5318422"/>
                <a:close/>
              </a:path>
              <a:path fill="darkenLess" w="21600" h="21600">
                <a:moveTo>
                  <a:pt x="0" y="21600"/>
                </a:moveTo>
                <a:arcTo wR="10032" hR="21600" stAng="10800000" swAng="5400000"/>
                <a:lnTo>
                  <a:pt x="10032" y="0"/>
                </a:lnTo>
                <a:arcTo wR="10032" hR="21600" stAng="-5400000" swAng="81578"/>
                <a:lnTo>
                  <a:pt x="10544" y="28"/>
                </a:lnTo>
                <a:arcTo wR="10032" hR="21600" stAng="-5481578" swAng="-5318422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7"/>
          <p:cNvSpPr/>
          <p:nvPr/>
        </p:nvSpPr>
        <p:spPr>
          <a:xfrm>
            <a:off x="1643040" y="31431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8"/>
          <p:cNvSpPr/>
          <p:nvPr/>
        </p:nvSpPr>
        <p:spPr>
          <a:xfrm>
            <a:off x="6215040" y="321480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9"/>
          <p:cNvSpPr/>
          <p:nvPr/>
        </p:nvSpPr>
        <p:spPr>
          <a:xfrm>
            <a:off x="285840" y="4857840"/>
            <a:ext cx="77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ешение: 33 до н.э - 14 н.э = 19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твет 33 г до н.э был раньше на 19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инус 14"/>
          <p:cNvSpPr/>
          <p:nvPr/>
        </p:nvSpPr>
        <p:spPr>
          <a:xfrm>
            <a:off x="3714840" y="3071880"/>
            <a:ext cx="714240" cy="500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84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Прямоугольник 1"/>
          <p:cNvSpPr/>
          <p:nvPr/>
        </p:nvSpPr>
        <p:spPr>
          <a:xfrm>
            <a:off x="43200" y="500040"/>
            <a:ext cx="50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4.Решим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"/>
          <p:cNvSpPr/>
          <p:nvPr/>
        </p:nvSpPr>
        <p:spPr>
          <a:xfrm>
            <a:off x="214200" y="128592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.Сколько лет тому назад произошла Марафонская битва (490 г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о н.э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Прямая со стрелкой 4"/>
          <p:cNvCxnSpPr/>
          <p:nvPr/>
        </p:nvCxnSpPr>
        <p:spPr>
          <a:xfrm>
            <a:off x="714240" y="3785760"/>
            <a:ext cx="678744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54" name="Прямая соединительная линия 9"/>
          <p:cNvSpPr/>
          <p:nvPr/>
        </p:nvSpPr>
        <p:spPr>
          <a:xfrm flipH="1">
            <a:off x="2286000" y="3643200"/>
            <a:ext cx="144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ая соединительная линия 10"/>
          <p:cNvSpPr/>
          <p:nvPr/>
        </p:nvSpPr>
        <p:spPr>
          <a:xfrm flipH="1">
            <a:off x="6215040" y="3643200"/>
            <a:ext cx="144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1"/>
          <p:cNvSpPr/>
          <p:nvPr/>
        </p:nvSpPr>
        <p:spPr>
          <a:xfrm>
            <a:off x="1643040" y="400068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до н.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3"/>
          <p:cNvSpPr/>
          <p:nvPr/>
        </p:nvSpPr>
        <p:spPr>
          <a:xfrm>
            <a:off x="6143760" y="392904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.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Выгнутая вверх стрелка 15"/>
          <p:cNvSpPr/>
          <p:nvPr/>
        </p:nvSpPr>
        <p:spPr>
          <a:xfrm>
            <a:off x="2214720" y="2928960"/>
            <a:ext cx="4143240" cy="785880"/>
          </a:xfrm>
          <a:custGeom>
            <a:avLst/>
            <a:gdLst>
              <a:gd name="textAreaLeft" fmla="*/ 961920 w 4143240"/>
              <a:gd name="textAreaRight" fmla="*/ 3083040 w 414324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32" hR="21600" stAng="10800000" swAng="5400000"/>
                <a:lnTo>
                  <a:pt x="11056" y="0"/>
                </a:lnTo>
                <a:arcTo wR="10032" hR="21600" stAng="-5400000" swAng="3655739"/>
                <a:lnTo>
                  <a:pt x="21281" y="16200"/>
                </a:lnTo>
                <a:lnTo>
                  <a:pt x="20576" y="21600"/>
                </a:lnTo>
                <a:lnTo>
                  <a:pt x="19233" y="16200"/>
                </a:lnTo>
                <a:lnTo>
                  <a:pt x="19745" y="16200"/>
                </a:lnTo>
                <a:arcTo wR="10032" hR="21600" stAng="-1744261" swAng="-3574160"/>
                <a:lnTo>
                  <a:pt x="10544" y="28"/>
                </a:lnTo>
                <a:arcTo wR="10032" hR="21600" stAng="-5481578" swAng="-5318422"/>
                <a:close/>
              </a:path>
              <a:path fill="darkenLess" w="21600" h="21600">
                <a:moveTo>
                  <a:pt x="0" y="21600"/>
                </a:moveTo>
                <a:arcTo wR="10032" hR="21600" stAng="10800000" swAng="5400000"/>
                <a:lnTo>
                  <a:pt x="10032" y="0"/>
                </a:lnTo>
                <a:arcTo wR="10032" hR="21600" stAng="-5400000" swAng="81578"/>
                <a:lnTo>
                  <a:pt x="10544" y="28"/>
                </a:lnTo>
                <a:arcTo wR="10032" hR="21600" stAng="-5481578" swAng="-5318422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7"/>
          <p:cNvSpPr/>
          <p:nvPr/>
        </p:nvSpPr>
        <p:spPr>
          <a:xfrm>
            <a:off x="1143000" y="31431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4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8"/>
          <p:cNvSpPr/>
          <p:nvPr/>
        </p:nvSpPr>
        <p:spPr>
          <a:xfrm>
            <a:off x="6215040" y="321480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201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9"/>
          <p:cNvSpPr/>
          <p:nvPr/>
        </p:nvSpPr>
        <p:spPr>
          <a:xfrm>
            <a:off x="285840" y="4857840"/>
            <a:ext cx="77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ешение: 490 до н.э + 2018  н.э = 2508 л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твет: 2508 лет назад произошла Марафонская би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люс 16"/>
          <p:cNvSpPr/>
          <p:nvPr/>
        </p:nvSpPr>
        <p:spPr>
          <a:xfrm>
            <a:off x="3857760" y="3071880"/>
            <a:ext cx="571320" cy="57132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ая соединительная линия 20"/>
          <p:cNvSpPr/>
          <p:nvPr/>
        </p:nvSpPr>
        <p:spPr>
          <a:xfrm flipH="1">
            <a:off x="4141800" y="3645000"/>
            <a:ext cx="1440" cy="2854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оугольник 1"/>
          <p:cNvSpPr/>
          <p:nvPr/>
        </p:nvSpPr>
        <p:spPr>
          <a:xfrm>
            <a:off x="43200" y="500040"/>
            <a:ext cx="50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4.Решим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2"/>
          <p:cNvSpPr/>
          <p:nvPr/>
        </p:nvSpPr>
        <p:spPr>
          <a:xfrm>
            <a:off x="214200" y="1285920"/>
            <a:ext cx="864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4.Сколько лет тому назад закончилась Северная война (1721 г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.э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6" name="Прямая со стрелкой 4"/>
          <p:cNvCxnSpPr/>
          <p:nvPr/>
        </p:nvCxnSpPr>
        <p:spPr>
          <a:xfrm>
            <a:off x="714240" y="3785760"/>
            <a:ext cx="678744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7" name="Прямая соединительная линия 9"/>
          <p:cNvSpPr/>
          <p:nvPr/>
        </p:nvSpPr>
        <p:spPr>
          <a:xfrm flipH="1">
            <a:off x="2286000" y="3643200"/>
            <a:ext cx="144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Прямая соединительная линия 10"/>
          <p:cNvSpPr/>
          <p:nvPr/>
        </p:nvSpPr>
        <p:spPr>
          <a:xfrm flipH="1">
            <a:off x="6215040" y="3643200"/>
            <a:ext cx="144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1"/>
          <p:cNvSpPr/>
          <p:nvPr/>
        </p:nvSpPr>
        <p:spPr>
          <a:xfrm>
            <a:off x="1928880" y="392904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.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3"/>
          <p:cNvSpPr/>
          <p:nvPr/>
        </p:nvSpPr>
        <p:spPr>
          <a:xfrm>
            <a:off x="6143760" y="392904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.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Выгнутая вверх стрелка 15"/>
          <p:cNvSpPr/>
          <p:nvPr/>
        </p:nvSpPr>
        <p:spPr>
          <a:xfrm>
            <a:off x="2214720" y="2928960"/>
            <a:ext cx="4143240" cy="785880"/>
          </a:xfrm>
          <a:custGeom>
            <a:avLst/>
            <a:gdLst>
              <a:gd name="textAreaLeft" fmla="*/ 961920 w 4143240"/>
              <a:gd name="textAreaRight" fmla="*/ 3083040 w 414324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32" hR="21600" stAng="10800000" swAng="5400000"/>
                <a:lnTo>
                  <a:pt x="11056" y="0"/>
                </a:lnTo>
                <a:arcTo wR="10032" hR="21600" stAng="-5400000" swAng="3655739"/>
                <a:lnTo>
                  <a:pt x="21281" y="16200"/>
                </a:lnTo>
                <a:lnTo>
                  <a:pt x="20576" y="21600"/>
                </a:lnTo>
                <a:lnTo>
                  <a:pt x="19233" y="16200"/>
                </a:lnTo>
                <a:lnTo>
                  <a:pt x="19745" y="16200"/>
                </a:lnTo>
                <a:arcTo wR="10032" hR="21600" stAng="-1744261" swAng="-3574160"/>
                <a:lnTo>
                  <a:pt x="10544" y="28"/>
                </a:lnTo>
                <a:arcTo wR="10032" hR="21600" stAng="-5481578" swAng="-5318422"/>
                <a:close/>
              </a:path>
              <a:path fill="darkenLess" w="21600" h="21600">
                <a:moveTo>
                  <a:pt x="0" y="21600"/>
                </a:moveTo>
                <a:arcTo wR="10032" hR="21600" stAng="10800000" swAng="5400000"/>
                <a:lnTo>
                  <a:pt x="10032" y="0"/>
                </a:lnTo>
                <a:arcTo wR="10032" hR="21600" stAng="-5400000" swAng="81578"/>
                <a:lnTo>
                  <a:pt x="10544" y="28"/>
                </a:lnTo>
                <a:arcTo wR="10032" hR="21600" stAng="-5481578" swAng="-5318422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7"/>
          <p:cNvSpPr/>
          <p:nvPr/>
        </p:nvSpPr>
        <p:spPr>
          <a:xfrm>
            <a:off x="1143000" y="31431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7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8"/>
          <p:cNvSpPr/>
          <p:nvPr/>
        </p:nvSpPr>
        <p:spPr>
          <a:xfrm>
            <a:off x="6215040" y="321480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201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19"/>
          <p:cNvSpPr/>
          <p:nvPr/>
        </p:nvSpPr>
        <p:spPr>
          <a:xfrm>
            <a:off x="285840" y="4857840"/>
            <a:ext cx="778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ешение: 2018 н.э – 1721 н.э = 297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твет: 297 лет назад произошла Северная вой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инус 21"/>
          <p:cNvSpPr/>
          <p:nvPr/>
        </p:nvSpPr>
        <p:spPr>
          <a:xfrm>
            <a:off x="3714840" y="3071880"/>
            <a:ext cx="714240" cy="500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1"/>
          <p:cNvSpPr/>
          <p:nvPr/>
        </p:nvSpPr>
        <p:spPr>
          <a:xfrm>
            <a:off x="43200" y="500040"/>
            <a:ext cx="503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rebuchet MS"/>
              </a:rPr>
              <a:t>4.Решим задач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"/>
          <p:cNvSpPr/>
          <p:nvPr/>
        </p:nvSpPr>
        <p:spPr>
          <a:xfrm>
            <a:off x="214200" y="1285920"/>
            <a:ext cx="8643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.Какое событие было раньше и на сколько: Куликовская битва (1380 г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н.э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) или основание Санкт-Петербурга (1703 г. н.э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Прямая со стрелкой 4"/>
          <p:cNvCxnSpPr/>
          <p:nvPr/>
        </p:nvCxnSpPr>
        <p:spPr>
          <a:xfrm>
            <a:off x="714240" y="3785760"/>
            <a:ext cx="678744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9" name="Прямая соединительная линия 9"/>
          <p:cNvSpPr/>
          <p:nvPr/>
        </p:nvSpPr>
        <p:spPr>
          <a:xfrm flipH="1">
            <a:off x="2286000" y="3643200"/>
            <a:ext cx="144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ая соединительная линия 10"/>
          <p:cNvSpPr/>
          <p:nvPr/>
        </p:nvSpPr>
        <p:spPr>
          <a:xfrm flipH="1">
            <a:off x="6215040" y="3643200"/>
            <a:ext cx="1440" cy="28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1"/>
          <p:cNvSpPr/>
          <p:nvPr/>
        </p:nvSpPr>
        <p:spPr>
          <a:xfrm>
            <a:off x="1928880" y="392904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.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3"/>
          <p:cNvSpPr/>
          <p:nvPr/>
        </p:nvSpPr>
        <p:spPr>
          <a:xfrm>
            <a:off x="6143760" y="392904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н.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Выгнутая вверх стрелка 15"/>
          <p:cNvSpPr/>
          <p:nvPr/>
        </p:nvSpPr>
        <p:spPr>
          <a:xfrm>
            <a:off x="2214720" y="2928960"/>
            <a:ext cx="4143240" cy="785880"/>
          </a:xfrm>
          <a:custGeom>
            <a:avLst/>
            <a:gdLst>
              <a:gd name="textAreaLeft" fmla="*/ 961920 w 4143240"/>
              <a:gd name="textAreaRight" fmla="*/ 3083040 w 4143240"/>
              <a:gd name="textAreaTop" fmla="*/ 105120 h 785880"/>
              <a:gd name="textAreaBottom" fmla="*/ 680760 h 785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32" hR="21600" stAng="10800000" swAng="5400000"/>
                <a:lnTo>
                  <a:pt x="11056" y="0"/>
                </a:lnTo>
                <a:arcTo wR="10032" hR="21600" stAng="-5400000" swAng="3655739"/>
                <a:lnTo>
                  <a:pt x="21281" y="16200"/>
                </a:lnTo>
                <a:lnTo>
                  <a:pt x="20576" y="21600"/>
                </a:lnTo>
                <a:lnTo>
                  <a:pt x="19233" y="16200"/>
                </a:lnTo>
                <a:lnTo>
                  <a:pt x="19745" y="16200"/>
                </a:lnTo>
                <a:arcTo wR="10032" hR="21600" stAng="-1744261" swAng="-3574160"/>
                <a:lnTo>
                  <a:pt x="10544" y="28"/>
                </a:lnTo>
                <a:arcTo wR="10032" hR="21600" stAng="-5481578" swAng="-5318422"/>
                <a:close/>
              </a:path>
              <a:path fill="darkenLess" w="21600" h="21600">
                <a:moveTo>
                  <a:pt x="0" y="21600"/>
                </a:moveTo>
                <a:arcTo wR="10032" hR="21600" stAng="10800000" swAng="5400000"/>
                <a:lnTo>
                  <a:pt x="10032" y="0"/>
                </a:lnTo>
                <a:arcTo wR="10032" hR="21600" stAng="-5400000" swAng="81578"/>
                <a:lnTo>
                  <a:pt x="10544" y="28"/>
                </a:lnTo>
                <a:arcTo wR="10032" hR="21600" stAng="-5481578" swAng="-5318422"/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7"/>
          <p:cNvSpPr/>
          <p:nvPr/>
        </p:nvSpPr>
        <p:spPr>
          <a:xfrm>
            <a:off x="1143000" y="314316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3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8"/>
          <p:cNvSpPr/>
          <p:nvPr/>
        </p:nvSpPr>
        <p:spPr>
          <a:xfrm>
            <a:off x="6215040" y="321480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1703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9"/>
          <p:cNvSpPr/>
          <p:nvPr/>
        </p:nvSpPr>
        <p:spPr>
          <a:xfrm>
            <a:off x="285840" y="4857840"/>
            <a:ext cx="7786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ешение: 1703н.э – 1380 н.э = 323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твет: Куликовская битва произошла раньше, чем основание Санкт – Петербурга на 323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инус 21"/>
          <p:cNvSpPr/>
          <p:nvPr/>
        </p:nvSpPr>
        <p:spPr>
          <a:xfrm>
            <a:off x="3714840" y="3071880"/>
            <a:ext cx="714240" cy="500040"/>
          </a:xfrm>
          <a:prstGeom prst="pie">
            <a:avLst/>
          </a:prstGeom>
          <a:solidFill>
            <a:srgbClr val="b83d68"/>
          </a:solidFill>
          <a:ln w="3996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5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Box 3"/>
          <p:cNvSpPr/>
          <p:nvPr/>
        </p:nvSpPr>
        <p:spPr>
          <a:xfrm>
            <a:off x="285840" y="100008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6. Какой год наступает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за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5 г. до н.э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0" y="228600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твет: после 5 г до н.э наступает 5 г до н.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3"/>
          <p:cNvSpPr/>
          <p:nvPr/>
        </p:nvSpPr>
        <p:spPr>
          <a:xfrm>
            <a:off x="223920" y="3071880"/>
            <a:ext cx="669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7.Какой год наступает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до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5 г. до н.э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2" descr="https://fs00.infourok.ru/images/doc/159/183387/img7.jpg"/>
          <p:cNvPicPr/>
          <p:nvPr/>
        </p:nvPicPr>
        <p:blipFill>
          <a:blip r:embed="rId1"/>
          <a:srcRect l="4689" t="30210" r="55472" b="58336"/>
          <a:stretch/>
        </p:blipFill>
        <p:spPr>
          <a:xfrm>
            <a:off x="500040" y="4929120"/>
            <a:ext cx="3643200" cy="785880"/>
          </a:xfrm>
          <a:prstGeom prst="rect">
            <a:avLst/>
          </a:prstGeom>
          <a:ln w="0">
            <a:noFill/>
          </a:ln>
        </p:spPr>
      </p:pic>
      <p:sp>
        <p:nvSpPr>
          <p:cNvPr id="292" name="Прямая соединительная линия 7"/>
          <p:cNvSpPr/>
          <p:nvPr/>
        </p:nvSpPr>
        <p:spPr>
          <a:xfrm flipH="1">
            <a:off x="1428840" y="5286240"/>
            <a:ext cx="1440" cy="28584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ая соединительная линия 9"/>
          <p:cNvSpPr/>
          <p:nvPr/>
        </p:nvSpPr>
        <p:spPr>
          <a:xfrm flipH="1">
            <a:off x="1143000" y="5286240"/>
            <a:ext cx="1440" cy="28584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0"/>
          <p:cNvSpPr/>
          <p:nvPr/>
        </p:nvSpPr>
        <p:spPr>
          <a:xfrm>
            <a:off x="1285920" y="500076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1"/>
          <p:cNvSpPr/>
          <p:nvPr/>
        </p:nvSpPr>
        <p:spPr>
          <a:xfrm>
            <a:off x="1000080" y="5000760"/>
            <a:ext cx="7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2"/>
          <p:cNvSpPr/>
          <p:nvPr/>
        </p:nvSpPr>
        <p:spPr>
          <a:xfrm>
            <a:off x="214200" y="371484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Ответ: до 5 г до н.э наступает 6 г до н.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8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4T07:29:52Z</dcterms:created>
  <dc:creator>Admin</dc:creator>
  <dc:description/>
  <dc:language>en-US</dc:language>
  <cp:lastModifiedBy>ТатьянА</cp:lastModifiedBy>
  <dcterms:modified xsi:type="dcterms:W3CDTF">2019-01-02T12:20:48Z</dcterms:modified>
  <cp:revision>8</cp:revision>
  <dc:subject/>
  <dc:title>Слайд 1</dc:title>
</cp:coreProperties>
</file>