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344-FABE-4022-9782-D6F2D153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6E7E-4808-4405-9458-BBCDA216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8B1D-4949-4D99-963B-10F05CDCB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EE0-79DA-4FB8-B42B-B0B1985C9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F24A-AF69-4506-BC60-20E4E7F4A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FC3C-D8A2-49AC-9BD4-A086053E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6053C-0B7C-4231-9C65-3F0AF937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099CB-F7D6-4E3E-A8A2-806A341FC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4E9D3-7D81-4F15-A2A3-EABDA480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BF6-81CC-4A55-8DDD-DDC2C397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B47A-8666-40A0-8AF2-DFA2D30A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8BCD-988B-43D5-967F-9E04D9D97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6E97C-6167-4F58-8B06-E0F028AA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DC36-621B-49F2-9BCB-625C7D69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1781-A9D2-4BFC-A8FC-CCD51D75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654EA-5DCF-4FE0-BD4B-51ECC86C1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E60E-55E7-4713-BB24-032E80A3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7B5B-599B-4F1E-B6E9-95058D82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B1E3C-176A-497E-81F9-AE02485B4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72AC2-727F-48C9-BED7-90BD7A26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61066-7D1C-47EF-AE98-4F337CDAF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ABC3D-F5BA-4ADB-A0FE-016C7096A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39D-69B6-4EF1-90AA-137A59B8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184F9-F38B-4272-9DFA-B4C06571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11294-BEF3-4B41-8719-DD70F72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54F8-CC37-4E0C-835F-CAC1A5F7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73537-C669-4D38-ADA0-41C3CE44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F65AA-0197-438E-9040-89C72DAA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FC9AA-E9F2-43F0-ACCC-8D241B0CC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ADEAC-3A34-49F5-A26E-FCB87EFBD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9E9E6-D5EE-4FC4-A5C1-07B7F5915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22E43-9249-403F-BB36-F3EC9FA1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72090B-E617-4246-9BF6-94E747EE9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3D27-8233-4433-8642-BE1BF566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3882B-13C6-4EEB-B2C0-E0354B9A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B0B3C-F9E8-4FC4-A91C-9DB1028B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978C7-B608-43F4-8AA6-7559DB15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EA253-950F-453E-861C-85FE8052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443A1A-C6D5-497B-9254-1CB8EB6D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1054-14CB-4984-BB4E-F77EDA53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551F4-FC57-4F34-9563-2C3B49CFD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6E767-00BE-449E-8D13-2C85EA943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0B2A3-B950-439A-9651-7CC402ACB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813A6C-A8F6-4064-9385-F3294F3EB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DD05-B03A-4366-950E-D1B7F704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5C2A-2185-45BA-A3BF-99E8FB09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852918-D6FA-4F82-A6B3-B7E3A677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BA90DE-EE78-422D-8BDF-2C103938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42F9F0-29E4-4031-806E-6F456BC9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D81A-8956-4C58-AB5D-23833B37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69AD6-8F64-422B-B0C7-9E35A9E8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C9A1F-456E-45CC-9F42-482CAE9E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9EE86-A9F2-4098-BFC8-831810F1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2E64A-2245-4B22-AE12-7A2ADCFC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6766-FC5A-428A-AD40-F453BB1F5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62A5-999D-468D-B3F9-FC72A9522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D63DD-3814-4F8C-A740-65276D16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4470-7D68-49E8-87E6-28F09EC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C8C1-E022-4C8F-A797-DB0F63936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AE9-8C7C-4BE0-824E-695130D4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BE2B8-CE4F-4F60-9790-67CDE62EB82D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CD5-B7D8-4CFB-BFDB-C170FB2EFDE9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DFBB-0C9B-4B18-BADE-3747E720F430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CAA6-8FC1-4F20-B08F-9932928402EE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418D-B0EC-4AD6-9601-87D30764211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49320" y="-6480"/>
            <a:ext cx="8802720" cy="11588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7"/>
          <p:cNvSpPr/>
          <p:nvPr/>
        </p:nvSpPr>
        <p:spPr>
          <a:xfrm>
            <a:off x="5508720" y="299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0"/>
          <p:cNvSpPr/>
          <p:nvPr/>
        </p:nvSpPr>
        <p:spPr>
          <a:xfrm>
            <a:off x="3781440" y="386064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AutoShape 4"/>
          <p:cNvGrpSpPr/>
          <p:nvPr/>
        </p:nvGrpSpPr>
        <p:grpSpPr>
          <a:xfrm>
            <a:off x="195120" y="1384200"/>
            <a:ext cx="8674200" cy="1919520"/>
            <a:chOff x="195120" y="1384200"/>
            <a:chExt cx="8674200" cy="1919520"/>
          </a:xfrm>
        </p:grpSpPr>
        <p:pic>
          <p:nvPicPr>
            <p:cNvPr id="224" name="AutoShape 4" descr=""/>
            <p:cNvPicPr/>
            <p:nvPr/>
          </p:nvPicPr>
          <p:blipFill>
            <a:blip r:embed="rId2"/>
            <a:stretch/>
          </p:blipFill>
          <p:spPr>
            <a:xfrm>
              <a:off x="195120" y="1384200"/>
              <a:ext cx="8674200" cy="19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339840" y="1501920"/>
              <a:ext cx="8391240" cy="163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Первое упоминание в летописи о Москве относитс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К 1147 году. Найдите на «линии времени» это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год. Подсчитайте, сколько лет исполнилось Москв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Trebuchet MS"/>
                </a:rPr>
                <a:t>в 1997 году.      </a:t>
              </a:r>
              <a:r>
                <a:rPr b="1" i="1" lang="ru-RU" sz="2400" spc="-1" strike="noStrike">
                  <a:solidFill>
                    <a:srgbClr val="ffffff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6" name="Рисунок 1" descr=""/>
          <p:cNvPicPr/>
          <p:nvPr/>
        </p:nvPicPr>
        <p:blipFill>
          <a:blip r:embed="rId3"/>
          <a:srcRect l="0" t="35438" r="0" b="0"/>
          <a:stretch/>
        </p:blipFill>
        <p:spPr>
          <a:xfrm>
            <a:off x="212760" y="3573360"/>
            <a:ext cx="8572320" cy="19623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ая соединительная линия 3"/>
          <p:cNvSpPr/>
          <p:nvPr/>
        </p:nvSpPr>
        <p:spPr>
          <a:xfrm>
            <a:off x="5560920" y="3971880"/>
            <a:ext cx="0" cy="5824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5294520" y="3510000"/>
            <a:ext cx="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11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AutoShape 11"/>
          <p:cNvGrpSpPr/>
          <p:nvPr/>
        </p:nvGrpSpPr>
        <p:grpSpPr>
          <a:xfrm>
            <a:off x="281160" y="5516640"/>
            <a:ext cx="9148680" cy="1371600"/>
            <a:chOff x="281160" y="5516640"/>
            <a:chExt cx="9148680" cy="1371600"/>
          </a:xfrm>
        </p:grpSpPr>
        <p:pic>
          <p:nvPicPr>
            <p:cNvPr id="230" name="AutoShape 11" descr=""/>
            <p:cNvPicPr/>
            <p:nvPr/>
          </p:nvPicPr>
          <p:blipFill>
            <a:blip r:embed="rId4"/>
            <a:stretch/>
          </p:blipFill>
          <p:spPr>
            <a:xfrm>
              <a:off x="281160" y="5516640"/>
              <a:ext cx="914868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14520" y="5824440"/>
              <a:ext cx="849132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rebuchet MS"/>
                </a:rPr>
                <a:t>В 1997 году Москве исполнилось 850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225360" y="36360"/>
            <a:ext cx="8467920" cy="1159200"/>
          </a:xfrm>
          <a:prstGeom prst="rect">
            <a:avLst/>
          </a:prstGeom>
          <a:ln w="0">
            <a:noFill/>
          </a:ln>
        </p:spPr>
      </p:pic>
      <p:pic>
        <p:nvPicPr>
          <p:cNvPr id="233" name="AutoShape 4" descr=""/>
          <p:cNvPicPr/>
          <p:nvPr/>
        </p:nvPicPr>
        <p:blipFill>
          <a:blip r:embed="rId2"/>
          <a:stretch/>
        </p:blipFill>
        <p:spPr>
          <a:xfrm>
            <a:off x="268200" y="1311120"/>
            <a:ext cx="8674200" cy="1694160"/>
          </a:xfrm>
          <a:prstGeom prst="rect">
            <a:avLst/>
          </a:prstGeom>
          <a:ln w="0">
            <a:noFill/>
          </a:ln>
        </p:spPr>
      </p:pic>
      <p:grpSp>
        <p:nvGrpSpPr>
          <p:cNvPr id="234" name="AutoShape 11"/>
          <p:cNvGrpSpPr/>
          <p:nvPr/>
        </p:nvGrpSpPr>
        <p:grpSpPr>
          <a:xfrm>
            <a:off x="-42840" y="3230640"/>
            <a:ext cx="9296280" cy="2809800"/>
            <a:chOff x="-42840" y="3230640"/>
            <a:chExt cx="9296280" cy="2809800"/>
          </a:xfrm>
        </p:grpSpPr>
        <p:pic>
          <p:nvPicPr>
            <p:cNvPr id="235" name="AutoShape 11" descr=""/>
            <p:cNvPicPr/>
            <p:nvPr/>
          </p:nvPicPr>
          <p:blipFill>
            <a:blip r:embed="rId3"/>
            <a:stretch/>
          </p:blipFill>
          <p:spPr>
            <a:xfrm>
              <a:off x="-42840" y="3230640"/>
              <a:ext cx="929628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360360" y="3610080"/>
              <a:ext cx="8494560" cy="20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ac66bb"/>
                  </a:solidFill>
                  <a:latin typeface="Times New Roman"/>
                </a:rPr>
                <a:t> </a:t>
              </a: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65 год до н.э. был раньше на 105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65+40=105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" name="AutoShape 4" descr=""/>
          <p:cNvPicPr/>
          <p:nvPr/>
        </p:nvPicPr>
        <p:blipFill>
          <a:blip r:embed="rId4"/>
          <a:stretch/>
        </p:blipFill>
        <p:spPr>
          <a:xfrm>
            <a:off x="371520" y="1238400"/>
            <a:ext cx="8821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238" name="AutoShape 11"/>
          <p:cNvGrpSpPr/>
          <p:nvPr/>
        </p:nvGrpSpPr>
        <p:grpSpPr>
          <a:xfrm>
            <a:off x="-79200" y="3230640"/>
            <a:ext cx="9289800" cy="2809800"/>
            <a:chOff x="-79200" y="3230640"/>
            <a:chExt cx="9289800" cy="2809800"/>
          </a:xfrm>
        </p:grpSpPr>
        <p:pic>
          <p:nvPicPr>
            <p:cNvPr id="239" name="AutoShape 11" descr=""/>
            <p:cNvPicPr/>
            <p:nvPr/>
          </p:nvPicPr>
          <p:blipFill>
            <a:blip r:embed="rId5"/>
            <a:stretch/>
          </p:blipFill>
          <p:spPr>
            <a:xfrm>
              <a:off x="-79200" y="3230640"/>
              <a:ext cx="9289800" cy="28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324000" y="3610080"/>
              <a:ext cx="8494560" cy="20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Второе захоронение было сделано раньше на 136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1985-784=1201 г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874396"/>
                  </a:solidFill>
                  <a:latin typeface="Trebuchet MS"/>
                </a:rPr>
                <a:t>1985-920=1065 г.</a:t>
              </a:r>
              <a:r>
                <a:rPr b="1" i="1" lang="ru-RU" sz="2400" spc="-1" strike="noStrike">
                  <a:solidFill>
                    <a:srgbClr val="ac66bb"/>
                  </a:solidFill>
                  <a:latin typeface="Trebuchet MS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ac66bb"/>
                  </a:solidFill>
                  <a:latin typeface="Trebuchet MS"/>
                </a:rPr>
                <a:t>1201-1065 = 136 ле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225360" y="-176040"/>
            <a:ext cx="8467920" cy="1150920"/>
          </a:xfrm>
          <a:prstGeom prst="rect">
            <a:avLst/>
          </a:prstGeom>
          <a:ln w="0">
            <a:noFill/>
          </a:ln>
        </p:spPr>
      </p:pic>
      <p:grpSp>
        <p:nvGrpSpPr>
          <p:cNvPr id="242" name="AutoShape 4"/>
          <p:cNvGrpSpPr/>
          <p:nvPr/>
        </p:nvGrpSpPr>
        <p:grpSpPr>
          <a:xfrm>
            <a:off x="324000" y="950760"/>
            <a:ext cx="8277120" cy="1262160"/>
            <a:chOff x="324000" y="950760"/>
            <a:chExt cx="8277120" cy="1262160"/>
          </a:xfrm>
        </p:grpSpPr>
        <p:pic>
          <p:nvPicPr>
            <p:cNvPr id="243" name="AutoShape 4" descr=""/>
            <p:cNvPicPr/>
            <p:nvPr/>
          </p:nvPicPr>
          <p:blipFill>
            <a:blip r:embed="rId2"/>
            <a:stretch/>
          </p:blipFill>
          <p:spPr>
            <a:xfrm>
              <a:off x="324000" y="950760"/>
              <a:ext cx="82771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33440" y="103680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От первобытности к цивилизаци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AutoShape 4"/>
          <p:cNvGrpSpPr/>
          <p:nvPr/>
        </p:nvGrpSpPr>
        <p:grpSpPr>
          <a:xfrm>
            <a:off x="341280" y="2249640"/>
            <a:ext cx="8278920" cy="1261800"/>
            <a:chOff x="341280" y="2249640"/>
            <a:chExt cx="8278920" cy="1261800"/>
          </a:xfrm>
        </p:grpSpPr>
        <p:pic>
          <p:nvPicPr>
            <p:cNvPr id="246" name="AutoShape 4" descr=""/>
            <p:cNvPicPr/>
            <p:nvPr/>
          </p:nvPicPr>
          <p:blipFill>
            <a:blip r:embed="rId3"/>
            <a:stretch/>
          </p:blipFill>
          <p:spPr>
            <a:xfrm>
              <a:off x="341280" y="2249640"/>
              <a:ext cx="8278920" cy="126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52520" y="2333520"/>
              <a:ext cx="8059680" cy="10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Страна Егип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AutoShape 4"/>
          <p:cNvGrpSpPr/>
          <p:nvPr/>
        </p:nvGrpSpPr>
        <p:grpSpPr>
          <a:xfrm>
            <a:off x="341280" y="3541680"/>
            <a:ext cx="8278920" cy="1262160"/>
            <a:chOff x="341280" y="3541680"/>
            <a:chExt cx="8278920" cy="1262160"/>
          </a:xfrm>
        </p:grpSpPr>
        <p:pic>
          <p:nvPicPr>
            <p:cNvPr id="249" name="AutoShape 4" descr=""/>
            <p:cNvPicPr/>
            <p:nvPr/>
          </p:nvPicPr>
          <p:blipFill>
            <a:blip r:embed="rId4"/>
            <a:stretch/>
          </p:blipFill>
          <p:spPr>
            <a:xfrm>
              <a:off x="341280" y="3541680"/>
              <a:ext cx="8278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52520" y="362916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Разливы Нил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AutoShape 4"/>
          <p:cNvGrpSpPr/>
          <p:nvPr/>
        </p:nvGrpSpPr>
        <p:grpSpPr>
          <a:xfrm>
            <a:off x="341280" y="4913280"/>
            <a:ext cx="8278920" cy="1262160"/>
            <a:chOff x="341280" y="4913280"/>
            <a:chExt cx="8278920" cy="1262160"/>
          </a:xfrm>
        </p:grpSpPr>
        <p:pic>
          <p:nvPicPr>
            <p:cNvPr id="252" name="AutoShape 4" descr=""/>
            <p:cNvPicPr/>
            <p:nvPr/>
          </p:nvPicPr>
          <p:blipFill>
            <a:blip r:embed="rId5"/>
            <a:stretch/>
          </p:blipFill>
          <p:spPr>
            <a:xfrm>
              <a:off x="341280" y="4913280"/>
              <a:ext cx="8278920" cy="12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2520" y="4997520"/>
              <a:ext cx="805968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lnSpc>
                  <a:spcPct val="100000"/>
                </a:lnSpc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ffffff"/>
                  </a:solidFill>
                  <a:latin typeface="Trebuchet MS"/>
                </a:rPr>
                <a:t>Объединение Египт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Rectangle 2" descr=""/>
          <p:cNvPicPr/>
          <p:nvPr/>
        </p:nvPicPr>
        <p:blipFill>
          <a:blip r:embed="rId1"/>
          <a:stretch/>
        </p:blipFill>
        <p:spPr>
          <a:xfrm>
            <a:off x="225360" y="103320"/>
            <a:ext cx="8528040" cy="1244520"/>
          </a:xfrm>
          <a:prstGeom prst="rect">
            <a:avLst/>
          </a:prstGeom>
          <a:ln w="0">
            <a:noFill/>
          </a:ln>
        </p:spPr>
      </p:pic>
      <p:grpSp>
        <p:nvGrpSpPr>
          <p:cNvPr id="255" name="AutoShape 4"/>
          <p:cNvGrpSpPr/>
          <p:nvPr/>
        </p:nvGrpSpPr>
        <p:grpSpPr>
          <a:xfrm>
            <a:off x="195120" y="1884240"/>
            <a:ext cx="9247320" cy="3998880"/>
            <a:chOff x="195120" y="1884240"/>
            <a:chExt cx="9247320" cy="3998880"/>
          </a:xfrm>
        </p:grpSpPr>
        <p:pic>
          <p:nvPicPr>
            <p:cNvPr id="256" name="AutoShape 4" descr=""/>
            <p:cNvPicPr/>
            <p:nvPr/>
          </p:nvPicPr>
          <p:blipFill>
            <a:blip r:embed="rId2"/>
            <a:stretch/>
          </p:blipFill>
          <p:spPr>
            <a:xfrm>
              <a:off x="195120" y="1884240"/>
              <a:ext cx="9247320" cy="39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441360" y="2106720"/>
              <a:ext cx="8190000" cy="35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Главное условие перехода от первобытности к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Цивилизации – появление более 5.000 лет назад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государства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ff0000"/>
                  </a:solidFill>
                  <a:latin typeface="Trebuchet MS"/>
                </a:rPr>
                <a:t>ГОСУДАРСТВО – </a:t>
              </a: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политическая организац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общества, распространяющая свою власть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на страну и населения с помощью особого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Trebuchet MS"/>
                </a:rPr>
                <a:t>аппарата управления</a:t>
              </a:r>
              <a:r>
                <a:rPr b="1" i="1" lang="ru-RU" sz="2800" spc="-1" strike="noStrike">
                  <a:solidFill>
                    <a:srgbClr val="ffffff"/>
                  </a:solidFill>
                  <a:latin typeface="Trebuchet MS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Rectangle 2" descr=""/>
          <p:cNvPicPr/>
          <p:nvPr/>
        </p:nvPicPr>
        <p:blipFill>
          <a:blip r:embed="rId1"/>
          <a:stretch/>
        </p:blipFill>
        <p:spPr>
          <a:xfrm>
            <a:off x="73080" y="-85680"/>
            <a:ext cx="8851680" cy="1238040"/>
          </a:xfrm>
          <a:prstGeom prst="rect">
            <a:avLst/>
          </a:prstGeom>
          <a:ln w="0">
            <a:noFill/>
          </a:ln>
        </p:spPr>
      </p:pic>
      <p:sp>
        <p:nvSpPr>
          <p:cNvPr id="259" name="TextBox 4"/>
          <p:cNvSpPr/>
          <p:nvPr/>
        </p:nvSpPr>
        <p:spPr>
          <a:xfrm>
            <a:off x="990720" y="1676520"/>
            <a:ext cx="79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Вспомните, что называют эпохой первобытност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5"/>
          <p:cNvSpPr/>
          <p:nvPr/>
        </p:nvSpPr>
        <p:spPr>
          <a:xfrm>
            <a:off x="1219320" y="2209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Первобытн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это время до появления первых государств, больших городов, письм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WordArt 28"/>
          <p:cNvSpPr txBox="1"/>
          <p:nvPr/>
        </p:nvSpPr>
        <p:spPr>
          <a:xfrm>
            <a:off x="609480" y="152388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?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2" name="TextBox 7"/>
          <p:cNvSpPr/>
          <p:nvPr/>
        </p:nvSpPr>
        <p:spPr>
          <a:xfrm>
            <a:off x="500040" y="292896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е государства появились более пяти тысяч лет назад. С появлением государств начинается переход от первобытности к цивил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Группа 10"/>
          <p:cNvGrpSpPr/>
          <p:nvPr/>
        </p:nvGrpSpPr>
        <p:grpSpPr>
          <a:xfrm>
            <a:off x="380880" y="4267080"/>
            <a:ext cx="8763120" cy="838440"/>
            <a:chOff x="380880" y="4267080"/>
            <a:chExt cx="8763120" cy="838440"/>
          </a:xfrm>
        </p:grpSpPr>
        <p:sp>
          <p:nvSpPr>
            <p:cNvPr id="264" name="Прямоугольник 8"/>
            <p:cNvSpPr/>
            <p:nvPr/>
          </p:nvSpPr>
          <p:spPr>
            <a:xfrm>
              <a:off x="838080" y="4267080"/>
              <a:ext cx="830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Calibri"/>
                </a:rPr>
                <a:t>Что называют «цивилизацией»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WordArt 28"/>
            <p:cNvSpPr txBox="1"/>
            <p:nvPr/>
          </p:nvSpPr>
          <p:spPr>
            <a:xfrm>
              <a:off x="380880" y="4343040"/>
              <a:ext cx="609480" cy="762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b2b2b2">
                        <a:alpha val="80000"/>
                      </a:srgbClr>
                    </a:outerShdw>
                  </a:effectLst>
                  <a:latin typeface="Times New Roman"/>
                </a:rPr>
                <a:t>?</a:t>
              </a:r>
              <a:endPara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266" name="TextBox 11"/>
          <p:cNvSpPr/>
          <p:nvPr/>
        </p:nvSpPr>
        <p:spPr>
          <a:xfrm>
            <a:off x="609480" y="548640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"/>
              </a:rPr>
              <a:t>Цивилизация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это объединение людей, связанных общей культурой, языком, традицией упра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225360" y="-49320"/>
            <a:ext cx="8467920" cy="1244880"/>
          </a:xfrm>
          <a:prstGeom prst="rect">
            <a:avLst/>
          </a:prstGeom>
          <a:ln w="0">
            <a:noFill/>
          </a:ln>
        </p:spPr>
      </p:pic>
      <p:pic>
        <p:nvPicPr>
          <p:cNvPr id="268" name="Схема 1" descr=""/>
          <p:cNvPicPr/>
          <p:nvPr/>
        </p:nvPicPr>
        <p:blipFill>
          <a:blip r:embed="rId2"/>
          <a:stretch/>
        </p:blipFill>
        <p:spPr>
          <a:xfrm>
            <a:off x="324000" y="1596960"/>
            <a:ext cx="8545320" cy="5005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Picture 5" descr="170"/>
          <p:cNvPicPr/>
          <p:nvPr/>
        </p:nvPicPr>
        <p:blipFill>
          <a:blip r:embed="rId1"/>
          <a:stretch/>
        </p:blipFill>
        <p:spPr>
          <a:xfrm>
            <a:off x="0" y="1155600"/>
            <a:ext cx="6012000" cy="57024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nile"/>
          <p:cNvPicPr/>
          <p:nvPr/>
        </p:nvPicPr>
        <p:blipFill>
          <a:blip r:embed="rId2"/>
          <a:stretch/>
        </p:blipFill>
        <p:spPr>
          <a:xfrm>
            <a:off x="5425920" y="3213000"/>
            <a:ext cx="3632400" cy="3516480"/>
          </a:xfrm>
          <a:prstGeom prst="rect">
            <a:avLst/>
          </a:prstGeom>
          <a:ln w="0">
            <a:noFill/>
          </a:ln>
        </p:spPr>
      </p:pic>
      <p:sp>
        <p:nvSpPr>
          <p:cNvPr id="271" name="Прямоугольник 4"/>
          <p:cNvSpPr/>
          <p:nvPr/>
        </p:nvSpPr>
        <p:spPr>
          <a:xfrm>
            <a:off x="571680" y="0"/>
            <a:ext cx="75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Нил – самая длинная река в мир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7:29:52Z</dcterms:created>
  <dc:creator>Admin</dc:creator>
  <dc:description/>
  <dc:language>en-US</dc:language>
  <cp:lastModifiedBy>ТатьянА</cp:lastModifiedBy>
  <dcterms:modified xsi:type="dcterms:W3CDTF">2019-01-02T12:23:07Z</dcterms:modified>
  <cp:revision>9</cp:revision>
  <dc:subject/>
  <dc:title>Слайд 1</dc:title>
</cp:coreProperties>
</file>