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F7AA-6C46-48BD-8329-F64EEBB0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3166-850C-4CCA-825A-7609B087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45E-FC8F-49F2-A04D-50F91FF1A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72E-6C09-46EC-8ECB-C31E95AE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871D-E87E-49FA-A953-33D305280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0D358-1B04-4FBA-A2FC-E7B43056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E09C-45CF-4CB8-B6E2-CAB6B7F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6445-2AC2-4779-87CF-BE768C81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9FB2E-4BF5-443B-AC4E-0E48A9F4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6746-AADF-4BF4-8FCA-2A990E98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F4EF-C12B-423C-A57D-31A5101B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4682-3C9B-4342-9314-4F64A971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3E0F-C5FA-44AC-A87F-5CF90242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A337-5A9F-4A71-A8C1-E9DC1CE6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D2D40-FCC4-4D1C-ADB9-4666C24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8054-F93A-4E7F-8E7E-34704FFF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9929-8397-4D0B-A135-1C750E945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42860-B6CB-4A42-9162-8DD08A2C6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26887-AC32-40F7-9FC3-B999BF4D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BA865-B627-4F1C-BB60-3F2D820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4720E-AF83-4E29-B1CE-DA25015CC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5C344-6F46-4BFB-864F-E6078F3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93BF-42AB-4D27-8A24-F102CFD2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CDBBE-0D93-47F9-ACFD-66DD328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7D76-C3FD-4247-9C08-A585114E6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7F8A-EA35-4464-8949-A464CA9F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A04B0-EE65-49EB-A6BA-438AC7D6D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6DBD-CBB7-43C6-9306-EFD3453C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A1BBD-F269-4A91-96B4-5DCB2F27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3585-7941-42DC-B747-CE11525A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AAE5E-29E1-4670-95EF-0E7EE2978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9DF0-1837-4B45-B6B8-BE0238A8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A8F89-8524-4E98-A394-407E24A7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E0ED-8605-404B-8CD5-E63C49C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E002C-37B4-4E33-9991-C7FA2E16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593C8-AA46-4653-AF6D-B57E9F5B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D6B3F-9FA2-48BF-AAA1-61798A3D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5EFF1-1396-4744-A413-116A9DAC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CD462-3D27-4674-9406-F9437D76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5CE00-A6D1-40A4-BF82-AE2CD2E1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815DC-BD96-4522-BAE0-E1933668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EAE94-7206-4EF3-88FC-4DFA00DD0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8D5E-A8B7-4800-A598-FB0EAB57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51B08-74D4-42AC-88F5-AF43EA5D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7DB-3912-4107-8700-8DD0D5599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10BF0-9003-4177-A0E8-CC518042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09FEA-7C9B-41FB-9D67-2338B96C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5C676-0302-45EA-9685-94DC53A77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F2F7-5F1D-4871-9386-F9293FB5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441E5A-AE0D-4068-B4F2-DA18D38D8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69A3-E5C4-4786-8263-1D898615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DE974-4D58-486D-AC24-A0C754B4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27E5-64D1-4BE7-BDB0-4AF8239A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6289B-9F50-48DC-99A9-D232B7F4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708E-3E77-42FB-90B9-21BAAA7A9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97E-FAC3-446E-B8F7-BE199EF9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C70DF-9311-48FD-9902-F4EBD814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8C20-46C5-4F53-9885-A47F5416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0538-7DF8-44D6-8B05-A903755E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AC47-F247-4484-A7A9-14D5050A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B13F-FB8A-4FDC-944C-2E3AC30AC82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CC56-C03C-40CE-9A9A-D19D57816E2F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368-3BB2-4EE7-9E73-144B3E5AEB2F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4E93-7DD7-45A3-A0D3-5845CF265905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11E5-2332-49A6-A6E8-C21405413D7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802720" cy="1158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55087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781440" y="386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4"/>
          <p:cNvGrpSpPr/>
          <p:nvPr/>
        </p:nvGrpSpPr>
        <p:grpSpPr>
          <a:xfrm>
            <a:off x="195120" y="1384200"/>
            <a:ext cx="8674200" cy="1919520"/>
            <a:chOff x="195120" y="1384200"/>
            <a:chExt cx="8674200" cy="1919520"/>
          </a:xfrm>
        </p:grpSpPr>
        <p:pic>
          <p:nvPicPr>
            <p:cNvPr id="224" name="AutoShape 4" descr=""/>
            <p:cNvPicPr/>
            <p:nvPr/>
          </p:nvPicPr>
          <p:blipFill>
            <a:blip r:embed="rId2"/>
            <a:stretch/>
          </p:blipFill>
          <p:spPr>
            <a:xfrm>
              <a:off x="195120" y="1384200"/>
              <a:ext cx="86742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39840" y="1501920"/>
              <a:ext cx="839124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Первое упоминание в летописи о Москве относи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К 1147 году. Найдите на «линии времени» эт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год. Подсчитайте, сколько лет исполнилось Моск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в 1997 году.     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Рисунок 1" descr=""/>
          <p:cNvPicPr/>
          <p:nvPr/>
        </p:nvPicPr>
        <p:blipFill>
          <a:blip r:embed="rId3"/>
          <a:srcRect l="0" t="35438" r="0" b="0"/>
          <a:stretch/>
        </p:blipFill>
        <p:spPr>
          <a:xfrm>
            <a:off x="212760" y="3573360"/>
            <a:ext cx="8572320" cy="1962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ая соединительная линия 3"/>
          <p:cNvSpPr/>
          <p:nvPr/>
        </p:nvSpPr>
        <p:spPr>
          <a:xfrm>
            <a:off x="5560920" y="3971880"/>
            <a:ext cx="0" cy="582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5294520" y="351000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1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AutoShape 11"/>
          <p:cNvGrpSpPr/>
          <p:nvPr/>
        </p:nvGrpSpPr>
        <p:grpSpPr>
          <a:xfrm>
            <a:off x="281160" y="5516640"/>
            <a:ext cx="9148680" cy="1371600"/>
            <a:chOff x="281160" y="5516640"/>
            <a:chExt cx="9148680" cy="1371600"/>
          </a:xfrm>
        </p:grpSpPr>
        <p:pic>
          <p:nvPicPr>
            <p:cNvPr id="230" name="AutoShape 11" descr=""/>
            <p:cNvPicPr/>
            <p:nvPr/>
          </p:nvPicPr>
          <p:blipFill>
            <a:blip r:embed="rId4"/>
            <a:stretch/>
          </p:blipFill>
          <p:spPr>
            <a:xfrm>
              <a:off x="281160" y="5516640"/>
              <a:ext cx="91486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14520" y="5824440"/>
              <a:ext cx="84913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 1997 году Москве исполнилось 850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225360" y="36360"/>
            <a:ext cx="8467920" cy="1159200"/>
          </a:xfrm>
          <a:prstGeom prst="rect">
            <a:avLst/>
          </a:prstGeom>
          <a:ln w="0">
            <a:noFill/>
          </a:ln>
        </p:spPr>
      </p:pic>
      <p:pic>
        <p:nvPicPr>
          <p:cNvPr id="233" name="AutoShape 4" descr=""/>
          <p:cNvPicPr/>
          <p:nvPr/>
        </p:nvPicPr>
        <p:blipFill>
          <a:blip r:embed="rId2"/>
          <a:stretch/>
        </p:blipFill>
        <p:spPr>
          <a:xfrm>
            <a:off x="268200" y="1311120"/>
            <a:ext cx="8674200" cy="1694160"/>
          </a:xfrm>
          <a:prstGeom prst="rect">
            <a:avLst/>
          </a:prstGeom>
          <a:ln w="0">
            <a:noFill/>
          </a:ln>
        </p:spPr>
      </p:pic>
      <p:grpSp>
        <p:nvGrpSpPr>
          <p:cNvPr id="234" name="AutoShape 11"/>
          <p:cNvGrpSpPr/>
          <p:nvPr/>
        </p:nvGrpSpPr>
        <p:grpSpPr>
          <a:xfrm>
            <a:off x="-42840" y="3230640"/>
            <a:ext cx="9296280" cy="2809800"/>
            <a:chOff x="-42840" y="3230640"/>
            <a:chExt cx="9296280" cy="2809800"/>
          </a:xfrm>
        </p:grpSpPr>
        <p:pic>
          <p:nvPicPr>
            <p:cNvPr id="235" name="AutoShape 11" descr=""/>
            <p:cNvPicPr/>
            <p:nvPr/>
          </p:nvPicPr>
          <p:blipFill>
            <a:blip r:embed="rId3"/>
            <a:stretch/>
          </p:blipFill>
          <p:spPr>
            <a:xfrm>
              <a:off x="-42840" y="323064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60360" y="361008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ac66b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65 год до н.э. был раньше на 105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65+40=105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AutoShape 4" descr=""/>
          <p:cNvPicPr/>
          <p:nvPr/>
        </p:nvPicPr>
        <p:blipFill>
          <a:blip r:embed="rId4"/>
          <a:stretch/>
        </p:blipFill>
        <p:spPr>
          <a:xfrm>
            <a:off x="371520" y="1238400"/>
            <a:ext cx="8821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38" name="AutoShape 11"/>
          <p:cNvGrpSpPr/>
          <p:nvPr/>
        </p:nvGrpSpPr>
        <p:grpSpPr>
          <a:xfrm>
            <a:off x="-79200" y="3230640"/>
            <a:ext cx="9289800" cy="2809800"/>
            <a:chOff x="-79200" y="3230640"/>
            <a:chExt cx="9289800" cy="2809800"/>
          </a:xfrm>
        </p:grpSpPr>
        <p:pic>
          <p:nvPicPr>
            <p:cNvPr id="239" name="AutoShape 11" descr=""/>
            <p:cNvPicPr/>
            <p:nvPr/>
          </p:nvPicPr>
          <p:blipFill>
            <a:blip r:embed="rId5"/>
            <a:stretch/>
          </p:blipFill>
          <p:spPr>
            <a:xfrm>
              <a:off x="-79200" y="3230640"/>
              <a:ext cx="92898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4000" y="3610080"/>
              <a:ext cx="84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Второе захоронение было сделано раньше на 136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1985-784=1201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1985-920=1065 г.</a:t>
              </a:r>
              <a:r>
                <a:rPr b="1" i="1" lang="ru-RU" sz="2400" spc="-1" strike="noStrike">
                  <a:solidFill>
                    <a:srgbClr val="ac66bb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ac66bb"/>
                  </a:solidFill>
                  <a:latin typeface="Trebuchet MS"/>
                </a:rPr>
                <a:t>1201-1065 = 136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25360" y="-176040"/>
            <a:ext cx="84679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2" name="AutoShape 4"/>
          <p:cNvGrpSpPr/>
          <p:nvPr/>
        </p:nvGrpSpPr>
        <p:grpSpPr>
          <a:xfrm>
            <a:off x="324000" y="950760"/>
            <a:ext cx="8277120" cy="1262160"/>
            <a:chOff x="324000" y="950760"/>
            <a:chExt cx="8277120" cy="1262160"/>
          </a:xfrm>
        </p:grpSpPr>
        <p:pic>
          <p:nvPicPr>
            <p:cNvPr id="243" name="AutoShape 4" descr=""/>
            <p:cNvPicPr/>
            <p:nvPr/>
          </p:nvPicPr>
          <p:blipFill>
            <a:blip r:embed="rId2"/>
            <a:stretch/>
          </p:blipFill>
          <p:spPr>
            <a:xfrm>
              <a:off x="324000" y="950760"/>
              <a:ext cx="82771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33440" y="103680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От первобытности к цивилиз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4"/>
          <p:cNvGrpSpPr/>
          <p:nvPr/>
        </p:nvGrpSpPr>
        <p:grpSpPr>
          <a:xfrm>
            <a:off x="341280" y="2249640"/>
            <a:ext cx="8278920" cy="1261800"/>
            <a:chOff x="341280" y="2249640"/>
            <a:chExt cx="8278920" cy="1261800"/>
          </a:xfrm>
        </p:grpSpPr>
        <p:pic>
          <p:nvPicPr>
            <p:cNvPr id="246" name="AutoShape 4" descr=""/>
            <p:cNvPicPr/>
            <p:nvPr/>
          </p:nvPicPr>
          <p:blipFill>
            <a:blip r:embed="rId3"/>
            <a:stretch/>
          </p:blipFill>
          <p:spPr>
            <a:xfrm>
              <a:off x="341280" y="2249640"/>
              <a:ext cx="82789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52520" y="2333520"/>
              <a:ext cx="805968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Страна Егип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4"/>
          <p:cNvGrpSpPr/>
          <p:nvPr/>
        </p:nvGrpSpPr>
        <p:grpSpPr>
          <a:xfrm>
            <a:off x="341280" y="3541680"/>
            <a:ext cx="8278920" cy="1262160"/>
            <a:chOff x="341280" y="3541680"/>
            <a:chExt cx="8278920" cy="1262160"/>
          </a:xfrm>
        </p:grpSpPr>
        <p:pic>
          <p:nvPicPr>
            <p:cNvPr id="249" name="AutoShape 4" descr=""/>
            <p:cNvPicPr/>
            <p:nvPr/>
          </p:nvPicPr>
          <p:blipFill>
            <a:blip r:embed="rId4"/>
            <a:stretch/>
          </p:blipFill>
          <p:spPr>
            <a:xfrm>
              <a:off x="341280" y="3541680"/>
              <a:ext cx="8278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52520" y="362916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Разливы Ни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4"/>
          <p:cNvGrpSpPr/>
          <p:nvPr/>
        </p:nvGrpSpPr>
        <p:grpSpPr>
          <a:xfrm>
            <a:off x="341280" y="4913280"/>
            <a:ext cx="8278920" cy="1262160"/>
            <a:chOff x="341280" y="4913280"/>
            <a:chExt cx="8278920" cy="1262160"/>
          </a:xfrm>
        </p:grpSpPr>
        <p:pic>
          <p:nvPicPr>
            <p:cNvPr id="252" name="AutoShape 4" descr=""/>
            <p:cNvPicPr/>
            <p:nvPr/>
          </p:nvPicPr>
          <p:blipFill>
            <a:blip r:embed="rId5"/>
            <a:stretch/>
          </p:blipFill>
          <p:spPr>
            <a:xfrm>
              <a:off x="341280" y="4913280"/>
              <a:ext cx="8278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2520" y="499752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Объединение Егип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25360" y="103320"/>
            <a:ext cx="8528040" cy="1244520"/>
          </a:xfrm>
          <a:prstGeom prst="rect">
            <a:avLst/>
          </a:prstGeom>
          <a:ln w="0">
            <a:noFill/>
          </a:ln>
        </p:spPr>
      </p:pic>
      <p:grpSp>
        <p:nvGrpSpPr>
          <p:cNvPr id="255" name="AutoShape 4"/>
          <p:cNvGrpSpPr/>
          <p:nvPr/>
        </p:nvGrpSpPr>
        <p:grpSpPr>
          <a:xfrm>
            <a:off x="195120" y="1884240"/>
            <a:ext cx="9247320" cy="3998880"/>
            <a:chOff x="195120" y="1884240"/>
            <a:chExt cx="9247320" cy="3998880"/>
          </a:xfrm>
        </p:grpSpPr>
        <p:pic>
          <p:nvPicPr>
            <p:cNvPr id="256" name="AutoShape 4" descr=""/>
            <p:cNvPicPr/>
            <p:nvPr/>
          </p:nvPicPr>
          <p:blipFill>
            <a:blip r:embed="rId2"/>
            <a:stretch/>
          </p:blipFill>
          <p:spPr>
            <a:xfrm>
              <a:off x="195120" y="1884240"/>
              <a:ext cx="924732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41360" y="2106720"/>
              <a:ext cx="8190000" cy="35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Главное условие перехода от первобытности 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Цивилизации – появление более 5.000 лет наза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государств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rebuchet MS"/>
                </a:rPr>
                <a:t>ГОСУДАРСТВО –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политическая организац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общества, распространяющая свою вла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на страну и населения с помощью особ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аппарата управления</a:t>
              </a:r>
              <a:r>
                <a:rPr b="1" i="1" lang="ru-RU" sz="2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73080" y="-85680"/>
            <a:ext cx="8851680" cy="12380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990720" y="16765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спомните, что называют эпохой первобыт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219320" y="2209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ервобытн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время до появления первых государств, больших городов, письм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28"/>
          <p:cNvSpPr txBox="1"/>
          <p:nvPr/>
        </p:nvSpPr>
        <p:spPr>
          <a:xfrm>
            <a:off x="609480" y="1523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500040" y="292896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е государства появились более пяти тысяч лет назад. С появлением государств начинается переход от первобытности к циви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10"/>
          <p:cNvGrpSpPr/>
          <p:nvPr/>
        </p:nvGrpSpPr>
        <p:grpSpPr>
          <a:xfrm>
            <a:off x="380880" y="4267080"/>
            <a:ext cx="8763120" cy="838440"/>
            <a:chOff x="380880" y="4267080"/>
            <a:chExt cx="8763120" cy="838440"/>
          </a:xfrm>
        </p:grpSpPr>
        <p:sp>
          <p:nvSpPr>
            <p:cNvPr id="264" name="Прямоугольник 8"/>
            <p:cNvSpPr/>
            <p:nvPr/>
          </p:nvSpPr>
          <p:spPr>
            <a:xfrm>
              <a:off x="838080" y="4267080"/>
              <a:ext cx="83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Что называют «цивилизацией»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28"/>
            <p:cNvSpPr txBox="1"/>
            <p:nvPr/>
          </p:nvSpPr>
          <p:spPr>
            <a:xfrm>
              <a:off x="380880" y="4343040"/>
              <a:ext cx="6094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66" name="TextBox 11"/>
          <p:cNvSpPr/>
          <p:nvPr/>
        </p:nvSpPr>
        <p:spPr>
          <a:xfrm>
            <a:off x="609480" y="54864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Цивилиза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объединение людей, связанных общей культурой, языком, традицией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25360" y="-49320"/>
            <a:ext cx="8467920" cy="1244880"/>
          </a:xfrm>
          <a:prstGeom prst="rect">
            <a:avLst/>
          </a:prstGeom>
          <a:ln w="0">
            <a:noFill/>
          </a:ln>
        </p:spPr>
      </p:pic>
      <p:pic>
        <p:nvPicPr>
          <p:cNvPr id="268" name="Схема 1" descr=""/>
          <p:cNvPicPr/>
          <p:nvPr/>
        </p:nvPicPr>
        <p:blipFill>
          <a:blip r:embed="rId2"/>
          <a:stretch/>
        </p:blipFill>
        <p:spPr>
          <a:xfrm>
            <a:off x="324000" y="1596960"/>
            <a:ext cx="854532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170"/>
          <p:cNvPicPr/>
          <p:nvPr/>
        </p:nvPicPr>
        <p:blipFill>
          <a:blip r:embed="rId1"/>
          <a:stretch/>
        </p:blipFill>
        <p:spPr>
          <a:xfrm>
            <a:off x="0" y="1155600"/>
            <a:ext cx="6012000" cy="5702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nile"/>
          <p:cNvPicPr/>
          <p:nvPr/>
        </p:nvPicPr>
        <p:blipFill>
          <a:blip r:embed="rId2"/>
          <a:stretch/>
        </p:blipFill>
        <p:spPr>
          <a:xfrm>
            <a:off x="5425920" y="3213000"/>
            <a:ext cx="3632400" cy="35164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571680" y="0"/>
            <a:ext cx="75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ил – самая длинная река в ми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7:29:52Z</dcterms:created>
  <dc:creator>Admin</dc:creator>
  <dc:description/>
  <dc:language>en-US</dc:language>
  <cp:lastModifiedBy>ТатьянА</cp:lastModifiedBy>
  <dcterms:modified xsi:type="dcterms:W3CDTF">2019-01-02T12:23:07Z</dcterms:modified>
  <cp:revision>9</cp:revision>
  <dc:subject/>
  <dc:title>Слайд 1</dc:title>
</cp:coreProperties>
</file>