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4.png" ContentType="image/png"/>
  <Override PartName="/ppt/media/image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0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23EA8-EBA3-4A93-A66F-2BE2BE373C3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94E0B-FBD9-418E-B19E-A8A4C854A94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652C5-8876-42B1-B226-E55011369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F5193-5BFE-4F7F-BB49-571FC500B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290F6-758A-45D5-BA54-FFB0402C6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F0B84-D911-4656-A980-30AF0556E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FBD9B-D872-442F-BCE5-3C3E4C671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0CB22-6F79-4F69-8066-9AC665DCB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91109-8A02-4472-A06D-E9D5905AD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FB573-2B0F-440D-A5AA-27668778A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0A49B-1FC2-4CD8-A15D-CFA184303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3F76C-AE46-4F87-AF59-914A6BDE6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BB66D-25C4-44CF-829F-608004770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AD18D-4157-4ADE-BFAF-5564505CA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4CB9B-38A1-425F-829A-936E7E0E9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2F22C-2C22-4A8E-B787-23C5E2C06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79D30-E020-4D70-93A5-B4B87D748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2C30B-A940-4AA6-B0C3-BA9BB6A4D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C41B8-59C1-4807-A4D0-C7EADD57A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E71A47-CAFD-48E4-9E58-F333EC69A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0DF6A3-7EFA-44D4-A90C-96D19338D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35D604-7766-42EB-832D-CFCA0903E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E2CA1E-6141-4846-8CAF-D9D8BB928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AFB5D6-6FA1-489D-A9BC-0CA31868F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8450E-CAC1-47E8-946E-245CAB78D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F639AA-4BE5-48DA-9FF9-3ABD477B9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751B19-F1BD-48D8-ADA6-641944505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6F42CD-5920-4412-9344-A0D0CAB4C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A62BC9-6A99-47AF-84BD-3CD78450D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77B7AF-71FB-4FE1-A1CA-73D1EC08F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E1BA82-4B05-4B07-8C54-115285AEE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2C33F9-18E3-42A2-9194-EA4FAABCC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19C24E-2F66-467F-8E20-8B3D57B09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022807-3349-47E6-AEB0-F9A182E6E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E687F4-256D-485C-830B-C4BAA3EA8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EBD68-BEC3-4D8B-BB6F-D051D3495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882F0B-1EA7-4DBC-9C79-F1D4E05D9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0C1EA8-0EAC-4CF9-83ED-950DDCE1C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D0F8E7-5D3E-4267-BE71-2BDD10C5E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9FA486-9559-4643-9A14-34A8A9BE2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52AFA8-CDE3-4D35-A451-768B1011E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941721-5980-4338-A3DD-2FD637BD9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2D4D91-C757-4A54-BC7A-39CA2DDE8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F80206-9219-4818-BCFB-F1B1AF2F5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D439F8-5C4E-494F-AFCD-8E1F8259C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8493BC-50B7-4EFE-85E1-73FFAEDC7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6B4CD-4700-4456-B35E-05993427E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8BEBE8-DDA2-4E0F-A981-A9587B881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A52C77-0BD8-4F38-A501-DC781ACB4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552209-3458-435C-908E-3B20F395A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4BA786-7676-4A73-B78C-E88380E6F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EB546D-F044-420C-B20E-F6CCCB951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230C52-6EAC-4E50-A85C-78E273696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431B78-6644-44CC-A57E-B6EF8C9F2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84A8C8-E80F-433C-986D-3B4786763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7320FE-5B44-415F-B1BD-3C56307EA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85829B-8656-4753-9931-F962679B8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6DC0D-068F-4A54-8A50-6FEA9D779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126E9D-FA5B-4EE4-83D0-7407D4324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0A191-133D-4707-B017-B448E40C2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2B946-53BC-4FE5-A881-735A7AD2C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E7CBE-113F-411E-BCA6-5BB229A23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140F5-1FFA-4458-9A6D-E03F31767722}" type="slidenum">
              <a:rPr b="0" lang="ru-RU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9BB43-A389-4309-8E11-6E33C511ECD2}" type="slidenum">
              <a:rPr b="0" lang="ru-RU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A403B-6E05-4D9C-8C6A-B932578D7967}" type="slidenum">
              <a:rPr b="0" lang="ru-RU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4e7ed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4e7ed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7F184-F168-4F55-97E8-C00FB22EBEDA}" type="slidenum">
              <a:rPr b="0" lang="ru-RU" sz="1100" spc="-1" strike="noStrike">
                <a:solidFill>
                  <a:srgbClr val="f4e7ed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698AC-427D-4444-82F1-7382AE19A5BE}" type="slidenum">
              <a:rPr b="0" lang="ru-RU" sz="1100" spc="-1" strike="noStrike">
                <a:solidFill>
                  <a:srgbClr val="b13f9a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2"/>
          <p:cNvSpPr/>
          <p:nvPr/>
        </p:nvSpPr>
        <p:spPr>
          <a:xfrm>
            <a:off x="457200" y="380880"/>
            <a:ext cx="8229600" cy="7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13f9a"/>
                </a:solidFill>
                <a:latin typeface="Trebuchet MS"/>
              </a:rPr>
              <a:t>Запомним новые слов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28760" y="121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0000"/>
                </a:solidFill>
                <a:latin typeface="Trebuchet MS"/>
              </a:rPr>
              <a:t>Папирус</a:t>
            </a:r>
            <a:r>
              <a:rPr b="0" lang="ru-RU" sz="2200" spc="-1" strike="noStrike">
                <a:solidFill>
                  <a:srgbClr val="000000"/>
                </a:solidFill>
                <a:latin typeface="Trebuchet MS"/>
              </a:rPr>
              <a:t> – высокий тростник, растущий на берегах Нила, из которого египтяне делали похожий на бумагу писчий материал, также называемый папирусом.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9" name="Picture 2" descr=""/>
          <p:cNvPicPr/>
          <p:nvPr/>
        </p:nvPicPr>
        <p:blipFill>
          <a:blip r:embed="rId1"/>
          <a:stretch/>
        </p:blipFill>
        <p:spPr>
          <a:xfrm>
            <a:off x="762120" y="3200400"/>
            <a:ext cx="3200400" cy="240048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2" descr=""/>
          <p:cNvPicPr/>
          <p:nvPr/>
        </p:nvPicPr>
        <p:blipFill>
          <a:blip r:embed="rId2"/>
          <a:stretch/>
        </p:blipFill>
        <p:spPr>
          <a:xfrm>
            <a:off x="4343400" y="3962520"/>
            <a:ext cx="4192560" cy="2252520"/>
          </a:xfrm>
          <a:prstGeom prst="rect">
            <a:avLst/>
          </a:prstGeom>
          <a:ln w="0">
            <a:noFill/>
          </a:ln>
        </p:spPr>
      </p:pic>
      <p:sp>
        <p:nvSpPr>
          <p:cNvPr id="231" name="TextBox 7"/>
          <p:cNvSpPr/>
          <p:nvPr/>
        </p:nvSpPr>
        <p:spPr>
          <a:xfrm>
            <a:off x="990720" y="5715000"/>
            <a:ext cx="2666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b13f9a"/>
                </a:solidFill>
                <a:latin typeface="Monotype Corsiva"/>
              </a:rPr>
              <a:t>Растение папиру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Box 8"/>
          <p:cNvSpPr/>
          <p:nvPr/>
        </p:nvSpPr>
        <p:spPr>
          <a:xfrm>
            <a:off x="3886200" y="6248520"/>
            <a:ext cx="52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b13f9a"/>
                </a:solidFill>
                <a:latin typeface="Monotype Corsiva"/>
              </a:rPr>
              <a:t>Древнеегипетский папиру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2"/>
          <p:cNvSpPr/>
          <p:nvPr/>
        </p:nvSpPr>
        <p:spPr>
          <a:xfrm>
            <a:off x="457200" y="380880"/>
            <a:ext cx="8229600" cy="7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13f9a"/>
                </a:solidFill>
                <a:latin typeface="Trebuchet MS"/>
              </a:rPr>
              <a:t>Запомним новые слов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Содержимое 12"/>
          <p:cNvSpPr/>
          <p:nvPr/>
        </p:nvSpPr>
        <p:spPr>
          <a:xfrm>
            <a:off x="533520" y="1676520"/>
            <a:ext cx="49528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f4e7ed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ff0000"/>
                </a:solidFill>
                <a:latin typeface="Trebuchet MS"/>
              </a:rPr>
              <a:t>Дельта</a:t>
            </a:r>
            <a:r>
              <a:rPr b="0" lang="ru-RU" sz="2100" spc="-1" strike="noStrike">
                <a:solidFill>
                  <a:srgbClr val="000000"/>
                </a:solidFill>
                <a:latin typeface="Trebuchet MS"/>
              </a:rPr>
              <a:t> – место впадения реки в другой водоем, где она делится на несколько рукавов, образующих треугольник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7" descr=""/>
          <p:cNvPicPr/>
          <p:nvPr/>
        </p:nvPicPr>
        <p:blipFill>
          <a:blip r:embed="rId1"/>
          <a:stretch/>
        </p:blipFill>
        <p:spPr>
          <a:xfrm>
            <a:off x="5638680" y="1600200"/>
            <a:ext cx="3200400" cy="2577960"/>
          </a:xfrm>
          <a:prstGeom prst="rect">
            <a:avLst/>
          </a:prstGeom>
          <a:ln w="50760">
            <a:solidFill>
              <a:srgbClr val="e36406"/>
            </a:solidFill>
            <a:miter/>
          </a:ln>
        </p:spPr>
      </p:pic>
      <p:sp>
        <p:nvSpPr>
          <p:cNvPr id="236" name="Содержимое 12"/>
          <p:cNvSpPr/>
          <p:nvPr/>
        </p:nvSpPr>
        <p:spPr>
          <a:xfrm>
            <a:off x="609480" y="4343400"/>
            <a:ext cx="49532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f4e7ed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ff0000"/>
                </a:solidFill>
                <a:latin typeface="Trebuchet MS"/>
              </a:rPr>
              <a:t>Оазис</a:t>
            </a:r>
            <a:r>
              <a:rPr b="0" lang="ru-RU" sz="2100" spc="-1" strike="noStrike">
                <a:solidFill>
                  <a:srgbClr val="000000"/>
                </a:solidFill>
                <a:latin typeface="Trebuchet MS"/>
              </a:rPr>
              <a:t> – островки зелени среди песков пустыни, где растут пальмы и кустарники вокруг бьющей ключом из-под земли воды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3" descr=""/>
          <p:cNvPicPr/>
          <p:nvPr/>
        </p:nvPicPr>
        <p:blipFill>
          <a:blip r:embed="rId2"/>
          <a:stretch/>
        </p:blipFill>
        <p:spPr>
          <a:xfrm>
            <a:off x="5638680" y="4419720"/>
            <a:ext cx="3214800" cy="2143080"/>
          </a:xfrm>
          <a:prstGeom prst="rect">
            <a:avLst/>
          </a:prstGeom>
          <a:ln w="50760">
            <a:solidFill>
              <a:srgbClr val="b13f9a"/>
            </a:solidFill>
            <a:miter/>
          </a:ln>
        </p:spPr>
      </p:pic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7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2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Заголовок 1" descr=""/>
          <p:cNvPicPr/>
          <p:nvPr/>
        </p:nvPicPr>
        <p:blipFill>
          <a:blip r:embed="rId1"/>
          <a:stretch/>
        </p:blipFill>
        <p:spPr>
          <a:xfrm>
            <a:off x="212760" y="274680"/>
            <a:ext cx="8480520" cy="95076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 txBox="1"/>
          <p:nvPr/>
        </p:nvSpPr>
        <p:spPr>
          <a:xfrm>
            <a:off x="380520" y="1523520"/>
            <a:ext cx="5257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Сначала на территории Египта возникло около </a:t>
            </a:r>
            <a:r>
              <a:rPr b="1" i="1" lang="ru-RU" sz="2400" spc="-1" strike="noStrike">
                <a:solidFill>
                  <a:srgbClr val="000000"/>
                </a:solidFill>
                <a:latin typeface="Trebuchet MS"/>
              </a:rPr>
              <a:t>40 небольших царств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, которые постоянно воевали между собой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just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Затем долина Нила оказалась поделена на 2 больших царства: в дельте Нила – </a:t>
            </a:r>
            <a:r>
              <a:rPr b="1" i="1" lang="ru-RU" sz="2400" spc="-1" strike="noStrike">
                <a:solidFill>
                  <a:srgbClr val="000000"/>
                </a:solidFill>
                <a:latin typeface="Trebuchet MS"/>
              </a:rPr>
              <a:t>Северный (Нижний) Египет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, а выше по течению – </a:t>
            </a:r>
            <a:r>
              <a:rPr b="1" i="1" lang="ru-RU" sz="2400" spc="-1" strike="noStrike">
                <a:solidFill>
                  <a:srgbClr val="000000"/>
                </a:solidFill>
                <a:latin typeface="Trebuchet MS"/>
              </a:rPr>
              <a:t>Южный (Верхний) Египет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. Но и эти царства продолжили борьбу за влияние во всей долине Нила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0" name="Picture 2" descr="C:\Documents and Settings\ИОЦ\Рабочий стол\2011-08-17\Сканировать1.JPG"/>
          <p:cNvPicPr/>
          <p:nvPr/>
        </p:nvPicPr>
        <p:blipFill>
          <a:blip r:embed="rId2"/>
          <a:stretch/>
        </p:blipFill>
        <p:spPr>
          <a:xfrm>
            <a:off x="6553080" y="1676520"/>
            <a:ext cx="1668600" cy="1981080"/>
          </a:xfrm>
          <a:prstGeom prst="rect">
            <a:avLst/>
          </a:prstGeom>
          <a:ln w="0">
            <a:noFill/>
          </a:ln>
        </p:spPr>
      </p:pic>
      <p:sp>
        <p:nvSpPr>
          <p:cNvPr id="241" name="TextBox 5"/>
          <p:cNvSpPr/>
          <p:nvPr/>
        </p:nvSpPr>
        <p:spPr>
          <a:xfrm>
            <a:off x="5715000" y="3657600"/>
            <a:ext cx="3200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Короны царей Северного и Южного Египт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2" descr=""/>
          <p:cNvPicPr/>
          <p:nvPr/>
        </p:nvPicPr>
        <p:blipFill>
          <a:blip r:embed="rId3"/>
          <a:stretch/>
        </p:blipFill>
        <p:spPr>
          <a:xfrm>
            <a:off x="5857920" y="4294080"/>
            <a:ext cx="2819520" cy="256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Заголовок 1" descr=""/>
          <p:cNvPicPr/>
          <p:nvPr/>
        </p:nvPicPr>
        <p:blipFill>
          <a:blip r:embed="rId1"/>
          <a:stretch/>
        </p:blipFill>
        <p:spPr>
          <a:xfrm>
            <a:off x="212760" y="274680"/>
            <a:ext cx="8480520" cy="95076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380520" y="1600200"/>
            <a:ext cx="586764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Примерно </a:t>
            </a:r>
            <a:r>
              <a:rPr b="1" i="1" lang="ru-RU" sz="2800" spc="-1" strike="noStrike">
                <a:solidFill>
                  <a:srgbClr val="000000"/>
                </a:solidFill>
                <a:latin typeface="Trebuchet MS"/>
              </a:rPr>
              <a:t>за 3000 лет до н.э. 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царь Южного Египта подчинил себе Северный Египет, объединив всю страну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just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Столицей Египетского государства стал город </a:t>
            </a:r>
            <a:r>
              <a:rPr b="1" i="1" lang="ru-RU" sz="2800" spc="-1" strike="noStrike">
                <a:solidFill>
                  <a:srgbClr val="000000"/>
                </a:solidFill>
                <a:latin typeface="Trebuchet MS"/>
              </a:rPr>
              <a:t>Мемфис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just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Правителей всего Египта стали называть </a:t>
            </a:r>
            <a:r>
              <a:rPr b="1" i="1" lang="ru-RU" sz="2800" spc="-1" strike="noStrike">
                <a:solidFill>
                  <a:srgbClr val="ff0000"/>
                </a:solidFill>
                <a:latin typeface="Trebuchet MS"/>
              </a:rPr>
              <a:t>фараонами</a:t>
            </a: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5" name="Picture 2" descr="C:\Documents and Settings\ИОЦ\Рабочий стол\2011-08-17\Сканировать1.JPG"/>
          <p:cNvPicPr/>
          <p:nvPr/>
        </p:nvPicPr>
        <p:blipFill>
          <a:blip r:embed="rId2"/>
          <a:stretch/>
        </p:blipFill>
        <p:spPr>
          <a:xfrm>
            <a:off x="6275520" y="1523880"/>
            <a:ext cx="2295360" cy="2438640"/>
          </a:xfrm>
          <a:prstGeom prst="rect">
            <a:avLst/>
          </a:prstGeom>
          <a:ln w="0">
            <a:noFill/>
          </a:ln>
        </p:spPr>
      </p:pic>
      <p:sp>
        <p:nvSpPr>
          <p:cNvPr id="246" name="TextBox 7"/>
          <p:cNvSpPr/>
          <p:nvPr/>
        </p:nvSpPr>
        <p:spPr>
          <a:xfrm>
            <a:off x="6477120" y="3962520"/>
            <a:ext cx="251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Двойная корона фарао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TextBox 1"/>
          <p:cNvSpPr/>
          <p:nvPr/>
        </p:nvSpPr>
        <p:spPr>
          <a:xfrm>
            <a:off x="357120" y="357120"/>
            <a:ext cx="83581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Box 3"/>
          <p:cNvSpPr/>
          <p:nvPr/>
        </p:nvSpPr>
        <p:spPr>
          <a:xfrm>
            <a:off x="500040" y="357120"/>
            <a:ext cx="82152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Более 5 тыс.лет назад появились государства. Во главе государства был царь, власть передавалась от отца к сын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Box 4"/>
          <p:cNvSpPr/>
          <p:nvPr/>
        </p:nvSpPr>
        <p:spPr>
          <a:xfrm>
            <a:off x="357120" y="1857240"/>
            <a:ext cx="8501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Каждое государство имело определенную территорию, на которой строились </a:t>
            </a: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гор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Box 5"/>
          <p:cNvSpPr/>
          <p:nvPr/>
        </p:nvSpPr>
        <p:spPr>
          <a:xfrm>
            <a:off x="285840" y="2857680"/>
            <a:ext cx="8358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Города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– это крупные населенные пункты, жители которых заняты не сельским хозяйством, а имеют развитый комплекс хозяйства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6"/>
          <p:cNvSpPr/>
          <p:nvPr/>
        </p:nvSpPr>
        <p:spPr>
          <a:xfrm>
            <a:off x="285840" y="4429080"/>
            <a:ext cx="864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 каждом государстве есть </a:t>
            </a: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столиц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Box 7"/>
          <p:cNvSpPr/>
          <p:nvPr/>
        </p:nvSpPr>
        <p:spPr>
          <a:xfrm>
            <a:off x="428760" y="5072040"/>
            <a:ext cx="871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Столица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– это главный город государств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TextBox 1"/>
          <p:cNvSpPr/>
          <p:nvPr/>
        </p:nvSpPr>
        <p:spPr>
          <a:xfrm>
            <a:off x="214200" y="285840"/>
            <a:ext cx="850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Работа с картой учебника на стр. 3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Box 2"/>
          <p:cNvSpPr/>
          <p:nvPr/>
        </p:nvSpPr>
        <p:spPr>
          <a:xfrm>
            <a:off x="0" y="1428840"/>
            <a:ext cx="35002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.Назовите столицы государств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.Найдите и назовите важные горо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2" descr="https://ds04.infourok.ru/uploads/ex/090e/000b7abd-20311b72/1/img10.jpg"/>
          <p:cNvPicPr/>
          <p:nvPr/>
        </p:nvPicPr>
        <p:blipFill>
          <a:blip r:embed="rId1"/>
          <a:srcRect l="20315" t="9375" r="20315" b="8331"/>
          <a:stretch/>
        </p:blipFill>
        <p:spPr>
          <a:xfrm>
            <a:off x="3357720" y="1000080"/>
            <a:ext cx="5786280" cy="58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Rectangle 2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9376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3300"/>
                </a:solidFill>
                <a:latin typeface="Trebuchet MS"/>
              </a:rPr>
              <a:t>Повторить параграф 6,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3300"/>
                </a:solidFill>
                <a:latin typeface="Trebuchet MS"/>
              </a:rPr>
              <a:t>Выучить записи в тетради,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3300"/>
                </a:solidFill>
                <a:latin typeface="Trebuchet MS"/>
              </a:rPr>
              <a:t>Сделать сравнительную таблицу «Отличие города от деревни (село)»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3300"/>
                </a:solidFill>
                <a:latin typeface="Trebuchet MS"/>
              </a:rPr>
              <a:t>         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0-14T07:29:52Z</dcterms:created>
  <dc:creator>Admin</dc:creator>
  <dc:description/>
  <dc:language>en-US</dc:language>
  <cp:lastModifiedBy>ТатьянА</cp:lastModifiedBy>
  <dcterms:modified xsi:type="dcterms:W3CDTF">2019-01-02T12:24:28Z</dcterms:modified>
  <cp:revision>8</cp:revision>
  <dc:subject/>
  <dc:title>Слайд 1</dc:title>
</cp:coreProperties>
</file>