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837-32D0-46A8-B3C0-92100199DE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5D14-584D-45B8-8068-DC8E8AD56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C656-CEFA-4C06-B27B-6A2B612E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5B6B-9218-44A1-A921-C0B196CC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37F3-7CEA-4453-A1A9-8721507B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F2FC-8171-4B44-9656-8255F2DB6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98C7-91FE-4217-9D33-7A00D551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384-ED9B-4A85-B9F4-FCD03475F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5AD9-65A4-42CD-B97C-6C5F0E2B4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013D-F32A-44D4-B40D-983916C5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3B15-5F69-4D62-811B-E5853E7B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3D58-3E3D-4758-9A51-FBDD1316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BD67-E4EE-42AB-A93D-54DD25DB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9AC8-6D29-41D4-B37F-15626728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C1CD-7CAD-450D-8F70-C17CD7D0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3CA3-9C37-4497-A263-F07655A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9D62-98F3-45A9-89E7-45B886DB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BB4D-7AC3-4A44-9521-6543D93A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BA635-59E0-49D2-80F3-7C109A40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4BF7B-A2CC-4E89-87DE-C0480FEC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9910-7E05-453D-B678-02527453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E0A05-CE44-4024-9491-9A398EB7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E1B92-F051-4589-AA1B-7FE6381E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33133-4884-462D-BC62-DB37F6E4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FC28-8A76-40AF-BFAD-776DFA86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9DF36-9EB9-4E75-9D91-16B9042A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24D18-C06C-4501-8E79-3470AECD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E445C-765D-408B-AF03-9838657D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7EB9F-EA64-4BAD-99A2-CF454634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1E48C-D9B3-4AAA-B15C-125FBB60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B62F-DA8A-4DDC-B429-9BBFFD68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C2FA4-10DB-4AA4-9979-5E3C14E5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31977-EEE9-4300-B67A-5333203C1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4F95A-FD4C-4555-ABFA-D5938AA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C3CB51-F1E8-4180-BC74-1BB9623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C44-DBF5-4504-9FE1-BD8D7D50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DBF2-2048-4C31-9930-B8C57469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98F0A-5074-44B5-B63C-A707E2FF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A843F-B17F-4A21-B638-D7D632EB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55CC38-9184-4EEF-A0F1-AFC5F6B5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DE928-FD9E-4397-AB3D-AAB1245C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A05F9-2B65-4EF2-9CE8-35329386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9C54B-6B5F-435B-AC5C-AB401617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7EBDE-BEED-434A-9B28-D4452E01F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9BDD8-FF24-4EB5-8DD6-F55EAD06B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73687-C5C3-4092-B64D-C655833B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414F-DB74-438F-B4B2-1CBA3760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B7464-A4A0-46BB-9BD8-CC02D1EDB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870E6-BE35-4EB4-B89E-419A0400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30417-416C-4D7E-A84C-E541EF9B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4D44B-8C19-4948-A938-2401CFEB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2EC48-793B-47F9-A05E-D34445288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5F01F-BD59-439D-8E23-052343DB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44C44-ED98-4ED0-AFB7-56051B90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DE8E5-A8DE-43DF-AD14-1CC644872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0C6C2-A1C2-4EA2-96D1-D6A2359F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BE5A1-8E45-4AF2-8BDA-9C04DAB22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ED99-6039-4595-9EC3-33683E9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142E-E295-4472-81D3-DDCCDD648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21C-C98D-4565-8E62-88E5FD7D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75F3-5C0A-4DFF-BA9A-B4214621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1D48-89B9-4A60-B0E1-D4FF680B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6AA2C-BB1D-4091-AF15-331D52EB4E2C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B18F-EB19-4332-9BBC-47C4EF39EF15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EFB3-CA73-48DF-AF11-F897ECF535F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4152-BC0A-4AB9-9829-1442DBC8E044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860E-1CE1-4466-89DD-26DB7B0BC12B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Trebuchet MS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rebuchet MS"/>
              </a:rPr>
              <a:t>Папирус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– высокий тростник, растущий на берегах Нила, из которого египтяне делали похожий на бумагу писчий материал, также называемый папирус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192560" cy="2252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990720" y="57150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Monotype Corsiva"/>
              </a:rPr>
              <a:t>Растение пап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88620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Monotype Corsiva"/>
              </a:rPr>
              <a:t>Древнеегипетский пап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Trebuchet MS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12"/>
          <p:cNvSpPr/>
          <p:nvPr/>
        </p:nvSpPr>
        <p:spPr>
          <a:xfrm>
            <a:off x="533520" y="16765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4e7ed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rebuchet MS"/>
              </a:rPr>
              <a:t>Дельта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– место впадения реки в другой водоем, где она делится на несколько рукавов, образующих треугольн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577960"/>
          </a:xfrm>
          <a:prstGeom prst="rect">
            <a:avLst/>
          </a:prstGeom>
          <a:ln w="50760">
            <a:solidFill>
              <a:srgbClr val="e36406"/>
            </a:solidFill>
            <a:miter/>
          </a:ln>
        </p:spPr>
      </p:pic>
      <p:sp>
        <p:nvSpPr>
          <p:cNvPr id="236" name="Содержимое 12"/>
          <p:cNvSpPr/>
          <p:nvPr/>
        </p:nvSpPr>
        <p:spPr>
          <a:xfrm>
            <a:off x="609480" y="4343400"/>
            <a:ext cx="4953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4e7ed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rebuchet MS"/>
              </a:rPr>
              <a:t>Оазис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– островки зелени среди песков пустыни, где растут пальмы и кустарники вокруг бьющей ключом из-под земли во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214800" cy="2143080"/>
          </a:xfrm>
          <a:prstGeom prst="rect">
            <a:avLst/>
          </a:prstGeom>
          <a:ln w="50760">
            <a:solidFill>
              <a:srgbClr val="b13f9a"/>
            </a:solidFill>
            <a:miter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950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80520" y="15235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начала на территории Египта возникло около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40 небольших царст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которые постоянно воевали между соб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тем долина Нила оказалась поделена на 2 больших царства: в дельте Нила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еверный (Ниж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а выше по течению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Южный (Верх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Но и эти царства продолжили борьбу за влияние во всей долине Ни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ИОЦ\Рабочий стол\2011-08-17\Сканировать1.JPG"/>
          <p:cNvPicPr/>
          <p:nvPr/>
        </p:nvPicPr>
        <p:blipFill>
          <a:blip r:embed="rId2"/>
          <a:stretch/>
        </p:blipFill>
        <p:spPr>
          <a:xfrm>
            <a:off x="6553080" y="1676520"/>
            <a:ext cx="1668600" cy="19810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"/>
          <p:cNvSpPr/>
          <p:nvPr/>
        </p:nvSpPr>
        <p:spPr>
          <a:xfrm>
            <a:off x="5715000" y="3657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роны царей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5857920" y="4294080"/>
            <a:ext cx="281952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950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80520" y="160020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мерно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за 3000 лет до н.э.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арь Южного Египта подчинил себе Северный Египет, объединив всю стран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олицей Египетского государства стал город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Мемфис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авителей всего Египта стали называть </a:t>
            </a:r>
            <a:r>
              <a:rPr b="1" i="1" lang="ru-RU" sz="2800" spc="-1" strike="noStrike">
                <a:solidFill>
                  <a:srgbClr val="ff0000"/>
                </a:solidFill>
                <a:latin typeface="Trebuchet MS"/>
              </a:rPr>
              <a:t>фараонам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ИОЦ\Рабочий стол\2011-08-17\Сканировать1.JPG"/>
          <p:cNvPicPr/>
          <p:nvPr/>
        </p:nvPicPr>
        <p:blipFill>
          <a:blip r:embed="rId2"/>
          <a:stretch/>
        </p:blipFill>
        <p:spPr>
          <a:xfrm>
            <a:off x="6275520" y="1523880"/>
            <a:ext cx="2295360" cy="24386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6477120" y="3962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войная корона фара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357120" y="357120"/>
            <a:ext cx="8358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500040" y="35712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ее 5 тыс.лет назад появились государства. Во главе государства был царь, власть передавалась от отца к сы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57120" y="185724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е государство имело определенную территорию, на которой строилис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285840" y="28576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род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это крупные населенные пункты, жители которых заняты не сельским хозяйством, а имеют развитый комплекс хозяйств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285840" y="44290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каждом государстве ес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28760" y="50720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лиц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это главный город госуда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214200" y="2858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бота с картой учебника на стр. 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0" y="1428840"/>
            <a:ext cx="350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зовите столицы государ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Найдите и назовите важные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357720" y="1000080"/>
            <a:ext cx="578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9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Повторить параграф 6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Выучить записи в тетрад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Сделать сравнительную таблицу «Отличие города от деревни (село)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4:28Z</dcterms:modified>
  <cp:revision>8</cp:revision>
  <dc:subject/>
  <dc:title>Слайд 1</dc:title>
</cp:coreProperties>
</file>