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84B-356F-4656-88AE-5CDE42B7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05C-EF7B-4C3D-A8DA-5BBBDF70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931-0F5B-455A-8F10-AFBFAEFA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1C6-48C5-4960-8C30-9A05DA1D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109A-95A3-4A69-A385-96AE2B61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9D20-F491-4B19-A854-D9932C81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E1B6-FCCD-4FBB-8BB5-8C856F7C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545A-C067-41A8-BE05-71CE340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AE1F-EE75-4B37-895F-D929E81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A06C-24A5-4FCE-BA54-066AE447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0D79-0A40-45DA-8D4F-4D91A0EF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C03-24A4-415C-80D4-8C582563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0A1C-D424-49EC-BDEB-FBFAE3E5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BD7F-36BD-4358-953B-428D42EE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51CA-589A-4FBC-89F9-B5983D97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8B6B-1AD5-4749-8151-5ACC39CA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3916-BB8E-40F5-B8F2-80678488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318F-235F-48C5-9518-CB7688E3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A591-C7D1-4913-A8BA-37F0B9F9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72B2-A0D0-4CFF-BE75-00DC2191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7090-5176-4FDC-AA3D-DBC52CDE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4A4E-228E-4DCB-8833-AA8B5C71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DF9-4122-40D0-8B98-53F06042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5C9D-9C39-4EEC-B882-0FE0F7EF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2287-E50E-421A-9F2B-82DA036F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9AB5-1218-403F-891F-97E2BAD4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9C7C-F24A-412F-9FB5-205E35F4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2B99-242F-445E-B37D-D6649AF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0D5E-BCDF-4521-BFCD-908C4FB2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876D-E9F7-4086-B366-51F66F2D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04F4-77B6-47DB-B3F5-5936DB7F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3C55-47D3-41DA-A526-1A5E9542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DBFA-0EA2-424D-A340-016293C4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20A-F964-4C0E-A5B2-6F36EF2B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2A6C-2298-4C58-A09F-FB9C84D4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338E-8338-4604-9C9F-D17A228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EB47B-0643-415F-9687-B3E75EF7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6E9E-F713-4763-8635-91EE44AE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B213-E442-4246-A6D5-FCCF460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13918-9186-4841-85C6-9227DD3F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1931-182B-4198-AA2F-55D176A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EDFA7-2F9D-4366-9D76-3D92DFD9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D33A-47AA-4C0C-B911-CB6AB950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006A-8186-456E-B1A1-E07C5588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0DB-7F65-4F36-9F7F-7E2269D7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B85A-6333-4C28-BB6D-7FD2107A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6AE0-721D-4970-AB61-57A773DF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BBACC-DAEA-4452-A830-011BD680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D8817-C840-4267-9B2D-04A92462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6A5A2-5905-4011-8F85-2FFC900C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7C9C-A510-4ADA-B7F5-DE90DE90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E8EEA-EDCC-4581-8BF8-C1F4471D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5096F-736D-4F2E-87B0-5DF7EB5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7BE8C-FD92-4151-A01B-780986AF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E489E-601A-4DA7-8DC5-3C5FFFAD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BE7-1ABF-4E2E-851C-050D74A8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F25C6-6B28-415E-8B8F-65A1E51C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5C1-7155-4F00-975D-F2C600C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C24-24E7-48AF-9D28-5E7C18DE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DC5-E066-434D-ABAD-8B1D3C92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79E3-6AB7-489E-814E-9ADD5618CE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98E-01BE-4CD6-8718-6BB8050AF5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AB04-BD46-4271-B710-F2B317C491D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4ADC-8C08-4F32-8571-552A66DFE3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84BA-83BD-4D33-AF49-DF4DAFB9C2D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-892440"/>
            <a:ext cx="7772400" cy="298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Мифы и сказания. Письменность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857240" y="2071800"/>
            <a:ext cx="6400800" cy="1031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IV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тыс. до н.э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ибис"/>
          <p:cNvPicPr/>
          <p:nvPr/>
        </p:nvPicPr>
        <p:blipFill>
          <a:blip r:embed="rId1"/>
          <a:stretch/>
        </p:blipFill>
        <p:spPr>
          <a:xfrm>
            <a:off x="3571920" y="2428920"/>
            <a:ext cx="3203640" cy="3024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40422604_1235942873_17942069"/>
          <p:cNvPicPr/>
          <p:nvPr/>
        </p:nvPicPr>
        <p:blipFill>
          <a:blip r:embed="rId2"/>
          <a:stretch/>
        </p:blipFill>
        <p:spPr>
          <a:xfrm>
            <a:off x="324000" y="2095560"/>
            <a:ext cx="2914560" cy="47624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3857760" y="5645880"/>
            <a:ext cx="498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82072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исьменные принадлежности египтян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28" descr="E:\Сканировать10002.JPG"/>
          <p:cNvPicPr/>
          <p:nvPr/>
        </p:nvPicPr>
        <p:blipFill>
          <a:blip r:embed="rId1"/>
          <a:stretch/>
        </p:blipFill>
        <p:spPr>
          <a:xfrm>
            <a:off x="1457280" y="1484280"/>
            <a:ext cx="2038320" cy="401004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259" name="Picture 8" descr="voile2"/>
          <p:cNvPicPr/>
          <p:nvPr/>
        </p:nvPicPr>
        <p:blipFill>
          <a:blip r:embed="rId2"/>
          <a:stretch/>
        </p:blipFill>
        <p:spPr>
          <a:xfrm>
            <a:off x="5251320" y="1600200"/>
            <a:ext cx="2832120" cy="2189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Louvres-anitiquites-egyptiennes-p1010869"/>
          <p:cNvPicPr/>
          <p:nvPr/>
        </p:nvPicPr>
        <p:blipFill>
          <a:blip r:embed="rId3"/>
          <a:stretch/>
        </p:blipFill>
        <p:spPr>
          <a:xfrm>
            <a:off x="5210280" y="3941640"/>
            <a:ext cx="29145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гипетские папиру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2" name="Picture 9" descr="0034-054-Rastenie-iz-kotorogo-delali-papirus"/>
          <p:cNvPicPr/>
          <p:nvPr/>
        </p:nvPicPr>
        <p:blipFill>
          <a:blip r:embed="rId1"/>
          <a:stretch/>
        </p:blipFill>
        <p:spPr>
          <a:xfrm>
            <a:off x="1649520" y="1600200"/>
            <a:ext cx="1654200" cy="2189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80999788_2913765_83"/>
          <p:cNvPicPr/>
          <p:nvPr/>
        </p:nvPicPr>
        <p:blipFill>
          <a:blip r:embed="rId2"/>
          <a:stretch/>
        </p:blipFill>
        <p:spPr>
          <a:xfrm>
            <a:off x="4992840" y="1600200"/>
            <a:ext cx="3349440" cy="2189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папирус"/>
          <p:cNvPicPr/>
          <p:nvPr/>
        </p:nvPicPr>
        <p:blipFill>
          <a:blip r:embed="rId3"/>
          <a:stretch/>
        </p:blipFill>
        <p:spPr>
          <a:xfrm>
            <a:off x="5148360" y="436572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686_1"/>
          <p:cNvPicPr/>
          <p:nvPr/>
        </p:nvPicPr>
        <p:blipFill>
          <a:blip r:embed="rId4"/>
          <a:stretch/>
        </p:blipFill>
        <p:spPr>
          <a:xfrm>
            <a:off x="6659640" y="3860640"/>
            <a:ext cx="1679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Богиня письменности и счета - Сеш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9680" y="2000160"/>
            <a:ext cx="5829480" cy="4530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сть для древних египтян была очень важ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жрецы 2"/>
          <p:cNvPicPr/>
          <p:nvPr/>
        </p:nvPicPr>
        <p:blipFill>
          <a:blip r:embed="rId1"/>
          <a:stretch/>
        </p:blipFill>
        <p:spPr>
          <a:xfrm>
            <a:off x="5651640" y="1628640"/>
            <a:ext cx="2828880" cy="1656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богиня письменности"/>
          <p:cNvPicPr/>
          <p:nvPr/>
        </p:nvPicPr>
        <p:blipFill>
          <a:blip r:embed="rId2"/>
          <a:stretch/>
        </p:blipFill>
        <p:spPr>
          <a:xfrm>
            <a:off x="5724360" y="3500280"/>
            <a:ext cx="2394000" cy="2664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42190972_an008"/>
          <p:cNvPicPr/>
          <p:nvPr/>
        </p:nvPicPr>
        <p:blipFill>
          <a:blip r:embed="rId3"/>
          <a:stretch/>
        </p:blipFill>
        <p:spPr>
          <a:xfrm>
            <a:off x="900000" y="3141720"/>
            <a:ext cx="4248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428760" y="28584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о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древнее народное сказание о героях, богах, явлениях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дани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ереходящий из уст в уста рассказ о былом, леген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в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правила, по которым должны жить лю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договор между Богом и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517320" y="285840"/>
            <a:ext cx="79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иблия – на древнегреческом «книг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ÐÐ¸Ð±Ð»Ð¸Ñ â Ð½Ð° Ð´ÑÐµÐ²Ð½ÐµÐ³ÑÐµÑÐµÑÐºÐ¾Ð¼  Â«ÐºÐ½Ð¸Ð³Ð°Â» "/>
          <p:cNvPicPr/>
          <p:nvPr/>
        </p:nvPicPr>
        <p:blipFill>
          <a:blip r:embed="rId1"/>
          <a:srcRect l="8203" t="21874" r="7419" b="6248"/>
          <a:stretch/>
        </p:blipFill>
        <p:spPr>
          <a:xfrm>
            <a:off x="714240" y="1214280"/>
            <a:ext cx="72867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285840" y="285840"/>
            <a:ext cx="8358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Ветхий Заве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первая часть Библии (дохристианская час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Новый Заве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христианская часть Биб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Â«ÐÐµÑÑÐ¸Ð¹ ÐÐ°Ð²ÐµÑÂ» - Ð¿ÐµÑÐ²Ð°Ñ ÑÐ°ÑÑÑ ÐÐ¸Ð±Ð»Ð¸Ð¸ (Ð´Ð¾ÑÑÐ¸ÑÑÐ¸Ð°Ð½ÑÐºÐ°Ñ ÑÐ°ÑÑÑ) Â«ÐÐ¾Ð²ÑÐ¹ ÐÐ°Ð²ÐµÑÂ» -ÑÑÐ¸ÑÑÐ¸Ð°Ð½ÑÐºÐ°Ñ ÑÐ°ÑÑÑ ÐÐ¸Ð±Ð»Ð¸Ð¸ "/>
          <p:cNvPicPr/>
          <p:nvPr/>
        </p:nvPicPr>
        <p:blipFill>
          <a:blip r:embed="rId1"/>
          <a:srcRect l="46877" t="20315" r="10940" b="4689"/>
          <a:stretch/>
        </p:blipFill>
        <p:spPr>
          <a:xfrm>
            <a:off x="3286080" y="171468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1071720" y="1268280"/>
            <a:ext cx="76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749160" y="364500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араграф 12,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8280" y="290160"/>
            <a:ext cx="8183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егодня на урок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1567" r="0" b="1567"/>
          <a:stretch/>
        </p:blipFill>
        <p:spPr>
          <a:xfrm>
            <a:off x="7020000" y="1341360"/>
            <a:ext cx="1873080" cy="4392720"/>
          </a:xfrm>
          <a:prstGeom prst="rect">
            <a:avLst/>
          </a:prstGeom>
          <a:ln w="38160">
            <a:solidFill>
              <a:srgbClr val="323232"/>
            </a:solidFill>
            <a:miter/>
          </a:ln>
        </p:spPr>
      </p:pic>
      <p:sp>
        <p:nvSpPr>
          <p:cNvPr id="227" name="Rectangle 3"/>
          <p:cNvSpPr/>
          <p:nvPr/>
        </p:nvSpPr>
        <p:spPr>
          <a:xfrm>
            <a:off x="476280" y="1770120"/>
            <a:ext cx="654372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b9f25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гадочные пись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b9f25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была разгадана тайна иероглиф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b9f25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Школа готовила писцов и жре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гипетские школы открывались при храма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Picture 13" descr="0010-016-KHramy-Drevnego-Egipta"/>
          <p:cNvPicPr/>
          <p:nvPr/>
        </p:nvPicPr>
        <p:blipFill>
          <a:blip r:embed="rId1"/>
          <a:stretch/>
        </p:blipFill>
        <p:spPr>
          <a:xfrm>
            <a:off x="539640" y="1844640"/>
            <a:ext cx="2016360" cy="172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58003"/>
          <p:cNvPicPr/>
          <p:nvPr/>
        </p:nvPicPr>
        <p:blipFill>
          <a:blip r:embed="rId2"/>
          <a:stretch/>
        </p:blipFill>
        <p:spPr>
          <a:xfrm>
            <a:off x="5559480" y="1600200"/>
            <a:ext cx="2216160" cy="2189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a907cd7ccc93161ebebbf173157607f4"/>
          <p:cNvPicPr/>
          <p:nvPr/>
        </p:nvPicPr>
        <p:blipFill>
          <a:blip r:embed="rId3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LuxorAmunRamII"/>
          <p:cNvPicPr/>
          <p:nvPr/>
        </p:nvPicPr>
        <p:blipFill>
          <a:blip r:embed="rId4"/>
          <a:stretch/>
        </p:blipFill>
        <p:spPr>
          <a:xfrm>
            <a:off x="5662440" y="3941640"/>
            <a:ext cx="20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7" descr="HatshepsutTemple_1"/>
          <p:cNvPicPr/>
          <p:nvPr/>
        </p:nvPicPr>
        <p:blipFill>
          <a:blip r:embed="rId5"/>
          <a:stretch/>
        </p:blipFill>
        <p:spPr>
          <a:xfrm>
            <a:off x="2843280" y="1916280"/>
            <a:ext cx="2879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Школа готовила писцов и жрецов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8" descr="i_042"/>
          <p:cNvPicPr/>
          <p:nvPr/>
        </p:nvPicPr>
        <p:blipFill>
          <a:blip r:embed="rId1"/>
          <a:stretch/>
        </p:blipFill>
        <p:spPr>
          <a:xfrm>
            <a:off x="250920" y="1341360"/>
            <a:ext cx="2879640" cy="2189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жрец"/>
          <p:cNvPicPr/>
          <p:nvPr/>
        </p:nvPicPr>
        <p:blipFill>
          <a:blip r:embed="rId2"/>
          <a:stretch/>
        </p:blipFill>
        <p:spPr>
          <a:xfrm>
            <a:off x="6516720" y="1341360"/>
            <a:ext cx="2305080" cy="2211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6760" y="3714480"/>
            <a:ext cx="8572680" cy="218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ение  в школе было платным, и позволить себе образование детей могли лишь состоятельные египтян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лись в школе только мальчи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ок обучения был длительным (с 5 до 17 лет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лавной целью обучения было: подготовить чиновников, владевших письмом и математическими расчет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Сначала ученики писали на черепках битой посуды. И только старшим ученикам, кто уже хорошо владел искусством письма доверяли папирус.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781280" y="2492280"/>
            <a:ext cx="4545000" cy="29178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441320" y="5929200"/>
            <a:ext cx="37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бучение пись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Загадочные письмен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7" descr="hieroglyph-letter"/>
          <p:cNvPicPr/>
          <p:nvPr/>
        </p:nvPicPr>
        <p:blipFill>
          <a:blip r:embed="rId1"/>
          <a:stretch/>
        </p:blipFill>
        <p:spPr>
          <a:xfrm>
            <a:off x="457200" y="22986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4268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ероглиф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«священные письмена»  – древние фигурные знаки египетского письма (и некоторых других), обозначающие целое слово или несколько зву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8036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В египетском письме  было боле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750 иероглифов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Picture 9" descr="001"/>
          <p:cNvPicPr/>
          <p:nvPr/>
        </p:nvPicPr>
        <p:blipFill>
          <a:blip r:embed="rId1"/>
          <a:stretch/>
        </p:blipFill>
        <p:spPr>
          <a:xfrm>
            <a:off x="1511280" y="1600200"/>
            <a:ext cx="1930320" cy="2189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38_4"/>
          <p:cNvPicPr/>
          <p:nvPr/>
        </p:nvPicPr>
        <p:blipFill>
          <a:blip r:embed="rId2"/>
          <a:stretch/>
        </p:blipFill>
        <p:spPr>
          <a:xfrm>
            <a:off x="4989600" y="1600200"/>
            <a:ext cx="3355920" cy="2189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sarcophagus"/>
          <p:cNvPicPr/>
          <p:nvPr/>
        </p:nvPicPr>
        <p:blipFill>
          <a:blip r:embed="rId3"/>
          <a:stretch/>
        </p:blipFill>
        <p:spPr>
          <a:xfrm>
            <a:off x="1117440" y="3941640"/>
            <a:ext cx="2718000" cy="2189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19-3big"/>
          <p:cNvPicPr/>
          <p:nvPr/>
        </p:nvPicPr>
        <p:blipFill>
          <a:blip r:embed="rId4"/>
          <a:stretch/>
        </p:blipFill>
        <p:spPr>
          <a:xfrm>
            <a:off x="5573880" y="3941640"/>
            <a:ext cx="2187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571680" y="28584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 была разгадана тайна иероглиф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285920" y="264312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р.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857840" y="1857240"/>
            <a:ext cx="3044880" cy="432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91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лагодаря ему ученые сегодня могут читать древние египетские тексты и разгадывать все новые и новые загадки.</a:t>
            </a:r>
            <a:br>
              <a:rPr sz="29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933640" cy="424800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29040" y="1928520"/>
            <a:ext cx="461016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Жан-Франсуа Шампольо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14 сентября 1822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год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ил прорыв в науке, убедившись, что может читать и переводить любые древнеегипетские иероглифические текс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5:22:54Z</dcterms:created>
  <dc:creator>admin</dc:creator>
  <dc:description/>
  <dc:language>en-US</dc:language>
  <cp:lastModifiedBy>ТатьянА</cp:lastModifiedBy>
  <dcterms:modified xsi:type="dcterms:W3CDTF">2019-01-02T12:30:47Z</dcterms:modified>
  <cp:revision>10</cp:revision>
  <dc:subject/>
  <dc:title>Письменность и занятия древних египтян</dc:title>
</cp:coreProperties>
</file>