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CD6-8329-49F4-AD49-11F9BC0B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31C-286F-49DC-85FD-CD5FD9FE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92D-8A29-44B4-B791-56BE715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F13-B1EB-45BE-8223-4738692A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7CA-39C5-4AAE-95E8-4A96278A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50FD-7595-4C2C-87B1-CE1CD92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9B4-C103-45CC-94E0-CCAFD6A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693-AF7D-4EE6-9A9D-ED187CCF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3360-8E0C-406D-8BC1-3665E0D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FBBC-2016-42B0-B796-2F69A22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1300-EE29-4B90-AAE2-9CB845A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551-0266-4333-8BCC-16143A7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9E1-2E17-48E2-993E-ADB7EF9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C08-C7C8-4979-93FD-8270DE1B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F04-0C78-45A4-B403-4CDE5EE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AE7-87EF-4097-BD40-28AE6536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BDB-2EF1-4662-96BA-CDC5A82D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3643-6427-47C0-AB4A-C6A1CABE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BB47-DCA7-49EB-9720-26F7259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2A2A-FA34-4662-BF90-6B062E5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E46F-D103-4DB7-A757-0F07EA7B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4395-8914-4C95-9A5B-6FABDBBC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A59-5080-4060-96AC-155A3C7A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8C0E-53AE-41A0-BEE6-3D14F1D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75D0-31CE-4AC0-A33A-9D254DC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8B5B-2467-4ABF-B8AB-2C1A0ADB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274A-CED3-46B3-A702-2221170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66C4-64B1-4F60-B56A-603B352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22D7-D98E-44D7-8D94-535A7D3F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6A30-6B0E-4920-8928-69851EE8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957B-8579-4AED-A7E7-A5E8E080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B742-6B3E-46D2-B7AB-8E07B47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58EF-1EC9-414D-8CAA-694E4BA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A03-0A30-47B0-B196-983DFAC0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0AF3-2AB2-4555-8329-32B8FB37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96A5-A088-43C3-A38D-D24C095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DE99-F4F5-4376-9BB1-FEDE099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0D5E-AC49-4F23-A264-9936479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8D30-BCEC-4D3F-868A-0B91D98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D193-2856-447B-B7C0-9659DBD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0E0F-84FA-4B6F-97FD-F8627963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452AF-B4D3-445D-BFA0-4FD965A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C39C-6B8A-45CA-BE30-998DE774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7CD0-3600-46B0-B310-C6D90E3E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BA7-71C7-4839-9FD5-2B43623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0977-9BC4-4088-A8F6-564E8E28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E851-65EE-412A-AB98-B9A4C97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5A3E-5BB3-42C9-B08E-4CF09F6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FE44-CEB8-460E-A7B1-0D37641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23D4-6D53-4942-A49B-426FC6A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903F-A8B7-451C-A023-8F7EF97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654C-0B94-4EE7-B3F3-1F6DE44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1335-E805-4DC3-B0A9-32B865D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C433-16E4-4D1F-B301-6CB2353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FC1C-1173-468C-B307-63BD53BF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885-D42D-46C6-9FCE-4CED4A3B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B50E-6ACE-458B-9CF8-5B97BC64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09-5E42-4307-903F-0A69200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6C2-0BF2-4CDC-89E3-F087801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8A7-63CC-4FCC-9C67-77A70DB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074B-CDAD-47E8-8732-C4CDE48666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A9D-919C-4B16-A63E-945DE36EC5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DDD-008F-4E73-B632-C43D8E5BF8B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103-0925-40E0-8AD4-D30BBACADD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E272-5EAF-4812-AF49-3E2FF08D05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-892440"/>
            <a:ext cx="7772400" cy="29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Мифы и сказания. Письменность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207180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IV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тыс. до н.э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ибис"/>
          <p:cNvPicPr/>
          <p:nvPr/>
        </p:nvPicPr>
        <p:blipFill>
          <a:blip r:embed="rId1"/>
          <a:stretch/>
        </p:blipFill>
        <p:spPr>
          <a:xfrm>
            <a:off x="3571920" y="2428920"/>
            <a:ext cx="3203640" cy="30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40422604_1235942873_17942069"/>
          <p:cNvPicPr/>
          <p:nvPr/>
        </p:nvPicPr>
        <p:blipFill>
          <a:blip r:embed="rId2"/>
          <a:stretch/>
        </p:blipFill>
        <p:spPr>
          <a:xfrm>
            <a:off x="324000" y="2095560"/>
            <a:ext cx="2914560" cy="4762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3857760" y="5645880"/>
            <a:ext cx="49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82072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исьменные принадлежности египтян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8" descr="E:\Сканировать10002.JPG"/>
          <p:cNvPicPr/>
          <p:nvPr/>
        </p:nvPicPr>
        <p:blipFill>
          <a:blip r:embed="rId1"/>
          <a:stretch/>
        </p:blipFill>
        <p:spPr>
          <a:xfrm>
            <a:off x="1457280" y="1484280"/>
            <a:ext cx="2038320" cy="40100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259" name="Picture 8" descr="voile2"/>
          <p:cNvPicPr/>
          <p:nvPr/>
        </p:nvPicPr>
        <p:blipFill>
          <a:blip r:embed="rId2"/>
          <a:stretch/>
        </p:blipFill>
        <p:spPr>
          <a:xfrm>
            <a:off x="5251320" y="1600200"/>
            <a:ext cx="2832120" cy="2189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Louvres-anitiquites-egyptiennes-p1010869"/>
          <p:cNvPicPr/>
          <p:nvPr/>
        </p:nvPicPr>
        <p:blipFill>
          <a:blip r:embed="rId3"/>
          <a:stretch/>
        </p:blipFill>
        <p:spPr>
          <a:xfrm>
            <a:off x="5210280" y="3941640"/>
            <a:ext cx="2914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гипетские папиру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Picture 9" descr="0034-054-Rastenie-iz-kotorogo-delali-papirus"/>
          <p:cNvPicPr/>
          <p:nvPr/>
        </p:nvPicPr>
        <p:blipFill>
          <a:blip r:embed="rId1"/>
          <a:stretch/>
        </p:blipFill>
        <p:spPr>
          <a:xfrm>
            <a:off x="1649520" y="1600200"/>
            <a:ext cx="165420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80999788_2913765_83"/>
          <p:cNvPicPr/>
          <p:nvPr/>
        </p:nvPicPr>
        <p:blipFill>
          <a:blip r:embed="rId2"/>
          <a:stretch/>
        </p:blipFill>
        <p:spPr>
          <a:xfrm>
            <a:off x="4992840" y="1600200"/>
            <a:ext cx="3349440" cy="2189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папирус"/>
          <p:cNvPicPr/>
          <p:nvPr/>
        </p:nvPicPr>
        <p:blipFill>
          <a:blip r:embed="rId3"/>
          <a:stretch/>
        </p:blipFill>
        <p:spPr>
          <a:xfrm>
            <a:off x="5148360" y="436572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686_1"/>
          <p:cNvPicPr/>
          <p:nvPr/>
        </p:nvPicPr>
        <p:blipFill>
          <a:blip r:embed="rId4"/>
          <a:stretch/>
        </p:blipFill>
        <p:spPr>
          <a:xfrm>
            <a:off x="6659640" y="3860640"/>
            <a:ext cx="1679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Богиня письменности и счета - Сеш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9680" y="2000160"/>
            <a:ext cx="5829480" cy="4530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сть для древних египтян была очень важ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жрецы 2"/>
          <p:cNvPicPr/>
          <p:nvPr/>
        </p:nvPicPr>
        <p:blipFill>
          <a:blip r:embed="rId1"/>
          <a:stretch/>
        </p:blipFill>
        <p:spPr>
          <a:xfrm>
            <a:off x="5651640" y="1628640"/>
            <a:ext cx="2828880" cy="1656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богиня письменности"/>
          <p:cNvPicPr/>
          <p:nvPr/>
        </p:nvPicPr>
        <p:blipFill>
          <a:blip r:embed="rId2"/>
          <a:stretch/>
        </p:blipFill>
        <p:spPr>
          <a:xfrm>
            <a:off x="5724360" y="3500280"/>
            <a:ext cx="2394000" cy="266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42190972_an008"/>
          <p:cNvPicPr/>
          <p:nvPr/>
        </p:nvPicPr>
        <p:blipFill>
          <a:blip r:embed="rId3"/>
          <a:stretch/>
        </p:blipFill>
        <p:spPr>
          <a:xfrm>
            <a:off x="900000" y="3141720"/>
            <a:ext cx="4248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28760" y="28584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ревнее народное сказание о героях, богах, явлениях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ереходящий из уст в уста рассказ о былом, леген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в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правила, по которым должны жить лю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оговор между Богом 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517320" y="285840"/>
            <a:ext cx="79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иблия – на древнегреческом «книг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ÐÐ¸Ð±Ð»Ð¸Ñ â Ð½Ð° Ð´ÑÐµÐ²Ð½ÐµÐ³ÑÐµÑÐµÑÐºÐ¾Ð¼  Â«ÐºÐ½Ð¸Ð³Ð°Â» "/>
          <p:cNvPicPr/>
          <p:nvPr/>
        </p:nvPicPr>
        <p:blipFill>
          <a:blip r:embed="rId1"/>
          <a:srcRect l="8203" t="21874" r="7419" b="6248"/>
          <a:stretch/>
        </p:blipFill>
        <p:spPr>
          <a:xfrm>
            <a:off x="714240" y="1214280"/>
            <a:ext cx="72867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285840" y="285840"/>
            <a:ext cx="8358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Ветхий Заве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первая часть Библии (дохристианская ча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Новый Заве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христианская часть Биб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Â«ÐÐµÑÑÐ¸Ð¹ ÐÐ°Ð²ÐµÑÂ» - Ð¿ÐµÑÐ²Ð°Ñ ÑÐ°ÑÑÑ ÐÐ¸Ð±Ð»Ð¸Ð¸ (Ð´Ð¾ÑÑÐ¸ÑÑÐ¸Ð°Ð½ÑÐºÐ°Ñ ÑÐ°ÑÑÑ) Â«ÐÐ¾Ð²ÑÐ¹ ÐÐ°Ð²ÐµÑÂ» -ÑÑÐ¸ÑÑÐ¸Ð°Ð½ÑÐºÐ°Ñ ÑÐ°ÑÑÑ ÐÐ¸Ð±Ð»Ð¸Ð¸ "/>
          <p:cNvPicPr/>
          <p:nvPr/>
        </p:nvPicPr>
        <p:blipFill>
          <a:blip r:embed="rId1"/>
          <a:srcRect l="46877" t="20315" r="10940" b="4689"/>
          <a:stretch/>
        </p:blipFill>
        <p:spPr>
          <a:xfrm>
            <a:off x="3286080" y="17146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1071720" y="1268280"/>
            <a:ext cx="76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49160" y="364500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араграф 12,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8280" y="290160"/>
            <a:ext cx="8183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егодня на урок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1567" r="0" b="1567"/>
          <a:stretch/>
        </p:blipFill>
        <p:spPr>
          <a:xfrm>
            <a:off x="7020000" y="1341360"/>
            <a:ext cx="1873080" cy="4392720"/>
          </a:xfrm>
          <a:prstGeom prst="rect">
            <a:avLst/>
          </a:prstGeom>
          <a:ln w="38160">
            <a:solidFill>
              <a:srgbClr val="323232"/>
            </a:solidFill>
            <a:miter/>
          </a:ln>
        </p:spPr>
      </p:pic>
      <p:sp>
        <p:nvSpPr>
          <p:cNvPr id="227" name="Rectangle 3"/>
          <p:cNvSpPr/>
          <p:nvPr/>
        </p:nvSpPr>
        <p:spPr>
          <a:xfrm>
            <a:off x="476280" y="1770120"/>
            <a:ext cx="654372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гадочные пись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была разгадана тайна иероглиф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Школа готовила писцов и жре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гипетские школы открывались при храма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13" descr="0010-016-KHramy-Drevnego-Egipta"/>
          <p:cNvPicPr/>
          <p:nvPr/>
        </p:nvPicPr>
        <p:blipFill>
          <a:blip r:embed="rId1"/>
          <a:stretch/>
        </p:blipFill>
        <p:spPr>
          <a:xfrm>
            <a:off x="539640" y="1844640"/>
            <a:ext cx="201636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58003"/>
          <p:cNvPicPr/>
          <p:nvPr/>
        </p:nvPicPr>
        <p:blipFill>
          <a:blip r:embed="rId2"/>
          <a:stretch/>
        </p:blipFill>
        <p:spPr>
          <a:xfrm>
            <a:off x="5559480" y="1600200"/>
            <a:ext cx="2216160" cy="218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a907cd7ccc93161ebebbf173157607f4"/>
          <p:cNvPicPr/>
          <p:nvPr/>
        </p:nvPicPr>
        <p:blipFill>
          <a:blip r:embed="rId3"/>
          <a:stretch/>
        </p:blipFill>
        <p:spPr>
          <a:xfrm>
            <a:off x="1017720" y="3941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LuxorAmunRamII"/>
          <p:cNvPicPr/>
          <p:nvPr/>
        </p:nvPicPr>
        <p:blipFill>
          <a:blip r:embed="rId4"/>
          <a:stretch/>
        </p:blipFill>
        <p:spPr>
          <a:xfrm>
            <a:off x="5662440" y="3941640"/>
            <a:ext cx="20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HatshepsutTemple_1"/>
          <p:cNvPicPr/>
          <p:nvPr/>
        </p:nvPicPr>
        <p:blipFill>
          <a:blip r:embed="rId5"/>
          <a:stretch/>
        </p:blipFill>
        <p:spPr>
          <a:xfrm>
            <a:off x="2843280" y="1916280"/>
            <a:ext cx="2879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Школа готовила писцов и жрецов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8" descr="i_042"/>
          <p:cNvPicPr/>
          <p:nvPr/>
        </p:nvPicPr>
        <p:blipFill>
          <a:blip r:embed="rId1"/>
          <a:stretch/>
        </p:blipFill>
        <p:spPr>
          <a:xfrm>
            <a:off x="250920" y="1341360"/>
            <a:ext cx="2879640" cy="2189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жрец"/>
          <p:cNvPicPr/>
          <p:nvPr/>
        </p:nvPicPr>
        <p:blipFill>
          <a:blip r:embed="rId2"/>
          <a:stretch/>
        </p:blipFill>
        <p:spPr>
          <a:xfrm>
            <a:off x="6516720" y="1341360"/>
            <a:ext cx="2305080" cy="2211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6760" y="3714480"/>
            <a:ext cx="8572680" cy="218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ение  в школе было платным, и позволить себе образование детей могли лишь состоятельные египтян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лись в школе только мальчи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ок обучения был длительным (с 5 до 17 лет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лавной целью обучения было: подготовить чиновников, владевших письмом и математическими расчет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Сначала ученики писали на черепках битой посуды. И только старшим ученикам, кто уже хорошо владел искусством письма доверяли папирус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781280" y="2492280"/>
            <a:ext cx="4545000" cy="2917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441320" y="5929200"/>
            <a:ext cx="37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бучение пис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агадочные письмен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7" descr="hieroglyph-letter"/>
          <p:cNvPicPr/>
          <p:nvPr/>
        </p:nvPicPr>
        <p:blipFill>
          <a:blip r:embed="rId1"/>
          <a:stretch/>
        </p:blipFill>
        <p:spPr>
          <a:xfrm>
            <a:off x="457200" y="22986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426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ероглиф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«священные письмена»  – древние фигурные знаки египетского письма (и некоторых других), обозначающие целое слово или несколько зву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8036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 египетском письме  было боле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750 иероглифов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9" descr="001"/>
          <p:cNvPicPr/>
          <p:nvPr/>
        </p:nvPicPr>
        <p:blipFill>
          <a:blip r:embed="rId1"/>
          <a:stretch/>
        </p:blipFill>
        <p:spPr>
          <a:xfrm>
            <a:off x="1511280" y="1600200"/>
            <a:ext cx="1930320" cy="2189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38_4"/>
          <p:cNvPicPr/>
          <p:nvPr/>
        </p:nvPicPr>
        <p:blipFill>
          <a:blip r:embed="rId2"/>
          <a:stretch/>
        </p:blipFill>
        <p:spPr>
          <a:xfrm>
            <a:off x="4989600" y="1600200"/>
            <a:ext cx="335592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sarcophagus"/>
          <p:cNvPicPr/>
          <p:nvPr/>
        </p:nvPicPr>
        <p:blipFill>
          <a:blip r:embed="rId3"/>
          <a:stretch/>
        </p:blipFill>
        <p:spPr>
          <a:xfrm>
            <a:off x="1117440" y="3941640"/>
            <a:ext cx="271800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19-3big"/>
          <p:cNvPicPr/>
          <p:nvPr/>
        </p:nvPicPr>
        <p:blipFill>
          <a:blip r:embed="rId4"/>
          <a:stretch/>
        </p:blipFill>
        <p:spPr>
          <a:xfrm>
            <a:off x="5573880" y="3941640"/>
            <a:ext cx="2187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571680" y="2858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 была разгадана тайна иероглиф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285920" y="2643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.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044880" cy="432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9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лагодаря ему ученые сегодня могут читать древние египетские тексты и разгадывать все новые и новые загадки.</a:t>
            </a:r>
            <a:br>
              <a:rPr sz="29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933640" cy="42480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29040" y="1928520"/>
            <a:ext cx="461016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Жан-Франсуа Шампольо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14 сентября 182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год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ил прорыв в науке, убедившись, что может читать и переводить любые древнеегипетские иероглифические текс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5:22:54Z</dcterms:created>
  <dc:creator>admin</dc:creator>
  <dc:description/>
  <dc:language>en-US</dc:language>
  <cp:lastModifiedBy>ТатьянА</cp:lastModifiedBy>
  <dcterms:modified xsi:type="dcterms:W3CDTF">2019-01-02T12:30:47Z</dcterms:modified>
  <cp:revision>10</cp:revision>
  <dc:subject/>
  <dc:title>Письменность и занятия древних египтян</dc:title>
</cp:coreProperties>
</file>