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3D5-BCB0-415F-B4D2-2D61D53F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0F0-9E6E-4C73-93B3-2163A83A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60F-4336-4570-AB3F-22FA229B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391-2735-4012-BCA4-E4194DEB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7A2-A9C1-423A-ACED-EC3766B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C09-3AF5-4080-B596-72F8B73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882-7414-4303-8502-C732A91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C92-4DCC-4B84-B88A-F829544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AA4-0BB3-4247-9B86-E1A7297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3B8-500B-47AE-A6FA-905540A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CF1-2AE5-4290-BA84-AC3398E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EFC-18F9-4F35-9FAB-F9CF15D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269-99D4-43FD-98EF-22C477D8A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571680" y="1000080"/>
            <a:ext cx="828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вавилонское царство: завоевания, легендарные памятники города Вавил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Город Вавилон в VI веке до нашей эры"/>
          <p:cNvPicPr/>
          <p:nvPr/>
        </p:nvPicPr>
        <p:blipFill>
          <a:blip r:embed="rId2"/>
          <a:stretch/>
        </p:blipFill>
        <p:spPr>
          <a:xfrm>
            <a:off x="428760" y="3000240"/>
            <a:ext cx="3851280" cy="264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Висячие сады Семирамиды. Одно из Семи чудес света."/>
          <p:cNvPicPr/>
          <p:nvPr/>
        </p:nvPicPr>
        <p:blipFill>
          <a:blip r:embed="rId3"/>
          <a:stretch/>
        </p:blipFill>
        <p:spPr>
          <a:xfrm>
            <a:off x="5214960" y="2928960"/>
            <a:ext cx="2940120" cy="3286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57120" y="5717160"/>
            <a:ext cx="428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Город Вавилон в VI веке до нашей эры"/>
          <p:cNvPicPr/>
          <p:nvPr/>
        </p:nvPicPr>
        <p:blipFill>
          <a:blip r:embed="rId2"/>
          <a:stretch/>
        </p:blipFill>
        <p:spPr>
          <a:xfrm>
            <a:off x="357120" y="428760"/>
            <a:ext cx="8429760" cy="57862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357120" y="6072120"/>
            <a:ext cx="8429760" cy="39888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вилон. Ворота богини Иш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71680" y="1928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раграф 13, выписывать главную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428760" y="1357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й о Нововавилонском цар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28760" y="3244680"/>
            <a:ext cx="8286480" cy="520560"/>
          </a:xfrm>
          <a:prstGeom prst="rect">
            <a:avLst/>
          </a:prstGeom>
          <a:gradFill rotWithShape="0">
            <a:gsLst>
              <a:gs pos="0">
                <a:srgbClr val="b7a6d0"/>
              </a:gs>
              <a:gs pos="100000">
                <a:srgbClr val="e9e4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00040" y="39290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 Возникновение Нововавилонского ц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Город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амятники города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00040" y="428760"/>
            <a:ext cx="8215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1143000"/>
            <a:ext cx="7786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ода Двуречья долго воевали между собой за право быть главным. Победил в этой борьбе Вави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shkolnie.ru/pars_docs/refs/42/41484/41484_html_m7178a3ed.jpg"/>
          <p:cNvPicPr/>
          <p:nvPr/>
        </p:nvPicPr>
        <p:blipFill>
          <a:blip r:embed="rId2"/>
          <a:stretch/>
        </p:blipFill>
        <p:spPr>
          <a:xfrm>
            <a:off x="4857840" y="2000160"/>
            <a:ext cx="3571920" cy="3133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357120" y="2786040"/>
            <a:ext cx="46436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Определите, какое государство изображено кар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Назовите крупные реки, которые протекают на территории этого государ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Назовите столицу этого государства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Прямоугольник 7"/>
          <p:cNvGrpSpPr/>
          <p:nvPr/>
        </p:nvGrpSpPr>
        <p:grpSpPr>
          <a:xfrm>
            <a:off x="401760" y="401760"/>
            <a:ext cx="8340480" cy="573120"/>
            <a:chOff x="401760" y="401760"/>
            <a:chExt cx="8340480" cy="573120"/>
          </a:xfrm>
        </p:grpSpPr>
        <p:pic>
          <p:nvPicPr>
            <p:cNvPr id="5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01760" y="401760"/>
              <a:ext cx="8340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28760" y="428760"/>
              <a:ext cx="828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вилон - главный город Двуречь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вилон - главный город Двуреч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 Нововавилонского ц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928960" y="1928880"/>
            <a:ext cx="57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626 г. до н.э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ии началось восстание против ассирийцев. В нем участвовало местное население – халдеи. Возглавил восстание халдей Набопалас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all-generals.ru/assets/images/polkovodci/DM/Vavilon/Nabopolassar.jpg"/>
          <p:cNvPicPr/>
          <p:nvPr/>
        </p:nvPicPr>
        <p:blipFill>
          <a:blip r:embed="rId2"/>
          <a:stretch/>
        </p:blipFill>
        <p:spPr>
          <a:xfrm>
            <a:off x="500040" y="2286000"/>
            <a:ext cx="2286000" cy="4081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28760" y="6072120"/>
            <a:ext cx="221436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опалас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928960" y="364320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яне победили ассирийцев и Ассирия п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 Нововавилонского ц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cdn.turkaramamotoru.com/ru/navuhodonosor-ii-303.jpg"/>
          <p:cNvPicPr/>
          <p:nvPr/>
        </p:nvPicPr>
        <p:blipFill>
          <a:blip r:embed="rId2"/>
          <a:stretch/>
        </p:blipFill>
        <p:spPr>
          <a:xfrm>
            <a:off x="5072040" y="121428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5000760" y="5929200"/>
            <a:ext cx="37144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вуходоносор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28760" y="1285920"/>
            <a:ext cx="47862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смерти отца Нововавилонским царем стал сын Набопаласара – Навуходаносо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отстроил Вавилон и сделал его одним из чудес св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оложил каналы, вырыл озера и огромные водохранилища, основал г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571680" y="57168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28760" y="6000840"/>
            <a:ext cx="37144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ммур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00040" y="11430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временем царя Хаммурапи Вавилон был крупнейшим центром Ближнего Востока. Его жители гордились своим городом, не зря его название означало «Ворота бо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Хаммурапи"/>
          <p:cNvPicPr/>
          <p:nvPr/>
        </p:nvPicPr>
        <p:blipFill>
          <a:blip r:embed="rId2"/>
          <a:stretch/>
        </p:blipFill>
        <p:spPr>
          <a:xfrm>
            <a:off x="428760" y="2571840"/>
            <a:ext cx="3571920" cy="3405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4071960" y="2428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вилон стал символом мог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boombob.ru/img/picture/Jun/21/3f781dbe7472e2994abd0e5e52705e71/2.jpg"/>
          <p:cNvPicPr/>
          <p:nvPr/>
        </p:nvPicPr>
        <p:blipFill>
          <a:blip r:embed="rId3"/>
          <a:stretch/>
        </p:blipFill>
        <p:spPr>
          <a:xfrm>
            <a:off x="4786200" y="3286080"/>
            <a:ext cx="3357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500040" y="428760"/>
            <a:ext cx="8215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143680" y="1714680"/>
            <a:ext cx="357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ественные ворота. Вавилоняне сохранили многое из богатого наследия шумеров. Шумерский язык использовался ими при совершении религиозных обр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boombob.ru/img/picture/Jun/21/3f781dbe7472e2994abd0e5e52705e71/2.jpg"/>
          <p:cNvPicPr/>
          <p:nvPr/>
        </p:nvPicPr>
        <p:blipFill>
          <a:blip r:embed="rId2"/>
          <a:stretch/>
        </p:blipFill>
        <p:spPr>
          <a:xfrm>
            <a:off x="428760" y="1857240"/>
            <a:ext cx="4572000" cy="4281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428760" y="6072120"/>
            <a:ext cx="46432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евний Вавил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28760" y="10000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вилон был самым большим городом передней Аз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Его улицы были четко распланированы. Город украш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428760" y="92880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арь Навуходоносор 2 заботился о том, чтобы Вавилон был не только самым могущественным, но и самым красивым городом мира. Он очень любил свою жену мидийскую принцессу Амитис, зная, что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28760" y="428760"/>
            <a:ext cx="835812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Висячие сады Семирамиды. Одно из Семи чудес света."/>
          <p:cNvPicPr/>
          <p:nvPr/>
        </p:nvPicPr>
        <p:blipFill>
          <a:blip r:embed="rId2"/>
          <a:stretch/>
        </p:blipFill>
        <p:spPr>
          <a:xfrm>
            <a:off x="5072040" y="21430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072040" y="6072120"/>
            <a:ext cx="364320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ячие 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8760" y="2357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учает по Родине, приказал построить цветущие с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ло ворот находился царский дворец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висячими сад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е считались одним из чудес света. В архитектурном плане висячие сады представляли собой пирамиду, состоявшую из четырёх ярусов-платфо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mir-biblii.ru/uploads/posts/2014-03/1394344841_vavilon-bashnya.jpg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143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4786200" y="6286680"/>
            <a:ext cx="4000680" cy="39888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шня в Вавилоне - реконстру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428760" y="92880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Вавилона возвышалась девяностометровая храмовая башня, с которой   жрецы наблюдали за движением звезд и планет. В легенде, рассказывающей о строительстве башни, говорится, что на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ившие тогд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м языке нач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оительство огромной баш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оторой можно было 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обраться на небо. Но б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гневался на людей за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зость – и смешал язы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оителей. Перестав по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 друга, они не смог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ончить стро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азбрелись по все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428760" y="428760"/>
            <a:ext cx="8286480" cy="52056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вилон - главный город Двуреч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5:22:10Z</dcterms:created>
  <dc:creator>оля</dc:creator>
  <dc:description/>
  <dc:language>en-US</dc:language>
  <cp:lastModifiedBy>ТатьянА</cp:lastModifiedBy>
  <dcterms:modified xsi:type="dcterms:W3CDTF">2019-01-02T12:42:05Z</dcterms:modified>
  <cp:revision>71</cp:revision>
  <dc:subject/>
  <dc:title>Слайд 1</dc:title>
</cp:coreProperties>
</file>