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DEA-7B96-4B23-83F5-7A4424FA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440-E89F-4921-8529-7A5E4698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D51-DB24-4168-A51B-17E3BF36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D03-7970-4CCA-8A47-395C3188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67D-FDFF-471A-B838-ED6774D8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55B-9009-4E9F-80C5-8793DA94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F88-6ADE-4C48-B673-E10590F5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9F8-2AE1-4FD5-A1FA-9E5A05BC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2B6-EB82-44E7-971A-ACCA566C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E39-AD3E-4B1E-B50B-165DB7C4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AA0-80E1-462C-8331-1C42A528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783-A07E-4261-A209-3EA5C1DF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7155-B008-4243-AD8F-E19D8DFBC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>
            <a:off x="571680" y="1000080"/>
            <a:ext cx="828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вовавилонское царство: завоевания, легендарные памятники города Вавил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Город Вавилон в VI веке до нашей эры"/>
          <p:cNvPicPr/>
          <p:nvPr/>
        </p:nvPicPr>
        <p:blipFill>
          <a:blip r:embed="rId2"/>
          <a:stretch/>
        </p:blipFill>
        <p:spPr>
          <a:xfrm>
            <a:off x="428760" y="3000240"/>
            <a:ext cx="3851280" cy="264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Висячие сады Семирамиды. Одно из Семи чудес света."/>
          <p:cNvPicPr/>
          <p:nvPr/>
        </p:nvPicPr>
        <p:blipFill>
          <a:blip r:embed="rId3"/>
          <a:stretch/>
        </p:blipFill>
        <p:spPr>
          <a:xfrm>
            <a:off x="5214960" y="2928960"/>
            <a:ext cx="2940120" cy="3286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357120" y="5717160"/>
            <a:ext cx="428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Город Вавилон в VI веке до нашей эры"/>
          <p:cNvPicPr/>
          <p:nvPr/>
        </p:nvPicPr>
        <p:blipFill>
          <a:blip r:embed="rId2"/>
          <a:stretch/>
        </p:blipFill>
        <p:spPr>
          <a:xfrm>
            <a:off x="357120" y="428760"/>
            <a:ext cx="8429760" cy="57862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357120" y="6072120"/>
            <a:ext cx="8429760" cy="398880"/>
          </a:xfrm>
          <a:prstGeom prst="rect">
            <a:avLst/>
          </a:prstGeom>
          <a:gradFill rotWithShape="0">
            <a:gsLst>
              <a:gs pos="0">
                <a:srgbClr val="b7a6d0"/>
              </a:gs>
              <a:gs pos="100000">
                <a:srgbClr val="e9e4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вилон. Ворота богини Иш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gradFill rotWithShape="0">
            <a:gsLst>
              <a:gs pos="0">
                <a:srgbClr val="b7a6d0"/>
              </a:gs>
              <a:gs pos="100000">
                <a:srgbClr val="e9e4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71680" y="1928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раграф 13, выписывать главную мыс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писи в тетра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428760" y="1357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й о Нововавилонском цар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gradFill rotWithShape="0">
            <a:gsLst>
              <a:gs pos="0">
                <a:srgbClr val="b7a6d0"/>
              </a:gs>
              <a:gs pos="100000">
                <a:srgbClr val="e9e4e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428760" y="3244680"/>
            <a:ext cx="8286480" cy="520560"/>
          </a:xfrm>
          <a:prstGeom prst="rect">
            <a:avLst/>
          </a:prstGeom>
          <a:gradFill rotWithShape="0">
            <a:gsLst>
              <a:gs pos="0">
                <a:srgbClr val="b7a6d0"/>
              </a:gs>
              <a:gs pos="100000">
                <a:srgbClr val="e9e4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500040" y="392904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 Возникновение Нововавилонского ц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Город Вави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Памятники города Вави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00040" y="428760"/>
            <a:ext cx="8215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71680" y="1143000"/>
            <a:ext cx="7786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рода Двуречья долго воевали между собой за право быть главным. Победил в этой борьбе Вавил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shkolnie.ru/pars_docs/refs/42/41484/41484_html_m7178a3ed.jpg"/>
          <p:cNvPicPr/>
          <p:nvPr/>
        </p:nvPicPr>
        <p:blipFill>
          <a:blip r:embed="rId2"/>
          <a:stretch/>
        </p:blipFill>
        <p:spPr>
          <a:xfrm>
            <a:off x="4857840" y="2000160"/>
            <a:ext cx="3571920" cy="3133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357120" y="2786040"/>
            <a:ext cx="46436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Определите, какое государство изображено карт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Назовите крупные реки, которые протекают на территории этого государ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Назовите столицу этого государства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Прямоугольник 7"/>
          <p:cNvGrpSpPr/>
          <p:nvPr/>
        </p:nvGrpSpPr>
        <p:grpSpPr>
          <a:xfrm>
            <a:off x="401760" y="401760"/>
            <a:ext cx="8340480" cy="573120"/>
            <a:chOff x="401760" y="401760"/>
            <a:chExt cx="8340480" cy="573120"/>
          </a:xfrm>
        </p:grpSpPr>
        <p:pic>
          <p:nvPicPr>
            <p:cNvPr id="57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01760" y="401760"/>
              <a:ext cx="83404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28760" y="428760"/>
              <a:ext cx="828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вилон - главный город Двуречь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вилон - главный город Двуреч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71680" y="57168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новение Нововавилонского ц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928960" y="1928880"/>
            <a:ext cx="57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626 г. до н.э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вилонии началось восстание против ассирийцев. В нем участвовало местное население – халдеи. Возглавил восстание халдей Набопалас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all-generals.ru/assets/images/polkovodci/DM/Vavilon/Nabopolassar.jpg"/>
          <p:cNvPicPr/>
          <p:nvPr/>
        </p:nvPicPr>
        <p:blipFill>
          <a:blip r:embed="rId2"/>
          <a:stretch/>
        </p:blipFill>
        <p:spPr>
          <a:xfrm>
            <a:off x="500040" y="2286000"/>
            <a:ext cx="2286000" cy="40813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428760" y="6072120"/>
            <a:ext cx="221436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опалас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928960" y="364320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вилоняне победили ассирийцев и Ассирия п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571680" y="57168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новение Нововавилонского ц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s://cdn.turkaramamotoru.com/ru/navuhodonosor-ii-303.jpg"/>
          <p:cNvPicPr/>
          <p:nvPr/>
        </p:nvPicPr>
        <p:blipFill>
          <a:blip r:embed="rId2"/>
          <a:stretch/>
        </p:blipFill>
        <p:spPr>
          <a:xfrm>
            <a:off x="5072040" y="1214280"/>
            <a:ext cx="3643200" cy="50594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5000760" y="5929200"/>
            <a:ext cx="371448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вуходоносор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428760" y="1285920"/>
            <a:ext cx="47862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 смерти отца Нововавилонским царем стал сын Набопаласара – Навуходаносор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отстроил Вавилон и сделал его одним из чудес све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оложил каналы, вырыл озера и огромные водохранилища, основал г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571680" y="57168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 Вав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428760" y="6000840"/>
            <a:ext cx="371448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аммура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00040" y="11430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 временем царя Хаммурапи Вавилон был крупнейшим центром Ближнего Востока. Его жители гордились своим городом, не зря его название означало «Ворота бог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Хаммурапи"/>
          <p:cNvPicPr/>
          <p:nvPr/>
        </p:nvPicPr>
        <p:blipFill>
          <a:blip r:embed="rId2"/>
          <a:stretch/>
        </p:blipFill>
        <p:spPr>
          <a:xfrm>
            <a:off x="428760" y="2571840"/>
            <a:ext cx="3571920" cy="3405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4071960" y="24289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вилон стал символом могу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boombob.ru/img/picture/Jun/21/3f781dbe7472e2994abd0e5e52705e71/2.jpg"/>
          <p:cNvPicPr/>
          <p:nvPr/>
        </p:nvPicPr>
        <p:blipFill>
          <a:blip r:embed="rId3"/>
          <a:stretch/>
        </p:blipFill>
        <p:spPr>
          <a:xfrm>
            <a:off x="4786200" y="3286080"/>
            <a:ext cx="3357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500040" y="428760"/>
            <a:ext cx="8215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5143680" y="1714680"/>
            <a:ext cx="357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ественные ворота. Вавилоняне сохранили многое из богатого наследия шумеров. Шумерский язык использовался ими при совершении религиозных обря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 Вав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boombob.ru/img/picture/Jun/21/3f781dbe7472e2994abd0e5e52705e71/2.jpg"/>
          <p:cNvPicPr/>
          <p:nvPr/>
        </p:nvPicPr>
        <p:blipFill>
          <a:blip r:embed="rId2"/>
          <a:stretch/>
        </p:blipFill>
        <p:spPr>
          <a:xfrm>
            <a:off x="428760" y="1857240"/>
            <a:ext cx="4572000" cy="4281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6"/>
          <p:cNvSpPr/>
          <p:nvPr/>
        </p:nvSpPr>
        <p:spPr>
          <a:xfrm>
            <a:off x="428760" y="6072120"/>
            <a:ext cx="464328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евний Вавил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428760" y="10000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вилон был самым большим городом передней Аз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Его улицы были четко распланированы. Город украш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428760" y="92880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арь Навуходоносор 2 заботился о том, чтобы Вавилон был не только самым могущественным, но и самым красивым городом мира. Он очень любил свою жену мидийскую принцессу Амитис, зная, что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28760" y="428760"/>
            <a:ext cx="835812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 Вав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Висячие сады Семирамиды. Одно из Семи чудес света."/>
          <p:cNvPicPr/>
          <p:nvPr/>
        </p:nvPicPr>
        <p:blipFill>
          <a:blip r:embed="rId2"/>
          <a:stretch/>
        </p:blipFill>
        <p:spPr>
          <a:xfrm>
            <a:off x="5072040" y="2143080"/>
            <a:ext cx="3643200" cy="40719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5072040" y="6072120"/>
            <a:ext cx="364320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сячие с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428760" y="2357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учает по Родине, приказал построить цветущие с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оло ворот находился царский дворец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висячими сада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ые считались одним из чудес света. В архитектурном плане висячие сады представляли собой пирамиду, состоявшую из четырёх ярусов-платфор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mir-biblii.ru/uploads/posts/2014-03/1394344841_vavilon-bashnya.jpg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1436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4786200" y="6286680"/>
            <a:ext cx="400068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шня в Вавилоне - реконстру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428760" y="928800"/>
            <a:ext cx="84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нтре Вавилона возвышалась девяностометровая храмовая башня, с которой   жрецы наблюдали за движением звезд и планет. В легенде, рассказывающей о строительстве башни, говорится, что на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ившие тогд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м языке нач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оительство огромной баш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оторой можно было 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обраться на небо. Но б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гневался на людей за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зость – и смешал язы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оителей. Перестав поним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 друга, они не смог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ончить стро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разбрелись по всей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428760" y="42876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вилон - главный город Двуреч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15:22:10Z</dcterms:created>
  <dc:creator>оля</dc:creator>
  <dc:description/>
  <dc:language>en-US</dc:language>
  <cp:lastModifiedBy>ТатьянА</cp:lastModifiedBy>
  <dcterms:modified xsi:type="dcterms:W3CDTF">2019-01-02T12:42:05Z</dcterms:modified>
  <cp:revision>71</cp:revision>
  <dc:subject/>
  <dc:title>Слайд 1</dc:title>
</cp:coreProperties>
</file>