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550-6068-442E-9D32-EC96085A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796-39C1-4264-80C6-96511023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607-B297-4FBF-8A64-4CD4347A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1D4-CE71-4535-B885-6CE9CFCE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EB78-8E85-4F11-8E94-FF98894F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5B60-5A35-4557-99B4-7380AF7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6A9F-7C26-45E5-9A50-D12CD297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A0B8-D18C-4AC6-99B0-F7D54A8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B537-10AB-4B73-97CF-31F42B2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F2DD-B8B4-4A74-93C1-FAA32C8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D29-4CB5-4998-85E5-4385788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6A8-E721-422A-B6EF-F30214A8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FFF-892E-4EA2-AEBE-9EF60D5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82E-4E17-490C-9822-CBBAA23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EE6-BF9D-45C2-9188-48A77C0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3B0-C503-447F-89F2-D395CAF4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891D-6939-4628-8976-00FCB9C7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B4D14-4386-42BB-8F46-B14DAC6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3DBAC-22E4-4B9A-8217-E5ED59B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029AC-2978-48B8-A126-0ABBFC2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A0C3B-1040-4F5C-BB7A-EA99F45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51173-05E8-491C-A5EF-253F7E3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3D0-B473-45BA-BF4C-2E3A000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196A9-96A6-4232-985B-23FBDF51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1CD50-31B8-469B-A58D-982EDDC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BB2E3-F7B1-452F-8070-B1765DF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51A85-064A-41C8-ACA3-00FA1C90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2D4E5-8D49-4568-A62B-2518205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AE3BA-F7A0-4771-A4DB-899760C0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02F43-434E-4381-87AA-AC1BA1F6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1EB1-FD1D-4885-9958-46B22879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E5ED-9939-4FD1-8639-2DED602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8821-2DDD-41FF-BD63-B566DAE6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49D-4B1A-4F55-97D1-3425D79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281B-2D69-4E4F-9201-31EEAB1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9E70-8F72-4B3E-B43E-18676D0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F4C0-B80F-4DCE-B347-7DC9452D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6E7D-09C3-4160-ABF9-B3A18C9B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460A-D38E-4900-A067-CB0ED0E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CD6E-25BA-4A53-AA4D-5E5C08B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9B21-E254-46D6-82E1-F52B0BE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4C05-8192-42D5-ABDD-E6E4E024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315F-4614-4A4B-902A-671F9907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5CA-A3EF-49B4-98F7-6F5D7F8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FC9-915D-4DD6-89F9-715049D6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530-C5CC-4536-9BBC-A6748D3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E2D-83DD-4166-9569-429BE058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23A-0337-4B6D-ADE3-1BE5437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989-EF36-4BD5-845B-8A7CB4A4D03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6401-729E-4E24-88AE-5394738BD67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6C2-D175-43FB-B2C7-227AD8270CC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7E3-B1DD-4FE0-9FC4-9C70551F5B3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дноклассники, сверстники, друзь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6075360"/>
            <a:ext cx="414324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http://med-heal.ru/wp-content/uploads/2016/05/07-702x336.jpeg"/>
          <p:cNvPicPr/>
          <p:nvPr/>
        </p:nvPicPr>
        <p:blipFill>
          <a:blip r:embed="rId1"/>
          <a:stretch/>
        </p:blipFill>
        <p:spPr>
          <a:xfrm>
            <a:off x="4086360" y="4221000"/>
            <a:ext cx="505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Тестирование «Дружба или плен?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0" y="1483200"/>
            <a:ext cx="9144000" cy="463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.Большую часть времени ты проводишь в своей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2.Ты носишь ту одежду, которая принята в вашей компании, как бы нелепо она ни выгля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3.Когда твоих друзей нет рядом, ты продолжаешь заниматься тем, чем занимаешься вместе с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4.Находясь вдали от друзей, ты предпочитаешь говорить и действовать так, как действуют и говорят 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314280"/>
            <a:ext cx="9144000" cy="57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5.Есть ли у тебя увлечение, не относящееся к общению с друзь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6. Ты с негодованием и агрессивностью относишься к тем, кто позволил выразить иную точку зрения, чем та, которая принята в твоей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7.Можешь ли ты самостоятельно, без участия друзей принимать какие-либо реш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.Можешь ли ты отказаться от встречи с компанией, если на то есть причи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Ты можешь настоять на своей точке зрения, находясь в комп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274680"/>
            <a:ext cx="91440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Считаем бал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твет «Да» -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Georgia"/>
                <a:ea typeface="Times New Roman"/>
              </a:rPr>
              <a:t>Ответ «Нет» -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 9 до 6 баллов - ты крайне зависим от своей компании. Может быть, стоит проявлять побольше индивидуальности и чаще высказывать свое мнение, а то так и себя потерять недол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 5 до 3 баллов - ты проводишь время в компании, но мнение твоих друзей не играет решающей роли для принятия решений. Поздравляем, самостоятельность - первый шаг к взросл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нее 3 баллов - мнение компании для тебя не главное. Ты встречаешься с друзьями, поддерживаешь с ними отношения, но независим от их решений и не идешь на поводу у компании. Ты остаешься личностью в любых обстоятель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428760" y="114300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Без друзей меня чуть-чуть, а с друзьями мн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med-heal.ru/wp-content/uploads/2016/05/07-702x336.jpeg"/>
          <p:cNvPicPr/>
          <p:nvPr/>
        </p:nvPicPr>
        <p:blipFill>
          <a:blip r:embed="rId1"/>
          <a:stretch/>
        </p:blipFill>
        <p:spPr>
          <a:xfrm>
            <a:off x="785880" y="2928960"/>
            <a:ext cx="72864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50920" y="1197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492280"/>
          <a:ext cx="9144000" cy="1257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57480">
                <a:tc>
                  <a:txBody>
                    <a:bodyPr lIns="114480" rIns="114480" tIns="0" bIns="0" anchor="t">
                      <a:noAutofit/>
                    </a:bodyPr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Что нового вы узнали о дружб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кое самое главное качество в своем друге 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ите? Почем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Picture 2" descr="http://cs624420.vk.me/v624420841/20d21/eUOpjFukVMY.jpg"/>
          <p:cNvPicPr/>
          <p:nvPr/>
        </p:nvPicPr>
        <p:blipFill>
          <a:blip r:embed="rId1"/>
          <a:stretch/>
        </p:blipFill>
        <p:spPr>
          <a:xfrm>
            <a:off x="5219640" y="364500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-1714680" y="285840"/>
            <a:ext cx="91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-9360" y="920880"/>
            <a:ext cx="87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те пропуски. Продолжите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85840" y="1687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ем классе ________ человек. Девочек__________, мальчиков________. Среди них сверстников_______. Голубоглазых______. Кареглазых________. Зеленоглазых_______. Любителей кошек______. Владельцев собак______. Обладателей талантов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атематики класса: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спортсмены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и пищут: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х рисуют: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веселые: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готовы придти на помощь: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79280" y="23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ть §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Задание в 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cs616119.vk.me/v616119962/19363/MAJOsstVdhA.jpg"/>
          <p:cNvPicPr/>
          <p:nvPr/>
        </p:nvPicPr>
        <p:blipFill>
          <a:blip r:embed="rId1"/>
          <a:stretch/>
        </p:blipFill>
        <p:spPr>
          <a:xfrm>
            <a:off x="2195640" y="4221000"/>
            <a:ext cx="4746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3195360" cy="30002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611280" y="15573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Спасибо за урок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0" y="19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ть условия для формирования представлений об истинном товариществе и верной дружбе, о качествах личности, без которых не складываются товарищеские и дружески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55640" y="620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s://go3.imgsmail.ru/imgpreview?key=4e88eb14b28a1df&amp;mb=imgdb_preview_20000"/>
          <p:cNvPicPr/>
          <p:nvPr/>
        </p:nvPicPr>
        <p:blipFill>
          <a:blip r:embed="rId1"/>
          <a:stretch/>
        </p:blipFill>
        <p:spPr>
          <a:xfrm>
            <a:off x="4427640" y="3913200"/>
            <a:ext cx="4716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-165600" y="2430360"/>
            <a:ext cx="59637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ы и другие ребя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лово не вороб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акой ты, друг?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611280" y="620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http://aniramio.ru/wp-content/uploads/2015/11/plan-na-mesyaz.png"/>
          <p:cNvPicPr/>
          <p:nvPr/>
        </p:nvPicPr>
        <p:blipFill>
          <a:blip r:embed="rId1"/>
          <a:stretch/>
        </p:blipFill>
        <p:spPr>
          <a:xfrm>
            <a:off x="5499000" y="2565360"/>
            <a:ext cx="3645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36640" y="83664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Личностно значимая 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0" y="1916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«В мире нет ничего лучше и приятнее дружбы; исключить из жизни дружбу - все равно, что лишить мир солнечного света»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(Цицер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citatu.com.ua/idata/autors/140521-055955-8579.jpg"/>
          <p:cNvPicPr/>
          <p:nvPr/>
        </p:nvPicPr>
        <p:blipFill>
          <a:blip r:embed="rId1"/>
          <a:stretch/>
        </p:blipFill>
        <p:spPr>
          <a:xfrm>
            <a:off x="5796000" y="3860640"/>
            <a:ext cx="2597040" cy="29973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4059000" y="59500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Цице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03360" y="2276640"/>
            <a:ext cx="82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Игра «Паровозик дружб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://colorator.net/images/MultfilmiRus/Parovozik_iz_romashkovo/1/12.gif"/>
          <p:cNvPicPr/>
          <p:nvPr/>
        </p:nvPicPr>
        <p:blipFill>
          <a:blip r:embed="rId1"/>
          <a:srcRect l="0" t="5410" r="426" b="0"/>
          <a:stretch/>
        </p:blipFill>
        <p:spPr>
          <a:xfrm>
            <a:off x="179280" y="3716280"/>
            <a:ext cx="871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image1"/>
          <p:cNvPicPr/>
          <p:nvPr/>
        </p:nvPicPr>
        <p:blipFill>
          <a:blip r:embed="rId1"/>
          <a:stretch/>
        </p:blipFill>
        <p:spPr>
          <a:xfrm>
            <a:off x="0" y="1844640"/>
            <a:ext cx="8896320" cy="2383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81080" y="903600"/>
            <a:ext cx="896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Схема игры «Паровозик дружб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997360"/>
          <a:ext cx="9144000" cy="177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121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ts val="1312"/>
                        </a:lnSpc>
                        <a:spcBef>
                          <a:spcPts val="300"/>
                        </a:spcBef>
                        <a:spcAft>
                          <a:spcPts val="6301"/>
                        </a:spcAft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условия иг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Georgia"/>
                        <a:buChar char="-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ы с одноклассниками едете путешествовать. Разместите всех ребят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агонам, чтобы им было комфортн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Georgia"/>
                        <a:buChar char="-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 каждый вагон можно посадить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не более 6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Прямоугольник 4"/>
          <p:cNvSpPr/>
          <p:nvPr/>
        </p:nvSpPr>
        <p:spPr>
          <a:xfrm>
            <a:off x="0" y="508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Участники объясняют свой выбор (должны объяснить, по­чему они  разместили именно так своих однокласс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0" y="126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бота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0" y="2253240"/>
            <a:ext cx="91440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рисуйте в тетради ромашку, в центре изобразите себя, а на лепестках запишите дела, которыми вы любите заниматься с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http://08.od.ua/data/category/tetradi/tetradi.jpg"/>
          <p:cNvPicPr/>
          <p:nvPr/>
        </p:nvPicPr>
        <p:blipFill>
          <a:blip r:embed="rId1"/>
          <a:stretch/>
        </p:blipFill>
        <p:spPr>
          <a:xfrm>
            <a:off x="2627280" y="3995640"/>
            <a:ext cx="47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181800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бота с рубрикой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«Жил на свете человек»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и иллюстрацией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с. 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https://go1.imgsmail.ru/imgpreview?key=67d050e77731825&amp;mb=imgdb_preview_1689"/>
          <p:cNvPicPr/>
          <p:nvPr/>
        </p:nvPicPr>
        <p:blipFill>
          <a:blip r:embed="rId1"/>
          <a:stretch/>
        </p:blipFill>
        <p:spPr>
          <a:xfrm>
            <a:off x="4932360" y="2924280"/>
            <a:ext cx="36320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1628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Обсуждение рубрики и картины А. С. Епишина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«Спорщики» на стр.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i.arts.in.ua/i/865/s_60819.jpg"/>
          <p:cNvPicPr/>
          <p:nvPr/>
        </p:nvPicPr>
        <p:blipFill>
          <a:blip r:embed="rId1"/>
          <a:stretch/>
        </p:blipFill>
        <p:spPr>
          <a:xfrm>
            <a:off x="2268360" y="3141720"/>
            <a:ext cx="4152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20:44:15Z</dcterms:created>
  <dc:creator>Лера</dc:creator>
  <dc:description/>
  <dc:language>en-US</dc:language>
  <cp:lastModifiedBy>ТатьянА</cp:lastModifiedBy>
  <dcterms:modified xsi:type="dcterms:W3CDTF">2019-01-02T18:29:01Z</dcterms:modified>
  <cp:revision>7</cp:revision>
  <dc:subject/>
  <dc:title>Одноклассники, сверстники, друзья</dc:title>
</cp:coreProperties>
</file>