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media/image11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40C1-7B81-4CC9-8300-D0ADBF592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CAC3-E86C-4D91-A17C-871EACB4A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94E4-0C50-4CCF-A72C-9D4F6FBCC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A63E-56EB-46B6-90D5-5EE8C9EA7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0AA11-DCF6-4CD2-B54E-A2A5EB242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7B7D5-9CB6-4B47-BF3B-9A6340010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53707-A576-4D20-BF52-F22E489ED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C2305-0CCB-4C01-9741-DAA26D158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4068C-5C77-428D-B95E-990595D11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26204-A86B-4A2E-BB8C-57ED7B195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8D719-A71F-4324-99FD-088B8D3FA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D56E-57B6-4ED2-87C1-386E235B2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697C5-8993-4A68-93B7-B5FCF4DE0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E60EC-ACD7-4286-9F23-65C811B37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DAFDD-6ECC-4CDB-BCA0-B1BE1DD7F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F5CE7-5864-410C-A45D-767735038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B3059-098E-4065-BC77-EC41025E1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1F1D86-E712-4FE7-9814-9A20B9B2E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E6B764-FC39-4718-99C3-6306C1F80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8D5443-018E-488F-A423-F172C7EE8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3E09FC-FF7F-42E0-9CE1-7FAEEC7E8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EB5AF3-1DD9-49B7-A21D-D1153E21C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153A-9288-448B-9A39-25C7E8208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771CB2-58E7-418D-ADAE-316AF363F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1E26D3-3B4F-4913-9400-432B2CF56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78FBC0-4577-4E46-9722-28BB2EB47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1F49C4-6B00-4F39-803D-133C78434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C36005-88CC-48AB-8230-3433C509B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8296BE-8AFD-403B-85FB-7F29B052E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E16485-175B-4BBE-B741-5AB6E8BBA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4E34AA-8136-4662-AE13-0B2FE2890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2125FD-51BC-421E-9A6A-7F21FB850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CB3500-F50F-41C1-A3ED-39DAEDA1F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7B40-2001-40C9-ADFA-50112640B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8886A4-4B86-4BA6-90F5-E4C39FD6E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D369F4-568E-46BD-9A98-0DB3B7CAB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1C6E95-6844-4E66-BD7B-A6E4881CA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9B08A6-501B-498F-9D9B-D595CD08A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A3A0B1-7EFE-48A1-A113-E6AAB7542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DB0F30-C929-41F0-AEF2-4FEE23F34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4424E4-10CE-42CE-99BB-50D72EF14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03C01E-5570-4061-BAB4-E82600B32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EF8866-06F4-4C1D-84EA-83B83A0E7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1F27-EB83-4096-BA82-5E00C37A8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ED49-37CC-4051-B48A-009F269A2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34ED-8254-47A7-9FAE-39EE0AD14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5313-C795-4925-AE80-4A527AB2A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2E1E-0DB1-4025-8EB7-1156FE2D6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7A434-CFED-4B4F-9C8F-8E623E1DA296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DB882-45F4-4820-ADA2-085BFBF19159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A2E48-9C6B-4C95-9776-A1E76C00AD8B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3F0FC-99E5-4CD0-9897-C270412C1A63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94920" y="1341360"/>
            <a:ext cx="84582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rebuchet MS"/>
              </a:rPr>
              <a:t>Одноклассники, сверстники, друзья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-360" y="6075360"/>
            <a:ext cx="4143240" cy="78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24456"/>
                </a:solidFill>
                <a:latin typeface="Georgia"/>
              </a:rPr>
              <a:t>Учитель истории МАОУСОШ № 2 им. Ю.А. Гагарина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24456"/>
                </a:solidFill>
                <a:latin typeface="Georgia"/>
              </a:rPr>
              <a:t>муниципального образования Успенский район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24456"/>
                </a:solidFill>
                <a:latin typeface="Georgia"/>
              </a:rPr>
              <a:t>Пелых Валерия Николаевна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16" name="Picture 2" descr="http://med-heal.ru/wp-content/uploads/2016/05/07-702x336.jpeg"/>
          <p:cNvPicPr/>
          <p:nvPr/>
        </p:nvPicPr>
        <p:blipFill>
          <a:blip r:embed="rId1"/>
          <a:stretch/>
        </p:blipFill>
        <p:spPr>
          <a:xfrm>
            <a:off x="4086360" y="4221000"/>
            <a:ext cx="505764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Прямоугольник 1"/>
          <p:cNvSpPr/>
          <p:nvPr/>
        </p:nvSpPr>
        <p:spPr>
          <a:xfrm>
            <a:off x="0" y="9079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Georgia"/>
              </a:rPr>
              <a:t>Тестирование «Дружба или плен?»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1"/>
          <p:cNvSpPr/>
          <p:nvPr/>
        </p:nvSpPr>
        <p:spPr>
          <a:xfrm>
            <a:off x="0" y="1483200"/>
            <a:ext cx="9144000" cy="463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1.Большую часть времени ты проводишь в своей компан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2.Ты носишь ту одежду, которая принята в вашей компании, как бы нелепо она ни выглядел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3.Когда твоих друзей нет рядом, ты продолжаешь заниматься тем, чем занимаешься вместе с ни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4.Находясь вдали от друзей, ты предпочитаешь говорить и действовать так, как действуют и говорят он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1"/>
          <p:cNvSpPr/>
          <p:nvPr/>
        </p:nvSpPr>
        <p:spPr>
          <a:xfrm>
            <a:off x="0" y="314280"/>
            <a:ext cx="9144000" cy="5731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5.Есть ли у тебя увлечение, не относящееся к общению с друзьями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6. Ты с негодованием и агрессивностью относишься к тем, кто позволил выразить иную точку зрения, чем та, которая принята в твоей компан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228600"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7.Можешь ли ты самостоятельно, без участия друзей принимать какие-либо решения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228600"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8.Можешь ли ты отказаться от встречи с компанией, если на то есть причина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228600"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9. Ты можешь настоять на своей точке зрения, находясь в компании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1"/>
          <p:cNvSpPr/>
          <p:nvPr/>
        </p:nvSpPr>
        <p:spPr>
          <a:xfrm>
            <a:off x="0" y="274680"/>
            <a:ext cx="9144000" cy="554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Georgia"/>
                <a:ea typeface="Times New Roman"/>
              </a:rPr>
              <a:t>Считаем балл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Georgia"/>
                <a:ea typeface="Times New Roman"/>
              </a:rPr>
              <a:t>Ответ «Да» - 1 бал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f0"/>
                </a:solidFill>
                <a:latin typeface="Georgia"/>
                <a:ea typeface="Times New Roman"/>
              </a:rPr>
              <a:t>Ответ «Нет» - 0 бал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28600"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от 9 до 6 баллов - ты крайне зависим от своей компании. Может быть, стоит проявлять побольше индивидуальности и чаще высказывать свое мнение, а то так и себя потерять недолго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28600"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28600"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от 5 до 3 баллов - ты проводишь время в компании, но мнение твоих друзей не играет решающей роли для принятия решений. Поздравляем, самостоятельность - первый шаг к взрослой жизн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28600"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28600"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менее 3 баллов - мнение компании для тебя не главное. Ты встречаешься с друзьями, поддерживаешь с ними отношения, но независим от их решений и не идешь на поводу у компании. Ты остаешься личностью в любых обстоятельств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Box 3"/>
          <p:cNvSpPr/>
          <p:nvPr/>
        </p:nvSpPr>
        <p:spPr>
          <a:xfrm>
            <a:off x="428760" y="1143000"/>
            <a:ext cx="8143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«Без друзей меня чуть-чуть, а с друзьями много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2" descr="http://med-heal.ru/wp-content/uploads/2016/05/07-702x336.jpeg"/>
          <p:cNvPicPr/>
          <p:nvPr/>
        </p:nvPicPr>
        <p:blipFill>
          <a:blip r:embed="rId1"/>
          <a:stretch/>
        </p:blipFill>
        <p:spPr>
          <a:xfrm>
            <a:off x="785880" y="2928960"/>
            <a:ext cx="7286400" cy="34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Box 1"/>
          <p:cNvSpPr/>
          <p:nvPr/>
        </p:nvSpPr>
        <p:spPr>
          <a:xfrm>
            <a:off x="250920" y="1197000"/>
            <a:ext cx="806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Georgia"/>
              </a:rPr>
              <a:t>Подведем итог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0" y="2492280"/>
          <a:ext cx="9144000" cy="125748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1257480">
                <a:tc>
                  <a:txBody>
                    <a:bodyPr lIns="114480" rIns="114480" tIns="0" bIns="0" anchor="t">
                      <a:noAutofit/>
                    </a:bodyPr>
                    <a:p>
                      <a:pPr marL="12600" algn="just">
                        <a:lnSpc>
                          <a:spcPts val="1386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Что нового вы узнали о дружбе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2600" algn="just">
                        <a:lnSpc>
                          <a:spcPts val="1386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2600" algn="just">
                        <a:lnSpc>
                          <a:spcPts val="1386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2600" algn="just">
                        <a:lnSpc>
                          <a:spcPts val="1386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Какое самое главное качество в своем друге вы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2600" algn="just">
                        <a:lnSpc>
                          <a:spcPts val="1386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2600" algn="just">
                        <a:lnSpc>
                          <a:spcPts val="1386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ите? Почему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48" name="Picture 2" descr="http://cs624420.vk.me/v624420841/20d21/eUOpjFukVMY.jpg"/>
          <p:cNvPicPr/>
          <p:nvPr/>
        </p:nvPicPr>
        <p:blipFill>
          <a:blip r:embed="rId1"/>
          <a:stretch/>
        </p:blipFill>
        <p:spPr>
          <a:xfrm>
            <a:off x="5219640" y="3645000"/>
            <a:ext cx="304812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Box 1"/>
          <p:cNvSpPr/>
          <p:nvPr/>
        </p:nvSpPr>
        <p:spPr>
          <a:xfrm>
            <a:off x="-1714680" y="285840"/>
            <a:ext cx="914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Georgia"/>
              </a:rPr>
              <a:t>Домашнее задани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2"/>
          <p:cNvSpPr/>
          <p:nvPr/>
        </p:nvSpPr>
        <p:spPr>
          <a:xfrm>
            <a:off x="-9360" y="920880"/>
            <a:ext cx="878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полните пропуски. Продолжите текс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3"/>
          <p:cNvSpPr/>
          <p:nvPr/>
        </p:nvSpPr>
        <p:spPr>
          <a:xfrm>
            <a:off x="285840" y="1687680"/>
            <a:ext cx="9144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нашем классе ________ человек. Девочек__________, мальчиков________. Среди них сверстников_______. Голубоглазых______. Кареглазых________. Зеленоглазых_______. Любителей кошек______. Владельцев собак______. Обладателей талантов_______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учшие математики класса: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учшие спортсмены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ихи пищут: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учше всех рисуют: ___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амые веселые: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гда готовы придти на помощь: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Box 1"/>
          <p:cNvSpPr/>
          <p:nvPr/>
        </p:nvSpPr>
        <p:spPr>
          <a:xfrm>
            <a:off x="0" y="69228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Georgia"/>
              </a:rPr>
              <a:t>Домашнее задани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Прямоугольник 2"/>
          <p:cNvSpPr/>
          <p:nvPr/>
        </p:nvSpPr>
        <p:spPr>
          <a:xfrm>
            <a:off x="179280" y="2349360"/>
            <a:ext cx="896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рочитать § 8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2) Задание в тетрад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2" descr="http://cs616119.vk.me/v616119962/19363/MAJOsstVdhA.jpg"/>
          <p:cNvPicPr/>
          <p:nvPr/>
        </p:nvPicPr>
        <p:blipFill>
          <a:blip r:embed="rId1"/>
          <a:stretch/>
        </p:blipFill>
        <p:spPr>
          <a:xfrm>
            <a:off x="2195640" y="4221000"/>
            <a:ext cx="4746600" cy="23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2" descr=""/>
          <p:cNvPicPr/>
          <p:nvPr/>
        </p:nvPicPr>
        <p:blipFill>
          <a:blip r:embed="rId1"/>
          <a:stretch/>
        </p:blipFill>
        <p:spPr>
          <a:xfrm>
            <a:off x="3059280" y="3068640"/>
            <a:ext cx="3195360" cy="3000240"/>
          </a:xfrm>
          <a:prstGeom prst="rect">
            <a:avLst/>
          </a:prstGeom>
          <a:ln w="0">
            <a:noFill/>
          </a:ln>
        </p:spPr>
      </p:pic>
      <p:sp>
        <p:nvSpPr>
          <p:cNvPr id="256" name="TextBox 2"/>
          <p:cNvSpPr/>
          <p:nvPr/>
        </p:nvSpPr>
        <p:spPr>
          <a:xfrm>
            <a:off x="611280" y="1557360"/>
            <a:ext cx="792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Georgia"/>
              </a:rPr>
              <a:t>Спасибо за урок!!!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Прямоугольник 1"/>
          <p:cNvSpPr/>
          <p:nvPr/>
        </p:nvSpPr>
        <p:spPr>
          <a:xfrm>
            <a:off x="0" y="191628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оздать условия для формирования представлений об истинном товариществе и верной дружбе, о качествах личности, без которых не складываются товарищеские и дружеские отнош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2"/>
          <p:cNvSpPr/>
          <p:nvPr/>
        </p:nvSpPr>
        <p:spPr>
          <a:xfrm>
            <a:off x="755640" y="620640"/>
            <a:ext cx="676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Georgia"/>
              </a:rPr>
              <a:t>Цель урок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2" descr="https://go3.imgsmail.ru/imgpreview?key=4e88eb14b28a1df&amp;mb=imgdb_preview_20000"/>
          <p:cNvPicPr/>
          <p:nvPr/>
        </p:nvPicPr>
        <p:blipFill>
          <a:blip r:embed="rId1"/>
          <a:stretch/>
        </p:blipFill>
        <p:spPr>
          <a:xfrm>
            <a:off x="4427640" y="3913200"/>
            <a:ext cx="4716360" cy="29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1"/>
          <p:cNvSpPr/>
          <p:nvPr/>
        </p:nvSpPr>
        <p:spPr>
          <a:xfrm>
            <a:off x="-165600" y="2430360"/>
            <a:ext cx="5963760" cy="21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138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Georgia"/>
                <a:ea typeface="Times New Roman"/>
              </a:rPr>
              <a:t>Ты и другие ребят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138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Georgia"/>
                <a:ea typeface="Times New Roman"/>
              </a:rPr>
              <a:t>Слово не воробей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138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Georgia"/>
              </a:rPr>
              <a:t>Какой ты, друг?</a:t>
            </a:r>
            <a:r>
              <a:rPr b="0" lang="ru-RU" sz="4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2"/>
          <p:cNvSpPr/>
          <p:nvPr/>
        </p:nvSpPr>
        <p:spPr>
          <a:xfrm>
            <a:off x="611280" y="620640"/>
            <a:ext cx="727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Georgia"/>
              </a:rPr>
              <a:t>План уро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3" descr="http://aniramio.ru/wp-content/uploads/2015/11/plan-na-mesyaz.png"/>
          <p:cNvPicPr/>
          <p:nvPr/>
        </p:nvPicPr>
        <p:blipFill>
          <a:blip r:embed="rId1"/>
          <a:stretch/>
        </p:blipFill>
        <p:spPr>
          <a:xfrm>
            <a:off x="5499000" y="2565360"/>
            <a:ext cx="3645000" cy="27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Прямоугольник 1"/>
          <p:cNvSpPr/>
          <p:nvPr/>
        </p:nvSpPr>
        <p:spPr>
          <a:xfrm>
            <a:off x="836640" y="836640"/>
            <a:ext cx="787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Georgia"/>
              </a:rPr>
              <a:t>Личностно значимая пробле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Прямоугольник 2"/>
          <p:cNvSpPr/>
          <p:nvPr/>
        </p:nvSpPr>
        <p:spPr>
          <a:xfrm>
            <a:off x="0" y="1916280"/>
            <a:ext cx="914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Georgia"/>
              </a:rPr>
              <a:t>«В мире нет ничего лучше и приятнее дружбы; исключить из жизни дружбу - все равно, что лишить мир солнечного света» </a:t>
            </a:r>
            <a:r>
              <a:rPr b="0" i="1" lang="ru-RU" sz="3200" spc="-1" strike="noStrike">
                <a:solidFill>
                  <a:srgbClr val="000000"/>
                </a:solidFill>
                <a:latin typeface="Georgia"/>
              </a:rPr>
              <a:t>(Цицерон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2" descr="http://citatu.com.ua/idata/autors/140521-055955-8579.jpg"/>
          <p:cNvPicPr/>
          <p:nvPr/>
        </p:nvPicPr>
        <p:blipFill>
          <a:blip r:embed="rId1"/>
          <a:stretch/>
        </p:blipFill>
        <p:spPr>
          <a:xfrm>
            <a:off x="5796000" y="3860640"/>
            <a:ext cx="2597040" cy="2997360"/>
          </a:xfrm>
          <a:prstGeom prst="rect">
            <a:avLst/>
          </a:prstGeom>
          <a:ln w="0">
            <a:noFill/>
          </a:ln>
        </p:spPr>
      </p:pic>
      <p:sp>
        <p:nvSpPr>
          <p:cNvPr id="226" name="Прямоугольник 4"/>
          <p:cNvSpPr/>
          <p:nvPr/>
        </p:nvSpPr>
        <p:spPr>
          <a:xfrm>
            <a:off x="4059000" y="5950080"/>
            <a:ext cx="168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Цицер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Прямоугольник 1"/>
          <p:cNvSpPr/>
          <p:nvPr/>
        </p:nvSpPr>
        <p:spPr>
          <a:xfrm>
            <a:off x="603360" y="2276640"/>
            <a:ext cx="8294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Georgia"/>
              </a:rPr>
              <a:t>Игра «Паровозик дружбы»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4" descr="http://colorator.net/images/MultfilmiRus/Parovozik_iz_romashkovo/1/12.gif"/>
          <p:cNvPicPr/>
          <p:nvPr/>
        </p:nvPicPr>
        <p:blipFill>
          <a:blip r:embed="rId1"/>
          <a:srcRect l="0" t="5410" r="426" b="0"/>
          <a:stretch/>
        </p:blipFill>
        <p:spPr>
          <a:xfrm>
            <a:off x="179280" y="3716280"/>
            <a:ext cx="871380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Рисунок 1" descr="image1"/>
          <p:cNvPicPr/>
          <p:nvPr/>
        </p:nvPicPr>
        <p:blipFill>
          <a:blip r:embed="rId1"/>
          <a:stretch/>
        </p:blipFill>
        <p:spPr>
          <a:xfrm>
            <a:off x="0" y="1844640"/>
            <a:ext cx="8896320" cy="238320"/>
          </a:xfrm>
          <a:prstGeom prst="rect">
            <a:avLst/>
          </a:prstGeom>
          <a:ln w="0">
            <a:noFill/>
          </a:ln>
        </p:spPr>
      </p:pic>
      <p:sp>
        <p:nvSpPr>
          <p:cNvPr id="230" name="Rectangle 3"/>
          <p:cNvSpPr/>
          <p:nvPr/>
        </p:nvSpPr>
        <p:spPr>
          <a:xfrm>
            <a:off x="181080" y="903600"/>
            <a:ext cx="8962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Georgia"/>
                <a:ea typeface="Times New Roman"/>
              </a:rPr>
              <a:t>Схема игры «Паровозик дружбы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0" y="2997360"/>
          <a:ext cx="9144000" cy="177768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2121120">
                <a:tc>
                  <a:txBody>
                    <a:bodyPr lIns="114480" rIns="114480" tIns="0" bIns="0" anchor="t">
                      <a:noAutofit/>
                    </a:bodyPr>
                    <a:p>
                      <a:pPr marL="343080" indent="-343080" algn="ctr">
                        <a:lnSpc>
                          <a:spcPts val="1312"/>
                        </a:lnSpc>
                        <a:spcBef>
                          <a:spcPts val="300"/>
                        </a:spcBef>
                        <a:spcAft>
                          <a:spcPts val="6301"/>
                        </a:spcAft>
                        <a:tabLst>
                          <a:tab algn="l" pos="0"/>
                          <a:tab algn="l" pos="136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2060"/>
                          </a:solidFill>
                          <a:latin typeface="Georgia"/>
                          <a:ea typeface="Times New Roman"/>
                        </a:rPr>
                        <a:t>условия игры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ts val="1287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Georgia"/>
                        <a:buChar char="-"/>
                        <a:tabLst>
                          <a:tab algn="l" pos="136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Вы с одноклассниками едете путешествовать. Разместите всех ребят п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ts val="1287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136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вагонам, чтобы им было комфортно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ts val="1287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Georgia"/>
                        <a:buChar char="-"/>
                        <a:tabLst>
                          <a:tab algn="l" pos="136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ts val="1287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136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В каждый вагон можно посадить </a:t>
                      </a: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Georgia"/>
                          <a:ea typeface="Times New Roman"/>
                        </a:rPr>
                        <a:t>не более 6 челове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2" name="Прямоугольник 4"/>
          <p:cNvSpPr/>
          <p:nvPr/>
        </p:nvSpPr>
        <p:spPr>
          <a:xfrm>
            <a:off x="0" y="508464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-Участники объясняют свой выбор (должны объяснить, по­чему они  разместили именно так своих одноклассников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рямоугольник 1"/>
          <p:cNvSpPr/>
          <p:nvPr/>
        </p:nvSpPr>
        <p:spPr>
          <a:xfrm>
            <a:off x="0" y="12682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Georgia"/>
              </a:rPr>
              <a:t>Работа в тетра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1"/>
          <p:cNvSpPr/>
          <p:nvPr/>
        </p:nvSpPr>
        <p:spPr>
          <a:xfrm>
            <a:off x="0" y="2253240"/>
            <a:ext cx="9144000" cy="253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  <a:ea typeface="Times New Roman"/>
              </a:rPr>
              <a:t>Нарисуйте в тетради ромашку, в центре изобразите себя, а на лепестках запишите дела, которыми вы любите заниматься с друзья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3" descr="http://08.od.ua/data/category/tetradi/tetradi.jpg"/>
          <p:cNvPicPr/>
          <p:nvPr/>
        </p:nvPicPr>
        <p:blipFill>
          <a:blip r:embed="rId1"/>
          <a:stretch/>
        </p:blipFill>
        <p:spPr>
          <a:xfrm>
            <a:off x="2627280" y="3995640"/>
            <a:ext cx="4716360" cy="28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1"/>
          <p:cNvSpPr/>
          <p:nvPr/>
        </p:nvSpPr>
        <p:spPr>
          <a:xfrm>
            <a:off x="0" y="1818000"/>
            <a:ext cx="914400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00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  <a:ea typeface="Times New Roman"/>
              </a:rPr>
              <a:t>Работа с рубрикой </a:t>
            </a:r>
            <a:r>
              <a:rPr b="1" lang="ru-RU" sz="3200" spc="-1" strike="noStrike">
                <a:solidFill>
                  <a:srgbClr val="002060"/>
                </a:solidFill>
                <a:latin typeface="Georgia"/>
                <a:ea typeface="Times New Roman"/>
              </a:rPr>
              <a:t>«Жил на свете человек» 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  <a:ea typeface="Times New Roman"/>
              </a:rPr>
              <a:t>и иллюстрацией на </a:t>
            </a:r>
            <a:r>
              <a:rPr b="1" lang="ru-RU" sz="3200" spc="-1" strike="noStrike">
                <a:solidFill>
                  <a:srgbClr val="002060"/>
                </a:solidFill>
                <a:latin typeface="Georgia"/>
                <a:ea typeface="Times New Roman"/>
              </a:rPr>
              <a:t>с. 6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3" descr="https://go1.imgsmail.ru/imgpreview?key=67d050e77731825&amp;mb=imgdb_preview_1689"/>
          <p:cNvPicPr/>
          <p:nvPr/>
        </p:nvPicPr>
        <p:blipFill>
          <a:blip r:embed="rId1"/>
          <a:stretch/>
        </p:blipFill>
        <p:spPr>
          <a:xfrm>
            <a:off x="4932360" y="2924280"/>
            <a:ext cx="3632040" cy="36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Прямоугольник 1"/>
          <p:cNvSpPr/>
          <p:nvPr/>
        </p:nvSpPr>
        <p:spPr>
          <a:xfrm>
            <a:off x="0" y="162864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Georgia"/>
              </a:rPr>
              <a:t>Обсуждение рубрики и картины А. С. Епишина </a:t>
            </a:r>
            <a:r>
              <a:rPr b="1" lang="ru-RU" sz="4000" spc="-1" strike="noStrike">
                <a:solidFill>
                  <a:srgbClr val="002060"/>
                </a:solidFill>
                <a:latin typeface="Georgia"/>
              </a:rPr>
              <a:t>«Спорщики» на стр.6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2" descr="http://i.arts.in.ua/i/865/s_60819.jpg"/>
          <p:cNvPicPr/>
          <p:nvPr/>
        </p:nvPicPr>
        <p:blipFill>
          <a:blip r:embed="rId1"/>
          <a:stretch/>
        </p:blipFill>
        <p:spPr>
          <a:xfrm>
            <a:off x="2268360" y="3141720"/>
            <a:ext cx="4152960" cy="29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2-05T20:44:15Z</dcterms:created>
  <dc:creator>Лера</dc:creator>
  <dc:description/>
  <dc:language>en-US</dc:language>
  <cp:lastModifiedBy>ТатьянА</cp:lastModifiedBy>
  <dcterms:modified xsi:type="dcterms:W3CDTF">2019-01-02T18:29:01Z</dcterms:modified>
  <cp:revision>7</cp:revision>
  <dc:subject/>
  <dc:title>Одноклассники, сверстники, друзья</dc:title>
</cp:coreProperties>
</file>