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7C0-8DEF-4117-8033-3867AFFC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5C7E-B86F-47E3-9108-47035E3D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11D1-5F44-4733-816B-2615141F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1218-AE44-4386-9294-98000C86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7DE8-85AE-4A80-97CC-155C70F9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6920-B6AB-464C-8FD1-D5567F32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86B9-3DD7-4910-8894-DB90B254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D356-F571-4F6B-9FF0-0FE47C94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80E5-35A3-4F03-9C43-B0D6875E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57E9-4091-45CA-A1AE-3568EEE5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0427-3556-4193-97BD-4C9D576E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E08-706D-46FF-8124-5E7E43BB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A9D0-9938-4CC6-938C-784A269F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1074-3E59-47C4-AB48-B8FAFACA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127C-BCAA-45CE-85F5-94FC9F6D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BF2E-4A0D-4495-B601-4FCD3C38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710E-D154-427C-B8A7-F645A7BF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0FFFF-53AD-4D6B-90E0-424524DE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4DB1A-1D3F-49EC-B530-C9A36C75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76967-A8A4-43B5-A645-5B221795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8091D-36E8-409D-A2EF-5AF3B244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9F650-ADF4-422E-9A9D-DCA0C3FD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664-4D0C-43FD-B840-1A9FB7BC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9002A-C588-4EB8-94D9-46E63F17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DBB52-9C00-400F-8992-C57E6BC3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A4D28-7857-43D6-B251-434E9F63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819FE-DB1C-49ED-860A-1C8429D0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4A548-C6CC-4B16-AE88-83AC1762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BA81B-BE86-4F9F-B631-E1F65B88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C4698-CCC0-4D50-BF44-13B7CE6F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4A573-4AAA-4950-9600-E76F38C1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8BB57-DC58-40EA-99C5-76BBC264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E0601-DC67-4CC4-BE23-E10F5612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2C3-677D-44D8-B177-95EAF5B5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6BE8B-7C16-475C-881D-36E0E8A2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05E77-4298-480B-B07E-46DF4C01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D07D3-5237-4B79-942B-D1217C11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2CA1F-0B4C-44D1-9569-D5F180A0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19057-3B93-4CFF-886C-9FC89EBB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FCC39-FCD3-4E66-BCC6-AF0C37AB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1A0E5-50CF-4DB0-A0DB-8E90BB98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01B9D-4AB1-40C0-85CF-B13318CE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995F8-77FF-400B-A7D9-19F9298A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3E8F9-6DD8-494B-A318-DA95C36D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599F-CC87-4474-A7B1-F3F79D5C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DA3DD-D49B-48E1-866E-BA064F2A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8BA54-7F91-483A-B9C4-254C87D3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45750-822D-4B97-AC37-A512BDE4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9533D-DAA6-4E2B-A5C9-C03A4A8B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7F42A-7755-4545-9FC0-DD1FDA95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F3EA0-C4F3-46C9-A415-6258778A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82071-38A5-49A8-838C-59F46372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A1DDA-665F-4AFD-B549-3EE08291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5520D-F273-4F1F-8CAC-F06F0108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438A4-F48E-420C-A598-4A593639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6D2-FDCF-4583-B96A-661A4EBF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ED745-1B2D-49FD-8DF5-5ADC1EFD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3C2AB-ACA2-49B3-BFC6-4B63D4A5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3C164-7DE7-4476-BA50-672E230F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D64D5-CB88-4D1D-BD48-7AED346E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FDDB6-ED07-4AA3-BC03-24F1E408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3740C-34DF-4891-9D74-AEB17D69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8AD42-BE58-4E54-9739-11490A1A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709CD-77D0-4B9C-B226-0373AF81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B1AFE-98A8-483A-9AB2-55E68216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613CC-7A16-444E-86B8-02BB2D0D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A46D-187F-41B0-A386-AD549C89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54375-695D-49E6-AA7F-3F9B5483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1EDF9-2041-4065-B7E5-21D3B32B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4DD84-2052-4735-9084-2657E85E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8F86D-A0CD-43D8-A00E-5CD93952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5BB4C-033E-4229-BFCB-5BEBADAA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E1F80-D8CA-4A70-B688-46DC4B31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1D25F-14F9-41F9-BF94-B0DBE9B6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34DFC-62A1-4D80-902C-59661BC3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DB0CC-CC1C-4457-A97E-28AEE226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14DBA-77F8-47CD-9846-B37759DC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072-5C9D-4822-9A2D-5DFDC323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F0954-F1E3-4CA3-9ACA-11C54E12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1FCDB-587D-4C6B-B682-8353B938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415E8-644C-493B-BCE9-EA26166F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50281-F096-4592-8A1C-9BE34260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E8AF7-C678-4A12-93BC-47ACDE76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082A-7E08-4548-B751-8BBD0EC0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6984-C8DB-48FF-95AE-9D530E4DD6FF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203F-AED9-48C1-B80E-EDBE58D632C6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8851-7EDC-454F-85B5-5F2C7E181AE0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2A0E-B759-40E5-A8F6-4C2BE24529DF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354C-5248-48AE-95A5-03B5A4182A7E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681F-0326-4875-A06F-F0F31CB062CC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6B3D-9F98-405F-B476-DB86BF06796B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9720" y="2214720"/>
            <a:ext cx="47862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9666e"/>
                </a:solidFill>
                <a:latin typeface="Corbel"/>
              </a:rPr>
              <a:t>Вводный урок</a:t>
            </a:r>
            <a:endParaRPr b="0" lang="en-US" sz="5400" spc="-1" strike="noStrike">
              <a:solidFill>
                <a:srgbClr val="69666e"/>
              </a:solidFill>
              <a:latin typeface="Corbel"/>
            </a:endParaRPr>
          </a:p>
        </p:txBody>
      </p:sp>
      <p:pic>
        <p:nvPicPr>
          <p:cNvPr id="319" name="Picture 2" descr="https://ds04.infourok.ru/uploads/ex/04fd/001365ec-77e724c1/hello_html_550deb28.jpg"/>
          <p:cNvPicPr/>
          <p:nvPr/>
        </p:nvPicPr>
        <p:blipFill>
          <a:blip r:embed="rId1"/>
          <a:srcRect l="19286" t="8347" r="8930" b="0"/>
          <a:stretch/>
        </p:blipFill>
        <p:spPr>
          <a:xfrm>
            <a:off x="5641920" y="1714680"/>
            <a:ext cx="3502080" cy="42861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"/>
          <p:cNvSpPr/>
          <p:nvPr/>
        </p:nvSpPr>
        <p:spPr>
          <a:xfrm>
            <a:off x="4857840" y="6213960"/>
            <a:ext cx="428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истории МАОУСОШ № 2 им. Ю.А. Гага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образования Успенски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лых Валерия Никола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407520" y="642960"/>
            <a:ext cx="894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orbel"/>
              </a:rPr>
              <a:t>Как работать с учебнико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https://image.isu.pub/150928123527-7c0aeca8699c44649bdf596d8fe7748b/jpg/page_1.jpg"/>
          <p:cNvPicPr/>
          <p:nvPr/>
        </p:nvPicPr>
        <p:blipFill>
          <a:blip r:embed="rId1"/>
          <a:stretch/>
        </p:blipFill>
        <p:spPr>
          <a:xfrm>
            <a:off x="1143000" y="1928880"/>
            <a:ext cx="2965320" cy="389880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3"/>
          <p:cNvSpPr/>
          <p:nvPr/>
        </p:nvSpPr>
        <p:spPr>
          <a:xfrm>
            <a:off x="5032800" y="2857680"/>
            <a:ext cx="182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Стр.5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1"/>
          <p:cNvSpPr/>
          <p:nvPr/>
        </p:nvSpPr>
        <p:spPr>
          <a:xfrm>
            <a:off x="1071720" y="571680"/>
            <a:ext cx="807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e4e99"/>
                </a:solidFill>
                <a:latin typeface="Corbel"/>
              </a:rPr>
              <a:t>Домашнее зада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1214280" y="185724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ыучить записи в тетра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очитать стр 5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http://900igr.net/up/datai/227178/0004-005-.png"/>
          <p:cNvPicPr/>
          <p:nvPr/>
        </p:nvPicPr>
        <p:blipFill>
          <a:blip r:embed="rId1"/>
          <a:stretch/>
        </p:blipFill>
        <p:spPr>
          <a:xfrm>
            <a:off x="3214800" y="3357720"/>
            <a:ext cx="42861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1"/>
          <p:cNvSpPr/>
          <p:nvPr/>
        </p:nvSpPr>
        <p:spPr>
          <a:xfrm>
            <a:off x="1143000" y="1571760"/>
            <a:ext cx="4857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ебник по обществознанию Учебник по обществознанию – помощник в путешествии в мир знаний об обществе и челове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https://image.isu.pub/150928123527-7c0aeca8699c44649bdf596d8fe7748b/jpg/page_1.jpg"/>
          <p:cNvPicPr/>
          <p:nvPr/>
        </p:nvPicPr>
        <p:blipFill>
          <a:blip r:embed="rId1"/>
          <a:stretch/>
        </p:blipFill>
        <p:spPr>
          <a:xfrm>
            <a:off x="5929200" y="1285920"/>
            <a:ext cx="296568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1"/>
          <p:cNvSpPr/>
          <p:nvPr/>
        </p:nvSpPr>
        <p:spPr>
          <a:xfrm>
            <a:off x="1214280" y="1143000"/>
            <a:ext cx="77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бществознание Как вы думаете, о чём этот предмет?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https://avatars.mds.yandex.net/get-pdb/1101614/8f1f5811-b12b-4018-bd72-2d49d9ca14c3/s1200?webp=false"/>
          <p:cNvPicPr/>
          <p:nvPr/>
        </p:nvPicPr>
        <p:blipFill>
          <a:blip r:embed="rId1"/>
          <a:stretch/>
        </p:blipFill>
        <p:spPr>
          <a:xfrm>
            <a:off x="6072120" y="2400480"/>
            <a:ext cx="2786040" cy="445752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оугольник 3"/>
          <p:cNvSpPr/>
          <p:nvPr/>
        </p:nvSpPr>
        <p:spPr>
          <a:xfrm>
            <a:off x="1327680" y="3071880"/>
            <a:ext cx="50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ЗНАНИЕ ОБ ОБЩЕСТВЕ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1"/>
          <p:cNvSpPr/>
          <p:nvPr/>
        </p:nvSpPr>
        <p:spPr>
          <a:xfrm>
            <a:off x="1143000" y="1071720"/>
            <a:ext cx="82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Что такое знания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2"/>
          <p:cNvSpPr/>
          <p:nvPr/>
        </p:nvSpPr>
        <p:spPr>
          <a:xfrm>
            <a:off x="1000080" y="2357280"/>
            <a:ext cx="81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Знания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– это система представлений человека о законах природы, обществе, о самом себ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http://fb.ru/misc/i/gallery/17559/456391.jpg"/>
          <p:cNvPicPr/>
          <p:nvPr/>
        </p:nvPicPr>
        <p:blipFill>
          <a:blip r:embed="rId1"/>
          <a:stretch/>
        </p:blipFill>
        <p:spPr>
          <a:xfrm>
            <a:off x="5929200" y="4071960"/>
            <a:ext cx="25243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Прямоугольник 2"/>
          <p:cNvSpPr/>
          <p:nvPr/>
        </p:nvSpPr>
        <p:spPr>
          <a:xfrm>
            <a:off x="503640" y="1357200"/>
            <a:ext cx="91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Какие знания нам дает обществозн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http://garantia-tomsk.ru/wp-content/uploads/2014/12/sobr1.jpg"/>
          <p:cNvPicPr/>
          <p:nvPr/>
        </p:nvPicPr>
        <p:blipFill>
          <a:blip r:embed="rId1"/>
          <a:stretch/>
        </p:blipFill>
        <p:spPr>
          <a:xfrm>
            <a:off x="2643120" y="2214720"/>
            <a:ext cx="430056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/>
          <p:cNvSpPr/>
          <p:nvPr/>
        </p:nvSpPr>
        <p:spPr>
          <a:xfrm>
            <a:off x="898920" y="500040"/>
            <a:ext cx="77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Обществознание даёт нам зн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143000" y="1643040"/>
            <a:ext cx="2714760" cy="121464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Знания о челове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4"/>
          <p:cNvSpPr/>
          <p:nvPr/>
        </p:nvSpPr>
        <p:spPr>
          <a:xfrm>
            <a:off x="5572080" y="3214800"/>
            <a:ext cx="2786040" cy="10000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Знания об общест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5"/>
          <p:cNvSpPr/>
          <p:nvPr/>
        </p:nvSpPr>
        <p:spPr>
          <a:xfrm>
            <a:off x="1643040" y="4214880"/>
            <a:ext cx="2786040" cy="10000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Знания о взаимоотношениях с государст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6"/>
          <p:cNvSpPr/>
          <p:nvPr/>
        </p:nvSpPr>
        <p:spPr>
          <a:xfrm>
            <a:off x="6072120" y="1571760"/>
            <a:ext cx="2714760" cy="1214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Знания о взаимоотношениях с другими людьми, общест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7"/>
          <p:cNvSpPr/>
          <p:nvPr/>
        </p:nvSpPr>
        <p:spPr>
          <a:xfrm>
            <a:off x="5000760" y="4929120"/>
            <a:ext cx="2786040" cy="10000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Знания о взаимоотношениях с природ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трелка вниз 8"/>
          <p:cNvSpPr/>
          <p:nvPr/>
        </p:nvSpPr>
        <p:spPr>
          <a:xfrm>
            <a:off x="4786200" y="1000080"/>
            <a:ext cx="428760" cy="392904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трелка вниз 9"/>
          <p:cNvSpPr/>
          <p:nvPr/>
        </p:nvSpPr>
        <p:spPr>
          <a:xfrm>
            <a:off x="7072200" y="107172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Стрелка вниз 10"/>
          <p:cNvSpPr/>
          <p:nvPr/>
        </p:nvSpPr>
        <p:spPr>
          <a:xfrm>
            <a:off x="3929040" y="1071720"/>
            <a:ext cx="428760" cy="314316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трелка вниз 11"/>
          <p:cNvSpPr/>
          <p:nvPr/>
        </p:nvSpPr>
        <p:spPr>
          <a:xfrm>
            <a:off x="5357880" y="1071720"/>
            <a:ext cx="428400" cy="185724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трелка вниз 12"/>
          <p:cNvSpPr/>
          <p:nvPr/>
        </p:nvSpPr>
        <p:spPr>
          <a:xfrm>
            <a:off x="1928880" y="1000080"/>
            <a:ext cx="428400" cy="5000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1"/>
          <p:cNvSpPr/>
          <p:nvPr/>
        </p:nvSpPr>
        <p:spPr>
          <a:xfrm>
            <a:off x="1143000" y="500040"/>
            <a:ext cx="764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Обществознание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– это комплекс дисциплин изучающих различные стороны человеческого об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2"/>
          <p:cNvSpPr/>
          <p:nvPr/>
        </p:nvSpPr>
        <p:spPr>
          <a:xfrm>
            <a:off x="1071720" y="4429080"/>
            <a:ext cx="778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Обществознание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– это учебный предмет, изучая который, мы не только сможем понять, как устроено общество, но и научимся применять эти 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https://pbs.twimg.com/media/DId_UPKVwAAqSV_.jpg"/>
          <p:cNvPicPr/>
          <p:nvPr/>
        </p:nvPicPr>
        <p:blipFill>
          <a:blip r:embed="rId1"/>
          <a:stretch/>
        </p:blipFill>
        <p:spPr>
          <a:xfrm>
            <a:off x="7211880" y="5357880"/>
            <a:ext cx="1932120" cy="150012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4"/>
          <p:cNvSpPr/>
          <p:nvPr/>
        </p:nvSpPr>
        <p:spPr>
          <a:xfrm>
            <a:off x="1071720" y="2357280"/>
            <a:ext cx="785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rbe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Обществознание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– предмет , который изучает общество людей, позволяет больше узнать о современном обще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1"/>
          <p:cNvSpPr/>
          <p:nvPr/>
        </p:nvSpPr>
        <p:spPr>
          <a:xfrm>
            <a:off x="1143000" y="500040"/>
            <a:ext cx="7286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Обществознание как учебный предмет включает в себя основы общественных нау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https://www.investors.com/wp-content/uploads/2016/05/WPERS01-newhires-052716-adobe.jpg"/>
          <p:cNvPicPr/>
          <p:nvPr/>
        </p:nvPicPr>
        <p:blipFill>
          <a:blip r:embed="rId1"/>
          <a:stretch/>
        </p:blipFill>
        <p:spPr>
          <a:xfrm>
            <a:off x="2292480" y="3000240"/>
            <a:ext cx="68515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1"/>
          <p:cNvSpPr/>
          <p:nvPr/>
        </p:nvSpPr>
        <p:spPr>
          <a:xfrm>
            <a:off x="1643040" y="214200"/>
            <a:ext cx="66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Обществозн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1951200" y="933480"/>
            <a:ext cx="706320" cy="852480"/>
          </a:xfrm>
          <a:prstGeom prst="rect">
            <a:avLst/>
          </a:prstGeom>
          <a:ln w="0">
            <a:noFill/>
          </a:ln>
        </p:spPr>
      </p:pic>
      <p:sp>
        <p:nvSpPr>
          <p:cNvPr id="350" name="TextBox 4"/>
          <p:cNvSpPr/>
          <p:nvPr/>
        </p:nvSpPr>
        <p:spPr>
          <a:xfrm>
            <a:off x="928800" y="1714680"/>
            <a:ext cx="264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Социолог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 наука, изучающая формы совместной жизни люд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Прямая со стрелкой 5" descr=""/>
          <p:cNvPicPr/>
          <p:nvPr/>
        </p:nvPicPr>
        <p:blipFill>
          <a:blip r:embed="rId2"/>
          <a:stretch/>
        </p:blipFill>
        <p:spPr>
          <a:xfrm>
            <a:off x="3664080" y="944640"/>
            <a:ext cx="384120" cy="2841480"/>
          </a:xfrm>
          <a:prstGeom prst="rect">
            <a:avLst/>
          </a:prstGeom>
          <a:ln w="0">
            <a:noFill/>
          </a:ln>
        </p:spPr>
      </p:pic>
      <p:sp>
        <p:nvSpPr>
          <p:cNvPr id="352" name="TextBox 7"/>
          <p:cNvSpPr/>
          <p:nvPr/>
        </p:nvSpPr>
        <p:spPr>
          <a:xfrm>
            <a:off x="2428920" y="357192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orbel"/>
              </a:rPr>
              <a:t>Политолог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Прямая со стрелкой 9" descr=""/>
          <p:cNvPicPr/>
          <p:nvPr/>
        </p:nvPicPr>
        <p:blipFill>
          <a:blip r:embed="rId3"/>
          <a:stretch/>
        </p:blipFill>
        <p:spPr>
          <a:xfrm>
            <a:off x="4591080" y="871560"/>
            <a:ext cx="382680" cy="914400"/>
          </a:xfrm>
          <a:prstGeom prst="rect">
            <a:avLst/>
          </a:prstGeom>
          <a:ln w="0">
            <a:noFill/>
          </a:ln>
        </p:spPr>
      </p:pic>
      <p:sp>
        <p:nvSpPr>
          <p:cNvPr id="354" name="TextBox 11"/>
          <p:cNvSpPr/>
          <p:nvPr/>
        </p:nvSpPr>
        <p:spPr>
          <a:xfrm>
            <a:off x="3929040" y="157176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rbel"/>
              </a:rPr>
              <a:t>Философ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Прямая со стрелкой 12" descr=""/>
          <p:cNvPicPr/>
          <p:nvPr/>
        </p:nvPicPr>
        <p:blipFill>
          <a:blip r:embed="rId4"/>
          <a:stretch/>
        </p:blipFill>
        <p:spPr>
          <a:xfrm>
            <a:off x="7948440" y="731880"/>
            <a:ext cx="384480" cy="2913120"/>
          </a:xfrm>
          <a:prstGeom prst="rect">
            <a:avLst/>
          </a:prstGeom>
          <a:ln w="0">
            <a:noFill/>
          </a:ln>
        </p:spPr>
      </p:pic>
      <p:sp>
        <p:nvSpPr>
          <p:cNvPr id="356" name="TextBox 15"/>
          <p:cNvSpPr/>
          <p:nvPr/>
        </p:nvSpPr>
        <p:spPr>
          <a:xfrm>
            <a:off x="5786280" y="3500280"/>
            <a:ext cx="39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Правовед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8"/>
          <p:cNvSpPr/>
          <p:nvPr/>
        </p:nvSpPr>
        <p:spPr>
          <a:xfrm>
            <a:off x="5143680" y="235728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orbel"/>
              </a:rPr>
              <a:t>Эконом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Прямая со стрелкой 19" descr=""/>
          <p:cNvPicPr/>
          <p:nvPr/>
        </p:nvPicPr>
        <p:blipFill>
          <a:blip r:embed="rId5"/>
          <a:stretch/>
        </p:blipFill>
        <p:spPr>
          <a:xfrm>
            <a:off x="6735600" y="871560"/>
            <a:ext cx="384480" cy="17683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https://opt-745794.ssl.1c-bitrix-cdn.ru/upload/iblock/9fa/pt7rer6ac.gif?1493030817108560"/>
          <p:cNvPicPr/>
          <p:nvPr/>
        </p:nvPicPr>
        <p:blipFill>
          <a:blip r:embed="rId6"/>
          <a:stretch/>
        </p:blipFill>
        <p:spPr>
          <a:xfrm>
            <a:off x="1000080" y="4572000"/>
            <a:ext cx="2638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6T11:09:56Z</dcterms:created>
  <dc:creator>Admin</dc:creator>
  <dc:description/>
  <dc:language>en-US</dc:language>
  <cp:lastModifiedBy>ТатьянА</cp:lastModifiedBy>
  <dcterms:modified xsi:type="dcterms:W3CDTF">2019-01-02T15:53:29Z</dcterms:modified>
  <cp:revision>20</cp:revision>
  <dc:subject/>
  <dc:title>Вводный урок</dc:title>
</cp:coreProperties>
</file>