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A0F-7FD2-41B6-A59D-3DB926F9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9EE-546D-43D6-8291-740EA22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C4D-BFEA-4BF9-ACA0-B6A5241D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3DE-2913-49FD-81C0-8CAF8C14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21B-FB81-44A1-905F-960C0B08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1658-BAA6-47ED-A1B1-37A5163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4DC9-00C9-4A32-A2DE-1581F73B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4CA-BA8B-4ABF-B801-6F8F309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8515-AC44-498D-B5BC-7A9D5C73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AD6-CEA2-4481-9273-D026E39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124-EC89-4DE8-893C-D5156B3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25E-6B4D-4309-9DE4-A50AD4B7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AEC-2753-4643-A508-A87F303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48E5-F22C-4941-9DD4-E9CBE65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3A3-82F2-4484-B46C-B445D83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CD0F-3590-435B-BF5D-F0BF210B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6B6-E432-48E7-AD9F-C856D084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F1DA-3981-4251-AA23-93BC7557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FD0B-07B7-4DAF-B5DE-0B838FD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19FA-1BF5-4557-B85F-C7746344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D84C-2428-490D-9857-002090E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E742-61FA-4508-9E89-2FF522FC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71A-AA6C-438B-9E0D-F4840E1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37B0-112A-4CF0-BD9A-68061685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9B82-5932-4E57-9B44-3C1686E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9D27-09AA-4612-BE8D-1451A88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AFD7-A03A-41D9-9AC7-37F0053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828E-5272-4AC4-95C6-81C80F05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9A55-F441-4307-9BBD-C80D8F7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9F21-34CA-474B-890C-CDAA44A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70BE-E4C9-4D90-A4EF-C32D1F29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3986-36F5-4F38-B8ED-2CBF9E13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78D0-B22F-4A3C-9878-C3522BFC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291-37DC-4C32-B195-FF01CC1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BE35-9A3A-4B16-AE94-D52DE49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F6C6-3532-43DE-B13C-374B258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41E2-30E8-4017-B9D5-CF65181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CB9D-A5E8-4D3E-A262-D21F14D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CA52-782B-4B40-BACC-13106A1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0A9C-9237-4908-BB91-3281D8F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F655B-8C19-4D1C-BF18-784BB8B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1A13-0F5B-4DB3-B6BB-AEE703D4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052A-B1F5-4D64-89C7-66388000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F8D9-F101-4B3B-A846-B28ED8F0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FEB-143C-45DD-B688-B9C5D8C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4444-48F9-4A92-8CC3-D5951B4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B2DA-F6A8-4C94-ADE9-F5FE263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9B72-6AD5-4CE3-ADE4-0673B9A9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7EB9-EFD9-4683-A6C2-CC9FE12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F1EC-9483-4D88-9A68-1B64B2D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5904-2FE9-4B6A-8DDE-7ADCB27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6548-5057-4170-9100-CCF1BC1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36D4-8F6E-4ECC-A0B2-81DCDFE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1159-A863-4AF2-A5FF-948CA3E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4E12-AC9C-4231-8916-2E69D774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F0E-CADE-46C9-8868-830C06D2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E06A-8A47-4304-8A1D-67EC300F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0174-0349-4E2C-9148-59080DFD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B00F-E32D-4C54-A5EE-B4E5722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3D21-67EB-4928-9B78-AE3D614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0E2A-5BAF-40A2-85ED-ADEC1AE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36C2-DB35-4F1A-BF7C-5211702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4F177-A09A-4106-8FC1-4F1EF13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0F727-FFF2-4CCE-9FDB-D81198B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59EB-29AF-4FF1-A61C-7BC18F1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A566-315F-4359-97FF-580C4DF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736-05F1-44E3-8958-8135C235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7413-1354-420E-B856-C28062D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7242-CE22-4685-AE7B-116FC815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F7D0-15DF-4574-B97D-0BE3E458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8422-776D-4926-A174-62DE22A5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196E-90F0-488F-9C27-B1FBA3C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8DD1-6FBE-432B-A383-FDB9AE2F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6AF4-1721-4008-991F-6B06BA4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F41F-28CC-44CF-B3C8-3015DF0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B54D-1B99-46DD-8C2A-B9C9228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E1909-3C12-4085-8D0A-244F36FE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EBA-B4F1-4DF1-9B60-535DCC3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2410-70DF-4BBF-99C4-44CAEEF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33C7-A846-4C7C-A934-7EBE628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C2D21-32FF-428D-86B9-6539149F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42526-EC10-4421-AEC6-2D67AC10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556A-1A3D-4286-8BE7-299AAAD2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053-D2DB-4CC5-B00A-892AF67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5C2-3DBF-48BC-982F-B7314A270EE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AD2-94BD-4B81-82C8-2A37097E3AC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751-785B-44D5-A9A3-D8ABB33077D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0550-6DB2-4B17-A7A0-13BF1D5C8A31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C84-93B0-4541-AF9A-2E3EE55D3B1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7D1F-4A12-4D58-9996-15B8539A0A5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300-95C6-4221-96AF-E3A92603A58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9720" y="221472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9666e"/>
                </a:solidFill>
                <a:latin typeface="Corbel"/>
              </a:rPr>
              <a:t>Вводный урок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19" name="Picture 2" descr="https://ds04.infourok.ru/uploads/ex/04fd/001365ec-77e724c1/hello_html_550deb28.jpg"/>
          <p:cNvPicPr/>
          <p:nvPr/>
        </p:nvPicPr>
        <p:blipFill>
          <a:blip r:embed="rId1"/>
          <a:srcRect l="19286" t="8347" r="8930" b="0"/>
          <a:stretch/>
        </p:blipFill>
        <p:spPr>
          <a:xfrm>
            <a:off x="5641920" y="1714680"/>
            <a:ext cx="3502080" cy="4286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4857840" y="6213960"/>
            <a:ext cx="428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407520" y="642960"/>
            <a:ext cx="89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Как работать с учебник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s://image.isu.pub/150928123527-7c0aeca8699c44649bdf596d8fe7748b/jpg/page_1.jpg"/>
          <p:cNvPicPr/>
          <p:nvPr/>
        </p:nvPicPr>
        <p:blipFill>
          <a:blip r:embed="rId1"/>
          <a:stretch/>
        </p:blipFill>
        <p:spPr>
          <a:xfrm>
            <a:off x="1143000" y="1928880"/>
            <a:ext cx="2965320" cy="38988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3"/>
          <p:cNvSpPr/>
          <p:nvPr/>
        </p:nvSpPr>
        <p:spPr>
          <a:xfrm>
            <a:off x="5032800" y="2857680"/>
            <a:ext cx="182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тр.5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1071720" y="57168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e4e99"/>
                </a:solidFill>
                <a:latin typeface="Corbel"/>
              </a:rPr>
              <a:t>Домашнее зад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214280" y="18572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учить 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читать стр 5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://900igr.net/up/datai/227178/0004-005-.png"/>
          <p:cNvPicPr/>
          <p:nvPr/>
        </p:nvPicPr>
        <p:blipFill>
          <a:blip r:embed="rId1"/>
          <a:stretch/>
        </p:blipFill>
        <p:spPr>
          <a:xfrm>
            <a:off x="3214800" y="3357720"/>
            <a:ext cx="428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1143000" y="1571760"/>
            <a:ext cx="485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по обществознанию Учебник по обществознанию – помощник в путешествии в мир знаний об обществе и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ttps://image.isu.pub/150928123527-7c0aeca8699c44649bdf596d8fe7748b/jpg/page_1.jpg"/>
          <p:cNvPicPr/>
          <p:nvPr/>
        </p:nvPicPr>
        <p:blipFill>
          <a:blip r:embed="rId1"/>
          <a:stretch/>
        </p:blipFill>
        <p:spPr>
          <a:xfrm>
            <a:off x="5929200" y="1285920"/>
            <a:ext cx="29656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1214280" y="11430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ществознание Как вы думаете, о чём этот предмет?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s://avatars.mds.yandex.net/get-pdb/1101614/8f1f5811-b12b-4018-bd72-2d49d9ca14c3/s1200?webp=false"/>
          <p:cNvPicPr/>
          <p:nvPr/>
        </p:nvPicPr>
        <p:blipFill>
          <a:blip r:embed="rId1"/>
          <a:stretch/>
        </p:blipFill>
        <p:spPr>
          <a:xfrm>
            <a:off x="6072120" y="2400480"/>
            <a:ext cx="2786040" cy="445752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1327680" y="307188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ЗНАНИЕ ОБ ОБЩЕСТВ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143000" y="107172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Что такое знания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1000080" y="235728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Знания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– это система представлений человека о законах природы, обществе, о самом себ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fb.ru/misc/i/gallery/17559/456391.jpg"/>
          <p:cNvPicPr/>
          <p:nvPr/>
        </p:nvPicPr>
        <p:blipFill>
          <a:blip r:embed="rId1"/>
          <a:stretch/>
        </p:blipFill>
        <p:spPr>
          <a:xfrm>
            <a:off x="5929200" y="4071960"/>
            <a:ext cx="2524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2"/>
          <p:cNvSpPr/>
          <p:nvPr/>
        </p:nvSpPr>
        <p:spPr>
          <a:xfrm>
            <a:off x="503640" y="1357200"/>
            <a:ext cx="91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акие знания нам дает обществозн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http://garantia-tomsk.ru/wp-content/uploads/2014/12/sobr1.jpg"/>
          <p:cNvPicPr/>
          <p:nvPr/>
        </p:nvPicPr>
        <p:blipFill>
          <a:blip r:embed="rId1"/>
          <a:stretch/>
        </p:blipFill>
        <p:spPr>
          <a:xfrm>
            <a:off x="2643120" y="2214720"/>
            <a:ext cx="43005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898920" y="500040"/>
            <a:ext cx="77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Обществознание даёт нам з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43000" y="1643040"/>
            <a:ext cx="2714760" cy="1214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ния о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5572080" y="321480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ния об общ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5"/>
          <p:cNvSpPr/>
          <p:nvPr/>
        </p:nvSpPr>
        <p:spPr>
          <a:xfrm>
            <a:off x="1643040" y="421488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государ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6072120" y="1571760"/>
            <a:ext cx="2714760" cy="1214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другими людьми, об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5000760" y="492912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приро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8"/>
          <p:cNvSpPr/>
          <p:nvPr/>
        </p:nvSpPr>
        <p:spPr>
          <a:xfrm>
            <a:off x="4786200" y="1000080"/>
            <a:ext cx="428760" cy="392904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9"/>
          <p:cNvSpPr/>
          <p:nvPr/>
        </p:nvSpPr>
        <p:spPr>
          <a:xfrm>
            <a:off x="707220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низ 10"/>
          <p:cNvSpPr/>
          <p:nvPr/>
        </p:nvSpPr>
        <p:spPr>
          <a:xfrm>
            <a:off x="3929040" y="1071720"/>
            <a:ext cx="428760" cy="31431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низ 11"/>
          <p:cNvSpPr/>
          <p:nvPr/>
        </p:nvSpPr>
        <p:spPr>
          <a:xfrm>
            <a:off x="5357880" y="1071720"/>
            <a:ext cx="428400" cy="18572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низ 12"/>
          <p:cNvSpPr/>
          <p:nvPr/>
        </p:nvSpPr>
        <p:spPr>
          <a:xfrm>
            <a:off x="1928880" y="100008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143000" y="50004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бществознани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– это комплекс дисциплин изучающих различные стороны человеческ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1071720" y="4429080"/>
            <a:ext cx="778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бществозна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это учебный предмет, изучая который, мы не только сможем понять, как устроено общество, но и научимся применять эти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s://pbs.twimg.com/media/DId_UPKVwAAqSV_.jpg"/>
          <p:cNvPicPr/>
          <p:nvPr/>
        </p:nvPicPr>
        <p:blipFill>
          <a:blip r:embed="rId1"/>
          <a:stretch/>
        </p:blipFill>
        <p:spPr>
          <a:xfrm>
            <a:off x="7211880" y="5357880"/>
            <a:ext cx="1932120" cy="150012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4"/>
          <p:cNvSpPr/>
          <p:nvPr/>
        </p:nvSpPr>
        <p:spPr>
          <a:xfrm>
            <a:off x="1071720" y="23572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Обществознание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предмет , который изучает общество людей, позволяет больше узнать о современном 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143000" y="500040"/>
            <a:ext cx="728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бществознание как учебный предмет включает в себя основы общественных на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s://www.investors.com/wp-content/uploads/2016/05/WPERS01-newhires-052716-adobe.jpg"/>
          <p:cNvPicPr/>
          <p:nvPr/>
        </p:nvPicPr>
        <p:blipFill>
          <a:blip r:embed="rId1"/>
          <a:stretch/>
        </p:blipFill>
        <p:spPr>
          <a:xfrm>
            <a:off x="2292480" y="3000240"/>
            <a:ext cx="6851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643040" y="21420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бществозн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1951200" y="933480"/>
            <a:ext cx="706320" cy="8524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928800" y="171468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Соци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наука, изучающая формы совместной жизни лю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3664080" y="944640"/>
            <a:ext cx="384120" cy="28414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2428920" y="357192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Полит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4591080" y="871560"/>
            <a:ext cx="382680" cy="9144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1"/>
          <p:cNvSpPr/>
          <p:nvPr/>
        </p:nvSpPr>
        <p:spPr>
          <a:xfrm>
            <a:off x="3929040" y="15717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Филосо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7948440" y="731880"/>
            <a:ext cx="384480" cy="29131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5"/>
          <p:cNvSpPr/>
          <p:nvPr/>
        </p:nvSpPr>
        <p:spPr>
          <a:xfrm>
            <a:off x="5786280" y="3500280"/>
            <a:ext cx="39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Правове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5143680" y="23572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Эконо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Прямая со стрелкой 19" descr=""/>
          <p:cNvPicPr/>
          <p:nvPr/>
        </p:nvPicPr>
        <p:blipFill>
          <a:blip r:embed="rId5"/>
          <a:stretch/>
        </p:blipFill>
        <p:spPr>
          <a:xfrm>
            <a:off x="6735600" y="871560"/>
            <a:ext cx="384480" cy="176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ttps://opt-745794.ssl.1c-bitrix-cdn.ru/upload/iblock/9fa/pt7rer6ac.gif?1493030817108560"/>
          <p:cNvPicPr/>
          <p:nvPr/>
        </p:nvPicPr>
        <p:blipFill>
          <a:blip r:embed="rId6"/>
          <a:stretch/>
        </p:blipFill>
        <p:spPr>
          <a:xfrm>
            <a:off x="1000080" y="4572000"/>
            <a:ext cx="263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1:09:56Z</dcterms:created>
  <dc:creator>Admin</dc:creator>
  <dc:description/>
  <dc:language>en-US</dc:language>
  <cp:lastModifiedBy>ТатьянА</cp:lastModifiedBy>
  <dcterms:modified xsi:type="dcterms:W3CDTF">2019-01-02T15:53:29Z</dcterms:modified>
  <cp:revision>20</cp:revision>
  <dc:subject/>
  <dc:title>Вводный урок</dc:title>
</cp:coreProperties>
</file>