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25ED1-37B5-4981-A4D9-710E244C4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E788B-802D-48BC-8B32-AA0136BC8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1072A-0392-4DB2-9321-334B4EBC5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6E606-728F-413C-9CAF-523CE6AA8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5863D-1D56-49DB-8E86-0F09714AA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BA245-F534-4CB1-9FED-C9DCFEA5A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8FD15-72DC-485D-B31D-FB5A9AD04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17303-55D2-4C77-BF6B-DBC68F831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775D6-0B4C-4BE3-88AC-F24B60B9D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72AED-6D16-407B-8E3A-AA77C175C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F2BE1-DBEC-48BB-B8CB-ACDFB719D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24076-4BF9-4BDD-8984-B37CF56A7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0DC22-9E5E-495E-A013-E03E69DEE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5ABA1-FA3D-48AB-A1AF-93CF5F751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ADF5A-640F-4303-8DCD-076DB0F51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24AA3-6D96-4C7A-85AB-9074272A0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4DAF3-CEE3-42C4-B8B5-0E2C01608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2DC824-3CCD-4120-9F74-3C7E9A0B9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8DB7DE-45EA-4CA1-BD16-3DED41BE4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1B4B72-4A98-4B3D-BAA9-527DCEDB0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84C959-4FA1-4C9F-8429-DD32FAD6D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9EEDD6-A9C4-4D96-B8DF-8D9908169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3C112-C6F3-4810-9310-3F53B221E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B7065A-5DFA-4DC1-81AF-4A247FA51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D921C5-7565-4FA7-80BF-1CC9444F8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2E2CAE-0A12-4DC4-89BD-8DD1496D1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929B69-6C14-489B-9864-B356C74B7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65F602-4BEF-4918-8240-812B5B826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10521A-4F1E-4E54-897F-787B5BCCE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890EFC-CAB1-4A85-BF57-635BB69A4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508038-5604-4EA9-82E7-428BD5C33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B49FAC-8662-41B4-B794-3551DCF6A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865C79-B50E-447D-8596-6FE2138C0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0C935-D1D1-4640-9518-5ED3675D5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B3E0BB-659E-4AFD-8E69-708D25823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4DE1E9-6BF7-4C32-B9EA-A6BFDFEAC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374620-C20C-40EF-B685-6B3773A72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940526-9E8B-45E3-B66B-C82905694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A281F3-07C1-4873-A1AD-FDBF6EF67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9518DB-A0D1-44EB-8690-BBA89B8E2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B50169-BB17-4D97-9026-A79DF4800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84184E-DC86-45E0-B94F-8CB894C7A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17F323-B9AA-4314-8991-E5FE264CC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0DBB37-4701-4273-A538-015E76F06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123B1-7E49-45A2-BFB3-86F4EFBE3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3FC6A6-60FF-4B30-8AF7-F02AD3EE3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3B369B-31CC-4EC4-8C16-A76588D8E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E6DDE3-1834-45BB-AC5E-6A6D2CA35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5FC9CA-C9CD-4F50-A003-E81ACD104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30516B-08DC-4C58-86C4-298B6F1B8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03C371-881C-469A-A764-0C8F65F91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C8BD4B-FC6A-4466-9869-3EB1C51C7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8A7087-67FE-4AFD-9BAF-16D983AF8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66CC4A-3290-4535-AAD9-8976E97C7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D2F484-ACCF-45B2-B266-6C2F4E65F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0613B-D521-469E-BEAA-31F79739B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D2AD2F-0A2A-4426-A4E5-D52078BD7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57E71-1516-4201-B4AC-B7E83C45D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4E3DC-4E82-413B-AE29-80B414FD0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B781F-993D-4E9F-9BE8-A25861010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BFC85-2637-4DEF-B775-375561AC0D7D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Скругленный прямоугольник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831DF-2F14-4CD8-ACC7-CF000E5F8495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Скругленный прямоугольник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Скругленный прямоугольник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Прямоугольник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0B92E-374D-4EC9-8386-7E3702EA9AD4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Скругленный прямоугольник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C571D-4148-40CF-984C-4CEC0EE8A1ED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Прямоугольник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Прямоугольник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Прямоугольник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E00B9-3F76-4128-B230-025A7FD1B822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2743200" y="500040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Учитель истории МАОУСОШ № 2 им. Ю.А. Гагарина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algn="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муниципального образования Успенский район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algn="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Пелых Валерия Николаевна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algn="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Восточное Средиземноморье в древности. Финикия.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Прямоугольник 1"/>
          <p:cNvSpPr/>
          <p:nvPr/>
        </p:nvSpPr>
        <p:spPr>
          <a:xfrm>
            <a:off x="1735200" y="285840"/>
            <a:ext cx="5959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mbria"/>
              </a:rPr>
              <a:t>1.Города финикийце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Box 2"/>
          <p:cNvSpPr/>
          <p:nvPr/>
        </p:nvSpPr>
        <p:spPr>
          <a:xfrm>
            <a:off x="214200" y="1071720"/>
            <a:ext cx="8143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В финикийских городах было много ремесленников, которые изготавливали украшения из золота и серебра, резчиков по дереву и слоновой кости. Так же именно в Финикии было изобретено стекло.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Box 3"/>
          <p:cNvSpPr/>
          <p:nvPr/>
        </p:nvSpPr>
        <p:spPr>
          <a:xfrm>
            <a:off x="4714920" y="3071880"/>
            <a:ext cx="39290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Также из стекла изготавливали бусины, похожие на драгоценные камни или сосуды для благовоний – разнообразных душистых вещест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2" descr="https://ds03.infourok.ru/uploads/ex/0d92/00060101-6c70b570/img25.jpg"/>
          <p:cNvPicPr/>
          <p:nvPr/>
        </p:nvPicPr>
        <p:blipFill>
          <a:blip r:embed="rId1"/>
          <a:srcRect l="6248" t="17711" r="7811" b="4168"/>
          <a:stretch/>
        </p:blipFill>
        <p:spPr>
          <a:xfrm>
            <a:off x="214200" y="3000240"/>
            <a:ext cx="435780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Прямоугольник 1"/>
          <p:cNvSpPr/>
          <p:nvPr/>
        </p:nvSpPr>
        <p:spPr>
          <a:xfrm>
            <a:off x="1735200" y="285840"/>
            <a:ext cx="5959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mbria"/>
              </a:rPr>
              <a:t>1.Города финикийце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Box 2"/>
          <p:cNvSpPr/>
          <p:nvPr/>
        </p:nvSpPr>
        <p:spPr>
          <a:xfrm>
            <a:off x="357120" y="1000080"/>
            <a:ext cx="85010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Cambria"/>
              </a:rPr>
              <a:t>Царской роскошью считались ткани, окрашенные в пурпурный, т.е лилово-красный цвет. Они не выгорали на солнце  и не линяли при стирке. Секрет был таков: финикийцы на дне моря находили особые раковины и из улиток добывали </a:t>
            </a:r>
            <a:r>
              <a:rPr b="1" lang="ru-RU" sz="2800" spc="-1" strike="noStrike">
                <a:solidFill>
                  <a:srgbClr val="ff0000"/>
                </a:solidFill>
                <a:latin typeface="Cambria"/>
              </a:rPr>
              <a:t>пурпурную краск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5" descr="https://cont.ws/uploads/pic/2017/11/238dc1161c443f8467c61bb3c2c56843.jpg"/>
          <p:cNvPicPr/>
          <p:nvPr/>
        </p:nvPicPr>
        <p:blipFill>
          <a:blip r:embed="rId1"/>
          <a:stretch/>
        </p:blipFill>
        <p:spPr>
          <a:xfrm>
            <a:off x="4834080" y="3619440"/>
            <a:ext cx="4309920" cy="32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Прямоугольник 1"/>
          <p:cNvSpPr/>
          <p:nvPr/>
        </p:nvSpPr>
        <p:spPr>
          <a:xfrm>
            <a:off x="-151920" y="285840"/>
            <a:ext cx="9457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mbria"/>
              </a:rPr>
              <a:t>2.Торговцы и морские разбойни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Box 2"/>
          <p:cNvSpPr/>
          <p:nvPr/>
        </p:nvSpPr>
        <p:spPr>
          <a:xfrm>
            <a:off x="214200" y="1143000"/>
            <a:ext cx="86439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Из страны в страну путешествовали мореходы, получая прибыль. Когда финикийцы и их корабль входил в чужую гавань, местные жители радостно встречали их. Купцы могли привести льняное полотно из Египта, пурпурные ткани, стеклянные бусы, сосуды из Финикии или «живой товар»-рабов.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5" descr="http://booknik.ru/static/articles/photo/57107d31626837fe0d43525094b21f9616b6107b.png"/>
          <p:cNvPicPr/>
          <p:nvPr/>
        </p:nvPicPr>
        <p:blipFill>
          <a:blip r:embed="rId1"/>
          <a:stretch/>
        </p:blipFill>
        <p:spPr>
          <a:xfrm>
            <a:off x="4643280" y="3357720"/>
            <a:ext cx="415620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Прямоугольник 1"/>
          <p:cNvSpPr/>
          <p:nvPr/>
        </p:nvSpPr>
        <p:spPr>
          <a:xfrm>
            <a:off x="-151920" y="285840"/>
            <a:ext cx="9457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mbria"/>
              </a:rPr>
              <a:t>2.Торговцы и морские разбойни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Box 2"/>
          <p:cNvSpPr/>
          <p:nvPr/>
        </p:nvSpPr>
        <p:spPr>
          <a:xfrm>
            <a:off x="285840" y="1214280"/>
            <a:ext cx="88581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Cambria"/>
              </a:rPr>
              <a:t>Но при удобном случае не стеснялись финикийцы могли разбойничать: грабили беззащитные поселения. Людей,  застигнутых врасплох,  похищали и продавали в рабство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7" descr="https://www.baslibrary.org/sites/default/files/bsao030601600l.jpg"/>
          <p:cNvPicPr/>
          <p:nvPr/>
        </p:nvPicPr>
        <p:blipFill>
          <a:blip r:embed="rId1"/>
          <a:stretch/>
        </p:blipFill>
        <p:spPr>
          <a:xfrm>
            <a:off x="1785960" y="3143160"/>
            <a:ext cx="5715000" cy="33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Прямоугольник 1"/>
          <p:cNvSpPr/>
          <p:nvPr/>
        </p:nvSpPr>
        <p:spPr>
          <a:xfrm>
            <a:off x="1216440" y="214200"/>
            <a:ext cx="674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mbria"/>
              </a:rPr>
              <a:t>3.Финикийские колон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Box 2"/>
          <p:cNvSpPr/>
          <p:nvPr/>
        </p:nvSpPr>
        <p:spPr>
          <a:xfrm>
            <a:off x="428760" y="185724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Работа с учебником на стр. 75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3"/>
          <p:cNvSpPr/>
          <p:nvPr/>
        </p:nvSpPr>
        <p:spPr>
          <a:xfrm>
            <a:off x="214200" y="3000240"/>
            <a:ext cx="8929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Колонии –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края, где постоянно бывали финикийцы и основывали свои поселения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Прямоугольник 1"/>
          <p:cNvSpPr/>
          <p:nvPr/>
        </p:nvSpPr>
        <p:spPr>
          <a:xfrm>
            <a:off x="1515960" y="214200"/>
            <a:ext cx="6490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mbria"/>
              </a:rPr>
              <a:t>4.Древнейший алфави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2"/>
          <p:cNvSpPr/>
          <p:nvPr/>
        </p:nvSpPr>
        <p:spPr>
          <a:xfrm>
            <a:off x="285840" y="1428840"/>
            <a:ext cx="85723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Финикийским торговцам необходимо было знать грамматику, чтобы вести свои счетные записи. Но им не требовалось овладеть всей премудростью иероглифов. В Финикии около 3 тыс. лет назад придумали простое письмо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абота с учебником на стр. 76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Прямоугольник 1"/>
          <p:cNvSpPr/>
          <p:nvPr/>
        </p:nvSpPr>
        <p:spPr>
          <a:xfrm>
            <a:off x="1504440" y="214200"/>
            <a:ext cx="5430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mbria"/>
              </a:rPr>
              <a:t>Домашнее задание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Box 2"/>
          <p:cNvSpPr/>
          <p:nvPr/>
        </p:nvSpPr>
        <p:spPr>
          <a:xfrm>
            <a:off x="357120" y="1714680"/>
            <a:ext cx="8143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араграф 15, выписать главную мысль,  выучить записи в тетрад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Прямоугольник 1"/>
          <p:cNvSpPr/>
          <p:nvPr/>
        </p:nvSpPr>
        <p:spPr>
          <a:xfrm>
            <a:off x="1021320" y="285840"/>
            <a:ext cx="717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mbria"/>
              </a:rPr>
              <a:t>Природные условия древнего Егип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Прямоугольник 2"/>
          <p:cNvSpPr/>
          <p:nvPr/>
        </p:nvSpPr>
        <p:spPr>
          <a:xfrm>
            <a:off x="285840" y="1000080"/>
            <a:ext cx="857232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  </a:t>
            </a: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Египет находится на северо-востоке Африки. В стране теплый климат, дожди выпадают редко, большую часть года стоит сильная жара и несмотря на это, там, где вода - там жизнь. ». </a:t>
            </a: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Большую роль в жизни населения играл Нил. Нил был единственным источником влаги в засушливом Египте, где практически не выпадает дожд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Природные и климатические условия благотворно влияли на развитие земледелия, овощеводства и вообще сельского хозяйства. После разлива реки Нил, на полях оставался толстый слой плодородного ила, что и являлось благоприятным условием для земледелия в Египт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Египет был довольно богат полезными ископаемыми; Особенно много было камня. Освоением и началом обработки металлов происходит усложнение и совершенствование орудий. Плуги, мотыги, деревянные серпы с вкладышами, зернотер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TextBox 1"/>
          <p:cNvSpPr/>
          <p:nvPr/>
        </p:nvSpPr>
        <p:spPr>
          <a:xfrm>
            <a:off x="714240" y="214200"/>
            <a:ext cx="7643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mbria"/>
              </a:rPr>
              <a:t>Цель уро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Box 2"/>
          <p:cNvSpPr/>
          <p:nvPr/>
        </p:nvSpPr>
        <p:spPr>
          <a:xfrm>
            <a:off x="285840" y="1357200"/>
            <a:ext cx="8643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mbria"/>
              </a:rPr>
              <a:t>-познакомить с образом жизни, хозяйственными и культурными достижениями финикийце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mbria"/>
              </a:rPr>
              <a:t>-познакомиться с понятием «колония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mbria"/>
              </a:rPr>
              <a:t>-познакомиться с финикийским алфавитом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Box 1"/>
          <p:cNvSpPr/>
          <p:nvPr/>
        </p:nvSpPr>
        <p:spPr>
          <a:xfrm>
            <a:off x="714240" y="214200"/>
            <a:ext cx="7643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mbria"/>
              </a:rPr>
              <a:t>План уро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Box 2"/>
          <p:cNvSpPr/>
          <p:nvPr/>
        </p:nvSpPr>
        <p:spPr>
          <a:xfrm>
            <a:off x="357120" y="1428840"/>
            <a:ext cx="84297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mbria"/>
              </a:rPr>
              <a:t>1.Города финикийце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mbria"/>
              </a:rPr>
              <a:t>2.Торговцы и морские разбойни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mbria"/>
              </a:rPr>
              <a:t>3.Финикийские колон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mbria"/>
              </a:rPr>
              <a:t>4.Древнейший алфави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Прямоугольник 1"/>
          <p:cNvSpPr/>
          <p:nvPr/>
        </p:nvSpPr>
        <p:spPr>
          <a:xfrm>
            <a:off x="1735200" y="285840"/>
            <a:ext cx="5959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mbria"/>
              </a:rPr>
              <a:t>1.Города финикийце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Box 2"/>
          <p:cNvSpPr/>
          <p:nvPr/>
        </p:nvSpPr>
        <p:spPr>
          <a:xfrm>
            <a:off x="357120" y="1643040"/>
            <a:ext cx="3143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На Восточном побережье  Средиземного моря располагалась </a:t>
            </a:r>
            <a:r>
              <a:rPr b="1" lang="ru-RU" sz="2400" spc="-1" strike="noStrike">
                <a:solidFill>
                  <a:srgbClr val="ff0000"/>
                </a:solidFill>
                <a:latin typeface="Cambria"/>
              </a:rPr>
              <a:t>Финик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2" descr="https://ds04.infourok.ru/uploads/ex/090e/000b7abd-20311b72/1/img10.jpg"/>
          <p:cNvPicPr/>
          <p:nvPr/>
        </p:nvPicPr>
        <p:blipFill>
          <a:blip r:embed="rId1"/>
          <a:srcRect l="20315" t="9375" r="20315" b="8331"/>
          <a:stretch/>
        </p:blipFill>
        <p:spPr>
          <a:xfrm>
            <a:off x="3571920" y="1000080"/>
            <a:ext cx="5572080" cy="5857920"/>
          </a:xfrm>
          <a:prstGeom prst="rect">
            <a:avLst/>
          </a:prstGeom>
          <a:ln w="0">
            <a:noFill/>
          </a:ln>
        </p:spPr>
      </p:pic>
      <p:sp>
        <p:nvSpPr>
          <p:cNvPr id="239" name="TextBox 4"/>
          <p:cNvSpPr/>
          <p:nvPr/>
        </p:nvSpPr>
        <p:spPr>
          <a:xfrm>
            <a:off x="714240" y="6215040"/>
            <a:ext cx="278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Карта на стр. 33 и 47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Прямоугольник 1"/>
          <p:cNvSpPr/>
          <p:nvPr/>
        </p:nvSpPr>
        <p:spPr>
          <a:xfrm>
            <a:off x="1735200" y="285840"/>
            <a:ext cx="5959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mbria"/>
              </a:rPr>
              <a:t>1.Города финикийце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Box 2"/>
          <p:cNvSpPr/>
          <p:nvPr/>
        </p:nvSpPr>
        <p:spPr>
          <a:xfrm>
            <a:off x="214200" y="1214280"/>
            <a:ext cx="3357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Образ жизни финикийцев был совершенно другой, чем египтян или вавилонян. Была и сама другая природа. Не было крупных рек и долин с плодородными почвами. Мало места для полей и пастбищ. В Финикии средиземноморский климат (зимой дожди, лето сухо), поэтому нет необходимости в создании искусственного орошен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2" descr="https://ds04.infourok.ru/uploads/ex/090e/000b7abd-20311b72/1/img10.jpg"/>
          <p:cNvPicPr/>
          <p:nvPr/>
        </p:nvPicPr>
        <p:blipFill>
          <a:blip r:embed="rId1"/>
          <a:srcRect l="20315" t="9375" r="20315" b="8331"/>
          <a:stretch/>
        </p:blipFill>
        <p:spPr>
          <a:xfrm>
            <a:off x="3571920" y="1000080"/>
            <a:ext cx="5572080" cy="58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Прямоугольник 1"/>
          <p:cNvSpPr/>
          <p:nvPr/>
        </p:nvSpPr>
        <p:spPr>
          <a:xfrm>
            <a:off x="1735200" y="285840"/>
            <a:ext cx="5959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mbria"/>
              </a:rPr>
              <a:t>1.Города финикийце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Box 2"/>
          <p:cNvSpPr/>
          <p:nvPr/>
        </p:nvSpPr>
        <p:spPr>
          <a:xfrm>
            <a:off x="4714920" y="1357200"/>
            <a:ext cx="44290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Финикийцы сажали виноградники и рощи оливковых деревьев. Из плодов этих деревьев – оливок (маслины) делали душистое масл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Также финикийцы славились строительством лесов. Финикия удобно располагалась на карте. Торговые пути связывали с Египтом и с Двуречье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2" descr="https://ds04.infourok.ru/uploads/ex/090e/000b7abd-20311b72/1/img10.jpg"/>
          <p:cNvPicPr/>
          <p:nvPr/>
        </p:nvPicPr>
        <p:blipFill>
          <a:blip r:embed="rId1"/>
          <a:srcRect l="20315" t="9375" r="20315" b="8331"/>
          <a:stretch/>
        </p:blipFill>
        <p:spPr>
          <a:xfrm>
            <a:off x="0" y="1000080"/>
            <a:ext cx="4714920" cy="58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Прямоугольник 1"/>
          <p:cNvSpPr/>
          <p:nvPr/>
        </p:nvSpPr>
        <p:spPr>
          <a:xfrm>
            <a:off x="1735200" y="285840"/>
            <a:ext cx="5959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mbria"/>
              </a:rPr>
              <a:t>1.Города финикийце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Box 2"/>
          <p:cNvSpPr/>
          <p:nvPr/>
        </p:nvSpPr>
        <p:spPr>
          <a:xfrm>
            <a:off x="285840" y="1000080"/>
            <a:ext cx="8643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mbria"/>
              </a:rPr>
              <a:t>На ослах и верблюдах прибывали торговые караваны в города финикийцев Библ, Сидон и Тир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Picture 5" descr="http://interesting-information.ru/wp-content/uploads/2016/11/121.jpg"/>
          <p:cNvPicPr/>
          <p:nvPr/>
        </p:nvPicPr>
        <p:blipFill>
          <a:blip r:embed="rId1"/>
          <a:stretch/>
        </p:blipFill>
        <p:spPr>
          <a:xfrm>
            <a:off x="2928960" y="2786040"/>
            <a:ext cx="5649840" cy="37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Прямоугольник 1"/>
          <p:cNvSpPr/>
          <p:nvPr/>
        </p:nvSpPr>
        <p:spPr>
          <a:xfrm>
            <a:off x="1735200" y="285840"/>
            <a:ext cx="5959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mbria"/>
              </a:rPr>
              <a:t>1.Города финикийце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Box 2"/>
          <p:cNvSpPr/>
          <p:nvPr/>
        </p:nvSpPr>
        <p:spPr>
          <a:xfrm>
            <a:off x="285840" y="1500120"/>
            <a:ext cx="8858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Cambria"/>
              </a:rPr>
              <a:t>Финикийцы строили из прочного дерева быстроходные корабли. Хозяин приказывал доверху загрузить судно товарам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Picture 5" descr="http://www.etoretro.ru/data/media/4761/1473919671d63.jpg"/>
          <p:cNvPicPr/>
          <p:nvPr/>
        </p:nvPicPr>
        <p:blipFill>
          <a:blip r:embed="rId1"/>
          <a:srcRect l="836" t="17803" r="0" b="12182"/>
          <a:stretch/>
        </p:blipFill>
        <p:spPr>
          <a:xfrm>
            <a:off x="1071720" y="3000240"/>
            <a:ext cx="6929280" cy="343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1-24T14:19:08Z</dcterms:created>
  <dc:creator>Admin</dc:creator>
  <dc:description/>
  <dc:language>en-US</dc:language>
  <cp:lastModifiedBy>ТатьянА</cp:lastModifiedBy>
  <dcterms:modified xsi:type="dcterms:W3CDTF">2019-01-02T14:01:55Z</dcterms:modified>
  <cp:revision>16</cp:revision>
  <dc:subject/>
  <dc:title>Восточное Средиземноморье в древности. Финикия.</dc:title>
</cp:coreProperties>
</file>