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FCC-037F-44B5-9A8D-6E8EA55F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872-951C-409C-ACF1-82F20914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A48-A7B4-414D-8E7D-23A2EB7D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8F3C-7D9F-45AD-B072-8A673C40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5C05-8693-4735-9FD5-59E0AEB9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AB98-27E5-41B5-A2FB-9BA13B69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130F-BA60-4488-AB1B-0AD6510D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4EA1-5F0E-4E21-8302-874CCD5A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DC02-DEAB-44E9-9DAA-B0B1242D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FC30-09E2-48E5-947B-0597B9B0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3B7B-AFFD-43BE-8789-58149623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59D2-5E3D-44F1-BD70-685145F7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A6D8-A3B0-48F8-97EE-138198C5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A4D7-93F4-4B3C-8D6D-84280500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5B4C-E25E-48B4-A44B-1436B8A8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6853-30E3-47F0-8F16-3F007944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39C7-0250-4334-92D9-DA43AAFD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2594F-CF34-4E78-BA99-9D2D51FF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CB817-933E-4EC4-BE25-47047499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6AA7D-0A56-4BF8-AF00-8D0A9CB2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8D996-6DEC-4D30-9627-40C46244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09702-FB4E-4688-A48F-062919A5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11A8-0262-46A3-B50A-F0459933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6D76E-C95E-4B7D-90E1-D595F67A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229EE-05E0-4E31-A0FF-8179A5C7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A38F1-5ED2-460B-9872-801F6AE3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4A2E6-C971-477B-8D2F-4CF565AA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9C787-7E98-4095-8299-871BD165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3A001-1189-45DB-9720-E40A46BB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52363-584C-49C4-BF35-58C6E7DD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3EC5B-1EEF-42B9-B69A-2B5E3210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306F4-21A2-4ED1-92A4-55CDF023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0914A-8A0C-4796-AFE0-58D57EAA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217B-60BA-48CD-B03D-0A848696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F8D44-9AA6-45F7-BD71-9B978C76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BB97F-A5B6-4A84-BAC7-041D2AC4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C9953-6DD5-43B4-9C65-1AE79449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6787C-03E2-490E-92F0-14D52D1B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6543C-A064-454F-AB4D-0BF532AE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FFCD9-FCA7-4D64-8556-0C91ABAA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43CC0-CBFF-4D50-BEA5-C4BAA899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5F1B6-F717-4196-B599-5D6968F2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0DF28-40A4-4493-AAF6-F564EA36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EC9B3-790B-4FE6-A374-D41D24AF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FCCF-AC63-4DAB-8734-B6BA3D4A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6517B-E260-48CC-B3A5-70D1E5FB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43786-0360-4288-88BF-C99D7556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4DB91-5E1F-43E2-95C6-252CC028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12015-C8A3-403A-BC51-C6D464E2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5B30E-3636-48DC-9623-2F5A0226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5D93A-460C-4C6D-9683-F53A77CB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27B70-43BB-4336-80FB-47E249BC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BDB0F-DC3D-412E-B380-815768FC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ACD1A-76BE-4330-90DA-44EF94DF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3B11A-1503-460D-A175-5AF4B2D6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0812-5919-4640-A782-02ADC51C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E7991-B564-4397-86E4-51BB5CAD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5766-9934-43FF-9D4D-E2B70B57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4BAC-0F6E-4C86-A455-9074B087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510E-34DB-4E6E-AED0-A4A9D5C6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1504-C9BE-4A22-8EA3-22601473EFB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92BE-24DF-463A-88FD-B4B62EB9C04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9DC9-6BE0-4486-8C1D-50AED9A07C3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C736-45E6-49EF-9C91-4E312607FEB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3A6D-6A10-47B9-B2D3-9F32705A9A5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2743200" y="500040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читель истории МАОУСОШ № 2 им. Ю.А. Гагарин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униципального образования Успенский район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лых Валерия Николаевн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осточное Средиземноморье в древности. Финикия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1735200" y="285840"/>
            <a:ext cx="595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1.Города финикий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214200" y="1071720"/>
            <a:ext cx="814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 финикийских городах было много ремесленников, которые изготавливали украшения из золота и серебра, резчиков по дереву и слоновой кости. Так же именно в Финикии было изобретено стекло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4714920" y="3071880"/>
            <a:ext cx="392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Также из стекла изготавливали бусины, похожие на драгоценные камни или сосуды для благовоний – разнообразных душисты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https://ds03.infourok.ru/uploads/ex/0d92/00060101-6c70b570/img25.jpg"/>
          <p:cNvPicPr/>
          <p:nvPr/>
        </p:nvPicPr>
        <p:blipFill>
          <a:blip r:embed="rId1"/>
          <a:srcRect l="6248" t="17711" r="7811" b="4168"/>
          <a:stretch/>
        </p:blipFill>
        <p:spPr>
          <a:xfrm>
            <a:off x="214200" y="3000240"/>
            <a:ext cx="4357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1735200" y="285840"/>
            <a:ext cx="595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1.Города финикий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"/>
          <p:cNvSpPr/>
          <p:nvPr/>
        </p:nvSpPr>
        <p:spPr>
          <a:xfrm>
            <a:off x="357120" y="1000080"/>
            <a:ext cx="8501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Царской роскошью считались ткани, окрашенные в пурпурный, т.е лилово-красный цвет. Они не выгорали на солнце  и не линяли при стирке. Секрет был таков: финикийцы на дне моря находили особые раковины и из улиток добывали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пурпурную крас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https://cont.ws/uploads/pic/2017/11/238dc1161c443f8467c61bb3c2c56843.jpg"/>
          <p:cNvPicPr/>
          <p:nvPr/>
        </p:nvPicPr>
        <p:blipFill>
          <a:blip r:embed="rId1"/>
          <a:stretch/>
        </p:blipFill>
        <p:spPr>
          <a:xfrm>
            <a:off x="4834080" y="3619440"/>
            <a:ext cx="43099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-151920" y="285840"/>
            <a:ext cx="9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2.Торговцы и морские разбой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214200" y="1143000"/>
            <a:ext cx="8643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Из страны в страну путешествовали мореходы, получая прибыль. Когда финикийцы и их корабль входил в чужую гавань, местные жители радостно встречали их. Купцы могли привести льняное полотно из Египта, пурпурные ткани, стеклянные бусы, сосуды из Финикии или «живой товар»-рабов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http://booknik.ru/static/articles/photo/57107d31626837fe0d43525094b21f9616b6107b.png"/>
          <p:cNvPicPr/>
          <p:nvPr/>
        </p:nvPicPr>
        <p:blipFill>
          <a:blip r:embed="rId1"/>
          <a:stretch/>
        </p:blipFill>
        <p:spPr>
          <a:xfrm>
            <a:off x="4643280" y="3357720"/>
            <a:ext cx="41562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-151920" y="285840"/>
            <a:ext cx="9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2.Торговцы и морские разбой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285840" y="1214280"/>
            <a:ext cx="88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Но при удобном случае не стеснялись финикийцы могли разбойничать: грабили беззащитные поселения. Людей,  застигнутых врасплох,  похищали и продавали в раб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https://www.baslibrary.org/sites/default/files/bsao030601600l.jpg"/>
          <p:cNvPicPr/>
          <p:nvPr/>
        </p:nvPicPr>
        <p:blipFill>
          <a:blip r:embed="rId1"/>
          <a:stretch/>
        </p:blipFill>
        <p:spPr>
          <a:xfrm>
            <a:off x="1785960" y="3143160"/>
            <a:ext cx="5715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1216440" y="214200"/>
            <a:ext cx="674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3.Финикийские коло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428760" y="18572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с учебником на стр. 7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214200" y="300024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лонии –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края, где постоянно бывали финикийцы и основывали свои поселения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1515960" y="214200"/>
            <a:ext cx="649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4.Древнейший алфав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285840" y="1428840"/>
            <a:ext cx="8572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никийским торговцам необходимо было знать грамматику, чтобы вести свои счетные записи. Но им не требовалось овладеть всей премудростью иероглифов. В Финикии около 3 тыс. лет назад придумали простое письм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с учебником на стр. 7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"/>
          <p:cNvSpPr/>
          <p:nvPr/>
        </p:nvSpPr>
        <p:spPr>
          <a:xfrm>
            <a:off x="1504440" y="214200"/>
            <a:ext cx="543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Домашнее зад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"/>
          <p:cNvSpPr/>
          <p:nvPr/>
        </p:nvSpPr>
        <p:spPr>
          <a:xfrm>
            <a:off x="357120" y="171468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граф 15, выписать главную мысль,  выучить записи в тет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1021320" y="285840"/>
            <a:ext cx="717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Природные условия древнего Егип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285840" y="1000080"/>
            <a:ext cx="8572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Египет находится на северо-востоке Африки. В стране теплый климат, дожди выпадают редко, большую часть года стоит сильная жара и несмотря на это, там, где вода - там жизнь. ».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Большую роль в жизни населения играл Нил. Нил был единственным источником влаги в засушливом Египте, где практически не выпадает дож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иродные и климатические условия благотворно влияли на развитие земледелия, овощеводства и вообще сельского хозяйства. После разлива реки Нил, на полях оставался толстый слой плодородного ила, что и являлось благоприятным условием для земледелия в Егип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Египет был довольно богат полезными ископаемыми; Особенно много было камня. Освоением и началом обработки металлов происходит усложнение и совершенствование орудий. Плуги, мотыги, деревянные серпы с вкладышами, зернот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714240" y="214200"/>
            <a:ext cx="764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285840" y="1357200"/>
            <a:ext cx="864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-познакомить с образом жизни, хозяйственными и культурными достижениями финикийц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-познакомиться с понятием «коло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-познакомиться с финикийским алфавит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714240" y="214200"/>
            <a:ext cx="764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357120" y="1428840"/>
            <a:ext cx="842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1.Города финикийц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2.Торговцы и морские разбой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3.Финикийские коло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4.Древнейший алфав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735200" y="285840"/>
            <a:ext cx="595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1.Города финикий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357120" y="1643040"/>
            <a:ext cx="314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а Восточном побережье  Средиземного моря располагалась </a:t>
            </a: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Финик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https://ds04.infourok.ru/uploads/ex/090e/000b7abd-20311b72/1/img10.jpg"/>
          <p:cNvPicPr/>
          <p:nvPr/>
        </p:nvPicPr>
        <p:blipFill>
          <a:blip r:embed="rId1"/>
          <a:srcRect l="20315" t="9375" r="20315" b="8331"/>
          <a:stretch/>
        </p:blipFill>
        <p:spPr>
          <a:xfrm>
            <a:off x="3571920" y="1000080"/>
            <a:ext cx="5572080" cy="58579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714240" y="62150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арта на стр. 33 и 4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1735200" y="285840"/>
            <a:ext cx="595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1.Города финикий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"/>
          <p:cNvSpPr/>
          <p:nvPr/>
        </p:nvSpPr>
        <p:spPr>
          <a:xfrm>
            <a:off x="214200" y="1214280"/>
            <a:ext cx="3357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Образ жизни финикийцев был совершенно другой, чем египтян или вавилонян. Была и сама другая природа. Не было крупных рек и долин с плодородными почвами. Мало места для полей и пастбищ. В Финикии средиземноморский климат (зимой дожди, лето сухо), поэтому нет необходимости в создании искусственного оро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https://ds04.infourok.ru/uploads/ex/090e/000b7abd-20311b72/1/img10.jpg"/>
          <p:cNvPicPr/>
          <p:nvPr/>
        </p:nvPicPr>
        <p:blipFill>
          <a:blip r:embed="rId1"/>
          <a:srcRect l="20315" t="9375" r="20315" b="8331"/>
          <a:stretch/>
        </p:blipFill>
        <p:spPr>
          <a:xfrm>
            <a:off x="3571920" y="1000080"/>
            <a:ext cx="55720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1"/>
          <p:cNvSpPr/>
          <p:nvPr/>
        </p:nvSpPr>
        <p:spPr>
          <a:xfrm>
            <a:off x="1735200" y="285840"/>
            <a:ext cx="595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1.Города финикий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"/>
          <p:cNvSpPr/>
          <p:nvPr/>
        </p:nvSpPr>
        <p:spPr>
          <a:xfrm>
            <a:off x="4714920" y="1357200"/>
            <a:ext cx="442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Финикийцы сажали виноградники и рощи оливковых деревьев. Из плодов этих деревьев – оливок (маслины) делали душистое мас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Также финикийцы славились строительством лесов. Финикия удобно располагалась на карте. Торговые пути связывали с Египтом и с Двуречь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https://ds04.infourok.ru/uploads/ex/090e/000b7abd-20311b72/1/img10.jpg"/>
          <p:cNvPicPr/>
          <p:nvPr/>
        </p:nvPicPr>
        <p:blipFill>
          <a:blip r:embed="rId1"/>
          <a:srcRect l="20315" t="9375" r="20315" b="8331"/>
          <a:stretch/>
        </p:blipFill>
        <p:spPr>
          <a:xfrm>
            <a:off x="0" y="1000080"/>
            <a:ext cx="47149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1735200" y="285840"/>
            <a:ext cx="595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1.Города финикий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285840" y="1000080"/>
            <a:ext cx="86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На ослах и верблюдах прибывали торговые караваны в города финикийцев Библ, Сидон и Тир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http://interesting-information.ru/wp-content/uploads/2016/11/121.jpg"/>
          <p:cNvPicPr/>
          <p:nvPr/>
        </p:nvPicPr>
        <p:blipFill>
          <a:blip r:embed="rId1"/>
          <a:stretch/>
        </p:blipFill>
        <p:spPr>
          <a:xfrm>
            <a:off x="2928960" y="2786040"/>
            <a:ext cx="56498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1735200" y="285840"/>
            <a:ext cx="595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1.Города финикий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285840" y="150012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Финикийцы строили из прочного дерева быстроходные корабли. Хозяин приказывал доверху загрузить судно товар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http://www.etoretro.ru/data/media/4761/1473919671d63.jpg"/>
          <p:cNvPicPr/>
          <p:nvPr/>
        </p:nvPicPr>
        <p:blipFill>
          <a:blip r:embed="rId1"/>
          <a:srcRect l="836" t="17803" r="0" b="12182"/>
          <a:stretch/>
        </p:blipFill>
        <p:spPr>
          <a:xfrm>
            <a:off x="1071720" y="3000240"/>
            <a:ext cx="69292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4T14:19:08Z</dcterms:created>
  <dc:creator>Admin</dc:creator>
  <dc:description/>
  <dc:language>en-US</dc:language>
  <cp:lastModifiedBy>ТатьянА</cp:lastModifiedBy>
  <dcterms:modified xsi:type="dcterms:W3CDTF">2019-01-02T14:01:55Z</dcterms:modified>
  <cp:revision>16</cp:revision>
  <dc:subject/>
  <dc:title>Восточное Средиземноморье в древности. Финикия.</dc:title>
</cp:coreProperties>
</file>