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577-2ECA-43F5-AD99-0CAF0C3F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3B8-4513-45CE-82BA-548636A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DFA-D400-47D0-82A7-76AB526B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29F-0EDD-4C23-9D38-2946272C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78D-8D17-443A-89FA-1B034186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F772-86FD-4C22-800D-AF2FB82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BDF0-06C6-4FCD-ABC2-91DD16B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65C6-A46F-4B4C-A607-76696F7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F23-623A-4112-9910-1A1241B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9BFC-221D-4061-B74E-01E26B8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61E-F417-44B0-85BA-74EE494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F27-6D9E-406A-8926-FB0C065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A351-4AD8-48C2-BB01-50D122C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1DA5-1837-4554-8C8C-D1A766B3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D71F-805C-4BC7-A11E-34BBB8FC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25F-309E-43BC-93A5-D6A59D7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F405-AB21-456A-9DDB-87C69210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4F1-D7D4-47F3-91DE-8E0967F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26F-065B-4BAF-96D6-FE29732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A3C-C147-455C-94BD-39CD124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812-75C5-426C-82F2-AA89F73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915-6FE5-4719-8284-D3BF532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68F-11CE-4FF7-A3BD-CDDAB5A2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325-BA96-4BDB-B72C-58E38A0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004-BC69-4486-8019-EE2C0F84857C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E26C-4916-4637-AE69-BBDAC9298500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ерсидская держава</a:t>
            </a:r>
            <a:br>
              <a:rPr sz="6000"/>
            </a:b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« царя царей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14880" y="5645880"/>
            <a:ext cx="45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востоку  от Лидии находилос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ретье царство – Мид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Ее территория была обширна, но жившие здесь население не всегда подчинялись мадийскому  цар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004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135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 Завоевания персов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143840" y="3571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 Cyr"/>
              </a:rPr>
              <a:t>Стр. 92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806436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ир – первый персидский цар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50 г. до н. э. – восстание персов против мидийкого царя и завоевание Мид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47 г. до н. э. – поражение лидийского царя Креза и завоевание персами Лид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38 г. до н. э. – захват Вавилона перс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25 г. до н. э. – захвати Египта персам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рий первый – царь Перс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еполь – столица Персидской держав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 Завоевания персов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355640" y="1125000"/>
            <a:ext cx="4248360" cy="5038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мым могущественным правителем Персии был Дарий Перв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круживший себя тайными осведомителями, которые назывались «глаза и уши царя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55640" y="616572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туя Дария I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6" descr="0c23b78bf9b2505ad551c697bfb77e0f"/>
          <p:cNvPicPr/>
          <p:nvPr/>
        </p:nvPicPr>
        <p:blipFill>
          <a:blip r:embed="rId2"/>
          <a:stretch/>
        </p:blipFill>
        <p:spPr>
          <a:xfrm>
            <a:off x="755640" y="1125360"/>
            <a:ext cx="279576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71320" y="4214520"/>
            <a:ext cx="8032680" cy="194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пнейшие города державы были соединены широкой дорогой, которой называл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арс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 ней каждые 20-30 километров были расставлены посты с лошадьми и людьми, готовыми немедленно отправиться в пу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214280" y="100008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320" y="4214520"/>
            <a:ext cx="8032680" cy="194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 завоеванных стран платило налоги. Египет и Вавилония должны были  поставлять в царскую казну десятки тонн  серебра. Огромные средства уходили на строительство дворцов в Персеполе и в других города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Персидская держава при Дарии Первом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214280" y="100008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99640" y="2565360"/>
            <a:ext cx="7704360" cy="273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§19 , записи в тетради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Цель урока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91856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Способствовать формированию понятия «империя, развитию умения выделять характерные черты Персии как самой большой и державы Древнего Восто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Создать условия для рассмотрения процесса складывания Персидской державы, выделения факторов, способствующих возвышению и расцвету Персидской державы, эффективному управлению огромным государства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91856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и великих царства в Западной Азии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воевания персо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сидская держава при Дарии Первом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0760" y="1341000"/>
            <a:ext cx="3892320" cy="53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 гибели ассирийской державы все Двуречье покорилось вавилонскому царю.  Ассирия- покорилась вавилонскому царю, который становится самым большим и знаменитым городом в Западной Аз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725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2" name="Picture 9" descr="scr_090521-A-9197F-0935a"/>
          <p:cNvPicPr/>
          <p:nvPr/>
        </p:nvPicPr>
        <p:blipFill>
          <a:blip r:embed="rId2"/>
          <a:stretch/>
        </p:blipFill>
        <p:spPr>
          <a:xfrm>
            <a:off x="468360" y="1631880"/>
            <a:ext cx="4321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32360" y="1341000"/>
            <a:ext cx="3960720" cy="53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ирия- покорилась вавилонскому царю, который становится самым большим и знаменитым городом в Западной Аз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6" name="Picture 9" descr="scr_090521-A-9197F-0935a"/>
          <p:cNvPicPr/>
          <p:nvPr/>
        </p:nvPicPr>
        <p:blipFill>
          <a:blip r:embed="rId2"/>
          <a:stretch/>
        </p:blipFill>
        <p:spPr>
          <a:xfrm>
            <a:off x="468360" y="1631880"/>
            <a:ext cx="4321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87424026_large_4826654_0_65441_c0f84d9b_XL"/>
          <p:cNvPicPr/>
          <p:nvPr/>
        </p:nvPicPr>
        <p:blipFill>
          <a:blip r:embed="rId1"/>
          <a:stretch/>
        </p:blipFill>
        <p:spPr>
          <a:xfrm>
            <a:off x="539640" y="1657440"/>
            <a:ext cx="4176720" cy="3543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32360" y="1341000"/>
            <a:ext cx="3960720" cy="532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упцы привозили сюда товар. Обнесённый мощными стенами, он казался неприступной креп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826920" y="5373720"/>
            <a:ext cx="374508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Город Вавилон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вилонское царств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ло почти таким же огромным, как прежде Ассири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865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4429080"/>
            <a:ext cx="8501040" cy="1857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ападной части полуострова Малая Азия располагалос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идийское цар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На берегах рек Азии можно было найти крупицы золот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Именно в Лидии 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веке до н.э начали чеканить первую в мире монету из сплава золота с серебр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2" descr="https://trojden.com/books/world-history/world-history-5-class-vigasin-2015/world-history-5-class-vigasin-2015.files/image119.jpg"/>
          <p:cNvPicPr/>
          <p:nvPr/>
        </p:nvPicPr>
        <p:blipFill>
          <a:blip r:embed="rId2"/>
          <a:srcRect l="2971" t="7559" r="-60" b="7426"/>
          <a:stretch/>
        </p:blipFill>
        <p:spPr>
          <a:xfrm>
            <a:off x="1000080" y="1143000"/>
            <a:ext cx="7000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13420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Три великих царства в Западной Ази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176720" cy="532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гатство лидийского царя Креза вошло в поговорку. Он был самым богатым царём того времени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1280" y="5950080"/>
            <a:ext cx="3744720" cy="503280"/>
          </a:xfrm>
          <a:prstGeom prst="rect">
            <a:avLst/>
          </a:prstGeom>
          <a:solidFill>
            <a:srgbClr val="ffcc99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Царь Крез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0" name="Picture 7" descr="Claude+Vignon+-+Croesus+Receiving+Tribute+from+a+Lydian+Peasant+_1629_"/>
          <p:cNvPicPr/>
          <p:nvPr/>
        </p:nvPicPr>
        <p:blipFill>
          <a:blip r:embed="rId2"/>
          <a:stretch/>
        </p:blipFill>
        <p:spPr>
          <a:xfrm>
            <a:off x="755640" y="1109520"/>
            <a:ext cx="3684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Admin</dc:creator>
  <dc:description/>
  <dc:language>en-US</dc:language>
  <cp:lastModifiedBy>ТатьянА</cp:lastModifiedBy>
  <dcterms:modified xsi:type="dcterms:W3CDTF">2019-01-02T14:41:17Z</dcterms:modified>
  <cp:revision>37</cp:revision>
  <dc:subject/>
  <dc:title>Заголовок слайда отсутствует</dc:title>
</cp:coreProperties>
</file>