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7B0-293F-463C-A933-8994418B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B2A-394A-4526-A07B-E6A4767F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E3F-D77D-446B-9614-4117EC98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1D9-C7A4-47B6-853F-BE23C408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704A-3525-44D8-BD5B-F0270518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1F82-353D-4E6C-B360-54D1619C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EA9A-E3B5-4BCF-82C1-4A0D3EE5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C589-980C-4E4E-A3ED-254DD568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F2FD-FDF8-42DD-BE09-B13B1C54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D1E9-0321-4D8D-9DBA-CCE46192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1435-1215-458B-A402-24148B74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BC0-903B-4FFC-8C98-99AF168B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CC3F-C9C0-4649-8E93-6B39FB64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37D5-E5E6-4C59-80E7-501C7E96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5F4D-FA51-4979-A5E6-4544BD8A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19F0-601F-4822-B7FD-AA058351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7863-2D1F-4DBC-98F3-40766D21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90B-1433-4B01-A8C5-3AB4889A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618-D240-468A-A4CD-A1A2B36B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57C-4B05-41E3-BD17-BD5FF4D4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4D2-04FF-4B86-B78E-8723C050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410-421B-46C1-AC30-1CA38B5F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279-3419-4402-8E18-51496A9E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5848-06F7-4F70-AE35-254A5CB5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 flipH="1" flipV="1" rot="10800000">
              <a:off x="0" y="0"/>
              <a:ext cx="9142560" cy="380880"/>
            </a:xfrm>
            <a:prstGeom prst="pi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 flipV="1">
              <a:off x="0" y="6324480"/>
              <a:ext cx="9142560" cy="532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654B-9F2B-4CC0-932E-254CE91E76BB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49" name="Rectangle 3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 flipH="1" flipV="1" rot="10800000">
              <a:off x="0" y="0"/>
              <a:ext cx="9142560" cy="380880"/>
            </a:xfrm>
            <a:prstGeom prst="pi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 flipV="1">
              <a:off x="0" y="6324480"/>
              <a:ext cx="9142560" cy="532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grpSp>
          <p:nvGrpSpPr>
            <p:cNvPr id="53" name="Group 15"/>
            <p:cNvGrpSpPr/>
            <p:nvPr/>
          </p:nvGrpSpPr>
          <p:grpSpPr>
            <a:xfrm>
              <a:off x="609480" y="3324240"/>
              <a:ext cx="8001000" cy="374760"/>
              <a:chOff x="609480" y="3324240"/>
              <a:chExt cx="8001000" cy="37476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609480" y="3470400"/>
                <a:ext cx="800100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615960" y="3324240"/>
                <a:ext cx="7843680" cy="277920"/>
              </a:xfrm>
              <a:prstGeom prst="rect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6" name="Line 9"/>
              <p:cNvSpPr/>
              <p:nvPr/>
            </p:nvSpPr>
            <p:spPr>
              <a:xfrm>
                <a:off x="622440" y="339408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622440" y="347040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622440" y="354636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622440" y="337968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622440" y="345600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622440" y="353232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7210-DD79-4E20-B024-AAED39538BA8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ерсидская держава</a:t>
            </a:r>
            <a:br>
              <a:rPr sz="6000"/>
            </a:b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« царя царей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214880" y="5645880"/>
            <a:ext cx="45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Calibri"/>
              </a:rPr>
              <a:t>Учитель истории МАОУСОШ № 2 им. Ю.А. Гагарина</a:t>
            </a:r>
            <a:endParaRPr b="0" lang="en-US" sz="1200" spc="-1" strike="noStrike">
              <a:solidFill>
                <a:srgbClr val="eaeaea"/>
              </a:solidFill>
              <a:latin typeface="Times New Roman Cy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Calibri"/>
              </a:rPr>
              <a:t>муниципального образования Успенский район</a:t>
            </a:r>
            <a:endParaRPr b="0" lang="en-US" sz="1200" spc="-1" strike="noStrike">
              <a:solidFill>
                <a:srgbClr val="eaeaea"/>
              </a:solidFill>
              <a:latin typeface="Times New Roman Cy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Calibri"/>
              </a:rPr>
              <a:t>Пелых Валерия Николаевна</a:t>
            </a:r>
            <a:endParaRPr b="0" lang="en-US" sz="12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Три великих царства в Западной Ази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2960" y="4429080"/>
            <a:ext cx="8501040" cy="1857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востоку  от Лидии находилос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ретье царство – Мид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Ее территория была обширна, но жившие здесь население не всегда подчинялись мадийскому  цар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Picture 2" descr="https://trojden.com/books/world-history/world-history-5-class-vigasin-2015/world-history-5-class-vigasin-2015.files/image119.jpg"/>
          <p:cNvPicPr/>
          <p:nvPr/>
        </p:nvPicPr>
        <p:blipFill>
          <a:blip r:embed="rId2"/>
          <a:srcRect l="2971" t="7559" r="-60" b="7426"/>
          <a:stretch/>
        </p:blipFill>
        <p:spPr>
          <a:xfrm>
            <a:off x="1000080" y="1143000"/>
            <a:ext cx="7000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004"/>
          <p:cNvPicPr/>
          <p:nvPr/>
        </p:nvPicPr>
        <p:blipFill>
          <a:blip r:embed="rId1"/>
          <a:stretch/>
        </p:blipFill>
        <p:spPr>
          <a:xfrm>
            <a:off x="539640" y="1052640"/>
            <a:ext cx="8064720" cy="5135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2. Завоевания персов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7143840" y="3571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 Cyr"/>
              </a:rPr>
              <a:t>Стр. 92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71320" y="1071360"/>
            <a:ext cx="8064360" cy="5111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ир – первый персидский цар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50 г. до н. э. – восстание персов против мидийкого царя и завоевание Миди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47 г. до н. э. – поражение лидийского царя Креза и завоевание персами Лиди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38 г. до н. э. – захват Вавилона персам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25 г. до н. э. – захвати Египта персам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рий первый – царь Перси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сеполь – столица Персидской держав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2. Завоевания персов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355640" y="1125000"/>
            <a:ext cx="4248360" cy="5038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амым могущественным правителем Персии был Дарий Первы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Окруживший себя тайными осведомителями, которые назывались «глаза и уши царя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55640" y="6165720"/>
            <a:ext cx="304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атуя Дария I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 Персидская держава при Дарии Первом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Picture 6" descr="0c23b78bf9b2505ad551c697bfb77e0f"/>
          <p:cNvPicPr/>
          <p:nvPr/>
        </p:nvPicPr>
        <p:blipFill>
          <a:blip r:embed="rId2"/>
          <a:stretch/>
        </p:blipFill>
        <p:spPr>
          <a:xfrm>
            <a:off x="755640" y="1125360"/>
            <a:ext cx="279576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71320" y="4214520"/>
            <a:ext cx="8032680" cy="1949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пнейшие города державы были соединены широкой дорогой, которой называл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арск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 ней каждые 20-30 километров были расставлены посты с лошадьми и людьми, готовыми немедленно отправиться в пу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 Персидская держава при Дарии Первом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5" name="Picture 2" descr="https://trojden.com/books/world-history/world-history-5-class-vigasin-2015/world-history-5-class-vigasin-2015.files/image119.jpg"/>
          <p:cNvPicPr/>
          <p:nvPr/>
        </p:nvPicPr>
        <p:blipFill>
          <a:blip r:embed="rId2"/>
          <a:srcRect l="2971" t="7559" r="-60" b="7426"/>
          <a:stretch/>
        </p:blipFill>
        <p:spPr>
          <a:xfrm>
            <a:off x="1214280" y="1000080"/>
            <a:ext cx="7000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71320" y="4214520"/>
            <a:ext cx="8032680" cy="1949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е завоеванных стран платило налоги. Египет и Вавилония должны были  поставлять в царскую казну десятки тонн  серебра. Огромные средства уходили на строительство дворцов в Персеполе и в других города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 Персидская держава при Дарии Первом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8" name="Picture 2" descr="https://trojden.com/books/world-history/world-history-5-class-vigasin-2015/world-history-5-class-vigasin-2015.files/image119.jpg"/>
          <p:cNvPicPr/>
          <p:nvPr/>
        </p:nvPicPr>
        <p:blipFill>
          <a:blip r:embed="rId2"/>
          <a:srcRect l="2971" t="7559" r="-60" b="7426"/>
          <a:stretch/>
        </p:blipFill>
        <p:spPr>
          <a:xfrm>
            <a:off x="1214280" y="1000080"/>
            <a:ext cx="7000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99640" y="2565360"/>
            <a:ext cx="7704360" cy="2735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§19 , записи в тетради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Домашнее задание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Цель урока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918560" cy="475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Способствовать формированию понятия «империя, развитию умения выделять характерные черты Персии как самой большой и державы Древнего Востока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Создать условия для рассмотрения процесса складывания Персидской державы, выделения факторов, способствующих возвышению и расцвету Персидской державы, эффективному управлению огромным государствам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лан урока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918560" cy="475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и великих царства в Западной Азии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воевания персов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сидская держава при Дарии Первом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85480"/>
            <a:ext cx="845820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Три великих царства в Западной Ази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00760" y="1341000"/>
            <a:ext cx="3892320" cy="5327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 fontScale="78000"/>
          </a:bodyPr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 гибели ассирийской державы все Двуречье покорилось вавилонскому царю.  Ассирия- покорилась вавилонскому царю, который становится самым большим и знаменитым городом в Западной Ази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725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826920" y="5373720"/>
            <a:ext cx="3745080" cy="503280"/>
          </a:xfrm>
          <a:prstGeom prst="rect">
            <a:avLst/>
          </a:prstGeom>
          <a:solidFill>
            <a:srgbClr val="ffcc99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Город Вавилон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12" name="Picture 9" descr="scr_090521-A-9197F-0935a"/>
          <p:cNvPicPr/>
          <p:nvPr/>
        </p:nvPicPr>
        <p:blipFill>
          <a:blip r:embed="rId2"/>
          <a:stretch/>
        </p:blipFill>
        <p:spPr>
          <a:xfrm>
            <a:off x="468360" y="1631880"/>
            <a:ext cx="43210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Три великих царства в Западной Ази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32360" y="1341000"/>
            <a:ext cx="3960720" cy="5327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сирия- покорилась вавилонскому царю, который становится самым большим и знаменитым городом в Западной Ази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826920" y="5373720"/>
            <a:ext cx="3745080" cy="503280"/>
          </a:xfrm>
          <a:prstGeom prst="rect">
            <a:avLst/>
          </a:prstGeom>
          <a:solidFill>
            <a:srgbClr val="ffcc99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Город Вавилон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16" name="Picture 9" descr="scr_090521-A-9197F-0935a"/>
          <p:cNvPicPr/>
          <p:nvPr/>
        </p:nvPicPr>
        <p:blipFill>
          <a:blip r:embed="rId2"/>
          <a:stretch/>
        </p:blipFill>
        <p:spPr>
          <a:xfrm>
            <a:off x="468360" y="1631880"/>
            <a:ext cx="43210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" descr="87424026_large_4826654_0_65441_c0f84d9b_XL"/>
          <p:cNvPicPr/>
          <p:nvPr/>
        </p:nvPicPr>
        <p:blipFill>
          <a:blip r:embed="rId1"/>
          <a:stretch/>
        </p:blipFill>
        <p:spPr>
          <a:xfrm>
            <a:off x="539640" y="1657440"/>
            <a:ext cx="4176720" cy="3543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Три великих царства в Западной Ази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32360" y="1341000"/>
            <a:ext cx="3960720" cy="5327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упцы привозили сюда товар. Обнесённый мощными стенами, он казался неприступной крепостью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826920" y="5373720"/>
            <a:ext cx="3745080" cy="503280"/>
          </a:xfrm>
          <a:prstGeom prst="rect">
            <a:avLst/>
          </a:prstGeom>
          <a:solidFill>
            <a:srgbClr val="ffcc99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Город Вавилон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Три великих царства в Западной Ази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2960" y="4429080"/>
            <a:ext cx="8501040" cy="1857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авилонское царство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ло почти таким же огромным, как прежде Ассирия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2" descr="https://trojden.com/books/world-history/world-history-5-class-vigasin-2015/world-history-5-class-vigasin-2015.files/image119.jpg"/>
          <p:cNvPicPr/>
          <p:nvPr/>
        </p:nvPicPr>
        <p:blipFill>
          <a:blip r:embed="rId2"/>
          <a:srcRect l="2971" t="7559" r="-60" b="7426"/>
          <a:stretch/>
        </p:blipFill>
        <p:spPr>
          <a:xfrm>
            <a:off x="1000080" y="1143000"/>
            <a:ext cx="7000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Три великих царства в Западной Ази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2960" y="4429080"/>
            <a:ext cx="8501040" cy="1857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западной части полуострова Малая Азия располагалос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идийское цар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На берегах рек Азии можно было найти крупицы золот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 Именно в Лидии в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веке до н.э начали чеканить первую в мире монету из сплава золота с серебро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Picture 2" descr="https://trojden.com/books/world-history/world-history-5-class-vigasin-2015/world-history-5-class-vigasin-2015.files/image119.jpg"/>
          <p:cNvPicPr/>
          <p:nvPr/>
        </p:nvPicPr>
        <p:blipFill>
          <a:blip r:embed="rId2"/>
          <a:srcRect l="2971" t="7559" r="-60" b="7426"/>
          <a:stretch/>
        </p:blipFill>
        <p:spPr>
          <a:xfrm>
            <a:off x="1000080" y="1143000"/>
            <a:ext cx="7000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Три великих царства в Западной Ази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88000" y="1125360"/>
            <a:ext cx="4176720" cy="532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гатство лидийского царя Креза вошло в поговорку. Он был самым богатым царём того времени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1280" y="5950080"/>
            <a:ext cx="3744720" cy="503280"/>
          </a:xfrm>
          <a:prstGeom prst="rect">
            <a:avLst/>
          </a:prstGeom>
          <a:solidFill>
            <a:srgbClr val="ffcc99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Царь Крез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30" name="Picture 7" descr="Claude+Vignon+-+Croesus+Receiving+Tribute+from+a+Lydian+Peasant+_1629_"/>
          <p:cNvPicPr/>
          <p:nvPr/>
        </p:nvPicPr>
        <p:blipFill>
          <a:blip r:embed="rId2"/>
          <a:stretch/>
        </p:blipFill>
        <p:spPr>
          <a:xfrm>
            <a:off x="755640" y="1109520"/>
            <a:ext cx="368460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7T22:49:56Z</dcterms:created>
  <dc:creator>Admin</dc:creator>
  <dc:description/>
  <dc:language>en-US</dc:language>
  <cp:lastModifiedBy>ТатьянА</cp:lastModifiedBy>
  <dcterms:modified xsi:type="dcterms:W3CDTF">2019-01-02T14:41:17Z</dcterms:modified>
  <cp:revision>37</cp:revision>
  <dc:subject/>
  <dc:title>Заголовок слайда отсутствует</dc:title>
</cp:coreProperties>
</file>