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E9D9-A322-40E3-9A5A-F35D576146CB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7789-1D37-43EA-A16E-D9B1F03B6A66}" type="slidenum">
              <a:rPr b="0" i="1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07C-12CB-4F66-9B6B-704E3057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42C-E3FA-4422-9B8A-81CB5675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009-00B0-469E-BBFC-7CA91AA0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809-84B9-41A3-AB81-CEDC2B1D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9990-8BAB-44B5-AB16-E3B5E77F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98B3-40A7-44CA-A86B-1070B031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B71F-1DBC-4119-8496-405D48DB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FDE6-4BFB-4393-B5F5-CDF68D6A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BD5E-637F-491E-9DED-01CDCBA2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E79C-FC06-489E-814C-076CD69D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634F-9606-4217-A506-34854637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9F8-CB48-40FD-9757-7ECA0597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C36A-8522-4AEB-AF74-3E1DEA26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8826-4536-4714-92AA-357CBB43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52A8-57D6-4686-991E-452CFB15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D3B5-EE02-4A68-9E50-87184415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BCE3-C89D-40B0-A4E4-79376CE1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294-6B0E-429A-9F51-06F335BD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A56-97AE-4B95-A591-72D9CEA5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EBC-4B27-4542-AAE5-7DF3A463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685-5E3C-47F4-98A7-8A3F6D7D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8F1-6FCE-4FAD-82BB-B87D926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FA7-5860-460E-AA62-8CA8BDAE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E15-D4A8-47EF-82DD-94DDE463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840D-8C93-41DA-99F1-8F91113F86C3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650-3757-4884-AA93-150C80B9E236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3880" y="-1643400"/>
            <a:ext cx="777420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00"/>
                </a:solidFill>
                <a:uFillTx/>
                <a:latin typeface="Times New Roman"/>
              </a:rPr>
              <a:t>Древний Китай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071960" y="55029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Пелых Валерия Николаевна</a:t>
            </a:r>
            <a:r>
              <a:rPr b="0" lang="ru-RU" sz="1100" spc="-1" strike="noStrike">
                <a:solidFill>
                  <a:srgbClr val="eaeaea"/>
                </a:solidFill>
                <a:latin typeface="Times New Roman Cyr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Круглые террасы алтаря и синие крыши храмов символизировали </a:t>
            </a:r>
            <a:r>
              <a:rPr b="0" lang="ru-RU" sz="2800" spc="-1" strike="noStrike">
                <a:solidFill>
                  <a:srgbClr val="00b0f0"/>
                </a:solidFill>
                <a:latin typeface="Comic Sans MS"/>
              </a:rPr>
              <a:t>небо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квадратная в плане территория ансамбля – </a:t>
            </a:r>
            <a:r>
              <a:rPr b="0" lang="ru-RU" sz="2800" spc="-1" strike="noStrike">
                <a:solidFill>
                  <a:srgbClr val="00b0f0"/>
                </a:solidFill>
                <a:latin typeface="Comic Sans MS"/>
              </a:rPr>
              <a:t>землю.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1212274567_i-707"/>
          <p:cNvPicPr/>
          <p:nvPr/>
        </p:nvPicPr>
        <p:blipFill>
          <a:blip r:embed="rId1"/>
          <a:stretch/>
        </p:blipFill>
        <p:spPr>
          <a:xfrm>
            <a:off x="228600" y="2133720"/>
            <a:ext cx="4000680" cy="396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1200-23"/>
          <p:cNvPicPr/>
          <p:nvPr/>
        </p:nvPicPr>
        <p:blipFill>
          <a:blip r:embed="rId2"/>
          <a:stretch/>
        </p:blipFill>
        <p:spPr>
          <a:xfrm>
            <a:off x="4419720" y="236232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7120" y="35676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Единственное здание, которое всегда стояло отдельно на окраине селения – это сторожевая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  <a:ea typeface="Aharoni"/>
              </a:rPr>
              <a:t>башня-пагода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защита от внешнего враг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защита от злых дух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Aharoni"/>
              </a:rPr>
              <a:t>в виде пагод строили храм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9" descr="1248932672_50"/>
          <p:cNvPicPr/>
          <p:nvPr/>
        </p:nvPicPr>
        <p:blipFill>
          <a:blip r:embed="rId1"/>
          <a:stretch/>
        </p:blipFill>
        <p:spPr>
          <a:xfrm>
            <a:off x="4419720" y="228600"/>
            <a:ext cx="4267080" cy="32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hina11"/>
          <p:cNvPicPr/>
          <p:nvPr/>
        </p:nvPicPr>
        <p:blipFill>
          <a:blip r:embed="rId2"/>
          <a:stretch/>
        </p:blipFill>
        <p:spPr>
          <a:xfrm>
            <a:off x="4419720" y="3505320"/>
            <a:ext cx="4267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2854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Храмы Пекина располагались большими комплексами.</a:t>
            </a: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5800" y="24382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143680" y="71424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Храмовый ансамбль </a:t>
            </a:r>
            <a:r>
              <a:rPr b="0" lang="ru-RU" sz="2400" spc="-1" strike="noStrike">
                <a:solidFill>
                  <a:srgbClr val="ffff00"/>
                </a:solidFill>
                <a:latin typeface="Times New Roman Cyr"/>
              </a:rPr>
              <a:t>Тяньтань </a:t>
            </a:r>
            <a:r>
              <a:rPr b="1" lang="ru-RU" sz="2400" spc="-1" strike="noStrike">
                <a:solidFill>
                  <a:srgbClr val="ffff00"/>
                </a:solidFill>
                <a:latin typeface="Times New Roman Cyr"/>
              </a:rPr>
              <a:t>(«Храм неба»</a:t>
            </a:r>
            <a:r>
              <a:rPr b="1" lang="ru-RU" sz="2400" spc="-1" strike="noStrike">
                <a:solidFill>
                  <a:srgbClr val="ffffff"/>
                </a:solidFill>
                <a:latin typeface="Times New Roman Cyr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 был связан с древнейшими религиозными обрядами китайцев, почитавших небо и землю как дарителей урожая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42" name="Picture 10" descr="85"/>
          <p:cNvPicPr/>
          <p:nvPr/>
        </p:nvPicPr>
        <p:blipFill>
          <a:blip r:embed="rId1"/>
          <a:stretch/>
        </p:blipFill>
        <p:spPr>
          <a:xfrm>
            <a:off x="500040" y="928800"/>
            <a:ext cx="4405320" cy="4173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8028328"/>
          <p:cNvPicPr/>
          <p:nvPr/>
        </p:nvPicPr>
        <p:blipFill>
          <a:blip r:embed="rId2"/>
          <a:stretch/>
        </p:blipFill>
        <p:spPr>
          <a:xfrm>
            <a:off x="5286240" y="4214880"/>
            <a:ext cx="32004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788000" y="1341360"/>
            <a:ext cx="4032000" cy="446400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ена Конфуция писали на узеньких дощечках из расщеплённого бамбука. Тонкую кисточку или палочку обмакивали в чёрную тушь и наносили иероглифы сверху вниз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96720" y="333360"/>
            <a:ext cx="835056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3. Мудрость – в знании старинных книг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Picture 12" descr="drm5-171"/>
          <p:cNvPicPr/>
          <p:nvPr/>
        </p:nvPicPr>
        <p:blipFill>
          <a:blip r:embed="rId1"/>
          <a:stretch/>
        </p:blipFill>
        <p:spPr>
          <a:xfrm>
            <a:off x="468360" y="1197000"/>
            <a:ext cx="3959280" cy="54007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352000" cy="561636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людение традиций и устоявшихся порядков в общест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ажение старин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общение к мудрости древни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итание и уважение старши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ие манеры - признак воспитанного челове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м должен быть поряд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дрый правитель, опираясь на обычаи и традиции, во всем служит примером, жестокость чужда ем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анные должны уважать правителя как отца, а правитель –относиться к подданным как к своим детя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4. Как должны вести себя учтивые китайцы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14200" y="42876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Великая китайская стена</a:t>
            </a: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Comic Sans MS"/>
              </a:rPr>
              <a:t>(протяженность более 3000 км). Стена имеет в ширину от 5 до 8 метров, а в высоту от 5 до 10 метров. Стена сначала была собрана из утрамбованного леса и камыша, затем её облицевали кирпичом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Picture 10" descr="Mutianyu"/>
          <p:cNvPicPr/>
          <p:nvPr/>
        </p:nvPicPr>
        <p:blipFill>
          <a:blip r:embed="rId1"/>
          <a:stretch/>
        </p:blipFill>
        <p:spPr>
          <a:xfrm>
            <a:off x="428760" y="3786120"/>
            <a:ext cx="4038480" cy="2638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44_Mutianyu"/>
          <p:cNvPicPr/>
          <p:nvPr/>
        </p:nvPicPr>
        <p:blipFill>
          <a:blip r:embed="rId2"/>
          <a:stretch/>
        </p:blipFill>
        <p:spPr>
          <a:xfrm>
            <a:off x="4419720" y="152280"/>
            <a:ext cx="4537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граф 22, запис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62920" cy="811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760018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cc66"/>
                </a:solidFill>
                <a:uFillTx/>
                <a:latin typeface="Times New Roman"/>
              </a:rPr>
              <a:t>План урока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99"/>
          </a:solidFill>
          <a:ln w="4428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Страна, где жили китайцы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Высшая добродетель – уважение к старшим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Мудрость – в знании старинных книг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должны вести себя учтивые китайцы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428760" y="857160"/>
            <a:ext cx="8429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В Индии и Китае первые государства возникли в древности, хотя и позже, чем Египет и Двуречье. 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III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в. до н.э все индийские царства объединил под своей властью Ашока.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III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в. до н.э первым властителем Китая стал Цинь Шихуан.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280360" cy="755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1. Страна, где жили китайцы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85840" y="928440"/>
            <a:ext cx="4032360" cy="526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итай находится в Восточной Азии. Главные реки – Хуанхэ и Янцзы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ервом тысячелетии до н.э  китайцы  расселились по всей Великой Китайской равнине, где возникло несколько государст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9" descr="0003-002-Srednevekovyj-Kitaj"/>
          <p:cNvPicPr/>
          <p:nvPr/>
        </p:nvPicPr>
        <p:blipFill>
          <a:blip r:embed="rId2"/>
          <a:stretch/>
        </p:blipFill>
        <p:spPr>
          <a:xfrm>
            <a:off x="571680" y="1192320"/>
            <a:ext cx="4138560" cy="461304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932000" y="1125360"/>
            <a:ext cx="3994200" cy="5616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рхеологические находки подтверждают, что жители Великой Китайской равнин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нималис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земледелием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скотоводством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ремёслами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сталкиваясь с немалыми трудностями.</a:t>
            </a: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7" descr="big_544"/>
          <p:cNvPicPr/>
          <p:nvPr/>
        </p:nvPicPr>
        <p:blipFill>
          <a:blip r:embed="rId2"/>
          <a:stretch/>
        </p:blipFill>
        <p:spPr>
          <a:xfrm>
            <a:off x="395280" y="1052640"/>
            <a:ext cx="4371840" cy="561636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  <p:sp>
        <p:nvSpPr>
          <p:cNvPr id="120" name="Rectangle 2"/>
          <p:cNvSpPr/>
          <p:nvPr/>
        </p:nvSpPr>
        <p:spPr>
          <a:xfrm>
            <a:off x="468360" y="152280"/>
            <a:ext cx="8280360" cy="755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1. Страна, где жили китайцы.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95280" y="6165720"/>
            <a:ext cx="4321080" cy="503280"/>
          </a:xfrm>
          <a:prstGeom prst="rect">
            <a:avLst/>
          </a:prstGeom>
          <a:solidFill>
            <a:srgbClr val="ffffff"/>
          </a:solidFill>
          <a:ln w="414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Великая китайская стена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88000" y="1557000"/>
            <a:ext cx="4176720" cy="511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емье младшие братья должны оказывать знаки уважения старшим, дети – родителям. А старшим следует относиться к младшим с отеческим вниманием и забот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8" descr="kitayskiy-mudrets"/>
          <p:cNvPicPr/>
          <p:nvPr/>
        </p:nvPicPr>
        <p:blipFill>
          <a:blip r:embed="rId1"/>
          <a:stretch/>
        </p:blipFill>
        <p:spPr>
          <a:xfrm>
            <a:off x="324000" y="1557360"/>
            <a:ext cx="4098600" cy="4751280"/>
          </a:xfrm>
          <a:prstGeom prst="rect">
            <a:avLst/>
          </a:prstGeom>
          <a:ln w="41400">
            <a:solidFill>
              <a:srgbClr val="ffcc66"/>
            </a:solidFill>
            <a:miter/>
          </a:ln>
        </p:spPr>
      </p:pic>
      <p:sp>
        <p:nvSpPr>
          <p:cNvPr id="124" name="Rectangle 2"/>
          <p:cNvSpPr/>
          <p:nvPr/>
        </p:nvSpPr>
        <p:spPr>
          <a:xfrm>
            <a:off x="468360" y="152280"/>
            <a:ext cx="8351640" cy="111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2. Высшая добродетель- уважение к старшим</a:t>
            </a:r>
            <a:endParaRPr b="0" lang="en-US" sz="32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0" y="1915920"/>
            <a:ext cx="3960720" cy="3671640"/>
          </a:xfrm>
          <a:prstGeom prst="rect">
            <a:avLst/>
          </a:prstGeom>
          <a:solidFill>
            <a:srgbClr val="ffff99"/>
          </a:solidFill>
          <a:ln w="3816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окойных родителей и более отдалённых предков китайцы почитали как могучих и добрых покровител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8" descr="4d1c3ac4aade6da65c7c168b6ea45016"/>
          <p:cNvPicPr/>
          <p:nvPr/>
        </p:nvPicPr>
        <p:blipFill>
          <a:blip r:embed="rId1"/>
          <a:stretch/>
        </p:blipFill>
        <p:spPr>
          <a:xfrm>
            <a:off x="395280" y="1700280"/>
            <a:ext cx="3960720" cy="4176720"/>
          </a:xfrm>
          <a:prstGeom prst="rect">
            <a:avLst/>
          </a:prstGeom>
          <a:ln w="47520">
            <a:solidFill>
              <a:srgbClr val="ffcc66"/>
            </a:solidFill>
            <a:miter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96720" y="333360"/>
            <a:ext cx="835056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2. Высшая добродетель- уважение к старшим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56000" y="1413000"/>
            <a:ext cx="4392720" cy="4465440"/>
          </a:xfrm>
          <a:prstGeom prst="rect">
            <a:avLst/>
          </a:prstGeom>
          <a:solidFill>
            <a:srgbClr val="ffff99"/>
          </a:solidFill>
          <a:ln w="34920">
            <a:solidFill>
              <a:srgbClr val="9966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и другие народы, верили они в сверхъестественные существа: в богов, духов, чудовищ, крылатых змеев – драконов. Но самым высшим существом для них было Неб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8" descr="0b34d84ce267f67af61682ed9de08c1c"/>
          <p:cNvPicPr/>
          <p:nvPr/>
        </p:nvPicPr>
        <p:blipFill>
          <a:blip r:embed="rId1"/>
          <a:stretch/>
        </p:blipFill>
        <p:spPr>
          <a:xfrm>
            <a:off x="395280" y="1197000"/>
            <a:ext cx="3578400" cy="5124600"/>
          </a:xfrm>
          <a:prstGeom prst="rect">
            <a:avLst/>
          </a:prstGeom>
          <a:ln w="50760">
            <a:solidFill>
              <a:srgbClr val="ffcc66"/>
            </a:solidFill>
            <a:miter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96720" y="333360"/>
            <a:ext cx="835056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2. Высшая добродетель- уважение к старшим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500040" y="1143000"/>
            <a:ext cx="47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Дракон – культурный символ китайского народа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5286240" y="642960"/>
            <a:ext cx="323388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7T22:49:56Z</dcterms:created>
  <dc:creator>Admin</dc:creator>
  <dc:description/>
  <dc:language>en-US</dc:language>
  <cp:lastModifiedBy>ТатьянА</cp:lastModifiedBy>
  <dcterms:modified xsi:type="dcterms:W3CDTF">2019-01-02T15:27:02Z</dcterms:modified>
  <cp:revision>30</cp:revision>
  <dc:subject/>
  <dc:title>Заголовок слайда отсутствует</dc:title>
</cp:coreProperties>
</file>