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BC0D-4512-410B-800A-E729C18076BC}" type="slidenum"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81A3-6868-4B2E-932F-7D9EBF7D8E4A}" type="slidenum">
              <a:rPr b="0" i="1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Times New Roman Cyr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A51E-9653-42F0-9F57-795F7FA44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D2F0-6206-4D60-9EFE-7A847FA3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58E8-CA20-49F5-8F4A-EFF00E45F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C875-8F55-4CF3-9CEA-F453D79C5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00EF6-128A-4C73-B6D6-AAB3965BC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4915-50C8-4E4C-87EB-42D71BE8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9848-E735-4612-B03A-1CAED16D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6C21A-A498-4782-85AF-F8E52E01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A415-2301-48F6-A4A2-DB72E5EC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62B3-1ED3-4EE7-B557-2D584A46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E950-8AAF-4682-A2F1-7516050F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4181-4520-47A4-9B98-CC68954C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55F87-C7E8-4EBA-A92E-44779FA2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8E62-A44C-44F3-A68D-40D11572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5126-28DD-410D-AA0A-0ED92959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E9DB-5457-4289-AF3C-F41A5E6C7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5D86-43F2-4765-92E4-B410F7E96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8DCF-3311-41EC-A6F5-35573696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65EF-63DC-4980-9BFC-EF8248762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99D6-42DB-4E81-B4CD-A877E313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4565-F5E7-40FE-AD10-FCDA24D1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A692-E5E0-4C65-B2D3-5654EF9A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53B5-A23B-4F3A-A41D-C14B8A60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ED71-8453-45A4-AC6B-EBC39E1F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Rectangle 2"/>
            <p:cNvSpPr/>
            <p:nvPr/>
          </p:nvSpPr>
          <p:spPr>
            <a:xfrm>
              <a:off x="0" y="0"/>
              <a:ext cx="455760" cy="68565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8686800" y="0"/>
              <a:ext cx="45576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966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sp>
          <p:nvSpPr>
            <p:cNvPr id="3" name="AutoShape 4"/>
            <p:cNvSpPr/>
            <p:nvPr/>
          </p:nvSpPr>
          <p:spPr>
            <a:xfrm flipH="1" flipV="1" rot="10800000">
              <a:off x="0" y="0"/>
              <a:ext cx="9142560" cy="380880"/>
            </a:xfrm>
            <a:prstGeom prst="pie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 flipV="1">
              <a:off x="0" y="6324480"/>
              <a:ext cx="9142560" cy="5320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457200" y="304920"/>
              <a:ext cx="8229600" cy="6019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cc996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80D5-47E2-4188-AF86-256B7F3D717E}" type="slidenum">
              <a:rPr b="0" i="1" lang="ru-RU" sz="1400" spc="-1" strike="noStrike">
                <a:solidFill>
                  <a:srgbClr val="cc996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6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8" name="Rectangle 2"/>
            <p:cNvSpPr/>
            <p:nvPr/>
          </p:nvSpPr>
          <p:spPr>
            <a:xfrm>
              <a:off x="0" y="0"/>
              <a:ext cx="455760" cy="68565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sp>
          <p:nvSpPr>
            <p:cNvPr id="49" name="Rectangle 3"/>
            <p:cNvSpPr/>
            <p:nvPr/>
          </p:nvSpPr>
          <p:spPr>
            <a:xfrm>
              <a:off x="8686800" y="0"/>
              <a:ext cx="45576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966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 flipH="1" flipV="1" rot="10800000">
              <a:off x="0" y="0"/>
              <a:ext cx="9142560" cy="380880"/>
            </a:xfrm>
            <a:prstGeom prst="pie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sp>
          <p:nvSpPr>
            <p:cNvPr id="51" name="AutoShape 5"/>
            <p:cNvSpPr/>
            <p:nvPr/>
          </p:nvSpPr>
          <p:spPr>
            <a:xfrm flipV="1">
              <a:off x="0" y="6324480"/>
              <a:ext cx="9142560" cy="5320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sp>
          <p:nvSpPr>
            <p:cNvPr id="52" name="Rectangle 6"/>
            <p:cNvSpPr/>
            <p:nvPr/>
          </p:nvSpPr>
          <p:spPr>
            <a:xfrm>
              <a:off x="457200" y="304920"/>
              <a:ext cx="8229600" cy="6019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grpSp>
          <p:nvGrpSpPr>
            <p:cNvPr id="53" name="Group 15"/>
            <p:cNvGrpSpPr/>
            <p:nvPr/>
          </p:nvGrpSpPr>
          <p:grpSpPr>
            <a:xfrm>
              <a:off x="609480" y="3324240"/>
              <a:ext cx="8001000" cy="374760"/>
              <a:chOff x="609480" y="3324240"/>
              <a:chExt cx="8001000" cy="37476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609480" y="3470400"/>
                <a:ext cx="8001000" cy="228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 Cyr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615960" y="3324240"/>
                <a:ext cx="7843680" cy="277920"/>
              </a:xfrm>
              <a:prstGeom prst="rect">
                <a:avLst/>
              </a:prstGeom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2700000"/>
              </a:gradFill>
              <a:ln w="12600">
                <a:solidFill>
                  <a:srgbClr val="cc99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 Cyr"/>
                </a:endParaRPr>
              </a:p>
            </p:txBody>
          </p:sp>
          <p:sp>
            <p:nvSpPr>
              <p:cNvPr id="56" name="Line 9"/>
              <p:cNvSpPr/>
              <p:nvPr/>
            </p:nvSpPr>
            <p:spPr>
              <a:xfrm>
                <a:off x="622440" y="3394080"/>
                <a:ext cx="7840440" cy="0"/>
              </a:xfrm>
              <a:prstGeom prst="line">
                <a:avLst/>
              </a:prstGeom>
              <a:ln w="12600">
                <a:solidFill>
                  <a:srgbClr val="cc99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 Cyr"/>
                </a:endParaRPr>
              </a:p>
            </p:txBody>
          </p:sp>
          <p:sp>
            <p:nvSpPr>
              <p:cNvPr id="57" name="Line 10"/>
              <p:cNvSpPr/>
              <p:nvPr/>
            </p:nvSpPr>
            <p:spPr>
              <a:xfrm>
                <a:off x="622440" y="3470400"/>
                <a:ext cx="7840440" cy="0"/>
              </a:xfrm>
              <a:prstGeom prst="line">
                <a:avLst/>
              </a:prstGeom>
              <a:ln w="12600">
                <a:solidFill>
                  <a:srgbClr val="cc99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 Cyr"/>
                </a:endParaRPr>
              </a:p>
            </p:txBody>
          </p:sp>
          <p:sp>
            <p:nvSpPr>
              <p:cNvPr id="58" name="Line 11"/>
              <p:cNvSpPr/>
              <p:nvPr/>
            </p:nvSpPr>
            <p:spPr>
              <a:xfrm>
                <a:off x="622440" y="3546360"/>
                <a:ext cx="7840440" cy="0"/>
              </a:xfrm>
              <a:prstGeom prst="line">
                <a:avLst/>
              </a:prstGeom>
              <a:ln w="12600">
                <a:solidFill>
                  <a:srgbClr val="cc99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 Cyr"/>
                </a:endParaRPr>
              </a:p>
            </p:txBody>
          </p:sp>
          <p:sp>
            <p:nvSpPr>
              <p:cNvPr id="59" name="Line 12"/>
              <p:cNvSpPr/>
              <p:nvPr/>
            </p:nvSpPr>
            <p:spPr>
              <a:xfrm>
                <a:off x="622440" y="3379680"/>
                <a:ext cx="784044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 Cyr"/>
                </a:endParaRPr>
              </a:p>
            </p:txBody>
          </p:sp>
          <p:sp>
            <p:nvSpPr>
              <p:cNvPr id="60" name="Line 13"/>
              <p:cNvSpPr/>
              <p:nvPr/>
            </p:nvSpPr>
            <p:spPr>
              <a:xfrm>
                <a:off x="622440" y="3456000"/>
                <a:ext cx="784044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 Cyr"/>
                </a:endParaRPr>
              </a:p>
            </p:txBody>
          </p:sp>
          <p:sp>
            <p:nvSpPr>
              <p:cNvPr id="61" name="Line 14"/>
              <p:cNvSpPr/>
              <p:nvPr/>
            </p:nvSpPr>
            <p:spPr>
              <a:xfrm>
                <a:off x="622440" y="3532320"/>
                <a:ext cx="784044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cc996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059C-3D90-4300-A03F-65A572764249}" type="slidenum">
              <a:rPr b="0" i="1" lang="ru-RU" sz="1400" spc="-1" strike="noStrike">
                <a:solidFill>
                  <a:srgbClr val="cc996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13880" y="-1643400"/>
            <a:ext cx="777420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 u="sng">
                <a:solidFill>
                  <a:srgbClr val="ffff00"/>
                </a:solidFill>
                <a:uFillTx/>
                <a:latin typeface="Times New Roman"/>
              </a:rPr>
              <a:t>Древний Китай</a:t>
            </a:r>
            <a:endParaRPr b="0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4071960" y="5502960"/>
            <a:ext cx="45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Times New Roman"/>
                <a:ea typeface="Calibri"/>
              </a:rPr>
              <a:t>Учитель истории МАОУСОШ № 2 им. Ю.А. Гагарина</a:t>
            </a:r>
            <a:endParaRPr b="0" lang="en-US" sz="1200" spc="-1" strike="noStrike">
              <a:solidFill>
                <a:srgbClr val="eaeaea"/>
              </a:solidFill>
              <a:latin typeface="Times New Roman Cyr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Times New Roman"/>
                <a:ea typeface="Calibri"/>
              </a:rPr>
              <a:t>муниципального образования Успенский район</a:t>
            </a:r>
            <a:endParaRPr b="0" lang="en-US" sz="1200" spc="-1" strike="noStrike">
              <a:solidFill>
                <a:srgbClr val="eaeaea"/>
              </a:solidFill>
              <a:latin typeface="Times New Roman Cyr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Times New Roman"/>
                <a:ea typeface="Calibri"/>
              </a:rPr>
              <a:t>Пелых Валерия Николаевна</a:t>
            </a:r>
            <a:r>
              <a:rPr b="0" lang="ru-RU" sz="1100" spc="-1" strike="noStrike">
                <a:solidFill>
                  <a:srgbClr val="eaeaea"/>
                </a:solidFill>
                <a:latin typeface="Times New Roman Cyr"/>
              </a:rPr>
              <a:t> </a:t>
            </a:r>
            <a:endParaRPr b="0" lang="en-US" sz="1100" spc="-1" strike="noStrike">
              <a:solidFill>
                <a:srgbClr val="eaeaea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00040" y="42876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Comic Sans MS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Круглые террасы алтаря и синие крыши храмов символизировали </a:t>
            </a:r>
            <a:r>
              <a:rPr b="0" lang="ru-RU" sz="2800" spc="-1" strike="noStrike">
                <a:solidFill>
                  <a:srgbClr val="00b0f0"/>
                </a:solidFill>
                <a:latin typeface="Comic Sans MS"/>
              </a:rPr>
              <a:t>небо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квадратная в плане территория ансамбля – </a:t>
            </a:r>
            <a:r>
              <a:rPr b="0" lang="ru-RU" sz="2800" spc="-1" strike="noStrike">
                <a:solidFill>
                  <a:srgbClr val="00b0f0"/>
                </a:solidFill>
                <a:latin typeface="Comic Sans MS"/>
              </a:rPr>
              <a:t>землю.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4" name="Picture 4" descr="1212274567_i-707"/>
          <p:cNvPicPr/>
          <p:nvPr/>
        </p:nvPicPr>
        <p:blipFill>
          <a:blip r:embed="rId1"/>
          <a:stretch/>
        </p:blipFill>
        <p:spPr>
          <a:xfrm>
            <a:off x="228600" y="2133720"/>
            <a:ext cx="4000680" cy="3960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p1200-23"/>
          <p:cNvPicPr/>
          <p:nvPr/>
        </p:nvPicPr>
        <p:blipFill>
          <a:blip r:embed="rId2"/>
          <a:stretch/>
        </p:blipFill>
        <p:spPr>
          <a:xfrm>
            <a:off x="4419720" y="2362320"/>
            <a:ext cx="441936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57120" y="356760"/>
            <a:ext cx="4191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Comic Sans MS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  <a:ea typeface="Aharoni"/>
              </a:rPr>
              <a:t>Единственное здание, которое всегда стояло отдельно на окраине селения – это сторожевая </a:t>
            </a:r>
            <a:r>
              <a:rPr b="0" lang="ru-RU" sz="2800" spc="-1" strike="noStrike">
                <a:solidFill>
                  <a:srgbClr val="ffff00"/>
                </a:solidFill>
                <a:latin typeface="Comic Sans MS"/>
                <a:ea typeface="Aharoni"/>
              </a:rPr>
              <a:t>башня-пагода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  <a:ea typeface="Aharoni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  <a:ea typeface="Aharoni"/>
              </a:rPr>
              <a:t>защита от внешнего враг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  <a:ea typeface="Aharoni"/>
              </a:rPr>
              <a:t>защита от злых духов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  <a:ea typeface="Aharoni"/>
              </a:rPr>
              <a:t>в виде пагод строили храм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7" name="Picture 9" descr="1248932672_50"/>
          <p:cNvPicPr/>
          <p:nvPr/>
        </p:nvPicPr>
        <p:blipFill>
          <a:blip r:embed="rId1"/>
          <a:stretch/>
        </p:blipFill>
        <p:spPr>
          <a:xfrm>
            <a:off x="4419720" y="228600"/>
            <a:ext cx="4267080" cy="3203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china11"/>
          <p:cNvPicPr/>
          <p:nvPr/>
        </p:nvPicPr>
        <p:blipFill>
          <a:blip r:embed="rId2"/>
          <a:stretch/>
        </p:blipFill>
        <p:spPr>
          <a:xfrm>
            <a:off x="4419720" y="3505320"/>
            <a:ext cx="426708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2854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Храмы Пекина располагались большими комплексами.</a:t>
            </a: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685800" y="24382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143680" y="714240"/>
            <a:ext cx="3643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 Cyr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 Cyr"/>
              </a:rPr>
              <a:t>Храмовый ансамбль </a:t>
            </a:r>
            <a:r>
              <a:rPr b="0" lang="ru-RU" sz="2400" spc="-1" strike="noStrike">
                <a:solidFill>
                  <a:srgbClr val="ffff00"/>
                </a:solidFill>
                <a:latin typeface="Times New Roman Cyr"/>
              </a:rPr>
              <a:t>Тяньтань </a:t>
            </a:r>
            <a:r>
              <a:rPr b="1" lang="ru-RU" sz="2400" spc="-1" strike="noStrike">
                <a:solidFill>
                  <a:srgbClr val="ffff00"/>
                </a:solidFill>
                <a:latin typeface="Times New Roman Cyr"/>
              </a:rPr>
              <a:t>(«Храм неба»</a:t>
            </a:r>
            <a:r>
              <a:rPr b="1" lang="ru-RU" sz="2400" spc="-1" strike="noStrike">
                <a:solidFill>
                  <a:srgbClr val="ffffff"/>
                </a:solidFill>
                <a:latin typeface="Times New Roman Cyr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Times New Roman Cyr"/>
              </a:rPr>
              <a:t> был связан с древнейшими религиозными обрядами китайцев, почитавших небо и землю как дарителей урожая.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  <p:pic>
        <p:nvPicPr>
          <p:cNvPr id="142" name="Picture 10" descr="85"/>
          <p:cNvPicPr/>
          <p:nvPr/>
        </p:nvPicPr>
        <p:blipFill>
          <a:blip r:embed="rId1"/>
          <a:stretch/>
        </p:blipFill>
        <p:spPr>
          <a:xfrm>
            <a:off x="500040" y="928800"/>
            <a:ext cx="4405320" cy="4173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8028328"/>
          <p:cNvPicPr/>
          <p:nvPr/>
        </p:nvPicPr>
        <p:blipFill>
          <a:blip r:embed="rId2"/>
          <a:stretch/>
        </p:blipFill>
        <p:spPr>
          <a:xfrm>
            <a:off x="5286240" y="4214880"/>
            <a:ext cx="320040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788000" y="1341360"/>
            <a:ext cx="4032000" cy="4464000"/>
          </a:xfrm>
          <a:prstGeom prst="rect">
            <a:avLst/>
          </a:prstGeom>
          <a:solidFill>
            <a:srgbClr val="ffff99"/>
          </a:solidFill>
          <a:ln w="38160">
            <a:solidFill>
              <a:srgbClr val="9966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 времена Конфуция писали на узеньких дощечках из расщеплённого бамбука. Тонкую кисточку или палочку обмакивали в чёрную тушь и наносили иероглифы сверху вниз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396720" y="333360"/>
            <a:ext cx="8350560" cy="7207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3. Мудрость – в знании старинных книг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6" name="Picture 12" descr="drm5-171"/>
          <p:cNvPicPr/>
          <p:nvPr/>
        </p:nvPicPr>
        <p:blipFill>
          <a:blip r:embed="rId1"/>
          <a:stretch/>
        </p:blipFill>
        <p:spPr>
          <a:xfrm>
            <a:off x="468360" y="1197000"/>
            <a:ext cx="3959280" cy="540072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95280" y="1052280"/>
            <a:ext cx="8352000" cy="5616360"/>
          </a:xfrm>
          <a:prstGeom prst="rect">
            <a:avLst/>
          </a:prstGeom>
          <a:solidFill>
            <a:srgbClr val="ffff99"/>
          </a:solidFill>
          <a:ln w="38160">
            <a:solidFill>
              <a:srgbClr val="9966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блюдение традиций и устоявшихся порядков в обществ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важение старин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общение к мудрости древних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читание и уважение старших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орошие манеры - признак воспитанного человек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 всем должен быть порядок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удрый правитель, опираясь на обычаи и традиции, во всем служит примером, жестокость чужда ему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данные должны уважать правителя как отца, а правитель –относиться к подданным как к своим детям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96360" y="188640"/>
            <a:ext cx="8496360" cy="8650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4. Как должны вести себя учтивые китайцы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14200" y="428760"/>
            <a:ext cx="41148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Великая китайская стена</a:t>
            </a: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Comic Sans MS"/>
              </a:rPr>
              <a:t>(протяженность более 3000 км). Стена имеет в ширину от 5 до 8 метров, а в высоту от 5 до 10 метров. Стена сначала была собрана из утрамбованного леса и камыша, затем её облицевали кирпичом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0" name="Picture 10" descr="Mutianyu"/>
          <p:cNvPicPr/>
          <p:nvPr/>
        </p:nvPicPr>
        <p:blipFill>
          <a:blip r:embed="rId1"/>
          <a:stretch/>
        </p:blipFill>
        <p:spPr>
          <a:xfrm>
            <a:off x="428760" y="3786120"/>
            <a:ext cx="4038480" cy="2638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" descr="p44_Mutianyu"/>
          <p:cNvPicPr/>
          <p:nvPr/>
        </p:nvPicPr>
        <p:blipFill>
          <a:blip r:embed="rId2"/>
          <a:stretch/>
        </p:blipFill>
        <p:spPr>
          <a:xfrm>
            <a:off x="4419720" y="152280"/>
            <a:ext cx="45370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solidFill>
            <a:srgbClr val="ffff99"/>
          </a:solidFill>
          <a:ln w="38160">
            <a:solidFill>
              <a:srgbClr val="9966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араграф 22, запис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539280" y="475920"/>
            <a:ext cx="8062920" cy="8110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Домашнее задание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gradFill rotWithShape="0">
            <a:gsLst>
              <a:gs pos="0">
                <a:srgbClr val="ff0033"/>
              </a:gs>
              <a:gs pos="100000">
                <a:srgbClr val="760018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cc66"/>
                </a:solidFill>
                <a:uFillTx/>
                <a:latin typeface="Times New Roman"/>
              </a:rPr>
              <a:t>План урока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solidFill>
            <a:srgbClr val="ffff99"/>
          </a:solidFill>
          <a:ln w="4428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. Страна, где жили китайцы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. Высшая добродетель – уважение к старшим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. Мудрость – в знании старинных книг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. Как должны вести себя учтивые китайцы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428760" y="857160"/>
            <a:ext cx="8429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В Индии и Китае первые государства возникли в древности, хотя и позже, чем Египет и Двуречье. </a:t>
            </a:r>
            <a:endParaRPr b="0" lang="en-US" sz="3200" spc="-1" strike="noStrike">
              <a:solidFill>
                <a:srgbClr val="eaeaea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В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III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 в. до н.э все индийские царства объединил под своей властью Ашока. 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В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III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 в. до н.э первым властителем Китая стал Цинь Шихуан.</a:t>
            </a:r>
            <a:endParaRPr b="0" lang="en-US" sz="3200" spc="-1" strike="noStrike">
              <a:solidFill>
                <a:srgbClr val="eaeaea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151920"/>
            <a:ext cx="8280360" cy="75564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1. Страна, где жили китайцы.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785840" y="928440"/>
            <a:ext cx="4032360" cy="5267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итай находится в Восточной Азии. Главные реки – Хуанхэ и Янцзы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первом тысячелетии до н.э  китайцы  расселились по всей Великой Китайской равнине, где возникло несколько государств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7" name="Picture 9" descr="0003-002-Srednevekovyj-Kitaj"/>
          <p:cNvPicPr/>
          <p:nvPr/>
        </p:nvPicPr>
        <p:blipFill>
          <a:blip r:embed="rId2"/>
          <a:stretch/>
        </p:blipFill>
        <p:spPr>
          <a:xfrm>
            <a:off x="571680" y="1192320"/>
            <a:ext cx="4138560" cy="4613040"/>
          </a:xfrm>
          <a:prstGeom prst="rect">
            <a:avLst/>
          </a:prstGeom>
          <a:ln w="475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932000" y="1125360"/>
            <a:ext cx="3994200" cy="5616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рхеологические находки подтверждают, что жители Великой Китайской равнины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нимались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земледелием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скотоводством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ремёслами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сталкиваясь с немалыми трудностями.</a:t>
            </a:r>
            <a:r>
              <a:rPr b="1" lang="ru-RU" sz="28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9" name="Picture 7" descr="big_544"/>
          <p:cNvPicPr/>
          <p:nvPr/>
        </p:nvPicPr>
        <p:blipFill>
          <a:blip r:embed="rId2"/>
          <a:stretch/>
        </p:blipFill>
        <p:spPr>
          <a:xfrm>
            <a:off x="395280" y="1052640"/>
            <a:ext cx="4371840" cy="5616360"/>
          </a:xfrm>
          <a:prstGeom prst="rect">
            <a:avLst/>
          </a:prstGeom>
          <a:ln w="50760">
            <a:solidFill>
              <a:srgbClr val="ff6600"/>
            </a:solidFill>
            <a:miter/>
          </a:ln>
        </p:spPr>
      </p:pic>
      <p:sp>
        <p:nvSpPr>
          <p:cNvPr id="120" name="Rectangle 2"/>
          <p:cNvSpPr/>
          <p:nvPr/>
        </p:nvSpPr>
        <p:spPr>
          <a:xfrm>
            <a:off x="468360" y="152280"/>
            <a:ext cx="8280360" cy="75564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1. Страна, где жили китайцы.</a:t>
            </a:r>
            <a:endParaRPr b="0" lang="en-US" sz="3200" spc="-1" strike="noStrike">
              <a:solidFill>
                <a:srgbClr val="eaeaea"/>
              </a:solidFill>
              <a:latin typeface="Times New Roman Cyr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395280" y="6165720"/>
            <a:ext cx="4321080" cy="503280"/>
          </a:xfrm>
          <a:prstGeom prst="rect">
            <a:avLst/>
          </a:prstGeom>
          <a:solidFill>
            <a:srgbClr val="ffffff"/>
          </a:solidFill>
          <a:ln w="414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 Cyr"/>
              </a:rPr>
              <a:t>Великая китайская стена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788000" y="1557000"/>
            <a:ext cx="4176720" cy="5111640"/>
          </a:xfrm>
          <a:prstGeom prst="rect">
            <a:avLst/>
          </a:prstGeom>
          <a:solidFill>
            <a:srgbClr val="ffff99"/>
          </a:solidFill>
          <a:ln w="38160">
            <a:solidFill>
              <a:srgbClr val="9966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семье младшие братья должны оказывать знаки уважения старшим, дети – родителям. А старшим следует относиться к младшим с отеческим вниманием и забот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3" name="Picture 8" descr="kitayskiy-mudrets"/>
          <p:cNvPicPr/>
          <p:nvPr/>
        </p:nvPicPr>
        <p:blipFill>
          <a:blip r:embed="rId1"/>
          <a:stretch/>
        </p:blipFill>
        <p:spPr>
          <a:xfrm>
            <a:off x="324000" y="1557360"/>
            <a:ext cx="4098600" cy="4751280"/>
          </a:xfrm>
          <a:prstGeom prst="rect">
            <a:avLst/>
          </a:prstGeom>
          <a:ln w="41400">
            <a:solidFill>
              <a:srgbClr val="ffcc66"/>
            </a:solidFill>
            <a:miter/>
          </a:ln>
        </p:spPr>
      </p:pic>
      <p:sp>
        <p:nvSpPr>
          <p:cNvPr id="124" name="Rectangle 2"/>
          <p:cNvSpPr/>
          <p:nvPr/>
        </p:nvSpPr>
        <p:spPr>
          <a:xfrm>
            <a:off x="468360" y="152280"/>
            <a:ext cx="8351640" cy="11160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2. Высшая добродетель- уважение к старшим</a:t>
            </a:r>
            <a:endParaRPr b="0" lang="en-US" sz="3200" spc="-1" strike="noStrike">
              <a:solidFill>
                <a:srgbClr val="eaeaea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0" y="1915920"/>
            <a:ext cx="3960720" cy="3671640"/>
          </a:xfrm>
          <a:prstGeom prst="rect">
            <a:avLst/>
          </a:prstGeom>
          <a:solidFill>
            <a:srgbClr val="ffff99"/>
          </a:solidFill>
          <a:ln w="38160">
            <a:solidFill>
              <a:srgbClr val="996633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Покойных родителей и более отдалённых предков китайцы почитали как могучих и добрых покровителей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6" name="Picture 8" descr="4d1c3ac4aade6da65c7c168b6ea45016"/>
          <p:cNvPicPr/>
          <p:nvPr/>
        </p:nvPicPr>
        <p:blipFill>
          <a:blip r:embed="rId1"/>
          <a:stretch/>
        </p:blipFill>
        <p:spPr>
          <a:xfrm>
            <a:off x="395280" y="1700280"/>
            <a:ext cx="3960720" cy="4176720"/>
          </a:xfrm>
          <a:prstGeom prst="rect">
            <a:avLst/>
          </a:prstGeom>
          <a:ln w="47520">
            <a:solidFill>
              <a:srgbClr val="ffcc66"/>
            </a:solidFill>
            <a:miter/>
          </a:ln>
        </p:spPr>
      </p:pic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396720" y="333360"/>
            <a:ext cx="8350560" cy="7207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2. Высшая добродетель- уважение к старшим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356000" y="1413000"/>
            <a:ext cx="4392720" cy="4465440"/>
          </a:xfrm>
          <a:prstGeom prst="rect">
            <a:avLst/>
          </a:prstGeom>
          <a:solidFill>
            <a:srgbClr val="ffff99"/>
          </a:solidFill>
          <a:ln w="34920">
            <a:solidFill>
              <a:srgbClr val="9966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и другие народы, верили они в сверхъестественные существа: в богов, духов, чудовищ, крылатых змеев – драконов. Но самым высшим существом для них было Неб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9" name="Picture 8" descr="0b34d84ce267f67af61682ed9de08c1c"/>
          <p:cNvPicPr/>
          <p:nvPr/>
        </p:nvPicPr>
        <p:blipFill>
          <a:blip r:embed="rId1"/>
          <a:stretch/>
        </p:blipFill>
        <p:spPr>
          <a:xfrm>
            <a:off x="395280" y="1197000"/>
            <a:ext cx="3578400" cy="5124600"/>
          </a:xfrm>
          <a:prstGeom prst="rect">
            <a:avLst/>
          </a:prstGeom>
          <a:ln w="50760">
            <a:solidFill>
              <a:srgbClr val="ffcc66"/>
            </a:solidFill>
            <a:miter/>
          </a:ln>
        </p:spPr>
      </p:pic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396720" y="333360"/>
            <a:ext cx="8350560" cy="7207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2. Высшая добродетель- уважение к старшим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1"/>
          <p:cNvSpPr/>
          <p:nvPr/>
        </p:nvSpPr>
        <p:spPr>
          <a:xfrm>
            <a:off x="500040" y="1143000"/>
            <a:ext cx="4786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Дракон – культурный символ китайского народа</a:t>
            </a:r>
            <a:br>
              <a:rPr sz="3600"/>
            </a:br>
            <a:endParaRPr b="0" lang="en-US" sz="3600" spc="-1" strike="noStrike">
              <a:solidFill>
                <a:srgbClr val="eaeaea"/>
              </a:solidFill>
              <a:latin typeface="Times New Roman Cyr"/>
            </a:endParaRPr>
          </a:p>
        </p:txBody>
      </p:sp>
      <p:pic>
        <p:nvPicPr>
          <p:cNvPr id="132" name="Рисунок 2" descr=""/>
          <p:cNvPicPr/>
          <p:nvPr/>
        </p:nvPicPr>
        <p:blipFill>
          <a:blip r:embed="rId1"/>
          <a:stretch/>
        </p:blipFill>
        <p:spPr>
          <a:xfrm>
            <a:off x="5286240" y="642960"/>
            <a:ext cx="3233880" cy="46483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07T22:49:56Z</dcterms:created>
  <dc:creator>Admin</dc:creator>
  <dc:description/>
  <dc:language>en-US</dc:language>
  <cp:lastModifiedBy>ТатьянА</cp:lastModifiedBy>
  <dcterms:modified xsi:type="dcterms:W3CDTF">2019-01-02T15:27:02Z</dcterms:modified>
  <cp:revision>30</cp:revision>
  <dc:subject/>
  <dc:title>Заголовок слайда отсутствует</dc:title>
</cp:coreProperties>
</file>