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923-6C15-405F-A6FD-62504699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CF1-B5AC-4C31-81C6-0539CACE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CD4-DA24-4853-8655-DC5850F8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30D5-35B0-4F6A-AD49-EC1AEFC5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08B2-7116-4831-AEFE-042DC357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E1F0-B2A6-4A6F-81B8-DB97C076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D6E4-3E6B-4B34-8532-6543DFEF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36B7-B462-48A0-A6A3-FDF348A4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435E-424E-4B88-8036-FAAA96AF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DA2-38F4-49AF-BBAF-ED3E690A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12E3-CF6D-4000-8EC8-DEB3251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D75-F6C5-419F-94B1-6893111F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DE9A-8DDD-4245-BFFA-FFC9FD32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F16D-3DD2-47EE-AA70-828A128D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899B-171E-4C65-8A03-A1541319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FBB0-7227-486F-A2E0-5FF2FCE1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C618-23F4-4EA2-89E3-402A6632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836C7-FD93-49A1-AE40-FC189E0E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3EDAF-C418-49B8-AF7B-991A4B74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DABCC-FA2A-47C1-A393-F20F472E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BA860-CA67-4AC9-AEEE-B0DCBBC2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A8313-1E21-4EB7-A73D-959F4E6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BC2-44EF-4824-8584-CC7362F2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22DFA-8E4B-4511-9941-80D67298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8B57F-EA9D-40C7-8C1B-5A4CE90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39E34-E55E-45D6-8EA1-9556A61F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FE67F-1816-4E0A-A8EF-FE3991A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952C3-7B46-43CF-B4AD-99E0C9F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A87DF-D77F-459B-B912-D66BEF5E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DF06D-C14D-4EC7-BACB-336D4509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36F9-72C3-4504-A542-E98B3A72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093E-3043-4B6A-9747-76FD6AA5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41CA-CCFF-45B0-9E8F-29F7A447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B05-AB1F-486C-A3C7-5956BE3B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66EB6-7FB4-42AE-9446-C8C310C5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6BE6-4EC3-4358-9C26-93A6DE7A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EEAD-CB99-446F-81AE-05B4AB4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A486-D496-42DF-AEC0-5BF4B549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747B5-BAF1-4B39-900A-5DB0F7F5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1082-4660-49D9-AFC6-BC0ED8FD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CF4A-B8DA-43CC-A2A4-D5B79CF7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E602-DA3D-4799-B0A0-882978E8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B57F3-EA0B-4755-BA74-437BB73D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9C7-A274-43C0-B197-1FB4CAC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D80-4C66-42AC-BBA3-5FAD3F7B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828-20F6-48D3-B70F-1A0822EC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DB5-1C41-46F5-B72F-F6960DF9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1C0-63D3-4BF9-9938-7A08E100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00D3-2E65-4687-8817-4CA8EA54813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CB74-4993-4350-8858-D0EA443C389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D7F-3307-48D8-8E17-00B735F5D0F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DCF2-6614-4A27-872B-BA28CC2409C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Историческая хронология и историческая карта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елых Валерия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1586160" y="428760"/>
            <a:ext cx="46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2.Прошлое</a:t>
            </a:r>
            <a:r>
              <a:rPr b="0" lang="ru-RU" sz="1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на пл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357120" y="135720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лан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это отображение на плоскости небольшой части террит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http://hiztory.ru/UserFiles/Image/kulik-bitva-maps.jpg"/>
          <p:cNvPicPr/>
          <p:nvPr/>
        </p:nvPicPr>
        <p:blipFill>
          <a:blip r:embed="rId1"/>
          <a:stretch/>
        </p:blipFill>
        <p:spPr>
          <a:xfrm>
            <a:off x="1571760" y="2571840"/>
            <a:ext cx="5715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428760" y="928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тличие карты от пл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85840" y="1643040"/>
          <a:ext cx="8572320" cy="3925800"/>
        </p:xfrm>
        <a:graphic>
          <a:graphicData uri="http://schemas.openxmlformats.org/drawingml/2006/table">
            <a:tbl>
              <a:tblPr/>
              <a:tblGrid>
                <a:gridCol w="4010040"/>
                <a:gridCol w="456228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р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ображение большой части земной поверх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ображение на плоскости небольшой поверх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упные объекты изображаются условными знака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робное изображение крупных зна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428760" y="7142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642960" y="19288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ыучить записи в тетра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us.123rf.com/450wm/krisdog/krisdog1111/krisdog111100058/11383886-an-illustration-of-a-happy-small-boy-smiling-and-reading-a-book.jpg?ver=6"/>
          <p:cNvPicPr/>
          <p:nvPr/>
        </p:nvPicPr>
        <p:blipFill>
          <a:blip r:embed="rId1"/>
          <a:stretch/>
        </p:blipFill>
        <p:spPr>
          <a:xfrm>
            <a:off x="3071880" y="2571840"/>
            <a:ext cx="3305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500040" y="7142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285840" y="19288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накомиться с понятием «историческая кар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знать какую информацию несет истор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500040" y="5716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428760" y="150012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шлое на кар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шлое на пл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s://fs00.infourok.ru/images/doc/231/69249/1/img19.jpg"/>
          <p:cNvPicPr/>
          <p:nvPr/>
        </p:nvPicPr>
        <p:blipFill>
          <a:blip r:embed="rId1"/>
          <a:stretch/>
        </p:blipFill>
        <p:spPr>
          <a:xfrm>
            <a:off x="357120" y="271476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hiztory.ru/UserFiles/Image/kulik-bitva-maps.jpg"/>
          <p:cNvPicPr/>
          <p:nvPr/>
        </p:nvPicPr>
        <p:blipFill>
          <a:blip r:embed="rId2"/>
          <a:stretch/>
        </p:blipFill>
        <p:spPr>
          <a:xfrm>
            <a:off x="4786200" y="2714760"/>
            <a:ext cx="40719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85840" y="1000080"/>
            <a:ext cx="88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 чем может рассказать карта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чем нужна карта грибникам, автомобилистам, путешественникам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 используют карту люди разных профессий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ую помощь она оказывает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http://phonosdonostia.com/wordpress/wp-content/uploads/2014/10/ni%C3%B1os-leyendo.jpg"/>
          <p:cNvPicPr/>
          <p:nvPr/>
        </p:nvPicPr>
        <p:blipFill>
          <a:blip r:embed="rId1"/>
          <a:stretch/>
        </p:blipFill>
        <p:spPr>
          <a:xfrm>
            <a:off x="4735440" y="3929040"/>
            <a:ext cx="4408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428760" y="1071720"/>
            <a:ext cx="76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то изучает наука «Археолог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ак работают археоло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s://thumbs.dreamstime.com/b/%D0%B7%D1%80%D0%B0%D1%87%D0%BE%D0%BA-%D1%81-%D0%BF%D0%BE-%D0%BD%D1%8F%D1%82%D0%BE%D0%B9-%D1%80%D1%83%D0%BA%D0%BE%D0%B9-94539994.jpg"/>
          <p:cNvPicPr/>
          <p:nvPr/>
        </p:nvPicPr>
        <p:blipFill>
          <a:blip r:embed="rId1"/>
          <a:stretch/>
        </p:blipFill>
        <p:spPr>
          <a:xfrm>
            <a:off x="2286000" y="3481560"/>
            <a:ext cx="454824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14200" y="100008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р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это уменьшенное обобщенное изображение земной поверхности на плоскости, содержащие данные в соответствии с назначением, пособие для изучения истории, географии и других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s://fs00.infourok.ru/images/doc/231/69249/1/img19.jpg"/>
          <p:cNvPicPr/>
          <p:nvPr/>
        </p:nvPicPr>
        <p:blipFill>
          <a:blip r:embed="rId1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1686600" y="571680"/>
            <a:ext cx="39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рошлое на ка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214200" y="85716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сторическая карт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это изображение Земли или небольшой части земной поверхности в различные времена истории человеч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357120" y="307188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 исторической карте обозначаются места сражений, старинные крепости, линии фронтов, торговые пути, памятники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http://900igr.net/up/datas/72201/026.jpg"/>
          <p:cNvPicPr/>
          <p:nvPr/>
        </p:nvPicPr>
        <p:blipFill>
          <a:blip r:embed="rId1"/>
          <a:stretch/>
        </p:blipFill>
        <p:spPr>
          <a:xfrm>
            <a:off x="0" y="106200"/>
            <a:ext cx="9001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"/>
          <p:cNvSpPr/>
          <p:nvPr/>
        </p:nvSpPr>
        <p:spPr>
          <a:xfrm>
            <a:off x="1928880" y="785880"/>
            <a:ext cx="5715000" cy="928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Историческая к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2"/>
          <p:cNvSpPr/>
          <p:nvPr/>
        </p:nvSpPr>
        <p:spPr>
          <a:xfrm>
            <a:off x="1857240" y="1714680"/>
            <a:ext cx="785880" cy="1000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3"/>
          <p:cNvSpPr/>
          <p:nvPr/>
        </p:nvSpPr>
        <p:spPr>
          <a:xfrm>
            <a:off x="6858000" y="1714680"/>
            <a:ext cx="785880" cy="1000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4"/>
          <p:cNvSpPr/>
          <p:nvPr/>
        </p:nvSpPr>
        <p:spPr>
          <a:xfrm>
            <a:off x="0" y="2714760"/>
            <a:ext cx="4286160" cy="1071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чают на вопрос, где произошло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5"/>
          <p:cNvSpPr/>
          <p:nvPr/>
        </p:nvSpPr>
        <p:spPr>
          <a:xfrm>
            <a:off x="4857840" y="2714760"/>
            <a:ext cx="4286160" cy="1071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омогает увидеть, какие изменения произошли на какой-либо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214200" y="4143240"/>
            <a:ext cx="892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тавители карт должны во много раз уменьшить изображение Земли и ее больших частей, чтобы они уместились на листке бумаги. Многие объекты на карте обозначены условными знаками. Их объяснения дают в разделе «Условные обозначения». Карта раскрашена различными цветами, содержат надпис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wwedenie.ucoz.com/9_3.jpg"/>
          <p:cNvPicPr/>
          <p:nvPr/>
        </p:nvPicPr>
        <p:blipFill>
          <a:blip r:embed="rId1"/>
          <a:stretch/>
        </p:blipFill>
        <p:spPr>
          <a:xfrm>
            <a:off x="0" y="500040"/>
            <a:ext cx="92152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s://ds04.infourok.ru/uploads/ex/0e7b/000872ea-cc8d3b94/img8.jpg"/>
          <p:cNvPicPr/>
          <p:nvPr/>
        </p:nvPicPr>
        <p:blipFill>
          <a:blip r:embed="rId1"/>
          <a:stretch/>
        </p:blipFill>
        <p:spPr>
          <a:xfrm>
            <a:off x="0" y="0"/>
            <a:ext cx="5143680" cy="3857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s://ds04.infourok.ru/uploads/ex/0575/0000efd4-0d866c38/1/img11.jpg"/>
          <p:cNvPicPr/>
          <p:nvPr/>
        </p:nvPicPr>
        <p:blipFill>
          <a:blip r:embed="rId2"/>
          <a:stretch/>
        </p:blipFill>
        <p:spPr>
          <a:xfrm>
            <a:off x="3714840" y="278604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5286240" y="642960"/>
            <a:ext cx="364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исторической кар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отсутствуют обозначения релье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цвета используют для обозначения государств, территорий,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5T13:26:34Z</dcterms:created>
  <dc:creator>Admin</dc:creator>
  <dc:description/>
  <dc:language>en-US</dc:language>
  <cp:lastModifiedBy>ТатьянА</cp:lastModifiedBy>
  <dcterms:modified xsi:type="dcterms:W3CDTF">2019-01-02T10:49:55Z</dcterms:modified>
  <cp:revision>7</cp:revision>
  <dc:subject/>
  <dc:title>Историческая хронология и историческая карта</dc:title>
</cp:coreProperties>
</file>