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B34-92BA-49B8-94E3-68AE8787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897-0347-4677-940D-8A8B3C57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385-6696-4D9C-8A41-5AAED387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57E-4441-4BFD-A435-66BCA04D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A14D-083F-4C6C-9CCA-232AAF79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1C7B-55EE-4E4C-A6E4-EB7BFA33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5434-3CFF-413A-A3E0-8AC6B34C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76D0-CD76-4BEF-BCF4-1277991D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AFF6-E9E5-4BB7-92AE-93BD4322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CD6A-5E5D-482E-9607-926978CB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D331-C673-48C6-9D66-A53FD6BB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AD6-7863-4458-9853-FA105744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6D1C-1D10-4696-898D-48FFA4AF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281F-71E1-4C1B-8C6F-073190C5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73E3-233C-4E2C-AEDA-1B587433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9BD6-3F21-4697-9206-BC5AE1DF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29B0-388B-4F79-B6C8-1CCF3D95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7A2E7-E807-4ABF-A278-70177E8B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4FEFC-BF50-49A0-B62B-C0876EBF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1C1F6-9F3A-4145-8545-C4D4B45E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03CDB-AC6C-4965-8FD6-43AEAC23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B1C10-B7D3-42CC-90F0-B4D0FEFF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A94-6A65-4BAB-9A8E-E4C48F60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E191A-F40E-4CC3-B619-8F09E6A8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2D4C2-3638-46AF-9A27-1A2379CF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BD8D5-77BC-4BDC-9AEC-46F1F9B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CD4A8-E26B-4719-B6E1-A3E38714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D2CB9-BEAD-4EF4-8290-517AE7FE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CFF10-BA2C-4F79-9C62-20A6F76E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3E9D1-C783-41AC-8B38-15D6B64D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E049C-2CEA-466D-A159-D73C5D72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F16D1-1FCF-4B1A-9390-2725AFCF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A024-8F8E-4D9B-BA08-8F750A84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093-120A-4F96-83B4-303EF123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0803E-F55E-4235-8E1C-80F68C5A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AB58-CF76-434B-AE6A-55800F7A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D7A34-66DE-4726-855F-9ECE6BCA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FBB71-975C-4B34-8009-B7CF48A2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3437-C9CD-4590-9721-1C7FD723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5D43-665C-44B0-8377-3B57B88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C610F-B75E-4818-8305-A2B70FA6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A3468-43DD-4D16-8D86-833FB919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8F859-9A09-4969-B19A-AFBBAC46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D32-783E-4562-87FB-87B9EB6D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95F-94C6-4417-8F8D-AF00BCF7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5BE-ABFB-4101-BF20-8626F094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764-7EF9-40A5-A10A-7C83D1F4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9CB-269F-4AB7-9403-A246E44D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AE1B-1861-4D2C-8512-BCA90EBDF39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DD3E-9AB6-415C-BC1B-C4C0239F283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AD81-A028-4590-AE28-A6A207652F0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EC6B-5AA1-4198-9979-F98251F08DB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214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Историческая хронология и историческая карта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елых Валерия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1586160" y="428760"/>
            <a:ext cx="46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2.Прошлое</a:t>
            </a:r>
            <a:r>
              <a:rPr b="0" lang="ru-RU" sz="1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на пл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357120" y="135720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лан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это отображение на плоскости небольшой части террит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http://hiztory.ru/UserFiles/Image/kulik-bitva-maps.jpg"/>
          <p:cNvPicPr/>
          <p:nvPr/>
        </p:nvPicPr>
        <p:blipFill>
          <a:blip r:embed="rId1"/>
          <a:stretch/>
        </p:blipFill>
        <p:spPr>
          <a:xfrm>
            <a:off x="1571760" y="2571840"/>
            <a:ext cx="5715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428760" y="928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Отличие карты от пл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85840" y="1643040"/>
          <a:ext cx="8572320" cy="3925800"/>
        </p:xfrm>
        <a:graphic>
          <a:graphicData uri="http://schemas.openxmlformats.org/drawingml/2006/table">
            <a:tbl>
              <a:tblPr/>
              <a:tblGrid>
                <a:gridCol w="4010040"/>
                <a:gridCol w="4562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р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ображение большой части земной поверх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ображение на плоскости небольшой поверх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упные объекты изображаются условными знака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робное изображение крупных зна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428760" y="7142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642960" y="19288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ыучить записи в тетра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us.123rf.com/450wm/krisdog/krisdog1111/krisdog111100058/11383886-an-illustration-of-a-happy-small-boy-smiling-and-reading-a-book.jpg?ver=6"/>
          <p:cNvPicPr/>
          <p:nvPr/>
        </p:nvPicPr>
        <p:blipFill>
          <a:blip r:embed="rId1"/>
          <a:stretch/>
        </p:blipFill>
        <p:spPr>
          <a:xfrm>
            <a:off x="3071880" y="2571840"/>
            <a:ext cx="3305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500040" y="7142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285840" y="19288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накомиться с понятием «историческая кар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знать какую информацию несет историческ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500040" y="5716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428760" y="150012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шлое на кар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шлое на пл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https://fs00.infourok.ru/images/doc/231/69249/1/img19.jpg"/>
          <p:cNvPicPr/>
          <p:nvPr/>
        </p:nvPicPr>
        <p:blipFill>
          <a:blip r:embed="rId1"/>
          <a:stretch/>
        </p:blipFill>
        <p:spPr>
          <a:xfrm>
            <a:off x="357120" y="271476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hiztory.ru/UserFiles/Image/kulik-bitva-maps.jpg"/>
          <p:cNvPicPr/>
          <p:nvPr/>
        </p:nvPicPr>
        <p:blipFill>
          <a:blip r:embed="rId2"/>
          <a:stretch/>
        </p:blipFill>
        <p:spPr>
          <a:xfrm>
            <a:off x="4786200" y="2714760"/>
            <a:ext cx="40719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85840" y="1000080"/>
            <a:ext cx="88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 чем может рассказать карта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чем нужна карта грибникам, автомобилистам, путешественникам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 используют карту люди разных профессий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ую помощь она оказывает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http://phonosdonostia.com/wordpress/wp-content/uploads/2014/10/ni%C3%B1os-leyendo.jpg"/>
          <p:cNvPicPr/>
          <p:nvPr/>
        </p:nvPicPr>
        <p:blipFill>
          <a:blip r:embed="rId1"/>
          <a:stretch/>
        </p:blipFill>
        <p:spPr>
          <a:xfrm>
            <a:off x="4735440" y="3929040"/>
            <a:ext cx="4408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428760" y="1071720"/>
            <a:ext cx="76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то изучает наука «Археолог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 работают археоло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s://thumbs.dreamstime.com/b/%D0%B7%D1%80%D0%B0%D1%87%D0%BE%D0%BA-%D1%81-%D0%BF%D0%BE-%D0%BD%D1%8F%D1%82%D0%BE%D0%B9-%D1%80%D1%83%D0%BA%D0%BE%D0%B9-94539994.jpg"/>
          <p:cNvPicPr/>
          <p:nvPr/>
        </p:nvPicPr>
        <p:blipFill>
          <a:blip r:embed="rId1"/>
          <a:stretch/>
        </p:blipFill>
        <p:spPr>
          <a:xfrm>
            <a:off x="2286000" y="3481560"/>
            <a:ext cx="454824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14200" y="1000080"/>
            <a:ext cx="82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рт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это уменьшенное обобщенное изображение земной поверхности на плоскости, содержащие данные в соответствии с назначением, пособие для изучения истории, географии и других 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s://fs00.infourok.ru/images/doc/231/69249/1/img19.jpg"/>
          <p:cNvPicPr/>
          <p:nvPr/>
        </p:nvPicPr>
        <p:blipFill>
          <a:blip r:embed="rId1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1686600" y="571680"/>
            <a:ext cx="39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Прошлое на ка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214200" y="85716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сторическая карта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это изображение Земли или небольшой части земной поверхности в различные времена истории человеч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357120" y="3071880"/>
            <a:ext cx="78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 исторической карте обозначаются места сражений, старинные крепости, линии фронтов, торговые пути, памятники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http://900igr.net/up/datas/72201/026.jpg"/>
          <p:cNvPicPr/>
          <p:nvPr/>
        </p:nvPicPr>
        <p:blipFill>
          <a:blip r:embed="rId1"/>
          <a:stretch/>
        </p:blipFill>
        <p:spPr>
          <a:xfrm>
            <a:off x="0" y="106200"/>
            <a:ext cx="9001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1"/>
          <p:cNvSpPr/>
          <p:nvPr/>
        </p:nvSpPr>
        <p:spPr>
          <a:xfrm>
            <a:off x="1928880" y="785880"/>
            <a:ext cx="5715000" cy="9288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Историческая к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2"/>
          <p:cNvSpPr/>
          <p:nvPr/>
        </p:nvSpPr>
        <p:spPr>
          <a:xfrm>
            <a:off x="1857240" y="1714680"/>
            <a:ext cx="785880" cy="10000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3"/>
          <p:cNvSpPr/>
          <p:nvPr/>
        </p:nvSpPr>
        <p:spPr>
          <a:xfrm>
            <a:off x="6858000" y="1714680"/>
            <a:ext cx="785880" cy="10000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4"/>
          <p:cNvSpPr/>
          <p:nvPr/>
        </p:nvSpPr>
        <p:spPr>
          <a:xfrm>
            <a:off x="0" y="2714760"/>
            <a:ext cx="4286160" cy="1071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чают на вопрос, где произошло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5"/>
          <p:cNvSpPr/>
          <p:nvPr/>
        </p:nvSpPr>
        <p:spPr>
          <a:xfrm>
            <a:off x="4857840" y="2714760"/>
            <a:ext cx="4286160" cy="1071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омогает увидеть, какие изменения произошли на какой-либо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214200" y="4143240"/>
            <a:ext cx="892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тавители карт должны во много раз уменьшить изображение Земли и ее больших частей, чтобы они уместились на листке бумаги. Многие объекты на карте обозначены условными знаками. Их объяснения дают в разделе «Условные обозначения». Карта раскрашена различными цветами, содержат надпис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wwedenie.ucoz.com/9_3.jpg"/>
          <p:cNvPicPr/>
          <p:nvPr/>
        </p:nvPicPr>
        <p:blipFill>
          <a:blip r:embed="rId1"/>
          <a:stretch/>
        </p:blipFill>
        <p:spPr>
          <a:xfrm>
            <a:off x="0" y="500040"/>
            <a:ext cx="92152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s://ds04.infourok.ru/uploads/ex/0e7b/000872ea-cc8d3b94/img8.jpg"/>
          <p:cNvPicPr/>
          <p:nvPr/>
        </p:nvPicPr>
        <p:blipFill>
          <a:blip r:embed="rId1"/>
          <a:stretch/>
        </p:blipFill>
        <p:spPr>
          <a:xfrm>
            <a:off x="0" y="0"/>
            <a:ext cx="5143680" cy="3857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s://ds04.infourok.ru/uploads/ex/0575/0000efd4-0d866c38/1/img11.jpg"/>
          <p:cNvPicPr/>
          <p:nvPr/>
        </p:nvPicPr>
        <p:blipFill>
          <a:blip r:embed="rId2"/>
          <a:stretch/>
        </p:blipFill>
        <p:spPr>
          <a:xfrm>
            <a:off x="3714840" y="278604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5286240" y="642960"/>
            <a:ext cx="364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исторической кар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отсутствуют обозначения релье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цвета используют для обозначения государств, территорий,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5T13:26:34Z</dcterms:created>
  <dc:creator>Admin</dc:creator>
  <dc:description/>
  <dc:language>en-US</dc:language>
  <cp:lastModifiedBy>ТатьянА</cp:lastModifiedBy>
  <dcterms:modified xsi:type="dcterms:W3CDTF">2019-01-02T10:49:55Z</dcterms:modified>
  <cp:revision>7</cp:revision>
  <dc:subject/>
  <dc:title>Историческая хронология и историческая карта</dc:title>
</cp:coreProperties>
</file>