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0CB-2639-4DD7-AD3D-6056F2C1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2D4-98CB-48F7-A064-EF8D939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7EC-9B99-4153-8163-5DAD4F8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B51-EED1-4050-9923-8679B802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3D0F-8607-4ACF-93C8-4DC6EF06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A33-C00F-47EA-A736-C6D5B9E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806-8263-4E1C-B32E-FF806CE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D26-1EA2-4F1F-A0E7-A0208F5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BFB2-6FA7-4835-AC04-FBB79D26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3C71-0C49-450D-B542-1E0FDCA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449B-284C-4C79-BC7D-701FDC0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150-30A9-4648-A4DB-970F54FD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A0D9-98E2-4D41-AFD0-F30759F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5FC-B5A1-4D44-B3E9-8BB29245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17E-39F4-4A8D-BBE7-6F36CE1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AF3E-A971-418A-BAB6-65B954A7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9E08-8867-442A-9E0F-CC9DAFF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6D02A-820B-4516-9365-ECDC59AD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EF0A7-40EF-47F3-9670-3A487433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532FC-0622-4C07-A01D-60CB3BC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112D4-2A62-4E1F-94D7-3B77874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B2E46-071E-4C2D-A8D7-B3AE70F3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911-B1AF-46C6-9F0B-316CE07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CF3BA-0DE8-4AC0-AEAD-1016F68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D10CE-41E5-4144-AA42-86A126D1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B5F8F-DE9E-4D7C-B357-76B23D4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09F4A-EFBD-411E-A1AD-24E06AD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32AB1-8979-403A-9800-9A5DC94A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F089F-9C5E-456A-99DE-BEB7EA5C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CEE65-8668-4B05-B314-E0CB45EA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8BD1-8D8C-4E2F-969C-B91AD8C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A641-37FE-4C85-BB14-2BE4FB1D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C56A-F4D9-4E36-AB7D-A5DC84BF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26F-9E85-4E57-A4D2-4B230907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EC29-A1B1-450A-8BB8-12796325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B5E0-09E0-47FF-85C9-542A6B1A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F6AF-A0A4-4B39-8BE6-6A74E79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231A-E3FD-43A3-B37E-99A20F4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6287-4EB3-4602-91A4-2A69F4C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16AD-70AE-44B9-A221-A6470DF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851E-9F1D-4A17-BB75-6B9D595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25F3-9F93-4B8C-B6C6-E3493046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883B-C2F4-4DB7-823A-2BFE4FAD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4C8-2380-4CAA-B594-AC7A518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997-C81E-41A6-B7D0-8574FF6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D82-6DCA-499D-A373-FB7A6E1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0B4-7A28-4F79-BFAE-AEF1533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FD4-A6AC-4063-ABE8-68EDDC5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1D3-EBB3-41A9-B211-17B9B4C48E0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D37-148E-4987-857D-66296A5877F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25F-4ABB-4839-93D5-1E9C363688C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589-8FA8-4B81-9AF3-C42ECF4F81C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онятие. Карта античного ми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814480" y="5829120"/>
            <a:ext cx="632952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ель истории МАОУСОШ № 2 им. Ю.А. Гагари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го образования Успенский рай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лых Валерия Николае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2367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: особенности природы Древней Греции оказывали существенное влияние на способ жизни и занятия греков. Близость моря, жаркий климат и отсутствие рек толкало греков к мореплаванию, обмену и торговле с соседними территор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214200" y="571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Особенности природы Древней Гре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ÐÐ°ÐºÐ¸Ðµ Ð¾ÑÐ¾Ð±ÐµÐ½Ð½Ð¾ÑÑÐ¸ Ð¿ÑÐ¸ÑÐ¾Ð´Ñ ÐÐ³Ð¸Ð¿ÑÐ°, ÐÐ·Ð¸Ð¸, ÐÐ¸ÑÐ°Ñ, ÐÐ½Ð´Ð¸Ð¸, ÐÑÐµÑÐ¸Ð¸ Ð²Ñ Ð±Ñ Ð¸ÑÐ¿Ð¾Ð»ÑÐ·Ð¾Ð²Ð°Ð»Ð¸ Ð¿ÑÐ¸ Ð¾Ð¿Ð¸ÑÐ°Ð½Ð¸Ð¸ Ð¼ÐµÑÑÐ° Ð´ÐµÐ¹ÑÑÐ²Ð¸Ñ"/>
          <p:cNvPicPr/>
          <p:nvPr/>
        </p:nvPicPr>
        <p:blipFill>
          <a:blip r:embed="rId1"/>
          <a:srcRect l="1116" t="3870" r="0" b="50632"/>
          <a:stretch/>
        </p:blipFill>
        <p:spPr>
          <a:xfrm>
            <a:off x="214200" y="785880"/>
            <a:ext cx="8929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ÐÐ°ÐºÐ¸Ðµ Ð¾ÑÐ¾Ð±ÐµÐ½Ð½Ð¾ÑÑÐ¸ Ð¿ÑÐ¸ÑÐ¾Ð´Ñ ÐÐ³Ð¸Ð¿ÑÐ°, ÐÐ·Ð¸Ð¸, ÐÐ¸ÑÐ°Ñ, ÐÐ½Ð´Ð¸Ð¸, ÐÑÐµÑÐ¸Ð¸ Ð²Ñ Ð±Ñ Ð¸ÑÐ¿Ð¾Ð»ÑÐ·Ð¾Ð²Ð°Ð»Ð¸ Ð¿ÑÐ¸ Ð¾Ð¿Ð¸ÑÐ°Ð½Ð¸Ð¸ Ð¼ÐµÑÑÐ° Ð´ÐµÐ¹ÑÑÐ²Ð¸Ñ"/>
          <p:cNvPicPr/>
          <p:nvPr/>
        </p:nvPicPr>
        <p:blipFill>
          <a:blip r:embed="rId1"/>
          <a:srcRect l="1573" t="49528" r="0" b="4344"/>
          <a:stretch/>
        </p:blipFill>
        <p:spPr>
          <a:xfrm>
            <a:off x="214200" y="785880"/>
            <a:ext cx="8929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285840" y="6429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ятия жителей стра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5357880" y="1571760"/>
            <a:ext cx="378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севере Греции находилась довольно большая равнина, пригодная для земледелия. Здесь выращивали пшеницу, ячмень, фрукты, виноград. На склонах гор греки выращивали оливковые деревья и пасли домашний ско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2240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занятий элли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дели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товод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олов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с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500040" y="1071720"/>
            <a:ext cx="8286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ыучить записи в тетр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42920" y="948600"/>
            <a:ext cx="90010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исторического сознания и мышления на основе глубокого осмысления древнейшего периода греческой истории, источников по данному периоду, особенностей развития греческого общества; знакомство с Древней Гре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85840" y="95976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13200" y="293040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ятия жител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5072040" y="1928880"/>
            <a:ext cx="4071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ревняя Греция расположена на юго-востоке Европы, на Балканском полуост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мывается Ионическим морем и Эгей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oplib.ru/image.php?way=oplib/baza10/3599508282807.files/image002.gif"/>
          <p:cNvPicPr/>
          <p:nvPr/>
        </p:nvPicPr>
        <p:blipFill>
          <a:blip r:embed="rId1"/>
          <a:stretch/>
        </p:blipFill>
        <p:spPr>
          <a:xfrm>
            <a:off x="0" y="1476360"/>
            <a:ext cx="4924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5072040" y="2500200"/>
            <a:ext cx="4071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чти 80% территории Греции занимали горы, плодородных равнин, пригодных для земледелия, было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oplib.ru/image.php?way=oplib/baza10/3599508282807.files/image002.gif"/>
          <p:cNvPicPr/>
          <p:nvPr/>
        </p:nvPicPr>
        <p:blipFill>
          <a:blip r:embed="rId1"/>
          <a:stretch/>
        </p:blipFill>
        <p:spPr>
          <a:xfrm>
            <a:off x="0" y="1476360"/>
            <a:ext cx="4924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5357880" y="1928880"/>
            <a:ext cx="37861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их и полноводных рек в Греции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 морях много островов, самый крупный из них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5357880" y="2071800"/>
            <a:ext cx="37861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амой природой дели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Северную Гре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Среднюю Грецию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Южную Грецию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57120" y="178596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лагодаря теплой зиме и жаркому лету сельскохозяйственный год был очень продолжительным, что создавало благоприятные условия для развития земледелия. Моря зимой не замерзали. Это позволяло круглый год заниматься рыбной ловлей и морепла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имат Греции был засушливым, из-за того что реки пересыхали, были районы, где трудно было найти источники с питьев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14200" y="571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Особенности природы Древней Гре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ÐÐ°Ð¿Ð¾Ð»Ð½Ð¸ÑÐµ ÑÐ°Ð±Ð»Ð¸ÑÑ Â«ÐÑÐ¾Ð±ÐµÐ½Ð½Ð¾ÑÑÐ¸ Ð¿ÑÐ¸ÑÐ¾Ð´Ñ ÐÑÐµÐ²Ð½ÐµÐ¹ ÐÑÐµÑÐ¸Ð¸Â»"/>
          <p:cNvPicPr/>
          <p:nvPr/>
        </p:nvPicPr>
        <p:blipFill>
          <a:blip r:embed="rId1"/>
          <a:srcRect l="1839" t="8009" r="0" b="9502"/>
          <a:stretch/>
        </p:blipFill>
        <p:spPr>
          <a:xfrm>
            <a:off x="158760" y="1554120"/>
            <a:ext cx="89852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08:42:05Z</dcterms:created>
  <dc:creator>Admin</dc:creator>
  <dc:description/>
  <dc:language>en-US</dc:language>
  <cp:lastModifiedBy>ТатьянА</cp:lastModifiedBy>
  <dcterms:modified xsi:type="dcterms:W3CDTF">2019-01-02T15:31:55Z</dcterms:modified>
  <cp:revision>2</cp:revision>
  <dc:subject/>
  <dc:title>Понятие. Карта античного мира</dc:title>
</cp:coreProperties>
</file>