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7FD3-7129-41BF-B9DC-8567C447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5806-D413-41FC-A75C-D1B2C737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0E9-94BF-4EC0-86E0-F040700C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53D0-3E48-44BA-A198-716D79E4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59BF-D47F-4612-AC0F-05A30284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A8CF-6503-4524-997C-F2C30B98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7130-C455-4D5A-9ACC-E2230715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A9FF-899F-46A4-871E-F841A9DB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43C4-440E-4933-A167-590AF407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6AD5-A643-427F-8913-01DF42C6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65A4-A0DA-4953-A698-1C520163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9B8-82C0-4474-BAD6-6564A65A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F2B9-8C7F-4632-82CC-2A693897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4A56-DD7D-4A07-B203-2B2C49A2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D366-ABCE-401B-A96F-2D46BCB6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A802-CD9C-4CAE-8DD9-563258C8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177E-02B9-4FD0-8648-A4FCCC1D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222BA4-5273-45C2-B3B3-409425CA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C828E-84EB-4BE0-962B-5F228C5F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B0B436-B3EA-477B-B8C1-46DEFDD7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10D4A2-9429-49D1-A9E0-C1529D8C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F1A71-4FC9-42DF-9F06-6B2415E3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F9A7-614A-4671-87DE-21B4459F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E27B1-799C-4BE7-90B9-0B89FDEA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B68DA-FF58-478D-9966-F564B65D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2EBA6-9E32-4DCD-A2DF-38E33B56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DF4CE-5C0E-4D3C-834D-0A2BFB9C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DB0F8-3CB7-4CF6-A845-AB49FC3E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F5C74-2A59-4D46-BE79-D9EED53C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DCC20-CE9E-42B7-83FE-E9BE68DD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3382E-2697-460F-9E4F-3D5FCD2F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DE89B-9364-4C8C-924C-4790BBD3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2D9B5-E113-4E5D-9E09-31C02DF4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58D6-3E1E-4459-9E4B-82E0EA52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2C425-5440-41A5-8D70-6BD1E86B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956E5-E184-4C48-8C3A-EA040BCB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0284B-42AC-47D4-88C1-2539F857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46106-950F-4375-ADA4-5CF22EA2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A408D-F721-4C13-9D99-166A215E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053CE-B794-4BEA-B47F-FDED8D7B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4D21D-BBAF-488F-ABD0-886F81C6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2AF34-6D09-4ED3-B047-409C24C3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41188-D641-4288-9BC0-FA9F4EE0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FBE2-77EB-4824-AD55-9EA98BE2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2EB5-D64E-4A50-9175-64ED60E6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D40-AD5B-4C5F-8F60-181D08A9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913-2F13-4736-9749-AD4C206C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BF86-B219-4A79-AB36-10967B0F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62BF-CA83-4015-996E-0379A3FB12A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5506-D646-43AF-8420-F86492CC4B0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CB57-3F0E-4637-ADEB-4F8FD18FC85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2E49-2F97-479D-925F-C21ECE8BFF5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9680" y="1500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онятие. Карта античного мир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814480" y="5829120"/>
            <a:ext cx="6329520" cy="10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итель истории МАОУСОШ № 2 им. Ю.А. Гагарин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униципального образования Успенский район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елых Валерия Николаевн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0" y="2367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Вывод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: особенности природы Древней Греции оказывали существенное влияние на способ жизни и занятия греков. Близость моря, жаркий климат и отсутствие рек толкало греков к мореплаванию, обмену и торговле с соседними территор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214200" y="57168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«Особенности природы Древней Греци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1" descr="ÐÐ°ÐºÐ¸Ðµ Ð¾ÑÐ¾Ð±ÐµÐ½Ð½Ð¾ÑÑÐ¸ Ð¿ÑÐ¸ÑÐ¾Ð´Ñ ÐÐ³Ð¸Ð¿ÑÐ°, ÐÐ·Ð¸Ð¸, ÐÐ¸ÑÐ°Ñ, ÐÐ½Ð´Ð¸Ð¸, ÐÑÐµÑÐ¸Ð¸ Ð²Ñ Ð±Ñ Ð¸ÑÐ¿Ð¾Ð»ÑÐ·Ð¾Ð²Ð°Ð»Ð¸ Ð¿ÑÐ¸ Ð¾Ð¿Ð¸ÑÐ°Ð½Ð¸Ð¸ Ð¼ÐµÑÑÐ° Ð´ÐµÐ¹ÑÑÐ²Ð¸Ñ"/>
          <p:cNvPicPr/>
          <p:nvPr/>
        </p:nvPicPr>
        <p:blipFill>
          <a:blip r:embed="rId1"/>
          <a:srcRect l="1116" t="3870" r="0" b="50632"/>
          <a:stretch/>
        </p:blipFill>
        <p:spPr>
          <a:xfrm>
            <a:off x="214200" y="785880"/>
            <a:ext cx="89298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" descr="ÐÐ°ÐºÐ¸Ðµ Ð¾ÑÐ¾Ð±ÐµÐ½Ð½Ð¾ÑÑÐ¸ Ð¿ÑÐ¸ÑÐ¾Ð´Ñ ÐÐ³Ð¸Ð¿ÑÐ°, ÐÐ·Ð¸Ð¸, ÐÐ¸ÑÐ°Ñ, ÐÐ½Ð´Ð¸Ð¸, ÐÑÐµÑÐ¸Ð¸ Ð²Ñ Ð±Ñ Ð¸ÑÐ¿Ð¾Ð»ÑÐ·Ð¾Ð²Ð°Ð»Ð¸ Ð¿ÑÐ¸ Ð¾Ð¿Ð¸ÑÐ°Ð½Ð¸Ð¸ Ð¼ÐµÑÑÐ° Ð´ÐµÐ¹ÑÑÐ²Ð¸Ñ"/>
          <p:cNvPicPr/>
          <p:nvPr/>
        </p:nvPicPr>
        <p:blipFill>
          <a:blip r:embed="rId1"/>
          <a:srcRect l="1573" t="49528" r="0" b="4344"/>
          <a:stretch/>
        </p:blipFill>
        <p:spPr>
          <a:xfrm>
            <a:off x="214200" y="785880"/>
            <a:ext cx="89298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285840" y="64296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нятия жителей стра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"/>
          <p:cNvSpPr/>
          <p:nvPr/>
        </p:nvSpPr>
        <p:spPr>
          <a:xfrm>
            <a:off x="5357880" y="1571760"/>
            <a:ext cx="3786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севере Греции находилась довольно большая равнина, пригодная для земледелия. Здесь выращивали пшеницу, ячмень, фрукты, виноград. На склонах гор греки выращивали оливковые деревья и пасли домашний скот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https://fs01.infourok.ru/images/doc/56/70024/img4.jpg"/>
          <p:cNvPicPr/>
          <p:nvPr/>
        </p:nvPicPr>
        <p:blipFill>
          <a:blip r:embed="rId1"/>
          <a:stretch/>
        </p:blipFill>
        <p:spPr>
          <a:xfrm>
            <a:off x="0" y="1785960"/>
            <a:ext cx="52862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22400"/>
            <a:ext cx="9144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х занятий эллин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98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едели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198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товодств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198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оловств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198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198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месл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198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500040" y="1071720"/>
            <a:ext cx="82868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Домашнее зад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Выучить записи в тетра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142920" y="948600"/>
            <a:ext cx="90010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рмирование исторического сознания и мышления на основе глубокого осмысления древнейшего периода греческой истории, источников по данному периоду, особенностей развития греческого общества; знакомство с Древней Грец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285840" y="95976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Географическое положение и природные условия Древней Гре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313200" y="2930400"/>
            <a:ext cx="434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нятия жителей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285840" y="64296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Географическое положение и природные условия Древней Гр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"/>
          <p:cNvSpPr/>
          <p:nvPr/>
        </p:nvSpPr>
        <p:spPr>
          <a:xfrm>
            <a:off x="5072040" y="1928880"/>
            <a:ext cx="4071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ревняя Греция расположена на юго-востоке Европы, на Балканском полуостр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мывается Ионическим морем и Эгей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http://oplib.ru/image.php?way=oplib/baza10/3599508282807.files/image002.gif"/>
          <p:cNvPicPr/>
          <p:nvPr/>
        </p:nvPicPr>
        <p:blipFill>
          <a:blip r:embed="rId1"/>
          <a:stretch/>
        </p:blipFill>
        <p:spPr>
          <a:xfrm>
            <a:off x="0" y="1476360"/>
            <a:ext cx="49244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285840" y="64296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Географическое положение и природные условия Древней Гр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5072040" y="2500200"/>
            <a:ext cx="4071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чти 80% территории Греции занимали горы, плодородных равнин, пригодных для земледелия, было очень м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http://oplib.ru/image.php?way=oplib/baza10/3599508282807.files/image002.gif"/>
          <p:cNvPicPr/>
          <p:nvPr/>
        </p:nvPicPr>
        <p:blipFill>
          <a:blip r:embed="rId1"/>
          <a:stretch/>
        </p:blipFill>
        <p:spPr>
          <a:xfrm>
            <a:off x="0" y="1476360"/>
            <a:ext cx="49244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285840" y="64296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Географическое положение и природные условия Древней Гр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5357880" y="1928880"/>
            <a:ext cx="378612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ольших и полноводных рек в Греции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а морях много островов, самый крупный из них –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К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https://fs01.infourok.ru/images/doc/56/70024/img4.jpg"/>
          <p:cNvPicPr/>
          <p:nvPr/>
        </p:nvPicPr>
        <p:blipFill>
          <a:blip r:embed="rId1"/>
          <a:stretch/>
        </p:blipFill>
        <p:spPr>
          <a:xfrm>
            <a:off x="0" y="1785960"/>
            <a:ext cx="52862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285840" y="64296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Географическое положение и природные условия Древней Гр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5357880" y="2071800"/>
            <a:ext cx="378612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Греция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амой природой делится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-Северную Греци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-Среднюю Грецию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-Южную Грецию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https://fs01.infourok.ru/images/doc/56/70024/img4.jpg"/>
          <p:cNvPicPr/>
          <p:nvPr/>
        </p:nvPicPr>
        <p:blipFill>
          <a:blip r:embed="rId1"/>
          <a:stretch/>
        </p:blipFill>
        <p:spPr>
          <a:xfrm>
            <a:off x="0" y="1785960"/>
            <a:ext cx="52862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357120" y="1785960"/>
            <a:ext cx="8501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Благодаря теплой зиме и жаркому лету сельскохозяйственный год был очень продолжительным, что создавало благоприятные условия для развития земледелия. Моря зимой не замерзали. Это позволяло круглый год заниматься рыбной ловлей и мореплава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имат Греции был засушливым, из-за того что реки пересыхали, были районы, где трудно было найти источники с питьевой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285840" y="64296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Географическое положение и природные условия Древней Гр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214200" y="57168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«Особенности природы Древней Греци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ÐÐ°Ð¿Ð¾Ð»Ð½Ð¸ÑÐµ ÑÐ°Ð±Ð»Ð¸ÑÑ Â«ÐÑÐ¾Ð±ÐµÐ½Ð½Ð¾ÑÑÐ¸ Ð¿ÑÐ¸ÑÐ¾Ð´Ñ ÐÑÐµÐ²Ð½ÐµÐ¹ ÐÑÐµÑÐ¸Ð¸Â»"/>
          <p:cNvPicPr/>
          <p:nvPr/>
        </p:nvPicPr>
        <p:blipFill>
          <a:blip r:embed="rId1"/>
          <a:srcRect l="1839" t="8009" r="0" b="9502"/>
          <a:stretch/>
        </p:blipFill>
        <p:spPr>
          <a:xfrm>
            <a:off x="158760" y="1554120"/>
            <a:ext cx="898524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3T08:42:05Z</dcterms:created>
  <dc:creator>Admin</dc:creator>
  <dc:description/>
  <dc:language>en-US</dc:language>
  <cp:lastModifiedBy>ТатьянА</cp:lastModifiedBy>
  <dcterms:modified xsi:type="dcterms:W3CDTF">2019-01-02T15:31:55Z</dcterms:modified>
  <cp:revision>2</cp:revision>
  <dc:subject/>
  <dc:title>Понятие. Карта античного мира</dc:title>
</cp:coreProperties>
</file>