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FA8-719E-4DFF-91B2-57B4E875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C6C-884D-42BA-A270-E42CEACF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BB2-8C8E-4E11-8EF6-4FFF52C7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1D9-98B6-428D-B2E2-4B087893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9B0A-F1AA-480F-9C1C-83BECC16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C9B9-8A8A-40EB-979A-E0F9B356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E33-48B3-4E71-A68E-29701ACA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A67-6E07-45CB-878A-F280EED5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9601-0941-4480-99BB-BC1CA3D7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837D-F52F-4E28-AFEB-17BF389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BBA4-F084-4BDA-9901-B5CD76A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D81-A1E2-4979-8A84-25DB42E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3ABC-98B6-498F-A878-270F36C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72AA-9ECC-453A-B3E7-27F7A83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0AFF-B798-4988-977F-A69705CF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5741-66F9-4308-AF37-992875F2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B1B8-2B0D-49F9-8262-D9F8AC6F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945A-8771-47C1-8D6E-905B23BA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9840-E64B-4CF0-8121-C751D27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9885-251B-417E-A8A1-CAF96806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0B45-342B-4823-913E-3609559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8603-45D8-476E-8AA0-BF28F143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AD4-6122-4839-8CB5-58ACE05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9368-16AA-4E25-8D2D-1A42DD6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B2BB-3A31-48A8-A322-F806C29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1125-7B0B-408E-81BE-07FDBF4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FBC7-6D39-4A8B-ACBB-B7F7B76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21CF-4838-4858-8936-FBDC0362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97BE-92CA-466D-9C09-3958E628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4403-3161-48D6-B422-E00FA3A4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A74F-29EE-44F1-95A5-A363BD26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B17D-8BC9-49A0-86A7-78A28B79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B05A-58DA-4323-B0F7-54BC1AF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0F0-A9DA-4305-9DED-2790A0A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898C-8FCF-44F5-AAB6-BFF5AE7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4C88-97CB-4F2A-BF93-1B137DB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2E8C-5260-41F6-90D8-3988FE46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E41C-7FD8-4001-9E43-129E9DD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3CD9-3F25-4FA6-B848-5E834D1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37F0-9257-4BB3-A4E4-C9D377B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00E9-F9BF-489F-AF35-CEB240A4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A989-70C7-450E-AD34-1C5F5DBB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1824-A979-494C-A3C7-37F2A885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91DF-91AA-406F-A09F-90F8F752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93C-264A-4C6B-9081-002EF35F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F00E-2FC8-49B2-A2BB-98E6AD6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42DF-08D9-4581-BAF1-36F4497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6D32-D77A-4B29-94DC-D4627C4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7326-C27D-433C-926F-5293256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C9E7-BE9C-427A-B67C-871D895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8B7DE-2DC7-462A-AC6E-341D515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E6A0E-57B7-4951-89EC-459211D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B390-E066-4E22-B912-1E0E3DA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0DC9-2F45-4893-A2FA-E256596B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575E-C984-425C-A53C-5A9FF49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2AF-EA7E-4177-8A0E-47D37A81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EDE2-0F65-4A6E-AD07-C604146A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FEA85-1F30-4008-B597-22B200C8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19E5-B2B9-40E4-BAF8-4D11C2E7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E244-B0F3-4318-9B9C-A743B18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0468C-0A4C-46C4-A03A-F89D755D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7178-C58E-4B88-B88E-EB77112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258A-2033-4818-8A72-867B56FE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28C3-0408-469F-924C-A2FA2B8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A39E-B61A-4BD3-B3D8-D48F1F9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A679-5226-41AC-95B9-5F58D71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517-B515-4BF8-9826-9B2510B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6331-FDAC-432F-85B0-E3EAF489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226D-AA70-4050-86B4-035EA9A8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CD5BA-BDD1-43C9-A2AB-480F46C8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903-E7D2-421F-8839-03A1182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18A-4784-4D8B-B690-B26D0CC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C68-48D5-4E9A-A3D8-E880E14B6F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C4A0-72C2-4664-8638-D349A58CC1B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976-F241-48F8-AD14-BA8352DEB50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E9F2-1BB1-45EE-883A-7A5F299779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D5F5-FE84-4A17-BD82-47E2DD6F25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BCF-7E9B-4AFE-8EB0-2F1862FC5FD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553"/>
                </a:solidFill>
                <a:latin typeface="Verdana"/>
              </a:rPr>
              <a:t>Расселение древнейшего человека</a:t>
            </a:r>
            <a:br>
              <a:rPr sz="6000"/>
            </a:b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1571760" y="521496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МАОУСОШ № 2 им. Ю.А. Гаг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Успен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ых Валерия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642960" y="28584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57120" y="150012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1.Расселение древнейш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.Расселение древнейш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Verdana"/>
              </a:rPr>
              <a:t>Задание на уро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0040" y="2895120"/>
            <a:ext cx="7958160" cy="2133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чем древние люди отличались от животных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357120" y="28584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Первобытные люд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люди, жившие до изобретения письма, до появления  первых больших городов и государ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900igr.net/datas/biologija/Drevnie-ljudi/0008-008-Drevnie-ljudi.jpg"/>
          <p:cNvPicPr/>
          <p:nvPr/>
        </p:nvPicPr>
        <p:blipFill>
          <a:blip r:embed="rId1"/>
          <a:srcRect l="0" t="8331" r="0" b="7291"/>
          <a:stretch/>
        </p:blipFill>
        <p:spPr>
          <a:xfrm>
            <a:off x="1500120" y="2571840"/>
            <a:ext cx="61437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500040" y="428760"/>
            <a:ext cx="77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ервые люди появились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коло 2 млн. лет наз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800" spc="-1" strike="noStrike">
                <a:solidFill>
                  <a:srgbClr val="e3ded1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рхеологические раскопки свидетельствуют о том, что первые люди появились в восточной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2404800" y="3929040"/>
            <a:ext cx="26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642960" y="51436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Карта на стр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428760" y="157176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 людей не было защиты от хо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Легко было найти пищу и вы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ного различных видов растений и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857160" y="2142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entury Gothic"/>
              </a:rPr>
              <a:t>Древние люди селились в Восточной Африке потому что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https://www.memotest.ru/ImageUpload/8a93d958-e8c3-4dd6-9c28-7a1b4d20483c/xenopus-laevis-12.jpg"/>
          <p:cNvPicPr/>
          <p:nvPr/>
        </p:nvPicPr>
        <p:blipFill>
          <a:blip r:embed="rId1"/>
          <a:stretch/>
        </p:blipFill>
        <p:spPr>
          <a:xfrm>
            <a:off x="3857760" y="3429000"/>
            <a:ext cx="4429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1.Происхождение человек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1523880" y="838080"/>
          <a:ext cx="5942160" cy="31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942160" cy="313560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214200" y="3657600"/>
            <a:ext cx="8382240" cy="320040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Древних людей , которые использовали орудия труда ученые называют </a:t>
            </a:r>
            <a:r>
              <a:rPr b="1" lang="en-US" sz="2800" spc="-1" strike="noStrike">
                <a:solidFill>
                  <a:srgbClr val="e3ded1"/>
                </a:solidFill>
                <a:latin typeface="Verdana"/>
              </a:rPr>
              <a:t>Homo habilis- “</a:t>
            </a: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человек умелы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А как же выгладил Древнейший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714240" y="55008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ткроем стр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428760" y="285840"/>
            <a:ext cx="8381880" cy="235728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Century Gothic"/>
              </a:rPr>
              <a:t>Освобождение рук привело к быстрому развитию первых людей.  </a:t>
            </a:r>
            <a:r>
              <a:rPr b="1" lang="ru-RU" sz="2800" spc="-1" strike="noStrike">
                <a:solidFill>
                  <a:srgbClr val="cc0000"/>
                </a:solidFill>
                <a:latin typeface="Century Gothic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Century Gothic"/>
              </a:rPr>
              <a:t>Изготовление орудий труда стало главным отличием человека от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uslide.ru/images/1/8085/960/img8.jpg"/>
          <p:cNvPicPr/>
          <p:nvPr/>
        </p:nvPicPr>
        <p:blipFill>
          <a:blip r:embed="rId1"/>
          <a:stretch/>
        </p:blipFill>
        <p:spPr>
          <a:xfrm>
            <a:off x="1714680" y="230364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285840" y="3571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Чем же люди отличаются от обезья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285840" y="17146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Умение изготавливать орудие труда: заостренные камни и палки –  коп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85880" y="3643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Что называют орудием тру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214200" y="471492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Орудие труда – это то, чем рабо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5T15:32:03Z</dcterms:created>
  <dc:creator>Admin</dc:creator>
  <dc:description/>
  <dc:language>en-US</dc:language>
  <cp:lastModifiedBy>ТатьянА</cp:lastModifiedBy>
  <dcterms:modified xsi:type="dcterms:W3CDTF">2019-01-02T11:11:02Z</dcterms:modified>
  <cp:revision>10</cp:revision>
  <dc:subject/>
  <dc:title>Расселение древнейшего человека</dc:title>
</cp:coreProperties>
</file>