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572-7D24-4FBD-9FFD-86904B48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8AD-32D4-4603-87DF-1F03812C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81B-7BDA-4ABC-97DB-6E4EAF6C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805-D9D7-4D70-9503-6793B9B9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EC0-1257-482C-B7A3-181351C5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708-59D4-4473-B1EE-E6C240CD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271C-CC21-4D3B-9375-819CB327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0D41-C74C-4C4A-9FD9-30DEBF39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F341-31E7-4A1C-9D7A-6603BF75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2DCB-D6AC-44BC-9139-8CA4136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E15F-2F38-4CDC-AE82-42D758E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E54-E1EE-45AB-B72C-20983F0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F3D-6975-4B02-9954-F787821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A4B1-A1EA-4A6C-9510-728879F1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B6E-2A42-4D03-B805-69178625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0287-0427-43CC-8C88-B9F15484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46F-6E13-480A-BC01-9A96F28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1FF5-8081-4764-B934-27009799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55CD-844E-4BC0-B474-25477B58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3B7B2-E0E1-4147-B2FF-C666E9F0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59AA-FBA6-41A3-9A69-29B63E3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4A6A-BA33-4B3F-8924-8D4E911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C7A-FC34-4132-ABE4-345F6DA8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5DCE-9612-498A-94E1-7F66A4D6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D146-94E6-456D-9BAF-8B5AF73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3740-D987-4AF5-B147-0157A8B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68D4-135E-4420-B1CE-A98DA37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AF58-DE3E-4EC0-BA3A-E26551BF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9E90-281E-4450-AE77-56654ACB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1670-926A-41DE-B27B-1412F4EA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948E-31DA-4E0E-B33A-50A9E18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2058-2BAD-418F-ABC9-A4ABAFC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3EE4-AD1F-4F0E-8F6D-8926F904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06C-00AC-4514-93E0-22409293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D686-DC63-438C-A304-DD0F3CE0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A32C8-E312-4C07-AA7F-7A1FC52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EF42-50D0-4FE5-949E-13B7E76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2ABF-0373-4FFA-AA66-6FE11FE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B2FC-EB0B-4BD6-AF68-D0F105A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4422-6C41-414A-B5F9-8E86BA1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C000-A91D-4ED0-9A07-D3A7EE09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8B74-AF09-476A-B498-3F5EC0CA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D8BC-6886-47D7-8627-AE3FE8D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4B2A-AC3D-4414-8AAD-5AF77721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F74-FBF4-4D9C-B53C-2DE81C0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9368-4080-48BD-BF8F-D0C6A2A5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CA222-1E7F-4063-9839-F2AFA76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3E8D9-74CA-44D3-A90D-B1EE858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6D96-E880-4C1B-BE1D-9F2332A9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8887-0AC4-4164-8E0A-C1479B2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3B19-0F11-40C4-8DA4-1775E73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2196-36C6-45AD-A787-EFCA892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23F5-1630-4DF3-9D6B-EC615D1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FE3F-9131-455F-9C7F-D80F2E7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77BD-9560-4160-8AC0-AE710507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9B4-E7E5-4822-A87B-F59C4F1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1715-D37D-440F-853B-24601E0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0B6C-EB3A-40A1-AFFA-D9A5F475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3F83D-52E5-43AF-B1C2-DC434030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FBD0-81DF-42E8-AF1D-F8278C10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BFCED-F0EE-4BCD-AC12-FAEA8372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8EB47-0C68-48E2-B605-FB3D9F31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5E60-656F-4F6D-A03C-A0F67360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20CB-D3C8-4370-960A-BB42ADE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CA88C-71CD-4547-ADD9-CC71E3B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8ADA6-A1B1-4A0E-BCA3-8227FBE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07E-32D4-4662-B818-95196618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913E-9C7F-40B9-A696-CBD0504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7EA5-2FB3-4421-8CFA-621E06B5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69CE-E5DB-4695-AEC3-12EF0E73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07B-F7A2-46DF-B242-05490CD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23E-E4C7-44A0-B16D-CC911E0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C4E-A0C3-496D-9334-4BAA487A38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103A-D189-4922-BF2C-EAD716C390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0268-DE58-4E9C-8FE6-FC805EEC3F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527-6FBE-40DE-88F3-CA4F522D6E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1179-6558-4F9F-BFD7-0F576FA6B0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55A-5BE0-48D3-8757-BDAD9D6DC3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553"/>
                </a:solidFill>
                <a:latin typeface="Verdana"/>
              </a:rPr>
              <a:t>Расселение древнейшего человека</a:t>
            </a:r>
            <a:br>
              <a:rPr sz="6000"/>
            </a:b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1571760" y="521496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МАОУСОШ № 2 им. Ю.А. Гаг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Успен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ых Валери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642960" y="28584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План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57120" y="150012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.Расселение древнейш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Расселение древнейш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Verdana"/>
              </a:rPr>
              <a:t>Задание на уро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0040" y="2895120"/>
            <a:ext cx="7958160" cy="2133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чем древние люди отличались от животных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357120" y="28584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Первобытные люд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люди, жившие до изобретения письма, до появления  первых больших городов и государ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900igr.net/datas/biologija/Drevnie-ljudi/0008-008-Drevnie-ljudi.jpg"/>
          <p:cNvPicPr/>
          <p:nvPr/>
        </p:nvPicPr>
        <p:blipFill>
          <a:blip r:embed="rId1"/>
          <a:srcRect l="0" t="8331" r="0" b="7291"/>
          <a:stretch/>
        </p:blipFill>
        <p:spPr>
          <a:xfrm>
            <a:off x="1500120" y="2571840"/>
            <a:ext cx="61437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500040" y="42876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ервые люди появились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коло 2 млн. лет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рхеологические раскопки свидетельствуют о том, что первые люди появились в восточной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2404800" y="3929040"/>
            <a:ext cx="26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642960" y="51436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Карта на стр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428760" y="15717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людей не было защиты от хо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Легко было найти пищу и вы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ного различных видов растений и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857160" y="2142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entury Gothic"/>
              </a:rPr>
              <a:t>Древние люди селились в Восточной Африке потому что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https://www.memotest.ru/ImageUpload/8a93d958-e8c3-4dd6-9c28-7a1b4d20483c/xenopus-laevis-12.jpg"/>
          <p:cNvPicPr/>
          <p:nvPr/>
        </p:nvPicPr>
        <p:blipFill>
          <a:blip r:embed="rId1"/>
          <a:stretch/>
        </p:blipFill>
        <p:spPr>
          <a:xfrm>
            <a:off x="3857760" y="3429000"/>
            <a:ext cx="4429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1.Происхождение человек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1523880" y="838080"/>
          <a:ext cx="5942160" cy="31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942160" cy="313560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14200" y="3657600"/>
            <a:ext cx="8382240" cy="320040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Древних людей , которые использовали орудия труда ученые называют </a:t>
            </a:r>
            <a:r>
              <a:rPr b="1" lang="en-US" sz="2800" spc="-1" strike="noStrike">
                <a:solidFill>
                  <a:srgbClr val="e3ded1"/>
                </a:solidFill>
                <a:latin typeface="Verdana"/>
              </a:rPr>
              <a:t>Homo habilis- “</a:t>
            </a: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человек умелы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e3ded1"/>
                </a:solidFill>
                <a:latin typeface="Verdana"/>
              </a:rPr>
              <a:t>А как же выгладил Древнейший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714240" y="55008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ткроем стр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428760" y="285840"/>
            <a:ext cx="8381880" cy="2357280"/>
          </a:xfrm>
          <a:prstGeom prst="rect">
            <a:avLst/>
          </a:prstGeom>
          <a:solidFill>
            <a:srgbClr val="323232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Освобождение рук привело к быстрому развитию первых людей.  </a:t>
            </a:r>
            <a:r>
              <a:rPr b="1" lang="ru-RU" sz="2800" spc="-1" strike="noStrike">
                <a:solidFill>
                  <a:srgbClr val="cc0000"/>
                </a:solidFill>
                <a:latin typeface="Century Gothic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Century Gothic"/>
              </a:rPr>
              <a:t>Изготовление орудий труда стало главным отличием человека от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uslide.ru/images/1/8085/960/img8.jpg"/>
          <p:cNvPicPr/>
          <p:nvPr/>
        </p:nvPicPr>
        <p:blipFill>
          <a:blip r:embed="rId1"/>
          <a:stretch/>
        </p:blipFill>
        <p:spPr>
          <a:xfrm>
            <a:off x="1714680" y="230364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285840" y="3571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Чем же люди отличаются от обезья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285840" y="17146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Умение изготавливать орудие труда: заостренные камни и палки –  коп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85880" y="3643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Что называют орудием тру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214200" y="471492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Орудие труда – это то, чем рабо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5:32:03Z</dcterms:created>
  <dc:creator>Admin</dc:creator>
  <dc:description/>
  <dc:language>en-US</dc:language>
  <cp:lastModifiedBy>ТатьянА</cp:lastModifiedBy>
  <dcterms:modified xsi:type="dcterms:W3CDTF">2019-01-02T11:11:02Z</dcterms:modified>
  <cp:revision>10</cp:revision>
  <dc:subject/>
  <dc:title>Расселение древнейшего человека</dc:title>
</cp:coreProperties>
</file>