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5D1-A9F3-4F23-A6BC-8EC4B14B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175-3F54-4AFC-A676-28A6D01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318-3834-49F0-87BE-6413AC9C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F6C-7AB1-447D-A4E4-5E4FE1ED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6ECE-82CD-4125-84DD-0237EFC1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A5B-289C-41A1-A3C7-37599C3D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AA95-D820-4055-8EC8-C184620C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90F-4235-4760-AD6D-E42CD5D6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CA4-E442-459C-9258-37824EB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9E09-BCA2-4757-9C1C-26CAD467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B48F-F4AD-44B3-BFEA-02E1AD2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904-2CFF-4256-B65F-DE57ECCE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03DD-5EE4-43FF-B938-C367B24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70D6-60C0-492E-BB26-FE33E8C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7640-92FF-4BB3-8A78-A964531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811-FB04-4905-AEBA-CE9A6F8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8579-4258-4ED6-9566-7EECE6C6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C4C7-F988-4B01-BFFD-A29AA1E3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64AF-895A-4322-BF78-FB36A04B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FE9B-FBD3-44CE-A54C-E6A1D8C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96A2-1EE9-456A-B7DB-1058390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DB40-C4BE-4437-AD0C-FF44200F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6E6-D22B-4766-95E4-03C3C3FC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D6AA-1D5A-4587-8854-3F74B46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9125-484D-4BAD-83CF-FDEE536E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2B51-A2A1-4121-8DC3-884721F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7863-F29A-479B-8702-C837429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3519-A4F4-42A2-BF90-930C6DE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1396-3773-428F-B40C-548FC204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CA1A-BB98-41FD-ADCC-7FD9E6AB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0FCB-BA96-4633-9477-9122F421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E54A6-21CE-4632-A335-468636F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B876-CA56-4D3A-85C7-171EEDC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3E0-EA0D-4771-987C-A845E57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3156-D1F8-48F5-848E-4CD47A6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3FA5-5A00-4E92-8A30-33C87867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72B2-F05F-4D4C-ABAF-C099B455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E55B-882C-4B6A-A5B4-2C81B4B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4AB6-D86D-4220-8C30-EF27FA3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7701-5C1F-4E78-AD29-E7B168BB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86DA7-920D-4EBA-A3A5-A8AC441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14E6-429E-4351-883E-72A3E2F3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94A1-523D-4531-8AEC-F0995773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CA36-2CCA-4966-9993-4F7A3BC7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0EA-AAD1-4E40-97F1-28031590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DED96-5B7C-42F1-9497-44636DFC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7B06-9ABC-4677-992B-0F60C270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E679-777F-46AF-B5DF-C37B9CC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2EDE-AA6D-4B6A-B1F6-D080BF18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C088-8CDB-4232-B068-F2BE205F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33FED-C217-41F8-BE8F-26CFEB5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1C44-AD1F-4EDA-85B4-CA3740C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49CE-CA78-48ED-AC44-44048393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9EE0-C182-442A-B612-752B8EB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33AE-6D64-464E-B6AB-00D8B37E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B8E-79B9-46D7-829A-3F7FC00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C712-88EF-479A-9998-64FEBECC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85053-54D5-437A-A161-0D560860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B9F5-5BE3-4F8C-A57F-8ED5D66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6E9B-0BC2-4E8B-B1BA-727EB9DC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B2AA-BBDD-4F88-A13F-864EBFA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2D64B-5C08-4D95-8A4C-4A4AD4A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5693E-A282-42DA-8AE9-B2F8CDE8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9513-265F-4DD8-AE17-BAE034A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975D-065A-4140-9159-B0AA7BD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DBC8-1038-4F93-9EB6-7CD2DCB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7FC-5482-43CB-94C3-0E2B090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E16B-1178-4FF6-9B41-80059A6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3DFF-C885-4652-A3AE-052E9842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5C79-D754-49D0-80C5-624699E2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3E6-2A48-4769-921E-A5AD3BD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402-1EE1-4EC6-886B-7BEB5F3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96DC-E31B-4C4A-BC9F-58C62F0706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91D1-8CF9-40DC-ABFD-5D706529B4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C0A-AC42-4951-9111-D1A05E2925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059-DDDE-4B3E-938C-49C65F127B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2F1-494C-426C-89B8-07C3692EE5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689-2062-4C29-9029-2D023943734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214200" y="4287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 помощью орудия труда человек мог расколоть орех, вырубить с помощью камня дубины, убить мелкого зверя и защищаться от нападени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https://xn--b1aaakaba9b1aeojjo1b6af.xn--p1ai/images/2017news/wx10802.jpg"/>
          <p:cNvPicPr/>
          <p:nvPr/>
        </p:nvPicPr>
        <p:blipFill>
          <a:blip r:embed="rId1"/>
          <a:stretch/>
        </p:blipFill>
        <p:spPr>
          <a:xfrm>
            <a:off x="285840" y="2286000"/>
            <a:ext cx="3774960" cy="3786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https://www.moya-planeta.ru/files/holder/f5/24/f524c28b770846068aa7ffeb85d93a6e.jpg"/>
          <p:cNvPicPr/>
          <p:nvPr/>
        </p:nvPicPr>
        <p:blipFill>
          <a:blip r:embed="rId2"/>
          <a:stretch/>
        </p:blipFill>
        <p:spPr>
          <a:xfrm>
            <a:off x="4272120" y="2571840"/>
            <a:ext cx="4871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2.Древнейшие орудия труд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380880" y="1779480"/>
          <a:ext cx="426744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79480"/>
                    <a:ext cx="4267440" cy="398484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724280" y="1066320"/>
            <a:ext cx="4114800" cy="541044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Основным занятием древних людей было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собиратель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Но даже довольствуясь дарами природы древние люди изготовляли орудия тру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На их производство  шел камен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Первым орудием труда было </a:t>
            </a:r>
            <a:r>
              <a:rPr b="1" lang="ru-RU" sz="2400" spc="-1" strike="noStrike">
                <a:solidFill>
                  <a:srgbClr val="a50021"/>
                </a:solidFill>
                <a:latin typeface="Verdana"/>
              </a:rPr>
              <a:t>рубило</a:t>
            </a:r>
            <a:r>
              <a:rPr b="1" lang="ru-RU" sz="2400" spc="-1" strike="noStrike">
                <a:solidFill>
                  <a:srgbClr val="e3ded1"/>
                </a:solidFill>
                <a:latin typeface="Verdana"/>
              </a:rPr>
              <a:t>-галька заостренная с одного кр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3.Охота древних людей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0040" y="3581280"/>
            <a:ext cx="8305920" cy="327672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Кроме собирательства другим важнейшим занятием наших далеких предков была </a:t>
            </a:r>
            <a:r>
              <a:rPr b="1" lang="ru-RU" sz="2600" spc="-1" strike="noStrike">
                <a:solidFill>
                  <a:srgbClr val="ffc000"/>
                </a:solidFill>
                <a:latin typeface="Verdana"/>
              </a:rPr>
              <a:t>охо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Они загоняли крупных животных на берег реки, к обрыву или в ловушку и забивали их камн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Удачная охота позволяла обеспечить себя едой на длительное врем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4" descr="http://900igr.net/up/datai/243493/0012-006-.jpg"/>
          <p:cNvPicPr/>
          <p:nvPr/>
        </p:nvPicPr>
        <p:blipFill>
          <a:blip r:embed="rId1"/>
          <a:srcRect l="3334" t="12125" r="3334" b="6062"/>
          <a:stretch/>
        </p:blipFill>
        <p:spPr>
          <a:xfrm>
            <a:off x="1571760" y="857160"/>
            <a:ext cx="57862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2"/>
          <p:cNvSpPr/>
          <p:nvPr/>
        </p:nvSpPr>
        <p:spPr>
          <a:xfrm>
            <a:off x="357120" y="357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А как же человек овладел огнё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https://ds03.infourok.ru/uploads/ex/0569/00052200-eb95aace/img7.jpg"/>
          <p:cNvPicPr/>
          <p:nvPr/>
        </p:nvPicPr>
        <p:blipFill>
          <a:blip r:embed="rId1"/>
          <a:srcRect l="10937" t="22919" r="10157" b="11459"/>
          <a:stretch/>
        </p:blipFill>
        <p:spPr>
          <a:xfrm>
            <a:off x="1000080" y="1785960"/>
            <a:ext cx="7215120" cy="4500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6072120" y="114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тр. 12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8"/>
          <p:cNvGraphicFramePr/>
          <p:nvPr/>
        </p:nvGraphicFramePr>
        <p:xfrm>
          <a:off x="457200" y="1028880"/>
          <a:ext cx="33750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3375000" cy="556236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143240" y="499680"/>
            <a:ext cx="4648320" cy="563868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Первоначально люди брали огонь от загоревшихся после попадания молнии деревье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За ним строго следили, и если огонь потухал, то виновников изгоня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3ded1"/>
                </a:solidFill>
                <a:latin typeface="Verdana"/>
              </a:rPr>
              <a:t>Такой способ получения огня был очень ненадежен и люди стали искать как получить пламя не завися от природ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2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07f0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57120" y="5000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Что давало умение использовать ого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https://ds04.infourok.ru/uploads/ex/12e9/00046c30-57cc335b/img12.jpg"/>
          <p:cNvPicPr/>
          <p:nvPr/>
        </p:nvPicPr>
        <p:blipFill>
          <a:blip r:embed="rId1"/>
          <a:srcRect l="10937" t="6252" r="11720" b="6252"/>
          <a:stretch/>
        </p:blipFill>
        <p:spPr>
          <a:xfrm>
            <a:off x="2714760" y="1571760"/>
            <a:ext cx="3929040" cy="33336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3"/>
          <p:cNvSpPr/>
          <p:nvPr/>
        </p:nvSpPr>
        <p:spPr>
          <a:xfrm>
            <a:off x="214200" y="49291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амым важным следствием стало употребление вареной или жареной пищи. Это привело к рез кому скачку в умственном развитии человека.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За короткий срок, после овладения огнем, древний человек  приобрел со-ременный об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900igr.net/datas/biologija/CHelovek-i-obezjana/0005-005-Stadii-proiskhozhdenija-chelove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s://cf.ppt-online.org/files/slide/v/vep61Cj4x7D9VthFAagwuUQJiWESyoLfb3XsMz/slide-4.jpg"/>
          <p:cNvPicPr/>
          <p:nvPr/>
        </p:nvPicPr>
        <p:blipFill>
          <a:blip r:embed="rId1"/>
          <a:stretch/>
        </p:blipFill>
        <p:spPr>
          <a:xfrm>
            <a:off x="0" y="-447840"/>
            <a:ext cx="975348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428840" y="57168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500040" y="178596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ыучить записи в тет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ыучить параграф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5T15:32:03Z</dcterms:created>
  <dc:creator>Admin</dc:creator>
  <dc:description/>
  <dc:language>en-US</dc:language>
  <cp:lastModifiedBy>ТатьянА</cp:lastModifiedBy>
  <dcterms:modified xsi:type="dcterms:W3CDTF">2019-01-02T11:11:33Z</dcterms:modified>
  <cp:revision>10</cp:revision>
  <dc:subject/>
  <dc:title>Расселение древнейшего человека</dc:title>
</cp:coreProperties>
</file>