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1E44-52A6-4B1E-93BA-92FF372C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35A7-056D-473A-BE86-F7CDF0D8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DAD5-9224-4DD0-AA0C-E87209DB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5D42-07FD-4CD5-B2FE-870D5932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455E-8F80-47BF-B7C1-AE80C572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FA2E-5FAE-409B-B197-61B273EB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2F5D-52BF-49FD-911A-1ABF5C46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EC3E-B7DE-4539-80A5-4A577B01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E7D3-0A71-4C91-B4B0-760B2C02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B09A-B9C6-41D3-9EE3-5673BFA8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E717-8B44-479D-AAD0-CE001654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5B3A-4268-46D2-8EF3-DE638E0D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4EB5-29FC-47C4-948A-5EF0D3C5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4310-D88B-4C74-9C77-49E74145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0681-BA73-4741-ACF0-E0286020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F3A1-52BC-42EB-B5C9-E8A001C4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28D7-0688-4900-B65E-4C0B95F0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B7BF1-E37E-48B5-98AB-9AABB340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98156-D773-4899-8421-6C9D0BF8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B1460-54B9-473F-8F2E-D47F4D10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B7379-C569-4C1A-9B62-44EF061F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F40E3-C080-44CA-A4D1-A757843B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B53D-2195-4534-950C-B559B8DD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0546A-4D9B-4F63-B69E-50B2AA01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6382F-9922-4BDF-A3D2-C4CFF014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2C5CF-F949-4177-BE39-574CCE9A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E9851-DBDF-4F65-9385-21F140E7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C8DD3-096C-496F-92C6-0A6857A1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84ACE-87A4-4D78-8A76-BC74038B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CAE01-DAD8-4647-B420-D73EA687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E4D25-E89C-4F82-B4A5-F745AA5C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01C24-A91D-44F9-BE69-38BEA3E2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F7F5B-3A20-4209-9BC6-F71A3821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E0A7-4904-47C1-9241-0C3D97EE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9DE1E-B128-4E53-83B8-85E71BE3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AE2C8-3E9C-46D3-AB60-FCC547DC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FE510-E452-4E3F-BD68-6833196B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715A7-19CE-4490-B330-214E09AF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0491E-BD91-4321-A2D1-E51F4BEC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3604C-BC35-4AF1-8E33-5118A67A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BF053-AB65-4C33-8630-7A28ED72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41A01-B837-4C3E-920B-2EC4BF76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BC5C4-5D55-449E-BBEE-160D0B95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CDD7E-F84C-4E66-A06F-943701B4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495A-4F2F-4442-8A86-34C7E166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D5FB3-D36D-40B1-89C4-4D2DE889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547A3-CA77-4835-B6BE-9E89D7F3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0C94C-6359-4756-9210-43B297AD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1F61A-D0CA-4C08-BF2D-282C9BDC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8F8AD-44E5-4B58-AD56-95C30197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473F8-2E68-4ECC-8FF0-43699FEC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5215D-C596-4B9D-A1A9-21583F17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92925-200E-4240-92C3-488052C1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AA652-5B3F-4FE9-99F3-47F73905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1A5F5-E19C-4F90-AFAD-3CE49039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63BF-1F3E-4419-AA75-41E150C4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18FDF-8C0A-4EF0-A504-9EA9179E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3CD73-EB19-4434-9DB6-A433AB9B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A4FAA-D1D7-4776-844D-9FFC512A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F3872-C294-42C7-9413-84676C6A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E5A55-363D-481F-9CE3-C3F8FFF9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AA8C2-4D36-41CC-958C-EBD56FD6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A19C9-09FB-4CFE-A384-B2B4C616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C0615-B59F-437E-846D-568F4EF5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1D6D1-C92A-465E-8BA3-F3126B07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34CE6-9DF9-4E7F-8FB1-CB2E285B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9784-9DC6-4C9F-98BE-2C7AF9A8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FB63A-62E4-4A20-BE89-9E58544B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92228-F8F1-48F0-8E8A-7A91C7C6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2EF76-39D6-4334-965B-86B76720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DFB9-8DC4-4410-8367-ECDB7281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81DD-607D-4CCA-AB2A-5109242A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72E8-EC4D-49CD-A211-BD1B0688B6D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C551-8F8A-4B37-AFB8-A956FB5E0CF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501A-ACB8-4A81-A631-5E6A3DE4475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03F2-3E6D-41F4-98E9-35D4C0C7D08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4720-FBFC-4A1F-8FB0-C35611D8CAB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D3E2-AF36-4BCF-9302-55AC91091C1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1"/>
          <p:cNvSpPr/>
          <p:nvPr/>
        </p:nvSpPr>
        <p:spPr>
          <a:xfrm>
            <a:off x="214200" y="42876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С помощью орудия труда человек мог расколоть орех, вырубить с помощью камня дубины, убить мелкого зверя и защищаться от нападения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https://xn--b1aaakaba9b1aeojjo1b6af.xn--p1ai/images/2017news/wx10802.jpg"/>
          <p:cNvPicPr/>
          <p:nvPr/>
        </p:nvPicPr>
        <p:blipFill>
          <a:blip r:embed="rId1"/>
          <a:stretch/>
        </p:blipFill>
        <p:spPr>
          <a:xfrm>
            <a:off x="285840" y="2286000"/>
            <a:ext cx="3774960" cy="37861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https://www.moya-planeta.ru/files/holder/f5/24/f524c28b770846068aa7ffeb85d93a6e.jpg"/>
          <p:cNvPicPr/>
          <p:nvPr/>
        </p:nvPicPr>
        <p:blipFill>
          <a:blip r:embed="rId2"/>
          <a:stretch/>
        </p:blipFill>
        <p:spPr>
          <a:xfrm>
            <a:off x="4272120" y="2571840"/>
            <a:ext cx="4871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Verdana"/>
              </a:rPr>
              <a:t>2.Древнейшие орудия труда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69" name="Object 5"/>
          <p:cNvGraphicFramePr/>
          <p:nvPr/>
        </p:nvGraphicFramePr>
        <p:xfrm>
          <a:off x="380880" y="1779480"/>
          <a:ext cx="4267440" cy="398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79480"/>
                    <a:ext cx="4267440" cy="3984840"/>
                  </a:xfrm>
                  <a:prstGeom prst="rect">
                    <a:avLst/>
                  </a:prstGeom>
                  <a:ln w="7632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724280" y="1066320"/>
            <a:ext cx="4114800" cy="5410440"/>
          </a:xfrm>
          <a:prstGeom prst="rect">
            <a:avLst/>
          </a:prstGeom>
          <a:solidFill>
            <a:srgbClr val="323232"/>
          </a:solidFill>
          <a:ln w="76320">
            <a:solidFill>
              <a:srgbClr val="ff9900"/>
            </a:solidFill>
            <a:miter/>
          </a:ln>
        </p:spPr>
        <p:txBody>
          <a:bodyPr lIns="182880" tIns="91440" anchor="t">
            <a:normAutofit/>
          </a:bodyPr>
          <a:p>
            <a:pPr marL="447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ded1"/>
                </a:solidFill>
                <a:latin typeface="Verdana"/>
              </a:rPr>
              <a:t>Основным занятием древних людей было </a:t>
            </a:r>
            <a:r>
              <a:rPr b="1" lang="ru-RU" sz="2400" spc="-1" strike="noStrike">
                <a:solidFill>
                  <a:srgbClr val="a50021"/>
                </a:solidFill>
                <a:latin typeface="Verdana"/>
              </a:rPr>
              <a:t>собирательств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ded1"/>
                </a:solidFill>
                <a:latin typeface="Verdana"/>
              </a:rPr>
              <a:t>Но даже довольствуясь дарами природы древние люди изготовляли орудия труд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ded1"/>
                </a:solidFill>
                <a:latin typeface="Verdana"/>
              </a:rPr>
              <a:t>На их производство  шел камен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ded1"/>
                </a:solidFill>
                <a:latin typeface="Verdana"/>
              </a:rPr>
              <a:t>Первым орудием труда было </a:t>
            </a:r>
            <a:r>
              <a:rPr b="1" lang="ru-RU" sz="2400" spc="-1" strike="noStrike">
                <a:solidFill>
                  <a:srgbClr val="a50021"/>
                </a:solidFill>
                <a:latin typeface="Verdana"/>
              </a:rPr>
              <a:t>рубило</a:t>
            </a:r>
            <a:r>
              <a:rPr b="1" lang="ru-RU" sz="2400" spc="-1" strike="noStrike">
                <a:solidFill>
                  <a:srgbClr val="e3ded1"/>
                </a:solidFill>
                <a:latin typeface="Verdana"/>
              </a:rPr>
              <a:t>-галька заостренная с одного кра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07f0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07f0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07f0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2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07f0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Verdana"/>
              </a:rPr>
              <a:t>3.Охота древних людей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0040" y="3581280"/>
            <a:ext cx="8305920" cy="3276720"/>
          </a:xfrm>
          <a:prstGeom prst="rect">
            <a:avLst/>
          </a:prstGeom>
          <a:solidFill>
            <a:srgbClr val="323232"/>
          </a:solidFill>
          <a:ln w="76320">
            <a:solidFill>
              <a:srgbClr val="ff9900"/>
            </a:solidFill>
            <a:miter/>
          </a:ln>
        </p:spPr>
        <p:txBody>
          <a:bodyPr lIns="182880" tIns="91440" anchor="t">
            <a:normAutofit/>
          </a:bodyPr>
          <a:p>
            <a:pPr marL="447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3ded1"/>
                </a:solidFill>
                <a:latin typeface="Verdana"/>
              </a:rPr>
              <a:t>Кроме собирательства другим важнейшим занятием наших далеких предков была </a:t>
            </a:r>
            <a:r>
              <a:rPr b="1" lang="ru-RU" sz="2600" spc="-1" strike="noStrike">
                <a:solidFill>
                  <a:srgbClr val="ffc000"/>
                </a:solidFill>
                <a:latin typeface="Verdana"/>
              </a:rPr>
              <a:t>охот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3ded1"/>
                </a:solidFill>
                <a:latin typeface="Verdana"/>
              </a:rPr>
              <a:t>Они загоняли крупных животных на берег реки, к обрыву или в ловушку и забивали их камня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3ded1"/>
                </a:solidFill>
                <a:latin typeface="Verdana"/>
              </a:rPr>
              <a:t>Удачная охота позволяла обеспечить себя едой на длительное врем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4" descr="http://900igr.net/up/datai/243493/0012-006-.jpg"/>
          <p:cNvPicPr/>
          <p:nvPr/>
        </p:nvPicPr>
        <p:blipFill>
          <a:blip r:embed="rId1"/>
          <a:srcRect l="3334" t="12125" r="3334" b="6062"/>
          <a:stretch/>
        </p:blipFill>
        <p:spPr>
          <a:xfrm>
            <a:off x="1571760" y="857160"/>
            <a:ext cx="578628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07f0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07f0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" dur="1" fill="hold"/>
                                  <p:tgtEl>
                                    <p:spTgt spid="2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07f0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2"/>
          <p:cNvSpPr/>
          <p:nvPr/>
        </p:nvSpPr>
        <p:spPr>
          <a:xfrm>
            <a:off x="357120" y="3571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А как же человек овладел огнё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https://ds03.infourok.ru/uploads/ex/0569/00052200-eb95aace/img7.jpg"/>
          <p:cNvPicPr/>
          <p:nvPr/>
        </p:nvPicPr>
        <p:blipFill>
          <a:blip r:embed="rId1"/>
          <a:srcRect l="10937" t="22919" r="10157" b="11459"/>
          <a:stretch/>
        </p:blipFill>
        <p:spPr>
          <a:xfrm>
            <a:off x="1000080" y="1785960"/>
            <a:ext cx="7215120" cy="45007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4"/>
          <p:cNvSpPr/>
          <p:nvPr/>
        </p:nvSpPr>
        <p:spPr>
          <a:xfrm>
            <a:off x="6072120" y="1143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Стр. 12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Object 8"/>
          <p:cNvGraphicFramePr/>
          <p:nvPr/>
        </p:nvGraphicFramePr>
        <p:xfrm>
          <a:off x="457200" y="1028880"/>
          <a:ext cx="3375000" cy="55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28880"/>
                    <a:ext cx="3375000" cy="5562360"/>
                  </a:xfrm>
                  <a:prstGeom prst="rect">
                    <a:avLst/>
                  </a:prstGeom>
                  <a:ln w="7632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143240" y="499680"/>
            <a:ext cx="4648320" cy="5638680"/>
          </a:xfrm>
          <a:prstGeom prst="rect">
            <a:avLst/>
          </a:prstGeom>
          <a:solidFill>
            <a:srgbClr val="323232"/>
          </a:solidFill>
          <a:ln w="76320">
            <a:solidFill>
              <a:srgbClr val="ff9900"/>
            </a:solidFill>
            <a:miter/>
          </a:ln>
        </p:spPr>
        <p:txBody>
          <a:bodyPr lIns="182880" tIns="91440" anchor="t">
            <a:normAutofit/>
          </a:bodyPr>
          <a:p>
            <a:pPr marL="447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3ded1"/>
                </a:solidFill>
                <a:latin typeface="Verdana"/>
              </a:rPr>
              <a:t>Первоначально люди брали огонь от загоревшихся после попадания молнии деревье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3ded1"/>
                </a:solidFill>
                <a:latin typeface="Verdana"/>
              </a:rPr>
              <a:t>За ним строго следили, и если огонь потухал, то виновников изгонял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3ded1"/>
                </a:solidFill>
                <a:latin typeface="Verdana"/>
              </a:rPr>
              <a:t>Такой способ получения огня был очень ненадежен и люди стали искать как получить пламя не завися от природ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07f0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07f0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2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07f0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1"/>
          <p:cNvSpPr/>
          <p:nvPr/>
        </p:nvSpPr>
        <p:spPr>
          <a:xfrm>
            <a:off x="357120" y="5000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Что давало умение использовать ого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https://ds04.infourok.ru/uploads/ex/12e9/00046c30-57cc335b/img12.jpg"/>
          <p:cNvPicPr/>
          <p:nvPr/>
        </p:nvPicPr>
        <p:blipFill>
          <a:blip r:embed="rId1"/>
          <a:srcRect l="10937" t="6252" r="11720" b="6252"/>
          <a:stretch/>
        </p:blipFill>
        <p:spPr>
          <a:xfrm>
            <a:off x="2714760" y="1571760"/>
            <a:ext cx="3929040" cy="3333600"/>
          </a:xfrm>
          <a:prstGeom prst="rect">
            <a:avLst/>
          </a:prstGeom>
          <a:ln w="0">
            <a:noFill/>
          </a:ln>
        </p:spPr>
      </p:pic>
      <p:sp>
        <p:nvSpPr>
          <p:cNvPr id="283" name="Прямоугольник 3"/>
          <p:cNvSpPr/>
          <p:nvPr/>
        </p:nvSpPr>
        <p:spPr>
          <a:xfrm>
            <a:off x="214200" y="492912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амым важным следствием стало употребление вареной или жареной пищи. Это привело к рез кому скачку в умственном развитии человека.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За короткий срок, после овладения огнем, древний человек  приобрел со-ременный обл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http://900igr.net/datas/biologija/CHelovek-i-obezjana/0005-005-Stadii-proiskhozhdenija-chelovek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https://cf.ppt-online.org/files/slide/v/vep61Cj4x7D9VthFAagwuUQJiWESyoLfb3XsMz/slide-4.jpg"/>
          <p:cNvPicPr/>
          <p:nvPr/>
        </p:nvPicPr>
        <p:blipFill>
          <a:blip r:embed="rId1"/>
          <a:stretch/>
        </p:blipFill>
        <p:spPr>
          <a:xfrm>
            <a:off x="0" y="-447840"/>
            <a:ext cx="9753480" cy="730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1428840" y="57168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ДОМАШНЕЕ ЗАД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"/>
          <p:cNvSpPr/>
          <p:nvPr/>
        </p:nvSpPr>
        <p:spPr>
          <a:xfrm>
            <a:off x="500040" y="1785960"/>
            <a:ext cx="8072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Выучить записи в тетрад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Выучить параграф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5T15:32:03Z</dcterms:created>
  <dc:creator>Admin</dc:creator>
  <dc:description/>
  <dc:language>en-US</dc:language>
  <cp:lastModifiedBy>ТатьянА</cp:lastModifiedBy>
  <dcterms:modified xsi:type="dcterms:W3CDTF">2019-01-02T11:11:33Z</dcterms:modified>
  <cp:revision>10</cp:revision>
  <dc:subject/>
  <dc:title>Расселение древнейшего человека</dc:title>
</cp:coreProperties>
</file>