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E6A-A8FE-4704-BBBA-54CA6525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406-979E-4C25-8B49-4E5CF41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4CF-5813-4F73-8624-92BB985C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4A2-3147-4882-92BA-FA28DEE0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1563-BD56-4F69-AB73-631811B5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748-9C33-4272-92D4-2DE38AF1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6CE-B09B-4972-8C81-11A495F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477C-AA1D-476D-98FC-A63BD8DB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AB73-16B5-431F-9B3D-8A60D5DF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0496-43D1-4075-A6FD-7594D444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5A55-9C53-4984-8E34-AC013F3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24E-1BC4-48A7-80E9-E025B621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9B21-4EAB-4DF7-A7D4-DDF79D3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B681-BDCD-4738-89D2-AF9461D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20A-9ACE-4ABD-BEC3-676D79C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88E8-8B96-49A3-89AB-199312CF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8F84-8F61-436B-AC39-3E73BB6F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6D4D-CE85-4F52-BE22-AA8EEF0F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BA67-9C3B-49BA-96E1-465240CD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5548-8398-4EC7-9716-DF0CA18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3C1C-9092-4379-A2BC-3B4FC3AB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C6AF-F911-4C0E-8E99-B4E95FF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D99-C29D-4E04-8BB0-0862FA9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494A-F5FD-4A82-A856-26E672D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E754-4AA9-49AB-BF1E-A4787A7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BB31C-0190-4F6D-803A-E365A3A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E5B7-9BB1-40D1-AF49-FDF772BE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7A41-ABA2-454E-98BB-A1EDFB73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741D-902B-439F-A068-A3C17271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B82F-7901-4080-A409-8AA3CE1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EC3F-04CC-4B8D-BDB4-84E13838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CDC4B-D4DE-4035-88E4-C54F82E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252E-F0A6-483C-B519-1E6DA346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AF1-CB2F-4C95-8C61-8964862D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AF53-6875-4E97-BDF8-655BF0C8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F6E8-B331-436A-B5DE-7CBF3E81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DD7EC-29C8-4979-A7A1-5945EB3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2615-2B06-4C5E-A8CD-8B36DD4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C5DB-50CA-40CE-9402-A8166DD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097C-6D76-458E-832A-69D3BB70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DB32-E43B-4D18-9FB4-4766529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38C3-9624-4454-BFCC-6741354A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E2B2-91A3-4688-ACF2-4C92BC61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6FDEA-AF69-4C06-A0B1-D1132D92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DC9-113F-484A-9C26-219504B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C4DF-FAD2-44DD-84A4-E5530DA9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6C852-29A7-4AF7-9772-36780705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727C-4FCA-431F-A6ED-3B90288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D8BF-F138-473D-A402-DB4C127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1D3D5-550F-403D-A4FB-23DE9EE7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D6B6D-CC8E-4CCD-A1A5-CAABD6C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5D2EE-4C54-49E3-8C0A-B9C8238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25D64-AA35-4E34-9F73-9C9EBFC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3304-C62B-4C52-B96C-9488A5AB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7ED5-34EA-43D3-BA07-21EE450E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722-4861-4F87-A1DE-76762EC9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4176-BDEC-4B34-86F5-CFF41A47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A238-F79F-44C7-80F9-91665575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08A0-26F7-4197-AF30-8E0E6B40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2CAC-926F-47E3-8884-68DC4F0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F47E0-B71F-47E7-9649-6608CB90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C960-883B-4A25-8D1B-89626744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E1F5-A6FE-435D-B878-E24972C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C854-6B42-42AC-8135-221A5A4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5BB0-9CD7-4E44-8A48-EEF1794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642F-AAD6-4721-8D07-F63FC82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BE5-EBA0-4D79-B215-5AA343A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8514-8893-467D-84F6-93D1B6F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FC891-2A59-4CAF-872F-3941318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84A0F-D529-4047-857B-85AF7D45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62CE0-264D-4026-93B9-92A2615B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1902-6BBD-4F0A-ABCB-7650541F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E761-D292-4C8E-A393-0F6AC55B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39859-719E-43D5-83AF-7C2C0055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1807-2BDF-474E-881F-FB09737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9C4F-E681-41C2-854A-7B33FB97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C14C-6B50-4BEB-B180-76F7A0F9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428-4448-458F-865B-3D5F731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7AF0-37EE-4532-97DD-9D57CC0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13CAA-15FB-4515-AE3D-A37C8988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FEC1-DAC5-472A-B1E4-5CA6854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0B5A-2957-4AE7-BF8F-9B2EC9C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339E-82A3-44C9-AE06-22917F33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25F-8796-44ED-8DC6-6776D46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596-3A95-43EB-8CFD-83D2903D4A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A4F3-57DB-4500-9051-A0D9B33053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E90B-E8BC-4F4F-81FB-6A45842013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F9E-506C-4060-BF6C-CC6A81C9DB0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FCD-F076-475C-9934-DE15FE3F76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442F-AD46-4495-801B-4745544515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3F1D-E94E-4C46-9851-6A32159EB9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ЛОВЕК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650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рок обобщения в 5 класс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929120" y="6003000"/>
            <a:ext cx="421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полните пропуски в текст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дростковый период длится с ________ до _______ лет. Выделяют __________________ (5-6 класс) и _________________ (7-8класс) подростков. Подростки очень быстро _____________ , у них появляются ____________. Особенностью подростка является также резкая смена ____________________. Подростки быстро утомляются, потому что ________________________. Ребенок этого возраста очень любит _______________ и строить ___________________________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images.slanet.by/%7Esrc5955763/KONTROLNYE_KURSOVYE_DIPLOMNYE_raboty_OTChETY_po_praktike.jpg"/>
          <p:cNvPicPr/>
          <p:nvPr/>
        </p:nvPicPr>
        <p:blipFill>
          <a:blip r:embed="rId1"/>
          <a:stretch/>
        </p:blipFill>
        <p:spPr>
          <a:xfrm>
            <a:off x="7093080" y="404640"/>
            <a:ext cx="1233360" cy="194328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9" descr=""/>
          <p:cNvPicPr/>
          <p:nvPr/>
        </p:nvPicPr>
        <p:blipFill>
          <a:blip r:embed="rId2"/>
          <a:stretch/>
        </p:blipFill>
        <p:spPr>
          <a:xfrm>
            <a:off x="2298600" y="878040"/>
            <a:ext cx="4552920" cy="11030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0" descr=""/>
          <p:cNvPicPr/>
          <p:nvPr/>
        </p:nvPicPr>
        <p:blipFill>
          <a:blip r:embed="rId3"/>
          <a:stretch/>
        </p:blipFill>
        <p:spPr>
          <a:xfrm>
            <a:off x="2322360" y="2651040"/>
            <a:ext cx="6364440" cy="2835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http://mediasubs.ru/group/uploads/ig/igrushki-dlya-detej-rukami-mamyi/image2/iMjAtODdm.gif"/>
          <p:cNvPicPr/>
          <p:nvPr/>
        </p:nvPicPr>
        <p:blipFill>
          <a:blip r:embed="rId4"/>
          <a:stretch/>
        </p:blipFill>
        <p:spPr>
          <a:xfrm>
            <a:off x="968400" y="2874960"/>
            <a:ext cx="17287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Улыбающееся лицо 3"/>
          <p:cNvSpPr/>
          <p:nvPr/>
        </p:nvSpPr>
        <p:spPr>
          <a:xfrm>
            <a:off x="8101080" y="6021360"/>
            <a:ext cx="792000" cy="647640"/>
          </a:xfrm>
          <a:prstGeom prst="smileyFace">
            <a:avLst>
              <a:gd name="adj" fmla="val 928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http://images.slanet.by/%7Esrc5955763/KONTROLNYE_KURSOVYE_DIPLOMNYE_raboty_OTChETY_po_praktike.jpg"/>
          <p:cNvPicPr/>
          <p:nvPr/>
        </p:nvPicPr>
        <p:blipFill>
          <a:blip r:embed="rId1"/>
          <a:stretch/>
        </p:blipFill>
        <p:spPr>
          <a:xfrm>
            <a:off x="0" y="4724280"/>
            <a:ext cx="1233360" cy="194328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9" descr=""/>
          <p:cNvPicPr/>
          <p:nvPr/>
        </p:nvPicPr>
        <p:blipFill>
          <a:blip r:embed="rId2"/>
          <a:stretch/>
        </p:blipFill>
        <p:spPr>
          <a:xfrm>
            <a:off x="2298600" y="878040"/>
            <a:ext cx="4552920" cy="110304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0" descr=""/>
          <p:cNvPicPr/>
          <p:nvPr/>
        </p:nvPicPr>
        <p:blipFill>
          <a:blip r:embed="rId3"/>
          <a:stretch/>
        </p:blipFill>
        <p:spPr>
          <a:xfrm>
            <a:off x="1384200" y="2762280"/>
            <a:ext cx="636444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http://mediasubs.ru/group/uploads/ig/igrushki-dlya-detej-rukami-mamyi/image2/iMjAtODdm.gif"/>
          <p:cNvPicPr/>
          <p:nvPr/>
        </p:nvPicPr>
        <p:blipFill>
          <a:blip r:embed="rId1"/>
          <a:stretch/>
        </p:blipFill>
        <p:spPr>
          <a:xfrm>
            <a:off x="-49320" y="4564080"/>
            <a:ext cx="1152720" cy="1709640"/>
          </a:xfrm>
          <a:prstGeom prst="rect">
            <a:avLst/>
          </a:prstGeom>
          <a:ln w="0">
            <a:noFill/>
          </a:ln>
        </p:spPr>
      </p:pic>
      <p:grpSp>
        <p:nvGrpSpPr>
          <p:cNvPr id="326" name="Куб 3"/>
          <p:cNvGrpSpPr/>
          <p:nvPr/>
        </p:nvGrpSpPr>
        <p:grpSpPr>
          <a:xfrm>
            <a:off x="963720" y="5748480"/>
            <a:ext cx="8259480" cy="1212840"/>
            <a:chOff x="963720" y="5748480"/>
            <a:chExt cx="8259480" cy="1212840"/>
          </a:xfrm>
        </p:grpSpPr>
        <p:pic>
          <p:nvPicPr>
            <p:cNvPr id="327" name="Куб 3" descr=""/>
            <p:cNvPicPr/>
            <p:nvPr/>
          </p:nvPicPr>
          <p:blipFill>
            <a:blip r:embed="rId2"/>
            <a:stretch/>
          </p:blipFill>
          <p:spPr>
            <a:xfrm>
              <a:off x="963720" y="5748480"/>
              <a:ext cx="82594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042920" y="6068880"/>
              <a:ext cx="783756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orbel"/>
                </a:rPr>
                <a:t>                   </a:t>
              </a:r>
              <a:r>
                <a:rPr b="1" lang="ru-RU" sz="3600" spc="-1" strike="noStrike">
                  <a:solidFill>
                    <a:srgbClr val="002060"/>
                  </a:solidFill>
                  <a:latin typeface="Corbel"/>
                </a:rPr>
                <a:t>Вставь пропущенные сло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Куб 6"/>
          <p:cNvGrpSpPr/>
          <p:nvPr/>
        </p:nvGrpSpPr>
        <p:grpSpPr>
          <a:xfrm>
            <a:off x="2004840" y="4816440"/>
            <a:ext cx="7248600" cy="1266840"/>
            <a:chOff x="2004840" y="4816440"/>
            <a:chExt cx="7248600" cy="1266840"/>
          </a:xfrm>
        </p:grpSpPr>
        <p:pic>
          <p:nvPicPr>
            <p:cNvPr id="330" name="Куб 6" descr=""/>
            <p:cNvPicPr/>
            <p:nvPr/>
          </p:nvPicPr>
          <p:blipFill>
            <a:blip r:embed="rId3"/>
            <a:stretch/>
          </p:blipFill>
          <p:spPr>
            <a:xfrm>
              <a:off x="2004840" y="4816440"/>
              <a:ext cx="72486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082960" y="5145120"/>
              <a:ext cx="681480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rbel"/>
                </a:rPr>
                <a:t>            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Corbel"/>
                </a:rPr>
                <a:t>Что правиль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Куб 7"/>
          <p:cNvGrpSpPr/>
          <p:nvPr/>
        </p:nvGrpSpPr>
        <p:grpSpPr>
          <a:xfrm>
            <a:off x="3133800" y="3986280"/>
            <a:ext cx="6089400" cy="1201680"/>
            <a:chOff x="3133800" y="3986280"/>
            <a:chExt cx="6089400" cy="1201680"/>
          </a:xfrm>
        </p:grpSpPr>
        <p:pic>
          <p:nvPicPr>
            <p:cNvPr id="333" name="Куб 7" descr=""/>
            <p:cNvPicPr/>
            <p:nvPr/>
          </p:nvPicPr>
          <p:blipFill>
            <a:blip r:embed="rId4"/>
            <a:stretch/>
          </p:blipFill>
          <p:spPr>
            <a:xfrm>
              <a:off x="3133800" y="3986280"/>
              <a:ext cx="60894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209760" y="4303800"/>
              <a:ext cx="56739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orbel"/>
                </a:rPr>
                <a:t>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Corbel"/>
                </a:rPr>
                <a:t>Сходства и различ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Куб 8"/>
          <p:cNvGrpSpPr/>
          <p:nvPr/>
        </p:nvGrpSpPr>
        <p:grpSpPr>
          <a:xfrm>
            <a:off x="4164120" y="3164040"/>
            <a:ext cx="5089320" cy="1236600"/>
            <a:chOff x="4164120" y="3164040"/>
            <a:chExt cx="5089320" cy="1236600"/>
          </a:xfrm>
        </p:grpSpPr>
        <p:pic>
          <p:nvPicPr>
            <p:cNvPr id="336" name="Куб 8" descr=""/>
            <p:cNvPicPr/>
            <p:nvPr/>
          </p:nvPicPr>
          <p:blipFill>
            <a:blip r:embed="rId5"/>
            <a:stretch/>
          </p:blipFill>
          <p:spPr>
            <a:xfrm>
              <a:off x="4164120" y="3164040"/>
              <a:ext cx="50893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243320" y="3487680"/>
              <a:ext cx="46627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                     </a:t>
              </a: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Что не так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Куб 9"/>
          <p:cNvGrpSpPr/>
          <p:nvPr/>
        </p:nvGrpSpPr>
        <p:grpSpPr>
          <a:xfrm>
            <a:off x="4853160" y="2365200"/>
            <a:ext cx="4400280" cy="1170000"/>
            <a:chOff x="4853160" y="2365200"/>
            <a:chExt cx="4400280" cy="1170000"/>
          </a:xfrm>
        </p:grpSpPr>
        <p:pic>
          <p:nvPicPr>
            <p:cNvPr id="339" name="Куб 9" descr=""/>
            <p:cNvPicPr/>
            <p:nvPr/>
          </p:nvPicPr>
          <p:blipFill>
            <a:blip r:embed="rId6"/>
            <a:stretch/>
          </p:blipFill>
          <p:spPr>
            <a:xfrm>
              <a:off x="4853160" y="2365200"/>
              <a:ext cx="4400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929120" y="2673360"/>
              <a:ext cx="39942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                 </a:t>
              </a: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Назов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Куб 10"/>
          <p:cNvGrpSpPr/>
          <p:nvPr/>
        </p:nvGrpSpPr>
        <p:grpSpPr>
          <a:xfrm>
            <a:off x="5778360" y="1573200"/>
            <a:ext cx="3462480" cy="1170000"/>
            <a:chOff x="5778360" y="1573200"/>
            <a:chExt cx="3462480" cy="1170000"/>
          </a:xfrm>
        </p:grpSpPr>
        <p:pic>
          <p:nvPicPr>
            <p:cNvPr id="342" name="Куб 10" descr=""/>
            <p:cNvPicPr/>
            <p:nvPr/>
          </p:nvPicPr>
          <p:blipFill>
            <a:blip r:embed="rId7"/>
            <a:stretch/>
          </p:blipFill>
          <p:spPr>
            <a:xfrm>
              <a:off x="5778360" y="1573200"/>
              <a:ext cx="34624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857920" y="1881360"/>
              <a:ext cx="3052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2a6d7d"/>
                  </a:solidFill>
                  <a:latin typeface="Corbel"/>
                </a:rPr>
                <a:t>Рассужда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8" descr="http://s007.radikal.ru/i302/1011/c3/f56fdfa0fe87.gif"/>
          <p:cNvPicPr/>
          <p:nvPr/>
        </p:nvPicPr>
        <p:blipFill>
          <a:blip r:embed="rId8"/>
          <a:stretch/>
        </p:blipFill>
        <p:spPr>
          <a:xfrm>
            <a:off x="100080" y="351000"/>
            <a:ext cx="4832280" cy="3624120"/>
          </a:xfrm>
          <a:prstGeom prst="rect">
            <a:avLst/>
          </a:prstGeom>
          <a:ln w="0">
            <a:noFill/>
          </a:ln>
        </p:spPr>
      </p:pic>
      <p:grpSp>
        <p:nvGrpSpPr>
          <p:cNvPr id="345" name="Куб 11"/>
          <p:cNvGrpSpPr/>
          <p:nvPr/>
        </p:nvGrpSpPr>
        <p:grpSpPr>
          <a:xfrm>
            <a:off x="6267600" y="658800"/>
            <a:ext cx="2955600" cy="1303200"/>
            <a:chOff x="6267600" y="658800"/>
            <a:chExt cx="2955600" cy="1303200"/>
          </a:xfrm>
        </p:grpSpPr>
        <p:pic>
          <p:nvPicPr>
            <p:cNvPr id="346" name="Куб 11" descr=""/>
            <p:cNvPicPr/>
            <p:nvPr/>
          </p:nvPicPr>
          <p:blipFill>
            <a:blip r:embed="rId9"/>
            <a:stretch/>
          </p:blipFill>
          <p:spPr>
            <a:xfrm>
              <a:off x="6267600" y="658800"/>
              <a:ext cx="295560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500880" y="1000080"/>
              <a:ext cx="23572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orbel"/>
                </a:rPr>
                <a:t>обобщае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2454 L 0.0217 -0.04607 C 0.02743 -0.05047 0.0368 -0.0551 0.04687 -0.05949 C 0.05799 -0.06436 0.06719 -0.0676 0.07413 -0.06875 L 0.10677 -0.07315 E">
                                      <p:cBhvr>
                                        <p:cTn id="18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6 -0.07315 L 0.10486 -0.13982 C 0.10504 -0.15347 0.11059 -0.1669 0.11841 -0.17709 C 0.1283 -0.18959 0.13785 -0.19584 0.14792 -0.19584 L 0.19913 -0.19329 E">
                                      <p:cBhvr>
                                        <p:cTn id="2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13 -0.19329 L 0.21354 -0.26041 C 0.21614 -0.27546 0.22448 -0.29028 0.23576 -0.30046 C 0.24843 -0.31389 0.26093 -0.31944 0.27222 -0.31805 L 0.32639 -0.31759 E">
                                      <p:cBhvr>
                                        <p:cTn id="26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21 -0.31759 L 0.33802 -0.39514 C 0.33993 -0.41157 0.34878 -0.42708 0.36024 -0.43819 C 0.37361 -0.45023 0.38663 -0.45532 0.39913 -0.45139 L 0.45798 -0.44028 E">
                                      <p:cBhvr>
                                        <p:cTn id="3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799 -0.44005 L 0.48143 -0.49653 C 0.48629 -0.5088 0.49618 -0.52107 0.50816 -0.53056 C 0.52171 -0.54144 0.53438 -0.547 0.54428 -0.547 L 0.59323 -0.54838 E">
                                      <p:cBhvr>
                                        <p:cTn id="3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323 -0.54838 L 0.61858 -0.63102 C 0.62361 -0.64931 0.63576 -0.66574 0.65069 -0.67685 C 0.66753 -0.69005 0.68385 -0.69491 0.69826 -0.69121 L 0.76493 -0.67847 E">
                                      <p:cBhvr>
                                        <p:cTn id="38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1. Вставь пропус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ловек в отличие от животных обладает ____________, способен к _____________, может действовать ___________, имеет хорошо развитый _______________, создает_____________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Прямоугольник 4" descr=""/>
          <p:cNvPicPr/>
          <p:nvPr/>
        </p:nvPicPr>
        <p:blipFill>
          <a:blip r:embed="rId1"/>
          <a:stretch/>
        </p:blipFill>
        <p:spPr>
          <a:xfrm>
            <a:off x="3108240" y="1719360"/>
            <a:ext cx="2927520" cy="81108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5" descr=""/>
          <p:cNvPicPr/>
          <p:nvPr/>
        </p:nvPicPr>
        <p:blipFill>
          <a:blip r:embed="rId2"/>
          <a:stretch/>
        </p:blipFill>
        <p:spPr>
          <a:xfrm>
            <a:off x="1384200" y="2225520"/>
            <a:ext cx="3011760" cy="8096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6" descr=""/>
          <p:cNvPicPr/>
          <p:nvPr/>
        </p:nvPicPr>
        <p:blipFill>
          <a:blip r:embed="rId3"/>
          <a:stretch/>
        </p:blipFill>
        <p:spPr>
          <a:xfrm>
            <a:off x="1378080" y="2730600"/>
            <a:ext cx="2535120" cy="8110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7" descr=""/>
          <p:cNvPicPr/>
          <p:nvPr/>
        </p:nvPicPr>
        <p:blipFill>
          <a:blip r:embed="rId4"/>
          <a:stretch/>
        </p:blipFill>
        <p:spPr>
          <a:xfrm>
            <a:off x="1359000" y="3157560"/>
            <a:ext cx="3713040" cy="8110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8" descr=""/>
          <p:cNvPicPr/>
          <p:nvPr/>
        </p:nvPicPr>
        <p:blipFill>
          <a:blip r:embed="rId5"/>
          <a:stretch/>
        </p:blipFill>
        <p:spPr>
          <a:xfrm>
            <a:off x="5900760" y="3157560"/>
            <a:ext cx="3468600" cy="811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im8-tub-ru.yandex.net/i?id=145839099-59-72&amp;n=21"/>
          <p:cNvPicPr/>
          <p:nvPr/>
        </p:nvPicPr>
        <p:blipFill>
          <a:blip r:embed="rId6"/>
          <a:stretch/>
        </p:blipFill>
        <p:spPr>
          <a:xfrm>
            <a:off x="5508720" y="4087800"/>
            <a:ext cx="2603520" cy="2604960"/>
          </a:xfrm>
          <a:prstGeom prst="rect">
            <a:avLst/>
          </a:prstGeom>
          <a:ln w="0">
            <a:noFill/>
          </a:ln>
        </p:spPr>
      </p:pic>
      <p:sp>
        <p:nvSpPr>
          <p:cNvPr id="356" name="Управляющая кнопка: в конец 9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2. Что правильно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50920" y="1628640"/>
          <a:ext cx="8712000" cy="4694400"/>
        </p:xfrm>
        <a:graphic>
          <a:graphicData uri="http://schemas.openxmlformats.org/drawingml/2006/table">
            <a:tbl>
              <a:tblPr/>
              <a:tblGrid>
                <a:gridCol w="6154560"/>
                <a:gridCol w="1198800"/>
                <a:gridCol w="135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жд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 Инстинкты – это определенные действия, уже имеющиеся при рожд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От родителей человек наследует привычки и 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У человека и у животного есть инстинк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Подросток – очень противоречивый, склонен к быстрой смене настро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Самостоятельность ребенка опасна, так как он может увлечься вредными привыч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59" name="Прямоугольник 4" descr=""/>
          <p:cNvPicPr/>
          <p:nvPr/>
        </p:nvPicPr>
        <p:blipFill>
          <a:blip r:embed="rId1"/>
          <a:stretch/>
        </p:blipFill>
        <p:spPr>
          <a:xfrm>
            <a:off x="6261120" y="1841400"/>
            <a:ext cx="1352520" cy="118764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5" descr=""/>
          <p:cNvPicPr/>
          <p:nvPr/>
        </p:nvPicPr>
        <p:blipFill>
          <a:blip r:embed="rId2"/>
          <a:stretch/>
        </p:blipFill>
        <p:spPr>
          <a:xfrm>
            <a:off x="6261120" y="3371760"/>
            <a:ext cx="1352520" cy="118764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6" descr=""/>
          <p:cNvPicPr/>
          <p:nvPr/>
        </p:nvPicPr>
        <p:blipFill>
          <a:blip r:embed="rId3"/>
          <a:stretch/>
        </p:blipFill>
        <p:spPr>
          <a:xfrm>
            <a:off x="6261120" y="4017960"/>
            <a:ext cx="1352520" cy="11872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7" descr=""/>
          <p:cNvPicPr/>
          <p:nvPr/>
        </p:nvPicPr>
        <p:blipFill>
          <a:blip r:embed="rId4"/>
          <a:stretch/>
        </p:blipFill>
        <p:spPr>
          <a:xfrm>
            <a:off x="7693200" y="2755800"/>
            <a:ext cx="1218960" cy="118764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8" descr=""/>
          <p:cNvPicPr/>
          <p:nvPr/>
        </p:nvPicPr>
        <p:blipFill>
          <a:blip r:embed="rId5"/>
          <a:stretch/>
        </p:blipFill>
        <p:spPr>
          <a:xfrm>
            <a:off x="7693200" y="4986360"/>
            <a:ext cx="1218960" cy="1189080"/>
          </a:xfrm>
          <a:prstGeom prst="rect">
            <a:avLst/>
          </a:prstGeom>
          <a:ln w="0">
            <a:noFill/>
          </a:ln>
        </p:spPr>
      </p:pic>
      <p:sp>
        <p:nvSpPr>
          <p:cNvPr id="364" name="Управляющая кнопка: в конец 9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3. Сходства и отлич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иведенном списке указаны черты сходства человека и животных их различия. Выбери и запиши в таблицу сначала порядковые номера черт сходства, а затем черт различ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пособность к творчеств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требность в отдых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личие органов чувст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нательное выдвижение ц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50920" y="5229360"/>
          <a:ext cx="6096240" cy="1628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ерты сх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ерты разли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68" name="Прямоугольник 4" descr=""/>
          <p:cNvPicPr/>
          <p:nvPr/>
        </p:nvPicPr>
        <p:blipFill>
          <a:blip r:embed="rId1"/>
          <a:stretch/>
        </p:blipFill>
        <p:spPr>
          <a:xfrm>
            <a:off x="5084640" y="5730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5730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6" descr=""/>
          <p:cNvPicPr/>
          <p:nvPr/>
        </p:nvPicPr>
        <p:blipFill>
          <a:blip r:embed="rId3"/>
          <a:stretch/>
        </p:blipFill>
        <p:spPr>
          <a:xfrm>
            <a:off x="3303720" y="573084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7" descr=""/>
          <p:cNvPicPr/>
          <p:nvPr/>
        </p:nvPicPr>
        <p:blipFill>
          <a:blip r:embed="rId4"/>
          <a:stretch/>
        </p:blipFill>
        <p:spPr>
          <a:xfrm>
            <a:off x="6308640" y="571176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в конец 8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4. Что не так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А как определить, сможешь ли ты выполнить самостоятельно задание? Сначала ответь себе на вопрос: «А может быть, это сделает кто-то за меня?». Потом определи шансы на успех. Затем жди, когда дело сделается. Получив результат, обязательно подумай: «Удалось ли достичь поставленной цели?». Делай так всегда, и ты станешь самостоятельны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1403280" y="1413000"/>
            <a:ext cx="7489800" cy="557604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А как определить, сможешь ли ты выполнить самостоятельно задание? Сначала ответь себе на вопрос: «Хочу ли я добиться успеха?». Потом определи шансы на успех. Затем представь последовательно все свои действия и выполни их. Получив результат, обязательно подумай: «Удалось ли достичь поставленной цели?». Делай так всегда, и ты станешь самостоятель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Управляющая кнопка: в конец 4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5. Назов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 rot="20856600">
            <a:off x="1959120" y="1491840"/>
            <a:ext cx="1584360" cy="155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 rot="966600">
            <a:off x="6346440" y="1537920"/>
            <a:ext cx="1550880" cy="1595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 rot="20725800">
            <a:off x="2515680" y="3952800"/>
            <a:ext cx="1513080" cy="1595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4"/>
          <a:stretch/>
        </p:blipFill>
        <p:spPr>
          <a:xfrm rot="754800">
            <a:off x="5878440" y="3943440"/>
            <a:ext cx="1592280" cy="159552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4" descr=""/>
          <p:cNvPicPr/>
          <p:nvPr/>
        </p:nvPicPr>
        <p:blipFill>
          <a:blip r:embed="rId5"/>
          <a:stretch/>
        </p:blipFill>
        <p:spPr>
          <a:xfrm>
            <a:off x="1017720" y="2193840"/>
            <a:ext cx="1287360" cy="115272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9" descr=""/>
          <p:cNvPicPr/>
          <p:nvPr/>
        </p:nvPicPr>
        <p:blipFill>
          <a:blip r:embed="rId6"/>
          <a:stretch/>
        </p:blipFill>
        <p:spPr>
          <a:xfrm>
            <a:off x="5072040" y="2004840"/>
            <a:ext cx="12859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0" descr=""/>
          <p:cNvPicPr/>
          <p:nvPr/>
        </p:nvPicPr>
        <p:blipFill>
          <a:blip r:embed="rId7"/>
          <a:stretch/>
        </p:blipFill>
        <p:spPr>
          <a:xfrm>
            <a:off x="1547640" y="4602240"/>
            <a:ext cx="1281240" cy="1152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11" descr=""/>
          <p:cNvPicPr/>
          <p:nvPr/>
        </p:nvPicPr>
        <p:blipFill>
          <a:blip r:embed="rId8"/>
          <a:stretch/>
        </p:blipFill>
        <p:spPr>
          <a:xfrm>
            <a:off x="4797360" y="4541760"/>
            <a:ext cx="131148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Управляющая кнопка: в конец 12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6. Рассужда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8" name="Прямоугольник 3" descr=""/>
          <p:cNvPicPr/>
          <p:nvPr/>
        </p:nvPicPr>
        <p:blipFill>
          <a:blip r:embed="rId1"/>
          <a:stretch/>
        </p:blipFill>
        <p:spPr>
          <a:xfrm>
            <a:off x="1243080" y="1206360"/>
            <a:ext cx="6681600" cy="2013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http://img-fotki.yandex.ru/get/6604/58581001.f/0_95831_dce5776e_XL"/>
          <p:cNvPicPr/>
          <p:nvPr/>
        </p:nvPicPr>
        <p:blipFill>
          <a:blip r:embed="rId2"/>
          <a:stretch/>
        </p:blipFill>
        <p:spPr>
          <a:xfrm>
            <a:off x="6084720" y="3906720"/>
            <a:ext cx="2560680" cy="261792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5" descr=""/>
          <p:cNvPicPr/>
          <p:nvPr/>
        </p:nvPicPr>
        <p:blipFill>
          <a:blip r:embed="rId3"/>
          <a:stretch/>
        </p:blipFill>
        <p:spPr>
          <a:xfrm>
            <a:off x="1298520" y="3614760"/>
            <a:ext cx="1835280" cy="1116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6" descr=""/>
          <p:cNvPicPr/>
          <p:nvPr/>
        </p:nvPicPr>
        <p:blipFill>
          <a:blip r:embed="rId4"/>
          <a:stretch/>
        </p:blipFill>
        <p:spPr>
          <a:xfrm>
            <a:off x="4479840" y="3614760"/>
            <a:ext cx="2122560" cy="111600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в конец 7"/>
          <p:cNvSpPr/>
          <p:nvPr/>
        </p:nvSpPr>
        <p:spPr>
          <a:xfrm>
            <a:off x="8464680" y="6232680"/>
            <a:ext cx="571320" cy="549000"/>
          </a:xfrm>
          <a:custGeom>
            <a:avLst/>
            <a:gdLst>
              <a:gd name="textAreaLeft" fmla="*/ 35280 w 571320"/>
              <a:gd name="textAreaRight" fmla="*/ 536040 w 5713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478" h="21600">
                <a:moveTo>
                  <a:pt x="0" y="0"/>
                </a:moveTo>
                <a:lnTo>
                  <a:pt x="22478" y="0"/>
                </a:lnTo>
                <a:lnTo>
                  <a:pt x="22478" y="21600"/>
                </a:lnTo>
                <a:lnTo>
                  <a:pt x="0" y="21600"/>
                </a:lnTo>
                <a:close/>
              </a:path>
              <a:path fill="lightenLess" w="22478" h="21600">
                <a:moveTo>
                  <a:pt x="0" y="0"/>
                </a:moveTo>
                <a:lnTo>
                  <a:pt x="22478" y="0"/>
                </a:lnTo>
                <a:lnTo>
                  <a:pt x="21078" y="1400"/>
                </a:lnTo>
                <a:lnTo>
                  <a:pt x="1400" y="1400"/>
                </a:lnTo>
                <a:close/>
              </a:path>
              <a:path fill="darken" w="22478" h="21600">
                <a:moveTo>
                  <a:pt x="22478" y="0"/>
                </a:moveTo>
                <a:lnTo>
                  <a:pt x="22478" y="21600"/>
                </a:lnTo>
                <a:lnTo>
                  <a:pt x="21078" y="20200"/>
                </a:lnTo>
                <a:lnTo>
                  <a:pt x="21078" y="1400"/>
                </a:lnTo>
                <a:close/>
              </a:path>
              <a:path fill="darkenLess" w="22478" h="21600">
                <a:moveTo>
                  <a:pt x="22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8" y="20200"/>
                </a:lnTo>
                <a:close/>
              </a:path>
              <a:path fill="lighten" w="22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8" h="21600">
                <a:moveTo>
                  <a:pt x="14738" y="10800"/>
                </a:moveTo>
                <a:lnTo>
                  <a:pt x="4232" y="17806"/>
                </a:lnTo>
                <a:lnTo>
                  <a:pt x="4232" y="3794"/>
                </a:lnTo>
                <a:close/>
              </a:path>
              <a:path fill="darken" w="22478" h="21600">
                <a:moveTo>
                  <a:pt x="16583" y="3794"/>
                </a:moveTo>
                <a:lnTo>
                  <a:pt x="16583" y="17806"/>
                </a:lnTo>
                <a:lnTo>
                  <a:pt x="18245" y="17806"/>
                </a:lnTo>
                <a:lnTo>
                  <a:pt x="18245" y="3794"/>
                </a:lnTo>
                <a:close/>
              </a:path>
            </a:pathLst>
          </a:custGeom>
          <a:solidFill>
            <a:srgbClr val="e17b7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7:08:44Z</dcterms:created>
  <dc:creator>Иванова ВВ</dc:creator>
  <dc:description/>
  <dc:language>en-US</dc:language>
  <cp:lastModifiedBy>ТатьянА</cp:lastModifiedBy>
  <dcterms:modified xsi:type="dcterms:W3CDTF">2019-01-02T16:40:30Z</dcterms:modified>
  <cp:revision>31</cp:revision>
  <dc:subject/>
  <dc:title>Презентация PowerPoint</dc:title>
</cp:coreProperties>
</file>