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18.png" ContentType="image/png"/>
  <Override PartName="/ppt/media/image15.gif" ContentType="image/gif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FD9-37E4-4A0C-85F7-ADA359CE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896-7FCD-4ED0-B6AF-E51D9B68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70F-A525-48CB-A2DA-EDA999DB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784-AB00-460C-9877-8DF8FBDA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18A1-E91C-4271-9112-BC688A06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4C00-9EA7-406E-B1E6-BB79FC50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AEA7-3911-4636-B336-FCF712A1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3C45-3123-4BA7-808E-6EAB47BB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F6A7-782B-4418-8666-C43DC812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6312-4418-4644-92F9-ABCFA286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D80C-02ED-41E5-A41E-D511EFFB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476-6345-4A92-91FE-001E3CE0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C795-B298-4092-8323-B9903E05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1298-DC27-4324-8A64-9DB06D68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36E7-E37D-412C-838D-416D9188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0FCF-2A4F-4A20-BE3B-AC80114A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9E8D-8030-4E32-B8B7-8CAB93E2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6B06-1C1B-45B0-BF07-8B8A48CF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E0EE-0987-42EF-9C4E-C2286B2D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6C82-2CFD-40B1-9005-06D08481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EAB4-95ED-47B9-B1EE-FA699E0E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6C13-29CF-47D7-A188-086CBFF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6EE-C82B-4D2B-8766-840EEDB1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3903-7F59-45BE-8584-9FF9EDBE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E4FF-129F-4F80-A0EB-AF7CE432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7678-CC99-4436-8C6C-EDCC9F54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9FBF-5FB2-4AFF-82F9-DC069FB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023D-CC6E-4F96-98F1-AC8A0B9D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02B0-E5C6-431E-85E0-A8124D7E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0A33-87BE-4D9C-968E-F6222EBF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3A88-BE36-4FD9-89AC-943001C9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937BC-F581-4514-A31D-C9205C05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D9F50-82D4-40BF-A8FF-3CC16AE1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B91-BF7B-470B-9EB5-6242A825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7473-F49A-4F46-BB18-02A9C2F8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88E8-F81C-4736-90B6-8429A2AA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B45E2-6CA9-44C2-9254-BDFE1776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012F0-D45E-4477-816F-35DF0501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A2D8-2B10-4AAD-8E66-810A1577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14B7F-8D97-4B00-A6AD-CBDA1F5A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8F8A-46B6-4226-8B5F-23D2C6DD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4AC2-DB50-468B-A1C1-B76A45E6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71A5-A77B-44F3-AE33-F4A043E4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7858-DD8E-4495-96BB-61607563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BAA-493D-4A8C-84B6-28267913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78B2-2EA0-4B60-9B07-E709A425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EF715-1CC6-4261-899A-7F2616A7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D972-49CE-490C-91EC-5A6DA8BC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DF5DD-231B-47BF-B516-26FDF817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C79A-2DF7-43B3-BB36-6FA2DBB3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CF73B-4E5C-4229-A2EB-342B9335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895B-550B-4216-9BA4-EA1AFBF6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C1145-FFE4-4341-A7A9-C4A24CF9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EA8FB-25D3-4E8C-881D-0312DEF0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5645A-147F-4DEA-8D02-E788357F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491-BCB5-4FBC-B594-84689F90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26615-536C-4F57-BD37-1E519068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A9856-E34C-4A63-B9A5-D10593D8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75D29-05C6-4BF4-8A49-7F059B68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B0E29-7A2F-4301-B6D9-27C633A2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04ACC-D82F-4480-944F-42B22D7A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8C4B4-1369-43AD-88E7-714D6E15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459B6-A1B6-436F-B78D-0CC155DB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E6EC9-37CD-449F-9BDC-3A96C3B4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A4EA-AF7B-426A-BA37-A6D60DB3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24CED-F0BB-4B3B-A4A9-868E2CB5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C0E-3269-427F-BA43-8856BCA8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44033-2CB0-41FB-A284-60413906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1D706-E6A1-495C-B0CC-AC5D2FD8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DA914-F51A-4710-9A88-C33CAB78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19612-D082-4584-9EED-6F3B4183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5BFA5-C134-417B-B316-9EC755E2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9A2B1-BFDC-450C-ADAF-FC8D8B2B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123E8-A7DD-4334-BF91-7B01D268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F2A4E-FFB9-4CEF-A366-D7C6D4C2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8BD76-0C6F-45D3-80DC-A7F10C46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A6129-4635-4944-9112-6444C931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612-FE68-468E-98A8-8B03B489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53910-3552-479F-9B3E-D629B43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D7613-B55C-487C-A8A6-29F62668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78BBB-088D-49CD-B203-FD09A6DE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5FE29-C1D5-40DD-97C5-705F32EC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250EE-A26D-4DC3-BEF9-E0C56EA4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AC4-28A1-4E24-9B6A-921B4DBF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4820-7627-4131-BA89-EEB33D40F30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6FF6-7654-4528-BFDE-A052A76C6A4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DCD7-FDE1-4360-8179-80F09D1F71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C48D-23F5-45D6-BE66-69DF163EC0C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CFEF-5364-42B2-8F2C-1226F58217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46C2-0818-4829-8C36-32E9CC27B47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41E4-F55A-4B66-B498-0C59279C77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gi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ЛОВЕК.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650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рок обобщения в 5 класс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929120" y="6003000"/>
            <a:ext cx="421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полните пропуски в текст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дростковый период длится с ________ до _______ лет. Выделяют __________________ (5-6 класс) и _________________ (7-8класс) подростков. Подростки очень быстро _____________ , у них появляются ____________. Особенностью подростка является также резкая смена ____________________. Подростки быстро утомляются, потому что ________________________. Ребенок этого возраста очень любит _______________ и строить ___________________________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http://images.slanet.by/%7Esrc5955763/KONTROLNYE_KURSOVYE_DIPLOMNYE_raboty_OTChETY_po_praktike.jpg"/>
          <p:cNvPicPr/>
          <p:nvPr/>
        </p:nvPicPr>
        <p:blipFill>
          <a:blip r:embed="rId1"/>
          <a:stretch/>
        </p:blipFill>
        <p:spPr>
          <a:xfrm>
            <a:off x="7093080" y="404640"/>
            <a:ext cx="1233360" cy="194328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9" descr=""/>
          <p:cNvPicPr/>
          <p:nvPr/>
        </p:nvPicPr>
        <p:blipFill>
          <a:blip r:embed="rId2"/>
          <a:stretch/>
        </p:blipFill>
        <p:spPr>
          <a:xfrm>
            <a:off x="2298600" y="878040"/>
            <a:ext cx="4552920" cy="110304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10" descr=""/>
          <p:cNvPicPr/>
          <p:nvPr/>
        </p:nvPicPr>
        <p:blipFill>
          <a:blip r:embed="rId3"/>
          <a:stretch/>
        </p:blipFill>
        <p:spPr>
          <a:xfrm>
            <a:off x="2322360" y="2651040"/>
            <a:ext cx="6364440" cy="2835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http://mediasubs.ru/group/uploads/ig/igrushki-dlya-detej-rukami-mamyi/image2/iMjAtODdm.gif"/>
          <p:cNvPicPr/>
          <p:nvPr/>
        </p:nvPicPr>
        <p:blipFill>
          <a:blip r:embed="rId4"/>
          <a:stretch/>
        </p:blipFill>
        <p:spPr>
          <a:xfrm>
            <a:off x="968400" y="2874960"/>
            <a:ext cx="17287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Улыбающееся лицо 3"/>
          <p:cNvSpPr/>
          <p:nvPr/>
        </p:nvSpPr>
        <p:spPr>
          <a:xfrm>
            <a:off x="8101080" y="6021360"/>
            <a:ext cx="792000" cy="647640"/>
          </a:xfrm>
          <a:prstGeom prst="smileyFace">
            <a:avLst>
              <a:gd name="adj" fmla="val 928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http://images.slanet.by/%7Esrc5955763/KONTROLNYE_KURSOVYE_DIPLOMNYE_raboty_OTChETY_po_praktike.jpg"/>
          <p:cNvPicPr/>
          <p:nvPr/>
        </p:nvPicPr>
        <p:blipFill>
          <a:blip r:embed="rId1"/>
          <a:stretch/>
        </p:blipFill>
        <p:spPr>
          <a:xfrm>
            <a:off x="0" y="4724280"/>
            <a:ext cx="1233360" cy="194328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9" descr=""/>
          <p:cNvPicPr/>
          <p:nvPr/>
        </p:nvPicPr>
        <p:blipFill>
          <a:blip r:embed="rId2"/>
          <a:stretch/>
        </p:blipFill>
        <p:spPr>
          <a:xfrm>
            <a:off x="2298600" y="878040"/>
            <a:ext cx="4552920" cy="110304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0" descr=""/>
          <p:cNvPicPr/>
          <p:nvPr/>
        </p:nvPicPr>
        <p:blipFill>
          <a:blip r:embed="rId3"/>
          <a:stretch/>
        </p:blipFill>
        <p:spPr>
          <a:xfrm>
            <a:off x="1384200" y="2762280"/>
            <a:ext cx="636444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http://mediasubs.ru/group/uploads/ig/igrushki-dlya-detej-rukami-mamyi/image2/iMjAtODdm.gif"/>
          <p:cNvPicPr/>
          <p:nvPr/>
        </p:nvPicPr>
        <p:blipFill>
          <a:blip r:embed="rId1"/>
          <a:stretch/>
        </p:blipFill>
        <p:spPr>
          <a:xfrm>
            <a:off x="-49320" y="4564080"/>
            <a:ext cx="1152720" cy="1709640"/>
          </a:xfrm>
          <a:prstGeom prst="rect">
            <a:avLst/>
          </a:prstGeom>
          <a:ln w="0">
            <a:noFill/>
          </a:ln>
        </p:spPr>
      </p:pic>
      <p:grpSp>
        <p:nvGrpSpPr>
          <p:cNvPr id="326" name="Куб 3"/>
          <p:cNvGrpSpPr/>
          <p:nvPr/>
        </p:nvGrpSpPr>
        <p:grpSpPr>
          <a:xfrm>
            <a:off x="963720" y="5748480"/>
            <a:ext cx="8259480" cy="1212840"/>
            <a:chOff x="963720" y="5748480"/>
            <a:chExt cx="8259480" cy="1212840"/>
          </a:xfrm>
        </p:grpSpPr>
        <p:pic>
          <p:nvPicPr>
            <p:cNvPr id="327" name="Куб 3" descr=""/>
            <p:cNvPicPr/>
            <p:nvPr/>
          </p:nvPicPr>
          <p:blipFill>
            <a:blip r:embed="rId2"/>
            <a:stretch/>
          </p:blipFill>
          <p:spPr>
            <a:xfrm>
              <a:off x="963720" y="5748480"/>
              <a:ext cx="82594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042920" y="6068880"/>
              <a:ext cx="783756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Corbel"/>
                </a:rPr>
                <a:t>                   </a:t>
              </a:r>
              <a:r>
                <a:rPr b="1" lang="ru-RU" sz="3600" spc="-1" strike="noStrike">
                  <a:solidFill>
                    <a:srgbClr val="002060"/>
                  </a:solidFill>
                  <a:latin typeface="Corbel"/>
                </a:rPr>
                <a:t>Вставь пропущенные слов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Куб 6"/>
          <p:cNvGrpSpPr/>
          <p:nvPr/>
        </p:nvGrpSpPr>
        <p:grpSpPr>
          <a:xfrm>
            <a:off x="2004840" y="4816440"/>
            <a:ext cx="7248600" cy="1266840"/>
            <a:chOff x="2004840" y="4816440"/>
            <a:chExt cx="7248600" cy="1266840"/>
          </a:xfrm>
        </p:grpSpPr>
        <p:pic>
          <p:nvPicPr>
            <p:cNvPr id="330" name="Куб 6" descr=""/>
            <p:cNvPicPr/>
            <p:nvPr/>
          </p:nvPicPr>
          <p:blipFill>
            <a:blip r:embed="rId3"/>
            <a:stretch/>
          </p:blipFill>
          <p:spPr>
            <a:xfrm>
              <a:off x="2004840" y="4816440"/>
              <a:ext cx="72486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082960" y="5145120"/>
              <a:ext cx="681480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rbel"/>
                </a:rPr>
                <a:t>            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Corbel"/>
                </a:rPr>
                <a:t>Что правильно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Куб 7"/>
          <p:cNvGrpSpPr/>
          <p:nvPr/>
        </p:nvGrpSpPr>
        <p:grpSpPr>
          <a:xfrm>
            <a:off x="3133800" y="3986280"/>
            <a:ext cx="6089400" cy="1201680"/>
            <a:chOff x="3133800" y="3986280"/>
            <a:chExt cx="6089400" cy="1201680"/>
          </a:xfrm>
        </p:grpSpPr>
        <p:pic>
          <p:nvPicPr>
            <p:cNvPr id="333" name="Куб 7" descr=""/>
            <p:cNvPicPr/>
            <p:nvPr/>
          </p:nvPicPr>
          <p:blipFill>
            <a:blip r:embed="rId4"/>
            <a:stretch/>
          </p:blipFill>
          <p:spPr>
            <a:xfrm>
              <a:off x="3133800" y="3986280"/>
              <a:ext cx="60894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3209760" y="4303800"/>
              <a:ext cx="567396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orbel"/>
                </a:rPr>
                <a:t>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Corbel"/>
                </a:rPr>
                <a:t>Сходства и различ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Куб 8"/>
          <p:cNvGrpSpPr/>
          <p:nvPr/>
        </p:nvGrpSpPr>
        <p:grpSpPr>
          <a:xfrm>
            <a:off x="4164120" y="3164040"/>
            <a:ext cx="5089320" cy="1236600"/>
            <a:chOff x="4164120" y="3164040"/>
            <a:chExt cx="5089320" cy="1236600"/>
          </a:xfrm>
        </p:grpSpPr>
        <p:pic>
          <p:nvPicPr>
            <p:cNvPr id="336" name="Куб 8" descr=""/>
            <p:cNvPicPr/>
            <p:nvPr/>
          </p:nvPicPr>
          <p:blipFill>
            <a:blip r:embed="rId5"/>
            <a:stretch/>
          </p:blipFill>
          <p:spPr>
            <a:xfrm>
              <a:off x="4164120" y="3164040"/>
              <a:ext cx="508932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243320" y="3487680"/>
              <a:ext cx="46627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2a6d7d"/>
                  </a:solidFill>
                  <a:latin typeface="Corbel"/>
                </a:rPr>
                <a:t>                     </a:t>
              </a:r>
              <a:r>
                <a:rPr b="1" lang="ru-RU" sz="3600" spc="-1" strike="noStrike">
                  <a:solidFill>
                    <a:srgbClr val="2a6d7d"/>
                  </a:solidFill>
                  <a:latin typeface="Corbel"/>
                </a:rPr>
                <a:t>Что не так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Куб 9"/>
          <p:cNvGrpSpPr/>
          <p:nvPr/>
        </p:nvGrpSpPr>
        <p:grpSpPr>
          <a:xfrm>
            <a:off x="4853160" y="2365200"/>
            <a:ext cx="4400280" cy="1170000"/>
            <a:chOff x="4853160" y="2365200"/>
            <a:chExt cx="4400280" cy="1170000"/>
          </a:xfrm>
        </p:grpSpPr>
        <p:pic>
          <p:nvPicPr>
            <p:cNvPr id="339" name="Куб 9" descr=""/>
            <p:cNvPicPr/>
            <p:nvPr/>
          </p:nvPicPr>
          <p:blipFill>
            <a:blip r:embed="rId6"/>
            <a:stretch/>
          </p:blipFill>
          <p:spPr>
            <a:xfrm>
              <a:off x="4853160" y="2365200"/>
              <a:ext cx="44002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929120" y="2673360"/>
              <a:ext cx="39942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2a6d7d"/>
                  </a:solidFill>
                  <a:latin typeface="Corbel"/>
                </a:rPr>
                <a:t>                 </a:t>
              </a:r>
              <a:r>
                <a:rPr b="1" lang="ru-RU" sz="3600" spc="-1" strike="noStrike">
                  <a:solidFill>
                    <a:srgbClr val="2a6d7d"/>
                  </a:solidFill>
                  <a:latin typeface="Corbel"/>
                </a:rPr>
                <a:t>Назов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Куб 10"/>
          <p:cNvGrpSpPr/>
          <p:nvPr/>
        </p:nvGrpSpPr>
        <p:grpSpPr>
          <a:xfrm>
            <a:off x="5778360" y="1573200"/>
            <a:ext cx="3462480" cy="1170000"/>
            <a:chOff x="5778360" y="1573200"/>
            <a:chExt cx="3462480" cy="1170000"/>
          </a:xfrm>
        </p:grpSpPr>
        <p:pic>
          <p:nvPicPr>
            <p:cNvPr id="342" name="Куб 10" descr=""/>
            <p:cNvPicPr/>
            <p:nvPr/>
          </p:nvPicPr>
          <p:blipFill>
            <a:blip r:embed="rId7"/>
            <a:stretch/>
          </p:blipFill>
          <p:spPr>
            <a:xfrm>
              <a:off x="5778360" y="1573200"/>
              <a:ext cx="34624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857920" y="1881360"/>
              <a:ext cx="3052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2a6d7d"/>
                  </a:solidFill>
                  <a:latin typeface="Corbel"/>
                </a:rPr>
                <a:t>Рассужда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8" descr="http://s007.radikal.ru/i302/1011/c3/f56fdfa0fe87.gif"/>
          <p:cNvPicPr/>
          <p:nvPr/>
        </p:nvPicPr>
        <p:blipFill>
          <a:blip r:embed="rId8"/>
          <a:stretch/>
        </p:blipFill>
        <p:spPr>
          <a:xfrm>
            <a:off x="100080" y="351000"/>
            <a:ext cx="4832280" cy="3624120"/>
          </a:xfrm>
          <a:prstGeom prst="rect">
            <a:avLst/>
          </a:prstGeom>
          <a:ln w="0">
            <a:noFill/>
          </a:ln>
        </p:spPr>
      </p:pic>
      <p:grpSp>
        <p:nvGrpSpPr>
          <p:cNvPr id="345" name="Куб 11"/>
          <p:cNvGrpSpPr/>
          <p:nvPr/>
        </p:nvGrpSpPr>
        <p:grpSpPr>
          <a:xfrm>
            <a:off x="6267600" y="658800"/>
            <a:ext cx="2955600" cy="1303200"/>
            <a:chOff x="6267600" y="658800"/>
            <a:chExt cx="2955600" cy="1303200"/>
          </a:xfrm>
        </p:grpSpPr>
        <p:pic>
          <p:nvPicPr>
            <p:cNvPr id="346" name="Куб 11" descr=""/>
            <p:cNvPicPr/>
            <p:nvPr/>
          </p:nvPicPr>
          <p:blipFill>
            <a:blip r:embed="rId9"/>
            <a:stretch/>
          </p:blipFill>
          <p:spPr>
            <a:xfrm>
              <a:off x="6267600" y="658800"/>
              <a:ext cx="295560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500880" y="1000080"/>
              <a:ext cx="23572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Corbel"/>
                </a:rPr>
                <a:t>обобщае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2454 L 0.0217 -0.04607 C 0.02743 -0.05047 0.0368 -0.0551 0.04687 -0.05949 C 0.05799 -0.06436 0.06719 -0.0676 0.07413 -0.06875 L 0.10677 -0.07315 E">
                                      <p:cBhvr>
                                        <p:cTn id="18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6 -0.07315 L 0.10486 -0.13982 C 0.10504 -0.15347 0.11059 -0.1669 0.11841 -0.17709 C 0.1283 -0.18959 0.13785 -0.19584 0.14792 -0.19584 L 0.19913 -0.19329 E">
                                      <p:cBhvr>
                                        <p:cTn id="22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13 -0.19329 L 0.21354 -0.26041 C 0.21614 -0.27546 0.22448 -0.29028 0.23576 -0.30046 C 0.24843 -0.31389 0.26093 -0.31944 0.27222 -0.31805 L 0.32639 -0.31759 E">
                                      <p:cBhvr>
                                        <p:cTn id="26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21 -0.31759 L 0.33802 -0.39514 C 0.33993 -0.41157 0.34878 -0.42708 0.36024 -0.43819 C 0.37361 -0.45023 0.38663 -0.45532 0.39913 -0.45139 L 0.45798 -0.44028 E">
                                      <p:cBhvr>
                                        <p:cTn id="30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799 -0.44005 L 0.48143 -0.49653 C 0.48629 -0.5088 0.49618 -0.52107 0.50816 -0.53056 C 0.52171 -0.54144 0.53438 -0.547 0.54428 -0.547 L 0.59323 -0.54838 E">
                                      <p:cBhvr>
                                        <p:cTn id="34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323 -0.54838 L 0.61858 -0.63102 C 0.62361 -0.64931 0.63576 -0.66574 0.65069 -0.67685 C 0.66753 -0.69005 0.68385 -0.69491 0.69826 -0.69121 L 0.76493 -0.67847 E">
                                      <p:cBhvr>
                                        <p:cTn id="38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1. Вставь пропус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Человек в отличие от животных обладает ____________, способен к _____________, может действовать ___________, имеет хорошо развитый _______________, создает_____________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Прямоугольник 4" descr=""/>
          <p:cNvPicPr/>
          <p:nvPr/>
        </p:nvPicPr>
        <p:blipFill>
          <a:blip r:embed="rId1"/>
          <a:stretch/>
        </p:blipFill>
        <p:spPr>
          <a:xfrm>
            <a:off x="3108240" y="1719360"/>
            <a:ext cx="2927520" cy="81108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5" descr=""/>
          <p:cNvPicPr/>
          <p:nvPr/>
        </p:nvPicPr>
        <p:blipFill>
          <a:blip r:embed="rId2"/>
          <a:stretch/>
        </p:blipFill>
        <p:spPr>
          <a:xfrm>
            <a:off x="1384200" y="2225520"/>
            <a:ext cx="3011760" cy="80964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6" descr=""/>
          <p:cNvPicPr/>
          <p:nvPr/>
        </p:nvPicPr>
        <p:blipFill>
          <a:blip r:embed="rId3"/>
          <a:stretch/>
        </p:blipFill>
        <p:spPr>
          <a:xfrm>
            <a:off x="1378080" y="2730600"/>
            <a:ext cx="2535120" cy="81108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оугольник 7" descr=""/>
          <p:cNvPicPr/>
          <p:nvPr/>
        </p:nvPicPr>
        <p:blipFill>
          <a:blip r:embed="rId4"/>
          <a:stretch/>
        </p:blipFill>
        <p:spPr>
          <a:xfrm>
            <a:off x="1359000" y="3157560"/>
            <a:ext cx="3713040" cy="81108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8" descr=""/>
          <p:cNvPicPr/>
          <p:nvPr/>
        </p:nvPicPr>
        <p:blipFill>
          <a:blip r:embed="rId5"/>
          <a:stretch/>
        </p:blipFill>
        <p:spPr>
          <a:xfrm>
            <a:off x="5900760" y="3157560"/>
            <a:ext cx="3468600" cy="811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im8-tub-ru.yandex.net/i?id=145839099-59-72&amp;n=21"/>
          <p:cNvPicPr/>
          <p:nvPr/>
        </p:nvPicPr>
        <p:blipFill>
          <a:blip r:embed="rId6"/>
          <a:stretch/>
        </p:blipFill>
        <p:spPr>
          <a:xfrm>
            <a:off x="5508720" y="4087800"/>
            <a:ext cx="2603520" cy="2604960"/>
          </a:xfrm>
          <a:prstGeom prst="rect">
            <a:avLst/>
          </a:prstGeom>
          <a:ln w="0">
            <a:noFill/>
          </a:ln>
        </p:spPr>
      </p:pic>
      <p:sp>
        <p:nvSpPr>
          <p:cNvPr id="356" name="Управляющая кнопка: в конец 9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2. Что правильно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50920" y="1628640"/>
          <a:ext cx="8712000" cy="4694400"/>
        </p:xfrm>
        <a:graphic>
          <a:graphicData uri="http://schemas.openxmlformats.org/drawingml/2006/table">
            <a:tbl>
              <a:tblPr/>
              <a:tblGrid>
                <a:gridCol w="6154560"/>
                <a:gridCol w="1198800"/>
                <a:gridCol w="1358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ужд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 Инстинкты – это определенные действия, уже имеющиеся при рожде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От родителей человек наследует привычки и 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 У человека и у животного есть инстинкт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Подросток – очень противоречивый, склонен к быстрой смене настро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. Самостоятельность ребенка опасна, так как он может увлечься вредными привыч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59" name="Прямоугольник 4" descr=""/>
          <p:cNvPicPr/>
          <p:nvPr/>
        </p:nvPicPr>
        <p:blipFill>
          <a:blip r:embed="rId1"/>
          <a:stretch/>
        </p:blipFill>
        <p:spPr>
          <a:xfrm>
            <a:off x="6261120" y="1841400"/>
            <a:ext cx="1352520" cy="118764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5" descr=""/>
          <p:cNvPicPr/>
          <p:nvPr/>
        </p:nvPicPr>
        <p:blipFill>
          <a:blip r:embed="rId2"/>
          <a:stretch/>
        </p:blipFill>
        <p:spPr>
          <a:xfrm>
            <a:off x="6261120" y="3371760"/>
            <a:ext cx="1352520" cy="1187640"/>
          </a:xfrm>
          <a:prstGeom prst="rect">
            <a:avLst/>
          </a:prstGeom>
          <a:ln w="0">
            <a:noFill/>
          </a:ln>
        </p:spPr>
      </p:pic>
      <p:pic>
        <p:nvPicPr>
          <p:cNvPr id="361" name="Прямоугольник 6" descr=""/>
          <p:cNvPicPr/>
          <p:nvPr/>
        </p:nvPicPr>
        <p:blipFill>
          <a:blip r:embed="rId3"/>
          <a:stretch/>
        </p:blipFill>
        <p:spPr>
          <a:xfrm>
            <a:off x="6261120" y="4017960"/>
            <a:ext cx="1352520" cy="118728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7" descr=""/>
          <p:cNvPicPr/>
          <p:nvPr/>
        </p:nvPicPr>
        <p:blipFill>
          <a:blip r:embed="rId4"/>
          <a:stretch/>
        </p:blipFill>
        <p:spPr>
          <a:xfrm>
            <a:off x="7693200" y="2755800"/>
            <a:ext cx="1218960" cy="118764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8" descr=""/>
          <p:cNvPicPr/>
          <p:nvPr/>
        </p:nvPicPr>
        <p:blipFill>
          <a:blip r:embed="rId5"/>
          <a:stretch/>
        </p:blipFill>
        <p:spPr>
          <a:xfrm>
            <a:off x="7693200" y="4986360"/>
            <a:ext cx="1218960" cy="1189080"/>
          </a:xfrm>
          <a:prstGeom prst="rect">
            <a:avLst/>
          </a:prstGeom>
          <a:ln w="0">
            <a:noFill/>
          </a:ln>
        </p:spPr>
      </p:pic>
      <p:sp>
        <p:nvSpPr>
          <p:cNvPr id="364" name="Управляющая кнопка: в конец 9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3. Сходства и отлич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приведенном списке указаны черты сходства человека и животных их различия. Выбери и запиши в таблицу сначала порядковые номера черт сходства, а затем черт различ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пособность к творчеств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требность в отдых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личие органов чувст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знательное выдвижение це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050920" y="5229360"/>
          <a:ext cx="6096240" cy="1628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ерты схо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ерты различ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68" name="Прямоугольник 4" descr=""/>
          <p:cNvPicPr/>
          <p:nvPr/>
        </p:nvPicPr>
        <p:blipFill>
          <a:blip r:embed="rId1"/>
          <a:stretch/>
        </p:blipFill>
        <p:spPr>
          <a:xfrm>
            <a:off x="5084640" y="573084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5" descr=""/>
          <p:cNvPicPr/>
          <p:nvPr/>
        </p:nvPicPr>
        <p:blipFill>
          <a:blip r:embed="rId2"/>
          <a:stretch/>
        </p:blipFill>
        <p:spPr>
          <a:xfrm>
            <a:off x="2206800" y="573084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6" descr=""/>
          <p:cNvPicPr/>
          <p:nvPr/>
        </p:nvPicPr>
        <p:blipFill>
          <a:blip r:embed="rId3"/>
          <a:stretch/>
        </p:blipFill>
        <p:spPr>
          <a:xfrm>
            <a:off x="3303720" y="573084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7" descr=""/>
          <p:cNvPicPr/>
          <p:nvPr/>
        </p:nvPicPr>
        <p:blipFill>
          <a:blip r:embed="rId4"/>
          <a:stretch/>
        </p:blipFill>
        <p:spPr>
          <a:xfrm>
            <a:off x="6308640" y="5711760"/>
            <a:ext cx="1371600" cy="1189080"/>
          </a:xfrm>
          <a:prstGeom prst="rect">
            <a:avLst/>
          </a:prstGeom>
          <a:ln w="0">
            <a:noFill/>
          </a:ln>
        </p:spPr>
      </p:pic>
      <p:sp>
        <p:nvSpPr>
          <p:cNvPr id="372" name="Управляющая кнопка: в конец 8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4. Что не так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А как определить, сможешь ли ты выполнить самостоятельно задание? Сначала ответь себе на вопрос: «А может быть, это сделает кто-то за меня?». Потом определи шансы на успех. Затем жди, когда дело сделается. Получив результат, обязательно подумай: «Удалось ли достичь поставленной цели?». Делай так всегда, и ты станешь самостоятельным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1403280" y="1413000"/>
            <a:ext cx="7489800" cy="557604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А как определить, сможешь ли ты выполнить самостоятельно задание? Сначала ответь себе на вопрос: «Хочу ли я добиться успеха?». Потом определи шансы на успех. Затем представь последовательно все свои действия и выполни их. Получив результат, обязательно подумай: «Удалось ли достичь поставленной цели?». Делай так всегда, и ты станешь самостоятельн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Управляющая кнопка: в конец 4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5. Назов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 rot="20856600">
            <a:off x="1959120" y="1491840"/>
            <a:ext cx="1584360" cy="1555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 rot="966600">
            <a:off x="6346440" y="1537920"/>
            <a:ext cx="1550880" cy="1595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 rot="20725800">
            <a:off x="2515680" y="3952800"/>
            <a:ext cx="1513080" cy="1595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4"/>
          <a:stretch/>
        </p:blipFill>
        <p:spPr>
          <a:xfrm rot="754800">
            <a:off x="5878440" y="3943440"/>
            <a:ext cx="1592280" cy="159552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4" descr=""/>
          <p:cNvPicPr/>
          <p:nvPr/>
        </p:nvPicPr>
        <p:blipFill>
          <a:blip r:embed="rId5"/>
          <a:stretch/>
        </p:blipFill>
        <p:spPr>
          <a:xfrm>
            <a:off x="1017720" y="2193840"/>
            <a:ext cx="1287360" cy="115272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9" descr=""/>
          <p:cNvPicPr/>
          <p:nvPr/>
        </p:nvPicPr>
        <p:blipFill>
          <a:blip r:embed="rId6"/>
          <a:stretch/>
        </p:blipFill>
        <p:spPr>
          <a:xfrm>
            <a:off x="5072040" y="2004840"/>
            <a:ext cx="12859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10" descr=""/>
          <p:cNvPicPr/>
          <p:nvPr/>
        </p:nvPicPr>
        <p:blipFill>
          <a:blip r:embed="rId7"/>
          <a:stretch/>
        </p:blipFill>
        <p:spPr>
          <a:xfrm>
            <a:off x="1547640" y="4602240"/>
            <a:ext cx="1281240" cy="115236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11" descr=""/>
          <p:cNvPicPr/>
          <p:nvPr/>
        </p:nvPicPr>
        <p:blipFill>
          <a:blip r:embed="rId8"/>
          <a:stretch/>
        </p:blipFill>
        <p:spPr>
          <a:xfrm>
            <a:off x="4797360" y="4541760"/>
            <a:ext cx="1311480" cy="1152720"/>
          </a:xfrm>
          <a:prstGeom prst="rect">
            <a:avLst/>
          </a:prstGeom>
          <a:ln w="0">
            <a:noFill/>
          </a:ln>
        </p:spPr>
      </p:pic>
      <p:sp>
        <p:nvSpPr>
          <p:cNvPr id="386" name="Управляющая кнопка: в конец 12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6. Рассужда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8" name="Прямоугольник 3" descr=""/>
          <p:cNvPicPr/>
          <p:nvPr/>
        </p:nvPicPr>
        <p:blipFill>
          <a:blip r:embed="rId1"/>
          <a:stretch/>
        </p:blipFill>
        <p:spPr>
          <a:xfrm>
            <a:off x="1243080" y="1206360"/>
            <a:ext cx="6681600" cy="2013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http://img-fotki.yandex.ru/get/6604/58581001.f/0_95831_dce5776e_XL"/>
          <p:cNvPicPr/>
          <p:nvPr/>
        </p:nvPicPr>
        <p:blipFill>
          <a:blip r:embed="rId2"/>
          <a:stretch/>
        </p:blipFill>
        <p:spPr>
          <a:xfrm>
            <a:off x="6084720" y="3906720"/>
            <a:ext cx="2560680" cy="261792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5" descr=""/>
          <p:cNvPicPr/>
          <p:nvPr/>
        </p:nvPicPr>
        <p:blipFill>
          <a:blip r:embed="rId3"/>
          <a:stretch/>
        </p:blipFill>
        <p:spPr>
          <a:xfrm>
            <a:off x="1298520" y="3614760"/>
            <a:ext cx="1835280" cy="111600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6" descr=""/>
          <p:cNvPicPr/>
          <p:nvPr/>
        </p:nvPicPr>
        <p:blipFill>
          <a:blip r:embed="rId4"/>
          <a:stretch/>
        </p:blipFill>
        <p:spPr>
          <a:xfrm>
            <a:off x="4479840" y="3614760"/>
            <a:ext cx="2122560" cy="1116000"/>
          </a:xfrm>
          <a:prstGeom prst="rect">
            <a:avLst/>
          </a:prstGeom>
          <a:ln w="0">
            <a:noFill/>
          </a:ln>
        </p:spPr>
      </p:pic>
      <p:sp>
        <p:nvSpPr>
          <p:cNvPr id="392" name="Управляющая кнопка: в конец 7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17:08:44Z</dcterms:created>
  <dc:creator>Иванова ВВ</dc:creator>
  <dc:description/>
  <dc:language>en-US</dc:language>
  <cp:lastModifiedBy>ТатьянА</cp:lastModifiedBy>
  <dcterms:modified xsi:type="dcterms:W3CDTF">2019-01-02T16:40:30Z</dcterms:modified>
  <cp:revision>31</cp:revision>
  <dc:subject/>
  <dc:title>Презентация PowerPoint</dc:title>
</cp:coreProperties>
</file>