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E4C2-E662-4D83-B1FD-02DC110E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FB2B-EDC1-4246-B9E8-396644E6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F1F7-FB70-4B02-BBE0-9944B838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1BCF-4108-428E-A348-ACD9EBAA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EFEC-E4E5-443C-A4BF-6F465368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1CC5-A082-46F8-A21F-6F80E80C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9B27-8D2F-4B55-9164-3C07092F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AB82-E053-40F0-8C63-E0F1741F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2CE8-0762-4977-821D-97753935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498A-B420-48F2-BC29-C9296B09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F363-9F54-4A72-9181-EAE78A59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48E0-8444-4590-A41F-D7C98B92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1799-3EBA-4B80-88E9-8C21478A19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928800" y="214200"/>
            <a:ext cx="757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авайте повторим главно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11430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Что такое семь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Что характеризует семь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Что позволяет достичь совместный труд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Какие бывают потребности семь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Что такое семейное хозяйств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Кто такой хозяи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Кого считают рачительным человек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Назовите ресурсы семь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Равнобедренный треугольник 3">
            <a:hlinkClick r:id="rId9" action="ppaction://hlinksldjump"/>
          </p:cNvPr>
          <p:cNvSpPr/>
          <p:nvPr/>
        </p:nvSpPr>
        <p:spPr>
          <a:xfrm>
            <a:off x="8429760" y="6143760"/>
            <a:ext cx="714240" cy="7142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6213960"/>
            <a:ext cx="521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итель истории МАОУСОШ № 2 им. Ю.А. Гага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ниципального образования Успенский рай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лых Валерия Никола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Группа 6"/>
          <p:cNvGrpSpPr/>
          <p:nvPr/>
        </p:nvGrpSpPr>
        <p:grpSpPr>
          <a:xfrm>
            <a:off x="352080" y="220680"/>
            <a:ext cx="8437680" cy="1314360"/>
            <a:chOff x="352080" y="220680"/>
            <a:chExt cx="8437680" cy="1314360"/>
          </a:xfrm>
        </p:grpSpPr>
        <p:pic>
          <p:nvPicPr>
            <p:cNvPr id="90" name="Picture 10" descr="https://lh3.googleusercontent.com/z-frktxrq8rZUjxf0g4cHsssLY_-30U5N2YfOWBonmG7G5LKlf01PCq6FsFk7DTbdU4hUQ=s85"/>
            <p:cNvPicPr/>
            <p:nvPr/>
          </p:nvPicPr>
          <p:blipFill>
            <a:blip r:embed="rId1"/>
            <a:stretch/>
          </p:blipFill>
          <p:spPr>
            <a:xfrm rot="5400000">
              <a:off x="559440" y="12600"/>
              <a:ext cx="1191960" cy="160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10" descr="https://lh3.googleusercontent.com/z-frktxrq8rZUjxf0g4cHsssLY_-30U5N2YfOWBonmG7G5LKlf01PCq6FsFk7DTbdU4hUQ=s85"/>
            <p:cNvPicPr/>
            <p:nvPr/>
          </p:nvPicPr>
          <p:blipFill>
            <a:blip r:embed="rId2"/>
            <a:stretch/>
          </p:blipFill>
          <p:spPr>
            <a:xfrm rot="5400000">
              <a:off x="2167200" y="84600"/>
              <a:ext cx="1191960" cy="160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0" descr="https://lh3.googleusercontent.com/z-frktxrq8rZUjxf0g4cHsssLY_-30U5N2YfOWBonmG7G5LKlf01PCq6FsFk7DTbdU4hUQ=s85"/>
            <p:cNvPicPr/>
            <p:nvPr/>
          </p:nvPicPr>
          <p:blipFill>
            <a:blip r:embed="rId3"/>
            <a:stretch/>
          </p:blipFill>
          <p:spPr>
            <a:xfrm rot="5400000">
              <a:off x="4107960" y="57240"/>
              <a:ext cx="1191960" cy="160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0" descr="https://lh3.googleusercontent.com/z-frktxrq8rZUjxf0g4cHsssLY_-30U5N2YfOWBonmG7G5LKlf01PCq6FsFk7DTbdU4hUQ=s85"/>
            <p:cNvPicPr/>
            <p:nvPr/>
          </p:nvPicPr>
          <p:blipFill>
            <a:blip r:embed="rId4"/>
            <a:stretch/>
          </p:blipFill>
          <p:spPr>
            <a:xfrm rot="5400000">
              <a:off x="5764680" y="135000"/>
              <a:ext cx="1191960" cy="160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10" descr="https://lh3.googleusercontent.com/z-frktxrq8rZUjxf0g4cHsssLY_-30U5N2YfOWBonmG7G5LKlf01PCq6FsFk7DTbdU4hUQ=s85"/>
            <p:cNvPicPr/>
            <p:nvPr/>
          </p:nvPicPr>
          <p:blipFill>
            <a:blip r:embed="rId5"/>
            <a:stretch/>
          </p:blipFill>
          <p:spPr>
            <a:xfrm rot="5400000">
              <a:off x="7390080" y="135000"/>
              <a:ext cx="1191960" cy="160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8480" y="1565280"/>
            <a:ext cx="700704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54061"/>
                </a:solidFill>
                <a:latin typeface="Acquest Script"/>
              </a:rPr>
              <a:t>Тема урока:</a:t>
            </a:r>
            <a:br>
              <a:rPr sz="5400"/>
            </a:br>
            <a:r>
              <a:rPr b="1" lang="ru-RU" sz="7200" spc="-1" strike="noStrike">
                <a:solidFill>
                  <a:srgbClr val="953735"/>
                </a:solidFill>
                <a:latin typeface="American Retro"/>
              </a:rPr>
              <a:t>«Свободное время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Картинки по запросу увлечения"/>
          <p:cNvPicPr/>
          <p:nvPr/>
        </p:nvPicPr>
        <p:blipFill>
          <a:blip r:embed="rId6"/>
          <a:stretch/>
        </p:blipFill>
        <p:spPr>
          <a:xfrm>
            <a:off x="2071800" y="3857760"/>
            <a:ext cx="4730760" cy="1625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Картинки по запросу знайка"/>
          <p:cNvPicPr/>
          <p:nvPr/>
        </p:nvPicPr>
        <p:blipFill>
          <a:blip r:embed="rId7"/>
          <a:srcRect l="0" t="0" r="5794" b="0"/>
          <a:stretch/>
        </p:blipFill>
        <p:spPr>
          <a:xfrm>
            <a:off x="303120" y="1208160"/>
            <a:ext cx="1281240" cy="1299960"/>
          </a:xfrm>
          <a:prstGeom prst="rect">
            <a:avLst/>
          </a:prstGeom>
          <a:ln w="0">
            <a:noFill/>
          </a:ln>
        </p:spPr>
      </p:pic>
      <p:grpSp>
        <p:nvGrpSpPr>
          <p:cNvPr id="99" name="Группа 5"/>
          <p:cNvGrpSpPr/>
          <p:nvPr/>
        </p:nvGrpSpPr>
        <p:grpSpPr>
          <a:xfrm>
            <a:off x="303120" y="5667480"/>
            <a:ext cx="720720" cy="865800"/>
            <a:chOff x="303120" y="5667480"/>
            <a:chExt cx="720720" cy="865800"/>
          </a:xfrm>
        </p:grpSpPr>
        <p:pic>
          <p:nvPicPr>
            <p:cNvPr id="100" name="Picture 8" descr="Картинки по запросу иконка праздник"/>
            <p:cNvPicPr/>
            <p:nvPr/>
          </p:nvPicPr>
          <p:blipFill>
            <a:blip r:embed="rId8"/>
            <a:stretch/>
          </p:blipFill>
          <p:spPr>
            <a:xfrm>
              <a:off x="303120" y="5667480"/>
              <a:ext cx="576720" cy="5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Box 3"/>
            <p:cNvSpPr/>
            <p:nvPr/>
          </p:nvSpPr>
          <p:spPr>
            <a:xfrm>
              <a:off x="447120" y="6165000"/>
              <a:ext cx="5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Группа 4"/>
          <p:cNvGrpSpPr/>
          <p:nvPr/>
        </p:nvGrpSpPr>
        <p:grpSpPr>
          <a:xfrm>
            <a:off x="8429760" y="5756400"/>
            <a:ext cx="693720" cy="952920"/>
            <a:chOff x="8429760" y="5756400"/>
            <a:chExt cx="693720" cy="952920"/>
          </a:xfrm>
        </p:grpSpPr>
        <p:pic>
          <p:nvPicPr>
            <p:cNvPr id="103" name="Picture 8" descr="Картинки по запросу иконка праздник"/>
            <p:cNvPicPr/>
            <p:nvPr/>
          </p:nvPicPr>
          <p:blipFill>
            <a:blip r:embed="rId9"/>
            <a:stretch/>
          </p:blipFill>
          <p:spPr>
            <a:xfrm>
              <a:off x="8429760" y="5756400"/>
              <a:ext cx="58104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23"/>
            <p:cNvSpPr/>
            <p:nvPr/>
          </p:nvSpPr>
          <p:spPr>
            <a:xfrm>
              <a:off x="8551440" y="6341040"/>
              <a:ext cx="57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345780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6" descr="C:\Users\Acer\Desktop\анимационные картинки\смайл реш задачу.gif"/>
          <p:cNvPicPr/>
          <p:nvPr/>
        </p:nvPicPr>
        <p:blipFill>
          <a:blip r:embed="rId1"/>
          <a:stretch/>
        </p:blipFill>
        <p:spPr>
          <a:xfrm>
            <a:off x="6937200" y="755640"/>
            <a:ext cx="1689120" cy="1670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002960" y="2565000"/>
            <a:ext cx="6778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. Что такое свободное врем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84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2. Свободное время и занятие физкультуро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84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3. Свободное время, телевизор, компьютер, телефон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84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4. Своими рука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84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5. Что такое хобб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214200" y="714240"/>
            <a:ext cx="8501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ремя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– это определенный момент, в котором происходит что-нибуд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С.И.Ожого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357120" y="357120"/>
            <a:ext cx="8286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акие единицы времени существуют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428760" y="2214720"/>
            <a:ext cx="828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Ча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Минут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екунд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4116240" y="1285920"/>
            <a:ext cx="5027760" cy="50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620640"/>
            <a:ext cx="702468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то такое свободное врем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28760" y="1499760"/>
            <a:ext cx="560232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емя, которое остаётся после выполнения обязательных дел, называют </a:t>
            </a:r>
            <a:r>
              <a:rPr b="1" i="1" lang="ru-RU" sz="2600" spc="-1" strike="noStrike">
                <a:solidFill>
                  <a:srgbClr val="ff0000"/>
                </a:solidFill>
                <a:latin typeface="Calibri"/>
              </a:rPr>
              <a:t>свободным временем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о нужно для отдыха и занятий по интересам. Для собственного развития и получения удовольств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емя надо учиться правильно распределят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5830920" y="354492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Содержимое 2"/>
          <p:cNvSpPr/>
          <p:nvPr/>
        </p:nvSpPr>
        <p:spPr>
          <a:xfrm>
            <a:off x="857160" y="1071720"/>
            <a:ext cx="755676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llegretto Script Two"/>
              </a:rPr>
              <a:t>	</a:t>
            </a:r>
            <a:r>
              <a:rPr b="1" lang="ru-RU" sz="3700" spc="-1" strike="noStrike">
                <a:solidFill>
                  <a:srgbClr val="632523"/>
                </a:solidFill>
                <a:latin typeface="Acquest Script"/>
              </a:rPr>
              <a:t>Свободное время </a:t>
            </a:r>
            <a:r>
              <a:rPr b="0" lang="ru-RU" sz="3700" spc="-1" strike="noStrike">
                <a:solidFill>
                  <a:srgbClr val="000000"/>
                </a:solidFill>
                <a:latin typeface="Acquest Script"/>
              </a:rPr>
              <a:t>– </a:t>
            </a:r>
            <a:r>
              <a:rPr b="0" i="1" lang="ru-RU" sz="3700" spc="-1" strike="noStrike">
                <a:solidFill>
                  <a:srgbClr val="000000"/>
                </a:solidFill>
                <a:latin typeface="Acquest Script"/>
              </a:rPr>
              <a:t>период времени, свободный от учебы и выполнения обязательных дел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xn--80aahvz2a9a.xn--p1ai/media/afisha/Family.jpg"/>
          <p:cNvPicPr/>
          <p:nvPr/>
        </p:nvPicPr>
        <p:blipFill>
          <a:blip r:embed="rId1"/>
          <a:stretch/>
        </p:blipFill>
        <p:spPr>
          <a:xfrm>
            <a:off x="281160" y="-6480"/>
            <a:ext cx="1974600" cy="19209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4"/>
          <p:cNvSpPr/>
          <p:nvPr/>
        </p:nvSpPr>
        <p:spPr>
          <a:xfrm>
            <a:off x="457200" y="1984320"/>
            <a:ext cx="8332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Семья-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то группа, основанная на родственных связях (по браку, по крови), связанная общим бытом, взаимной помощью, заботой и ответственн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://i1276.photobucket.com/albums/y470/ConstantLeads/01%20backgrounds%20and%20Overlays/Public%20Housing/family-silhouette-clip-art_zpse9769f8f.png~original"/>
          <p:cNvPicPr/>
          <p:nvPr/>
        </p:nvPicPr>
        <p:blipFill>
          <a:blip r:embed="rId2"/>
          <a:stretch/>
        </p:blipFill>
        <p:spPr>
          <a:xfrm>
            <a:off x="7182000" y="4730760"/>
            <a:ext cx="1974600" cy="2444760"/>
          </a:xfrm>
          <a:prstGeom prst="rect">
            <a:avLst/>
          </a:prstGeom>
          <a:ln w="0">
            <a:noFill/>
          </a:ln>
        </p:spPr>
      </p:pic>
      <p:sp>
        <p:nvSpPr>
          <p:cNvPr id="48" name="Скругленный прямоугольник 6">
            <a:hlinkClick r:id="rId3" action="ppaction://hlinksldjump"/>
          </p:cNvPr>
          <p:cNvSpPr/>
          <p:nvPr/>
        </p:nvSpPr>
        <p:spPr>
          <a:xfrm>
            <a:off x="0" y="6143760"/>
            <a:ext cx="135720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xn--80aahvz2a9a.xn--p1ai/media/afisha/Family.jpg"/>
          <p:cNvPicPr/>
          <p:nvPr/>
        </p:nvPicPr>
        <p:blipFill>
          <a:blip r:embed="rId2"/>
          <a:stretch/>
        </p:blipFill>
        <p:spPr>
          <a:xfrm>
            <a:off x="4925880" y="-6480"/>
            <a:ext cx="2328840" cy="2268720"/>
          </a:xfrm>
          <a:prstGeom prst="rect">
            <a:avLst/>
          </a:prstGeom>
          <a:ln w="0">
            <a:noFill/>
          </a:ln>
        </p:spPr>
      </p:pic>
      <p:grpSp>
        <p:nvGrpSpPr>
          <p:cNvPr id="51" name="Солнце 9"/>
          <p:cNvGrpSpPr/>
          <p:nvPr/>
        </p:nvGrpSpPr>
        <p:grpSpPr>
          <a:xfrm>
            <a:off x="2639880" y="2693880"/>
            <a:ext cx="3048120" cy="3859200"/>
            <a:chOff x="2639880" y="2693880"/>
            <a:chExt cx="3048120" cy="3859200"/>
          </a:xfrm>
        </p:grpSpPr>
        <p:pic>
          <p:nvPicPr>
            <p:cNvPr id="52" name="Солнце 9" descr=""/>
            <p:cNvPicPr/>
            <p:nvPr/>
          </p:nvPicPr>
          <p:blipFill>
            <a:blip r:embed="rId3"/>
            <a:stretch/>
          </p:blipFill>
          <p:spPr>
            <a:xfrm>
              <a:off x="2639880" y="2693880"/>
              <a:ext cx="3048120" cy="38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767040" y="3722760"/>
              <a:ext cx="1141560" cy="15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семь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2" descr="http://i1276.photobucket.com/albums/y470/ConstantLeads/01%20backgrounds%20and%20Overlays/Public%20Housing/family-silhouette-clip-art_zpse9769f8f.png~original"/>
          <p:cNvPicPr/>
          <p:nvPr/>
        </p:nvPicPr>
        <p:blipFill>
          <a:blip r:embed="rId4"/>
          <a:stretch/>
        </p:blipFill>
        <p:spPr>
          <a:xfrm>
            <a:off x="3857760" y="3500280"/>
            <a:ext cx="811080" cy="1070280"/>
          </a:xfrm>
          <a:prstGeom prst="rect">
            <a:avLst/>
          </a:prstGeom>
          <a:ln w="0">
            <a:noFill/>
          </a:ln>
        </p:spPr>
      </p:pic>
      <p:grpSp>
        <p:nvGrpSpPr>
          <p:cNvPr id="55" name="Прямоугольник 11"/>
          <p:cNvGrpSpPr/>
          <p:nvPr/>
        </p:nvGrpSpPr>
        <p:grpSpPr>
          <a:xfrm>
            <a:off x="5261040" y="2517840"/>
            <a:ext cx="2889360" cy="834840"/>
            <a:chOff x="5261040" y="2517840"/>
            <a:chExt cx="2889360" cy="834840"/>
          </a:xfrm>
        </p:grpSpPr>
        <p:pic>
          <p:nvPicPr>
            <p:cNvPr id="56" name="Прямоугольник 11" descr=""/>
            <p:cNvPicPr/>
            <p:nvPr/>
          </p:nvPicPr>
          <p:blipFill>
            <a:blip r:embed="rId5"/>
            <a:stretch/>
          </p:blipFill>
          <p:spPr>
            <a:xfrm>
              <a:off x="5261040" y="2517840"/>
              <a:ext cx="288936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722200" y="2571840"/>
              <a:ext cx="239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Рождение дет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Прямоугольник 12"/>
          <p:cNvGrpSpPr/>
          <p:nvPr/>
        </p:nvGrpSpPr>
        <p:grpSpPr>
          <a:xfrm>
            <a:off x="-79200" y="2517840"/>
            <a:ext cx="3292200" cy="1200240"/>
            <a:chOff x="-79200" y="2517840"/>
            <a:chExt cx="3292200" cy="1200240"/>
          </a:xfrm>
        </p:grpSpPr>
        <p:pic>
          <p:nvPicPr>
            <p:cNvPr id="59" name="Прямоугольник 12" descr=""/>
            <p:cNvPicPr/>
            <p:nvPr/>
          </p:nvPicPr>
          <p:blipFill>
            <a:blip r:embed="rId6"/>
            <a:stretch/>
          </p:blipFill>
          <p:spPr>
            <a:xfrm>
              <a:off x="-79200" y="2517840"/>
              <a:ext cx="329220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69360" y="2571840"/>
              <a:ext cx="279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Воспитание новог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око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Прямоугольник 13"/>
          <p:cNvGrpSpPr/>
          <p:nvPr/>
        </p:nvGrpSpPr>
        <p:grpSpPr>
          <a:xfrm>
            <a:off x="5614920" y="3584520"/>
            <a:ext cx="2949480" cy="1206720"/>
            <a:chOff x="5614920" y="3584520"/>
            <a:chExt cx="2949480" cy="1206720"/>
          </a:xfrm>
        </p:grpSpPr>
        <p:pic>
          <p:nvPicPr>
            <p:cNvPr id="62" name="Прямоугольник 13" descr=""/>
            <p:cNvPicPr/>
            <p:nvPr/>
          </p:nvPicPr>
          <p:blipFill>
            <a:blip r:embed="rId7"/>
            <a:stretch/>
          </p:blipFill>
          <p:spPr>
            <a:xfrm>
              <a:off x="5614920" y="3584520"/>
              <a:ext cx="2949480" cy="12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000840" y="3643200"/>
              <a:ext cx="250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Ведение общег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хозяй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Прямоугольник 14"/>
          <p:cNvGrpSpPr/>
          <p:nvPr/>
        </p:nvGrpSpPr>
        <p:grpSpPr>
          <a:xfrm>
            <a:off x="-433440" y="5602320"/>
            <a:ext cx="3951360" cy="1573200"/>
            <a:chOff x="-433440" y="5602320"/>
            <a:chExt cx="3951360" cy="1573200"/>
          </a:xfrm>
        </p:grpSpPr>
        <p:pic>
          <p:nvPicPr>
            <p:cNvPr id="65" name="Прямоугольник 14" descr=""/>
            <p:cNvPicPr/>
            <p:nvPr/>
          </p:nvPicPr>
          <p:blipFill>
            <a:blip r:embed="rId8"/>
            <a:stretch/>
          </p:blipFill>
          <p:spPr>
            <a:xfrm>
              <a:off x="-433440" y="5602320"/>
              <a:ext cx="395136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9720" y="5657760"/>
              <a:ext cx="34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Физическая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экономическая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сихологическая защи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Прямоугольник 15"/>
          <p:cNvGrpSpPr/>
          <p:nvPr/>
        </p:nvGrpSpPr>
        <p:grpSpPr>
          <a:xfrm>
            <a:off x="5237280" y="5200560"/>
            <a:ext cx="3681360" cy="1943280"/>
            <a:chOff x="5237280" y="5200560"/>
            <a:chExt cx="3681360" cy="1943280"/>
          </a:xfrm>
        </p:grpSpPr>
        <p:pic>
          <p:nvPicPr>
            <p:cNvPr id="68" name="Прямоугольник 15" descr=""/>
            <p:cNvPicPr/>
            <p:nvPr/>
          </p:nvPicPr>
          <p:blipFill>
            <a:blip r:embed="rId9"/>
            <a:stretch/>
          </p:blipFill>
          <p:spPr>
            <a:xfrm>
              <a:off x="5237280" y="5200560"/>
              <a:ext cx="368136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5592600" y="5259240"/>
              <a:ext cx="3314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Эмоциональная разряд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(получение и отдача любви, тепла, ласки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Скругленный прямоугольник 17">
            <a:hlinkClick r:id="rId10" action="ppaction://hlinksldjump"/>
          </p:cNvPr>
          <p:cNvSpPr/>
          <p:nvPr/>
        </p:nvSpPr>
        <p:spPr>
          <a:xfrm>
            <a:off x="214200" y="0"/>
            <a:ext cx="135756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642960" y="1285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вместные потреб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s://fs01.infourok.ru/images/doc/12/16469/img4.jpg"/>
          <p:cNvPicPr/>
          <p:nvPr/>
        </p:nvPicPr>
        <p:blipFill>
          <a:blip r:embed="rId1"/>
          <a:stretch/>
        </p:blipFill>
        <p:spPr>
          <a:xfrm>
            <a:off x="3071880" y="2571840"/>
            <a:ext cx="4884840" cy="3454200"/>
          </a:xfrm>
          <a:prstGeom prst="rect">
            <a:avLst/>
          </a:prstGeom>
          <a:ln w="0">
            <a:noFill/>
          </a:ln>
        </p:spPr>
      </p:pic>
      <p:sp>
        <p:nvSpPr>
          <p:cNvPr id="73" name="Скругленный прямоугольник 3"/>
          <p:cNvSpPr/>
          <p:nvPr/>
        </p:nvSpPr>
        <p:spPr>
          <a:xfrm>
            <a:off x="0" y="6143760"/>
            <a:ext cx="135720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285840" y="714240"/>
            <a:ext cx="835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Виды потребности семь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иологические (еда, сон и т.д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циальные (материальны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уховные (работа, искусство, творчеств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2"/>
          <p:cNvSpPr/>
          <p:nvPr/>
        </p:nvSpPr>
        <p:spPr>
          <a:xfrm>
            <a:off x="0" y="6143760"/>
            <a:ext cx="135720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428760" y="1071720"/>
            <a:ext cx="8358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емейное хозяйство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 деятельность по содержанию своего дома и организации всей жизни в до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2"/>
          <p:cNvSpPr/>
          <p:nvPr/>
        </p:nvSpPr>
        <p:spPr>
          <a:xfrm>
            <a:off x="0" y="6143760"/>
            <a:ext cx="135720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642960" y="1143000"/>
            <a:ext cx="7929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Хозяин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, кто ведет хозяйственные дела, распределяет обязанности, принимает решения по различным вопросам организации хозя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2"/>
          <p:cNvSpPr/>
          <p:nvPr/>
        </p:nvSpPr>
        <p:spPr>
          <a:xfrm>
            <a:off x="0" y="6143760"/>
            <a:ext cx="135720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285840" y="1357200"/>
            <a:ext cx="8358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еловека старательного, усердного в исполнении дел, разумно бережливого называют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рачительным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2"/>
          <p:cNvSpPr/>
          <p:nvPr/>
        </p:nvSpPr>
        <p:spPr>
          <a:xfrm>
            <a:off x="0" y="6143760"/>
            <a:ext cx="135720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b050"/>
              </a:solidFill>
              <a:latin typeface="Times New Roman"/>
              <a:ea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99720" y="1428840"/>
            <a:ext cx="72723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сурсы семь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запасы средств, используемые для ведения хозяй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сурсы семьи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атериальные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рудов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едметы быта)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уд членов семь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Прямая со стрелкой 4"/>
          <p:cNvCxnSpPr/>
          <p:nvPr/>
        </p:nvCxnSpPr>
        <p:spPr>
          <a:xfrm flipH="1">
            <a:off x="2428200" y="3142800"/>
            <a:ext cx="129780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Прямая со стрелкой 6"/>
          <p:cNvCxnSpPr/>
          <p:nvPr/>
        </p:nvCxnSpPr>
        <p:spPr>
          <a:xfrm>
            <a:off x="4785840" y="3000240"/>
            <a:ext cx="10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Прямая со стрелкой 8"/>
          <p:cNvCxnSpPr/>
          <p:nvPr/>
        </p:nvCxnSpPr>
        <p:spPr>
          <a:xfrm>
            <a:off x="5643360" y="3142800"/>
            <a:ext cx="64836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TextBox 9"/>
          <p:cNvSpPr/>
          <p:nvPr/>
        </p:nvSpPr>
        <p:spPr>
          <a:xfrm>
            <a:off x="1403280" y="386712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Финансовы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ньги)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7"/>
          <p:cNvSpPr/>
          <p:nvPr/>
        </p:nvSpPr>
        <p:spPr>
          <a:xfrm>
            <a:off x="0" y="6143760"/>
            <a:ext cx="135720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8:37:21Z</dcterms:created>
  <dc:creator>Teacher</dc:creator>
  <dc:description/>
  <dc:language>en-US</dc:language>
  <cp:lastModifiedBy>ТатьянА</cp:lastModifiedBy>
  <dcterms:modified xsi:type="dcterms:W3CDTF">2019-01-02T17:26:31Z</dcterms:modified>
  <cp:revision>6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169668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