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8CE-A91E-4B0D-8F29-3A384C98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CF9-D78A-464D-B6BB-D9B9ADE8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309-FB5B-41D2-8410-9281CFC4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D69-6CE8-4210-94A1-3015024E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483-E55B-4895-A3D5-AD26FEF6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FF2-4FF3-4743-A742-148B35F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241-2288-47DD-809D-AA84BA6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2C3-E69A-4F80-95B4-07B69F7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3D0-B921-43D9-B7B2-B23441B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E08-2A22-4138-9263-6A702F1A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A49-D6FB-4FB5-9E27-29AD52D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DFA-D1EB-42EF-A990-57D6F967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DF36-00E3-487D-832F-F769F06B0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6.xm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бодное время и занятия физкультур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1700280"/>
            <a:ext cx="554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бные занятия требует от  тебя долго сохранять одну и ту же позу, а это утомляет определённую группу мышц. Для их разминки нужно движ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райся больше ходить, бегать, плавать, кататься на велосипеде, коньках, роликах, прыгать через скакалку, играть в волейбол, футбол, бадминтон, другие подвижные иг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931000" y="1481040"/>
            <a:ext cx="2609640" cy="254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950080" y="4273560"/>
            <a:ext cx="26272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Acquest Script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http://images.clipartpanda.com/magnifying-glass-detective-9875_0dc4603c0e0b7dfe4515c58822eb8cca.jpg"/>
          <p:cNvPicPr/>
          <p:nvPr/>
        </p:nvPicPr>
        <p:blipFill>
          <a:blip r:embed="rId1"/>
          <a:stretch/>
        </p:blipFill>
        <p:spPr>
          <a:xfrm>
            <a:off x="2357280" y="2500200"/>
            <a:ext cx="4972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бодное время и телевизор, компьютер, телеф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000" y="1773000"/>
            <a:ext cx="7848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ы уже наверное знаешь, что смотреть на экран можно не более двух часов, иначе это нанесёт вред здоров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 звуков и различной информации пере-гружается мозг, утомляется зрение, и на другие занятия времени не хвата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вет: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планируй в начале недели в какие дни и как долго ты собираешься сидеть перед компьютером, телевизо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3160" y="500040"/>
            <a:ext cx="51847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ими ру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557000"/>
            <a:ext cx="651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гие из вас любят что-то делать своими руками: мастерить, шить, выжигать, вышивать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ешь ли ты, что некоторые виды мышления развиваются только в том случае, если руки выполняют тонкую, аккуратную работу, требующую точных, рассчитанных дей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о значит, руки учат мысль точности и яс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80960" y="1262160"/>
            <a:ext cx="234144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450720" y="3078000"/>
            <a:ext cx="229896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480960" y="4791240"/>
            <a:ext cx="224316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99800" y="571680"/>
            <a:ext cx="50403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хобб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25000"/>
            <a:ext cx="835344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ово «хобби» пришло к нам из английского язы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о означает занятие, которым человек увлекается и готов посвящать ему всё свободное время даже иногда в ущерб основным заняти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чинается хобби с интереса к определённому занятию, виду искусства, тем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376360" y="4414680"/>
            <a:ext cx="4391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4"/>
          <p:cNvGrpSpPr/>
          <p:nvPr/>
        </p:nvGrpSpPr>
        <p:grpSpPr>
          <a:xfrm>
            <a:off x="3576600" y="2054160"/>
            <a:ext cx="4551480" cy="2228760"/>
            <a:chOff x="3576600" y="2054160"/>
            <a:chExt cx="4551480" cy="2228760"/>
          </a:xfrm>
        </p:grpSpPr>
        <p:pic>
          <p:nvPicPr>
            <p:cNvPr id="56" name="Picture 2" descr="Картинки по запросу хобби и увлечения"/>
            <p:cNvPicPr/>
            <p:nvPr/>
          </p:nvPicPr>
          <p:blipFill>
            <a:blip r:embed="rId1"/>
            <a:stretch/>
          </p:blipFill>
          <p:spPr>
            <a:xfrm>
              <a:off x="3842280" y="2054160"/>
              <a:ext cx="4285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Прямоугольник 3"/>
            <p:cNvSpPr/>
            <p:nvPr/>
          </p:nvSpPr>
          <p:spPr>
            <a:xfrm>
              <a:off x="3576600" y="2574720"/>
              <a:ext cx="23623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0440" y="614520"/>
            <a:ext cx="7007040" cy="30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53735"/>
                </a:solidFill>
                <a:latin typeface="American Retro"/>
              </a:rPr>
              <a:t>Хобб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2240" y="4537080"/>
            <a:ext cx="8253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legretto Script Two"/>
              </a:rPr>
              <a:t>	</a:t>
            </a:r>
            <a:r>
              <a:rPr b="1" lang="ru-RU" sz="4000" spc="-1" strike="noStrike">
                <a:solidFill>
                  <a:srgbClr val="254061"/>
                </a:solidFill>
                <a:latin typeface="Acquest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cquest Script"/>
              </a:rPr>
              <a:t>увлечение, которым занимаются на досуге, для душ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6"/>
          <p:cNvGrpSpPr/>
          <p:nvPr/>
        </p:nvGrpSpPr>
        <p:grpSpPr>
          <a:xfrm>
            <a:off x="352080" y="220680"/>
            <a:ext cx="8437680" cy="1314360"/>
            <a:chOff x="352080" y="220680"/>
            <a:chExt cx="8437680" cy="1314360"/>
          </a:xfrm>
        </p:grpSpPr>
        <p:pic>
          <p:nvPicPr>
            <p:cNvPr id="62" name="Picture 10" descr="https://lh3.googleusercontent.com/z-frktxrq8rZUjxf0g4cHsssLY_-30U5N2YfOWBonmG7G5LKlf01PCq6FsFk7DTbdU4hUQ=s85"/>
            <p:cNvPicPr/>
            <p:nvPr/>
          </p:nvPicPr>
          <p:blipFill>
            <a:blip r:embed="rId2"/>
            <a:stretch/>
          </p:blipFill>
          <p:spPr>
            <a:xfrm rot="5400000">
              <a:off x="559440" y="12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https://lh3.googleusercontent.com/z-frktxrq8rZUjxf0g4cHsssLY_-30U5N2YfOWBonmG7G5LKlf01PCq6FsFk7DTbdU4hUQ=s85"/>
            <p:cNvPicPr/>
            <p:nvPr/>
          </p:nvPicPr>
          <p:blipFill>
            <a:blip r:embed="rId3"/>
            <a:stretch/>
          </p:blipFill>
          <p:spPr>
            <a:xfrm rot="5400000">
              <a:off x="2167200" y="84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0" descr="https://lh3.googleusercontent.com/z-frktxrq8rZUjxf0g4cHsssLY_-30U5N2YfOWBonmG7G5LKlf01PCq6FsFk7DTbdU4hUQ=s85"/>
            <p:cNvPicPr/>
            <p:nvPr/>
          </p:nvPicPr>
          <p:blipFill>
            <a:blip r:embed="rId4"/>
            <a:stretch/>
          </p:blipFill>
          <p:spPr>
            <a:xfrm rot="5400000">
              <a:off x="4107960" y="5724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https://lh3.googleusercontent.com/z-frktxrq8rZUjxf0g4cHsssLY_-30U5N2YfOWBonmG7G5LKlf01PCq6FsFk7DTbdU4hUQ=s85"/>
            <p:cNvPicPr/>
            <p:nvPr/>
          </p:nvPicPr>
          <p:blipFill>
            <a:blip r:embed="rId5"/>
            <a:stretch/>
          </p:blipFill>
          <p:spPr>
            <a:xfrm rot="5400000">
              <a:off x="57646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" descr="https://lh3.googleusercontent.com/z-frktxrq8rZUjxf0g4cHsssLY_-30U5N2YfOWBonmG7G5LKlf01PCq6FsFk7DTbdU4hUQ=s85"/>
            <p:cNvPicPr/>
            <p:nvPr/>
          </p:nvPicPr>
          <p:blipFill>
            <a:blip r:embed="rId6"/>
            <a:stretch/>
          </p:blipFill>
          <p:spPr>
            <a:xfrm rot="5400000">
              <a:off x="73900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6" descr="Картинки по запросу знайка"/>
          <p:cNvPicPr/>
          <p:nvPr/>
        </p:nvPicPr>
        <p:blipFill>
          <a:blip r:embed="rId7"/>
          <a:srcRect l="0" t="0" r="5794" b="0"/>
          <a:stretch/>
        </p:blipFill>
        <p:spPr>
          <a:xfrm>
            <a:off x="303120" y="1208160"/>
            <a:ext cx="1281240" cy="129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и по запросу иконка праздн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17080" y="6237360"/>
            <a:ext cx="576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000" y="2060640"/>
            <a:ext cx="7559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ъясните, что означают слов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З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й минутам цену, секундам счё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лу время, потехе час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ньги пропали – наживёшь, время пропало – не вернёшь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П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 лежачий камень вода не течё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кое время можно назвать свободны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ай повторим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57120" y="1557000"/>
            <a:ext cx="8175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умай, кто из подростков провёл свободное время с толко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аша простоял на одной ноге без опоры 33 минуты 20 секун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рина выдула из жвачки пузырь в половину своей голо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аша прочитала книгу «Дети капитана Гранта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итя поймал 14 му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ергей каждое утро гулял со щен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лег 2 часа 15 минут без перерыва смотрел в окно на улиц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ай повторим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58760" y="475920"/>
            <a:ext cx="70264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cer\Desktop\анимационные картинки\смайл на диване.gif"/>
          <p:cNvPicPr/>
          <p:nvPr/>
        </p:nvPicPr>
        <p:blipFill>
          <a:blip r:embed="rId1"/>
          <a:stretch/>
        </p:blipFill>
        <p:spPr>
          <a:xfrm>
            <a:off x="3090960" y="1889280"/>
            <a:ext cx="2962080" cy="205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115640" y="4365720"/>
            <a:ext cx="626436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исьменно составить распорядок дн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https://im3-tub-ru.yandex.net/i?id=d218312aa1475f5240cf86f4319d2b13&amp;n=33&amp;h=215&amp;w=215"/>
          <p:cNvPicPr/>
          <p:nvPr/>
        </p:nvPicPr>
        <p:blipFill>
          <a:blip r:embed="rId1"/>
          <a:stretch/>
        </p:blipFill>
        <p:spPr>
          <a:xfrm>
            <a:off x="1357200" y="439560"/>
            <a:ext cx="6635880" cy="6418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7"/>
          <p:cNvSpPr/>
          <p:nvPr/>
        </p:nvSpPr>
        <p:spPr>
          <a:xfrm>
            <a:off x="1643040" y="3643200"/>
            <a:ext cx="6000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>
            <a:off x="4714920" y="3643200"/>
            <a:ext cx="257184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"/>
          <p:cNvSpPr/>
          <p:nvPr/>
        </p:nvSpPr>
        <p:spPr>
          <a:xfrm flipH="1">
            <a:off x="4642920" y="3571920"/>
            <a:ext cx="180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7"/>
          <p:cNvSpPr/>
          <p:nvPr/>
        </p:nvSpPr>
        <p:spPr>
          <a:xfrm>
            <a:off x="3142440" y="1143000"/>
            <a:ext cx="1500120" cy="24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9"/>
          <p:cNvSpPr/>
          <p:nvPr/>
        </p:nvSpPr>
        <p:spPr>
          <a:xfrm flipH="1">
            <a:off x="4642920" y="1143000"/>
            <a:ext cx="1428840" cy="25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160200" y="2182680"/>
            <a:ext cx="15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quest Script"/>
              </a:rPr>
              <a:t>Й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fassen.net/tut/modules/upload/attachments/yog.png"/>
          <p:cNvPicPr/>
          <p:nvPr/>
        </p:nvPicPr>
        <p:blipFill>
          <a:blip r:embed="rId2"/>
          <a:stretch/>
        </p:blipFill>
        <p:spPr>
          <a:xfrm>
            <a:off x="2654280" y="2182680"/>
            <a:ext cx="1104840" cy="1176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3"/>
          <p:cNvSpPr/>
          <p:nvPr/>
        </p:nvSpPr>
        <p:spPr>
          <a:xfrm>
            <a:off x="3375720" y="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cquest Script"/>
              </a:rPr>
              <a:t>Убо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ecolite.topsurguta.ru/images/2_2.png"/>
          <p:cNvPicPr/>
          <p:nvPr/>
        </p:nvPicPr>
        <p:blipFill>
          <a:blip r:embed="rId3"/>
          <a:stretch/>
        </p:blipFill>
        <p:spPr>
          <a:xfrm>
            <a:off x="3805200" y="1592280"/>
            <a:ext cx="129708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25"/>
          <p:cNvSpPr/>
          <p:nvPr/>
        </p:nvSpPr>
        <p:spPr>
          <a:xfrm>
            <a:off x="6224040" y="527040"/>
            <a:ext cx="25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Гото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img-fotki.yandex.ru/get/6813/39663434.689/0_9f40b_b326377a_XL.png"/>
          <p:cNvPicPr/>
          <p:nvPr/>
        </p:nvPicPr>
        <p:blipFill>
          <a:blip r:embed="rId4"/>
          <a:stretch/>
        </p:blipFill>
        <p:spPr>
          <a:xfrm>
            <a:off x="5702400" y="2028960"/>
            <a:ext cx="1168200" cy="1130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7"/>
          <p:cNvSpPr/>
          <p:nvPr/>
        </p:nvSpPr>
        <p:spPr>
          <a:xfrm>
            <a:off x="7322040" y="3929040"/>
            <a:ext cx="209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Отд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lyk-magoul.att.sch.gr/rapt/library_clipart3.gif"/>
          <p:cNvPicPr/>
          <p:nvPr/>
        </p:nvPicPr>
        <p:blipFill>
          <a:blip r:embed="rId5"/>
          <a:stretch/>
        </p:blipFill>
        <p:spPr>
          <a:xfrm>
            <a:off x="5786280" y="3535200"/>
            <a:ext cx="1468440" cy="1121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9"/>
          <p:cNvSpPr/>
          <p:nvPr/>
        </p:nvSpPr>
        <p:spPr>
          <a:xfrm>
            <a:off x="6500880" y="6037200"/>
            <a:ext cx="206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Муз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s://image.freepik.com/free-icon/no-translate-detected_318-42269.jpg"/>
          <p:cNvPicPr/>
          <p:nvPr/>
        </p:nvPicPr>
        <p:blipFill>
          <a:blip r:embed="rId6"/>
          <a:stretch/>
        </p:blipFill>
        <p:spPr>
          <a:xfrm>
            <a:off x="4665600" y="4371840"/>
            <a:ext cx="1023840" cy="10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2"/>
          <p:cNvSpPr/>
          <p:nvPr/>
        </p:nvSpPr>
        <p:spPr>
          <a:xfrm>
            <a:off x="-828360" y="602784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Ужин с друзья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http://images.clipartpanda.com/two-friends-hugging-clipart-2-girls-hugging-as-best-friends.png"/>
          <p:cNvPicPr/>
          <p:nvPr/>
        </p:nvPicPr>
        <p:blipFill>
          <a:blip r:embed="rId7"/>
          <a:stretch/>
        </p:blipFill>
        <p:spPr>
          <a:xfrm>
            <a:off x="2789280" y="3870360"/>
            <a:ext cx="128736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7:21Z</dcterms:created>
  <dc:creator>Teacher</dc:creator>
  <dc:description/>
  <dc:language>en-US</dc:language>
  <cp:lastModifiedBy>ТатьянА</cp:lastModifiedBy>
  <dcterms:modified xsi:type="dcterms:W3CDTF">2019-01-02T17:27:11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69668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