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761-9C2E-4B53-B8D5-4B941575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3189-8121-4B01-A028-7F7C478E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C5E6-5E75-481E-B742-E1AB3E16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F1AA-1AEE-4535-A8F1-E5E5F4CF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B270-1F31-4F9D-B284-76FB5CF1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8D41-890C-460E-A195-C3D94693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7319-BD9C-479C-906C-FC6054E9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34A1-A55A-4A86-ACB5-1F2204F9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8BBF-4500-476A-BD16-579D7D0E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D75D-4173-4884-A403-4735362A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3507-BFE4-4C16-AF5F-57E987B8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DF68-EA79-4A40-9708-BBA54F62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5859-46E2-4C7A-BA5F-811DE8F9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9BD6-929D-4398-898C-2C07BCC1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DB6B-82D0-44BF-A589-C6D518BC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C02E-2BFA-4AEE-9A52-87F1B5C8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A1AF-57B6-4266-9AB3-7B5C5978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7B77-C9E2-4B8F-A2D4-F527A8BE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8F7F-E462-4CDC-AE78-A2EF9DF0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E538-2751-4B11-884B-A01205F3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8CE5-07A1-4FC5-9748-A8F2276C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5F9A-8237-4697-AE0D-04E496E7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EBF5-D740-497E-97D9-B268A005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E63C-D564-4215-B83F-96A67A55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3C39-C846-41F2-BEFD-6753839A0A1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89A4-5CC9-4728-9299-AC9093A35F51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ÐÐ°ÑÑÐ¸Ð½ÐºÐ¸ Ð¿Ð¾ Ð·Ð°Ð¿ÑÐ¾ÑÑ Ð·Ð¾Ð¾Ð¿Ð°ÑÐº Ð´ÐµÑÑÐºÐ°Ñ ÐºÐ°ÑÑÐ¸Ð½ÐºÐ°"/>
          <p:cNvPicPr/>
          <p:nvPr/>
        </p:nvPicPr>
        <p:blipFill>
          <a:blip r:embed="rId1"/>
          <a:stretch/>
        </p:blipFill>
        <p:spPr>
          <a:xfrm>
            <a:off x="1116000" y="200160"/>
            <a:ext cx="7056360" cy="583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03640" y="6021360"/>
            <a:ext cx="39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Подготовила Кайзер Л.Н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Инструктор физической культур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ÐÐ°ÑÑÐ¸Ð½ÐºÐ¸ Ð¿Ð¾ Ð·Ð°Ð¿ÑÐ¾ÑÑ ÐºÐ°ÑÑÐ¸Ð½ÐºÐ° Ð·Ð¾Ð¾Ð¿Ð°ÑÐº Ð´Ð»Ñ Ð´ÐµÑÐµÐ¹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4427640" cy="3327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ÐÐ°ÑÑÐ¸Ð½ÐºÐ¸ Ð¿Ð¾ Ð·Ð°Ð¿ÑÐ¾ÑÑ ÐºÐ°ÑÑÐ¸Ð½ÐºÐ° Ð±ÐµÐ»ÐºÐ° Ð² Ð·Ð¾Ð¾Ð¿Ð°ÑÐºÐµ"/>
          <p:cNvPicPr/>
          <p:nvPr/>
        </p:nvPicPr>
        <p:blipFill>
          <a:blip r:embed="rId2"/>
          <a:stretch/>
        </p:blipFill>
        <p:spPr>
          <a:xfrm>
            <a:off x="3419640" y="2563920"/>
            <a:ext cx="572436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ÐÐ°ÑÑÐ¸Ð½ÐºÐ¸ Ð¿Ð¾ Ð·Ð°Ð¿ÑÐ¾ÑÑ ÐºÐ°ÑÑÐ¸Ð½ÐºÐ° Ð»Ð¸ÑÐ° Ð² Ð·Ð¾Ð¾Ð¿Ð°ÑÐº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ÐÐ°ÑÑÐ¸Ð½ÐºÐ¸ Ð¿Ð¾ Ð·Ð°Ð¿ÑÐ¾ÑÑ ÐºÐ°ÑÑÐ¸Ð½ÐºÐ° ÑÐ¾Ð²Ð° Ð² Ð·Ð¾Ð¾Ð¿Ð°ÑÐº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ÐÐ°ÑÑÐ¸Ð½ÐºÐ¸ Ð¿Ð¾ Ð·Ð°Ð¿ÑÐ¾ÑÑ ÐºÐ°ÑÑÐ¸Ð½ÐºÐ° Ð¼ÐµÐ´Ð²ÐµÐ´Ñ Ð² Ð·Ð¾Ð¾Ð¿Ð°ÑÐºÐµ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ÐÐ°ÑÑÐ¸Ð½ÐºÐ¸ Ð¿Ð¾ Ð·Ð°Ð¿ÑÐ¾ÑÑ ÐºÐ°ÑÑÐ¸Ð½ÐºÐ° ÑÐ»Ð¾Ð½ Ð² Ð·Ð¾Ð¾Ð¿Ð°ÑÐº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ÐÐ°ÑÑÐ¸Ð½ÐºÐ¸ Ð¿Ð¾ Ð·Ð°Ð¿ÑÐ¾ÑÑ ÐºÐ°ÑÑÐ¸Ð½ÐºÐ° Ð¼Ð°ÑÑÑÑÐºÐ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ÐÐ°ÑÑÐ¸Ð½ÐºÐ¸ Ð¿Ð¾ Ð·Ð°Ð¿ÑÐ¾ÑÑ ÐºÐ°ÑÑÐ¸Ð½ÐºÐ° Ð¶Ð¸ÑÐ°Ñ Ð² Ð·Ð¾Ð¾Ð¿Ð°ÑÐºÐµ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5T14:12:54Z</dcterms:created>
  <dc:creator>Лариса</dc:creator>
  <dc:description/>
  <dc:language>en-US</dc:language>
  <cp:lastModifiedBy>Лариса</cp:lastModifiedBy>
  <dcterms:modified xsi:type="dcterms:W3CDTF">2019-01-02T18:08:21Z</dcterms:modified>
  <cp:revision>5</cp:revision>
  <dc:subject/>
  <dc:title>Слайд 1</dc:title>
</cp:coreProperties>
</file>