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FCA-9E5F-4DC0-8798-319EF15B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90F-ED9D-4023-B092-A0C9AE9A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237-E5F2-4317-9049-F27731E8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170-13A6-4A61-A222-130AC070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8D66-75DB-4FDA-8150-ECE2473C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F6D7-A82E-4799-944F-376BCF30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FF9A-AB24-49DC-93C9-F66411CC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CEE7-63C3-4633-AE86-6C6F0EC1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28D0-7C6A-4637-976E-C9D99D7B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224D-386E-4718-A815-203DD276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D2DF-0B70-431F-83BE-F635A57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618-B5E2-4AAA-8B87-2546B040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2211-7834-4006-AE0D-13301CB5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A907-6C6F-4CDD-85D4-450D190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24CF-83A9-4A0B-B7F9-5EE912C8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8AD6-0C85-4D19-9B95-C09713C0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4A2A-D2DA-41A5-B4A6-CD1D488E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BC6-70FC-431A-A33C-24487E6F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527-83A2-43E4-88CF-4D4123F2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430-21BD-491E-AECA-89427708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18F-D9AF-49E2-A50C-5AB43AD2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38C-3BAC-429B-B0B8-041438C6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059-C3A0-41C3-98A0-5F13C16B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4AA-D558-45FA-9EC9-66F8BCCD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159A-8F69-42E9-90BB-B9DFB1C29A4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B325-07CD-4B7B-97F8-1715C1FF29B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ÐÐ°ÑÑÐ¸Ð½ÐºÐ¸ Ð¿Ð¾ Ð·Ð°Ð¿ÑÐ¾ÑÑ Ð·Ð¾Ð¾Ð¿Ð°ÑÐº Ð´ÐµÑÑÐºÐ°Ñ ÐºÐ°ÑÑÐ¸Ð½ÐºÐ°"/>
          <p:cNvPicPr/>
          <p:nvPr/>
        </p:nvPicPr>
        <p:blipFill>
          <a:blip r:embed="rId1"/>
          <a:stretch/>
        </p:blipFill>
        <p:spPr>
          <a:xfrm>
            <a:off x="1116000" y="200160"/>
            <a:ext cx="7056360" cy="583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03640" y="602136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одготовила Кайзер Л.Н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Инструктор физической культур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ÐÐ°ÑÑÐ¸Ð½ÐºÐ¸ Ð¿Ð¾ Ð·Ð°Ð¿ÑÐ¾ÑÑ ÐºÐ°ÑÑÐ¸Ð½ÐºÐ° Ð·Ð¾Ð¾Ð¿Ð°ÑÐº Ð´Ð»Ñ Ð´ÐµÑÐµ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4427640" cy="3327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ÐÐ°ÑÑÐ¸Ð½ÐºÐ¸ Ð¿Ð¾ Ð·Ð°Ð¿ÑÐ¾ÑÑ ÐºÐ°ÑÑÐ¸Ð½ÐºÐ° Ð±ÐµÐ»ÐºÐ° Ð² Ð·Ð¾Ð¾Ð¿Ð°ÑÐºÐµ"/>
          <p:cNvPicPr/>
          <p:nvPr/>
        </p:nvPicPr>
        <p:blipFill>
          <a:blip r:embed="rId2"/>
          <a:stretch/>
        </p:blipFill>
        <p:spPr>
          <a:xfrm>
            <a:off x="3419640" y="2563920"/>
            <a:ext cx="57243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ÐÐ°ÑÑÐ¸Ð½ÐºÐ¸ Ð¿Ð¾ Ð·Ð°Ð¿ÑÐ¾ÑÑ ÐºÐ°ÑÑÐ¸Ð½ÐºÐ° Ð»Ð¸ÑÐ° Ð² Ð·Ð¾Ð¾Ð¿Ð°ÑÐº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ÐÐ°ÑÑÐ¸Ð½ÐºÐ¸ Ð¿Ð¾ Ð·Ð°Ð¿ÑÐ¾ÑÑ ÐºÐ°ÑÑÐ¸Ð½ÐºÐ° ÑÐ¾Ð²Ð° Ð² Ð·Ð¾Ð¾Ð¿Ð°ÑÐº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ÐÐ°ÑÑÐ¸Ð½ÐºÐ¸ Ð¿Ð¾ Ð·Ð°Ð¿ÑÐ¾ÑÑ ÐºÐ°ÑÑÐ¸Ð½ÐºÐ° Ð¼ÐµÐ´Ð²ÐµÐ´Ñ Ð² Ð·Ð¾Ð¾Ð¿Ð°ÑÐºÐµ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ÐÐ°ÑÑÐ¸Ð½ÐºÐ¸ Ð¿Ð¾ Ð·Ð°Ð¿ÑÐ¾ÑÑ ÐºÐ°ÑÑÐ¸Ð½ÐºÐ° ÑÐ»Ð¾Ð½ Ð² Ð·Ð¾Ð¾Ð¿Ð°ÑÐº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ÐÐ°ÑÑÐ¸Ð½ÐºÐ¸ Ð¿Ð¾ Ð·Ð°Ð¿ÑÐ¾ÑÑ ÐºÐ°ÑÑÐ¸Ð½ÐºÐ° Ð¼Ð°ÑÑÑÑÐºÐ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ÐÐ°ÑÑÐ¸Ð½ÐºÐ¸ Ð¿Ð¾ Ð·Ð°Ð¿ÑÐ¾ÑÑ ÐºÐ°ÑÑÐ¸Ð½ÐºÐ° Ð¶Ð¸ÑÐ°Ñ Ð² Ð·Ð¾Ð¾Ð¿Ð°ÑÐºÐµ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5T14:12:54Z</dcterms:created>
  <dc:creator>Лариса</dc:creator>
  <dc:description/>
  <dc:language>en-US</dc:language>
  <cp:lastModifiedBy>Лариса</cp:lastModifiedBy>
  <dcterms:modified xsi:type="dcterms:W3CDTF">2019-01-02T18:08:21Z</dcterms:modified>
  <cp:revision>5</cp:revision>
  <dc:subject/>
  <dc:title>Слайд 1</dc:title>
</cp:coreProperties>
</file>